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F24A-1970-43FF-AA94-660B573DB1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Что изу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нформат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6D6E-5A70-48C8-9B66-EEF6DF82F9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ые основы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B7F0-C56A-4752-8F76-B0E8410804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аботка вычислительных систем и программного обеспе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я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-сы, связанные с передачей, приёмом, пре-образованием и хранением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ческое моделирование, методы вычислительной и прикладной матема-тики и их применение к фундаменталь-ным и прикладным исследованиям в различных областях знан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искусственного интелл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оде-лирующие методы логического и аналити-ческого мышления в интеллектуальной дея-тельности человека (логический вывод, обу-чение, понимание речи, визуальное восприя-тие, игры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ий методоло-гические средства, используемые для под-готовки и обоснования решений по слож-ным проблемам различного харак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6CD1-3F4A-44BA-96B4-C5C0197FA6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информа-ционные процессы в биологически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сы информатизации обще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машинной графики, анимации, средства мультимеди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ые системы и се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том числе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об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пьютерные сети, объединяющие всё человечество в единое информационное сообще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ообразные при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CCD2-8B35-4484-94FD-FDECE8C642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шь, сколько звезд сия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тобой во тьме ноч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шь, сколько тучек 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аще неба голуб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бог про это зн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диной он счи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громное чис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750D-B0BF-489F-9BA2-D7EAB0CEC1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Коротко о глав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на что нацелено внимание чело-века, с целью изучения окружающей действительности, принято называт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ъе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 за окружающей действительностью порождает огромное 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фиксировать не только информацию об объектах, но и сам процесс сбора, хранения и преобразова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зучает все мето-ды и средства сбора, хранение, передачи и преобразования ин-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3397-79C6-483D-BE16-E145893BC0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лави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фавитно-цифровое п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дополнительных клавиш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функциональных клавиш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A990-BD4C-43DF-BC0B-8D5CCDD30B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ажатие клавиши приводит к одному из перечисленных действ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ает нажатый символ на экр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перемещаться по эк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симв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237B-9182-4D03-B339-996E053D79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3A43-436F-4320-B9E7-114B2AD3C7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2BE-772E-41E5-B2BB-C5641E07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D21-D76E-4528-BDA0-6BF44303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40E-D1F8-412D-9ECD-4311A7EB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63C-3647-49AD-9D14-F0410510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E3C-5ED1-4CF7-B392-010E22B5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B18-2ACA-4483-9528-A3DDDA9C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E87-A555-4082-9055-A52D2F44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570-EEC0-45ED-97F0-81D34754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053-E9D9-4B0B-BC1A-E7DB38C4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40A-3C96-48F3-8FEA-DEE6E2AA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C8D-9E63-4963-A121-4C51CF83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A9F-8CFB-4AB0-87E1-86544100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ccffff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5B0B-31B1-471E-97D0-53920C0A27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9&amp;text=%22&#1079;&#1085;&#1072;&#1095;&#1086;&#1082;%20Windows%22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000048231-YND[1]"/>
          <p:cNvPicPr/>
          <p:nvPr/>
        </p:nvPicPr>
        <p:blipFill>
          <a:blip r:embed="rId1"/>
          <a:srcRect l="-392" t="0" r="689" b="6264"/>
          <a:stretch/>
        </p:blipFill>
        <p:spPr>
          <a:xfrm>
            <a:off x="468360" y="2482920"/>
            <a:ext cx="6383160" cy="39970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547640" y="115920"/>
            <a:ext cx="6701040" cy="32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изучает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нформатика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50920" y="549360"/>
          <a:ext cx="8842320" cy="6183360"/>
        </p:xfrm>
        <a:graphic>
          <a:graphicData uri="http://schemas.openxmlformats.org/drawingml/2006/table">
            <a:tbl>
              <a:tblPr/>
              <a:tblGrid>
                <a:gridCol w="3741480"/>
                <a:gridCol w="5100840"/>
              </a:tblGrid>
              <a:tr h="143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клави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емое 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Alt&gt; + &lt;Shift&gt;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Ctrl&gt; + &lt;Shift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ов алфавита: с русского на английский или с английского на рус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Caps Lock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а букв: строчные на прописные и наоборо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F3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а букв у выделенного фрагмен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F4&gt;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т.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ыть ок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5"/>
          <p:cNvSpPr/>
          <p:nvPr/>
        </p:nvSpPr>
        <p:spPr>
          <a:xfrm>
            <a:off x="179280" y="0"/>
            <a:ext cx="8785440" cy="5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даментальные основы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6"/>
          <p:cNvSpPr/>
          <p:nvPr/>
        </p:nvSpPr>
        <p:spPr>
          <a:xfrm>
            <a:off x="179280" y="646200"/>
            <a:ext cx="49276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оре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7"/>
          <p:cNvSpPr/>
          <p:nvPr/>
        </p:nvSpPr>
        <p:spPr>
          <a:xfrm>
            <a:off x="5106960" y="646200"/>
            <a:ext cx="38577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ие и информационные модели, алгоритмы. Методы разработки и проектирования информационных систем и технолог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8"/>
          <p:cNvSpPr/>
          <p:nvPr/>
        </p:nvSpPr>
        <p:spPr>
          <a:xfrm>
            <a:off x="5106960" y="1674720"/>
            <a:ext cx="38577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К. Рабочие станции. Вычислительные системы. Устройства ввода/выв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ети ЭВМ. Комплексы. технические системы связи и компьютерные телекоммуникационные системы, аудио и видеосистемы, мультимеди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ограммные средства межкомпьютерной связи, вы-числительные и информационные среды. Операцион-ные системы. Системы и языки программирова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зыки пользователя, сервисные оболочки, системы пользовательского интерфей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екстовые и графические редакторы. СУБД. Процессоры электронных таблиц. Средства моделирования объектов, процессов и систе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здательские системы. Системы реализации технологий автоматизации расчетов, проектирования, обработки данных. Системы искусственного интеллек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9"/>
          <p:cNvSpPr/>
          <p:nvPr/>
        </p:nvSpPr>
        <p:spPr>
          <a:xfrm>
            <a:off x="179280" y="1674720"/>
            <a:ext cx="10717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-ства инфор-матиза-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0"/>
          <p:cNvSpPr/>
          <p:nvPr/>
        </p:nvSpPr>
        <p:spPr>
          <a:xfrm>
            <a:off x="1251000" y="1674720"/>
            <a:ext cx="21430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1"/>
          <p:cNvSpPr/>
          <p:nvPr/>
        </p:nvSpPr>
        <p:spPr>
          <a:xfrm>
            <a:off x="3394080" y="1674720"/>
            <a:ext cx="1712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ботка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2"/>
          <p:cNvSpPr/>
          <p:nvPr/>
        </p:nvSpPr>
        <p:spPr>
          <a:xfrm>
            <a:off x="3394080" y="2360520"/>
            <a:ext cx="1712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ча 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3"/>
          <p:cNvSpPr/>
          <p:nvPr/>
        </p:nvSpPr>
        <p:spPr>
          <a:xfrm>
            <a:off x="1251000" y="3046320"/>
            <a:ext cx="10713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-рамм-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4"/>
          <p:cNvSpPr/>
          <p:nvPr/>
        </p:nvSpPr>
        <p:spPr>
          <a:xfrm>
            <a:off x="2340000" y="3068640"/>
            <a:ext cx="273672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5"/>
          <p:cNvSpPr/>
          <p:nvPr/>
        </p:nvSpPr>
        <p:spPr>
          <a:xfrm>
            <a:off x="2322360" y="3933720"/>
            <a:ext cx="1071720" cy="13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али-зация техно-лог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6"/>
          <p:cNvSpPr/>
          <p:nvPr/>
        </p:nvSpPr>
        <p:spPr>
          <a:xfrm>
            <a:off x="3394080" y="3933720"/>
            <a:ext cx="17128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ниверсаль-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7"/>
          <p:cNvSpPr/>
          <p:nvPr/>
        </p:nvSpPr>
        <p:spPr>
          <a:xfrm>
            <a:off x="3394080" y="4581360"/>
            <a:ext cx="171288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ессиона-льно-ориентиро-в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8"/>
          <p:cNvSpPr/>
          <p:nvPr/>
        </p:nvSpPr>
        <p:spPr>
          <a:xfrm>
            <a:off x="179280" y="5446800"/>
            <a:ext cx="492768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9"/>
          <p:cNvSpPr/>
          <p:nvPr/>
        </p:nvSpPr>
        <p:spPr>
          <a:xfrm>
            <a:off x="5106960" y="5446800"/>
            <a:ext cx="385776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576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ввода/вывода, сбора, хранения, передачи и обработки данных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подготовка текстовых и графических документов,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ехнической документа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программирования, обучения, диагностик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правл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68360" y="26028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вычислительных систем и программного обеспе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067280" y="83664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я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процес-сы, связанные с передачей, приёмом, пре-образованием и хранением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39640" y="198900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ое моделирование, методы вычислительной и прикладной матема-тики и их применение к фундаменталь-ным и прикладным исследованиям в различных областях знаний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708360" y="350028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скусственного интелл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оде-лирующие методы логического и аналити-ческого мышления в интеллектуальной дея-тельности человека (логический вывод, обу-чение, понимание речи, визуальное восприя-тие, игры и др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84360" y="5300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ий методоло-гические средства, используемые для под-готовки и обоснования решений по слож-ным проблемам различного характе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36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информа-ционные процессы в биологических систе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348000" y="1484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процессы информатизации обще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39640" y="24922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машинной графики, анимации, средства мультимеди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564000" y="328464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коммуникационные системы и се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оба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мпьютерные сети, объединяющие всё человечество в единое информационное сообщест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39640" y="50846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ные при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547640" y="1052640"/>
            <a:ext cx="691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ешь, сколько звезд сия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д тобой во тьме ноч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ешь, сколько тучек 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чаще неба голуб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бог про это зна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 единой он счи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х огромное числ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635280" y="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Коротко о главн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79280" y="112536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на что нацелено внимание чело-века, с целью изучения окружающей действительности, принято называ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708360" y="242100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окружающей действительностью порождает огромное количество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50920" y="364500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фиксировать не только информацию об объектах, но и сам процесс сбора, хранения и преобразова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24360" y="5305320"/>
            <a:ext cx="49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 изучает все мето-ды и средства сбора, хранение, передачи и преобразования ин-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4360" y="206064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фавитно-цифровое пол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 дополнительных клавиш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 функциональных клавиш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708360" y="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Клавиатур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i?id=19899158&amp;tov=6"/>
          <p:cNvPicPr/>
          <p:nvPr/>
        </p:nvPicPr>
        <p:blipFill>
          <a:blip r:embed="rId1"/>
          <a:stretch/>
        </p:blipFill>
        <p:spPr>
          <a:xfrm>
            <a:off x="2700360" y="4005360"/>
            <a:ext cx="3887640" cy="25192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755640" y="263700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ображает нажатый символ на экран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воляет перемещаться по экран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аляет симво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50920" y="33336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ажатие клавиши приводит к одному из перечисленных действ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9"/>
          <p:cNvSpPr/>
          <p:nvPr/>
        </p:nvSpPr>
        <p:spPr>
          <a:xfrm>
            <a:off x="1371600" y="153180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im7-tub.yandex.net/i?id=35474539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5229360"/>
            <a:ext cx="6778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539640" y="260280"/>
          <a:ext cx="8209080" cy="6300720"/>
        </p:xfrm>
        <a:graphic>
          <a:graphicData uri="http://schemas.openxmlformats.org/drawingml/2006/table">
            <a:tbl>
              <a:tblPr/>
              <a:tblGrid>
                <a:gridCol w="1874880"/>
                <a:gridCol w="6334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 клавиш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вода 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ерхнего регис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s 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фиксирования верхнего регистра для клавиш алфав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rl, A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ющие клавиши, использующиеся для изменения назначения других клави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табуляции, предназначенная для перемещения курсора на несколько позиций впра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spa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удаления символа слева от курс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ызова главного ме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ызова контекстного ме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8:57:27Z</dcterms:created>
  <dc:creator>Администратор</dc:creator>
  <dc:description/>
  <dc:language>en-US</dc:language>
  <cp:lastModifiedBy>LEGION</cp:lastModifiedBy>
  <dcterms:modified xsi:type="dcterms:W3CDTF">2015-04-01T06:55:53Z</dcterms:modified>
  <cp:revision>13</cp:revision>
  <dc:subject/>
  <dc:title>Слайд 1</dc:title>
</cp:coreProperties>
</file>