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6C6-0083-407C-830F-23CB4A9EB0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из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CFFD-31CE-419D-8ABA-599B95CDD1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ые основы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F378-BE21-4D07-8A22-2386040F5C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отка вычислительных систем и прогр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ECF8-1761-4AFA-B4F0-337984EB39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информа-ционные процессы в биологически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 информатизации обще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ые системы и се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38A3-DA97-4C4C-9A7E-FF60261DE7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звезд си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тобой во тьме ноч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тучек 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аще неба голуб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бог про это зн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диной он счи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громное чис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BE9D-3AD0-4487-A316-EB33E726D8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E556-1669-4B04-9FF2-CC1FBF8E1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фавитно-цифровое п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дополнительных клавиш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функциональных клавиш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D17-7055-432E-BCFC-BBB6800DB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нажатый символ на эк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перемещаться по эк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сим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4FBF-59E9-4A9E-8D3F-24892F411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A0B2-8642-420F-992E-5803DF8C0F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6C0-2E61-4C07-BBFF-E4515119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62D-284B-44CD-832E-698CEA63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C8D-C8A7-4AF9-9926-D64E9C1E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4445-8B6C-4692-A3FE-6B8AA949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0B5-00B5-4541-8D9F-BF900AE0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527-BF85-4882-B540-6B67470A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681-B256-4606-95BC-D615BF68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30C-0BB5-4287-BBEF-6D1559AC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4AA-2182-4B3C-BEBB-B909DBF5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FF3-4866-44AB-A151-B34D552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962-2861-4F1F-9FF0-7E02F2B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697-D04A-454A-BE99-83B028F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ccffff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6445-629B-458A-BF65-BD834D777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9&amp;text=%22&#1079;&#1085;&#1072;&#1095;&#1086;&#1082;%20Windows%22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0048231-YND[1]"/>
          <p:cNvPicPr/>
          <p:nvPr/>
        </p:nvPicPr>
        <p:blipFill>
          <a:blip r:embed="rId1"/>
          <a:srcRect l="-392" t="0" r="689" b="6264"/>
          <a:stretch/>
        </p:blipFill>
        <p:spPr>
          <a:xfrm>
            <a:off x="468360" y="2482920"/>
            <a:ext cx="6383160" cy="399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47640" y="115920"/>
            <a:ext cx="6701040" cy="32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изучает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форматик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549360"/>
          <a:ext cx="8842320" cy="6183360"/>
        </p:xfrm>
        <a:graphic>
          <a:graphicData uri="http://schemas.openxmlformats.org/drawingml/2006/table">
            <a:tbl>
              <a:tblPr/>
              <a:tblGrid>
                <a:gridCol w="3741480"/>
                <a:gridCol w="5100840"/>
              </a:tblGrid>
              <a:tr h="14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клав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ое 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lt&gt; + &lt;Shift&g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Ctrl&gt; + &lt;Shift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ов алфавита: с русского на английский или с английского на рус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Caps Lock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: строчные на прописные и наобор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3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 у выделенного фрагмен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4&gt;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ь ок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5"/>
          <p:cNvSpPr/>
          <p:nvPr/>
        </p:nvSpPr>
        <p:spPr>
          <a:xfrm>
            <a:off x="179280" y="0"/>
            <a:ext cx="87854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6"/>
          <p:cNvSpPr/>
          <p:nvPr/>
        </p:nvSpPr>
        <p:spPr>
          <a:xfrm>
            <a:off x="179280" y="646200"/>
            <a:ext cx="49276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5106960" y="646200"/>
            <a:ext cx="3857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и информационные модели, алгоритмы. Методы разработки и проектирования информационных систем и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8"/>
          <p:cNvSpPr/>
          <p:nvPr/>
        </p:nvSpPr>
        <p:spPr>
          <a:xfrm>
            <a:off x="5106960" y="1674720"/>
            <a:ext cx="38577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К. Рабочие станции. Вычислительные системы. Устройства ввода/выв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ти ЭВМ. Комплексы. технические системы связи и компьютерные телекоммуникационные системы, аудио и видеосистемы, мультимеди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граммные средства межкомпьютерной связи, вы-числительные и информационные среды. Операцион-ные системы. Системы и языки программ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зыки пользователя, сервисные оболочки, системы пользовательского интерфей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кстовые и графические редакторы. СУБД. Процессоры электронных таблиц. Средства моделирования объектов, процессов и сист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здательские системы. Системы реализации технологий автоматизации расчетов, проектирования, обработки данных. Системы искусственного интеллек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9"/>
          <p:cNvSpPr/>
          <p:nvPr/>
        </p:nvSpPr>
        <p:spPr>
          <a:xfrm>
            <a:off x="179280" y="1674720"/>
            <a:ext cx="10717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-ства инфор-матиза-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0"/>
          <p:cNvSpPr/>
          <p:nvPr/>
        </p:nvSpPr>
        <p:spPr>
          <a:xfrm>
            <a:off x="1251000" y="1674720"/>
            <a:ext cx="2143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1"/>
          <p:cNvSpPr/>
          <p:nvPr/>
        </p:nvSpPr>
        <p:spPr>
          <a:xfrm>
            <a:off x="3394080" y="16747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2"/>
          <p:cNvSpPr/>
          <p:nvPr/>
        </p:nvSpPr>
        <p:spPr>
          <a:xfrm>
            <a:off x="3394080" y="23605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3"/>
          <p:cNvSpPr/>
          <p:nvPr/>
        </p:nvSpPr>
        <p:spPr>
          <a:xfrm>
            <a:off x="1251000" y="3046320"/>
            <a:ext cx="1071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-рамм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4"/>
          <p:cNvSpPr/>
          <p:nvPr/>
        </p:nvSpPr>
        <p:spPr>
          <a:xfrm>
            <a:off x="2340000" y="3068640"/>
            <a:ext cx="27367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5"/>
          <p:cNvSpPr/>
          <p:nvPr/>
        </p:nvSpPr>
        <p:spPr>
          <a:xfrm>
            <a:off x="2322360" y="3933720"/>
            <a:ext cx="107172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-зация техно-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6"/>
          <p:cNvSpPr/>
          <p:nvPr/>
        </p:nvSpPr>
        <p:spPr>
          <a:xfrm>
            <a:off x="3394080" y="3933720"/>
            <a:ext cx="1712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394080" y="4581360"/>
            <a:ext cx="1712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-льно-ориентиро-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8"/>
          <p:cNvSpPr/>
          <p:nvPr/>
        </p:nvSpPr>
        <p:spPr>
          <a:xfrm>
            <a:off x="179280" y="5446800"/>
            <a:ext cx="49276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"/>
          <p:cNvSpPr/>
          <p:nvPr/>
        </p:nvSpPr>
        <p:spPr>
          <a:xfrm>
            <a:off x="5106960" y="5446800"/>
            <a:ext cx="38577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576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ввода/вывода, сбора, хранения, передачи и обработки данны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одготовка текстовых и графических документов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хнической документ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рограммирования, обучения, диагностик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вычислительных систем и программного 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836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19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08360" y="3500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5300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информа-ционные процессы в биологических систе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348000" y="148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сы информатизации об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492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564000" y="3284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50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547640" y="105264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звезд си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 тобой во тьме ноч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тучек 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чаще неба голуб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бог про это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единой он с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огромное чи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79280" y="112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08360" y="242100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3645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24360" y="53053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2060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фавитно-цифровое п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дополнительных клавиш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функциональных клави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8360" y="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9899158&amp;tov=6"/>
          <p:cNvPicPr/>
          <p:nvPr/>
        </p:nvPicPr>
        <p:blipFill>
          <a:blip r:embed="rId1"/>
          <a:stretch/>
        </p:blipFill>
        <p:spPr>
          <a:xfrm>
            <a:off x="2700360" y="4005360"/>
            <a:ext cx="3887640" cy="2519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2637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бражает нажатый символ на экра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воляет перемещаться по экр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ляет симв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3336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371600" y="15318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7-tub.yandex.net/i?id=3547453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229360"/>
            <a:ext cx="6778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260280"/>
          <a:ext cx="8209080" cy="6300720"/>
        </p:xfrm>
        <a:graphic>
          <a:graphicData uri="http://schemas.openxmlformats.org/drawingml/2006/table">
            <a:tbl>
              <a:tblPr/>
              <a:tblGrid>
                <a:gridCol w="1874880"/>
                <a:gridCol w="633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клави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вода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ерхнего реги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фиксирования верхнего регистра для клавиш алфа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, 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е клавиши, использующиеся для изменения назначения других клави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табуляции, предназначенная для перемещения курсора на несколько позиций впра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удаления символа слева от кур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глав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контекст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57:27Z</dcterms:created>
  <dc:creator>Администратор</dc:creator>
  <dc:description/>
  <dc:language>en-US</dc:language>
  <cp:lastModifiedBy>LEGION</cp:lastModifiedBy>
  <dcterms:modified xsi:type="dcterms:W3CDTF">2015-04-01T06:55:53Z</dcterms:modified>
  <cp:revision>13</cp:revision>
  <dc:subject/>
  <dc:title>Слайд 1</dc:title>
</cp:coreProperties>
</file>