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4E39-8037-4118-90D8-E6EE00C2D3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из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0EAA-ADD3-4B02-8FC4-1DDADC2618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ые основы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277D-1ABE-4410-8818-B1E691E531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отка вычислительных систем и прогр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19DA-C594-491F-BB63-DF9697D35D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информа-ционные процессы в биологически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 информатизации обще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ые системы и се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BC4A-3FA1-4233-94D1-98D2A6DD8D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звезд си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тобой во тьме ноч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тучек 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аще неба голуб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бог про это зн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диной он счи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громное чис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2DF8-040C-4B53-BEF8-DABFE7C091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07B6-B3A6-4607-9849-6E6FC0FEA5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фавитно-цифровое п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дополнительных клавиш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функциональных клавиш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0BC1-194B-46F2-A56B-4439148FA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нажатый символ на эк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перемещаться по эк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сим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2456-DBE3-4B99-89E0-F14C4EF20E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D695-4BC9-4978-AB22-AEE1433DEC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FED-C219-4528-8389-974C519C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5371-7B6F-4050-9943-53F1CCCD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76E-A3EE-42C5-B052-895C7FA4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433-8AFE-4249-BDD5-6D3CE765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001-F011-425E-BD0D-D3FECDFA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D67-436C-4450-BF22-EE99AE2E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7D2-EFE3-4D98-8A3B-25C740A2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F59-0915-4631-AF43-7A045CB7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A24-5044-438A-AF7F-2055C4F6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E3D-1210-46AB-8BB4-FF1CD366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49D-A239-4A71-BF09-4115ACC8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528-B260-43EE-ABC3-A58124EE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ccffff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903-E667-4835-B898-3EF2CB348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9&amp;text=%22&#1079;&#1085;&#1072;&#1095;&#1086;&#1082;%20Windows%22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000048231-YND[1]"/>
          <p:cNvPicPr/>
          <p:nvPr/>
        </p:nvPicPr>
        <p:blipFill>
          <a:blip r:embed="rId1"/>
          <a:srcRect l="-392" t="0" r="689" b="6264"/>
          <a:stretch/>
        </p:blipFill>
        <p:spPr>
          <a:xfrm>
            <a:off x="468360" y="2482920"/>
            <a:ext cx="6383160" cy="3997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547640" y="115920"/>
            <a:ext cx="6701040" cy="32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изучает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нформатик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549360"/>
          <a:ext cx="8842320" cy="6183360"/>
        </p:xfrm>
        <a:graphic>
          <a:graphicData uri="http://schemas.openxmlformats.org/drawingml/2006/table">
            <a:tbl>
              <a:tblPr/>
              <a:tblGrid>
                <a:gridCol w="3741480"/>
                <a:gridCol w="5100840"/>
              </a:tblGrid>
              <a:tr h="143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клави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ое 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Alt&gt; + &lt;Shift&gt;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Ctrl&gt; + &lt;Shift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ов алфавита: с русского на английский или с английского на рус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Caps Lock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: строчные на прописные и наоборо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3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 у выделенного фрагмен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4&gt;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ь ок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5"/>
          <p:cNvSpPr/>
          <p:nvPr/>
        </p:nvSpPr>
        <p:spPr>
          <a:xfrm>
            <a:off x="179280" y="0"/>
            <a:ext cx="878544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альные основы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6"/>
          <p:cNvSpPr/>
          <p:nvPr/>
        </p:nvSpPr>
        <p:spPr>
          <a:xfrm>
            <a:off x="179280" y="646200"/>
            <a:ext cx="49276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е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5106960" y="646200"/>
            <a:ext cx="38577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ие и информационные модели, алгоритмы. Методы разработки и проектирования информационных систем и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8"/>
          <p:cNvSpPr/>
          <p:nvPr/>
        </p:nvSpPr>
        <p:spPr>
          <a:xfrm>
            <a:off x="5106960" y="1674720"/>
            <a:ext cx="38577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К. Рабочие станции. Вычислительные системы. Устройства ввода/выв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ети ЭВМ. Комплексы. технические системы связи и компьютерные телекоммуникационные системы, аудио и видеосистемы, мультимеди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граммные средства межкомпьютерной связи, вы-числительные и информационные среды. Операцион-ные системы. Системы и языки программир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зыки пользователя, сервисные оболочки, системы пользовательского интерфей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кстовые и графические редакторы. СУБД. Процессоры электронных таблиц. Средства моделирования объектов, процессов и сист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здательские системы. Системы реализации технологий автоматизации расчетов, проектирования, обработки данных. Системы искусственного интеллек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9"/>
          <p:cNvSpPr/>
          <p:nvPr/>
        </p:nvSpPr>
        <p:spPr>
          <a:xfrm>
            <a:off x="179280" y="1674720"/>
            <a:ext cx="10717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-ства инфор-матиза-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0"/>
          <p:cNvSpPr/>
          <p:nvPr/>
        </p:nvSpPr>
        <p:spPr>
          <a:xfrm>
            <a:off x="1251000" y="1674720"/>
            <a:ext cx="2143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1"/>
          <p:cNvSpPr/>
          <p:nvPr/>
        </p:nvSpPr>
        <p:spPr>
          <a:xfrm>
            <a:off x="3394080" y="16747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ботк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2"/>
          <p:cNvSpPr/>
          <p:nvPr/>
        </p:nvSpPr>
        <p:spPr>
          <a:xfrm>
            <a:off x="3394080" y="23605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ча 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3"/>
          <p:cNvSpPr/>
          <p:nvPr/>
        </p:nvSpPr>
        <p:spPr>
          <a:xfrm>
            <a:off x="1251000" y="3046320"/>
            <a:ext cx="1071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-рамм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4"/>
          <p:cNvSpPr/>
          <p:nvPr/>
        </p:nvSpPr>
        <p:spPr>
          <a:xfrm>
            <a:off x="2340000" y="3068640"/>
            <a:ext cx="27367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5"/>
          <p:cNvSpPr/>
          <p:nvPr/>
        </p:nvSpPr>
        <p:spPr>
          <a:xfrm>
            <a:off x="2322360" y="3933720"/>
            <a:ext cx="1071720" cy="13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-зация техно-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6"/>
          <p:cNvSpPr/>
          <p:nvPr/>
        </p:nvSpPr>
        <p:spPr>
          <a:xfrm>
            <a:off x="3394080" y="3933720"/>
            <a:ext cx="17128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версаль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394080" y="4581360"/>
            <a:ext cx="171288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ессиона-льно-ориентиро-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8"/>
          <p:cNvSpPr/>
          <p:nvPr/>
        </p:nvSpPr>
        <p:spPr>
          <a:xfrm>
            <a:off x="179280" y="5446800"/>
            <a:ext cx="492768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9"/>
          <p:cNvSpPr/>
          <p:nvPr/>
        </p:nvSpPr>
        <p:spPr>
          <a:xfrm>
            <a:off x="5106960" y="5446800"/>
            <a:ext cx="385776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576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ввода/вывода, сбора, хранения, передачи и обработки данных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одготовка текстовых и графических документов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хнической документ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рограммирования, обучения, диагностик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пра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8360" y="2602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вычислительных систем и программного 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67280" y="836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9640" y="1989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708360" y="35002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4360" y="5300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информа-ционные процессы в биологических систе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348000" y="148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сы информатизации общ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9640" y="2492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564000" y="3284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коммуникационные системы и се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9640" y="508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547640" y="1052640"/>
            <a:ext cx="691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звезд сия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 тобой во тьме ноч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тучек 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чаще неба голуб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бог про это зн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 единой он счи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огромное числ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5280" y="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79280" y="11253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08360" y="242100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3645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24360" y="53053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2060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фавитно-цифровое по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дополнительных клавиш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функциональных клави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8360" y="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?id=19899158&amp;tov=6"/>
          <p:cNvPicPr/>
          <p:nvPr/>
        </p:nvPicPr>
        <p:blipFill>
          <a:blip r:embed="rId1"/>
          <a:stretch/>
        </p:blipFill>
        <p:spPr>
          <a:xfrm>
            <a:off x="2700360" y="4005360"/>
            <a:ext cx="3887640" cy="2519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2637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ображает нажатый символ на экра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воляет перемещаться по экра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аляет симв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33336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9"/>
          <p:cNvSpPr/>
          <p:nvPr/>
        </p:nvSpPr>
        <p:spPr>
          <a:xfrm>
            <a:off x="1371600" y="15318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7-tub.yandex.net/i?id=3547453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5229360"/>
            <a:ext cx="6778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260280"/>
          <a:ext cx="8209080" cy="6300720"/>
        </p:xfrm>
        <a:graphic>
          <a:graphicData uri="http://schemas.openxmlformats.org/drawingml/2006/table">
            <a:tbl>
              <a:tblPr/>
              <a:tblGrid>
                <a:gridCol w="1874880"/>
                <a:gridCol w="6334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 клави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вода 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ерхнего реги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s 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фиксирования верхнего регистра для клавиш алфав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, A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ие клавиши, использующиеся для изменения назначения других клави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табуляции, предназначенная для перемещения курсора на несколько позиций впра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удаления символа слева от курс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глав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контекст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8:57:27Z</dcterms:created>
  <dc:creator>Администратор</dc:creator>
  <dc:description/>
  <dc:language>en-US</dc:language>
  <cp:lastModifiedBy>LEGION</cp:lastModifiedBy>
  <dcterms:modified xsi:type="dcterms:W3CDTF">2015-04-01T06:55:53Z</dcterms:modified>
  <cp:revision>13</cp:revision>
  <dc:subject/>
  <dc:title>Слайд 1</dc:title>
</cp:coreProperties>
</file>