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2C0E-AAD7-465F-8A01-0F2E8B99ED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изуч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4B8F-142F-4B04-BE2B-D0161992BC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даментальные основы инфор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5274-1890-4857-B846-DF020451AB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аботка вычислительных систем и прогр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0BFB-05F7-4A3F-A35D-00D522342A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информа-ционные процессы в биологических систем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 информатизации обще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лекоммуникационные системы и се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об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EA8A-3558-4A9A-9413-FC533631CC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звезд си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 тобой во тьме ноч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шь, сколько тучек 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аще неба голуб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бог про это зна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единой он счит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огромное чис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1278-A0C9-479E-9FE7-C08E0CB8A0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9946-6350-4534-8516-505FB1094F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фавитно-цифровое пол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дополнительных клавиш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 функциональных клавиш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B3DE-E063-4052-9862-B21F8EF7D2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нажатый символ на экр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ет перемещаться по эк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аляет сим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E9E6-719C-40FC-9656-017C22956F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824F-4EDA-4B1E-BE76-1434AAA7C9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3C7-F962-4061-8B8C-FDCFE615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F4D-B5CB-40F4-A64C-D8D04C80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80B-4FEE-4B41-BA3A-CB1A22E0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631-3AEC-4124-B9A1-EB8CD4BB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205-A1F8-44A7-9FB3-6A97A8C1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0B44-9364-4813-B348-8D752957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680-C82C-4F69-A9F0-A926E695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64D-E834-4604-A976-E808599D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168-03E9-4E6D-ABBA-22B655D0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F46-BBA4-42FD-8BFB-B542E626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B7D-5F38-4719-A8A4-975DAB19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357A-E104-40CC-882C-218EF694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ccffff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BDDD-1164-40B3-8279-E7F591B3F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page?&amp;p=9&amp;text=%22&#1079;&#1085;&#1072;&#1095;&#1086;&#1082;%20Windows%22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000048231-YND[1]"/>
          <p:cNvPicPr/>
          <p:nvPr/>
        </p:nvPicPr>
        <p:blipFill>
          <a:blip r:embed="rId1"/>
          <a:srcRect l="-392" t="0" r="689" b="6264"/>
          <a:stretch/>
        </p:blipFill>
        <p:spPr>
          <a:xfrm>
            <a:off x="468360" y="2482920"/>
            <a:ext cx="6383160" cy="399708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547640" y="115920"/>
            <a:ext cx="6701040" cy="32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86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Что изучает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нформатика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50920" y="549360"/>
          <a:ext cx="8842320" cy="6183360"/>
        </p:xfrm>
        <a:graphic>
          <a:graphicData uri="http://schemas.openxmlformats.org/drawingml/2006/table">
            <a:tbl>
              <a:tblPr/>
              <a:tblGrid>
                <a:gridCol w="3741480"/>
                <a:gridCol w="5100840"/>
              </a:tblGrid>
              <a:tr h="1431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клави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емое действ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Alt&gt; + &lt;Shift&gt;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Ctrl&gt; + &lt;Shift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ов алфавита: с русского на английский или с английского на русск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Caps Lock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: строчные на прописные и наоборо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3&gt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на регистра букв у выделенного фрагмен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Shift&gt; + &lt;F4&gt;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т.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ыть окн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5"/>
          <p:cNvSpPr/>
          <p:nvPr/>
        </p:nvSpPr>
        <p:spPr>
          <a:xfrm>
            <a:off x="179280" y="0"/>
            <a:ext cx="8785440" cy="53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даментальные основы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6"/>
          <p:cNvSpPr/>
          <p:nvPr/>
        </p:nvSpPr>
        <p:spPr>
          <a:xfrm>
            <a:off x="179280" y="646200"/>
            <a:ext cx="49276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оретиче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7"/>
          <p:cNvSpPr/>
          <p:nvPr/>
        </p:nvSpPr>
        <p:spPr>
          <a:xfrm>
            <a:off x="5106960" y="646200"/>
            <a:ext cx="38577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тематические и информационные модели, алгоритмы. Методы разработки и проектирования информационных систем и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8"/>
          <p:cNvSpPr/>
          <p:nvPr/>
        </p:nvSpPr>
        <p:spPr>
          <a:xfrm>
            <a:off x="5106960" y="1674720"/>
            <a:ext cx="38577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К. Рабочие станции. Вычислительные системы. Устройства ввода/выво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ети ЭВМ. Комплексы. технические системы связи и компьютерные телекоммуникационные системы, аудио и видеосистемы, мультимеди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ограммные средства межкомпьютерной связи, вы-числительные и информационные среды. Операцион-ные системы. Системы и языки программирова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зыки пользователя, сервисные оболочки, системы пользовательского интерфей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кстовые и графические редакторы. СУБД. Процессоры электронных таблиц. Средства моделирования объектов, процессов и систе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здательские системы. Системы реализации технологий автоматизации расчетов, проектирования, обработки данных. Системы искусственного интеллек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9"/>
          <p:cNvSpPr/>
          <p:nvPr/>
        </p:nvSpPr>
        <p:spPr>
          <a:xfrm>
            <a:off x="179280" y="1674720"/>
            <a:ext cx="10717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-ства инфор-матиза-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0"/>
          <p:cNvSpPr/>
          <p:nvPr/>
        </p:nvSpPr>
        <p:spPr>
          <a:xfrm>
            <a:off x="1251000" y="1674720"/>
            <a:ext cx="2143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ическ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1"/>
          <p:cNvSpPr/>
          <p:nvPr/>
        </p:nvSpPr>
        <p:spPr>
          <a:xfrm>
            <a:off x="3394080" y="16747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ботка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2"/>
          <p:cNvSpPr/>
          <p:nvPr/>
        </p:nvSpPr>
        <p:spPr>
          <a:xfrm>
            <a:off x="3394080" y="2360520"/>
            <a:ext cx="1712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дача 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3"/>
          <p:cNvSpPr/>
          <p:nvPr/>
        </p:nvSpPr>
        <p:spPr>
          <a:xfrm>
            <a:off x="1251000" y="3046320"/>
            <a:ext cx="10713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-рамм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4"/>
          <p:cNvSpPr/>
          <p:nvPr/>
        </p:nvSpPr>
        <p:spPr>
          <a:xfrm>
            <a:off x="2340000" y="3068640"/>
            <a:ext cx="27367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5"/>
          <p:cNvSpPr/>
          <p:nvPr/>
        </p:nvSpPr>
        <p:spPr>
          <a:xfrm>
            <a:off x="2322360" y="3933720"/>
            <a:ext cx="1071720" cy="13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али-зация техно-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6"/>
          <p:cNvSpPr/>
          <p:nvPr/>
        </p:nvSpPr>
        <p:spPr>
          <a:xfrm>
            <a:off x="3394080" y="3933720"/>
            <a:ext cx="17128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ниверсаль-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394080" y="4581360"/>
            <a:ext cx="171288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ессиона-льно-ориентиро-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8"/>
          <p:cNvSpPr/>
          <p:nvPr/>
        </p:nvSpPr>
        <p:spPr>
          <a:xfrm>
            <a:off x="179280" y="5446800"/>
            <a:ext cx="492768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9"/>
          <p:cNvSpPr/>
          <p:nvPr/>
        </p:nvSpPr>
        <p:spPr>
          <a:xfrm>
            <a:off x="5106960" y="5446800"/>
            <a:ext cx="3857760" cy="12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576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ввода/вывода, сбора, хранения, передачи и обработки данных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одготовка текстовых и графических документов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ехнической документ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-программирования, обучения, диагностик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управл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468360" y="260280"/>
            <a:ext cx="51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ка вычислительных систем и программного обеспе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067280" y="83664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-сы, связанные с передачей, приёмом, пре-образованием и хранением информ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39640" y="1989000"/>
            <a:ext cx="49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ое моделирование, методы вычислительной и прикладной матема-тики и их применение к фундаменталь-ным и прикладным исследованиям в различных областях знаний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3708360" y="350028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де-лирующие методы логического и аналити-ческого мышления в интеллектуальной дея-тельности человека (логический вывод, обу-чение, понимание речи, визуальное восприя-тие, игры и др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84360" y="5300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ий методоло-гические средства, используемые для под-готовки и обоснования решений по слож-ным проблемам различного характер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информа-ционные процессы в биологических систем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348000" y="1484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циальная инфор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учающая процессы информатизации общ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9640" y="2492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564000" y="328464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коммуникационные системы и се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том числ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мпьютерные сети, объединяющие всё человечество в единое информационное сообще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539640" y="5084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1547640" y="1052640"/>
            <a:ext cx="691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звезд сия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д тобой во тьме ночн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ешь, сколько тучек 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чаще неба голубой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лько бог про это знае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 единой он счит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х огромное числ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635280" y="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Monotype Corsiva"/>
              </a:rPr>
              <a:t>Коротко о главн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79280" y="112536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на что нацелено внимание чело-века, с целью изучения окружающей действительности, принято называть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708360" y="242100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блюдение за окружающей действительностью порождает огромное количество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250920" y="3645000"/>
            <a:ext cx="51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фиксировать не только информацию об объектах, но и сам процесс сбора, хранения и преобра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3924360" y="5305320"/>
            <a:ext cx="49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тика изучает все мето-ды и средства сбора, хранение, передачи и преобразования ин-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2060640"/>
            <a:ext cx="79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фавитно-цифровое поле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дополнительных клавиш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365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ле функциональных клави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08360" y="0"/>
            <a:ext cx="54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</a:rPr>
              <a:t>Клавиатур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i?id=19899158&amp;tov=6"/>
          <p:cNvPicPr/>
          <p:nvPr/>
        </p:nvPicPr>
        <p:blipFill>
          <a:blip r:embed="rId1"/>
          <a:stretch/>
        </p:blipFill>
        <p:spPr>
          <a:xfrm>
            <a:off x="2700360" y="4005360"/>
            <a:ext cx="3887640" cy="25192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755640" y="2637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ображает нажатый символ на экран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воляет перемещаться по экран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5320" indent="-625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аляет симво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50920" y="33336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Нажатие клавиши приводит к одному из перечисленных действий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9"/>
          <p:cNvSpPr/>
          <p:nvPr/>
        </p:nvSpPr>
        <p:spPr>
          <a:xfrm>
            <a:off x="1371600" y="153180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im7-tub.yandex.net/i?id=35474539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5229360"/>
            <a:ext cx="6778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39640" y="260280"/>
          <a:ext cx="8209080" cy="6300720"/>
        </p:xfrm>
        <a:graphic>
          <a:graphicData uri="http://schemas.openxmlformats.org/drawingml/2006/table">
            <a:tbl>
              <a:tblPr/>
              <a:tblGrid>
                <a:gridCol w="1874880"/>
                <a:gridCol w="6334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 клави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вода 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i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ерхнего реги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s L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фиксирования верхнего регистра для клавиш алфави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trl, A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яющие клавиши, использующиеся для изменения назначения других клави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табуляции, предназначенная для перемещения курсора на несколько позиций впра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cksp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удаления символа слева от курс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глав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виша вызова контекстного мен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8:57:27Z</dcterms:created>
  <dc:creator>Администратор</dc:creator>
  <dc:description/>
  <dc:language>en-US</dc:language>
  <cp:lastModifiedBy>LEGION</cp:lastModifiedBy>
  <dcterms:modified xsi:type="dcterms:W3CDTF">2015-04-01T06:55:53Z</dcterms:modified>
  <cp:revision>13</cp:revision>
  <dc:subject/>
  <dc:title>Слайд 1</dc:title>
</cp:coreProperties>
</file>