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452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56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3800" y="0"/>
            <a:ext cx="2880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3320"/>
            <a:ext cx="48862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368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6186-B472-45DC-AC0F-30B8651164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ы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5DE6-8D1D-4A20-90EB-D4EBA8AE33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ую систему рассматривают ка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форму организации денежных 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ежду всеми субъектами воспроизводственного процесса по распределению и перераспределению совокупного общественного продукта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Финансы: Учебник/ под ред. Ковалева В.В.,  «Проспект»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5BA7-07FF-4B2A-B0EC-BE27473539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рассматривается как вс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вокупность финансовых 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ак система, в которой выделяются отдельные сферы и звенья финансов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инансы: Рабочая программа/ под ред. Филина  А.Г., «МГТА», М., 200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93BB-0F2A-4066-9F20-5DA42DA774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ы и звенья финансовых отношений взаимосвязаны, образуют в совокупности единую финансовую систему. Последняя имеет следующий ви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Финансы: Учебник/ под ред. Родионовой В.М., «Финансы и статистика» 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ализованные                                Децентрализов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ы                                                        финан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государственный бюджет              - финансы коммерчески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внебюджетные фонды                     - финансы некоммерчески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государственный кредит                - финансы обществ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страхование                                                       объеди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а) социальн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б) личн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в) имущественн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г) страхование ответствен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д) страхование предприн-их риск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B77C-A3F9-4651-8C13-96E561529E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совокупность финансовых рынков и финансовых посред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финансовых отношений: кредиторы и заемщ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A0F0-9070-48AE-9726-FCD9529828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финансовую систему входят две подсистем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финансовых институтов …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государственных органов и учрежд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D9EE-8238-4F0F-9A13-7A67D9E3E9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истема может быть представлена как совокупность трех основных звенье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финан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ные финан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е финан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F716-0964-48D1-9078-07B45F5274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централизован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инанс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нансы  Ю.Л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нансы  Ф.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Централизованные     финанс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юджетная систем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осударственный кред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небюджетные фо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5404-D457-45D0-BA45-F48749887F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ый Кодекс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система России, под. ред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. Б. Поля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, под. ред. А. М. Ковал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, под. ред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. А. Дробоз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финансов -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. М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абан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A741-2C89-4A86-93AE-492918645D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авнение «денег» и «финанс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Деньг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всеобщий стоимостной эквивал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и денег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а стоим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обращ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платеж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накоп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ые день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9EBB-F640-4021-896D-874F6F0A07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к историческая категория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м государ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ение самостоятельных хозяйствующих субъе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енное разделение труда и деление общества на социальны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2D43-65C8-4A48-A3C0-ED18893C2D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к экономическая категор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экономико – денежных отношений, связанных с формированием, распределением и использованием финансовых ресурсов для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5480-161E-402E-AD54-54818DCD90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 выступают в денежной форме, н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91B5-0607-4BF9-AE10-05DBFC61FE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 ресур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е сре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билизованные сре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, поступившие в порядке перераспред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DC10-B5EC-4301-82F2-4F9030A771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финан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ительная (перераспределительна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юща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DD87-C051-4AB1-B6D6-A47A30089E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едние темпы роста в промышленности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% в месяц, сезонный фактор устранен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9327-9900-421E-A646-00C1C7769F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212B-F6AF-4728-AD87-6773A40F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125B-E12E-482C-ACEA-CCAA8569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E4FB-DC77-49DB-A323-E11A3430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8B66-4961-42A1-AECB-5E69323B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F755-389B-4882-B9D6-8B13FDD9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AD8A-F4AD-4D4F-BFC8-01E60AC2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058C-B42B-4767-B920-A93E0E07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F170-41A3-47F8-9E1D-E435596E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2A8-D3A7-4E7D-A102-1CFD3E97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D8B9-24BE-4D3F-AF9F-BFA77CB8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9AF8-8C03-4A38-968E-66E94D5C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D8B4-4863-43D2-81F7-6EA1F760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BBCB-8602-4BF0-B99D-1E57642976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D204-67C5-4838-A57D-2C03E4E1E1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инансы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F858-4F64-4B46-B0A1-E161397617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000" y="1412640"/>
            <a:ext cx="813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ую систему рассматривают как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орму организации денежных отнош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жду всеми субъектами воспроизводственного процесса по распределению и перераспределению совокупного общественного продукта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нансы: Учебник/ под ред. Ковалева В.В.,  «Проспект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757C-74A5-406E-B1D8-979A8D1F6D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рассматривается как вся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овокупность финансовых отношени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как система, в которой выделяются отдельные сферы и звенья финансовых отнош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ы: Рабочая программа/ под ред. Филина  А.Г., «МГТА», М., 200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FFE3-ACE8-4E31-9ECF-AFA8039B9E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ы и звенья финансовых отношений взаимосвязаны, образуют в совокупности единую финансовую систему. Последняя имеет следующий в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ы: Учебник/ под ред. Родионовой В.М., «Финансы и статистика»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трализованные                                Децентрализов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нансы                                                        финан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государственный бюджет              - финансы коммерчески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внебюджетные фонды                     - финансы некоммерчески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государственный кредит                - финансы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страхование                                                       объеди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) соци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) ли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) имуществ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) страхование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) страхование предприн-их рис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7023-B813-4DF0-BAA9-1BDBFA2A8C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это совокупность финансовых рынков и финансовых посред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астники финансовых отношений: кредиторы и заемщи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C57B-19B1-4D2F-9A2E-341BE39157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Organization Chart 5"/>
          <p:cNvGrpSpPr/>
          <p:nvPr/>
        </p:nvGrpSpPr>
        <p:grpSpPr>
          <a:xfrm>
            <a:off x="1301040" y="1303200"/>
            <a:ext cx="6469560" cy="2733840"/>
            <a:chOff x="1301040" y="1303200"/>
            <a:chExt cx="6469560" cy="2733840"/>
          </a:xfrm>
        </p:grpSpPr>
        <p:cxnSp>
          <p:nvCxnSpPr>
            <p:cNvPr id="98" name="_s1028"/>
            <p:cNvCxnSpPr>
              <a:stCxn id="99" idx="0"/>
              <a:endCxn id="100" idx="2"/>
            </p:cNvCxnSpPr>
            <p:nvPr/>
          </p:nvCxnSpPr>
          <p:spPr>
            <a:xfrm flipV="1" rot="16200000">
              <a:off x="5714640" y="2553840"/>
              <a:ext cx="229320" cy="908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1029"/>
            <p:cNvCxnSpPr>
              <a:stCxn id="102" idx="0"/>
              <a:endCxn id="100" idx="2"/>
            </p:cNvCxnSpPr>
            <p:nvPr/>
          </p:nvCxnSpPr>
          <p:spPr>
            <a:xfrm flipH="1" flipV="1" rot="5400000">
              <a:off x="4807080" y="2553840"/>
              <a:ext cx="229320" cy="908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1030"/>
            <p:cNvCxnSpPr>
              <a:stCxn id="104" idx="0"/>
              <a:endCxn id="105" idx="2"/>
            </p:cNvCxnSpPr>
            <p:nvPr/>
          </p:nvCxnSpPr>
          <p:spPr>
            <a:xfrm flipH="1" flipV="1" rot="5400000">
              <a:off x="4001400" y="1454400"/>
              <a:ext cx="229320" cy="839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31"/>
            <p:cNvCxnSpPr>
              <a:stCxn id="107" idx="0"/>
              <a:endCxn id="105" idx="2"/>
            </p:cNvCxnSpPr>
            <p:nvPr/>
          </p:nvCxnSpPr>
          <p:spPr>
            <a:xfrm flipV="1" rot="16200000">
              <a:off x="5679360" y="615600"/>
              <a:ext cx="229320" cy="2517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32"/>
            <p:cNvCxnSpPr>
              <a:stCxn id="100" idx="0"/>
              <a:endCxn id="105" idx="2"/>
            </p:cNvCxnSpPr>
            <p:nvPr/>
          </p:nvCxnSpPr>
          <p:spPr>
            <a:xfrm flipV="1" rot="16200000">
              <a:off x="4840920" y="1454040"/>
              <a:ext cx="229320" cy="840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33"/>
            <p:cNvCxnSpPr>
              <a:stCxn id="110" idx="0"/>
              <a:endCxn id="105" idx="2"/>
            </p:cNvCxnSpPr>
            <p:nvPr/>
          </p:nvCxnSpPr>
          <p:spPr>
            <a:xfrm flipH="1" flipV="1" rot="5400000">
              <a:off x="3163680" y="616320"/>
              <a:ext cx="229320" cy="2516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1034"/>
            <p:cNvSpPr/>
            <p:nvPr/>
          </p:nvSpPr>
          <p:spPr>
            <a:xfrm>
              <a:off x="3519720" y="1303200"/>
              <a:ext cx="2033640" cy="457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инансовые рын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5"/>
            <p:cNvSpPr/>
            <p:nvPr/>
          </p:nvSpPr>
          <p:spPr>
            <a:xfrm>
              <a:off x="1301040" y="1989000"/>
              <a:ext cx="143748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алют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>
              <a:off x="4656240" y="1989000"/>
              <a:ext cx="143712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апита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7"/>
            <p:cNvSpPr/>
            <p:nvPr/>
          </p:nvSpPr>
          <p:spPr>
            <a:xfrm>
              <a:off x="6333120" y="1989000"/>
              <a:ext cx="143748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енежн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редст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8"/>
            <p:cNvSpPr/>
            <p:nvPr/>
          </p:nvSpPr>
          <p:spPr>
            <a:xfrm>
              <a:off x="2978640" y="1989000"/>
              <a:ext cx="143748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ол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9"/>
            <p:cNvSpPr/>
            <p:nvPr/>
          </p:nvSpPr>
          <p:spPr>
            <a:xfrm>
              <a:off x="3678120" y="3122640"/>
              <a:ext cx="1575720" cy="914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судн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апита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40"/>
            <p:cNvSpPr/>
            <p:nvPr/>
          </p:nvSpPr>
          <p:spPr>
            <a:xfrm>
              <a:off x="5493960" y="3122640"/>
              <a:ext cx="1575360" cy="914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ценных бума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3287-4F16-4BFF-8716-6D235D0425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финансовую систему входят две подсисте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окупность финансовых институтов …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окупность государственных органов и учрежд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6738-C3A5-41CA-999E-98391D5A85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овая система может быть представлена как совокупность трех основных звенье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енные финан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ные финан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ные финан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2434-7900-4976-834F-274BBDE136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централизов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инансы  Ю.Л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инансы  Ф.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ализованные     финан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юджетная система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сударственный кре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небюджетные фон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3F88-47EA-41D6-A762-7492849A88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юджетный Кодекс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юджетная система России, под. ред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. Б. Поля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ы, под. ред. А. М. Ковале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ы, под. ред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. А. Дробоз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ия финансов 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. 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абан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EDCF-5062-4FEA-B768-8D5B17AB48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равнение «денег» и «финансо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еньг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всеобщий стоимостной эквивал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нкции дене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а стоим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 обращ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 платеж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 накоп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овые день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DC49-4E44-46BF-B4AE-6CFD226266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историческая категори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зданием государ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явление самостоятельных хозяйствующих субъект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ественное разделение труда и деление общества на социальные груп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030A-AB2D-4B82-8043-38E91AF433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экономическая катего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вокупность экономико – денежных отношений, связанных с формированием, распределением и использованием финансовых ресурсов для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ABC3-14D0-4D8D-AF7D-8B9967C089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1471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ансы выступают в денежной форме, н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9640" y="1341360"/>
          <a:ext cx="8280360" cy="424836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еньги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инанс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пред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пред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озникнов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озникнов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 Круг экономических отнош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 Круг экономических отнош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8B85-EC45-4B5D-90EA-540D7B89B9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бственные сред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билизованные сред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редства, поступившие в порядке перераспредел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1237-BC2F-461F-8262-07A824B911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нкции финанс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пределительная (перераспределительная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гулирующа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трольн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20AE-26F7-465D-B76B-2D0584378A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ие темпы роста в промышленности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% в месяц, сезонный фактор устранен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981000"/>
          <a:ext cx="8229600" cy="4986360"/>
        </p:xfrm>
        <a:graphic>
          <a:graphicData uri="http://schemas.openxmlformats.org/drawingml/2006/table">
            <a:tbl>
              <a:tblPr/>
              <a:tblGrid>
                <a:gridCol w="5267160"/>
                <a:gridCol w="1368720"/>
                <a:gridCol w="1593720"/>
              </a:tblGrid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юнь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 - Июнь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ыча полезных ископаем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атывающие произво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пищевых проду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люлозно-бумажное производств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кокса и нефтепроду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ое произ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ллургическое произ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машин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электро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транспорт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и распределение электроэнергии, газа и в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08:06:42Z</dcterms:created>
  <dc:creator>Riabova Elena</dc:creator>
  <dc:description/>
  <dc:language>en-US</dc:language>
  <cp:lastModifiedBy>LEGION</cp:lastModifiedBy>
  <dcterms:modified xsi:type="dcterms:W3CDTF">2014-11-10T12:15:02Z</dcterms:modified>
  <cp:revision>23</cp:revision>
  <dc:subject/>
  <dc:title>Слайд 1</dc:title>
</cp:coreProperties>
</file>