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6452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456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796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63800" y="0"/>
            <a:ext cx="28800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9120" y="733320"/>
            <a:ext cx="488628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83680"/>
            <a:ext cx="28796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892F-9CFA-4D70-8360-EA7476280C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нансы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CF024-8CE9-44DC-A56C-0707751884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ую систему рассматривают как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форму организации денежных отношени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между всеми субъектами воспроизводственного процесса по распределению и перераспределению совокупного общественного продукта.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Финансы: Учебник/ под ред. Ковалева В.В.,  «Проспект»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5FFD4-FA6C-4427-A04D-4B6B9AE483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рассматривается как вся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совокупность финансовых отношени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как система, в которой выделяются отдельные сферы и звенья финансовых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инансы: Рабочая программа/ под ред. Филина  А.Г., «МГТА», М., 2002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6067F-ABF9-486F-85EC-C409867807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еры и звенья финансовых отношений взаимосвязаны, образуют в совокупности единую финансовую систему. Последняя имеет следующий ви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Финансы: Учебник/ под ред. Родионовой В.М., «Финансы и статистика» 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нтрализованные                                Децентрализова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нансы                                                        финан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- государственный бюджет              - финансы коммерческих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ед-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- внебюджетные фонды                     - финансы некоммерческих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ед-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- государственный кредит                - финансы обществе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- страхование                                                       объедин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а) социально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б) лично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в) имущественно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г) страхование ответственност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д) страхование предприн-их риско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33A10-3740-42F3-AA5E-217D1EB73B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это совокупность финансовых рынков и финансовых посредни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ники финансовых отношений: кредиторы и заемщ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2432-97DB-4A64-BC55-1C98D27CE2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финансовую систему входят две подсистемы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ость финансовых институтов …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ость государственных органов и учрежд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6AD0B-BC4B-4B92-867A-21ED5B3357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ая система может быть представлена как совокупность трех основных звенье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ые финанс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ные финанс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ые финан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8469F-5F2F-4A91-B817-06B9AC2E9A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ецентрализованны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финансы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финансы  Ю.Л.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финансы  Ф.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Централизованные     финансы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юджетная система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Государственный кред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небюджетные фон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255A-1C89-4ADB-B940-EC22D37E7B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юджетный Кодекс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юджетная система России, под. ред.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Г. Б. Поля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ы, под. ред. А. М. Ковалев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ы, под. ред.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Л. А. Дробози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финансов -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. М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абан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E99B4-D7C5-4F57-9D6B-D53BB5F181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авнение «денег» и «финансов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Деньг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всеобщий стоимостной эквивален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ункции денег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ра стоим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о обращ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о платеж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о накоп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ые день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51096-4EAF-4F16-91C9-D41D31BF6A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инансы,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как историческая категория: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м государ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явление самостоятельных хозяйствующих субъект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ственное разделение труда и деление общества на социальные груп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36771-0AA5-42CE-AF85-F71DC208D1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инансы,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как экономическая категория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ость экономико – денежных отношений, связанных с формированием, распределением и использованием финансовых ресурсов для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86286-690E-4B5B-A33F-3DB9F100EE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ы выступают в денежной форме, но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D7FCE-9B1D-4001-B2B0-0FA30C9444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ые ресурс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ственные сред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билизованные сред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а, поступившие в порядке перераспреде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E913F-CCBF-41CB-9C9C-880B28F932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финанс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ределительная (перераспределительная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ирующа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на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1B5B9-A404-4E54-B7AA-F775C822F4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редние темпы роста в промышленности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% в месяц, сезонный фактор устранен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FCDAC-9F30-4972-8B82-892A652FE8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B8D6-8066-4CA3-B8A8-1BD99A392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0F56-D146-4B99-9967-9ABF1D98E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4B2B-BEDA-4032-94A2-E6A9B3896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BAA7-1E23-4AC0-A137-2615C1ECA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8882-5B0A-42AF-9915-4307E6A95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460E-6E26-41D7-A2F5-82E9F8878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3B83-149C-44BD-9486-18F718984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9B66-8D19-45B2-9B4C-6DE0642EB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82F1-8CBD-411C-AB88-D8666FDB7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C34D-723F-4A76-9043-B4BFEBC0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32DC-1646-465B-996C-1329D214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B60C-6B35-4694-914B-0DE5B0FB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64A8A-E43A-4D29-AC04-59DB3F6436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2A575-552F-469D-A93C-8338353036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инансы 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62DF1-30E5-490C-BFFC-A040C6210D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4000" y="1412640"/>
            <a:ext cx="81356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нансовую систему рассматривают как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форму организации денежных отношен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ежду всеми субъектами воспроизводственного процесса по распределению и перераспределению совокупного общественного продукта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Финансы: Учебник/ под ред. Ковалева В.В.,  «Проспект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B81FB-3A42-49DE-A15D-9EEE469EA6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рассматривается как вся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совокупность финансовых отношений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как система, в которой выделяются отдельные сферы и звенья финансовых отношен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нансы: Рабочая программа/ под ред. Филина  А.Г., «МГТА», М., 200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54C2D-FAEF-4402-8AD0-F2E46604FF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феры и звенья финансовых отношений взаимосвязаны, образуют в совокупности единую финансовую систему. Последняя имеет следующий ви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нансы: Учебник/ под ред. Родионовой В.М., «Финансы и статистика»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нтрализованные                                Децентрализова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инансы                                                        финан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 государственный бюджет              - финансы коммерческих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ед-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 внебюджетные фонды                     - финансы некоммерческих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ед-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 государственный кредит                - финансы обществе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 страхование                                                       объедин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) социа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) лич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) имуществен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) страхование ответств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) страхование предприн-их рис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F75AD-1EA0-44C9-A44F-E8086B6EA8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это совокупность финансовых рынков и финансовых посредник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частники финансовых отношений: кредиторы и заемщи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0E6DD-5BE9-4989-9C70-249B26510D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Organization Chart 5"/>
          <p:cNvGrpSpPr/>
          <p:nvPr/>
        </p:nvGrpSpPr>
        <p:grpSpPr>
          <a:xfrm>
            <a:off x="1301040" y="1303200"/>
            <a:ext cx="6469560" cy="2733840"/>
            <a:chOff x="1301040" y="1303200"/>
            <a:chExt cx="6469560" cy="2733840"/>
          </a:xfrm>
        </p:grpSpPr>
        <p:cxnSp>
          <p:nvCxnSpPr>
            <p:cNvPr id="98" name="_s1028"/>
            <p:cNvCxnSpPr>
              <a:stCxn id="99" idx="0"/>
              <a:endCxn id="100" idx="2"/>
            </p:cNvCxnSpPr>
            <p:nvPr/>
          </p:nvCxnSpPr>
          <p:spPr>
            <a:xfrm flipV="1" rot="16200000">
              <a:off x="5714640" y="2553840"/>
              <a:ext cx="229320" cy="9082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1" name="_s1029"/>
            <p:cNvCxnSpPr>
              <a:stCxn id="102" idx="0"/>
              <a:endCxn id="100" idx="2"/>
            </p:cNvCxnSpPr>
            <p:nvPr/>
          </p:nvCxnSpPr>
          <p:spPr>
            <a:xfrm flipH="1" flipV="1" rot="5400000">
              <a:off x="4807080" y="2553840"/>
              <a:ext cx="229320" cy="908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3" name="_s1030"/>
            <p:cNvCxnSpPr>
              <a:stCxn id="104" idx="0"/>
              <a:endCxn id="105" idx="2"/>
            </p:cNvCxnSpPr>
            <p:nvPr/>
          </p:nvCxnSpPr>
          <p:spPr>
            <a:xfrm flipH="1" flipV="1" rot="5400000">
              <a:off x="4001400" y="1454400"/>
              <a:ext cx="229320" cy="839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1031"/>
            <p:cNvCxnSpPr>
              <a:stCxn id="107" idx="0"/>
              <a:endCxn id="105" idx="2"/>
            </p:cNvCxnSpPr>
            <p:nvPr/>
          </p:nvCxnSpPr>
          <p:spPr>
            <a:xfrm flipV="1" rot="16200000">
              <a:off x="5679360" y="615600"/>
              <a:ext cx="229320" cy="25174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1032"/>
            <p:cNvCxnSpPr>
              <a:stCxn id="100" idx="0"/>
              <a:endCxn id="105" idx="2"/>
            </p:cNvCxnSpPr>
            <p:nvPr/>
          </p:nvCxnSpPr>
          <p:spPr>
            <a:xfrm flipV="1" rot="16200000">
              <a:off x="4840920" y="1454040"/>
              <a:ext cx="229320" cy="8402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9" name="_s1033"/>
            <p:cNvCxnSpPr>
              <a:stCxn id="110" idx="0"/>
              <a:endCxn id="105" idx="2"/>
            </p:cNvCxnSpPr>
            <p:nvPr/>
          </p:nvCxnSpPr>
          <p:spPr>
            <a:xfrm flipH="1" flipV="1" rot="5400000">
              <a:off x="3163680" y="616320"/>
              <a:ext cx="229320" cy="25160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5" name="_s1034"/>
            <p:cNvSpPr/>
            <p:nvPr/>
          </p:nvSpPr>
          <p:spPr>
            <a:xfrm>
              <a:off x="3519720" y="1303200"/>
              <a:ext cx="2033640" cy="457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Финансовые рын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035"/>
            <p:cNvSpPr/>
            <p:nvPr/>
          </p:nvSpPr>
          <p:spPr>
            <a:xfrm>
              <a:off x="1301040" y="1989000"/>
              <a:ext cx="1437480" cy="9050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Валютны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рыно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036"/>
            <p:cNvSpPr/>
            <p:nvPr/>
          </p:nvSpPr>
          <p:spPr>
            <a:xfrm>
              <a:off x="4656240" y="1989000"/>
              <a:ext cx="1437120" cy="9050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Рыно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капитал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037"/>
            <p:cNvSpPr/>
            <p:nvPr/>
          </p:nvSpPr>
          <p:spPr>
            <a:xfrm>
              <a:off x="6333120" y="1989000"/>
              <a:ext cx="1437480" cy="9050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Рыно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Денежны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средст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1038"/>
            <p:cNvSpPr/>
            <p:nvPr/>
          </p:nvSpPr>
          <p:spPr>
            <a:xfrm>
              <a:off x="2978640" y="1989000"/>
              <a:ext cx="1437480" cy="9050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Рыно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золо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1039"/>
            <p:cNvSpPr/>
            <p:nvPr/>
          </p:nvSpPr>
          <p:spPr>
            <a:xfrm>
              <a:off x="3678120" y="3122640"/>
              <a:ext cx="1575720" cy="914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Рыно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ссудного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капитал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040"/>
            <p:cNvSpPr/>
            <p:nvPr/>
          </p:nvSpPr>
          <p:spPr>
            <a:xfrm>
              <a:off x="5493960" y="3122640"/>
              <a:ext cx="1575360" cy="914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Рынок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ценных бумаг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78033-A0F0-4224-8693-684FF1AB3B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финансовую систему входят две подсистем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вокупность финансовых институтов …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вокупность государственных органов и учрежде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9DD3D-776D-47BA-8CD9-DADF2F1A0C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инансовая система может быть представлена как совокупность трех основных звенье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3068280"/>
            <a:ext cx="822960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сударственные финанс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стные финанс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стные финан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EE4D9-DF3C-4A3F-8272-CB5A74FAC0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централизова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нанс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финансы  Ю.Л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финансы  Ф.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832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нтрализованные     финанс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Бюджетная система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Государственный кред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небюджетные фон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9BD8C-0373-4524-86F9-5EE5BA3243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юджетный Кодекс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юджетная система России, под. ред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Г. Б. Поля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нансы, под. ред. А. М. Ковале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нансы, под. ред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Л. А. Дробози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ория финансов -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Б. М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абан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F9271-F262-4BBB-8C31-452FD998F5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равнение «денег» и «финансов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еньги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всеобщий стоимостной эквивален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ункции денег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ра стоим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ство обращ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ство платеж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ство накопл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ровые день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8F853-4616-46B7-9096-F372A7135A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инансы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историческая категория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зданием государств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явление самостоятельных хозяйствующих субъектов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щественное разделение труда и деление общества на социальные групп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CA8D-542B-47DC-8B83-3D266A4878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инансы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экономическая категор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вокупность экономико – денежных отношений, связанных с формированием, распределением и использованием финансовых ресурсов для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EFF48-EFF7-4575-8098-86B8A34A28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6840" y="260280"/>
            <a:ext cx="814716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нансы выступают в денежной форме, но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39640" y="1341360"/>
          <a:ext cx="8280360" cy="4248360"/>
        </p:xfrm>
        <a:graphic>
          <a:graphicData uri="http://schemas.openxmlformats.org/drawingml/2006/table">
            <a:tbl>
              <a:tblPr/>
              <a:tblGrid>
                <a:gridCol w="4141800"/>
                <a:gridCol w="4138560"/>
              </a:tblGrid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Деньги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Финансы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Определ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Определ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Функ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Функ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Возникнов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Возникнов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 Круг экономических отноше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 Круг экономических отноше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5C352-47E7-4095-88BC-568B3C0870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нансовые ресур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бственные средств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обилизованные средств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редства, поступившие в порядке перераспределе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8AF99-8099-4A8D-B87C-A982C4CE29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ункции финанс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спределительная (перераспределительная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гулирующа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нтрольна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A6210-E549-4768-B383-9AAE6A4BB2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ние темпы роста в промышленности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% в месяц, сезонный фактор устранен)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57200" y="981000"/>
          <a:ext cx="8229600" cy="4986360"/>
        </p:xfrm>
        <a:graphic>
          <a:graphicData uri="http://schemas.openxmlformats.org/drawingml/2006/table">
            <a:tbl>
              <a:tblPr/>
              <a:tblGrid>
                <a:gridCol w="5267160"/>
                <a:gridCol w="1368720"/>
                <a:gridCol w="1593720"/>
              </a:tblGrid>
              <a:tr h="85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юнь 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прель - Июнь 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быча полезных ископаем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батывающие производ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 пищевых продук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люлозно-бумажное производств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 кокса и нефтепродук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мическое производ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аллургическое производ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 машин и обору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 электрообору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3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 транспортных сред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 и распределение электроэнергии, газа и в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7T08:06:42Z</dcterms:created>
  <dc:creator>Riabova Elena</dc:creator>
  <dc:description/>
  <dc:language>en-US</dc:language>
  <cp:lastModifiedBy>LEGION</cp:lastModifiedBy>
  <dcterms:modified xsi:type="dcterms:W3CDTF">2014-11-10T12:15:02Z</dcterms:modified>
  <cp:revision>23</cp:revision>
  <dc:subject/>
  <dc:title>Слайд 1</dc:title>
</cp:coreProperties>
</file>