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452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56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3800" y="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3320"/>
            <a:ext cx="48862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368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6B82-93B3-440F-B11A-56AD18CFAC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ы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AABA-2F13-4085-8EC3-48FCAAB3CC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ую систему рассматривают ка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форму организации денежных 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ежду всеми субъектами воспроизводственного процесса по распределению и перераспределению совокупного общественного продукта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Финансы: Учебник/ под ред. Ковалева В.В.,  «Проспект»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005D-D5D0-42FC-9C15-8087288BD1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рассматривается как в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вокупность финансовых 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ак система, в которой выделяются отдельные сферы и звенья финансов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инансы: Рабочая программа/ под ред. Филина  А.Г., «МГТА», М., 200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45EE-7E53-4019-8E14-D31717C85C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ы и звенья финансовых отношений взаимосвязаны, образуют в совокупности единую финансовую систему. Последняя имеет следующий ви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Финансы: Учебник/ под ред. Родионовой В.М., «Финансы и статистика» 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ализованные                                Децентрализ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ы                                                        финан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государственный бюджет              - финансы коммерческ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внебюджетные фонды                     - финансы некоммерческ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государственный кредит                - финансы обществ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страхование                                                       объ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а) социаль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б) лич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в) имуществен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г) страхование ответствен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д) страхование предприн-их риск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9134-1F59-4425-8AB5-C31FF02C40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совокупность финансовых рынков и финансовых посред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финансовых отношений: кредиторы и заемщ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B437-E848-42D0-B93F-865B3B8B9E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финансовую систему входят две подсистем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финансовых институтов …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государственных органов и учрежд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D59F-450B-47E4-8256-ECAC8C9D6A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истема может быть представлена как совокупность трех основных звенье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финан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ные финан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е финан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5C76-9C64-4A1F-B433-A445041966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централизован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инанс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нансы  Ю.Л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нансы  Ф.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Централизованные     финанс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юджетная систем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осударственный кре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небюджетные фо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B764-DAAC-4372-B34C-1C58345596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ый Кодекс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система России, под. ред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. Б. Поля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, под. ред. А. М. Ковал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, под. ред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. А. Дробоз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финансов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. М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абан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EFAA-65FB-4ADE-B9D7-0FDC576C5E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авнение «денег» и «финанс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Деньг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всеобщий стоимостной эквивал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и дене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а стоим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обращ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платеж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накоп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ые день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F419-857B-46BB-9821-D2B629E2C9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историческая категория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м государ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ение самостоятельных хозяйствующих субъе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енное разделение труда и деление общества на социальны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D8BD-F129-4B8A-BC37-3A042E4EC7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экономическая категор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экономико – денежных отношений, связанных с формированием, распределением и использованием финансовых ресурсов для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C104-A0A6-4814-B6E1-C8A78AB74B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выступают в денежной форме, н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BD12-2DBF-4182-B5B9-0C3EBE99FB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 ресур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е сре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билизованные сре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, поступившие в порядке перераспред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BEC3-A88D-4FBF-B566-CB28D28545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финан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ительная (перераспределительна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AD18-0FAA-4C16-9D2B-FC6A88D135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дние темпы роста в промышленност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% в месяц, сезонный фактор устранен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D079-A7F5-461E-A47E-9C0FF136B2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5334-23C5-472B-9483-DC31068E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3009-2F53-4ED2-B4E3-5F4C8432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F4DC-9A32-4BE3-8891-FEB3B46A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CC29-8757-41D9-90BF-DD84B876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CA84-6047-4A47-B46D-39C380EF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696-83DC-4B5C-BE8C-942FFA16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38C-6DED-42D7-A2C8-9B02C34B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5588-4F58-47EF-B89E-3904EE40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34CA-6194-46FA-BAD8-7BF002CD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1ADF-5A31-44E1-A05B-D960E2FA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DF12-0975-4399-A62B-EB2C7E29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01FA-D88F-4C09-BCA5-43872275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1101-9790-46BE-96F4-7C1DB0C394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87F9-89D1-4253-BFD9-9497B4EBDB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инансы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3278-FA10-471F-8D4A-43FBD5116B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000" y="1412640"/>
            <a:ext cx="813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ую систему рассматривают как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орму организации денежных отнош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жду всеми субъектами воспроизводственного процесса по распределению и перераспределению совокупного общественного продукта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нансы: Учебник/ под ред. Ковалева В.В.,  «Проспект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D32A-0B80-4BB0-BF0A-A7D6FC6131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рассматривается как вся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овокупность финансовых отношени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как система, в которой выделяются отдельные сферы и звенья финансовых отнош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ы: Рабочая программа/ под ред. Филина  А.Г., «МГТА», М., 200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806B-B3C5-47BE-8066-5C32F7994B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ы и звенья финансовых отношений взаимосвязаны, образуют в совокупности единую финансовую систему. Последняя имеет следующи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ы: Учебник/ под ред. Родионовой В.М., «Финансы и статистика»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трализованные                                Децентрализ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нансы                                                        финан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государственный бюджет              - финансы коммерческ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внебюджетные фонды                     - финансы некоммерческ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государственный кредит                - финансы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страхование                                                       объеди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) соци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) ли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) имуществ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) страхование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) страхование предприн-их ри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95C7-57DA-434F-B449-0C3C15A97A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это совокупность финансовых рынков и финансовых посред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стники финансовых отношений: кредиторы и заемщи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F227-AA93-4BC0-8D13-3FAACFAA10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rganization Chart 5"/>
          <p:cNvGrpSpPr/>
          <p:nvPr/>
        </p:nvGrpSpPr>
        <p:grpSpPr>
          <a:xfrm>
            <a:off x="1301040" y="1303200"/>
            <a:ext cx="6469560" cy="2733840"/>
            <a:chOff x="1301040" y="1303200"/>
            <a:chExt cx="6469560" cy="2733840"/>
          </a:xfrm>
        </p:grpSpPr>
        <p:cxnSp>
          <p:nvCxnSpPr>
            <p:cNvPr id="98" name="_s1028"/>
            <p:cNvCxnSpPr>
              <a:stCxn id="99" idx="0"/>
              <a:endCxn id="100" idx="2"/>
            </p:cNvCxnSpPr>
            <p:nvPr/>
          </p:nvCxnSpPr>
          <p:spPr>
            <a:xfrm flipV="1" rot="16200000">
              <a:off x="5714640" y="2553840"/>
              <a:ext cx="229320" cy="908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029"/>
            <p:cNvCxnSpPr>
              <a:stCxn id="102" idx="0"/>
              <a:endCxn id="100" idx="2"/>
            </p:cNvCxnSpPr>
            <p:nvPr/>
          </p:nvCxnSpPr>
          <p:spPr>
            <a:xfrm flipH="1" flipV="1" rot="5400000">
              <a:off x="4807080" y="2553840"/>
              <a:ext cx="229320" cy="908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1030"/>
            <p:cNvCxnSpPr>
              <a:stCxn id="104" idx="0"/>
              <a:endCxn id="105" idx="2"/>
            </p:cNvCxnSpPr>
            <p:nvPr/>
          </p:nvCxnSpPr>
          <p:spPr>
            <a:xfrm flipH="1" flipV="1" rot="5400000">
              <a:off x="4001400" y="1454400"/>
              <a:ext cx="229320" cy="839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1"/>
            <p:cNvCxnSpPr>
              <a:stCxn id="107" idx="0"/>
              <a:endCxn id="105" idx="2"/>
            </p:cNvCxnSpPr>
            <p:nvPr/>
          </p:nvCxnSpPr>
          <p:spPr>
            <a:xfrm flipV="1" rot="16200000">
              <a:off x="5679360" y="615600"/>
              <a:ext cx="229320" cy="2517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2"/>
            <p:cNvCxnSpPr>
              <a:stCxn id="100" idx="0"/>
              <a:endCxn id="105" idx="2"/>
            </p:cNvCxnSpPr>
            <p:nvPr/>
          </p:nvCxnSpPr>
          <p:spPr>
            <a:xfrm flipV="1" rot="16200000">
              <a:off x="4840920" y="1454040"/>
              <a:ext cx="229320" cy="840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33"/>
            <p:cNvCxnSpPr>
              <a:stCxn id="110" idx="0"/>
              <a:endCxn id="105" idx="2"/>
            </p:cNvCxnSpPr>
            <p:nvPr/>
          </p:nvCxnSpPr>
          <p:spPr>
            <a:xfrm flipH="1" flipV="1" rot="5400000">
              <a:off x="3163680" y="616320"/>
              <a:ext cx="229320" cy="2516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1034"/>
            <p:cNvSpPr/>
            <p:nvPr/>
          </p:nvSpPr>
          <p:spPr>
            <a:xfrm>
              <a:off x="3519720" y="1303200"/>
              <a:ext cx="2033640" cy="457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инансовые рын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5"/>
            <p:cNvSpPr/>
            <p:nvPr/>
          </p:nvSpPr>
          <p:spPr>
            <a:xfrm>
              <a:off x="1301040" y="1989000"/>
              <a:ext cx="143748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алют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>
              <a:off x="4656240" y="1989000"/>
              <a:ext cx="143712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апита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7"/>
            <p:cNvSpPr/>
            <p:nvPr/>
          </p:nvSpPr>
          <p:spPr>
            <a:xfrm>
              <a:off x="6333120" y="1989000"/>
              <a:ext cx="143748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енеж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редст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8"/>
            <p:cNvSpPr/>
            <p:nvPr/>
          </p:nvSpPr>
          <p:spPr>
            <a:xfrm>
              <a:off x="2978640" y="1989000"/>
              <a:ext cx="143748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ол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9"/>
            <p:cNvSpPr/>
            <p:nvPr/>
          </p:nvSpPr>
          <p:spPr>
            <a:xfrm>
              <a:off x="3678120" y="3122640"/>
              <a:ext cx="1575720" cy="914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судн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апита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40"/>
            <p:cNvSpPr/>
            <p:nvPr/>
          </p:nvSpPr>
          <p:spPr>
            <a:xfrm>
              <a:off x="5493960" y="3122640"/>
              <a:ext cx="1575360" cy="914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ценных бума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B329-968E-4887-B907-0475C5582C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финансовую систему входят две подсисте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окупность финансовых институтов …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окупность государственных органов и учрежд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6BE4-3D81-4FF3-BCB7-9EDDEB2853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овая система может быть представлена как совокупность трех основных звенье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ые финан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ные финан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ные финан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A7A6-69FF-4404-A6EE-ED746D842D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централиз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нансы  Ю.Л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нансы  Ф.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ализованные     финан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юджетная система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сударственный кре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небюджетные фо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B89C-48FF-41F0-9576-C83986105E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юджетный Кодекс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юджетная система России, под. ред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. Б. Поля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ы, под. ред. А. М. Ковале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ы, под. ред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. А. Дробоз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ия финансов 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. 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абан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9641-CFE9-44F4-8A03-DD0C335B8D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авнение «денег» и «финанс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еньг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всеобщий стоимостной эквивал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и дене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а стоим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обращ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платеж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накоп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овые день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63FD-9430-4AA5-9E38-748D350DBA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историческая категор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зданием государ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явление самостоятельных хозяйствующих субъект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ственное разделение труда и деление общества на социальные груп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0760-0068-4A15-8F0E-C9E7DE2DF0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экономическая катего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окупность экономико – денежных отношений, связанных с формированием, распределением и использованием финансовых ресурсов для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F3D0-DB00-4ED5-A1F7-14A9870A1E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1471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ансы выступают в денежной форме, н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9640" y="1341360"/>
          <a:ext cx="8280360" cy="424836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еньги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инанс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пред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пред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озникнов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озникнов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Круг экономических отнош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Круг экономических отнош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A3E7-BF46-4F25-8082-0BA835DD4D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бственные сред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билизованные сред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едства, поступившие в порядке перераспредел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8A55-DE9C-4DD0-8F60-6B8BC2960C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кции финанс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пределительная (перераспределительная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трольн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5B16-EC11-4D01-8317-5D31824D00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ие темпы роста в промышленности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% в месяц, сезонный фактор устранен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981000"/>
          <a:ext cx="8229600" cy="4986360"/>
        </p:xfrm>
        <a:graphic>
          <a:graphicData uri="http://schemas.openxmlformats.org/drawingml/2006/table">
            <a:tbl>
              <a:tblPr/>
              <a:tblGrid>
                <a:gridCol w="5267160"/>
                <a:gridCol w="1368720"/>
                <a:gridCol w="1593720"/>
              </a:tblGrid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юнь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 - Июнь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ыча полезных ископаем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атывающие произво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пищевых проду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люлозно-бумажное производств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кокса и нефтепроду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ое 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ллургическое 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машин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электро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транспорт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и распределение электроэнергии, газа и в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08:06:42Z</dcterms:created>
  <dc:creator>Riabova Elena</dc:creator>
  <dc:description/>
  <dc:language>en-US</dc:language>
  <cp:lastModifiedBy>LEGION</cp:lastModifiedBy>
  <dcterms:modified xsi:type="dcterms:W3CDTF">2014-11-10T12:15:02Z</dcterms:modified>
  <cp:revision>23</cp:revision>
  <dc:subject/>
  <dc:title>Слайд 1</dc:title>
</cp:coreProperties>
</file>