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452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56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3800" y="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3320"/>
            <a:ext cx="48862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368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250F-10B0-4B5B-9D17-CE4AD1D242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2E48-681B-468F-8164-8B7E6BDBB8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ую систему рассматривают ка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форму организации денежн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жду всеми субъектами воспроизводственного процесса по распределению и перераспределению совокупного общественного продукта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инансы: Учебник/ под ред. Ковалева В.В.,  «Проспект»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CE4A-1EC1-4B6D-A353-8FA06C4C93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рассматривается как в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финансов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ак система, в которой выделяются отдельные сферы и звенья финансов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инансы: Рабочая программа/ под ред. Филина  А.Г., «МГТА», М., 200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D827-8DE0-48EF-A8BE-F099093341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и звенья финансовых отношений взаимосвязаны, образуют в совокупности единую финансовую систему. Последняя имеет следующий ви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Финансы: Учебник/ под ред. Родионовой В.М., «Финансы и статистика» 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ализованные                                Децентрализ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                                                       финан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государственный бюджет              - финансы коммерческ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внебюджетные фонды                     - финансы некоммерческ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государственный кредит                - финансы обществ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- страхование                                                       объ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а) социаль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б) лич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в) имуществен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г) страхование ответствен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д) страхование предприн-их риск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0CEB-2F7B-451A-A494-A5A19665EC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совокупность финансовых рынков и финансовых посред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финансовых отношений: кредиторы и заемщ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A7EF-2642-4521-A784-69A3B748B5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финансовую систему входят две подсистем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финансовых институтов …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органов и учрежд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24A0-841D-473E-BADA-1944CBAE26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система может быть представлена как совокупность трех основных звенье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финан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ные финан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е финан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0A9E-546A-48C4-8AB2-18521175FC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централизован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инанс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ы  Ю.Л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ы  Ф.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ентрализованные     финанс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юджетная систем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осударственный кре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небюджетные фо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A4B6-EED4-4353-ACDA-A6CFF70033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ый Кодекс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система России, под. ред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. Б. Поля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, под. ред. А. М. Ковал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, под. ред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. А. Дробоз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финансов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. М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абан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E606-2A4D-4934-8DDA-E2B1F8E6ED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авнение «денег» и «финанс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еньг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всеобщий стоимостной эквивал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и дене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а стоим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обращ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платеж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накоп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 день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8076-B27A-4495-B051-21787210FF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историческая категория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м государ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самостоятельных хозяйствующих субъе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ое разделение труда и деление общества на социальны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A8CE-77FF-472C-8B69-E6FF257FE3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экономическая категор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экономико – денежных отношений, связанных с формированием, распределением и использованием финансовых ресурсов для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9597-0E67-44DD-8EB3-B38EC40657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выступают в денежной форме, н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ACA5-C4C6-41C3-9E6C-C4B345B781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ресур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изованные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ступившие в порядке перераспред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FF8D-47F5-47D7-9FEE-7584C296D8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финан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ительная (перераспределительна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0B72-E829-4D8C-8BB2-0195CEFF04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4920" y="4642920"/>
            <a:ext cx="531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ние темпы роста в промышленност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% в месяц, сезонный фактор устранен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763800" y="928368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6686-38A8-4182-8B56-02D3197954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1FB5-E12D-4A7B-AC3B-A50AFB30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805-BEBC-4AA8-A0C1-8BBB2A15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ADA-493F-48A4-A8F2-A70A6CC2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B7F-7CDB-4C37-9313-1C0FBAB0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6F7B-6E21-44AB-B7BA-51EEBF59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A2B1-0CA4-4606-9F85-F5C1D0A8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02C-1DA0-4D03-AECA-0D32C69F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E48-58B7-4F21-9057-56272541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350C-D5EA-4785-A1B9-FB0B029B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67AD-3845-4C93-9070-CB58CF4C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2790-CD37-4A23-89E4-04097282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EBA4-5B48-4EA6-B4DA-25C9E612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6482-93A5-4743-BE8C-9149CB011F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8B94-1BB9-45E2-9211-FDA7A24BFD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нансы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B97B-3EBE-4D31-AD16-1AF0889212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1412640"/>
            <a:ext cx="813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ую систему рассматривают как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орму организации денежных 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жду всеми субъектами воспроизводственного процесса по распределению и перераспределению совокупного общественного продукта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нансы: Учебник/ под ред. Ковалева В.В.,  «Проспект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5029-E28F-41FE-B7D2-FFAD69E7FB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рассматривается как вс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финансовых отношен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как система, в которой выделяются отдельные сферы и звенья финансовых отнош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ы: Рабочая программа/ под ред. Филина  А.Г., «МГТА», М., 200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5B94-0C3B-495C-B731-666DCCCBD2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ы и звенья финансовых отношений взаимосвязаны, образуют в совокупности единую финансовую систему. Последняя имеет следующи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ы: Учебник/ под ред. Родионовой В.М., «Финансы и статистика»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ализованные                                Децентрализ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ансы                                                        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государственный бюджет              - финансы коммерческ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внебюджетные фонды                     - финансы некоммерчески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-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государственный кредит                - финансы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страхование                                                       объеди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) соци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) ли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) имуществ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) страховани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) страхование предприн-их ри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2B4A-E74E-44BA-B64B-C927F69436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то совокупность финансовых рынков и финансовых посред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ники финансовых отношений: кредиторы и заемщи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960B-35F2-47DF-AED3-6DE72517AD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rganization Chart 5"/>
          <p:cNvGrpSpPr/>
          <p:nvPr/>
        </p:nvGrpSpPr>
        <p:grpSpPr>
          <a:xfrm>
            <a:off x="1301040" y="1303200"/>
            <a:ext cx="6469560" cy="2733840"/>
            <a:chOff x="1301040" y="1303200"/>
            <a:chExt cx="6469560" cy="2733840"/>
          </a:xfrm>
        </p:grpSpPr>
        <p:cxnSp>
          <p:nvCxnSpPr>
            <p:cNvPr id="98" name="_s1028"/>
            <p:cNvCxnSpPr>
              <a:stCxn id="99" idx="0"/>
              <a:endCxn id="100" idx="2"/>
            </p:cNvCxnSpPr>
            <p:nvPr/>
          </p:nvCxnSpPr>
          <p:spPr>
            <a:xfrm flipV="1" rot="16200000">
              <a:off x="5714640" y="2553840"/>
              <a:ext cx="229320" cy="908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029"/>
            <p:cNvCxnSpPr>
              <a:stCxn id="102" idx="0"/>
              <a:endCxn id="100" idx="2"/>
            </p:cNvCxnSpPr>
            <p:nvPr/>
          </p:nvCxnSpPr>
          <p:spPr>
            <a:xfrm flipH="1" flipV="1" rot="5400000">
              <a:off x="4807080" y="2553840"/>
              <a:ext cx="229320" cy="908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030"/>
            <p:cNvCxnSpPr>
              <a:stCxn id="104" idx="0"/>
              <a:endCxn id="105" idx="2"/>
            </p:cNvCxnSpPr>
            <p:nvPr/>
          </p:nvCxnSpPr>
          <p:spPr>
            <a:xfrm flipH="1" flipV="1" rot="5400000">
              <a:off x="4001400" y="1454400"/>
              <a:ext cx="229320" cy="839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1"/>
            <p:cNvCxnSpPr>
              <a:stCxn id="107" idx="0"/>
              <a:endCxn id="105" idx="2"/>
            </p:cNvCxnSpPr>
            <p:nvPr/>
          </p:nvCxnSpPr>
          <p:spPr>
            <a:xfrm flipV="1" rot="16200000">
              <a:off x="5679360" y="615600"/>
              <a:ext cx="229320" cy="2517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2"/>
            <p:cNvCxnSpPr>
              <a:stCxn id="100" idx="0"/>
              <a:endCxn id="105" idx="2"/>
            </p:cNvCxnSpPr>
            <p:nvPr/>
          </p:nvCxnSpPr>
          <p:spPr>
            <a:xfrm flipV="1" rot="16200000">
              <a:off x="4840920" y="1454040"/>
              <a:ext cx="229320" cy="840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33"/>
            <p:cNvCxnSpPr>
              <a:stCxn id="110" idx="0"/>
              <a:endCxn id="105" idx="2"/>
            </p:cNvCxnSpPr>
            <p:nvPr/>
          </p:nvCxnSpPr>
          <p:spPr>
            <a:xfrm flipH="1" flipV="1" rot="5400000">
              <a:off x="3163680" y="616320"/>
              <a:ext cx="229320" cy="2516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034"/>
            <p:cNvSpPr/>
            <p:nvPr/>
          </p:nvSpPr>
          <p:spPr>
            <a:xfrm>
              <a:off x="3519720" y="1303200"/>
              <a:ext cx="2033640" cy="457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ые рын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5"/>
            <p:cNvSpPr/>
            <p:nvPr/>
          </p:nvSpPr>
          <p:spPr>
            <a:xfrm>
              <a:off x="130104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алют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>
              <a:off x="4656240" y="1989000"/>
              <a:ext cx="143712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апита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7"/>
            <p:cNvSpPr/>
            <p:nvPr/>
          </p:nvSpPr>
          <p:spPr>
            <a:xfrm>
              <a:off x="633312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енеж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ред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8"/>
            <p:cNvSpPr/>
            <p:nvPr/>
          </p:nvSpPr>
          <p:spPr>
            <a:xfrm>
              <a:off x="2978640" y="1989000"/>
              <a:ext cx="1437480" cy="905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ол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9"/>
            <p:cNvSpPr/>
            <p:nvPr/>
          </p:nvSpPr>
          <p:spPr>
            <a:xfrm>
              <a:off x="3678120" y="3122640"/>
              <a:ext cx="1575720" cy="91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судн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апита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40"/>
            <p:cNvSpPr/>
            <p:nvPr/>
          </p:nvSpPr>
          <p:spPr>
            <a:xfrm>
              <a:off x="5493960" y="3122640"/>
              <a:ext cx="1575360" cy="91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ыно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ценных бума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6277-9E0D-4227-972B-3BEFAC5EAB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финансовую систему входят две подсист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окупность финансовых институтов …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окупность государственных органов и учрежд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0022-A26F-40CD-83BB-D51E36A63E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овая система может быть представлена как совокупность трех основных звень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ые финан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ные финан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ные финан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9D01-1493-4854-8B60-91F5C505B8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нансовая систем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централиз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нансы  Ю.Л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нансы  Ф.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ализованные     финан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юджетная систем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сударственный кре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небюджетные фо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CA22-7A9E-4756-AAAD-2733A16CEE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юджетный Кодекс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юджетная система России, под. ред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. Б. Поля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ы, под. ред. А. М. Ковале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ы, под. ред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. А. Дробоз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ия финансов 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. 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абан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6885-BE9A-4638-B49A-A690BE48E5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авнение «денег» и «финанс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еньг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всеобщий стоимостной эквивал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 дене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а стоим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обращ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платеж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 накоп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вые день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FBF2-9211-4483-BA11-791F2CC793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историческая категор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нием государ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явление самостоятельных хозяйствующих субъект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ственное разделение труда и деление общества на социальные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8D48-076F-483F-B4BE-9CA9116251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нансы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экономическая катег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окупность экономико – денежных отношений, связанных с формированием, распределением и использованием финансовых ресурсов дл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C24A-7541-48E8-A626-F4DD20A45A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147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ансы выступают в денежной форме, н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9640" y="1341360"/>
          <a:ext cx="8280360" cy="4248360"/>
        </p:xfrm>
        <a:graphic>
          <a:graphicData uri="http://schemas.openxmlformats.org/drawingml/2006/table">
            <a:tbl>
              <a:tblPr/>
              <a:tblGrid>
                <a:gridCol w="4141800"/>
                <a:gridCol w="413856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еньги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инанс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озникнов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озникнов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Круг экономических отнош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Круг экономических отнош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C4B1-7803-4EF8-A159-8C36BB3532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нансов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бственные сре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билизованные средств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ства, поступившие в порядке перераспредел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B5CB-179E-4F6D-9C0F-108D1B4593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ункции финанс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пределительная (перераспределительная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улирующа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троль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5DA0-0271-4AEB-91C3-CB1399DAFA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е темпы роста в промышленности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% в месяц, сезонный фактор устранен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981000"/>
          <a:ext cx="8229600" cy="4986360"/>
        </p:xfrm>
        <a:graphic>
          <a:graphicData uri="http://schemas.openxmlformats.org/drawingml/2006/table">
            <a:tbl>
              <a:tblPr/>
              <a:tblGrid>
                <a:gridCol w="5267160"/>
                <a:gridCol w="1368720"/>
                <a:gridCol w="1593720"/>
              </a:tblGrid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нь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 - Июнь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ыча полезных ископаем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атывающие произво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пищевых 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люлозно-бумажное производст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кокса и нефтепроду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ое 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лургическое 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машин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электро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транспор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08:06:42Z</dcterms:created>
  <dc:creator>Riabova Elena</dc:creator>
  <dc:description/>
  <dc:language>en-US</dc:language>
  <cp:lastModifiedBy>LEGION</cp:lastModifiedBy>
  <dcterms:modified xsi:type="dcterms:W3CDTF">2014-11-10T12:15:02Z</dcterms:modified>
  <cp:revision>23</cp:revision>
  <dc:subject/>
  <dc:title>Слайд 1</dc:title>
</cp:coreProperties>
</file>