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18CC-54D3-49EC-B94E-F114A8F00D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ОКОЛЕНИЯ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77E1-F397-4646-862F-523CA6FD39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ТОРОЕ ПОКОЛЕНИЕ 1960-1964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18F6-32A1-4D3C-82FA-8A6CA277E0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5B86-EC40-436D-9A8E-D36238FD88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9123-77C3-47EB-8558-B4CC169F63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F4CB-926C-4FEC-A2C5-057FEABBED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12C6-4802-4D76-8410-3E3606FD73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87EC-BA20-4C7B-B97B-BB260A7B90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4782-EEE4-465A-B5A3-27FA0A9CC8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3B7D-867C-447F-A152-173E7912B1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19D4-E3D5-4B07-9C0E-2EC1F8A268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поколений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0C14-F2EB-4F37-83F5-231444E218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электронн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pl-PL" sz="1200" spc="-1" strike="noStrike">
                <a:solidFill>
                  <a:srgbClr val="b2b2b2"/>
                </a:solidFill>
                <a:latin typeface="Arial"/>
                <a:ea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1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AF70-5371-4584-BDEC-EB24FA992C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водная табл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60C5-A086-47E7-B1CB-51FAFB4168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4ADD-25A6-4682-B8B7-E094CD77D2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фон Нейм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7AE3-91F8-427A-8A98-11F97EA251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а 1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стройство ввода. Вводит и кодирует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арифметико-логическое устройство. Обрабатывает арифметическую и логическую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апоминающее устройство. Хранит данные, программу и результ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стройство управления. Управляет работой всех устройств и ходом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7185-D320-4A47-AF33-107DFB32D6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975E-D44C-4B1C-BD4F-39D2273C28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9262-87D3-44AA-8CC9-C1FE7AB304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D88F-442A-4C16-BC7B-0014846B17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3289-0595-452A-A129-4EEC8EE1F7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9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675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whoosh.wav"/><Relationship Id="rId7" Type="http://schemas.openxmlformats.org/officeDocument/2006/relationships/audio" Target="../media/&#1041;&#1077;&#1081;&#1089;&#1073;&#1086;&#1083;%20-%20&#1074;&#1099;&#1093;&#1086;&#1076;%20&#1080;&#1079;%20Window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&#1055;&#1091;&#1090;&#1077;&#1096;&#1077;&#1089;&#1090;&#1074;&#1080;&#1103;%20-%20&#1074;&#1086;&#1087;&#1088;&#1086;&#1089;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7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komp37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шари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шарик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шарик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шарик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шарик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шарик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0" descr="шарик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2" descr="Tranzist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диод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магнитный сердечник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?id=6243518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9" descr="цифры2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i?id=6448969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1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22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2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5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магнитная лента1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Magnit_lent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магнитная лента2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накопители МЛ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2" name="Line 14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5" descr="магнитный диск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магнитный диск2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магнитный диск3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8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1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4" descr="бэсм6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Besm-6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7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ruka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Kristal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1o5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цифры2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AutoShape 12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пок3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шина ес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ес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1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3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7" descr="пок4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двк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2" descr="цифры2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схем1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4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7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9" descr="komp35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19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Untitled-1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Untitled-2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95400" y="1143000"/>
          <a:ext cx="8953200" cy="535932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WordArt 60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4" name="AutoShape 6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5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5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8" descr="ENIAC-2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68" name="WordArt 20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AutoShape 22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Altair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apple-1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9" name="AutoShape 8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ransistor&amp; rabit f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цифры2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радиоламп1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радиол2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78" name="WordArt 12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1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5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3" name="Rectangle 3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0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3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3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32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" name="AutoShape 3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4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5" name="AutoShape 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бэсм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lebede2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strela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m2a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2d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2b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2c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" descr="ацпу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ерфокарта1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перфолента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6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перфолента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7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LEGION</cp:lastModifiedBy>
  <dcterms:modified xsi:type="dcterms:W3CDTF">2015-04-01T06:58:39Z</dcterms:modified>
  <cp:revision>53</cp:revision>
  <dc:subject/>
  <dc:title>Презентация PowerPoint</dc:title>
</cp:coreProperties>
</file>