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D83D-2C4D-4A2D-85CA-3597466FDC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ОКОЛЕНИЯ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B720-4DDD-4874-A874-92E9F118C8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ТОРОЕ ПОКОЛЕНИЕ 1960-1964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F139-CFBE-433F-82D5-F4F0E9D9EC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CA1F-D705-4AE6-BE4E-FEBB460B93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4F98-7303-42A4-8D83-E5A7DAF17A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DEE4-DF51-4A4D-BF50-40D725135E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638B-A60F-4BBC-B29D-03A4012CA3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B244-E004-47F9-BBD9-6EE7342BCC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E5E6-50AF-4665-BAD6-0E76FC4635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996F-6717-426F-98C5-1AD7724ED2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035E-D213-4E06-A180-5E6EC97358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поколений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52D5-5CBF-4CD8-8109-D3AEAD38C1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электронн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pl-PL" sz="1200" spc="-1" strike="noStrike">
                <a:solidFill>
                  <a:srgbClr val="b2b2b2"/>
                </a:solidFill>
                <a:latin typeface="Arial"/>
                <a:ea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1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D412-F6C8-42AD-9FDF-40E18351C4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водная табл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36D2-2EA6-4C89-A1AD-DA676AEF39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78E1-643E-4633-8813-DFFC300B73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фон Нейм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C900-43B2-4985-A5B3-18A5AA5B4D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а 1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стройство ввода. Вводит и кодирует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арифметико-логическое устройство. Обрабатывает арифметическую и логическую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апоминающее устройство. Хранит данные, программу и результ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стройство управления. Управляет работой всех устройств и ходом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E99D-2FA6-4146-86DD-D92454E5DA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2DC7-CBD7-4F63-B4FE-8BAF0C9D98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23F6-5A15-4ACD-B1C7-E49B75FBA0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4D0C-46B1-4F19-8B9F-E122BFE75A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3473-87F8-4165-B16E-7DAE9130D1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9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675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whoosh.wav"/><Relationship Id="rId7" Type="http://schemas.openxmlformats.org/officeDocument/2006/relationships/audio" Target="../media/&#1041;&#1077;&#1081;&#1089;&#1073;&#1086;&#1083;%20-%20&#1074;&#1099;&#1093;&#1086;&#1076;%20&#1080;&#1079;%20Window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&#1055;&#1091;&#1090;&#1077;&#1096;&#1077;&#1089;&#1090;&#1074;&#1080;&#1103;%20-%20&#1074;&#1086;&#1087;&#1088;&#1086;&#1089;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7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komp37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шари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шарик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шарик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шарик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шарик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шарик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шарик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2" descr="Tranzist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диод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магнитный сердечник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6243518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9" descr="цифры2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i?id=6448969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1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2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5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магнитная лента1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Magnit_lent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магнитная лента2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накопители МЛ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2" name="Line 14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5" descr="магнитный диск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магнитный диск2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магнитный диск3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8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1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4" descr="бэсм6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Besm-6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ruka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Kristal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1o5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цифры2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AutoShape 12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пок3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шина ес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ес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1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3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7" descr="пок4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двк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2" descr="цифры2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схем1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4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7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komp35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19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Untitled-1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Untitled-2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95400" y="1143000"/>
          <a:ext cx="8953200" cy="535932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WordArt 60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4" name="AutoShape 6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5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5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8" descr="ENIAC-2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68" name="WordArt 20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22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Altair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apple-1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9" name="AutoShape 8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ransistor&amp; rabit 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цифры2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радиоламп1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радиол2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78" name="WordArt 12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1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5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3" name="Rectangle 3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3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3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32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" name="AutoShape 3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4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5" name="AutoShape 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бэсм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lebede2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trela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m2a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2d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2b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2c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ацпу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ерфокарта1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перфолента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6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перфолента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7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LEGION</cp:lastModifiedBy>
  <dcterms:modified xsi:type="dcterms:W3CDTF">2015-04-01T06:58:39Z</dcterms:modified>
  <cp:revision>53</cp:revision>
  <dc:subject/>
  <dc:title>Презентация PowerPoint</dc:title>
</cp:coreProperties>
</file>