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7075-20C5-41E8-AF55-23F0CA7D88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ПОКОЛЕНИЯ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FB94-7491-4D3F-8866-8BDBCF20ED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ТОРОЕ ПОКОЛЕНИЕ 1960-1964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2B5B-5E54-4E96-B4BB-808CD49079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EF3A-CD32-4382-90D6-2611692D44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1B7F-0C79-4AA4-9AF5-B4ABDD212B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2822-8636-446D-AF29-A4A67FAFD9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DF64-516F-4562-A280-D0B4F14EB9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7448-115E-41AA-8DE2-24C9BCBAEF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8108-ECA3-4588-BA77-2C9A22F4C0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5B03-3B65-4913-B965-5F94F97EB3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DCAE-4F20-4ABE-B297-D11AD5CD93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истики поколений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BC08-9662-411D-BE05-A2C934CFB1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электронн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pl-PL" sz="1200" spc="-1" strike="noStrike">
                <a:solidFill>
                  <a:srgbClr val="b2b2b2"/>
                </a:solidFill>
                <a:latin typeface="Arial"/>
                <a:ea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12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EBC4-E26A-4EBA-BE7B-C8CB3EBE71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водная табл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209C-5517-442B-96D3-EE3617B653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89F6-63A7-4401-A001-763D33EBAB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фон Нейм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EAB5-1F86-4B0B-BC39-57728B6709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а 1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устройство ввода. Вводит и кодирует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арифметико-логическое устройство. Обрабатывает арифметическую и логическую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апоминающее устройство. Хранит данные, программу и результ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стройство управления. Управляет работой всех устройств и ходом обработки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1D93-F11B-4038-99E2-B02FBEB09B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22E7-3903-4D56-A9B8-B28A46879D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FF11-5B93-43E6-9336-041A5A7CE1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F40F-2251-4E5A-928B-331A1C1A7C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B23C-EF68-4321-85F9-677C252201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9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675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audio" Target="../media/whoosh.wav"/><Relationship Id="rId7" Type="http://schemas.openxmlformats.org/officeDocument/2006/relationships/audio" Target="../media/&#1041;&#1077;&#1081;&#1089;&#1073;&#1086;&#1083;%20-%20&#1074;&#1099;&#1093;&#1086;&#1076;%20&#1080;&#1079;%20Window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camera.wav"/><Relationship Id="rId6" Type="http://schemas.openxmlformats.org/officeDocument/2006/relationships/audio" Target="../media/&#1055;&#1091;&#1090;&#1077;&#1096;&#1077;&#1089;&#1090;&#1074;&#1080;&#1103;%20-%20&#1074;&#1086;&#1087;&#1088;&#1086;&#1089;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7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0" descr="komp37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3" descr="шари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шарик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шарик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шарик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шарик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шарик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9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0" descr="шарик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2" descr="Tranzist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диод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магнитный сердечник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i?id=6243518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7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9" descr="цифры2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i?id=6448969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1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22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2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5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магнитная лента1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Magnit_lent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магнитная лента2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накопители МЛ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2" name="Line 14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5" descr="магнитный диск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магнитный диск2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магнитный диск3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8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0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1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4" descr="бэсм6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Besm-6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7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9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6" descr="ruka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Kristal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1o5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цифры2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2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AutoShape 12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3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7" descr="пок3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шина ес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ес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1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2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3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7" descr="пок4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двк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2" descr="цифры2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схем1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4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7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9" descr="komp35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19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Untitled-1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Untitled-2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95400" y="1143000"/>
          <a:ext cx="8953200" cy="535932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WordArt 60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4" name="AutoShape 6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65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7" descr="5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8" descr="ENIAC-2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68" name="WordArt 20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AutoShape 22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Altair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5" descr="apple-1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9" name="AutoShape 8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ransistor&amp; rabit f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цифры2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радиоламп1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радиол2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78" name="WordArt 12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1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5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3" name="Rectangle 3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4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9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0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3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4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7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0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21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2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3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8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WordArt 32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0" name="AutoShape 3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4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5" name="AutoShape 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бэсм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lebede2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strela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m2a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m2d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m2b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m2c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0" descr="ацпу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ерфокарта1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перфолента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6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перфолента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7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LEGION</cp:lastModifiedBy>
  <dcterms:modified xsi:type="dcterms:W3CDTF">2015-04-01T06:58:39Z</dcterms:modified>
  <cp:revision>53</cp:revision>
  <dc:subject/>
  <dc:title>Презентация PowerPoint</dc:title>
</cp:coreProperties>
</file>