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AD17-687E-45E6-BC70-AE3D28D779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ПОКОЛЕНИЯ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7DB4-320D-4ACC-A61C-F3A702C4FD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ВТОРОЕ ПОКОЛЕНИЕ 1960-1964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247C-2E23-4414-8251-AC0C8111D2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E0CC-3795-4BC8-8592-4562013600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A977-CAC9-46F1-BF8E-5EA043C885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BFEF-50FF-4B1E-BF17-C22A9871E5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584C-3BBA-4A1D-8287-3894153EFD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D95C-E245-4DEB-AFDA-581999FCE3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926B-CCCB-4EBB-BA26-E2A2F92565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4B80-0922-45EB-AB16-B628248D54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3608-8EF8-4F7E-BE36-B6595FA87B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истики поколений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DF9A-27A8-41A0-B735-110E7F703C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электронная маш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pl-PL" sz="1200" spc="-1" strike="noStrike">
                <a:solidFill>
                  <a:srgbClr val="b2b2b2"/>
                </a:solidFill>
                <a:latin typeface="Arial"/>
                <a:ea typeface="Arial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ru-RU" sz="12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083E-4FE0-4B59-9BED-B5A072C80D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водная табл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873C-082E-4FE3-B076-A3BC0A94DC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FC91-DE0E-402C-B153-ABB2520293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фон Нейм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DBF5-8D44-43DE-AE48-485EB1D705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а 1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устройство ввода. Вводит и кодирует информ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арифметико-логическое устройство. Обрабатывает арифметическую и логическую информ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апоминающее устройство. Хранит данные, программу и результ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стройство управления. Управляет работой всех устройств и ходом обработки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DA2D-8CD3-4688-A28E-EFAAF57110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F063-A00B-42B4-B5CC-11B7F2BE74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FBEE-C0E5-4EC4-9AFB-A493364F0A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BD76-75B0-41F8-97CB-4DFDC6C196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4179-04F8-4E43-9329-F0EEAF7689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9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675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audio" Target="../media/whoosh.wav"/><Relationship Id="rId7" Type="http://schemas.openxmlformats.org/officeDocument/2006/relationships/audio" Target="../media/&#1041;&#1077;&#1081;&#1089;&#1073;&#1086;&#1083;%20-%20&#1074;&#1099;&#1093;&#1086;&#1076;%20&#1080;&#1079;%20Window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camera.wav"/><Relationship Id="rId6" Type="http://schemas.openxmlformats.org/officeDocument/2006/relationships/audio" Target="../media/&#1055;&#1091;&#1090;&#1077;&#1096;&#1077;&#1089;&#1090;&#1074;&#1080;&#1103;%20-%20&#1074;&#1086;&#1087;&#1088;&#1086;&#1089;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7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10" descr="komp37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3" descr="шари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шарик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шарик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шарик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шарик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шарик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9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0" descr="шарик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2" descr="Tranzist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диод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магнитный сердечник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i?id=6243518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7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9" descr="цифры2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i?id=6448969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1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22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AutoShape 2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5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магнитная лента1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Magnit_lent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магнитная лента2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накопители МЛ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2" name="Line 14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5" descr="магнитный диск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магнитный диск2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магнитный диск3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8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0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1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4" descr="бэсм6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Besm-6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7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8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9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6" descr="ruka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Kristal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1o5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цифры2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2" name="WordArt 10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AutoShape 12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3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4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7" descr="пок3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шина ес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ес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1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2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3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7" descr="пок4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двк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2" descr="цифры2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схем1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4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AutoShape 1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7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9" descr="komp35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19" name="WordArt 10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4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Untitled-1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Untitled-2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9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95400" y="1143000"/>
          <a:ext cx="8953200" cy="535932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WordArt 60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4" name="AutoShape 6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65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6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7" descr="5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9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ru-RU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8" descr="ENIAC-2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68" name="WordArt 20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AutoShape 22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4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" descr="Altair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5" descr="apple-1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9" name="AutoShape 8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ransistor&amp; rabit f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цифры2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радиоламп1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радиол2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78" name="WordArt 12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1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5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6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3" name="Rectangle 3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4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5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9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0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3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4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7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8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9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20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21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2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3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28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WordArt 32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0" name="AutoShape 3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4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5" name="AutoShape 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бэсм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lebede2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4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strela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4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m2a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m2d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m2b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m2c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4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0" descr="ацпу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перфокарта1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перфолента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6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перфолента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7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LEGION</cp:lastModifiedBy>
  <dcterms:modified xsi:type="dcterms:W3CDTF">2015-04-01T06:58:39Z</dcterms:modified>
  <cp:revision>53</cp:revision>
  <dc:subject/>
  <dc:title>Презентация PowerPoint</dc:title>
</cp:coreProperties>
</file>