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3B7-7483-478C-BD16-4657AF887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Возмож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ерационной системы Linux в учебном процесс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ОУСОШ № 8 г. Старая Ру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: Трофимов П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C69-5221-489D-84DF-233A2A859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B11-4D63-43EE-A3CC-DBE0AA423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388-4748-4131-BF00-71635EBFA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BAB-B232-4588-9BA9-4A1B3C042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колько сто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Windows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7A57-4782-4F5E-A19A-E79E4E839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2E7D-AD49-4B7D-9756-0A6DCA35B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236-9DAE-4CB3-97B0-77D0862D1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A1C-60F9-48D3-BD6D-F3BF93969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hard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C08-50B0-4E71-A0D4-3D2388D97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EA0A-F15E-489D-A076-BBF38C24B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 «П 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12C6-765D-4DBF-ADEE-944008483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0D51-8126-40FE-BA34-7D42AF662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7E5-F056-43B7-BF16-1D3F674A8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0E0-8CA1-4453-BA1A-9E0F09CFD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D48-E13C-4EB7-B8BF-2E9209217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5B2-F530-47D3-BAB2-721ECF2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AAD-BD95-4F01-8D1C-168F76B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8CC-F802-4109-942C-9AE21EDC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6D7-D855-4500-8AC7-AACA195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BDD-CFCA-475B-B23E-C9E1366C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D91-CA5C-415B-B2C3-08336F86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4FF-1426-4889-8165-D135570C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C37-5BDC-401A-88A3-671172F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DE8-6A96-453A-BD77-96B5D87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4AA-A489-425C-96A0-B6658528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C4C-0517-48F8-882F-DD86805E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623-F2E5-48AE-B9D7-42EAC5A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C1E-5535-4B2D-A421-C01FD3279A6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C07-E21F-4EEA-B8FF-4B1190701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Заголовок 1"/>
          <p:cNvGrpSpPr/>
          <p:nvPr/>
        </p:nvGrpSpPr>
        <p:grpSpPr>
          <a:xfrm>
            <a:off x="444600" y="109440"/>
            <a:ext cx="8339040" cy="1401840"/>
            <a:chOff x="444600" y="109440"/>
            <a:chExt cx="8339040" cy="1401840"/>
          </a:xfrm>
        </p:grpSpPr>
        <p:pic>
          <p:nvPicPr>
            <p:cNvPr id="1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109440"/>
              <a:ext cx="8339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33440" y="255600"/>
            <a:ext cx="8339040" cy="1347840"/>
            <a:chOff x="433440" y="255600"/>
            <a:chExt cx="8339040" cy="134784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344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Заголовок 1"/>
          <p:cNvGrpSpPr/>
          <p:nvPr/>
        </p:nvGrpSpPr>
        <p:grpSpPr>
          <a:xfrm>
            <a:off x="444600" y="255600"/>
            <a:ext cx="8339040" cy="1347840"/>
            <a:chOff x="444600" y="255600"/>
            <a:chExt cx="8339040" cy="134784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LEGION</cp:lastModifiedBy>
  <dcterms:modified xsi:type="dcterms:W3CDTF">2015-04-01T07:00:04Z</dcterms:modified>
  <cp:revision>58</cp:revision>
  <dc:subject/>
  <dc:title>Варианты легализации</dc:title>
</cp:coreProperties>
</file>