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7.png" ContentType="image/png"/>
  <Override PartName="/ppt/media/image1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E5C08-3424-4868-87C8-7F73F5B80E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зентация к уро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Возмож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перационной системы Linux в учебном процесс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ОУСОШ № 8 г. Старая Ру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уководитель: Трофимов П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bbe0e3"/>
                </a:solidFill>
                <a:latin typeface="Calibri"/>
              </a:rPr>
              <a:t>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5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C0E8-C032-4361-9083-D5710432B8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OpenOffice.org. Impress - простая в освоении программа, имеющая дружелюбный интерфейс, стандартные панели инструментов и меню и позволяет нам создавать эффектные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DC339-4A73-4605-BAF3-947470017A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OpenOffice.org Draw — векторный графический редактор, по функциональности сравнимый с CorelDRAW. Пакет включает полнофункциональные «коннекторы» между фигурами, которые могут использовать разнообразные стили линий и позволяют рисовать чертежи, например блок-сх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BE8D7-A39E-4BA4-BA6F-07534B4F31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http://habrahabr.ru/blogs/ubuntu/102685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E1D7-433B-40AB-A3AC-E6F7227407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Сколько стои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Windows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Widows 7 Pr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на 360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Office Standart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на 163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S Office Pro Plus 20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,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ccess, InfoPath, Share Point, Communicator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Calibri"/>
              </a:rPr>
              <a:t>цена 2170 руб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B01E7-E08B-407C-A0E8-A6461D3E11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колько стоит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inux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C0C2-58FA-4359-A94A-437F14DE4B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ux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ndow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т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финансовых в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 в возможност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дёж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 для вир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inu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ат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ёшев в эксплуатаци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аптиру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дёжн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ён от виру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Ubuntu - самый популярный дистрибутив (слоган "Linux для людей" соответствует этой системе на все 100%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же диски с Ubuntu можно заказать совершенно бесплат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Ubuntu быстра, надежна, стабильна, безопасна, в ней отсутствуют какие-бы то ни было вирусы (а значит и о необходимости в антивирусных программах можно также забыть!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 и, наконец, она красива, да и просто удобна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ы, переход на эту операционную систему для Windows-пользователя непрост, но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ГУ ОСИЛИТ ИДУЩИ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87D2-68B5-494B-88D7-012D2F51CD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и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ть возможности операционной системы Линукс в сравнении с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школьнику разобраться с интерфейсом операционной системы Linux и её программным обеспеч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A154-9B5E-41E9-A77C-EE933E6C64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Что такое П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orbel"/>
              </a:rPr>
              <a:t> (программное обеспечение)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лезо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hardwar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ы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фт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= softw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0726-A407-47FD-B54F-6446B9980B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витие 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ервая эта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с момента изобретения компьютеров до начала 80-х г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Второй эта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начало 1976 год и до позавч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Третий этап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ши д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BC045-AD8C-418D-B24A-05C7F7323C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 «П 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приета́рное программное обеспе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нгл. 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proprietary softwar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авторов или правообладател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обладатель проприетарного ПО сохраняет за собой монополию на его использование, копирование и модификац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0A965-6B03-48FC-86EF-73E6A43F93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вободное программное обеспе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 пользователя свободно запускать, копировать, распространять, изучать, изменять и улучшать его»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ременная версия определения свободы П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запускать программу в любых целях (свобода 0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изучения работы программы и адаптация её к вашим нуждам (свобода 1). Доступ к исходным текстам является необходимым усло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распространять копии, так что вы можете помочь вашему товарищу (свобода 2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а улучшать программу и публиковать ваши улучшения, так что всё общество выиграет от этого (свобода 3). Доступ к исходным текстам является необходимым услов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0346-D433-4FDE-BF70-7E1FAF4F39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Чт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ужно школьнику?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orbel"/>
              </a:rPr>
              <a:t>это операционные системы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1200" spc="-1" strike="noStrike">
                <a:solidFill>
                  <a:srgbClr val="ff0000"/>
                </a:solidFill>
                <a:latin typeface="Corbel"/>
              </a:rPr>
              <a:t>основное П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B6FE-A517-49AE-8C47-0382E70EF1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riter является свободным аналогом собственнического Microsoft Word. Writer также имеет некоторые возможности, отсутствующие в Word, поддержку стилей стран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E951-5BD5-455D-85E6-5D8877BCEB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OpenOffice.org Calc — табличный процессор. С его помощью можно анализировать вводимые данные, заниматься расчётами, прогнозировать, сводить данные с разных листов и таблиц, строить диаграммы и граф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6E73B-E47E-468A-ADCF-B870B8A47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585-B5A6-4232-ADF3-BAFEEB70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99D9-3CBA-4DE2-9400-3282EDA9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F127-11A8-4D73-8C48-6233A6490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5F42-4E9A-459E-912E-31A96EDC1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6E9C-38D6-4D1D-920F-F7EF64F2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2FE7-35E9-47DB-BFBD-F3037D2E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4A96-BF45-4CCC-884D-899090FF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203-8F30-411B-8550-A35E8885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F9F9-81FA-471F-B4E0-36DD497A9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A3E-5E42-47A4-99F4-F090CBD3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E358-1D01-4CED-B440-C0EE5D5C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954-19F1-430A-939E-3A273DA1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7de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E2E1-B2FA-4E0A-A0D0-1234B899710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5EEC-7981-4706-B78B-32E4619E19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3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24000" y="404640"/>
            <a:ext cx="8496000" cy="50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eece1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зентация к уро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Возмож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ерационной системы Linux в учебном процесс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ОУСОШ № 8 г. Старая Ру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: Трофимов П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Arial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Logotype2"/>
          <p:cNvPicPr/>
          <p:nvPr/>
        </p:nvPicPr>
        <p:blipFill>
          <a:blip r:embed="rId1"/>
          <a:stretch/>
        </p:blipFill>
        <p:spPr>
          <a:xfrm>
            <a:off x="971640" y="4076640"/>
            <a:ext cx="2232000" cy="14637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0879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5"/>
          <p:cNvSpPr/>
          <p:nvPr/>
        </p:nvSpPr>
        <p:spPr>
          <a:xfrm>
            <a:off x="0" y="60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. Impress - простая в освоении программа, имеющая дружелюбный интерфейс, стандартные панели инструментов и меню и позволяет нам создавать эффектные презент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6815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6"/>
          <p:cNvSpPr/>
          <p:nvPr/>
        </p:nvSpPr>
        <p:spPr>
          <a:xfrm>
            <a:off x="0" y="5661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 Draw — векторный графический редактор, по функциональности сравнимый с CorelDRAW. Пакет включает полнофункциональные «коннекторы» между фигурами, которые могут использовать разнообразные стили линий и позволяют рисовать чертежи, например блок-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72440" cy="669924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5"/>
          <p:cNvSpPr/>
          <p:nvPr/>
        </p:nvSpPr>
        <p:spPr>
          <a:xfrm>
            <a:off x="8604360" y="6308640"/>
            <a:ext cx="539640" cy="40500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8774" h="21600">
                <a:moveTo>
                  <a:pt x="0" y="0"/>
                </a:moveTo>
                <a:lnTo>
                  <a:pt x="28774" y="0"/>
                </a:lnTo>
                <a:lnTo>
                  <a:pt x="28774" y="21600"/>
                </a:lnTo>
                <a:lnTo>
                  <a:pt x="0" y="21600"/>
                </a:lnTo>
                <a:close/>
              </a:path>
              <a:path fill="lightenLess" w="28774" h="21600">
                <a:moveTo>
                  <a:pt x="0" y="0"/>
                </a:moveTo>
                <a:lnTo>
                  <a:pt x="28774" y="0"/>
                </a:lnTo>
                <a:lnTo>
                  <a:pt x="27374" y="1400"/>
                </a:lnTo>
                <a:lnTo>
                  <a:pt x="1400" y="1400"/>
                </a:lnTo>
                <a:close/>
              </a:path>
              <a:path fill="darken" w="28774" h="21600">
                <a:moveTo>
                  <a:pt x="28774" y="0"/>
                </a:moveTo>
                <a:lnTo>
                  <a:pt x="28774" y="21600"/>
                </a:lnTo>
                <a:lnTo>
                  <a:pt x="27374" y="20200"/>
                </a:lnTo>
                <a:lnTo>
                  <a:pt x="27374" y="1400"/>
                </a:lnTo>
                <a:close/>
              </a:path>
              <a:path fill="darkenLess" w="28774" h="21600">
                <a:moveTo>
                  <a:pt x="28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74" y="20200"/>
                </a:lnTo>
                <a:close/>
              </a:path>
              <a:path fill="lighten" w="28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74" h="21600">
                <a:moveTo>
                  <a:pt x="7381" y="7493"/>
                </a:moveTo>
                <a:lnTo>
                  <a:pt x="10888" y="7493"/>
                </a:lnTo>
                <a:lnTo>
                  <a:pt x="10888" y="12828"/>
                </a:lnTo>
                <a:cubicBezTo>
                  <a:pt x="10888" y="13751"/>
                  <a:pt x="11689" y="14482"/>
                  <a:pt x="12725" y="14482"/>
                </a:cubicBezTo>
                <a:lnTo>
                  <a:pt x="14387" y="14482"/>
                </a:lnTo>
                <a:cubicBezTo>
                  <a:pt x="15423" y="14482"/>
                  <a:pt x="16224" y="13751"/>
                  <a:pt x="16224" y="12828"/>
                </a:cubicBezTo>
                <a:lnTo>
                  <a:pt x="16224" y="7493"/>
                </a:lnTo>
                <a:lnTo>
                  <a:pt x="14387" y="7493"/>
                </a:lnTo>
                <a:lnTo>
                  <a:pt x="17895" y="3985"/>
                </a:lnTo>
                <a:lnTo>
                  <a:pt x="21568" y="7493"/>
                </a:lnTo>
                <a:lnTo>
                  <a:pt x="19731" y="7493"/>
                </a:lnTo>
                <a:lnTo>
                  <a:pt x="19731" y="12828"/>
                </a:lnTo>
                <a:cubicBezTo>
                  <a:pt x="19731" y="15596"/>
                  <a:pt x="17155" y="18155"/>
                  <a:pt x="14387" y="18155"/>
                </a:cubicBezTo>
                <a:lnTo>
                  <a:pt x="12725" y="18155"/>
                </a:lnTo>
                <a:cubicBezTo>
                  <a:pt x="9957" y="18155"/>
                  <a:pt x="7381" y="15596"/>
                  <a:pt x="738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6210000"/>
            <a:ext cx="7740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http://habrahabr.ru/blogs/ubuntu/102685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059520"/>
          </a:xfrm>
          <a:prstGeom prst="rect">
            <a:avLst/>
          </a:prstGeom>
          <a:ln w="0">
            <a:noFill/>
          </a:ln>
        </p:spPr>
      </p:pic>
      <p:sp>
        <p:nvSpPr>
          <p:cNvPr id="109" name="AutoShape 5"/>
          <p:cNvSpPr/>
          <p:nvPr/>
        </p:nvSpPr>
        <p:spPr>
          <a:xfrm>
            <a:off x="8496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7493"/>
                </a:moveTo>
                <a:lnTo>
                  <a:pt x="7771" y="7493"/>
                </a:lnTo>
                <a:lnTo>
                  <a:pt x="7771" y="12828"/>
                </a:lnTo>
                <a:cubicBezTo>
                  <a:pt x="7771" y="13751"/>
                  <a:pt x="8571" y="14482"/>
                  <a:pt x="9607" y="14482"/>
                </a:cubicBezTo>
                <a:lnTo>
                  <a:pt x="11270" y="14482"/>
                </a:lnTo>
                <a:cubicBezTo>
                  <a:pt x="12305" y="14482"/>
                  <a:pt x="13106" y="13751"/>
                  <a:pt x="13106" y="12828"/>
                </a:cubicBezTo>
                <a:lnTo>
                  <a:pt x="13106" y="7493"/>
                </a:lnTo>
                <a:lnTo>
                  <a:pt x="11270" y="7493"/>
                </a:lnTo>
                <a:lnTo>
                  <a:pt x="14777" y="3985"/>
                </a:lnTo>
                <a:lnTo>
                  <a:pt x="18450" y="7493"/>
                </a:lnTo>
                <a:lnTo>
                  <a:pt x="16614" y="7493"/>
                </a:lnTo>
                <a:lnTo>
                  <a:pt x="16614" y="12828"/>
                </a:lnTo>
                <a:cubicBezTo>
                  <a:pt x="16614" y="15596"/>
                  <a:pt x="14037" y="18155"/>
                  <a:pt x="11270" y="18155"/>
                </a:cubicBezTo>
                <a:lnTo>
                  <a:pt x="9607" y="18155"/>
                </a:lnTo>
                <a:cubicBezTo>
                  <a:pt x="6839" y="18155"/>
                  <a:pt x="4263" y="15596"/>
                  <a:pt x="4263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1"/>
          <p:cNvPicPr/>
          <p:nvPr/>
        </p:nvPicPr>
        <p:blipFill>
          <a:blip r:embed="rId1"/>
          <a:stretch/>
        </p:blipFill>
        <p:spPr>
          <a:xfrm>
            <a:off x="-42840" y="0"/>
            <a:ext cx="9229680" cy="67438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5"/>
          <p:cNvSpPr/>
          <p:nvPr/>
        </p:nvSpPr>
        <p:spPr>
          <a:xfrm>
            <a:off x="838836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Заголовок 1"/>
          <p:cNvGrpSpPr/>
          <p:nvPr/>
        </p:nvGrpSpPr>
        <p:grpSpPr>
          <a:xfrm>
            <a:off x="444600" y="109440"/>
            <a:ext cx="8339040" cy="1401840"/>
            <a:chOff x="444600" y="109440"/>
            <a:chExt cx="8339040" cy="1401840"/>
          </a:xfrm>
        </p:grpSpPr>
        <p:pic>
          <p:nvPicPr>
            <p:cNvPr id="11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109440"/>
              <a:ext cx="833904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500040" y="14292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Сколько стоит</a:t>
              </a: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Windows</a:t>
              </a:r>
              <a:r>
                <a:rPr b="1" lang="ru-RU" sz="4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 txBox="1"/>
          <p:nvPr/>
        </p:nvSpPr>
        <p:spPr>
          <a:xfrm>
            <a:off x="42876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Widows 7 Pr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360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Office Standart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163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Открытая лиценз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S Office Pro Plus 20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d, Excel, OneNote, Power Point, Publisher, Outlook, Web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, InfoPath, Share Point, Communic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цена 2170 руб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колько стоит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Linux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 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3635280" y="1413000"/>
            <a:ext cx="5205600" cy="5184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250920" y="2492280"/>
            <a:ext cx="373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есплатно!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ux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тив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003640" y="2060640"/>
            <a:ext cx="38894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сплат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ёшев в эксплуатаци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даптиру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дёж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щён от 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79280" y="1700280"/>
            <a:ext cx="4319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ind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лат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ебует финансовых в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граничен в возможност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надёж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язвим для виру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1"/>
          <a:stretch/>
        </p:blipFill>
        <p:spPr>
          <a:xfrm>
            <a:off x="7451640" y="333360"/>
            <a:ext cx="1406520" cy="165888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Ubuntu - самый популярный дистрибутив (слоган "Linux для людей" соответствует этой системе на все 100%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же диски с Ubuntu можно заказать совершенно бесплатно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Ubuntu быстра, надежна, стабильна, безопасна, в ней отсутствуют какие-бы то ни было вирусы (а значит и о необходимости в антивирусных программах можно также забыть!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 и, наконец, она красива, да и просто удобна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вы, переход на эту операционную систему для Windows-пользователя непрост, н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РОГУ ОСИЛИТ ИДУЩИ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ль и задач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следовать возможности операционной системы Линукс в сравнении 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школьнику разобраться с интерфейсом операционной системы Linux и её программным обеспечени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C:\Users\Alex\Downloads\winlinux.jpg"/>
          <p:cNvPicPr/>
          <p:nvPr/>
        </p:nvPicPr>
        <p:blipFill>
          <a:blip r:embed="rId1"/>
          <a:stretch/>
        </p:blipFill>
        <p:spPr>
          <a:xfrm>
            <a:off x="1692360" y="4149720"/>
            <a:ext cx="5438520" cy="2392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то такое ПО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(программное обеспечение)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39640" y="2209680"/>
            <a:ext cx="2584440" cy="28749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Это 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211640" y="2924280"/>
            <a:ext cx="452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хн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ез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hardwar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ф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C:\Program Files\Microsoft Office\CLIPART\PUB60COR\AG00154_.GIF"/>
          <p:cNvPicPr/>
          <p:nvPr/>
        </p:nvPicPr>
        <p:blipFill>
          <a:blip r:embed="rId1"/>
          <a:stretch/>
        </p:blipFill>
        <p:spPr>
          <a:xfrm>
            <a:off x="1066680" y="2286000"/>
            <a:ext cx="1562400" cy="1374840"/>
          </a:xfrm>
          <a:prstGeom prst="rect">
            <a:avLst/>
          </a:prstGeom>
          <a:ln w="0">
            <a:noFill/>
          </a:ln>
        </p:spPr>
      </p:pic>
      <p:sp>
        <p:nvSpPr>
          <p:cNvPr id="59" name="Right Arrow 9"/>
          <p:cNvSpPr/>
          <p:nvPr/>
        </p:nvSpPr>
        <p:spPr>
          <a:xfrm>
            <a:off x="3132000" y="3213000"/>
            <a:ext cx="970200" cy="74952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витие программного обеспеч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94920" y="2057400"/>
            <a:ext cx="7497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рвая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 момента изобретения компьютеров до начала 80-х год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торой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начало 1976 год и до позавче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ретий этап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наши дн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Заголовок 1"/>
          <p:cNvGrpSpPr/>
          <p:nvPr/>
        </p:nvGrpSpPr>
        <p:grpSpPr>
          <a:xfrm>
            <a:off x="433440" y="255600"/>
            <a:ext cx="8339040" cy="1347840"/>
            <a:chOff x="433440" y="255600"/>
            <a:chExt cx="8339040" cy="1347840"/>
          </a:xfrm>
        </p:grpSpPr>
        <p:pic>
          <p:nvPicPr>
            <p:cNvPr id="6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33440" y="255600"/>
              <a:ext cx="833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8564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Виды  «П О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 txBox="1"/>
          <p:nvPr/>
        </p:nvSpPr>
        <p:spPr>
          <a:xfrm>
            <a:off x="250920" y="1856880"/>
            <a:ext cx="85723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роприета́рное программное обеспе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(англ. </a:t>
            </a: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proprietary software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)  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астная собственность авторов или правообладателе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авообладатель проприетарного ПО сохраняет за собой монополию на его использование, копирование и модификацию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Свободное программное обеспечени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право пользователя свободно запускать, копировать, распространять, изучать, изменять и улучшать его»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временная версия определения свободы ПО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запускать программу в любых целях (свобода 0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изучения работы программы и адаптация её к вашим нуждам (свобода 1). Доступ к исходным текстам является необходимым усло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распространять копии, так что вы можете помочь вашему товарищу (свобода 2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бода улучшать программу и публиковать ваши улучшения, так что всё общество выиграет от этого (свобода 3). Доступ к исходным текстам является необходимым условие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Заголовок 1"/>
          <p:cNvGrpSpPr/>
          <p:nvPr/>
        </p:nvGrpSpPr>
        <p:grpSpPr>
          <a:xfrm>
            <a:off x="444600" y="255600"/>
            <a:ext cx="8339040" cy="1347840"/>
            <a:chOff x="444600" y="255600"/>
            <a:chExt cx="8339040" cy="1347840"/>
          </a:xfrm>
        </p:grpSpPr>
        <p:pic>
          <p:nvPicPr>
            <p:cNvPr id="7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44600" y="255600"/>
              <a:ext cx="83390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00040" y="28584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alibri"/>
                </a:rPr>
                <a:t>Виды  «П О»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4" name="Straight Arrow Connector 20"/>
          <p:cNvCxnSpPr/>
          <p:nvPr/>
        </p:nvCxnSpPr>
        <p:spPr>
          <a:xfrm flipH="1">
            <a:off x="4343040" y="2666880"/>
            <a:ext cx="381600" cy="1829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7316640" cy="11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Что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ужно школьнику?</a:t>
            </a: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 -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1500" spc="-1" strike="noStrike">
                <a:solidFill>
                  <a:srgbClr val="ff0000"/>
                </a:solidFill>
                <a:latin typeface="Corbel"/>
              </a:rPr>
              <a:t>это операционные системы</a:t>
            </a:r>
            <a:r>
              <a:rPr b="1" lang="en-US" sz="1500" spc="-1" strike="noStrike">
                <a:solidFill>
                  <a:srgbClr val="ff0000"/>
                </a:solidFill>
                <a:latin typeface="Calibri"/>
              </a:rPr>
              <a:t>, </a:t>
            </a:r>
            <a:r>
              <a:rPr b="1" lang="ru-RU" sz="1500" spc="-1" strike="noStrike">
                <a:solidFill>
                  <a:srgbClr val="ff0000"/>
                </a:solidFill>
                <a:latin typeface="Corbel"/>
              </a:rPr>
              <a:t>основное ПО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352680" y="5562720"/>
            <a:ext cx="190512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Компью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133720" y="4572000"/>
            <a:ext cx="388620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перационная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Straight Arrow Connector 6"/>
          <p:cNvCxnSpPr/>
          <p:nvPr/>
        </p:nvCxnSpPr>
        <p:spPr>
          <a:xfrm flipH="1">
            <a:off x="4188600" y="4954320"/>
            <a:ext cx="3960" cy="533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9" name="TextBox 8">
            <a:hlinkClick r:id="rId1" action="ppaction://hlinksldjump"/>
          </p:cNvPr>
          <p:cNvSpPr/>
          <p:nvPr/>
        </p:nvSpPr>
        <p:spPr>
          <a:xfrm>
            <a:off x="609480" y="2133720"/>
            <a:ext cx="1524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Текстовый ред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9">
            <a:hlinkClick r:id="rId2" action="ppaction://hlinksldjump"/>
          </p:cNvPr>
          <p:cNvSpPr/>
          <p:nvPr/>
        </p:nvSpPr>
        <p:spPr>
          <a:xfrm>
            <a:off x="2411280" y="2133720"/>
            <a:ext cx="16765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Электронные табл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>
            <a:hlinkClick r:id="rId3" action="ppaction://hlinksldjump"/>
          </p:cNvPr>
          <p:cNvSpPr/>
          <p:nvPr/>
        </p:nvSpPr>
        <p:spPr>
          <a:xfrm>
            <a:off x="6227640" y="2421000"/>
            <a:ext cx="152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Иг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>
            <a:hlinkClick r:id="rId4" action="ppaction://hlinksldjump"/>
          </p:cNvPr>
          <p:cNvSpPr/>
          <p:nvPr/>
        </p:nvSpPr>
        <p:spPr>
          <a:xfrm>
            <a:off x="4284720" y="2133720"/>
            <a:ext cx="1523880" cy="91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буч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3">
            <a:hlinkClick r:id="rId5" action="ppaction://hlinksldjump"/>
          </p:cNvPr>
          <p:cNvSpPr/>
          <p:nvPr/>
        </p:nvSpPr>
        <p:spPr>
          <a:xfrm>
            <a:off x="3124080" y="3200400"/>
            <a:ext cx="2514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... и многое 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Straight Arrow Connector 16"/>
          <p:cNvCxnSpPr/>
          <p:nvPr/>
        </p:nvCxnSpPr>
        <p:spPr>
          <a:xfrm>
            <a:off x="1828800" y="2819520"/>
            <a:ext cx="991440" cy="1753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5" name="Straight Arrow Connector 18"/>
          <p:cNvCxnSpPr/>
          <p:nvPr/>
        </p:nvCxnSpPr>
        <p:spPr>
          <a:xfrm>
            <a:off x="2513520" y="2895120"/>
            <a:ext cx="686520" cy="167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2"/>
          <p:cNvCxnSpPr/>
          <p:nvPr/>
        </p:nvCxnSpPr>
        <p:spPr>
          <a:xfrm flipH="1">
            <a:off x="5485680" y="2895120"/>
            <a:ext cx="1143720" cy="1677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Straight Arrow Connector 24"/>
          <p:cNvCxnSpPr/>
          <p:nvPr/>
        </p:nvCxnSpPr>
        <p:spPr>
          <a:xfrm flipH="1">
            <a:off x="3733200" y="3581280"/>
            <a:ext cx="76680" cy="991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Oval Callout 27"/>
          <p:cNvSpPr/>
          <p:nvPr/>
        </p:nvSpPr>
        <p:spPr>
          <a:xfrm>
            <a:off x="6948360" y="3141720"/>
            <a:ext cx="1727280" cy="1439640"/>
          </a:xfrm>
          <a:prstGeom prst="wedgeEllipseCallout">
            <a:avLst>
              <a:gd name="adj1" fmla="val -102481"/>
              <a:gd name="adj2" fmla="val 66208"/>
            </a:avLst>
          </a:prstGeom>
          <a:solidFill>
            <a:srgbClr val="ff0000"/>
          </a:solidFill>
          <a:ln w="25560">
            <a:solidFill>
              <a:srgbClr val="6bb1c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orbel"/>
              </a:rPr>
              <a:t>Без этого компьютер вообще не работает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7"/>
          <p:cNvSpPr/>
          <p:nvPr/>
        </p:nvSpPr>
        <p:spPr>
          <a:xfrm>
            <a:off x="0" y="60213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Writer является свободным аналогом собственнического Microsoft Word. Writer также имеет некоторые возможности, отсутствующие в Word, поддержку стилей стран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8">
            <a:hlinkClick r:id="rId2" action="ppaction://hlinksldjump"/>
          </p:cNvPr>
          <p:cNvSpPr/>
          <p:nvPr/>
        </p:nvSpPr>
        <p:spPr>
          <a:xfrm>
            <a:off x="8028000" y="5661000"/>
            <a:ext cx="1116000" cy="360360"/>
          </a:xfrm>
          <a:custGeom>
            <a:avLst/>
            <a:gdLst>
              <a:gd name="textAreaLeft" fmla="*/ 23040 w 1116000"/>
              <a:gd name="textAreaRight" fmla="*/ 1092960 w 111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66848" h="21600">
                <a:moveTo>
                  <a:pt x="0" y="0"/>
                </a:moveTo>
                <a:lnTo>
                  <a:pt x="66848" y="0"/>
                </a:lnTo>
                <a:lnTo>
                  <a:pt x="66848" y="21600"/>
                </a:lnTo>
                <a:lnTo>
                  <a:pt x="0" y="21600"/>
                </a:lnTo>
                <a:close/>
              </a:path>
              <a:path fill="lightenLess" w="66848" h="21600">
                <a:moveTo>
                  <a:pt x="0" y="0"/>
                </a:moveTo>
                <a:lnTo>
                  <a:pt x="66848" y="0"/>
                </a:lnTo>
                <a:lnTo>
                  <a:pt x="65448" y="1400"/>
                </a:lnTo>
                <a:lnTo>
                  <a:pt x="1400" y="1400"/>
                </a:lnTo>
                <a:close/>
              </a:path>
              <a:path fill="darken" w="66848" h="21600">
                <a:moveTo>
                  <a:pt x="66848" y="0"/>
                </a:moveTo>
                <a:lnTo>
                  <a:pt x="66848" y="21600"/>
                </a:lnTo>
                <a:lnTo>
                  <a:pt x="65448" y="20200"/>
                </a:lnTo>
                <a:lnTo>
                  <a:pt x="65448" y="1400"/>
                </a:lnTo>
                <a:close/>
              </a:path>
              <a:path fill="darkenLess" w="66848" h="21600">
                <a:moveTo>
                  <a:pt x="6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5448" y="20200"/>
                </a:lnTo>
                <a:close/>
              </a:path>
              <a:path fill="lighten" w="6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6848" h="21600">
                <a:moveTo>
                  <a:pt x="26417" y="7493"/>
                </a:moveTo>
                <a:lnTo>
                  <a:pt x="29925" y="7493"/>
                </a:lnTo>
                <a:lnTo>
                  <a:pt x="29925" y="12828"/>
                </a:lnTo>
                <a:cubicBezTo>
                  <a:pt x="29925" y="13751"/>
                  <a:pt x="30726" y="14482"/>
                  <a:pt x="31762" y="14482"/>
                </a:cubicBezTo>
                <a:lnTo>
                  <a:pt x="33424" y="14482"/>
                </a:lnTo>
                <a:cubicBezTo>
                  <a:pt x="34460" y="14482"/>
                  <a:pt x="35260" y="13751"/>
                  <a:pt x="35260" y="12828"/>
                </a:cubicBezTo>
                <a:lnTo>
                  <a:pt x="35260" y="7493"/>
                </a:lnTo>
                <a:lnTo>
                  <a:pt x="33424" y="7493"/>
                </a:lnTo>
                <a:lnTo>
                  <a:pt x="36932" y="3985"/>
                </a:lnTo>
                <a:lnTo>
                  <a:pt x="40605" y="7493"/>
                </a:lnTo>
                <a:lnTo>
                  <a:pt x="38768" y="7493"/>
                </a:lnTo>
                <a:lnTo>
                  <a:pt x="38768" y="12828"/>
                </a:lnTo>
                <a:cubicBezTo>
                  <a:pt x="38768" y="15596"/>
                  <a:pt x="36192" y="18155"/>
                  <a:pt x="33424" y="18155"/>
                </a:cubicBezTo>
                <a:lnTo>
                  <a:pt x="31762" y="18155"/>
                </a:lnTo>
                <a:cubicBezTo>
                  <a:pt x="28994" y="18155"/>
                  <a:pt x="26417" y="15596"/>
                  <a:pt x="26417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87480" y="5969160"/>
            <a:ext cx="905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OpenOffice.org Calc — табличный процессор. С его помощью можно анализировать вводимые данные, заниматься расчётами, прогнозировать, сводить данные с разных листов и таблиц, строить диаграммы и граф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244000" y="6021360"/>
            <a:ext cx="900000" cy="360360"/>
          </a:xfrm>
          <a:custGeom>
            <a:avLst/>
            <a:gdLst>
              <a:gd name="textAreaLeft" fmla="*/ 23040 w 900000"/>
              <a:gd name="textAreaRight" fmla="*/ 876960 w 900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53914" h="21600">
                <a:moveTo>
                  <a:pt x="0" y="0"/>
                </a:moveTo>
                <a:lnTo>
                  <a:pt x="53914" y="0"/>
                </a:lnTo>
                <a:lnTo>
                  <a:pt x="53914" y="21600"/>
                </a:lnTo>
                <a:lnTo>
                  <a:pt x="0" y="21600"/>
                </a:lnTo>
                <a:close/>
              </a:path>
              <a:path fill="lightenLess" w="53914" h="21600">
                <a:moveTo>
                  <a:pt x="0" y="0"/>
                </a:moveTo>
                <a:lnTo>
                  <a:pt x="53914" y="0"/>
                </a:lnTo>
                <a:lnTo>
                  <a:pt x="52514" y="1400"/>
                </a:lnTo>
                <a:lnTo>
                  <a:pt x="1400" y="1400"/>
                </a:lnTo>
                <a:close/>
              </a:path>
              <a:path fill="darken" w="53914" h="21600">
                <a:moveTo>
                  <a:pt x="53914" y="0"/>
                </a:moveTo>
                <a:lnTo>
                  <a:pt x="53914" y="21600"/>
                </a:lnTo>
                <a:lnTo>
                  <a:pt x="52514" y="20200"/>
                </a:lnTo>
                <a:lnTo>
                  <a:pt x="52514" y="1400"/>
                </a:lnTo>
                <a:close/>
              </a:path>
              <a:path fill="darkenLess" w="53914" h="21600">
                <a:moveTo>
                  <a:pt x="53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14" y="20200"/>
                </a:lnTo>
                <a:close/>
              </a:path>
              <a:path fill="lighten" w="53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14" h="21600">
                <a:moveTo>
                  <a:pt x="19950" y="7493"/>
                </a:moveTo>
                <a:lnTo>
                  <a:pt x="23458" y="7493"/>
                </a:lnTo>
                <a:lnTo>
                  <a:pt x="23458" y="12828"/>
                </a:lnTo>
                <a:cubicBezTo>
                  <a:pt x="23458" y="13751"/>
                  <a:pt x="24259" y="14482"/>
                  <a:pt x="25294" y="14482"/>
                </a:cubicBezTo>
                <a:lnTo>
                  <a:pt x="26957" y="14482"/>
                </a:lnTo>
                <a:cubicBezTo>
                  <a:pt x="27993" y="14482"/>
                  <a:pt x="28793" y="13751"/>
                  <a:pt x="28793" y="12828"/>
                </a:cubicBezTo>
                <a:lnTo>
                  <a:pt x="28793" y="7493"/>
                </a:lnTo>
                <a:lnTo>
                  <a:pt x="26957" y="7493"/>
                </a:lnTo>
                <a:lnTo>
                  <a:pt x="30464" y="3985"/>
                </a:lnTo>
                <a:lnTo>
                  <a:pt x="34137" y="7493"/>
                </a:lnTo>
                <a:lnTo>
                  <a:pt x="32301" y="7493"/>
                </a:lnTo>
                <a:lnTo>
                  <a:pt x="32301" y="12828"/>
                </a:lnTo>
                <a:cubicBezTo>
                  <a:pt x="32301" y="15596"/>
                  <a:pt x="29725" y="18155"/>
                  <a:pt x="26957" y="18155"/>
                </a:cubicBezTo>
                <a:lnTo>
                  <a:pt x="25294" y="18155"/>
                </a:lnTo>
                <a:cubicBezTo>
                  <a:pt x="22527" y="18155"/>
                  <a:pt x="19950" y="15596"/>
                  <a:pt x="19950" y="12828"/>
                </a:cubicBez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7T15:41:59Z</dcterms:created>
  <dc:creator>Alex</dc:creator>
  <dc:description/>
  <dc:language>en-US</dc:language>
  <cp:lastModifiedBy>LEGION</cp:lastModifiedBy>
  <dcterms:modified xsi:type="dcterms:W3CDTF">2015-04-01T07:00:04Z</dcterms:modified>
  <cp:revision>58</cp:revision>
  <dc:subject/>
  <dc:title>Варианты легализации</dc:title>
</cp:coreProperties>
</file>