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A8F1-0644-4489-B5A5-813C7F265B1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943A-FFAE-494E-86ED-A6C246550E8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ный файл удобен при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хранении, копировании и перемещ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йлов. Однако в сжатом виде информация представлена так, что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текст не прочитать, рисунок не просмотреть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этому для работы с информацией требуется ее обратное преобразование – </a:t>
            </a: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РАЗАРХИВ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C8D4-F57D-4F00-8BE9-9C9CDCACBBB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архивация (распаковк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становление файлов    из архивного файла в том виде, какой они име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омещения в арх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CBF-3F41-4400-A5DD-9E34877B9E5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я –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паковка файлов с целью уменьшения объема данных, предназначенных для хранения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494C-B1E9-400E-B8CF-6CF9FBE91DC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данных существуют специальные служебн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ограммы-архиваторы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оторые вместо нескольких файлов создают один 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E12-38EC-40D2-AC20-9918C696095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иболее популярным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рограммами-архиваторам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B7EB-2C72-482E-9D04-E7FDF0586A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66ff"/>
                </a:solidFill>
                <a:latin typeface="Calibri"/>
              </a:rPr>
              <a:t>В результате сжатия информация представляется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в нов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941A-A8CE-4308-9E83-CD75EA72B89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ТЕКСТОВЫЙ ФАЙ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, он, она – вместе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</a:t>
            </a:r>
            <a:r>
              <a:rPr b="1" lang="ru-RU" sz="12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она-вмесдруж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08D-7F02-46EE-97D4-9B7AFF94B80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ff"/>
                </a:solidFill>
                <a:latin typeface="Calibri"/>
              </a:rPr>
              <a:t>ГРАФИЧЕСКИЙ  ФАЙ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D5B1-449A-420B-A558-30B923D6B27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ФО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Calibri"/>
              </a:rPr>
              <a:t>Сжимаю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очень незнач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.к. областей, состо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из точек одного и того же цв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чень м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FAC4-DA4D-491D-9FC2-C2BF5A8800F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величив изображение в сотни раз, можно увидеть, </a:t>
            </a: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располагающиеся рядом пиксели хоть незначительно, но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30CA-ABD3-4725-A32E-4F74252DA0F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71F-A692-41EB-95B8-A105F1B7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513-E49C-4DEC-80EA-7729AFD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461-B60F-493A-B6D0-FBD4FEDC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CDC-39EA-4E7C-86E6-12341758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2828-4D05-4320-A50E-0C86FA23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6A74-9E44-42A9-8FF4-DAF33B2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5CD1-D048-437B-BD1C-80DC1041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CD4-BF89-463E-8D7D-C5C19B86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5A3-97CD-455F-B74B-0FFF78E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BB8C-3073-455A-800C-8C68824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F62-3A5A-4798-A685-BACA646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44D-0C19-413A-8C0E-60700141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B082-6005-47F1-9852-D6A2C4B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1982-64E8-4EF3-9BE8-2926D30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DBA2-13F8-402D-AC9A-5A88B7ED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19DF-B496-4BE8-A55E-C0DCE8D2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200-C33C-46FF-85AC-61C78F1E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80B-DCBA-4890-B5FD-D16083A1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192-73AF-4FA3-A77F-11EC09C2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D61-263C-47B7-8867-2C9EBA11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FD9-78F7-4FF5-A2F3-575E9A0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2C2-9514-4ABE-9C58-FF96F7B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FC1-734C-4C43-82AB-648982AA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87F-C78F-4010-AE8C-4091197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A24B-CD09-4CCC-8ABB-673F2DC513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885-4FBA-447D-B1BD-B6A7011812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1619280" y="220500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В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хивный файл удобен при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хранении, копировании и перемещ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файлов. Однако в сжатом виде информация представлена так, что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текст не прочитать, рисунок не просмотреть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этому для работы с информацией требуется ее обратное преобразование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АЗАРХ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архивация (распаковка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становление файлов    из архивного файла в том виде, какой они име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помещения в архи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1"/>
          <a:stretch/>
        </p:blipFill>
        <p:spPr>
          <a:xfrm>
            <a:off x="442764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2"/>
          <a:stretch/>
        </p:blipFill>
        <p:spPr>
          <a:xfrm>
            <a:off x="5580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3"/>
          <a:stretch/>
        </p:blipFill>
        <p:spPr>
          <a:xfrm>
            <a:off x="593892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4"/>
          <a:stretch/>
        </p:blipFill>
        <p:spPr>
          <a:xfrm>
            <a:off x="752328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5"/>
          <a:stretch/>
        </p:blipFill>
        <p:spPr>
          <a:xfrm>
            <a:off x="449892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7"/>
          <a:stretch/>
        </p:blipFill>
        <p:spPr>
          <a:xfrm>
            <a:off x="752328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8"/>
          <a:stretch/>
        </p:blipFill>
        <p:spPr>
          <a:xfrm>
            <a:off x="449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9"/>
          <a:stretch/>
        </p:blipFill>
        <p:spPr>
          <a:xfrm>
            <a:off x="593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10"/>
          <a:stretch/>
        </p:blipFill>
        <p:spPr>
          <a:xfrm>
            <a:off x="752328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"/>
          <p:cNvPicPr/>
          <p:nvPr/>
        </p:nvPicPr>
        <p:blipFill>
          <a:blip r:embed="rId11"/>
          <a:stretch/>
        </p:blipFill>
        <p:spPr>
          <a:xfrm>
            <a:off x="7236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12"/>
          <a:stretch/>
        </p:blipFill>
        <p:spPr>
          <a:xfrm>
            <a:off x="716436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"/>
          <p:cNvPicPr/>
          <p:nvPr/>
        </p:nvPicPr>
        <p:blipFill>
          <a:blip r:embed="rId13"/>
          <a:stretch/>
        </p:blipFill>
        <p:spPr>
          <a:xfrm>
            <a:off x="565164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"/>
          <p:cNvPicPr/>
          <p:nvPr/>
        </p:nvPicPr>
        <p:blipFill>
          <a:blip r:embed="rId14"/>
          <a:stretch/>
        </p:blipFill>
        <p:spPr>
          <a:xfrm>
            <a:off x="565164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15"/>
          <a:stretch/>
        </p:blipFill>
        <p:spPr>
          <a:xfrm>
            <a:off x="716436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5" descr=""/>
          <p:cNvPicPr/>
          <p:nvPr/>
        </p:nvPicPr>
        <p:blipFill>
          <a:blip r:embed="rId16"/>
          <a:stretch/>
        </p:blipFill>
        <p:spPr>
          <a:xfrm>
            <a:off x="971640" y="3213000"/>
            <a:ext cx="1800000" cy="1630440"/>
          </a:xfrm>
          <a:prstGeom prst="rect">
            <a:avLst/>
          </a:prstGeom>
          <a:ln w="0">
            <a:noFill/>
          </a:ln>
        </p:spPr>
      </p:pic>
      <p:sp>
        <p:nvSpPr>
          <p:cNvPr id="202" name="Line 37"/>
          <p:cNvSpPr/>
          <p:nvPr/>
        </p:nvSpPr>
        <p:spPr>
          <a:xfrm flipV="1">
            <a:off x="2843280" y="2637000"/>
            <a:ext cx="1512720" cy="129528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2843280" y="4005360"/>
            <a:ext cx="1584360" cy="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39"/>
          <p:cNvSpPr/>
          <p:nvPr/>
        </p:nvSpPr>
        <p:spPr>
          <a:xfrm>
            <a:off x="2843280" y="4076640"/>
            <a:ext cx="1584360" cy="122400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436640"/>
            <a:ext cx="80010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Архивация – </a:t>
            </a: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упаковка файлов с целью уменьшения объема данных, предназначенных для хранения. </a:t>
            </a: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ации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данных существуют специальные служебные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граммы-архиваторы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которые вместо нескольких файлов создают один -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133720"/>
          <a:ext cx="11239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5"/>
          <p:cNvGraphicFramePr/>
          <p:nvPr/>
        </p:nvGraphicFramePr>
        <p:xfrm>
          <a:off x="1692360" y="2637000"/>
          <a:ext cx="3142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050920" y="2133720"/>
          <a:ext cx="112392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635280" y="2133720"/>
          <a:ext cx="1123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611280" y="3500280"/>
          <a:ext cx="112392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124000" y="3500280"/>
          <a:ext cx="1123920" cy="119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635280" y="3500280"/>
          <a:ext cx="1123920" cy="119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611280" y="4869000"/>
          <a:ext cx="1123920" cy="11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2050920" y="4869000"/>
          <a:ext cx="1123920" cy="11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092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3635280" y="4869000"/>
          <a:ext cx="1123920" cy="11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4"/>
          <p:cNvSpPr/>
          <p:nvPr/>
        </p:nvSpPr>
        <p:spPr>
          <a:xfrm>
            <a:off x="4859280" y="2060640"/>
            <a:ext cx="576360" cy="4105080"/>
          </a:xfrm>
          <a:custGeom>
            <a:avLst/>
            <a:gdLst>
              <a:gd name="textAreaLeft" fmla="*/ 0 w 576360"/>
              <a:gd name="textAreaRight" fmla="*/ 208080 w 57636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3348000" y="2637000"/>
          <a:ext cx="31428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3276720" y="4005360"/>
          <a:ext cx="314280" cy="29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9"/>
          <p:cNvGraphicFramePr/>
          <p:nvPr/>
        </p:nvGraphicFramePr>
        <p:xfrm>
          <a:off x="1763640" y="4005360"/>
          <a:ext cx="314280" cy="295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0"/>
          <p:cNvGraphicFramePr/>
          <p:nvPr/>
        </p:nvGraphicFramePr>
        <p:xfrm>
          <a:off x="1763640" y="5445000"/>
          <a:ext cx="314280" cy="29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6364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1"/>
          <p:cNvGraphicFramePr/>
          <p:nvPr/>
        </p:nvGraphicFramePr>
        <p:xfrm>
          <a:off x="3276720" y="5445000"/>
          <a:ext cx="314280" cy="295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7672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4"/>
          <p:cNvGraphicFramePr/>
          <p:nvPr/>
        </p:nvGraphicFramePr>
        <p:xfrm>
          <a:off x="6443640" y="3284640"/>
          <a:ext cx="1558800" cy="14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3640" y="3284640"/>
                    <a:ext cx="15588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76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76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иболее популярным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рограммами-архиваторами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987640" y="3141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Arial"/>
              </a:rPr>
              <a:t>Win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27640" y="48690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"/>
              </a:rPr>
              <a:t>Win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659640" y="1989000"/>
            <a:ext cx="1511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18900000"/>
                </a:gradFill>
                <a:latin typeface="Arial"/>
              </a:rPr>
              <a:t>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00000" y="486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ARJ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900000" y="1989000"/>
            <a:ext cx="129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9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ff"/>
                </a:solidFill>
                <a:latin typeface="Verdana"/>
              </a:rPr>
              <a:t>В результате сжатия информация представляется</a:t>
            </a: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в новом вид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ТЕКСТОВЫЙ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, он, она – вместе дружная семья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Посл</a:t>
            </a:r>
            <a:r>
              <a:rPr b="1" lang="ru-RU" sz="3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она-вмесдруж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635280" y="292428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38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708360" y="515772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Verdana"/>
              </a:rPr>
              <a:t>1</a:t>
            </a: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9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4" name="Прямая со стрелкой 8"/>
          <p:cNvCxnSpPr/>
          <p:nvPr/>
        </p:nvCxnSpPr>
        <p:spPr>
          <a:xfrm flipH="1">
            <a:off x="1283400" y="2714400"/>
            <a:ext cx="2520" cy="1788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1356840" y="2713680"/>
            <a:ext cx="607464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1356480" y="3214440"/>
            <a:ext cx="78660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H="1">
            <a:off x="1356840" y="2712960"/>
            <a:ext cx="6076080" cy="178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Овал 15"/>
          <p:cNvSpPr/>
          <p:nvPr/>
        </p:nvSpPr>
        <p:spPr>
          <a:xfrm>
            <a:off x="1071720" y="235728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Овал 16"/>
          <p:cNvSpPr/>
          <p:nvPr/>
        </p:nvSpPr>
        <p:spPr>
          <a:xfrm>
            <a:off x="7286760" y="242892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000160" y="2857680"/>
            <a:ext cx="28584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1071720" y="4500720"/>
            <a:ext cx="35712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Ромб 22"/>
          <p:cNvSpPr/>
          <p:nvPr/>
        </p:nvSpPr>
        <p:spPr>
          <a:xfrm>
            <a:off x="3357720" y="2286000"/>
            <a:ext cx="28548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Ромб 23"/>
          <p:cNvSpPr/>
          <p:nvPr/>
        </p:nvSpPr>
        <p:spPr>
          <a:xfrm>
            <a:off x="264312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Ромб 24"/>
          <p:cNvSpPr/>
          <p:nvPr/>
        </p:nvSpPr>
        <p:spPr>
          <a:xfrm>
            <a:off x="685800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Ромб 25"/>
          <p:cNvSpPr/>
          <p:nvPr/>
        </p:nvSpPr>
        <p:spPr>
          <a:xfrm>
            <a:off x="2357280" y="43578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Прямая со стрелкой 27"/>
          <p:cNvCxnSpPr/>
          <p:nvPr/>
        </p:nvCxnSpPr>
        <p:spPr>
          <a:xfrm flipH="1">
            <a:off x="2499840" y="3000240"/>
            <a:ext cx="286560" cy="128664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7" name="Прямая со стрелкой 28"/>
          <p:cNvCxnSpPr/>
          <p:nvPr/>
        </p:nvCxnSpPr>
        <p:spPr>
          <a:xfrm flipH="1">
            <a:off x="2571120" y="2928600"/>
            <a:ext cx="857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/>
          <p:nvPr/>
        </p:nvCxnSpPr>
        <p:spPr>
          <a:xfrm flipH="1">
            <a:off x="2642760" y="2927880"/>
            <a:ext cx="4286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ГРАФИЧЕСКИЙ 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Посл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11280" y="2276640"/>
          <a:ext cx="3313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313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6877080" y="3500280"/>
          <a:ext cx="100008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500280"/>
                    <a:ext cx="10000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8"/>
          <p:cNvSpPr/>
          <p:nvPr/>
        </p:nvSpPr>
        <p:spPr>
          <a:xfrm>
            <a:off x="2411280" y="2924280"/>
            <a:ext cx="460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1835280" y="3068640"/>
            <a:ext cx="540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2627280" y="4221000"/>
            <a:ext cx="482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2340000" y="4437000"/>
            <a:ext cx="489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2"/>
          <p:cNvSpPr/>
          <p:nvPr/>
        </p:nvSpPr>
        <p:spPr>
          <a:xfrm flipV="1">
            <a:off x="2771640" y="4436640"/>
            <a:ext cx="468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419640" y="4652640"/>
            <a:ext cx="381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Сжим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чень незначитель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Т.к. областей, состоя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точек одного и того же цве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чень ма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Яна"/>
          <p:cNvPicPr/>
          <p:nvPr/>
        </p:nvPicPr>
        <p:blipFill>
          <a:blip r:embed="rId1"/>
          <a:stretch/>
        </p:blipFill>
        <p:spPr>
          <a:xfrm>
            <a:off x="1030320" y="2708280"/>
            <a:ext cx="2693880" cy="3384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величив изображение в сотни раз, можно увидеть,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что располагающиеся рядом пиксели хоть незначительно, но отличаются друг от д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1039680" y="1752480"/>
          <a:ext cx="70549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752480"/>
                    <a:ext cx="7054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3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7:49Z</dcterms:created>
  <dc:creator>Васильева</dc:creator>
  <dc:description/>
  <dc:language>en-US</dc:language>
  <cp:lastModifiedBy>LEGION</cp:lastModifiedBy>
  <dcterms:modified xsi:type="dcterms:W3CDTF">2015-04-01T07:00:3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