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4FAB-F4D5-4711-91B8-F8AD88FC27B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C5C5-DB6D-4665-A370-DB66CE9CC62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ный файл удобен при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хранении, копировании и перемещ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йлов. Однако в сжатом виде информация представлена так, что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текст не прочитать, рисунок не просмотреть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этому для работы с информацией требуется ее обратное преобразование – </a:t>
            </a: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РАЗАРХИВ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B14F-8499-4623-911C-FCF604E6C04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архивация (распаковк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становление файлов    из архивного файла в том виде, какой они име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омещения в арх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B376-76EA-445A-BD29-0BC150456EC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я –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паковка файлов с целью уменьшения объема данных, предназначенных для хранения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385D-A661-423B-978B-D98C7CD7378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данных существуют специальные служебн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ограммы-архиваторы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оторые вместо нескольких файлов создают один 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5BD-4928-44D7-81F3-51EE1E1C3C1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иболее популярными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рограммами-архиваторам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E864-1B5F-47B0-9A94-0D6101D7F26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66ff"/>
                </a:solidFill>
                <a:latin typeface="Calibri"/>
              </a:rPr>
              <a:t>В результате сжатия информация представляется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в нов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5018-8704-46B3-9C76-BE44A29BF06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ТЕКСТОВЫЙ ФАЙ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, он, она – вместе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</a:t>
            </a:r>
            <a:r>
              <a:rPr b="1" lang="ru-RU" sz="1200" spc="-1" strike="noStrike">
                <a:solidFill>
                  <a:srgbClr val="ff00ff"/>
                </a:solidFill>
                <a:latin typeface="Calibri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она-вмесдруж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9268-1204-47F6-95A0-80E44E7F23C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ff"/>
                </a:solidFill>
                <a:latin typeface="Calibri"/>
              </a:rPr>
              <a:t>ГРАФИЧЕСКИЙ  ФАЙ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68A6-2485-44C3-9C4E-27E91DA1CD8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ФО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Calibri"/>
              </a:rPr>
              <a:t>Сжимаю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очень незнач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Т.к. областей, состо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из точек одного и того же цв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чень ма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D468-C978-4D90-81A3-FB12756DD8C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величив изображение в сотни раз, можно увидеть, </a:t>
            </a: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располагающиеся рядом пиксели хоть незначительно, но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8F1A-8630-431F-A960-B7053C4B5EC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CC8-77E5-4A3F-A88D-EB48A4CB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B7E-3D95-4C88-8D13-4685CCDD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BB2-A95E-45C9-A54B-236F912E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783-13EE-4557-81B4-7EBB55A2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DE79-1135-4834-BC96-2EAB6ADA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2D85-F95B-4E1E-8CA9-7ADBFB00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B729-A20E-4ADF-A023-31B9E008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0D6D-D906-4B73-9988-7672C136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BCAF-00B0-4E94-AF3D-1BD297EE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BCEC-AEA9-41FF-BEA8-5D712ED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9E99-C21C-4D65-8A1A-356DB03F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5A7-E047-491A-8EF0-DB5B963E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3857-A1C9-452D-9D10-C2F1F64A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17C0-4E45-4BEF-B479-8E25A84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A925-FAD8-4ED9-AE55-C4506098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9A2D-90D9-44B0-9F08-998A4EF8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E597-64F8-4AA8-A0B2-E21A500F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361-299B-4299-8F5D-7EF1688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F78-48E6-4F8D-8D32-D80272E2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1CB-F36B-40D8-8ECE-94FEB01D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8AE-295F-40DF-ABFC-B9409BC4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2F2-626B-4EDD-97FC-7EADA03C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1B4-0030-44F2-B01B-6192A5A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A2A-9342-417F-B356-9133E7DF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1006-DCB1-42B9-84EB-C451A2DC5A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664D-2170-4E17-923F-EEAA2EDC70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7"/>
          <p:cNvSpPr txBox="1"/>
          <p:nvPr/>
        </p:nvSpPr>
        <p:spPr>
          <a:xfrm>
            <a:off x="1619280" y="220500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ХИВ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Н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хивный файл удобен при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хранении, копировании и перемещен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файлов. Однако в сжатом виде информация представлена так, что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текст не прочитать, рисунок не просмотреть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этому для работы с информацией требуется ее обратное преобразование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РАЗАРХИВ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азархивация (распаковка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становление файлов    из архивного файла в том виде, какой они име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 помещения в архи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1"/>
          <a:stretch/>
        </p:blipFill>
        <p:spPr>
          <a:xfrm>
            <a:off x="442764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2"/>
          <a:stretch/>
        </p:blipFill>
        <p:spPr>
          <a:xfrm>
            <a:off x="5580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3"/>
          <a:stretch/>
        </p:blipFill>
        <p:spPr>
          <a:xfrm>
            <a:off x="593892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"/>
          <p:cNvPicPr/>
          <p:nvPr/>
        </p:nvPicPr>
        <p:blipFill>
          <a:blip r:embed="rId4"/>
          <a:stretch/>
        </p:blipFill>
        <p:spPr>
          <a:xfrm>
            <a:off x="752328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5"/>
          <a:stretch/>
        </p:blipFill>
        <p:spPr>
          <a:xfrm>
            <a:off x="449892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6"/>
          <a:stretch/>
        </p:blipFill>
        <p:spPr>
          <a:xfrm>
            <a:off x="601200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"/>
          <p:cNvPicPr/>
          <p:nvPr/>
        </p:nvPicPr>
        <p:blipFill>
          <a:blip r:embed="rId7"/>
          <a:stretch/>
        </p:blipFill>
        <p:spPr>
          <a:xfrm>
            <a:off x="752328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"/>
          <p:cNvPicPr/>
          <p:nvPr/>
        </p:nvPicPr>
        <p:blipFill>
          <a:blip r:embed="rId8"/>
          <a:stretch/>
        </p:blipFill>
        <p:spPr>
          <a:xfrm>
            <a:off x="449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"/>
          <p:cNvPicPr/>
          <p:nvPr/>
        </p:nvPicPr>
        <p:blipFill>
          <a:blip r:embed="rId9"/>
          <a:stretch/>
        </p:blipFill>
        <p:spPr>
          <a:xfrm>
            <a:off x="593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"/>
          <p:cNvPicPr/>
          <p:nvPr/>
        </p:nvPicPr>
        <p:blipFill>
          <a:blip r:embed="rId10"/>
          <a:stretch/>
        </p:blipFill>
        <p:spPr>
          <a:xfrm>
            <a:off x="752328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"/>
          <p:cNvPicPr/>
          <p:nvPr/>
        </p:nvPicPr>
        <p:blipFill>
          <a:blip r:embed="rId11"/>
          <a:stretch/>
        </p:blipFill>
        <p:spPr>
          <a:xfrm>
            <a:off x="7236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"/>
          <p:cNvPicPr/>
          <p:nvPr/>
        </p:nvPicPr>
        <p:blipFill>
          <a:blip r:embed="rId12"/>
          <a:stretch/>
        </p:blipFill>
        <p:spPr>
          <a:xfrm>
            <a:off x="716436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"/>
          <p:cNvPicPr/>
          <p:nvPr/>
        </p:nvPicPr>
        <p:blipFill>
          <a:blip r:embed="rId13"/>
          <a:stretch/>
        </p:blipFill>
        <p:spPr>
          <a:xfrm>
            <a:off x="565164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"/>
          <p:cNvPicPr/>
          <p:nvPr/>
        </p:nvPicPr>
        <p:blipFill>
          <a:blip r:embed="rId14"/>
          <a:stretch/>
        </p:blipFill>
        <p:spPr>
          <a:xfrm>
            <a:off x="565164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15"/>
          <a:stretch/>
        </p:blipFill>
        <p:spPr>
          <a:xfrm>
            <a:off x="716436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5" descr=""/>
          <p:cNvPicPr/>
          <p:nvPr/>
        </p:nvPicPr>
        <p:blipFill>
          <a:blip r:embed="rId16"/>
          <a:stretch/>
        </p:blipFill>
        <p:spPr>
          <a:xfrm>
            <a:off x="971640" y="3213000"/>
            <a:ext cx="1800000" cy="1630440"/>
          </a:xfrm>
          <a:prstGeom prst="rect">
            <a:avLst/>
          </a:prstGeom>
          <a:ln w="0">
            <a:noFill/>
          </a:ln>
        </p:spPr>
      </p:pic>
      <p:sp>
        <p:nvSpPr>
          <p:cNvPr id="202" name="Line 37"/>
          <p:cNvSpPr/>
          <p:nvPr/>
        </p:nvSpPr>
        <p:spPr>
          <a:xfrm flipV="1">
            <a:off x="2843280" y="2637000"/>
            <a:ext cx="1512720" cy="129528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8"/>
          <p:cNvSpPr/>
          <p:nvPr/>
        </p:nvSpPr>
        <p:spPr>
          <a:xfrm>
            <a:off x="2843280" y="4005360"/>
            <a:ext cx="1584360" cy="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39"/>
          <p:cNvSpPr/>
          <p:nvPr/>
        </p:nvSpPr>
        <p:spPr>
          <a:xfrm>
            <a:off x="2843280" y="4076640"/>
            <a:ext cx="1584360" cy="122400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6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31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61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PA1822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4436640"/>
            <a:ext cx="80010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Архивация – </a:t>
            </a: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упаковка файлов с целью уменьшения объема данных, предназначенных для хранения. </a:t>
            </a: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Для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ации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данных существуют специальные служебные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рограммы-архиваторы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которые вместо нескольких файлов создают один -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539640" y="2133720"/>
          <a:ext cx="112392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5"/>
          <p:cNvGraphicFramePr/>
          <p:nvPr/>
        </p:nvGraphicFramePr>
        <p:xfrm>
          <a:off x="1692360" y="2637000"/>
          <a:ext cx="31428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2050920" y="2133720"/>
          <a:ext cx="112392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3635280" y="2133720"/>
          <a:ext cx="1123920" cy="11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611280" y="3500280"/>
          <a:ext cx="1123920" cy="11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9"/>
          <p:cNvGraphicFramePr/>
          <p:nvPr/>
        </p:nvGraphicFramePr>
        <p:xfrm>
          <a:off x="2124000" y="3500280"/>
          <a:ext cx="1123920" cy="119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400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635280" y="3500280"/>
          <a:ext cx="1123920" cy="119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611280" y="4869000"/>
          <a:ext cx="1123920" cy="11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2050920" y="4869000"/>
          <a:ext cx="1123920" cy="1190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092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3"/>
          <p:cNvGraphicFramePr/>
          <p:nvPr/>
        </p:nvGraphicFramePr>
        <p:xfrm>
          <a:off x="3635280" y="4869000"/>
          <a:ext cx="1123920" cy="1190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5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AutoShape 14"/>
          <p:cNvSpPr/>
          <p:nvPr/>
        </p:nvSpPr>
        <p:spPr>
          <a:xfrm>
            <a:off x="4859280" y="2060640"/>
            <a:ext cx="576360" cy="4105080"/>
          </a:xfrm>
          <a:custGeom>
            <a:avLst/>
            <a:gdLst>
              <a:gd name="textAreaLeft" fmla="*/ 0 w 576360"/>
              <a:gd name="textAreaRight" fmla="*/ 208080 w 57636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3348000" y="2637000"/>
          <a:ext cx="314280" cy="295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3276720" y="4005360"/>
          <a:ext cx="314280" cy="295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7672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9"/>
          <p:cNvGraphicFramePr/>
          <p:nvPr/>
        </p:nvGraphicFramePr>
        <p:xfrm>
          <a:off x="1763640" y="4005360"/>
          <a:ext cx="314280" cy="295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0"/>
          <p:cNvGraphicFramePr/>
          <p:nvPr/>
        </p:nvGraphicFramePr>
        <p:xfrm>
          <a:off x="1763640" y="5445000"/>
          <a:ext cx="314280" cy="29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Objec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6364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1"/>
          <p:cNvGraphicFramePr/>
          <p:nvPr/>
        </p:nvGraphicFramePr>
        <p:xfrm>
          <a:off x="3276720" y="5445000"/>
          <a:ext cx="314280" cy="295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Object 2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7672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4"/>
          <p:cNvGraphicFramePr/>
          <p:nvPr/>
        </p:nvGraphicFramePr>
        <p:xfrm>
          <a:off x="6443640" y="3284640"/>
          <a:ext cx="1558800" cy="1411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3640" y="3284640"/>
                    <a:ext cx="15588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76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76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76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аиболее популярными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рограммами-архиваторами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987640" y="3141720"/>
            <a:ext cx="30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latin typeface="Arial"/>
              </a:rPr>
              <a:t>Win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227640" y="486900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156b13"/>
                    </a:gs>
                  </a:gsLst>
                  <a:lin ang="5400000"/>
                </a:gradFill>
                <a:latin typeface="Arial"/>
              </a:rPr>
              <a:t>Win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156b1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6659640" y="1989000"/>
            <a:ext cx="1511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3399ff"/>
                    </a:gs>
                  </a:gsLst>
                  <a:lin ang="18900000"/>
                </a:gradFill>
                <a:latin typeface="Arial"/>
              </a:rPr>
              <a:t>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3399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900000" y="486900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00000"/>
                </a:gradFill>
                <a:latin typeface="Arial"/>
              </a:rPr>
              <a:t>ARJ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900000" y="1989000"/>
            <a:ext cx="129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9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5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ff"/>
                </a:solidFill>
                <a:latin typeface="Verdana"/>
              </a:rPr>
              <a:t>В результате сжатия информация представляется</a:t>
            </a: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в новом вид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ТЕКСТОВЫЙ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, он, она – вместе дружная семья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Посл</a:t>
            </a:r>
            <a:r>
              <a:rPr b="1" lang="ru-RU" sz="3000" spc="-1" strike="noStrike">
                <a:solidFill>
                  <a:srgbClr val="ff00ff"/>
                </a:solidFill>
                <a:latin typeface="Verdana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она-вмесдруж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3635280" y="292428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38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3708360" y="515772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Verdana"/>
              </a:rPr>
              <a:t>1</a:t>
            </a: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9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4" name="Прямая со стрелкой 8"/>
          <p:cNvCxnSpPr/>
          <p:nvPr/>
        </p:nvCxnSpPr>
        <p:spPr>
          <a:xfrm flipH="1">
            <a:off x="1283400" y="2714400"/>
            <a:ext cx="2520" cy="1788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5" name="Прямая со стрелкой 9"/>
          <p:cNvCxnSpPr/>
          <p:nvPr/>
        </p:nvCxnSpPr>
        <p:spPr>
          <a:xfrm flipH="1">
            <a:off x="1356840" y="2713680"/>
            <a:ext cx="6074640" cy="178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1356480" y="3214440"/>
            <a:ext cx="78660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H="1">
            <a:off x="1356840" y="2712960"/>
            <a:ext cx="6076080" cy="1788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" name="Овал 15"/>
          <p:cNvSpPr/>
          <p:nvPr/>
        </p:nvSpPr>
        <p:spPr>
          <a:xfrm>
            <a:off x="1071720" y="235728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Овал 16"/>
          <p:cNvSpPr/>
          <p:nvPr/>
        </p:nvSpPr>
        <p:spPr>
          <a:xfrm>
            <a:off x="7286760" y="242892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Овал 17"/>
          <p:cNvSpPr/>
          <p:nvPr/>
        </p:nvSpPr>
        <p:spPr>
          <a:xfrm>
            <a:off x="2000160" y="2857680"/>
            <a:ext cx="28584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Овал 20"/>
          <p:cNvSpPr/>
          <p:nvPr/>
        </p:nvSpPr>
        <p:spPr>
          <a:xfrm>
            <a:off x="1071720" y="4500720"/>
            <a:ext cx="35712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Ромб 22"/>
          <p:cNvSpPr/>
          <p:nvPr/>
        </p:nvSpPr>
        <p:spPr>
          <a:xfrm>
            <a:off x="3357720" y="2286000"/>
            <a:ext cx="28548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Ромб 23"/>
          <p:cNvSpPr/>
          <p:nvPr/>
        </p:nvSpPr>
        <p:spPr>
          <a:xfrm>
            <a:off x="264312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Ромб 24"/>
          <p:cNvSpPr/>
          <p:nvPr/>
        </p:nvSpPr>
        <p:spPr>
          <a:xfrm>
            <a:off x="685800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Ромб 25"/>
          <p:cNvSpPr/>
          <p:nvPr/>
        </p:nvSpPr>
        <p:spPr>
          <a:xfrm>
            <a:off x="2357280" y="43578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6" name="Прямая со стрелкой 27"/>
          <p:cNvCxnSpPr/>
          <p:nvPr/>
        </p:nvCxnSpPr>
        <p:spPr>
          <a:xfrm flipH="1">
            <a:off x="2499840" y="3000240"/>
            <a:ext cx="286560" cy="128664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7" name="Прямая со стрелкой 28"/>
          <p:cNvCxnSpPr/>
          <p:nvPr/>
        </p:nvCxnSpPr>
        <p:spPr>
          <a:xfrm flipH="1">
            <a:off x="2571120" y="2928600"/>
            <a:ext cx="857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8" name="Прямая со стрелкой 30"/>
          <p:cNvCxnSpPr/>
          <p:nvPr/>
        </p:nvCxnSpPr>
        <p:spPr>
          <a:xfrm flipH="1">
            <a:off x="2642760" y="2927880"/>
            <a:ext cx="4286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72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ГРАФИЧЕСКИЙ 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После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611280" y="2276640"/>
          <a:ext cx="331308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3130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6877080" y="3500280"/>
          <a:ext cx="100008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500280"/>
                    <a:ext cx="10000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Line 8"/>
          <p:cNvSpPr/>
          <p:nvPr/>
        </p:nvSpPr>
        <p:spPr>
          <a:xfrm>
            <a:off x="2411280" y="2924280"/>
            <a:ext cx="4608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1835280" y="3068640"/>
            <a:ext cx="540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0"/>
          <p:cNvSpPr/>
          <p:nvPr/>
        </p:nvSpPr>
        <p:spPr>
          <a:xfrm flipV="1">
            <a:off x="2627280" y="4221000"/>
            <a:ext cx="482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2340000" y="4437000"/>
            <a:ext cx="489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2"/>
          <p:cNvSpPr/>
          <p:nvPr/>
        </p:nvSpPr>
        <p:spPr>
          <a:xfrm flipV="1">
            <a:off x="2771640" y="4436640"/>
            <a:ext cx="4680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419640" y="4652640"/>
            <a:ext cx="381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8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99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ФО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Сжим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очень незначитель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Т.к. областей, состоя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из точек одного и того же цве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чень мал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Яна"/>
          <p:cNvPicPr/>
          <p:nvPr/>
        </p:nvPicPr>
        <p:blipFill>
          <a:blip r:embed="rId1"/>
          <a:stretch/>
        </p:blipFill>
        <p:spPr>
          <a:xfrm>
            <a:off x="1030320" y="2708280"/>
            <a:ext cx="2693880" cy="3384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6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величив изображение в сотни раз, можно увидеть,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что располагающиеся рядом пиксели хоть незначительно, но отличаются друг от дру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1039680" y="1752480"/>
          <a:ext cx="70549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752480"/>
                    <a:ext cx="70549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3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6:17:49Z</dcterms:created>
  <dc:creator>Васильева</dc:creator>
  <dc:description/>
  <dc:language>en-US</dc:language>
  <cp:lastModifiedBy>LEGION</cp:lastModifiedBy>
  <dcterms:modified xsi:type="dcterms:W3CDTF">2015-04-01T07:00:3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