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10.wmf" ContentType="image/x-wmf"/>
  <Override PartName="/ppt/media/image3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41F-8742-4384-A648-7F342E2FF4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стория Э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0D8-6BB9-4DDD-B9AB-89F968F593C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omputer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 (буквально — «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ычислитель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84E-6A4B-47C5-AD64-47841161845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48 году появился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Curta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небольшой механический калькулятор, который можно было держать в одной ру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8B90-E601-4D82-A0C7-42B9CBE4B7E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4136-5143-429F-A3D2-14ED1DF79DF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6 году, работая в изоляции в нацистской Германии, Конрад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Цузе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7751-3AA7-4780-BCAD-DB3B4449D0B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A6CA-6EB6-4890-B6E5-574DAECC785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ABBA-9118-4837-8064-6C455DAFAFB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83EE-7504-4BBB-9743-A17404DB0FD3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F853-BE91-44D9-8AD4-2DEEC906C6E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D89B-F3D3-4416-A777-E752C2FD76D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7523-AF1F-47BE-A6A2-19D28494E9C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микропрограмма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292-8E58-4D56-8EB6-FB1A889E87B2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на транзистора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обычно говорят как о «втором поколении», которое доминировало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 1950-х и начале 1960-х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ECD5-FDA1-4037-989E-16BD8995761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«Сетунь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F9F-85C8-43B6-84D2-BF7B663A13C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CE1-64F9-4EAF-9EE2-5F3DF57D81A9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Стив</a:t>
            </a: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Возня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5AAD-8E7C-44CC-B249-FA67F0E01706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67A1-3458-4F4A-A5D7-F6847A53C67E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мультимедийный персональный компьюте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771B-4D91-4177-BE30-9E4761EA8984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овременный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ПК и его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но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550-2D56-47D7-A711-B95FB820B02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оутб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3F0-0EAD-4CA0-A923-04E74C86E51F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аб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счёты)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160-4884-44EA-BF21-27D3C892948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писок вопро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ое приспособление для вычисления? (По-другому «счёты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то разработал ткацкий станок, в котором вышиваемый узор определялся перфокарт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Что обозначает слово «computer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Небольшой механический калькулятор, который можно было держать в одной ру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строенные программы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асширяющие базовый набор коман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Когда доминировало «второе поколение» компьютеров? На чём они рабо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112-F8D1-405D-93A1-AC09F661AA9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тв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Аб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Жозеф Мари Жакк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Вычис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Cu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Микро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1950-ые, начало1960-ых гг. На транзист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«Сету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Сти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озн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B8B3-CD9B-41CD-A764-D645D1EAF8AA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C6E6-59F1-446C-9B2E-2725C76178D5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225-798E-45B6-AF4B-86D4BE16F451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аск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571-A2D8-4B32-8E34-E395329355AD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01 году </a:t>
            </a:r>
            <a:r>
              <a:rPr b="0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Жозеф Мари Жаккар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5F7-F61B-4BCC-93AD-16ED4ECD661B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78B-7158-438C-8ED2-55F2D08A3AE0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A23D-DAB9-46EE-AF3F-652D6A5063F7}" type="slidenum">
              <a:rPr b="0" lang="uk-UA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820-7B85-4CD4-9A14-E5DCC5FD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D8C-3856-4FB9-978A-2D4C36C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6D4-0D8A-40DE-A4B8-BFEBFF7E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451-A047-4373-9ABD-40DE2379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53A12-EA0B-4935-A784-3E9C555E2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3661-82EE-4DE8-9EB2-A927F1B19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E4383-A134-4867-87AB-89EE5F05D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7383-CC4D-45F8-9FE5-D25D9097B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21F86-E6EF-4F61-AC90-B506470715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DF390-EDFB-44C5-9D07-510F49997B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49AA8-17C5-4875-A2E2-6C2613A77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D09-7FE4-44CB-8FA6-E4437783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4E72D-39B7-4152-A2C3-B469E8AE19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B3F06-0536-4841-BC8D-5EB142C09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6C35-E09C-4578-96CF-4C7BF303E0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168F5-B37C-477E-80B2-93709B4344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11E97-4D55-43A3-BA03-06899C8252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D35-C924-4A0C-9B4E-4910F8EB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48B-DED3-4A4F-A945-5B38E7E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B3D-7C73-4781-AD0A-B7770276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E0A-7E8B-4ACF-81B0-7EB82367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8D1-D8B7-4CDF-B541-8992BAA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F72-0617-4651-8BF9-B73A2A73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3B6-70BA-404A-8F17-52936C7F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5CC6-0F41-48AD-A5FF-1B953115BF73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C3D0-5929-410B-9E5F-1B4FA1C8B8A7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64087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История ЭВМ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42920" y="3716280"/>
            <a:ext cx="6296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тич Екатер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084720" y="5388120"/>
            <a:ext cx="3059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11класса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0" name="Picture 9" descr="or_39x"/>
          <p:cNvPicPr/>
          <p:nvPr/>
        </p:nvPicPr>
        <p:blipFill>
          <a:blip r:embed="rId2"/>
          <a:stretch/>
        </p:blipFill>
        <p:spPr>
          <a:xfrm>
            <a:off x="5940360" y="1844640"/>
            <a:ext cx="32036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508200" cy="44528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900-у году ранние механические калькуляторы, кассовые аппараты и счётные машины были перепроектированы с использованием электрических двигателей с представлением положения переменной как позиции шестерни. С 1930-х такие компании как Friden, Marchant и Monro начали выпускать настольные механические калькуляторы, которые могли складывать, вычитать, умножать и делить. Словом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comput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(буквально — «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числ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 называлась должность — это были люди, которые использовали калькуляторы для выполнения математических вычислений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2" name="Picture 4" descr="j0292020"/>
          <p:cNvPicPr/>
          <p:nvPr/>
        </p:nvPicPr>
        <p:blipFill>
          <a:blip r:embed="rId1"/>
          <a:stretch/>
        </p:blipFill>
        <p:spPr>
          <a:xfrm>
            <a:off x="0" y="0"/>
            <a:ext cx="1868400" cy="1773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48 году появил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Cur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небольшой механический калькулятор, который можно было держать в одной руке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6" name="Picture 7" descr="468px-Curta01"/>
          <p:cNvPicPr/>
          <p:nvPr/>
        </p:nvPicPr>
        <p:blipFill>
          <a:blip r:embed="rId1"/>
          <a:stretch/>
        </p:blipFill>
        <p:spPr>
          <a:xfrm rot="21259200">
            <a:off x="5508720" y="2205000"/>
            <a:ext cx="2824200" cy="36133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259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0-х — 1960-х годах на западном рынке появилось несколько марок подобных устройств. Первым полностью электронным настольным калькулятором был британский ANITA Мк. VII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0" name="Picture 7" descr="674px-AnitaMk8-01"/>
          <p:cNvPicPr/>
          <p:nvPr/>
        </p:nvPicPr>
        <p:blipFill>
          <a:blip r:embed="rId1"/>
          <a:stretch/>
        </p:blipFill>
        <p:spPr>
          <a:xfrm rot="228000">
            <a:off x="5579640" y="2612520"/>
            <a:ext cx="2952720" cy="2629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36 году, работая в изоляции в нацистской Германии, Конра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Цуз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чал работу над своим первым вычислителем сериии Z, имеющим память и (пока ограниченную) возможность программирования. Созданная, в основном, на механической основе, но уже на базе двоичной логики, модель Z1, завершённая в 1938 году, так и не заработала достаточно надёжно, из-за недостаточной точности выполнения составных частей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3" name="Picture 5" descr="j0286034"/>
          <p:cNvPicPr/>
          <p:nvPr/>
        </p:nvPicPr>
        <p:blipFill>
          <a:blip r:embed="rId1"/>
          <a:stretch/>
        </p:blipFill>
        <p:spPr>
          <a:xfrm>
            <a:off x="8224920" y="597204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1483920"/>
            <a:ext cx="410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машина Цузе — Z3, была завершена в 1941 году. Она была построена на телефонных реле и работала вполне удовлетворительно. Тем самым, Z3 стала первым работающим компьютером, управляемым программой. Во многих отношениях Z3 была подобна современным машинам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7" descr="800px-Z3_Deutsches_Museum"/>
          <p:cNvPicPr/>
          <p:nvPr/>
        </p:nvPicPr>
        <p:blipFill>
          <a:blip r:embed="rId1"/>
          <a:stretch/>
        </p:blipFill>
        <p:spPr>
          <a:xfrm rot="21383400">
            <a:off x="4427640" y="2276280"/>
            <a:ext cx="4316400" cy="32367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424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39 году Джон Винсент Атанасов и Клиффорд Берри из Университета штата Айова разработали Atanasoff-Berry Computer (ABC). Это был первый в мире электронный цифровой компьютер. Конструкция насчитывала более 300 электровакуумных ламп, в качестве памяти использовался вращающийся барабан. Несмотря на то, что машина ABC не была программируемой, она была первой, использующей электронные лампы в сумматоре.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9" name="Picture 7" descr="800px-Atanasoff-Berry_Computer_at_Durhum_Center"/>
          <p:cNvPicPr/>
          <p:nvPr/>
        </p:nvPicPr>
        <p:blipFill>
          <a:blip r:embed="rId1"/>
          <a:stretch/>
        </p:blipFill>
        <p:spPr>
          <a:xfrm>
            <a:off x="4356000" y="2060640"/>
            <a:ext cx="4619880" cy="3465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ериканский ENIAC, который часто называют первым электронным компьютером общего назначения, публично доказал применимость электроники для масштабных вычислений. Это стало ключевым моментом в разработке вычислительных машин, прежде всего из-за огромного прироста в скорости вычислений, но также и по причине появившихся возможностей для миниатюризации. Созданная под руководством Джона Мочли и Дж. Преспера Эккерта, эта машина была в 1000 раз быстрее, чем все другие машины того времени. Разработка «ЭНИАК» продлилась с 1943 до 1945 год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2" name="Picture 4" descr="j0234657"/>
          <p:cNvPicPr/>
          <p:nvPr/>
        </p:nvPicPr>
        <p:blipFill>
          <a:blip r:embed="rId1"/>
          <a:stretch/>
        </p:blipFill>
        <p:spPr>
          <a:xfrm>
            <a:off x="0" y="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ENIAC удавалось выполнять несколько тысяч операций в секунду в течение нескольких часов, до очередного сбоя из-за сгоревшей лампы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5" name="Picture 7" descr="785px-Eniac"/>
          <p:cNvPicPr/>
          <p:nvPr/>
        </p:nvPicPr>
        <p:blipFill>
          <a:blip r:embed="rId1"/>
          <a:stretch/>
        </p:blipFill>
        <p:spPr>
          <a:xfrm rot="270000">
            <a:off x="4500360" y="2060280"/>
            <a:ext cx="4244760" cy="36734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работающей машиной с архитектурой фон Неймана стал манчестерский «Baby» — Small-Scale Experimental Machine (Малая экспериментальная машина), созданный в Манчестерском университете в 1948 году; в 1949 году за ним последовал компьютер Манчестерский Марк I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48" name="Picture 10" descr="800px-SSEM_Replica"/>
          <p:cNvPicPr/>
          <p:nvPr/>
        </p:nvPicPr>
        <p:blipFill>
          <a:blip r:embed="rId1"/>
          <a:stretch/>
        </p:blipFill>
        <p:spPr>
          <a:xfrm rot="21385800">
            <a:off x="5148000" y="333360"/>
            <a:ext cx="3673440" cy="2630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49" name="Picture 11" descr="Manchester_Mark2"/>
          <p:cNvPicPr/>
          <p:nvPr/>
        </p:nvPicPr>
        <p:blipFill>
          <a:blip r:embed="rId2"/>
          <a:stretch/>
        </p:blipFill>
        <p:spPr>
          <a:xfrm rot="338400">
            <a:off x="5076720" y="3573000"/>
            <a:ext cx="3673440" cy="29242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ми приспособлениями для вычислений были, вероятно, всем известные счётные палочки, которые и сегодня используются в начальных классах многих школ для обучения счёту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2" name="Picture 6" descr="1185918034_lifted_1"/>
          <p:cNvPicPr/>
          <p:nvPr/>
        </p:nvPicPr>
        <p:blipFill>
          <a:blip r:embed="rId1"/>
          <a:stretch/>
        </p:blipFill>
        <p:spPr>
          <a:xfrm rot="21155400">
            <a:off x="179280" y="188640"/>
            <a:ext cx="2700360" cy="18446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7640" y="1341360"/>
            <a:ext cx="4319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55 году Морис Уилкс изобретает микропрограммирование, принцип, который позднее широко используется в микропроцессорах самых различных компьютеров. Микропрограммирование позволяет определять или расширять базовый набор команд с помощью встроенных программ, которые носят названи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икропрограмм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2" name="Picture 8" descr="621985495"/>
          <p:cNvPicPr/>
          <p:nvPr/>
        </p:nvPicPr>
        <p:blipFill>
          <a:blip r:embed="rId1"/>
          <a:stretch/>
        </p:blipFill>
        <p:spPr>
          <a:xfrm>
            <a:off x="4643280" y="1773360"/>
            <a:ext cx="4245120" cy="4032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крупным шагом в истории компьютерной техники, стало изобретение транзистора в 1947 году. Они стали заменой хрупким и энергоёмким лампам. О компьютерах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транзистор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ычно говорят как о «втором поколении», которое доминировал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1950-х и начале 1960-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лагодаря транзисторам и печатным платам, было достигнуто значительное уменьшение размеров и объёмов потребляемой энергии, а также повышение надёжности. Однако компьютеры второго поколения по-прежнему были довольно дороги и поэтому использовались только университетами, правительствами, крупными корпорациями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5" name="Picture 5" descr="j0287005"/>
          <p:cNvPicPr/>
          <p:nvPr/>
        </p:nvPicPr>
        <p:blipFill>
          <a:blip r:embed="rId1"/>
          <a:stretch/>
        </p:blipFill>
        <p:spPr>
          <a:xfrm>
            <a:off x="0" y="0"/>
            <a:ext cx="1357200" cy="23320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Сетун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а первым компьютером на основе троичной логики, разработана в 1958 году в Советском Союзе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58" name="Picture 7" descr="Снимок_Сетунь"/>
          <p:cNvPicPr/>
          <p:nvPr/>
        </p:nvPicPr>
        <p:blipFill>
          <a:blip r:embed="rId1"/>
          <a:stretch/>
        </p:blipFill>
        <p:spPr>
          <a:xfrm rot="412800">
            <a:off x="4716360" y="2133720"/>
            <a:ext cx="4056120" cy="3043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рный рост использования компьютеров начался с т. н. «3-им поколением» вычислительных машин. Начало этому положило изобретение интегральных схем, которые независимо друг от друга изобрели лауреат Нобелевской премии Джек Килби и Роберт Нойс. Позже это привело к изобретению микропроцессора Тэдом Хоффом (компания Intel)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1" name="Picture 4" descr="j0293844"/>
          <p:cNvPicPr/>
          <p:nvPr/>
        </p:nvPicPr>
        <p:blipFill>
          <a:blip r:embed="rId1"/>
          <a:stretch/>
        </p:blipFill>
        <p:spPr>
          <a:xfrm>
            <a:off x="7405560" y="503064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ение микропроцессоров привело к разработке микрокомпьютеров — небольших недорогих компьютеров, которыми могли владеть небольшие компании или отдельные люди. Микрокомпьютеры, представители четвёртого поколения, первые из которых появился в 1970-х, стали повсеместным явлением в 1980-х и позже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зн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ин из основателей Apple Computer, стал известен как разработчик первого массового домашнего компьютера, а позже — первого персонального компьютера. Компьютеры на основе микрокомпьютерной архитектуры, с возможностями, добавленными от их больших собратьев, сейчас доминируют в большинстве сегментов рынк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4" name="Picture 4" descr="j0195384"/>
          <p:cNvPicPr/>
          <p:nvPr/>
        </p:nvPicPr>
        <p:blipFill>
          <a:blip r:embed="rId1"/>
          <a:stretch/>
        </p:blipFill>
        <p:spPr>
          <a:xfrm>
            <a:off x="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7 году появился первый массовый персональный компьютер Apple II, что явилось предвестником бума всеобщей компьютеризации населе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ие компьютеры стали более удобными и требовали от своих пользователей уже гораздо меньшего количества технических навыков. В августе 1981 года IBM выпустила компьютерную систему IBM PC, положившую начало эпохе современных персональных компьютеров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67" name="Picture 6" descr="800px-IBзщM_PC_5150"/>
          <p:cNvPicPr/>
          <p:nvPr/>
        </p:nvPicPr>
        <p:blipFill>
          <a:blip r:embed="rId1"/>
          <a:stretch/>
        </p:blipFill>
        <p:spPr>
          <a:xfrm rot="21334800">
            <a:off x="4572000" y="2133360"/>
            <a:ext cx="4208400" cy="33019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446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январе 1984 года начались продажи Apple Macintosh, ставшего первым по-настоящему массовым ПК с GUI. 23 июля 1985 года появился первый в мир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льтимедийный персональный 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miga (Amiga 1000). Персональные компьютеры Amiga, наряду с макинтошами, оставались самыми популярными и продаваемыми машинами для домашнего использован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70" name="Picture 6" descr="704px-Amiga_1000DP"/>
          <p:cNvPicPr/>
          <p:nvPr/>
        </p:nvPicPr>
        <p:blipFill>
          <a:blip r:embed="rId1"/>
          <a:stretch/>
        </p:blipFill>
        <p:spPr>
          <a:xfrm rot="892800">
            <a:off x="5292360" y="2421000"/>
            <a:ext cx="3278160" cy="27939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64436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овремен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ПК и его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разновидност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Computer 4"/>
          <p:cNvPicPr/>
          <p:nvPr/>
        </p:nvPicPr>
        <p:blipFill>
          <a:blip r:embed="rId1"/>
          <a:stretch/>
        </p:blipFill>
        <p:spPr>
          <a:xfrm>
            <a:off x="1692360" y="1989000"/>
            <a:ext cx="5472000" cy="36975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645px-IBM_Thinkpad_R51"/>
          <p:cNvPicPr/>
          <p:nvPr/>
        </p:nvPicPr>
        <p:blipFill>
          <a:blip r:embed="rId1"/>
          <a:stretch/>
        </p:blipFill>
        <p:spPr>
          <a:xfrm rot="481200">
            <a:off x="539280" y="2349000"/>
            <a:ext cx="3168720" cy="29480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утбуки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0" descr="738px-Laptop-crank"/>
          <p:cNvPicPr/>
          <p:nvPr/>
        </p:nvPicPr>
        <p:blipFill>
          <a:blip r:embed="rId2"/>
          <a:stretch/>
        </p:blipFill>
        <p:spPr>
          <a:xfrm rot="20875200">
            <a:off x="4356000" y="691920"/>
            <a:ext cx="3168720" cy="257652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78" name="Picture 11" descr="computer_kids"/>
          <p:cNvPicPr/>
          <p:nvPr/>
        </p:nvPicPr>
        <p:blipFill>
          <a:blip r:embed="rId3"/>
          <a:stretch/>
        </p:blipFill>
        <p:spPr>
          <a:xfrm rot="886800">
            <a:off x="5813280" y="4011120"/>
            <a:ext cx="2913120" cy="24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1628280"/>
            <a:ext cx="824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юдям надоело вести счёт при помощи загибания пальцев и перекладывания палочек, они изобрел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ба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чёты).</a:t>
            </a: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9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одсчитываемых предметов соответствовало числу передвинутых костяшек этого инструмента.</a:t>
            </a: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 rot="436200">
            <a:off x="4716360" y="3284640"/>
            <a:ext cx="4103640" cy="323064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8" descr="657px-AcerN10Wiki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pic>
        <p:nvPicPr>
          <p:cNvPr id="181" name="Picture 9" descr="Toshiba_Portege_3500_Tablet_PC"/>
          <p:cNvPicPr/>
          <p:nvPr/>
        </p:nvPicPr>
        <p:blipFill>
          <a:blip r:embed="rId2"/>
          <a:stretch/>
        </p:blipFill>
        <p:spPr>
          <a:xfrm>
            <a:off x="5076720" y="1844640"/>
            <a:ext cx="381636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5944680" y="1413000"/>
            <a:ext cx="30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шет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5240" y="1413000"/>
            <a:ext cx="27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манный ПК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6164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писок вопросов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ое приспособление для вычисления? (По-другому «счёты»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то разработал ткацкий станок, в котором вышиваемый узор определялся перфокартам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то обозначает слово «computer»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ебольшой механический калькулятор, который можно было держать в одной рук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е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яющие базовый набор команд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гда доминировало «второе поколение» компьютеров? На чём они работали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ервый компьютер на основе троичной логики, разработанный в 1958 году в Советском Союзе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дин из основателей Apple Computer, ставший известным как разработчик первого массового домашнего компьютера?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бак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зеф Мари Жаккар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числитель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Curta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икропрограмма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0-ые, начало1960-ых гг. На транзисторах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«Сетунь»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ти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як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compu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2"/>
          <p:cNvSpPr txBox="1"/>
          <p:nvPr/>
        </p:nvSpPr>
        <p:spPr>
          <a:xfrm>
            <a:off x="1476360" y="2276640"/>
            <a:ext cx="5905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онец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23 году Вильгельм Шикард придумал «Считающие часы» — первый механический калькулятор, умевший выполнять четыре арифметических действия. Считающими часами устройство было названо потому, что как и в настоящих часах работа механизма была основана на использовании звёздочек и шестерёнок. Практическое использование это изобретение нашло в руках друга Шикарда, философа и астронома Иоганна Кеплера.</a:t>
            </a: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-20880" y="5105520"/>
            <a:ext cx="1663560" cy="1658160"/>
            <a:chOff x="-20880" y="5105520"/>
            <a:chExt cx="1663560" cy="1658160"/>
          </a:xfrm>
        </p:grpSpPr>
        <p:sp>
          <p:nvSpPr>
            <p:cNvPr id="100" name="Gear"/>
            <p:cNvSpPr/>
            <p:nvPr/>
          </p:nvSpPr>
          <p:spPr>
            <a:xfrm rot="3823800">
              <a:off x="912240" y="5760000"/>
              <a:ext cx="609480" cy="647640"/>
            </a:xfrm>
            <a:custGeom>
              <a:avLst/>
              <a:gdLst>
                <a:gd name="textAreaLeft" fmla="*/ 123480 w 609480"/>
                <a:gd name="textAreaRight" fmla="*/ 503640 w 609480"/>
                <a:gd name="textAreaTop" fmla="*/ 118440 h 647640"/>
                <a:gd name="textAreaBottom" fmla="*/ 529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 rot="3823800">
              <a:off x="247320" y="5216400"/>
              <a:ext cx="729000" cy="774360"/>
            </a:xfrm>
            <a:custGeom>
              <a:avLst/>
              <a:gdLst>
                <a:gd name="textAreaLeft" fmla="*/ 147240 w 729000"/>
                <a:gd name="textAreaRight" fmla="*/ 601920 w 729000"/>
                <a:gd name="textAreaTop" fmla="*/ 142200 h 774360"/>
                <a:gd name="textAreaBottom" fmla="*/ 632160 h 77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 rot="3823800">
              <a:off x="138960" y="5779440"/>
              <a:ext cx="810360" cy="860400"/>
            </a:xfrm>
            <a:custGeom>
              <a:avLst/>
              <a:gdLst>
                <a:gd name="textAreaLeft" fmla="*/ 164160 w 810360"/>
                <a:gd name="textAreaRight" fmla="*/ 669600 w 810360"/>
                <a:gd name="textAreaTop" fmla="*/ 157680 h 860400"/>
                <a:gd name="textAreaBottom" fmla="*/ 70236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этим последовали машины Блеза Паскаля («Паскалина», 1642 г.) и Готфрида Вильгельма Лейбница. Примерно в 1820 году создал первый удачный, серийно выпускаемый механический калькулятор — Арифмометр Томаса, который мог складывать, вычитать, умножать и делить. В основном, он был основан на работе Лейбница. Механические калькуляторы, считающие десятичные числа, использовались до 1970-х.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5" name="computr2"/>
          <p:cNvSpPr/>
          <p:nvPr/>
        </p:nvSpPr>
        <p:spPr>
          <a:xfrm>
            <a:off x="179280" y="115920"/>
            <a:ext cx="1584360" cy="1665360"/>
          </a:xfrm>
          <a:custGeom>
            <a:avLst/>
            <a:gdLst>
              <a:gd name="textAreaLeft" fmla="*/ 454320 w 1584360"/>
              <a:gd name="textAreaRight" fmla="*/ 1141920 w 1584360"/>
              <a:gd name="textAreaTop" fmla="*/ 147240 h 1665360"/>
              <a:gd name="textAreaBottom" fmla="*/ 751320 h 166536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калин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800px-Arts_et_Metiers_Pascaline_dsc03869"/>
          <p:cNvPicPr/>
          <p:nvPr/>
        </p:nvPicPr>
        <p:blipFill>
          <a:blip r:embed="rId1"/>
          <a:stretch/>
        </p:blipFill>
        <p:spPr>
          <a:xfrm>
            <a:off x="888840" y="1952640"/>
            <a:ext cx="7364520" cy="403236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3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01 го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озеф Мари Жакк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аботал ткацкий станок, в котором вышиваемый узор определялся перфокартами. Серия карт могла быть заменена, и смена узора не требовала изменений в механике станка. Это было важной вехой в истории программирования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1" name="Picture 7" descr="Punch-card-blue"/>
          <p:cNvPicPr/>
          <p:nvPr/>
        </p:nvPicPr>
        <p:blipFill>
          <a:blip r:embed="rId1"/>
          <a:stretch/>
        </p:blipFill>
        <p:spPr>
          <a:xfrm>
            <a:off x="4643280" y="2852640"/>
            <a:ext cx="4316400" cy="219708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9770a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38 году Чарльз Бэббидж перешёл от разработки Разностной машины к проектированию более сложной аналитической машины, принципы программирования которой напрямую восходят к перфокартам Жаккара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4" name="Picture 7" descr="BabbageDifferenceEngine"/>
          <p:cNvPicPr/>
          <p:nvPr/>
        </p:nvPicPr>
        <p:blipFill>
          <a:blip r:embed="rId1"/>
          <a:stretch/>
        </p:blipFill>
        <p:spPr>
          <a:xfrm rot="21434400">
            <a:off x="4572000" y="2133360"/>
            <a:ext cx="4316400" cy="3321000"/>
          </a:xfrm>
          <a:prstGeom prst="rect">
            <a:avLst/>
          </a:prstGeom>
          <a:ln w="76320">
            <a:solidFill>
              <a:srgbClr val="e9770a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507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90 году Бюро Переписи США использовало перфокарты и механизмы сортировки, разработанные  Германом Холлеритом, чтобы обработать поток данных десятилетней переписи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Холлерита в конечном счёте стала ядром IBM. Эта корпорация развила технологию перфокарт в мощный инструмент для деловой обработки данных и выпустила обширную линию специализированного оборудования для их записи. К 1950 году технология IBM стала вездесущей в промышленности и правительстве. Предупреждение, напечатанное на большинстве карт, «не сворачивать, не скручивать и не рвать», стало девизом послевоенной эр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7" name="Picture 6" descr="j0292982"/>
          <p:cNvPicPr/>
          <p:nvPr/>
        </p:nvPicPr>
        <p:blipFill>
          <a:blip r:embed="rId1"/>
          <a:stretch/>
        </p:blipFill>
        <p:spPr>
          <a:xfrm>
            <a:off x="0" y="0"/>
            <a:ext cx="1692360" cy="1670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07:21Z</dcterms:created>
  <dc:creator>Zver</dc:creator>
  <dc:description/>
  <cp:keywords>"PowerLexis" - Презентационное агентство</cp:keywords>
  <dc:language>en-US</dc:language>
  <cp:lastModifiedBy>LEGION</cp:lastModifiedBy>
  <dcterms:modified xsi:type="dcterms:W3CDTF">2015-04-01T07:04:05Z</dcterms:modified>
  <cp:revision>10</cp:revision>
  <dc:subject/>
  <dc:title>   История ЭВ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e000000000001023620</vt:lpwstr>
  </property>
</Properties>
</file>