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48A4-936D-4B6C-9B80-FFAD5E0F1F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libri"/>
              </a:rPr>
              <a:t>Microsoft Office 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05F3-10A3-45CA-8ECF-26A3493E04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Что такое базы дан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ы да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E17A-31AD-4E2B-8957-8C4363E94E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5CC7-7204-4716-A068-32AECEF5DB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лассификац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характеру храни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пособу хранен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труктуре реализаци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яционн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FD3F-DA92-4E3F-9B07-9945BE02F8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 характеру хранимой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представлены в краткой форме и в строго фиксированном форм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5931-BD9B-4390-A954-C0E022FC8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 способу хранения Б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одном компьютере к которому имеют доступ все пользов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разных компьютерах локальной или глобальной 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59DB-D854-4E66-B988-C47E694522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структуре реализации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еляционная БД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се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FA8-BBF0-4F2D-B4C1-12AB6DCF97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ип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чик (целые 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 (65535 зна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вой (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, время (дата,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(денежные зна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й (да и 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объек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ультимеди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3064-0D9E-4417-BD5A-2B76936642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7B8-D419-4E28-BAF6-C66D5F11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5FE-213D-4341-A00B-08D41D3B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306-C1BC-43B1-B175-78CA860E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7E6-9CB2-4776-B794-E1EED07F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A6D-2245-4C3D-8C18-FE771E9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0B5-473A-4D39-AFF6-90163A66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76B-E543-41BB-81F7-56EA2C22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70D-FAD7-4307-8BD8-60F7227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747-B317-44CC-9BE7-F980940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63D-1CFB-4B0A-B78C-CEEE3314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4C0-B0F6-4242-B080-A6F0F2B6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464-0BE0-4E48-845C-94CD893A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0516-016D-4F8D-B47B-D20B4EFE2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icrosoft Office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4360" y="692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базы дан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ы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У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ификация 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 характеру храним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 способу хранени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 структуре реализаци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яционн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ерархическ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 характеру храним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редставлены в краткой форме и в строго фиксированном форм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способу хранения Б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одном компьютере к которому имеют доступ все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разных компьютерах локальной или глоб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структуре реализаци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еляционная БД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Иерархическ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етев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ая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5744880" cy="177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1933560" cy="184788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1835280" y="206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780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40328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чик (целые 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 (65535 зн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ой (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, время (дата,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ый (денежные зна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й (да и н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объ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ультимеди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2:13:58Z</dcterms:created>
  <dc:creator>48-6</dc:creator>
  <dc:description/>
  <dc:language>en-US</dc:language>
  <cp:lastModifiedBy>LEGION</cp:lastModifiedBy>
  <dcterms:modified xsi:type="dcterms:W3CDTF">2015-04-01T07:04:25Z</dcterms:modified>
  <cp:revision>7</cp:revision>
  <dc:subject/>
  <dc:title>Microsoft Office Access</dc:title>
</cp:coreProperties>
</file>