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221-23C7-4DAC-A88D-C143753B44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libri"/>
              </a:rPr>
              <a:t>Microsoft Office 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344E-CAE2-4200-8CBC-86E428CECB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Что такое базы дан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ы да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025C-E9B4-42CE-8281-AEF2BDFC56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У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853B-01D7-44DA-A244-5E16AE9FE0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лассификац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характеру храни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пособу хранени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структуре реализации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яционн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8C6F-E0FB-4B0D-9AB7-252E4839A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 характеру хранимой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акто-графическ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е представлены в краткой форме и в строго фиксированном форм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окументаль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 доку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FFBB-FC12-455D-8A78-FB117EC6AC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способу хранения Б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трализ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одном компьютере к которому имеют доступ все пользов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Распредел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анят на разных компьютерах локальной или глобальной с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B527-CF7F-4EEB-A2BC-9240FA214E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По структуре реализации дан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еляционная БД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голо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Иерархическ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етевая Б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се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CCEE-91C8-4DA7-B451-21491741A8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ип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чик (целые 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ов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 (65535 зна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вой (чи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, время (дата,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(денежные зна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й (да и н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объект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ультимеди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03D0-F362-4563-A627-797D175EA3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773-0267-435B-80A6-1B0786C2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ED9-BA37-4D2B-B7B2-77D776AD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653-6C09-4F62-88F4-CC0871DF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8BB-F6A6-440C-BFA4-A0244866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8B0-EA95-42B0-898E-46FDCAA2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3772-E1A9-4866-A60D-C739014C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03F-0CCA-4E10-98B7-FB6D5EB7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1AD-E1F3-42C6-B93E-E492435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978-2313-45EA-BD9C-EFC369B7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12FF-6EE9-4093-A5A5-C6E5127A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2F4-2C9C-4873-A735-30A1B17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93F-FAF4-41F7-A48A-8FFAD26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FA8D-D1AF-4D90-ACBC-90E24FFD9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Microsoft Office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84360" y="692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зентация на тему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базы данны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зы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организованная совокупность данных предназначенная для длительного хранения во внешней памяти компьютера, постоянного обновления и ис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ая модель позволяющая упорядоченно хранить данные о группе объектов обладающих одинаковым набором сво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У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Д – это программа позволяющая   создавать БД  а также обеспечивающая обработку(сортировку) и поиск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сификация Б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 характеру храним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 способу хранени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 структуре реализации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яционн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ерархическ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евая Б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 характеру хранимой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-граф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представлены в краткой форме и в строго фиксированном форм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умент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т докуме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 способу хранения Б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Централизов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одном компьютере к которому имеют доступ все пользов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Распреде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ят на разных компьютерах локальной или глобаль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структуре реализации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064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еляционная БД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Иерархическ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етев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обальная се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5744880" cy="1770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1933560" cy="1847880"/>
          </a:xfrm>
          <a:prstGeom prst="rect">
            <a:avLst/>
          </a:prstGeom>
          <a:ln w="0">
            <a:noFill/>
          </a:ln>
        </p:spPr>
      </p:pic>
      <p:sp>
        <p:nvSpPr>
          <p:cNvPr id="85" name="Line 9"/>
          <p:cNvSpPr/>
          <p:nvPr/>
        </p:nvSpPr>
        <p:spPr>
          <a:xfrm>
            <a:off x="1835280" y="206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3780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1403280" y="227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4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 (целые 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 (65535 зна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вой (чис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, время (дата, врем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жный (денежные зна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й (да и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 объек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ультимеди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3">
            <a:hlinkClick r:id="" action="ppaction://hlinkshowjump?jump=first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4406" y="3837"/>
                </a:moveTo>
                <a:lnTo>
                  <a:pt x="16982" y="6448"/>
                </a:ln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lnTo>
                  <a:pt x="21369" y="10800"/>
                </a:lnTo>
                <a:lnTo>
                  <a:pt x="19715" y="10800"/>
                </a:lnTo>
                <a:lnTo>
                  <a:pt x="19715" y="17989"/>
                </a:lnTo>
                <a:lnTo>
                  <a:pt x="9097" y="17989"/>
                </a:lnTo>
                <a:lnTo>
                  <a:pt x="9097" y="10800"/>
                </a:lnTo>
                <a:lnTo>
                  <a:pt x="7443" y="10800"/>
                </a:lnTo>
                <a:close/>
              </a:path>
              <a:path fill="darkenLess" w="28812" h="21600">
                <a:moveTo>
                  <a:pt x="16982" y="6448"/>
                </a:moveTo>
                <a:lnTo>
                  <a:pt x="16982" y="4707"/>
                </a:lnTo>
                <a:lnTo>
                  <a:pt x="18758" y="4707"/>
                </a:lnTo>
                <a:lnTo>
                  <a:pt x="18758" y="8224"/>
                </a:lnTo>
                <a:close/>
              </a:path>
              <a:path fill="darkenLess" w="28812" h="21600">
                <a:moveTo>
                  <a:pt x="13483" y="14299"/>
                </a:moveTo>
                <a:lnTo>
                  <a:pt x="15329" y="14299"/>
                </a:lnTo>
                <a:lnTo>
                  <a:pt x="15329" y="17989"/>
                </a:lnTo>
                <a:lnTo>
                  <a:pt x="19715" y="17989"/>
                </a:lnTo>
                <a:lnTo>
                  <a:pt x="19715" y="10800"/>
                </a:lnTo>
                <a:lnTo>
                  <a:pt x="9097" y="10800"/>
                </a:lnTo>
                <a:lnTo>
                  <a:pt x="9097" y="17989"/>
                </a:lnTo>
                <a:lnTo>
                  <a:pt x="13483" y="1798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4">
            <a:hlinkClick r:id="" action="ppaction://hlinkshowjump?jump=nextslide"/>
          </p:cNvPr>
          <p:cNvSpPr/>
          <p:nvPr/>
        </p:nvSpPr>
        <p:spPr>
          <a:xfrm>
            <a:off x="759636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3794"/>
                </a:moveTo>
                <a:lnTo>
                  <a:pt x="21403" y="10800"/>
                </a:lnTo>
                <a:lnTo>
                  <a:pt x="7391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5">
            <a:hlinkClick r:id="" action="ppaction://hlinkshowjump?jump=previousslide"/>
          </p:cNvPr>
          <p:cNvSpPr/>
          <p:nvPr/>
        </p:nvSpPr>
        <p:spPr>
          <a:xfrm>
            <a:off x="651672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2:13:58Z</dcterms:created>
  <dc:creator>48-6</dc:creator>
  <dc:description/>
  <dc:language>en-US</dc:language>
  <cp:lastModifiedBy>LEGION</cp:lastModifiedBy>
  <dcterms:modified xsi:type="dcterms:W3CDTF">2015-04-01T07:04:25Z</dcterms:modified>
  <cp:revision>7</cp:revision>
  <dc:subject/>
  <dc:title>Microsoft Office Access</dc:title>
</cp:coreProperties>
</file>