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F6BE-7449-4237-8BBB-773CC8F8E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libri"/>
              </a:rPr>
              <a:t>Microsoft Office 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6CB6-6449-494E-95B9-1D47CEBFDA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Что такое базы дан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ы да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3B6E-F462-410E-888D-440BF116A5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2480-2D14-40B6-AFF7-778479AE9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лассификац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характеру храни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пособу хранен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труктуре реализаци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яционн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AB2C-1EE0-422D-9F51-EAA47B2A3C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 характеру хранимой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представлены в краткой форме и в строго фиксированном форм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EFA1-6654-4D9B-8612-7F3FF71A23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способу хранения Б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одном компьютере к которому имеют доступ все пользов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разных компьютерах локальной или глобальной 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C23E-D734-4850-9CB6-AD541524F8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структуре реализации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еляционная БД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се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F9FF-AE18-4266-BFD1-CF4C23B0B4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ип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чик (целые 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 (65535 зна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вой (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, время (дата,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(денежные зна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й (да и 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объек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ультимеди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866F-8F29-48EE-9426-F5EBFBFD9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740-E54D-46AA-B103-1F241617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CF4-E7D7-4C40-9E31-CE73B222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C0C-791D-4A2A-9C37-FFD3F410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696-F68B-4602-B3CD-8B6BE273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B98-790A-4823-B87E-84E5F1C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DDF-F911-4F47-97D5-B930ADD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9D5-8E59-4572-9F43-90F59AC2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41D-DD6D-41E8-8057-62DD4B69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4E9-D5FB-4163-860D-7F239ECA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C3B-CF9A-49B2-8C94-9320F4A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1C3-9B1C-4A40-AC76-145FB726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730-B61A-4133-A3F4-10FC61F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857C-FEF6-499A-B509-88C26580C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icrosoft Office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4360" y="69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базы дан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ы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У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ификация 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характеру храним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способу хранени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структуре реализаци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яционн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ческ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 характеру храним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редставлены в краткой форме и в строго фиксированном форм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способу хранения Б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одном компьютере к которому имеют доступ все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разных компьютерах локальной или глоб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структуре реализаци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еляционная БД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Иерархическ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етев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ая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744880" cy="17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1933560" cy="184788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1835280" y="206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780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40328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 (целые 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 (65535 зн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ой (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, время (дата,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й (денежные зна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(да и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объ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ультимеди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2:13:58Z</dcterms:created>
  <dc:creator>48-6</dc:creator>
  <dc:description/>
  <dc:language>en-US</dc:language>
  <cp:lastModifiedBy>LEGION</cp:lastModifiedBy>
  <dcterms:modified xsi:type="dcterms:W3CDTF">2015-04-01T07:04:25Z</dcterms:modified>
  <cp:revision>7</cp:revision>
  <dc:subject/>
  <dc:title>Microsoft Office Access</dc:title>
</cp:coreProperties>
</file>