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BC4C-E2A1-44CF-B8A4-E469AEC948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libri"/>
              </a:rPr>
              <a:t>Microsoft Office 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5876-103F-4A6C-B3AD-D7D83CAE7E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Что такое базы дан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ы да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18E8-4C37-4304-9D5E-44963D2FA4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43FC-A9CC-4A12-8D12-9860AC3F56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лассификац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характеру храни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пособу хранен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труктуре реализаци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яционн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CCF-42FF-4F35-B104-A5CFE12046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 характеру хранимой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представлены в краткой форме и в строго фиксированном форм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DDC9-78DC-4269-BBCD-D017403BC7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 способу хранения Б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одном компьютере к которому имеют доступ все пользов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разных компьютерах локальной или глобальной 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2FFD-44B9-42E0-AB2E-85FAECCCEF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структуре реализации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еляционная БД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се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6F84-8C29-4331-A588-F76D150B1A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ип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чик (целые 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 (65535 зна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вой (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, время (дата,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(денежные зна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й (да и 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объек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ультимеди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3933-0253-4390-B903-F20B47456B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A86-566C-4047-976B-751A7111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891-6301-4D52-9A5D-1BCE2FB8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C1C-A7D3-4BBA-9610-B84882F7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9FC-8E6C-49C9-9E1B-A3B086C1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962-818F-45EB-B88E-8EFFBA6A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4A9-F822-4A21-B220-307C6481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966-CC4C-4B99-B4E4-2F4D5CFE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57D-9B47-4A6B-A668-C5B4B78A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9AC-35BE-45B1-AAF8-B407FE6F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5DD-6D01-4B89-8FD8-99A76FA1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C43-5EBE-45D8-9343-D24D4AA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812-66AE-45CC-8B80-D1CB674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1EA9-F676-4B6C-8AD9-710CB3A51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Microsoft Office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84360" y="692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такое базы дан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ы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У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ификация 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 характеру храним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 способу хранени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 структуре реализаци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яционн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ерархическ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 характеру храним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редставлены в краткой форме и в строго фиксированном форм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 док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способу хранения Б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одном компьютере к которому имеют доступ все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разных компьютерах локальной или глоб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структуре реализаци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еляционная БД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Иерархическ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етев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ая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5744880" cy="177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1933560" cy="184788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1835280" y="206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3780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403280" y="22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чик (целые 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 (65535 зн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ой (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, время (дата,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ый (денежные зна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й (да и н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объ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ультимеди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2:13:58Z</dcterms:created>
  <dc:creator>48-6</dc:creator>
  <dc:description/>
  <dc:language>en-US</dc:language>
  <cp:lastModifiedBy>LEGION</cp:lastModifiedBy>
  <dcterms:modified xsi:type="dcterms:W3CDTF">2015-04-01T07:04:25Z</dcterms:modified>
  <cp:revision>7</cp:revision>
  <dc:subject/>
  <dc:title>Microsoft Office Access</dc:title>
</cp:coreProperties>
</file>