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188C-F085-48F1-99E0-72D9ADE384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кция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Lucida Sans"/>
              </a:rPr>
              <a:t>Delph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218B-5FE8-40C1-BCEB-A3CE97F4908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Сохранение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того, чтобы сохранить проект,  в главном меню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Save Project A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му проекту имя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Компи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к процесса компиляции выполняется по коман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/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mpile&lt;Project1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096C-5159-4986-BEA7-3D06D3D0F9F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пуск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тить проект  на выполнение можно из сред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из среды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Windows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Из среды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уществляется коман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 нажатием клавиш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9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ельзя запустить вторую копию приложения при уже запущенном при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должить разработку проекта можно только после завершения работы при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Program Reset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клавиш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Ctrl&gt;+&lt;F2&gt;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219E-87C5-477F-9536-0916F89DBC3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797-D394-47DC-A904-56EFB300593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редактора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редактора код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Unit1.pas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конструктора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кно конструктора формы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(Form1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инспектора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тображает свойства и события объектов  для текущей формы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Form1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можно отобразить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View / Object Inspector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лавиш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11&gt;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 имеет 2 вкладки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perties</a:t>
            </a: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войства) и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Events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Собы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57B9-32CA-4468-A42E-47A4594B964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Расширения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p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новный файл проекта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fm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йл формы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Pa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модуля Паскаля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Re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ресурсов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!(создает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при первом сохранении)</a:t>
            </a:r>
            <a:r>
              <a:rPr b="1" lang="ru-RU" sz="1200" spc="-1" strike="noStrike">
                <a:solidFill>
                  <a:srgbClr val="ccff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Op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параметров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~*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зервные копии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r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Delphi Component Resourc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u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компилированный файл моду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m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межуточный к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ll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динамических библиот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k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нфигурация рабоч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Exe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сполняемые фай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371C-D08A-4D5A-BAD3-1234AA21D18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мер прост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здание нового приложения начинается с того, что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Delph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предлагает пустое окно - форму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orm1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терфейс приложения составляют компоненты, которые можно выбирать из 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Палитры компонен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 размещать  их  на форме и изменять их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и  после этого щелкнуть на форме. На  ней  появится  выбранны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размещения компонента на форм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вносит  изменения  в  файл модуля, т.е. добавляется  стро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вание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ип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нешний вид компонента опред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свойства, которые доступны в ок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Инспектора объек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когда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 форме выде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9DD0-A402-4145-8317-70346347494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 окне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приводятся названия всех свойств и их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ойства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представляют  собой  атрибуты, определяющие способ отображения и функци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й кнопке другой заголо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пишем в строке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Calibri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Button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Cursor:TCurso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изображение мыши при наведен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 кнопку (например: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crHandPoint          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Default:Boolean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жатие кнопки выполняется по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        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клавише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Enter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, если значение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Default=Tr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Font:TFont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шриф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Height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высот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Width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ширин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Left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Top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D55-8FED-47C2-802D-2CE4BE3236B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процедуру обработки событ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этого нужно сделать двойной щелчок в области событ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OnClick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или  двойной  щелчок  по  кнопке 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About Form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 результат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модул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заготовку 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оцедуры-обработч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еперь при нажатии на кнопку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будет появляться е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одна форма по имен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которую мы опишем в модуле 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Unit2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D4D8-7C4D-4E2F-985B-9C92391F867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пишем вторую форму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Unit2.pas.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главном меню 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New /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дадим этой форме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местим на форму кнопку 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 загол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компоненту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торый пр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тавляет  собой  простой текст,  который 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дактируется при выполнен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Текст вводится в пол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Caption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utoSize:Boolea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ая коррекция размера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зависимости от текста над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ligment: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ligment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пособ выравнивания текста внутри компонента, может принимать следующие зна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LeftJustify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выравнивание по ле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Cente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центрирование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RightJustify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 выравнивание по пра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WordWrap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автоматический перенос слов на другую ст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Transparent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прозрачная надпись или закрашенная. Ц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ашивания устанавливается свойств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lo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3D6C-2A1A-42ED-B47B-FE2FA32D9FE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нажатии на кнопку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делаем так, чтобы форма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ыв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procedure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TAbout.Button1Click(Sender: TObjec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Clos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и  нажатии кнопки 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.к.  из  модуля 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implementatio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одуля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местим  код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uses Unit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eeece1"/>
                </a:solidFill>
                <a:latin typeface="Comic Sans MS"/>
              </a:rPr>
              <a:t>File / Use Uni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876-603C-4C79-8546-B0941904CD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07C-5F82-43FD-A48A-E95F52D2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DF9-3DA9-4B3D-83B5-5CFFA8E8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9E383-5498-4501-80E0-EDA1393C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E8A74-E948-46F8-8B47-DF1D4BA2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10915-48A0-43BF-AAD1-18E4ADF5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B973C-E4DC-47BE-A89D-C983B04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7976C-4B32-4758-9679-0294EB87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708A5-E99A-414D-849B-73C56AB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5E7A2-AD63-4EF5-9D6E-65F3B480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78F9C-2213-40AA-A4AC-76083EF6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56F5F-F034-4ACF-A4D0-196A2217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34FFE-6313-4201-95CB-321F5D92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C4E-CE75-43F8-A437-8C77CAF1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04536-47EE-4006-B25C-AAD27139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CDB4F-6AEE-4ACE-9B50-36D89A8C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3721A-156C-43E5-BCB0-F0C2911D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72B7E-C36E-4823-9936-CD9C0A89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526F2-64A7-44BB-BC7D-1FD80FCA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D7E1D-6AB3-4B55-AFF2-A47B699E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53B9C-8851-4DA4-A768-DA3089C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B3F67-1005-4A7B-82FA-58E02F0C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569EA-AF8B-412E-AC40-2FF4122E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0ED2D-048C-4C9D-B8E7-D4D152C0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278-D4F9-4D9B-A181-A9C27329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FD4E0-F8EC-4AB7-B315-C01189BA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DB32A-C5EC-4CDC-A93C-378FA5C2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D2DBC-C22B-46B4-9789-5448A0AF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8F3FC-A57D-4760-85EA-D2E4FE00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DE7E7-7E4A-41BF-9386-83922B17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F84B6-378F-4B48-886A-87CBC7D9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7EE28-6199-4DEA-B52E-34D9899A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0557D-8A99-498E-A6C5-ECC5FF3C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BA4E8-408A-4D68-954B-2F949ADF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D6779-7ECA-46A0-A28D-D2A70EA9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77E4-E72E-43AC-8C65-7E78F16E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5BEED-BB10-4C50-807A-C5C076CB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96F94-5605-4FC6-BA07-C2C11DA7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124E6-3615-424B-861B-6DF1D5E4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8D4A7-35F9-42AE-86CA-F25324E6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0DC6F-BD2A-4552-9C30-E14BF267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CA80A-1254-4E0C-806C-CE040D4F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B5086-C29F-47BC-9336-4A02BDC9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608EC-E997-4CD1-B33E-0C46CE55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4F771-1BE2-4358-9A8B-90A2334A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C54A7-63E4-42E9-8B2F-25F8963E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2C5E-4E65-4213-B168-D4B3123A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FD69E-178F-4F46-A6D4-6AF2FBF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6E264-7397-4D9F-8ED1-FCA8D6A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85E63-6E60-45EB-BB71-DC2C4E67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E9CC9-E332-4C98-8C55-3155BEA2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593A7-D4C1-4BDA-8079-DB787654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8CF9-538B-4259-A072-FC2E8551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1C36-BD55-4D0B-8A80-65E6DB87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A9D5-2F82-4FF4-9F92-27947766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C7B1-0F7D-4EA2-BD11-74EB1592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700A-B7CD-49D0-AF59-3B40302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322-C20C-4D1F-9D15-0D9FA47E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D90B-6599-4BC5-BF31-49462806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3E26-07E6-4008-8123-6F38F671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8F83-8721-4FEC-8FA5-26BED062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38E2-11F9-4739-B126-4FF12866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06FC-0DC6-4026-8282-977F7422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7BB8-6F03-4B3D-94BF-F179684D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C4C4-C18B-4687-B6B2-5D29F545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1174-685C-4513-B433-C99F0D80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949B-5D52-4545-BC1B-2628CD8B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D12B-E531-41F2-A68E-8F01B88A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8A8-3354-48C6-8DD5-3BCA8D9A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F50C-1F1F-470B-A049-3448B37F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DCB6-DE7A-4206-A4F9-C0865C44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7452-5124-438D-AB0D-F73175F0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352F-7566-4212-B59A-E9D9F4C3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5E9B-A001-44A4-B233-CDEF4C63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FE47-1DEF-4DB5-A5FA-1FC52699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5E5B-CCAE-4098-8F9D-5FE80C11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0EAEB-C9F7-432E-A980-CC613952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95F2-7992-43DC-8174-7E9CE32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5A138-3965-41D5-BFC4-3FF8A69A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2A4-ABD5-4D28-A07D-BA879B7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20373-36FA-47FA-8802-6FCEA4E0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63E2-F9E6-44D2-BFB8-1BEAFB57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192D-BCE8-4A9D-8F80-6AB96289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F86E-BFD4-4063-BE58-62C1EEAD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F5D20-B048-4128-951B-F20B60C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95572-3833-42FB-96EE-0D7F837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E490-4652-4F91-AF69-DC6FC053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6657-103A-4BEE-84D2-C9439C6D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4569-E37E-4C95-932B-5A0436C0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A8F1A-A1D2-4466-8876-5F0CBF91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C9C-E8EF-487B-97CC-42264FE2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236A4-83C9-476E-B4AB-B67D0418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C081C-B837-44DF-9460-1742C477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D9F1-3178-4534-A9B6-A12C4CAB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3181-53F6-4F7D-801D-FC6FBAFA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5947-97E0-42D4-9ADF-7B934F8C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79762-DBFC-47F4-A56C-EEE2EA54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6C3A-3045-4C7E-81FC-A4EF3E3A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48E7-E9AE-48BE-AB0F-D4875AE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E4B8D-FF5C-48A1-8CA1-3DA19B18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28637-BDF3-4821-BF2E-8EDBCA75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37F-B8FE-4D9A-9484-410FBF58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9572-F9E3-4E41-BDED-300ACD25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ED1E6-48AE-442C-9CF2-A9013D8E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7924-B62C-4C65-AA28-D6F2C092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DA50-42C4-4CB1-9697-DF73567C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953F-4BF2-4945-A636-1AF3F254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E0080-0D77-42C9-A6FA-A7BE8EF1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33EB5-CCE5-469E-94EA-B46D57BC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A2345-0E69-48A0-8C89-79019C6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5CA7-8F41-4EA1-97DC-F089518F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980F1-13B3-46E3-9C21-20ED704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6D9-8A62-40AD-9AC2-0F96DD6C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20910-D128-4B75-8B6D-D78FD4D1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B804-6614-462C-B0EA-0D86A856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08364-8A5C-48CB-B31C-45CA280A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5E840-9F03-4366-8184-E8AC2FD0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09A2C-6A97-4B98-A2EB-49290136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E78E1-C691-46E1-890D-3483D977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90B49-23CE-4A79-A436-C832F3EA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8307B-5F95-4E71-990F-8F33C2A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A4128-4B98-4A00-85DF-65307E9F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000ED-6A80-448A-979B-A2E2FC9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BE2-F8FE-4BDD-ADAC-64E7FD3C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FD9EE-7149-4760-A00B-C2DDF040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6C03-EF73-4DFE-A118-A14C5A0C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B1681-CB5C-41ED-A7B3-5FFF583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931B7-2DB1-433C-9564-6BA8965E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8AC9-F428-4A45-8926-99E9175A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F547F-AFA9-4917-AB10-743057C5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C16B2-B077-4127-A5F8-C9B79C89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A8016-0435-496B-8C39-E7B481B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65F56-0515-4B76-B29C-A415CBD7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FDD17-482D-45BC-A6B6-ABF585A1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943-6AD8-4E24-AFA7-C8D58FC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DCAAF-934F-4B43-85BB-9073DA2B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D4F75-AB62-4756-83E1-BE256DE5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A2D1E-0047-4F19-919F-3E07DC6B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C39FA-E925-41F5-82E5-581A2436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B84EE-2E3D-40D7-B184-22C2D070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D5205-5DF1-4FAB-B18E-4EEE2F12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975A1-B752-40D7-97A9-4B903EDF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B5D8A-1979-4D4E-983D-8188CDEA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EEDC2-DFEC-4796-B9E2-E40ABAB2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05C2A-DC0A-4E7A-848D-34D3DE99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A1DC-5681-42DA-8374-FC66701A03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A6E1-6F56-4A68-B3F9-32B0F1CF9D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C051-3A78-4DD2-A3E1-C2E5C94866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24E9-627C-4056-8B8A-47C57E7FAC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27B6-3D6C-401D-8B49-195C6D3D9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2D26-8D87-4B94-B11C-FF57978734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C1D6-209E-4A32-B180-02862F9E50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7A91-86FC-48F6-A0F4-A40943C708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AE6A-7078-4A68-A982-90FC8F4804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6390-BAF4-410A-920E-73E905FBC8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9262-B871-4AB2-BB41-B8FD67C233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2216-C913-4EAD-B857-32D11A45CE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33"/>
                </a:solidFill>
                <a:latin typeface="Arial"/>
              </a:rPr>
              <a:t>Лекция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057040" y="21333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"/>
              </a:rPr>
              <a:t>Delphi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228600" y="68580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того, чтобы сохранить проект,  в главном меню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ile / Save Project As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457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71360" y="122400"/>
            <a:ext cx="34815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охранение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6" descr="D:\usu\Курсовая\Рисунки\сохранение.bmp"/>
          <p:cNvPicPr/>
          <p:nvPr/>
        </p:nvPicPr>
        <p:blipFill>
          <a:blip r:embed="rId1"/>
          <a:stretch/>
        </p:blipFill>
        <p:spPr>
          <a:xfrm>
            <a:off x="0" y="1523880"/>
            <a:ext cx="3429000" cy="5105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02" name="Text Box 7"/>
          <p:cNvSpPr/>
          <p:nvPr/>
        </p:nvSpPr>
        <p:spPr>
          <a:xfrm>
            <a:off x="3655080" y="1295280"/>
            <a:ext cx="47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му проекту имя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581280" y="2174760"/>
            <a:ext cx="5562720" cy="448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к процесса компиляции выполняется по команд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/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mpile&lt;Project1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645000" y="1752480"/>
            <a:ext cx="22381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Компиля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10" descr="D:\usu\Курсовая\Рисунки\exe.bmp"/>
          <p:cNvPicPr/>
          <p:nvPr/>
        </p:nvPicPr>
        <p:blipFill>
          <a:blip r:embed="rId2"/>
          <a:stretch/>
        </p:blipFill>
        <p:spPr>
          <a:xfrm>
            <a:off x="5943600" y="632448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72840" y="122400"/>
            <a:ext cx="2663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пуск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28600" y="685800"/>
            <a:ext cx="8702640" cy="1160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ee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тить проект  на выполнение можно из среды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 из среды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Windows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.  Из среды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осуществляется командой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Run / R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ли  нажатием клавиш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&lt;F9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4401000" y="1981080"/>
            <a:ext cx="198504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212760" y="2327400"/>
            <a:ext cx="862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267080" y="2438280"/>
            <a:ext cx="458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ельзя запустить вторую копию приложения при уже запущенном приложении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одолжить разработку проекта можно только после завершения работы прилож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Run / Program Reset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ли нажатия клавиш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Ctrl&gt;+&lt;F2&gt;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267080" y="25909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Oval 8"/>
          <p:cNvSpPr/>
          <p:nvPr/>
        </p:nvSpPr>
        <p:spPr>
          <a:xfrm>
            <a:off x="4267080" y="35053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D:\usu\Курсовая\Рисунки\run.bmp"/>
          <p:cNvPicPr/>
          <p:nvPr/>
        </p:nvPicPr>
        <p:blipFill>
          <a:blip r:embed="rId1"/>
          <a:stretch/>
        </p:blipFill>
        <p:spPr>
          <a:xfrm>
            <a:off x="0" y="1905120"/>
            <a:ext cx="4191120" cy="4724280"/>
          </a:xfrm>
          <a:prstGeom prst="rect">
            <a:avLst/>
          </a:prstGeom>
          <a:ln w="0">
            <a:noFill/>
          </a:ln>
        </p:spPr>
      </p:pic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118080" y="385920"/>
            <a:ext cx="84909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4" descr="D:\usu\Курсовая\Рисунки\Form21.bmp"/>
          <p:cNvPicPr/>
          <p:nvPr/>
        </p:nvPicPr>
        <p:blipFill>
          <a:blip r:embed="rId1"/>
          <a:stretch/>
        </p:blipFill>
        <p:spPr>
          <a:xfrm>
            <a:off x="533520" y="1143000"/>
            <a:ext cx="7848360" cy="5334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C:\Мои документы\Безымянный.bmp"/>
          <p:cNvPicPr/>
          <p:nvPr/>
        </p:nvPicPr>
        <p:blipFill>
          <a:blip r:embed="rId2"/>
          <a:stretch/>
        </p:blipFill>
        <p:spPr>
          <a:xfrm>
            <a:off x="3429000" y="3809880"/>
            <a:ext cx="5105520" cy="2819520"/>
          </a:xfrm>
          <a:prstGeom prst="rect">
            <a:avLst/>
          </a:prstGeom>
          <a:ln w="0">
            <a:noFill/>
          </a:ln>
        </p:spPr>
      </p:pic>
      <p:sp>
        <p:nvSpPr>
          <p:cNvPr id="6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usu\Курсовая\Рисунки\вид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5943600" y="4724280"/>
            <a:ext cx="3008160" cy="179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Палитра компонен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редактора к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конструктора формы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инспектора объек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H="1" flipV="1">
            <a:off x="1676160" y="1600200"/>
            <a:ext cx="426708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 flipH="1" flipV="1">
            <a:off x="3733920" y="2438280"/>
            <a:ext cx="2209680" cy="335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 flipH="1" flipV="1">
            <a:off x="5029200" y="1752120"/>
            <a:ext cx="914400" cy="358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609588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6"/>
          <p:cNvSpPr/>
          <p:nvPr/>
        </p:nvSpPr>
        <p:spPr>
          <a:xfrm>
            <a:off x="304920" y="2362320"/>
            <a:ext cx="49528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228600" y="68580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редактора кода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Unit1.pas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кно конструктора форм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Form1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ображает свойства и события объектов  для текущей формы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orm1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го можно отобразить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View / Object Inspe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ли нажатия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лавиш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F11&gt;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 имеет 2 вклад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Properties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ойства) и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vents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Событ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124200" y="23623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конструктора ф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7847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167760" y="228600"/>
            <a:ext cx="417204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редактора к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304920" y="4191120"/>
            <a:ext cx="510516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185760" y="419112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инспектора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28600" y="533520"/>
            <a:ext cx="8534520" cy="61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pr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сновный файл проекта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fm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йл формы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Pa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модуля Паскаля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Re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ресурсов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!(созд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первом сохранении)</a:t>
            </a: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Opt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параметров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~*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зервные копии фай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r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Delphi Component Resource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u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компилированный файл моду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m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омежуточный к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ll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динамических библиот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k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фигурация рабоче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Exe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сполняемые фай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56520" y="0"/>
            <a:ext cx="46231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Расширения фай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791320" y="685800"/>
            <a:ext cx="380880" cy="1752480"/>
          </a:xfrm>
          <a:custGeom>
            <a:avLst/>
            <a:gdLst>
              <a:gd name="textAreaLeft" fmla="*/ 0 w 380880"/>
              <a:gd name="textAreaRight" fmla="*/ 137520 w 3808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411240" y="8380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язате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ай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работ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289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23120" y="228600"/>
            <a:ext cx="672012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ример простого при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12760" y="879480"/>
            <a:ext cx="8702640" cy="5214600"/>
          </a:xfrm>
          <a:prstGeom prst="rect">
            <a:avLst/>
          </a:prstGeom>
          <a:gradFill rotWithShape="0">
            <a:gsLst>
              <a:gs pos="0">
                <a:srgbClr val="e9e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оздание нового приложения начинается с того, что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Delphi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предлагает пустое окно - форму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orm1.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нтерфейс приложения составляют компоненты, которые можно выбирать из 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Палитры компонен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 размещать  их  на форме и изменять их свойств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и  после этого щелкнуть на форме. На  ней  появится  выбранны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сле размещения компонента на форм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вносит  изменения  в  файл модуля, т.е. добавляется  строчк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Название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: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Тип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нешний вид компонента определяю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его свойства, которые доступны в ок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Инспектора объек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когда компонен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 форме выделен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7" descr="D:\usu\Курсовая\Рисунки\строка.bmp"/>
          <p:cNvPicPr/>
          <p:nvPr/>
        </p:nvPicPr>
        <p:blipFill>
          <a:blip r:embed="rId1"/>
          <a:stretch/>
        </p:blipFill>
        <p:spPr>
          <a:xfrm>
            <a:off x="5791320" y="4114800"/>
            <a:ext cx="2971800" cy="6858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D:\usu\Курсовая\Рисунки\кнопка.bmp"/>
          <p:cNvPicPr/>
          <p:nvPr/>
        </p:nvPicPr>
        <p:blipFill>
          <a:blip r:embed="rId2"/>
          <a:stretch/>
        </p:blipFill>
        <p:spPr>
          <a:xfrm>
            <a:off x="5486400" y="4876920"/>
            <a:ext cx="3429000" cy="1676160"/>
          </a:xfrm>
          <a:prstGeom prst="rect">
            <a:avLst/>
          </a:prstGeom>
          <a:ln w="0">
            <a:noFill/>
          </a:ln>
        </p:spPr>
      </p:pic>
      <p:sp>
        <p:nvSpPr>
          <p:cNvPr id="563" name="Line 9"/>
          <p:cNvSpPr/>
          <p:nvPr/>
        </p:nvSpPr>
        <p:spPr>
          <a:xfrm flipV="1">
            <a:off x="2743200" y="5562720"/>
            <a:ext cx="3200400" cy="380880"/>
          </a:xfrm>
          <a:prstGeom prst="line">
            <a:avLst/>
          </a:prstGeom>
          <a:ln w="2844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5181480" y="4419720"/>
            <a:ext cx="838440" cy="152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C:\Мои документы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048120" y="117360"/>
            <a:ext cx="6095880" cy="692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В окне 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 приводятся названия всех свойств и их знач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 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Свойства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представляют  собой  атрибуты, определяющие способ отображения и функцио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й кнопке другой заголовок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пишем в строке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 u="sng">
                <a:solidFill>
                  <a:srgbClr val="990000"/>
                </a:solidFill>
                <a:uFillTx/>
                <a:latin typeface="Times New Roman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Comic Sans MS"/>
              </a:rPr>
              <a:t>Button</a:t>
            </a: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Cursor:TCurso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изображение мыши при наведении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 кнопку (например: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rHandPoint           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Default:Boolean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жатие кнопки выполняется по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клавише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Enter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, если значение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fault=Tr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Font:TFont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шриф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Height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высот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Width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ширин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Left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Top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7"/>
          <p:cNvSpPr/>
          <p:nvPr/>
        </p:nvSpPr>
        <p:spPr>
          <a:xfrm flipH="1" flipV="1">
            <a:off x="2437920" y="1981080"/>
            <a:ext cx="685800" cy="106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D:\usu\Курсовая\Рисунки\Рука.bmp"/>
          <p:cNvPicPr/>
          <p:nvPr/>
        </p:nvPicPr>
        <p:blipFill>
          <a:blip r:embed="rId2"/>
          <a:stretch/>
        </p:blipFill>
        <p:spPr>
          <a:xfrm>
            <a:off x="7010280" y="3886200"/>
            <a:ext cx="619200" cy="53352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8" descr="D:\usu\Курсовая\Рисунки\OnClick.bmp"/>
          <p:cNvPicPr/>
          <p:nvPr/>
        </p:nvPicPr>
        <p:blipFill>
          <a:blip r:embed="rId1"/>
          <a:stretch/>
        </p:blipFill>
        <p:spPr>
          <a:xfrm>
            <a:off x="0" y="3200400"/>
            <a:ext cx="5715000" cy="2286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D:\usu\Курсовая\Рисунки\события.bmp"/>
          <p:cNvPicPr/>
          <p:nvPr/>
        </p:nvPicPr>
        <p:blipFill>
          <a:blip r:embed="rId2"/>
          <a:stretch/>
        </p:blipFill>
        <p:spPr>
          <a:xfrm>
            <a:off x="0" y="0"/>
            <a:ext cx="5181480" cy="2057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5181480" y="0"/>
            <a:ext cx="3962520" cy="2044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900" spc="-1" strike="noStrike">
                <a:solidFill>
                  <a:srgbClr val="ff0033"/>
                </a:solidFill>
                <a:latin typeface="Comic Sans MS"/>
              </a:rPr>
              <a:t>процедуру обработки событ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133720"/>
            <a:ext cx="9144000" cy="1374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4d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этого нужно сделать двойной щелчок в области события </a:t>
            </a:r>
            <a:r>
              <a:rPr b="0" lang="en-US" sz="2100" spc="-1" strike="noStrike">
                <a:solidFill>
                  <a:srgbClr val="ff0033"/>
                </a:solidFill>
                <a:latin typeface="Comic Sans MS"/>
              </a:rPr>
              <a:t>OnClick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(или  двойной  щелчок  по  кнопке  </a:t>
            </a:r>
            <a:r>
              <a:rPr b="1" lang="en-US" sz="2100" spc="-1" strike="noStrike">
                <a:solidFill>
                  <a:srgbClr val="990000"/>
                </a:solidFill>
                <a:latin typeface="Times New Roman"/>
              </a:rPr>
              <a:t>About Form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 результат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оздает 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модул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формы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заготовку  </a:t>
            </a:r>
            <a:r>
              <a:rPr b="0" lang="ru-RU" sz="2100" spc="-1" strike="noStrike">
                <a:solidFill>
                  <a:srgbClr val="ff0033"/>
                </a:solidFill>
                <a:latin typeface="Comic Sans MS"/>
              </a:rPr>
              <a:t>процедуры-обработчик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7"/>
          <p:cNvSpPr/>
          <p:nvPr/>
        </p:nvSpPr>
        <p:spPr>
          <a:xfrm>
            <a:off x="1828800" y="1219320"/>
            <a:ext cx="5715000" cy="1066680"/>
          </a:xfrm>
          <a:custGeom>
            <a:avLst/>
            <a:gdLst/>
            <a:ahLst/>
            <a:rect l="l" t="t" r="r" b="b"/>
            <a:pathLst>
              <a:path w="3696" h="720">
                <a:moveTo>
                  <a:pt x="3696" y="720"/>
                </a:moveTo>
                <a:cubicBezTo>
                  <a:pt x="3112" y="676"/>
                  <a:pt x="2528" y="632"/>
                  <a:pt x="1968" y="576"/>
                </a:cubicBezTo>
                <a:cubicBezTo>
                  <a:pt x="1408" y="520"/>
                  <a:pt x="664" y="480"/>
                  <a:pt x="336" y="384"/>
                </a:cubicBezTo>
                <a:cubicBezTo>
                  <a:pt x="8" y="288"/>
                  <a:pt x="56" y="64"/>
                  <a:pt x="0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3276720" y="2971800"/>
            <a:ext cx="635040" cy="1066680"/>
          </a:xfrm>
          <a:custGeom>
            <a:avLst/>
            <a:gdLst/>
            <a:ahLst/>
            <a:rect l="l" t="t" r="r" b="b"/>
            <a:pathLst>
              <a:path w="400" h="720">
                <a:moveTo>
                  <a:pt x="96" y="0"/>
                </a:moveTo>
                <a:cubicBezTo>
                  <a:pt x="248" y="132"/>
                  <a:pt x="400" y="264"/>
                  <a:pt x="384" y="384"/>
                </a:cubicBezTo>
                <a:cubicBezTo>
                  <a:pt x="368" y="504"/>
                  <a:pt x="64" y="656"/>
                  <a:pt x="0" y="72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699160" y="4038480"/>
            <a:ext cx="3444840" cy="1739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var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About: TAbo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:=TAbout.Create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.Show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Book Antiqua"/>
              </a:rPr>
              <a:t>e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13"/>
          <p:cNvSpPr/>
          <p:nvPr/>
        </p:nvSpPr>
        <p:spPr>
          <a:xfrm>
            <a:off x="5410080" y="403848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 flipV="1">
            <a:off x="761760" y="4647960"/>
            <a:ext cx="4647960" cy="75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79280" y="5491080"/>
            <a:ext cx="842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Теперь при нажатии на кнопку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будет появляться ещ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дна форма по имен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торую мы опишем в модул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it2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5840280" y="3675240"/>
            <a:ext cx="3213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пишем в процедур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228600" y="0"/>
            <a:ext cx="8610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Опишем вторую форму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.pas.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главном меню 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File / New /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дадим этой форме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местим на форму кнопку 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 заголов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компоненту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торый пред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тавляет  собой  простой текст,  который  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редактируется при выполнении программы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Текст вводится в пол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Caption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" descr="D:\usu\Курсовая\Рисунки\about.bmp"/>
          <p:cNvPicPr/>
          <p:nvPr/>
        </p:nvPicPr>
        <p:blipFill>
          <a:blip r:embed="rId1"/>
          <a:stretch/>
        </p:blipFill>
        <p:spPr>
          <a:xfrm>
            <a:off x="5943600" y="10666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241920" y="2712960"/>
            <a:ext cx="3820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екоторые свойств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Comic Sans MS"/>
              </a:rPr>
              <a:t>Labe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8600" y="3200400"/>
            <a:ext cx="8686800" cy="3934440"/>
          </a:xfrm>
          <a:prstGeom prst="rect">
            <a:avLst/>
          </a:prstGeom>
          <a:gradFill rotWithShape="0">
            <a:gsLst>
              <a:gs pos="0">
                <a:srgbClr val="b3c6ff"/>
              </a:gs>
              <a:gs pos="50000">
                <a:srgbClr val="3366ff"/>
              </a:gs>
              <a:gs pos="100000">
                <a:srgbClr val="b3c6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utoSize:Boolea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ая коррекция размера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,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зависимости от текста надпис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ligment: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А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ligment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пособ выравнивания текста внутри компонента, может принимать следующие значения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LeftJustify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выравнивание по ле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Cente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центрирование текст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RightJustify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 выравнивание по пра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WordWrap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автоматический перенос слов на другую строк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Transparent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прозрачная надпись или закрашенная. Цве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крашивания устанавливается свойств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lo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             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7753680" y="609480"/>
            <a:ext cx="79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8"/>
          <p:cNvSpPr/>
          <p:nvPr/>
        </p:nvSpPr>
        <p:spPr>
          <a:xfrm flipH="1">
            <a:off x="7009920" y="914400"/>
            <a:ext cx="76212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28600" y="228600"/>
            <a:ext cx="8610480" cy="2180880"/>
          </a:xfrm>
          <a:prstGeom prst="rect">
            <a:avLst/>
          </a:prstGeom>
          <a:gradFill rotWithShape="0">
            <a:gsLst>
              <a:gs pos="0">
                <a:srgbClr val="b9caff"/>
              </a:gs>
              <a:gs pos="50000">
                <a:srgbClr val="3366ff"/>
              </a:gs>
              <a:gs pos="100000">
                <a:srgbClr val="b9ca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ри нажатии на кнопку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ru-RU" sz="2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делаем так, чтобы форма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Abo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крывалась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procedure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TAbout.Button1Click(Sender: TObject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beg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ff0033"/>
                </a:solidFill>
                <a:latin typeface="Comic Sans MS"/>
              </a:rPr>
              <a:t>Clos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6" descr="D:\usu\Курсовая\Рисунки\unit2.bmp"/>
          <p:cNvPicPr/>
          <p:nvPr/>
        </p:nvPicPr>
        <p:blipFill>
          <a:blip r:embed="rId1"/>
          <a:stretch/>
        </p:blipFill>
        <p:spPr>
          <a:xfrm>
            <a:off x="3733920" y="16765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0" y="2438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ш модуль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меет вид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1143000" y="2895480"/>
            <a:ext cx="29718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04920" y="2971800"/>
            <a:ext cx="3504960" cy="320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  нажатии кнопки </a:t>
            </a: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About Form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Т.к.  из  модуля 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implementation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модуля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оместим  код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uses Unit2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ile / Use Unit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1364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12" descr="D:\usu\Курсовая\Рисунки\implementation.bmp"/>
          <p:cNvPicPr/>
          <p:nvPr/>
        </p:nvPicPr>
        <p:blipFill>
          <a:blip r:embed="rId2"/>
          <a:stretch/>
        </p:blipFill>
        <p:spPr>
          <a:xfrm>
            <a:off x="609480" y="6019920"/>
            <a:ext cx="2971800" cy="609480"/>
          </a:xfrm>
          <a:prstGeom prst="rect">
            <a:avLst/>
          </a:prstGeom>
          <a:ln w="0">
            <a:noFill/>
          </a:ln>
        </p:spPr>
      </p:pic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29:04Z</dcterms:created>
  <dc:creator>User</dc:creator>
  <dc:description/>
  <dc:language>en-US</dc:language>
  <cp:lastModifiedBy>LEGION</cp:lastModifiedBy>
  <dcterms:modified xsi:type="dcterms:W3CDTF">2015-04-01T07:07:15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4140</vt:lpwstr>
  </property>
</Properties>
</file>