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E395-A753-4E9B-BA48-9571F0D708B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Лекция 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ece1"/>
                </a:solidFill>
                <a:latin typeface="Lucida Sans"/>
              </a:rPr>
              <a:t>Delph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3787-FE89-4C7C-A4B7-AC0C83A0699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Сохранение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ля того, чтобы сохранить проект,  в главном меню выберем пунк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File / Save Project A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адим нашему проекту имя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Project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Компи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Запуск процесса компиляции выполняется по команд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Project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/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Compile&lt;Project1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Компиляция проекта для получения приложения  может быть выполнена на любой  стадии  разработки  прое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Это удобно для проверки вида и правильности    функционирования отдельных компонентов формы, а также для  проверки  создаваемого  к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осле компиляции проекта  создается исполняемый файл приложения с именем файла проекта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6103-DD31-498B-9B8C-30DB708EC3C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Запуск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Запустить проект  на выполнение можно из среды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Delphi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 из среды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Windows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.  Из среды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Delphi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существляется команд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Run / Ru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ли  нажатием клавиш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&lt;F9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Замеч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Нельзя запустить вторую копию приложения при уже запущенном прилож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родолжить разработку проекта можно только после завершения работы при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ри зацикливании (зависании) приложения завершение его работы необходимо выполнять средствами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Delphi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с помощью команды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Run / Program Reset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ли нажатия клавиш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&lt;Ctrl&gt;+&lt;F2&gt;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FBB3-769D-43A9-9FC5-08C49793633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Приложение которое мы создали будет иметь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0770-735D-42BB-B5CA-10BC998DFA1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Окно редактора к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кно редактора кода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(</a:t>
            </a:r>
            <a:r>
              <a:rPr b="1" lang="en-US" sz="1200" spc="-1" strike="noStrike">
                <a:solidFill>
                  <a:srgbClr val="990000"/>
                </a:solidFill>
                <a:latin typeface="Calibri"/>
              </a:rPr>
              <a:t>Unit1.pas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создает   исходный   текст модуля  разрабатываемого приложения.  Каждый   редактируемый  файл  находится на отдельной странице,  доступ  к которой можно получить, щелкнув на ее ярлыч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Окно конструктора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кно конструктора формы</a:t>
            </a:r>
            <a:r>
              <a:rPr b="1" lang="ru-RU" sz="11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990000"/>
                </a:solidFill>
                <a:latin typeface="Calibri"/>
              </a:rPr>
              <a:t>(Form1)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в  нем  выполняется  проектирование формы. Для  чего  на форму  из  Палитры   компонентов помещаются необходимые эле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Окно инспектора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кно инспектора объектов</a:t>
            </a:r>
            <a:r>
              <a:rPr b="1" lang="ru-RU" sz="11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тображает свойства и события объектов  для текущей формы </a:t>
            </a:r>
            <a:r>
              <a:rPr b="1" lang="en-US" sz="1200" spc="-1" strike="noStrike">
                <a:solidFill>
                  <a:srgbClr val="990000"/>
                </a:solidFill>
                <a:latin typeface="Calibri"/>
              </a:rPr>
              <a:t>Form1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.</a:t>
            </a:r>
            <a:r>
              <a:rPr b="1" lang="en-US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Его можно отобразить с помощью команды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View / Object Inspector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ли нажатия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клавиши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&lt;F11&gt;.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кно инспектора объектов имеет 2 вкладки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Properties</a:t>
            </a:r>
            <a:r>
              <a:rPr b="1" lang="en-US" sz="12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войства) и 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Events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(Событ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BC00-4D42-48A1-A512-6A96C89CEFB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Расширения фай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pr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сновный файл проекта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fm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Ф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айл формы 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Pas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   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Файл модуля Паскаля 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Res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Файлы ресурсов </a:t>
            </a:r>
            <a:r>
              <a:rPr b="1" lang="ru-RU" sz="1100" spc="-1" strike="noStrike">
                <a:solidFill>
                  <a:srgbClr val="000066"/>
                </a:solidFill>
                <a:latin typeface="Calibri"/>
              </a:rPr>
              <a:t>!(создаетс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66"/>
                </a:solidFill>
                <a:latin typeface="Calibri"/>
              </a:rPr>
              <a:t>                              </a:t>
            </a:r>
            <a:r>
              <a:rPr b="1" lang="ru-RU" sz="1100" spc="-1" strike="noStrike">
                <a:solidFill>
                  <a:srgbClr val="000066"/>
                </a:solidFill>
                <a:latin typeface="Calibri"/>
              </a:rPr>
              <a:t>при первом сохранении)</a:t>
            </a:r>
            <a:r>
              <a:rPr b="1" lang="ru-RU" sz="1200" spc="-1" strike="noStrike">
                <a:solidFill>
                  <a:srgbClr val="ccff99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Opt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Файл параметров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~*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Резервные копии фай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cr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Delphi Component Resource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cu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компилированный файл моду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sm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ромежуточный к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ll</a:t>
            </a: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Файлы динамических библиот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sk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Конфигурация рабоче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Exe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сполняемые фай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3B89-8C17-4CCE-97CF-2E8DA37C460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Пример простого при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оздание нового приложения начинается с того, что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Delph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автоматически предлагает пустое окно - форму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Form1.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нтерфейс приложения составляют компоненты, которые можно выбирать из 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Палитры компонентов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,  размещать  их  на форме и изменять их св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ыбор компонента в Палитре выполняется щелчком мыши на нужном компоненте,  например,  кнопке 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Button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и  после этого щелкнуть на форме. На  ней  появится  выбранный компон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осле размещения компонента на форме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Delphi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автоматически вносит  изменения  в  файл модуля, т.е. добавляется  строч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&lt;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азвание компонента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&gt;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: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&lt;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Тип компонента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нешний вид компонента определя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его свойства, которые доступны в ок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Инспектора объектов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, когда компоне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на форме выдел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EE18-103C-4F03-A641-47F706F5E16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В окне </a:t>
            </a: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Инспектора объектов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 приводятся названия всех свойств и их зна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войства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представляют  собой  атрибуты, определяющие способ отображения и функци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нирования компонентов при выполнении приложения. Изменять значения свойств можно непосредственно в Инспекторе, при этом сразу же изменяется соответствующий компон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адим нашей кнопке другой заголово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напишем в строке</a:t>
            </a:r>
            <a:r>
              <a:rPr b="1" lang="ru-RU" sz="11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1200" spc="-1" strike="noStrike" u="sng">
                <a:solidFill>
                  <a:srgbClr val="990000"/>
                </a:solidFill>
                <a:uFillTx/>
                <a:latin typeface="Calibri"/>
              </a:rPr>
              <a:t>Caption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-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bout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 u="sng">
                <a:solidFill>
                  <a:srgbClr val="000000"/>
                </a:solidFill>
                <a:uFillTx/>
                <a:latin typeface="Comic Sans MS"/>
              </a:rPr>
              <a:t>Некоторые свойства </a:t>
            </a: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Comic Sans MS"/>
              </a:rPr>
              <a:t>Button</a:t>
            </a:r>
            <a:r>
              <a:rPr b="1" i="1" lang="ru-RU" sz="10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Cursor:TCursor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- 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изображение мыши при наведении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на кнопку (например: 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crHandPoint           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Default:Boolean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-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нажатие кнопки выполняется по 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         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клавише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Enter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, если значение 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Default=Tr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Font:TFont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- 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шриф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Height:Integer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- 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высота кнопки в пикселя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Width:Integer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-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 ширина кнопки в пикселя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Left :Integer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-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 горизонтальная координата левого верхнего угл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Top :Integer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-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 вертикальная координата левого верхнего угл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58E7-D606-4821-9923-5E2FB24379C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ы  кнопка   могла реагировать  на  какое  либо событие,  необходимо  указать </a:t>
            </a:r>
            <a:r>
              <a:rPr b="1" lang="ru-RU" sz="1400" spc="-1" strike="noStrike">
                <a:solidFill>
                  <a:srgbClr val="0000ff"/>
                </a:solidFill>
                <a:latin typeface="Comic Sans MS"/>
              </a:rPr>
              <a:t>процедуру обработки событ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которая будет вызываться при возникновении  данного собы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ля этого нужно сделать двойной щелчок в области события 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OnClick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(или  двойной  щелчок  по  кнопке  </a:t>
            </a:r>
            <a:r>
              <a:rPr b="1" lang="en-US" sz="1200" spc="-1" strike="noStrike">
                <a:solidFill>
                  <a:srgbClr val="990000"/>
                </a:solidFill>
                <a:latin typeface="Calibri"/>
              </a:rPr>
              <a:t>About Form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,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  результате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Delphi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автоматически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создает  в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модуле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формы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заготовку 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процедуры-обработч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Теперь при нажатии на кнопку 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bout Form</a:t>
            </a:r>
            <a:r>
              <a:rPr b="1" lang="en-US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будет появляться ещ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одна форма по имени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bout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, 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которую мы опишем в модуле </a:t>
            </a:r>
            <a:r>
              <a:rPr b="1" lang="en-US" sz="1200" spc="-1" strike="noStrike">
                <a:solidFill>
                  <a:srgbClr val="eeece1"/>
                </a:solidFill>
                <a:latin typeface="Calibri"/>
              </a:rPr>
              <a:t>Unit2</a:t>
            </a:r>
            <a:r>
              <a:rPr b="1" lang="ru-RU" sz="1200" spc="-1" strike="noStrike">
                <a:solidFill>
                  <a:srgbClr val="eeece1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1F63-6FBB-49F1-A6E3-9478CC58845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пишем вторую форму в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Unit2.pas.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 главном меню  выберем пунк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File / New /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Зададим этой форме </a:t>
            </a:r>
            <a:r>
              <a:rPr b="1" lang="en-US" sz="1200" spc="-1" strike="noStrike">
                <a:solidFill>
                  <a:srgbClr val="990000"/>
                </a:solidFill>
                <a:latin typeface="Comic Sans MS"/>
              </a:rPr>
              <a:t>Caption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 </a:t>
            </a:r>
            <a:r>
              <a:rPr b="1" lang="en-US" sz="1200" spc="-1" strike="noStrike">
                <a:solidFill>
                  <a:srgbClr val="990000"/>
                </a:solidFill>
                <a:latin typeface="Comic Sans MS"/>
              </a:rPr>
              <a:t>Name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-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оместим на форму кнопку  </a:t>
            </a:r>
            <a:r>
              <a:rPr b="1" lang="en-US" sz="1200" spc="-1" strike="noStrike">
                <a:solidFill>
                  <a:srgbClr val="990099"/>
                </a:solidFill>
                <a:latin typeface="Comic Sans MS"/>
              </a:rPr>
              <a:t>Button</a:t>
            </a:r>
            <a:r>
              <a:rPr b="1" lang="ru-RU" sz="12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 заголов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ком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Close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 компоненту </a:t>
            </a:r>
            <a:r>
              <a:rPr b="1" lang="en-US" sz="1200" spc="-1" strike="noStrike">
                <a:solidFill>
                  <a:srgbClr val="990099"/>
                </a:solidFill>
                <a:latin typeface="Comic Sans MS"/>
              </a:rPr>
              <a:t>Label</a:t>
            </a:r>
            <a:r>
              <a:rPr b="1" lang="ru-RU" sz="1200" spc="-1" strike="noStrike">
                <a:solidFill>
                  <a:srgbClr val="990099"/>
                </a:solidFill>
                <a:latin typeface="Comic Sans MS"/>
              </a:rPr>
              <a:t>,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который пред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тавляет  собой  простой текст,  который  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редактируется при выполнени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Текст вводится в поле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Caption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utoSize:Boolean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-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автоматическая коррекция размера </a:t>
            </a:r>
            <a:r>
              <a:rPr b="1" lang="en-US" sz="1200" spc="-1" strike="noStrike">
                <a:solidFill>
                  <a:srgbClr val="990099"/>
                </a:solidFill>
                <a:latin typeface="Comic Sans MS"/>
              </a:rPr>
              <a:t>Label</a:t>
            </a: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,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 зависимости от текста над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ligment:T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А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ligment</a:t>
            </a: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-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пособ выравнивания текста внутри компонента, может принимать следующие знач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- </a:t>
            </a:r>
            <a:r>
              <a:rPr b="1" lang="en-US" sz="1200" spc="-1" strike="noStrike">
                <a:solidFill>
                  <a:srgbClr val="990099"/>
                </a:solidFill>
                <a:latin typeface="Calibri"/>
              </a:rPr>
              <a:t>taLeftJustify</a:t>
            </a: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- выравнивание по левому кр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- </a:t>
            </a:r>
            <a:r>
              <a:rPr b="1" lang="en-US" sz="1200" spc="-1" strike="noStrike">
                <a:solidFill>
                  <a:srgbClr val="990099"/>
                </a:solidFill>
                <a:latin typeface="Calibri"/>
              </a:rPr>
              <a:t>taCenter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-центрирование тек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- </a:t>
            </a:r>
            <a:r>
              <a:rPr b="1" lang="en-US" sz="1200" spc="-1" strike="noStrike">
                <a:solidFill>
                  <a:srgbClr val="990099"/>
                </a:solidFill>
                <a:latin typeface="Calibri"/>
              </a:rPr>
              <a:t>taRightJustify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- выравнивание по правому кр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WordWrap:Boolean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-автоматический перенос слов на другую стро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Transparent:Boolean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- прозрачная надпись или закрашенная. Цв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закрашивания устанавливается свойством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Color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.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DD5D-25E9-45D6-8A65-B93D8298FB0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ри нажатии на кнопку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Close</a:t>
            </a: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делаем так, чтобы форма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закрывала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eeece1"/>
                </a:solidFill>
                <a:latin typeface="Arial Black"/>
              </a:rPr>
              <a:t>procedure</a:t>
            </a:r>
            <a:r>
              <a:rPr b="1" lang="ru-RU" sz="1200" spc="-1" strike="noStrike">
                <a:solidFill>
                  <a:srgbClr val="6633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TAbout.Button1Click(Sender: TObject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Arial Black"/>
              </a:rPr>
              <a:t>   </a:t>
            </a:r>
            <a:r>
              <a:rPr b="1" lang="ru-RU" sz="1200" spc="-1" strike="noStrike">
                <a:solidFill>
                  <a:srgbClr val="eeece1"/>
                </a:solidFill>
                <a:latin typeface="Arial Black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Clos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 Black"/>
              </a:rPr>
              <a:t>   </a:t>
            </a:r>
            <a:r>
              <a:rPr b="1" lang="ru-RU" sz="1200" spc="-1" strike="noStrike">
                <a:solidFill>
                  <a:srgbClr val="663300"/>
                </a:solidFill>
                <a:latin typeface="Arial Black"/>
              </a:rPr>
              <a:t>end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ри  нажатии кнопки </a:t>
            </a: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About Form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ервой формы на экране отображается вторая форма, которая до этого была невиди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Т.к.  из  модуля  </a:t>
            </a: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Unit1</a:t>
            </a:r>
            <a:r>
              <a:rPr b="1" lang="ru-RU" sz="1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существляется операция со второй формой, то в разделе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800080"/>
                </a:solidFill>
                <a:latin typeface="Tahoma"/>
              </a:rPr>
              <a:t>implementation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модуля</a:t>
            </a:r>
            <a:r>
              <a:rPr b="1" lang="ru-RU" sz="1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Unit1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оместим  код </a:t>
            </a:r>
            <a:r>
              <a:rPr b="1" lang="en-US" sz="1200" spc="-1" strike="noStrike">
                <a:solidFill>
                  <a:srgbClr val="800080"/>
                </a:solidFill>
                <a:latin typeface="Tahoma"/>
              </a:rPr>
              <a:t>uses Unit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Или</a:t>
            </a:r>
            <a:r>
              <a:rPr b="1" lang="ru-RU" sz="1200" spc="-1" strike="noStrike">
                <a:solidFill>
                  <a:srgbClr val="eeece1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eeece1"/>
                </a:solidFill>
                <a:latin typeface="Comic Sans MS"/>
              </a:rPr>
              <a:t>File / Use Uni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5284-F7F4-4583-91C4-3DC81C63331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7ABA-1CBA-4ADA-A341-F72EA8C2D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6E6D-EB75-428D-964C-0A00FB18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D6A550-5DE0-43A7-82F2-866DD5F5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EE43C-D79F-455B-A899-12D3236A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D6F6B-6280-4F7A-9963-C2114F5E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B062D-6A00-41B2-9C4F-77858FBE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CD3C1-9BB9-4698-8744-709C2523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8D7FA-0DC4-4EE9-A2D8-9F363E75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D5ECF-47B2-4AD4-AB62-BE351528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4C3B3-3DA3-4BB1-AB95-7C919E99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39AB2-1E27-4A19-973A-364F384C1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7510ED-5BBB-4004-899B-85AA55A9F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347D-B2BB-4F0A-9EE9-39163E009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A2B5B-2F88-4871-A29A-AA1753A8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D8B63-DA4D-49A2-A136-DBF096E0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E818D-D816-4951-8F5C-0092623B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E8779-3AE5-4D44-BBF0-D07B325C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4681D-34BC-414F-B02E-9319E5BA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19B29-8BAE-418D-ABC9-FCBEBB13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6CCD5-546B-4B5C-8804-CBBF9DF3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5F324D-81B8-48E5-942C-496CF933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B16C1-7748-4CB5-A08A-04175071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6DEF9-B3D2-4D5A-A8B8-8C5B5869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A64A-566D-411C-90FF-12DF94C0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1B9AA-C9FD-4232-B67C-3305A2B9C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8BE93-9F6E-4404-867D-1E26CFE18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2BBAF-89EB-412F-9808-7079A5AC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96DA8-A430-4455-85A3-7AA68036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CE80E-5D91-4357-804E-19702482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0731B-FE61-4552-AD01-30D4C66E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107E2-9079-43C2-ADF3-ED6CDF23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92382-F1EA-4A34-9E1A-FDE58B75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A7E74-505D-40F1-A440-F49C4990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B1983-C11D-4E16-B9DF-5B25ACBB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FC1B-423A-484B-AC2E-DA0CDCBCA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3F908-8F34-4BD6-8D6A-7B3E64DD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2DAF7-F4BB-4BCE-8A36-0BA0859DC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849AF-80CE-46FB-8973-BCD5F87E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93A80-899A-419A-A9A6-80B8C077D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9C74CB-16D9-4F5A-94B6-E895147A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E70958-5934-440A-A29A-3BD7FC2F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B4149-9F5A-4AE4-B705-08F1B380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A58D6F-151D-4198-9E46-461CDDDD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8E6BC-50CE-46B5-B255-1B9AE50A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980DC6-3B83-4934-805E-09129F72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42F5-28C0-46DC-BD80-DF62F2D7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9A268F-33BE-4E4D-B2B9-6A561B92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3AAB1-EA13-4B8D-8434-EF981539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604E14-C376-463C-96A7-63CB90F4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973FA-7F64-44BD-96F9-18CAC2A6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184E5-FDFC-4DAE-B5EE-6E271E176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4443-E361-434B-9B02-5C4E3337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4A0A-B746-409B-ACAC-959C623A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4FFC-1984-4EA8-8871-BF4D9047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84FC-0608-4714-AFC4-8D57A1B3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6E5D-ACE8-4026-80E7-6B5BADCB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217A-C48F-49AD-95D7-4CC11652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25BC-BBD4-43D1-8536-ED878796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E38D-84A0-4FB6-9EA4-26889598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AD14-D6E3-45BF-8034-C3255032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06F2-8C78-431D-B843-30D7BD18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C8F4-FF59-4DCB-AFB5-3BEB4C222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6805A-66F2-458B-AFE3-0C392EAF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ED944-3AFB-41B5-A04C-50CCBFC6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7903A-C2C4-426D-A38C-1BDB511F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C275A-7576-4FA0-815C-6B400FF7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6823C-6A58-4932-B2E5-DD9F1809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BAF3-4F58-4672-B0AF-D14C87E6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CEE45-6E67-467E-8B16-6B5A1B4E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BB4D6-67D9-4445-A102-2148BFA3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12AFE-F39E-46D4-8EF1-C22E2D80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4FC09-0C06-4F18-B8B0-7E5FBA75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EF733-9ABD-4F15-8534-1D03D9F0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46004-8D31-4982-95CC-1EBA3A47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2531F-8E4E-4351-8EBD-0D5200CD3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3C97F-F999-4F79-9D32-3486F2B51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EF757-9AFC-45C4-9142-B46DED1F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1C027-81D5-43A6-BCB2-B2EFFADA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28AA-F17A-4E88-B31D-7A60B3CF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956F7-367F-4BD6-8AE0-674C2F61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0E333-65B1-4A81-AFF6-B0BA79FE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23CB1-D50C-4476-A749-C1CD84BD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7293C-77A1-4BAC-86C4-6AB74160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8075D-1A7B-4398-A8C8-A361E22D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EAE20-CF3E-4FC1-9B8A-D14462A5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D9491-F4F7-4F68-9529-9703B692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87A5F-F89C-4CCB-853E-09065ABB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F3842-3936-4527-B61F-219AADE7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01D76-B610-4A40-ACF7-37B707B3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F520-DF32-421E-8CE0-BEB6653E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B63BE-E195-42DF-950F-0B728103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19F41-64A3-4DF7-99F1-2C7667B6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1C8C1-4527-4398-9C6E-D32A7CD0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A6E82-0677-4DB8-B762-21443D7B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417EB-5028-42A0-8A33-E04415C3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AAC38-4647-47FC-B0CE-C68488C7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A521D-DAE8-4B52-914A-C53305EC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E383E-1649-440B-8618-DEBBB6E5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FED9F-87EE-4529-AB82-4799E0B1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4CF88-7ED4-4AAC-B64A-4C24BC86C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044C-F2B7-44E3-BB74-F7CC73BB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35761-257B-4970-B540-E5FD0B95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E9D56-93B0-4C7F-ABE8-069398D6F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1358C-6184-4DAA-80FA-605AF007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A2A50-760A-4A20-87A8-A0442A4B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0C091-6AFA-44C4-B13B-ABF16DA9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5FE8A-3CFE-431E-AFEC-6BF99DEA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F0E49-BDDD-436C-B41D-A0CB4C70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0F3B0-8CCE-49CA-90D3-078A81FA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65529-E303-4CCB-A901-D672CD1E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EAECC-B7D2-49D3-AB92-77DD921E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276A-06DB-4A2F-9607-7278E38A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6493A-D310-44BE-AAA0-F7DB99AF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E3948-E5A3-4967-9A5E-CFE02D2E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756B1-186D-4F03-88CD-D2501DB4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A12A9-B868-40DD-8B43-070F222B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0EA81-501F-4204-B064-4561B094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E8281-8FB6-45E8-9D24-DA012364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836FE-F478-40C5-9AB6-5ED5C6CD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D9144-922A-4432-97FC-515FB873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F31E5-19DF-4876-87A0-15EC3932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9C0C5-138F-4BF9-98B7-A6AADF38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FFDB-CDE0-4054-9E53-17613D29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62BF7-9F69-42A9-B4A1-496C2BDA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3A554-CB6C-4E6C-B9B5-26ABA6D9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70CFA-2C54-49DF-9792-1D5E197D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5E205-69CF-4208-834D-DBBF7344A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57DCA-3638-4D26-BF4F-14F9614C5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CD6CF-1658-4215-A230-B89DC322A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E45EB-344D-47DD-931A-0245E45F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5D60E-BAD3-479A-AAD7-C361A90A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47E17-FCF1-4158-B394-4BDA1649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8272E-947D-4F91-B69F-5CB24834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C3D2-AD42-4EEE-AC53-D1F102AE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A800F-B566-441C-8CE0-534890DF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D77D1-E498-47B1-9B92-9E536C75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154E0-246B-44B3-80A1-019A3DD3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CC4BD-6F72-4EE3-996D-C855D9D1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B8306-2E3A-415B-8A90-BAB80C43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79AC2-75FD-44DC-83A2-A4E04A27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8B409-D983-4C4E-ACB7-59E9FB4E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D489F-93DA-463F-8051-8DF682BA5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E167A-324F-419F-8C71-A1ADA16B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E9FFB-1050-46A6-ABBC-3234370D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BFDC-A64F-466F-88EF-9C3D688D93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9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4D33-00BB-43FE-8833-7BB567CD2E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4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7198-2560-47D6-A3BD-03122BE681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8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B242-4548-43E0-883F-BCE56FB2851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2D38-8FE2-41B7-9051-A8E7E870F0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8C80-4C3B-45F4-8A24-EFCB56FB39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3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2E84-804E-4F93-A28F-847D3EFC73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7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88D2-ED13-45DF-8A43-38A23EA838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2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545B-5FF4-468B-B63F-D91358A40F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6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BBE4-8E6A-4BB1-939F-618BEF84E7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0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7723-74DA-41A0-A21B-312409FE06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5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B113-D902-4ADF-BB0F-D777FC0A11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6554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33"/>
                </a:solidFill>
                <a:latin typeface="Arial"/>
              </a:rPr>
              <a:t>Лекция </a:t>
            </a: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2057040" y="2133360"/>
            <a:ext cx="4724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Lucida Sans"/>
              </a:rPr>
              <a:t>Delphi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228600" y="685800"/>
            <a:ext cx="8610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Для того, чтобы сохранить проект,  в главном меню выберем пунк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File / Save Project As…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4572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171360" y="122400"/>
            <a:ext cx="348156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Сохранение прое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1" name="Picture 6" descr="D:\usu\Курсовая\Рисунки\сохранение.bmp"/>
          <p:cNvPicPr/>
          <p:nvPr/>
        </p:nvPicPr>
        <p:blipFill>
          <a:blip r:embed="rId1"/>
          <a:stretch/>
        </p:blipFill>
        <p:spPr>
          <a:xfrm>
            <a:off x="0" y="1523880"/>
            <a:ext cx="3429000" cy="51055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602" name="Text Box 7"/>
          <p:cNvSpPr/>
          <p:nvPr/>
        </p:nvSpPr>
        <p:spPr>
          <a:xfrm>
            <a:off x="3655080" y="1295280"/>
            <a:ext cx="4734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Дадим нашему проекту имя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Project1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3581280" y="2174760"/>
            <a:ext cx="5562720" cy="4481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Запуск процесса компиляции выполняется по команде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Project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 /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Compile&lt;Project1&gt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Компиляция проекта для получения приложения  может быть выполнена на любой  стадии  разработки  проекта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Это удобно для проверки вида и правильности    функционирования отдельных компонентов формы, а также для  проверки  создаваемого  код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После компиляции проекта  создается исполняемый файл приложения с именем файла проекта 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Text Box 9"/>
          <p:cNvSpPr/>
          <p:nvPr/>
        </p:nvSpPr>
        <p:spPr>
          <a:xfrm>
            <a:off x="3645000" y="1752480"/>
            <a:ext cx="22381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Компиля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5" name="Picture 10" descr="D:\usu\Курсовая\Рисунки\exe.bmp"/>
          <p:cNvPicPr/>
          <p:nvPr/>
        </p:nvPicPr>
        <p:blipFill>
          <a:blip r:embed="rId2"/>
          <a:stretch/>
        </p:blipFill>
        <p:spPr>
          <a:xfrm>
            <a:off x="5943600" y="6324480"/>
            <a:ext cx="1905120" cy="533520"/>
          </a:xfrm>
          <a:prstGeom prst="rect">
            <a:avLst/>
          </a:prstGeom>
          <a:ln w="0">
            <a:noFill/>
          </a:ln>
        </p:spPr>
      </p:pic>
      <p:sp>
        <p:nvSpPr>
          <p:cNvPr id="6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2"/>
          <p:cNvSpPr/>
          <p:nvPr/>
        </p:nvSpPr>
        <p:spPr>
          <a:xfrm>
            <a:off x="672840" y="122400"/>
            <a:ext cx="266328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Запуск прое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Text Box 3"/>
          <p:cNvSpPr/>
          <p:nvPr/>
        </p:nvSpPr>
        <p:spPr>
          <a:xfrm>
            <a:off x="228600" y="685800"/>
            <a:ext cx="8702640" cy="1160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dee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Запустить проект  на выполнение можно из среды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Delphi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и из среды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Windows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.  Из среды 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Delphi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осуществляется командой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Run / Ru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или  нажатием клавиш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&lt;F9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Text Box 4"/>
          <p:cNvSpPr/>
          <p:nvPr/>
        </p:nvSpPr>
        <p:spPr>
          <a:xfrm>
            <a:off x="4401000" y="1981080"/>
            <a:ext cx="1985040" cy="459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Замеч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212760" y="2327400"/>
            <a:ext cx="8626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Text Box 6"/>
          <p:cNvSpPr/>
          <p:nvPr/>
        </p:nvSpPr>
        <p:spPr>
          <a:xfrm>
            <a:off x="4267080" y="2438280"/>
            <a:ext cx="4587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Нельзя запустить вторую копию приложения при уже запущенном приложении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Продолжить разработку проекта можно только после завершения работы приложения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При зацикливании (зависании) приложения завершение его работы необходимо выполнять средствами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Delphi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с помощью команды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Run / Program Reset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или нажатия клавиш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&lt;Ctrl&gt;+&lt;F2&gt;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  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Oval 7"/>
          <p:cNvSpPr/>
          <p:nvPr/>
        </p:nvSpPr>
        <p:spPr>
          <a:xfrm>
            <a:off x="4267080" y="2590920"/>
            <a:ext cx="152640" cy="15228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Oval 8"/>
          <p:cNvSpPr/>
          <p:nvPr/>
        </p:nvSpPr>
        <p:spPr>
          <a:xfrm>
            <a:off x="4267080" y="3505320"/>
            <a:ext cx="152640" cy="15228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Oval 9"/>
          <p:cNvSpPr/>
          <p:nvPr/>
        </p:nvSpPr>
        <p:spPr>
          <a:xfrm>
            <a:off x="4267080" y="4495680"/>
            <a:ext cx="152640" cy="15264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5" name="Picture 10" descr="D:\usu\Курсовая\Рисунки\run.bmp"/>
          <p:cNvPicPr/>
          <p:nvPr/>
        </p:nvPicPr>
        <p:blipFill>
          <a:blip r:embed="rId1"/>
          <a:stretch/>
        </p:blipFill>
        <p:spPr>
          <a:xfrm>
            <a:off x="0" y="1905120"/>
            <a:ext cx="4191120" cy="4724280"/>
          </a:xfrm>
          <a:prstGeom prst="rect">
            <a:avLst/>
          </a:prstGeom>
          <a:ln w="0">
            <a:noFill/>
          </a:ln>
        </p:spPr>
      </p:pic>
      <p:sp>
        <p:nvSpPr>
          <p:cNvPr id="6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3"/>
          <p:cNvSpPr/>
          <p:nvPr/>
        </p:nvSpPr>
        <p:spPr>
          <a:xfrm>
            <a:off x="118080" y="385920"/>
            <a:ext cx="849096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Приложение которое мы создали будет иметь ви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8" name="Picture 4" descr="D:\usu\Курсовая\Рисунки\Form21.bmp"/>
          <p:cNvPicPr/>
          <p:nvPr/>
        </p:nvPicPr>
        <p:blipFill>
          <a:blip r:embed="rId1"/>
          <a:stretch/>
        </p:blipFill>
        <p:spPr>
          <a:xfrm>
            <a:off x="533520" y="1143000"/>
            <a:ext cx="7848360" cy="533412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" descr="C:\Мои документы\Безымянный.bmp"/>
          <p:cNvPicPr/>
          <p:nvPr/>
        </p:nvPicPr>
        <p:blipFill>
          <a:blip r:embed="rId2"/>
          <a:stretch/>
        </p:blipFill>
        <p:spPr>
          <a:xfrm>
            <a:off x="3429000" y="3809880"/>
            <a:ext cx="5105520" cy="2819520"/>
          </a:xfrm>
          <a:prstGeom prst="rect">
            <a:avLst/>
          </a:prstGeom>
          <a:ln w="0">
            <a:noFill/>
          </a:ln>
        </p:spPr>
      </p:pic>
      <p:sp>
        <p:nvSpPr>
          <p:cNvPr id="6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D:\usu\Курсовая\Рисунки\вид1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3"/>
          <p:cNvSpPr/>
          <p:nvPr/>
        </p:nvSpPr>
        <p:spPr>
          <a:xfrm>
            <a:off x="5943600" y="4724280"/>
            <a:ext cx="3008160" cy="1798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Verdana"/>
              </a:rPr>
              <a:t>Палитра компонен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Verdana"/>
              </a:rPr>
              <a:t>Окно редактора код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Verdana"/>
              </a:rPr>
              <a:t>Окно конструктора формы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Verdana"/>
              </a:rPr>
              <a:t>Окно инспектора объек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Line 5"/>
          <p:cNvSpPr/>
          <p:nvPr/>
        </p:nvSpPr>
        <p:spPr>
          <a:xfrm flipH="1" flipV="1">
            <a:off x="1676160" y="1600200"/>
            <a:ext cx="4267080" cy="457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Line 6"/>
          <p:cNvSpPr/>
          <p:nvPr/>
        </p:nvSpPr>
        <p:spPr>
          <a:xfrm flipH="1" flipV="1">
            <a:off x="3733920" y="2438280"/>
            <a:ext cx="2209680" cy="3353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Line 7"/>
          <p:cNvSpPr/>
          <p:nvPr/>
        </p:nvSpPr>
        <p:spPr>
          <a:xfrm flipH="1" flipV="1">
            <a:off x="5029200" y="1752120"/>
            <a:ext cx="914400" cy="358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Line 8"/>
          <p:cNvSpPr/>
          <p:nvPr/>
        </p:nvSpPr>
        <p:spPr>
          <a:xfrm flipV="1">
            <a:off x="6095880" y="114300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16"/>
          <p:cNvSpPr/>
          <p:nvPr/>
        </p:nvSpPr>
        <p:spPr>
          <a:xfrm>
            <a:off x="304920" y="2362320"/>
            <a:ext cx="4952880" cy="533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Text Box 2"/>
          <p:cNvSpPr/>
          <p:nvPr/>
        </p:nvSpPr>
        <p:spPr>
          <a:xfrm>
            <a:off x="228600" y="685800"/>
            <a:ext cx="8686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кно редактора кода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Unit1.pas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)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создает   исходный   текст модуля  разрабатываемого приложения.  Каждый   редактируемый  файл  находится на отдельной странице,  доступ  к которой можно получить, щелкнув на ее ярлычк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Times New Roman"/>
              </a:rPr>
              <a:t>Окно конструктора формы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(Form1)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в  нем  выполняется  проектирование формы. Для  чего  на форму  из  Палитры   компонентов помещаются необходимые элемен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кно инспектора объектов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тображает свойства и события объектов  для текущей формы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Form1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Его можно отобразить с помощью команды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View / Object Inspector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ли нажатия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клавиши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&lt;F11&gt;.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кно инспектора объектов имеет 2 вкладк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Properties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войства) и  </a:t>
            </a: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Events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(События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Text Box 18"/>
          <p:cNvSpPr/>
          <p:nvPr/>
        </p:nvSpPr>
        <p:spPr>
          <a:xfrm>
            <a:off x="124200" y="2362320"/>
            <a:ext cx="52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Окно конструктора фор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784760" y="42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Text Box 12"/>
          <p:cNvSpPr/>
          <p:nvPr/>
        </p:nvSpPr>
        <p:spPr>
          <a:xfrm>
            <a:off x="167760" y="228600"/>
            <a:ext cx="4172040" cy="5205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Окно редактора ко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Rectangle 13"/>
          <p:cNvSpPr/>
          <p:nvPr/>
        </p:nvSpPr>
        <p:spPr>
          <a:xfrm>
            <a:off x="304920" y="4191120"/>
            <a:ext cx="5105160" cy="533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Text Box 15"/>
          <p:cNvSpPr/>
          <p:nvPr/>
        </p:nvSpPr>
        <p:spPr>
          <a:xfrm>
            <a:off x="185760" y="4191120"/>
            <a:ext cx="52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Окно инспектора объек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228600" y="533520"/>
            <a:ext cx="8534520" cy="619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pr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сновный файл проекта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fm </a:t>
            </a: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Ф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айл формы 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Pas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Файл модуля Паскаля 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Res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Файлы ресурсов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!(создаетс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                            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и первом сохранении)</a:t>
            </a:r>
            <a:r>
              <a:rPr b="1" lang="ru-RU" sz="2400" spc="-1" strike="noStrike">
                <a:solidFill>
                  <a:srgbClr val="ccff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Opt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Файл параметров прое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~*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Резервные копии файл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cr 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Delphi Component Resource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cu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компилированный файл модул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sm 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Промежуточный к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ll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Файлы динамических библиоте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sk 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Конфигурация рабочей обла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Exe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сполняемые фай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956520" y="0"/>
            <a:ext cx="4623120" cy="5814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Расширения файл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AutoShape 5"/>
          <p:cNvSpPr/>
          <p:nvPr/>
        </p:nvSpPr>
        <p:spPr>
          <a:xfrm>
            <a:off x="5791320" y="685800"/>
            <a:ext cx="380880" cy="1752480"/>
          </a:xfrm>
          <a:custGeom>
            <a:avLst/>
            <a:gdLst>
              <a:gd name="textAreaLeft" fmla="*/ 0 w 380880"/>
              <a:gd name="textAreaRight" fmla="*/ 137520 w 3808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6411240" y="838080"/>
            <a:ext cx="19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бязательны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файл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ля работ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илож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3"/>
          <p:cNvSpPr/>
          <p:nvPr/>
        </p:nvSpPr>
        <p:spPr>
          <a:xfrm>
            <a:off x="289080" y="11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123120" y="228600"/>
            <a:ext cx="6720120" cy="58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Пример простого прилож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212760" y="879480"/>
            <a:ext cx="8702640" cy="5214600"/>
          </a:xfrm>
          <a:prstGeom prst="rect">
            <a:avLst/>
          </a:prstGeom>
          <a:gradFill rotWithShape="0">
            <a:gsLst>
              <a:gs pos="0">
                <a:srgbClr val="e9e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Создание нового приложения начинается с того, что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Delphi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автоматически предлагает пустое окно - форму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Form1.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Интерфейс приложения составляют компоненты, которые можно выбирать из  </a:t>
            </a:r>
            <a:r>
              <a:rPr b="1" lang="ru-RU" sz="2100" spc="-1" strike="noStrike">
                <a:solidFill>
                  <a:srgbClr val="990000"/>
                </a:solidFill>
                <a:latin typeface="Times New Roman"/>
              </a:rPr>
              <a:t>Палитры компонентов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,  размещать  их  на форме и изменять их свойства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Выбор компонента в Палитре выполняется щелчком мыши на нужном компоненте,  например,  кнопке 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Button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и  после этого щелкнуть на форме. На  ней  появится  выбранный компонент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После размещения компонента на форме 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Delphi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автоматически вносит  изменения  в  файл модуля, т.е. добавляется  строчка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33"/>
                </a:solidFill>
                <a:latin typeface="Times New Roman"/>
              </a:rPr>
              <a:t>&lt;</a:t>
            </a:r>
            <a:r>
              <a:rPr b="1" lang="ru-RU" sz="2100" spc="-1" strike="noStrike">
                <a:solidFill>
                  <a:srgbClr val="ff0033"/>
                </a:solidFill>
                <a:latin typeface="Times New Roman"/>
              </a:rPr>
              <a:t>Название компонента</a:t>
            </a:r>
            <a:r>
              <a:rPr b="1" lang="en-US" sz="2100" spc="-1" strike="noStrike">
                <a:solidFill>
                  <a:srgbClr val="ff0033"/>
                </a:solidFill>
                <a:latin typeface="Times New Roman"/>
              </a:rPr>
              <a:t>&gt;</a:t>
            </a:r>
            <a:r>
              <a:rPr b="1" lang="ru-RU" sz="2100" spc="-1" strike="noStrike">
                <a:solidFill>
                  <a:srgbClr val="ff0033"/>
                </a:solidFill>
                <a:latin typeface="Times New Roman"/>
              </a:rPr>
              <a:t>:</a:t>
            </a:r>
            <a:r>
              <a:rPr b="1" lang="en-US" sz="2100" spc="-1" strike="noStrike">
                <a:solidFill>
                  <a:srgbClr val="ff0033"/>
                </a:solidFill>
                <a:latin typeface="Times New Roman"/>
              </a:rPr>
              <a:t>&lt;</a:t>
            </a:r>
            <a:r>
              <a:rPr b="1" lang="ru-RU" sz="2100" spc="-1" strike="noStrike">
                <a:solidFill>
                  <a:srgbClr val="ff0033"/>
                </a:solidFill>
                <a:latin typeface="Times New Roman"/>
              </a:rPr>
              <a:t>Тип компонента</a:t>
            </a:r>
            <a:r>
              <a:rPr b="1" lang="en-US" sz="2100" spc="-1" strike="noStrike">
                <a:solidFill>
                  <a:srgbClr val="ff0033"/>
                </a:solidFill>
                <a:latin typeface="Times New Roman"/>
              </a:rPr>
              <a:t>&gt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Внешний вид компонента определяют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его свойства, которые доступны в окне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990000"/>
                </a:solidFill>
                <a:latin typeface="Times New Roman"/>
              </a:rPr>
              <a:t>Инспектора объектов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, когда компонент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на форме выделен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1" name="Picture 7" descr="D:\usu\Курсовая\Рисунки\строка.bmp"/>
          <p:cNvPicPr/>
          <p:nvPr/>
        </p:nvPicPr>
        <p:blipFill>
          <a:blip r:embed="rId1"/>
          <a:stretch/>
        </p:blipFill>
        <p:spPr>
          <a:xfrm>
            <a:off x="5791320" y="4114800"/>
            <a:ext cx="2971800" cy="6858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8" descr="D:\usu\Курсовая\Рисунки\кнопка.bmp"/>
          <p:cNvPicPr/>
          <p:nvPr/>
        </p:nvPicPr>
        <p:blipFill>
          <a:blip r:embed="rId2"/>
          <a:stretch/>
        </p:blipFill>
        <p:spPr>
          <a:xfrm>
            <a:off x="5486400" y="4876920"/>
            <a:ext cx="3429000" cy="1676160"/>
          </a:xfrm>
          <a:prstGeom prst="rect">
            <a:avLst/>
          </a:prstGeom>
          <a:ln w="0">
            <a:noFill/>
          </a:ln>
        </p:spPr>
      </p:pic>
      <p:sp>
        <p:nvSpPr>
          <p:cNvPr id="563" name="Line 9"/>
          <p:cNvSpPr/>
          <p:nvPr/>
        </p:nvSpPr>
        <p:spPr>
          <a:xfrm flipV="1">
            <a:off x="2743200" y="5562720"/>
            <a:ext cx="3200400" cy="380880"/>
          </a:xfrm>
          <a:prstGeom prst="line">
            <a:avLst/>
          </a:prstGeom>
          <a:ln w="28440">
            <a:solidFill>
              <a:srgbClr val="cc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Line 10"/>
          <p:cNvSpPr/>
          <p:nvPr/>
        </p:nvSpPr>
        <p:spPr>
          <a:xfrm>
            <a:off x="5181480" y="4419720"/>
            <a:ext cx="838440" cy="15228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3" descr="C:\Мои документы\Безымянный.bmp"/>
          <p:cNvPicPr/>
          <p:nvPr/>
        </p:nvPicPr>
        <p:blipFill>
          <a:blip r:embed="rId1"/>
          <a:stretch/>
        </p:blipFill>
        <p:spPr>
          <a:xfrm>
            <a:off x="0" y="0"/>
            <a:ext cx="3048120" cy="685800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4"/>
          <p:cNvSpPr/>
          <p:nvPr/>
        </p:nvSpPr>
        <p:spPr>
          <a:xfrm>
            <a:off x="3048120" y="117360"/>
            <a:ext cx="6095880" cy="69231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90000"/>
                </a:solidFill>
                <a:latin typeface="Times New Roman"/>
              </a:rPr>
              <a:t>В окне </a:t>
            </a:r>
            <a:r>
              <a:rPr b="1" lang="ru-RU" sz="2100" spc="-1" strike="noStrike">
                <a:solidFill>
                  <a:srgbClr val="000066"/>
                </a:solidFill>
                <a:latin typeface="Comic Sans MS"/>
              </a:rPr>
              <a:t>Инспектора объектов</a:t>
            </a:r>
            <a:r>
              <a:rPr b="1" lang="ru-RU" sz="2100" spc="-1" strike="noStrike">
                <a:solidFill>
                  <a:srgbClr val="990000"/>
                </a:solidFill>
                <a:latin typeface="Times New Roman"/>
              </a:rPr>
              <a:t> приводятся названия всех свойств и их значения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    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Свойства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 представляют  собой  атрибуты, определяющие способ отображения и функцио-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нирования компонентов при выполнении приложения. Изменять значения свойств можно непосредственно в Инспекторе, при этом сразу же изменяется соответствующий компонент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Дадим нашей кнопке другой заголовок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напишем в строке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100" spc="-1" strike="noStrike" u="sng">
                <a:solidFill>
                  <a:srgbClr val="990000"/>
                </a:solidFill>
                <a:uFillTx/>
                <a:latin typeface="Times New Roman"/>
              </a:rPr>
              <a:t>Caption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-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About Form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 u="sng">
                <a:solidFill>
                  <a:srgbClr val="ffffff"/>
                </a:solidFill>
                <a:uFillTx/>
                <a:latin typeface="Comic Sans MS"/>
              </a:rPr>
              <a:t>Некоторые свойства </a:t>
            </a:r>
            <a:r>
              <a:rPr b="1" i="1" lang="en-US" sz="1700" spc="-1" strike="noStrike" u="sng">
                <a:solidFill>
                  <a:srgbClr val="ffffff"/>
                </a:solidFill>
                <a:uFillTx/>
                <a:latin typeface="Comic Sans MS"/>
              </a:rPr>
              <a:t>Button</a:t>
            </a:r>
            <a:r>
              <a:rPr b="1" i="1" lang="ru-RU" sz="1700" spc="-1" strike="noStrike" u="sng">
                <a:solidFill>
                  <a:srgbClr val="ffffff"/>
                </a:solidFill>
                <a:uFillTx/>
                <a:latin typeface="Comic Sans MS"/>
              </a:rPr>
              <a:t>: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Cursor:TCursor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изображение мыши при наведении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на кнопку (например: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crHandPoint           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Default:Boolean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нажатие кнопки выполняется по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клавише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Enter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, если значение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Default=Tru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Font:TFont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шрифт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Height:Integer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высота кнопки в пикселях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Width:Integer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 ширина кнопки в пикселях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Left :Integer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 горизонтальная координата левого верхнего угл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Top :Integer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 вертикальная координата левого верхнего угл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Line 7"/>
          <p:cNvSpPr/>
          <p:nvPr/>
        </p:nvSpPr>
        <p:spPr>
          <a:xfrm flipH="1" flipV="1">
            <a:off x="2437920" y="1981080"/>
            <a:ext cx="685800" cy="10670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9" name="Picture 8" descr="D:\usu\Курсовая\Рисунки\Рука.bmp"/>
          <p:cNvPicPr/>
          <p:nvPr/>
        </p:nvPicPr>
        <p:blipFill>
          <a:blip r:embed="rId2"/>
          <a:stretch/>
        </p:blipFill>
        <p:spPr>
          <a:xfrm>
            <a:off x="7010280" y="3886200"/>
            <a:ext cx="619200" cy="533520"/>
          </a:xfrm>
          <a:prstGeom prst="rect">
            <a:avLst/>
          </a:prstGeom>
          <a:ln w="0">
            <a:noFill/>
          </a:ln>
        </p:spPr>
      </p:pic>
      <p:sp>
        <p:nvSpPr>
          <p:cNvPr id="5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8" descr="D:\usu\Курсовая\Рисунки\OnClick.bmp"/>
          <p:cNvPicPr/>
          <p:nvPr/>
        </p:nvPicPr>
        <p:blipFill>
          <a:blip r:embed="rId1"/>
          <a:stretch/>
        </p:blipFill>
        <p:spPr>
          <a:xfrm>
            <a:off x="0" y="3200400"/>
            <a:ext cx="5715000" cy="22860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" descr="D:\usu\Курсовая\Рисунки\события.bmp"/>
          <p:cNvPicPr/>
          <p:nvPr/>
        </p:nvPicPr>
        <p:blipFill>
          <a:blip r:embed="rId2"/>
          <a:stretch/>
        </p:blipFill>
        <p:spPr>
          <a:xfrm>
            <a:off x="0" y="0"/>
            <a:ext cx="5181480" cy="205740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3"/>
          <p:cNvSpPr/>
          <p:nvPr/>
        </p:nvSpPr>
        <p:spPr>
          <a:xfrm>
            <a:off x="5181480" y="0"/>
            <a:ext cx="3962520" cy="2044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бы  кнопка   могла реагировать  на  какое  либо событие,  необходимо  указать </a:t>
            </a:r>
            <a:r>
              <a:rPr b="1" lang="ru-RU" sz="1900" spc="-1" strike="noStrike">
                <a:solidFill>
                  <a:srgbClr val="ff0033"/>
                </a:solidFill>
                <a:latin typeface="Comic Sans MS"/>
              </a:rPr>
              <a:t>процедуру обработки событ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которая будет вызываться при возникновении  данного событ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0" y="2133720"/>
            <a:ext cx="9144000" cy="13741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d4dff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Для этого нужно сделать двойной щелчок в области события </a:t>
            </a:r>
            <a:r>
              <a:rPr b="0" lang="en-US" sz="2100" spc="-1" strike="noStrike">
                <a:solidFill>
                  <a:srgbClr val="ff0033"/>
                </a:solidFill>
                <a:latin typeface="Comic Sans MS"/>
              </a:rPr>
              <a:t>OnClick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(или  двойной  щелчок  по  кнопке  </a:t>
            </a:r>
            <a:r>
              <a:rPr b="1" lang="en-US" sz="2100" spc="-1" strike="noStrike">
                <a:solidFill>
                  <a:srgbClr val="990000"/>
                </a:solidFill>
                <a:latin typeface="Times New Roman"/>
              </a:rPr>
              <a:t>About Form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в  результате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Delphi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автоматически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создает  в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модуле 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формы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заготовку  </a:t>
            </a:r>
            <a:r>
              <a:rPr b="0" lang="ru-RU" sz="2100" spc="-1" strike="noStrike">
                <a:solidFill>
                  <a:srgbClr val="ff0033"/>
                </a:solidFill>
                <a:latin typeface="Comic Sans MS"/>
              </a:rPr>
              <a:t>процедуры-обработчика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Freeform 7"/>
          <p:cNvSpPr/>
          <p:nvPr/>
        </p:nvSpPr>
        <p:spPr>
          <a:xfrm>
            <a:off x="1828800" y="1219320"/>
            <a:ext cx="5715000" cy="1066680"/>
          </a:xfrm>
          <a:custGeom>
            <a:avLst/>
            <a:gdLst/>
            <a:ahLst/>
            <a:rect l="l" t="t" r="r" b="b"/>
            <a:pathLst>
              <a:path w="3696" h="720">
                <a:moveTo>
                  <a:pt x="3696" y="720"/>
                </a:moveTo>
                <a:cubicBezTo>
                  <a:pt x="3112" y="676"/>
                  <a:pt x="2528" y="632"/>
                  <a:pt x="1968" y="576"/>
                </a:cubicBezTo>
                <a:cubicBezTo>
                  <a:pt x="1408" y="520"/>
                  <a:pt x="664" y="480"/>
                  <a:pt x="336" y="384"/>
                </a:cubicBezTo>
                <a:cubicBezTo>
                  <a:pt x="8" y="288"/>
                  <a:pt x="56" y="64"/>
                  <a:pt x="0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Freeform 9"/>
          <p:cNvSpPr/>
          <p:nvPr/>
        </p:nvSpPr>
        <p:spPr>
          <a:xfrm>
            <a:off x="3276720" y="2971800"/>
            <a:ext cx="635040" cy="1066680"/>
          </a:xfrm>
          <a:custGeom>
            <a:avLst/>
            <a:gdLst/>
            <a:ahLst/>
            <a:rect l="l" t="t" r="r" b="b"/>
            <a:pathLst>
              <a:path w="400" h="720">
                <a:moveTo>
                  <a:pt x="96" y="0"/>
                </a:moveTo>
                <a:cubicBezTo>
                  <a:pt x="248" y="132"/>
                  <a:pt x="400" y="264"/>
                  <a:pt x="384" y="384"/>
                </a:cubicBezTo>
                <a:cubicBezTo>
                  <a:pt x="368" y="504"/>
                  <a:pt x="64" y="656"/>
                  <a:pt x="0" y="72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699160" y="4038480"/>
            <a:ext cx="3444840" cy="1739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33"/>
                </a:solidFill>
                <a:latin typeface="Book Antiqua"/>
              </a:rPr>
              <a:t>var </a:t>
            </a: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 About: TAbou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1800" spc="-1" strike="noStrike">
                <a:solidFill>
                  <a:srgbClr val="ff0033"/>
                </a:solidFill>
                <a:latin typeface="Book Antiqua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About:=TAbout.Create(self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About.Show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Book Antiqua"/>
              </a:rPr>
              <a:t>e</a:t>
            </a:r>
            <a:r>
              <a:rPr b="1" lang="ru-RU" sz="1800" spc="-1" strike="noStrike">
                <a:solidFill>
                  <a:srgbClr val="ff0033"/>
                </a:solidFill>
                <a:latin typeface="Book Antiqua"/>
              </a:rPr>
              <a:t>n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AutoShape 13"/>
          <p:cNvSpPr/>
          <p:nvPr/>
        </p:nvSpPr>
        <p:spPr>
          <a:xfrm>
            <a:off x="5410080" y="4038480"/>
            <a:ext cx="381240" cy="1447920"/>
          </a:xfrm>
          <a:custGeom>
            <a:avLst/>
            <a:gdLst>
              <a:gd name="textAreaLeft" fmla="*/ 243720 w 381240"/>
              <a:gd name="textAreaRight" fmla="*/ 381600 w 3812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 flipV="1">
            <a:off x="761760" y="4647960"/>
            <a:ext cx="4647960" cy="75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79280" y="5491080"/>
            <a:ext cx="842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Теперь при нажатии на кнопку 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About Form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будет появляться еще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дна форма по имени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About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,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которую мы опишем в модуле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Unit2</a:t>
            </a: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5840280" y="3675240"/>
            <a:ext cx="321336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Напишем в процедур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2"/>
          <p:cNvSpPr/>
          <p:nvPr/>
        </p:nvSpPr>
        <p:spPr>
          <a:xfrm>
            <a:off x="228600" y="0"/>
            <a:ext cx="861048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Опишем вторую форму в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Unit2.pas.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В главном меню  выберем пунк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File / New / 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Зададим этой форме </a:t>
            </a:r>
            <a:r>
              <a:rPr b="1" lang="en-US" sz="2100" spc="-1" strike="noStrike">
                <a:solidFill>
                  <a:srgbClr val="990000"/>
                </a:solidFill>
                <a:latin typeface="Comic Sans MS"/>
              </a:rPr>
              <a:t>Caption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и </a:t>
            </a:r>
            <a:r>
              <a:rPr b="1" lang="en-US" sz="2100" spc="-1" strike="noStrike">
                <a:solidFill>
                  <a:srgbClr val="990000"/>
                </a:solidFill>
                <a:latin typeface="Comic Sans MS"/>
              </a:rPr>
              <a:t>Name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-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Abou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Поместим на форму кнопку  </a:t>
            </a:r>
            <a:r>
              <a:rPr b="1" lang="en-US" sz="2100" spc="-1" strike="noStrike">
                <a:solidFill>
                  <a:srgbClr val="990099"/>
                </a:solidFill>
                <a:latin typeface="Comic Sans MS"/>
              </a:rPr>
              <a:t>Button</a:t>
            </a:r>
            <a:r>
              <a:rPr b="1" lang="ru-RU" sz="21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с заголов-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ком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Close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и компоненту </a:t>
            </a:r>
            <a:r>
              <a:rPr b="1" lang="en-US" sz="2100" spc="-1" strike="noStrike">
                <a:solidFill>
                  <a:srgbClr val="990099"/>
                </a:solidFill>
                <a:latin typeface="Comic Sans MS"/>
              </a:rPr>
              <a:t>Label</a:t>
            </a:r>
            <a:r>
              <a:rPr b="1" lang="ru-RU" sz="2100" spc="-1" strike="noStrike">
                <a:solidFill>
                  <a:srgbClr val="990099"/>
                </a:solidFill>
                <a:latin typeface="Comic Sans MS"/>
              </a:rPr>
              <a:t>,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который пред-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ставляет  собой  простой текст,  который  не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редактируется при выполнении программы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Текст вводится в поле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Caption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4" name="Picture 3" descr="D:\usu\Курсовая\Рисунки\about.bmp"/>
          <p:cNvPicPr/>
          <p:nvPr/>
        </p:nvPicPr>
        <p:blipFill>
          <a:blip r:embed="rId1"/>
          <a:stretch/>
        </p:blipFill>
        <p:spPr>
          <a:xfrm>
            <a:off x="5943600" y="1066680"/>
            <a:ext cx="3200400" cy="213372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4"/>
          <p:cNvSpPr/>
          <p:nvPr/>
        </p:nvSpPr>
        <p:spPr>
          <a:xfrm>
            <a:off x="241920" y="2712960"/>
            <a:ext cx="38203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Некоторые свойства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ffff00"/>
                </a:solidFill>
                <a:latin typeface="Comic Sans MS"/>
              </a:rPr>
              <a:t>Label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228600" y="3200400"/>
            <a:ext cx="8686800" cy="3934440"/>
          </a:xfrm>
          <a:prstGeom prst="rect">
            <a:avLst/>
          </a:prstGeom>
          <a:gradFill rotWithShape="0">
            <a:gsLst>
              <a:gs pos="0">
                <a:srgbClr val="b3c6ff"/>
              </a:gs>
              <a:gs pos="50000">
                <a:srgbClr val="3366ff"/>
              </a:gs>
              <a:gs pos="100000">
                <a:srgbClr val="b3c6f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AutoSize:Boolean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-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автоматическая коррекция размера </a:t>
            </a:r>
            <a:r>
              <a:rPr b="1" lang="en-US" sz="2100" spc="-1" strike="noStrike">
                <a:solidFill>
                  <a:srgbClr val="990099"/>
                </a:solidFill>
                <a:latin typeface="Comic Sans MS"/>
              </a:rPr>
              <a:t>Label</a:t>
            </a:r>
            <a:r>
              <a:rPr b="1" lang="ru-RU" sz="2100" spc="-1" strike="noStrike">
                <a:solidFill>
                  <a:srgbClr val="990099"/>
                </a:solidFill>
                <a:latin typeface="Times New Roman"/>
              </a:rPr>
              <a:t>,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в зависимости от текста надписи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Aligment:T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А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ligment</a:t>
            </a:r>
            <a:r>
              <a:rPr b="1" lang="ru-RU" sz="2100" spc="-1" strike="noStrike">
                <a:solidFill>
                  <a:srgbClr val="000066"/>
                </a:solidFill>
                <a:latin typeface="Comic Sans MS"/>
              </a:rPr>
              <a:t>-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способ выравнивания текста внутри компонента, может принимать следующие значения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en-US" sz="2100" spc="-1" strike="noStrike">
                <a:solidFill>
                  <a:srgbClr val="990099"/>
                </a:solidFill>
                <a:latin typeface="Times New Roman"/>
              </a:rPr>
              <a:t>taLeftJustify</a:t>
            </a:r>
            <a:r>
              <a:rPr b="1" lang="ru-RU" sz="21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- выравнивание по левому краю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en-US" sz="2100" spc="-1" strike="noStrike">
                <a:solidFill>
                  <a:srgbClr val="990099"/>
                </a:solidFill>
                <a:latin typeface="Times New Roman"/>
              </a:rPr>
              <a:t>taCenter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-центрирование текста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en-US" sz="2100" spc="-1" strike="noStrike">
                <a:solidFill>
                  <a:srgbClr val="990099"/>
                </a:solidFill>
                <a:latin typeface="Times New Roman"/>
              </a:rPr>
              <a:t>taRightJustify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- выравнивание по правому краю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WordWrap:Boolean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-автоматический перенос слов на другую строку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Transparent:Boolean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- прозрачная надпись или закрашенная. Цвет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закрашивания устанавливается свойством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Color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.                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Text Box 7"/>
          <p:cNvSpPr/>
          <p:nvPr/>
        </p:nvSpPr>
        <p:spPr>
          <a:xfrm>
            <a:off x="7753680" y="609480"/>
            <a:ext cx="799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ab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Line 8"/>
          <p:cNvSpPr/>
          <p:nvPr/>
        </p:nvSpPr>
        <p:spPr>
          <a:xfrm flipH="1">
            <a:off x="7009920" y="914400"/>
            <a:ext cx="76212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228600" y="228600"/>
            <a:ext cx="8610480" cy="2180880"/>
          </a:xfrm>
          <a:prstGeom prst="rect">
            <a:avLst/>
          </a:prstGeom>
          <a:gradFill rotWithShape="0">
            <a:gsLst>
              <a:gs pos="0">
                <a:srgbClr val="b9caff"/>
              </a:gs>
              <a:gs pos="50000">
                <a:srgbClr val="3366ff"/>
              </a:gs>
              <a:gs pos="100000">
                <a:srgbClr val="b9caf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При нажатии на кнопку</a:t>
            </a:r>
            <a:r>
              <a:rPr b="0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33"/>
                </a:solidFill>
                <a:latin typeface="Comic Sans MS"/>
              </a:rPr>
              <a:t>Close</a:t>
            </a:r>
            <a:r>
              <a:rPr b="1" lang="ru-RU" sz="22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сделаем так, чтобы форма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Abou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закрывалась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 Black"/>
              </a:rPr>
              <a:t>procedure</a:t>
            </a:r>
            <a:r>
              <a:rPr b="1" lang="ru-RU" sz="2300" spc="-1" strike="noStrike">
                <a:solidFill>
                  <a:srgbClr val="663300"/>
                </a:solidFill>
                <a:latin typeface="Arial Black"/>
              </a:rPr>
              <a:t> </a:t>
            </a:r>
            <a:r>
              <a:rPr b="1" lang="ru-RU" sz="2300" spc="-1" strike="noStrike">
                <a:solidFill>
                  <a:srgbClr val="663300"/>
                </a:solidFill>
                <a:latin typeface="Times New Roman"/>
              </a:rPr>
              <a:t>TAbout.Button1Click(Sender: TObject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2300" spc="-1" strike="noStrike">
                <a:solidFill>
                  <a:srgbClr val="000000"/>
                </a:solidFill>
                <a:latin typeface="Arial Black"/>
              </a:rPr>
              <a:t>begi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63300"/>
                </a:solidFill>
                <a:latin typeface="Times New Roman"/>
              </a:rPr>
              <a:t>       </a:t>
            </a:r>
            <a:r>
              <a:rPr b="1" lang="ru-RU" sz="2300" spc="-1" strike="noStrike">
                <a:solidFill>
                  <a:srgbClr val="ff0033"/>
                </a:solidFill>
                <a:latin typeface="Comic Sans MS"/>
              </a:rPr>
              <a:t>Close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63300"/>
                </a:solidFill>
                <a:latin typeface="Arial Black"/>
              </a:rPr>
              <a:t>   </a:t>
            </a:r>
            <a:r>
              <a:rPr b="1" lang="ru-RU" sz="2300" spc="-1" strike="noStrike">
                <a:solidFill>
                  <a:srgbClr val="663300"/>
                </a:solidFill>
                <a:latin typeface="Arial Black"/>
              </a:rPr>
              <a:t>end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1" name="Picture 6" descr="D:\usu\Курсовая\Рисунки\unit2.bmp"/>
          <p:cNvPicPr/>
          <p:nvPr/>
        </p:nvPicPr>
        <p:blipFill>
          <a:blip r:embed="rId1"/>
          <a:stretch/>
        </p:blipFill>
        <p:spPr>
          <a:xfrm>
            <a:off x="3733920" y="1676520"/>
            <a:ext cx="5410080" cy="518148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7"/>
          <p:cNvSpPr/>
          <p:nvPr/>
        </p:nvSpPr>
        <p:spPr>
          <a:xfrm>
            <a:off x="0" y="2438280"/>
            <a:ext cx="3886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Наш модуль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Unit2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имеет вид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Line 8"/>
          <p:cNvSpPr/>
          <p:nvPr/>
        </p:nvSpPr>
        <p:spPr>
          <a:xfrm>
            <a:off x="1143000" y="2895480"/>
            <a:ext cx="29718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304920" y="2971800"/>
            <a:ext cx="3504960" cy="3204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При  нажатии кнопки </a:t>
            </a:r>
            <a:r>
              <a:rPr b="1" lang="en-US" sz="1700" spc="-1" strike="noStrike">
                <a:solidFill>
                  <a:srgbClr val="ffff00"/>
                </a:solidFill>
                <a:latin typeface="Comic Sans MS"/>
              </a:rPr>
              <a:t>About Form</a:t>
            </a: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первой формы на экране отображается вторая форма, которая до этого была невидима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Т.к.  из  модуля  </a:t>
            </a:r>
            <a:r>
              <a:rPr b="1" lang="en-US" sz="1700" spc="-1" strike="noStrike">
                <a:solidFill>
                  <a:srgbClr val="ff0033"/>
                </a:solidFill>
                <a:latin typeface="Tahoma"/>
              </a:rPr>
              <a:t>Unit1</a:t>
            </a:r>
            <a:r>
              <a:rPr b="1" lang="ru-RU" sz="1700" spc="-1" strike="noStrike">
                <a:solidFill>
                  <a:srgbClr val="ff0033"/>
                </a:solidFill>
                <a:latin typeface="Tahoma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осуществляется операция со второй формой, то в разделе </a:t>
            </a: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700" spc="-1" strike="noStrike">
                <a:solidFill>
                  <a:srgbClr val="ffff00"/>
                </a:solidFill>
                <a:latin typeface="Tahoma"/>
              </a:rPr>
              <a:t>implementation</a:t>
            </a: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модуля</a:t>
            </a:r>
            <a:r>
              <a:rPr b="1" lang="ru-RU" sz="1700" spc="-1" strike="noStrike">
                <a:solidFill>
                  <a:srgbClr val="ff0033"/>
                </a:solidFill>
                <a:latin typeface="Tahoma"/>
              </a:rPr>
              <a:t> </a:t>
            </a:r>
            <a:r>
              <a:rPr b="1" lang="en-US" sz="1700" spc="-1" strike="noStrike">
                <a:solidFill>
                  <a:srgbClr val="ff0033"/>
                </a:solidFill>
                <a:latin typeface="Tahoma"/>
              </a:rPr>
              <a:t>Unit1 </a:t>
            </a: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поместим  код </a:t>
            </a:r>
            <a:r>
              <a:rPr b="1" lang="en-US" sz="1700" spc="-1" strike="noStrike">
                <a:solidFill>
                  <a:srgbClr val="ffff00"/>
                </a:solidFill>
                <a:latin typeface="Tahoma"/>
              </a:rPr>
              <a:t>uses Unit2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Или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File / Use Unit…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Text Box 10"/>
          <p:cNvSpPr/>
          <p:nvPr/>
        </p:nvSpPr>
        <p:spPr>
          <a:xfrm>
            <a:off x="136440" y="331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Picture 12" descr="D:\usu\Курсовая\Рисунки\implementation.bmp"/>
          <p:cNvPicPr/>
          <p:nvPr/>
        </p:nvPicPr>
        <p:blipFill>
          <a:blip r:embed="rId2"/>
          <a:stretch/>
        </p:blipFill>
        <p:spPr>
          <a:xfrm>
            <a:off x="609480" y="6019920"/>
            <a:ext cx="2971800" cy="609480"/>
          </a:xfrm>
          <a:prstGeom prst="rect">
            <a:avLst/>
          </a:prstGeom>
          <a:ln w="0">
            <a:noFill/>
          </a:ln>
        </p:spPr>
      </p:pic>
      <p:sp>
        <p:nvSpPr>
          <p:cNvPr id="5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2T13:29:04Z</dcterms:created>
  <dc:creator>User</dc:creator>
  <dc:description/>
  <dc:language>en-US</dc:language>
  <cp:lastModifiedBy>LEGION</cp:lastModifiedBy>
  <dcterms:modified xsi:type="dcterms:W3CDTF">2015-04-01T07:07:15Z</dcterms:modified>
  <cp:revision>37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2000000000001024140</vt:lpwstr>
  </property>
</Properties>
</file>