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E2AC-E3B3-40D3-A144-809CEF3ADFD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екция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Lucida Sans"/>
              </a:rPr>
              <a:t>Delph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942A-1285-447F-A0AB-F45CBEAF33C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Сохранение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ля того, чтобы сохранить проект,  в главном меню выберем пун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ile / Save Project A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адим нашему проекту имя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ject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Компи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пуск процесса компиляции выполняется по коман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jec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/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mpile&lt;Project1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мпиляция проекта для получения приложения  может быть выполнена на любой  стадии  разработки 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Это удобно для проверки вида и правильности    функционирования отдельных компонентов формы, а также для  проверки  создаваемого  к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сле компиляции проекта  создается исполняемый файл приложения с именем файла проек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3070-A9C8-44BB-B6CB-219767827E3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Запуск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пустить проект  на выполнение можно из среды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из среды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Windows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  Из среды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уществляется команд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Run / Ru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 нажатием клавиш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F9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ельзя запустить вторую копию приложения при уже запущенном прил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одолжить разработку проекта можно только после завершения работы при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и зацикливании (зависании) приложения завершение его работы необходимо выполнять средствами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 помощью команды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Run / Program Reset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нажатия клавиш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Ctrl&gt;+&lt;F2&gt;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3CE9-3773-4CA3-A2C0-2E6787CCB45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Приложение которое мы создали будет иметь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D1AD-BF59-444A-A73B-90A29ECE6BB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редактора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редактора код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Unit1.pas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оздает   исходный   текст модуля  разрабатываемого приложения.  Каждый   редактируемый  файл  находится на отдельной странице,  доступ  к которой можно получить, щелкнув на ее ярлы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конструктора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кно конструктора формы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(Form1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в  нем  выполняется  проектирование формы. Для  чего  на форму  из  Палитры   компонентов помещаются необходим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инспектора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инспектора объектов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тображает свойства и события объектов  для текущей формы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Form1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Его можно отобразить с помощью команды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View / Object Inspector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нажатия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лавиши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F11&gt;.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инспектора объектов имеет 2 вкладки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perties</a:t>
            </a: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войства) и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Events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(Собы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0505-CADE-498B-A800-C19DF6F8B8C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Расширения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p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новный файл проекта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fm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Ф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йл формы 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Pas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 модуля Паскаля 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Res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ы ресурсов 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!(создаетс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                             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при первом сохранении)</a:t>
            </a:r>
            <a:r>
              <a:rPr b="1" lang="ru-RU" sz="1200" spc="-1" strike="noStrike">
                <a:solidFill>
                  <a:srgbClr val="ccff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Op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 параметров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~*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езервные копии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cr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Delphi Component Resourc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cu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компилированный файл моду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sm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омежуточный к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ll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ы динамических библиот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sk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нфигурация рабоче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Exe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сполняемые фай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F5F2-EAEC-4C5D-8256-05289AA99DA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Пример простого при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оздание нового приложения начинается с того, что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Delph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предлагает пустое окно - форму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orm1.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нтерфейс приложения составляют компоненты, которые можно выбирать из 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Палитры компонентов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  размещать  их  на форме и изменять их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ыбор компонента в Палитре выполняется щелчком мыши на нужном компоненте,  например,  кнопке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Butto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и  после этого щелкнуть на форме. На  ней  появится  выбранный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сле размещения компонента на форме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вносит  изменения  в  файл модуля, т.е. добавляется  строч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l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звание компонента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l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ип компонента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нешний вид компонента опреде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его свойства, которые доступны в ок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Инспектора объектов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 когда компон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а форме выдел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BBD7-EE0E-4F0A-B207-B5D77389C2D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 окне 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Инспектора объектов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приводятся названия всех свойств и их 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войства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представляют  собой  атрибуты, определяющие способ отображения и функци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ирования компонентов при выполнении приложения. Изменять значения свойств можно непосредственно в Инспекторе, при этом сразу же изменяется соответствующий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адим нашей кнопке другой заголов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апишем в строке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Calibri"/>
              </a:rPr>
              <a:t>Captio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Некоторые свойства 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omic Sans MS"/>
              </a:rPr>
              <a:t>Button</a:t>
            </a: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Cursor:TCurso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изображение мыши при наведен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на кнопку (например: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crHandPoint           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Default:Boolean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нажатие кнопки выполняется по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        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клавише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Enter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, если значение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Default=Tr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Font:TFont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шриф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Height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высота кнопки в пикселя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Width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ширина кнопки в пикселя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Left 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горизонтальная координата левого верхнего угл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Top 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вертикальная координата левого верхнего угл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70D0-B4A9-4A35-90D1-5AC34118C94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 кнопка   могла реагировать  на  какое  либо событие,  необходимо  указать </a:t>
            </a: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процедуру обработки событ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которая будет вызываться при возникновении  данного со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ля этого нужно сделать двойной щелчок в области события 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OnClick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(или  двойной  щелчок  по  кнопке 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About Form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 результате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оздает  в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модуле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ормы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заготовку 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процедуры-обработч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Теперь при нажатии на кнопку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 Form</a:t>
            </a:r>
            <a:r>
              <a:rPr b="1" lang="en-US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будет появляться ещ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одна форма по имени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, 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которую мы опишем в модуле </a:t>
            </a:r>
            <a:r>
              <a:rPr b="1" lang="en-US" sz="1200" spc="-1" strike="noStrike">
                <a:solidFill>
                  <a:srgbClr val="eeece1"/>
                </a:solidFill>
                <a:latin typeface="Calibri"/>
              </a:rPr>
              <a:t>Unit2</a:t>
            </a:r>
            <a:r>
              <a:rPr b="1" lang="ru-RU" sz="1200" spc="-1" strike="noStrike">
                <a:solidFill>
                  <a:srgbClr val="eeece1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D5F7-9FE2-4859-9816-59B751B461C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пишем вторую форму в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Unit2.pas.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главном меню  выберем пун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ile / New /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дадим этой форме </a:t>
            </a:r>
            <a:r>
              <a:rPr b="1" lang="en-US" sz="1200" spc="-1" strike="noStrike">
                <a:solidFill>
                  <a:srgbClr val="990000"/>
                </a:solidFill>
                <a:latin typeface="Comic Sans MS"/>
              </a:rPr>
              <a:t>Captio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</a:t>
            </a:r>
            <a:r>
              <a:rPr b="1" lang="en-US" sz="1200" spc="-1" strike="noStrike">
                <a:solidFill>
                  <a:srgbClr val="990000"/>
                </a:solidFill>
                <a:latin typeface="Comic Sans MS"/>
              </a:rPr>
              <a:t>Name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местим на форму кнопку 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Button</a:t>
            </a: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 заголо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м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lose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компоненту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торый пре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тавляет  собой  простой текст,  который 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едактируется при выполнен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Текст вводится в поле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Caption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utoSize:Boolea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ая коррекция размера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зависимости от текста над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ligment: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ligment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-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пособ выравнивания текста внутри компонента, может принимать следующие знач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LeftJustify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 выравнивание по левому к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Cente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-центрирование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RightJustify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- выравнивание по правому к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WordWrap:Boolea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автоматический перенос слов на другую ст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Transparent:Boolea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 прозрачная надпись или закрашенная. Цв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крашивания устанавливается свойством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lo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7BB7-E81F-4BDA-A79E-A025970A117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и нажатии на кнопку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lose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делаем так, чтобы форма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крывала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procedure</a:t>
            </a: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TAbout.Button1Click(Sender: TObject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Clos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ри  нажатии кнопки 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About Form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ервой формы на экране отображается вторая форма, которая до этого была невиди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.к.  из  модуля  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Unit1</a:t>
            </a: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существляется операция со второй формой, то в разделе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800080"/>
                </a:solidFill>
                <a:latin typeface="Tahoma"/>
              </a:rPr>
              <a:t>implementatio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одуля</a:t>
            </a: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Unit1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местим  код </a:t>
            </a:r>
            <a:r>
              <a:rPr b="1" lang="en-US" sz="1200" spc="-1" strike="noStrike">
                <a:solidFill>
                  <a:srgbClr val="800080"/>
                </a:solidFill>
                <a:latin typeface="Tahoma"/>
              </a:rPr>
              <a:t>uses Unit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1" lang="ru-RU" sz="1200" spc="-1" strike="noStrike">
                <a:solidFill>
                  <a:srgbClr val="eeece1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eeece1"/>
                </a:solidFill>
                <a:latin typeface="Comic Sans MS"/>
              </a:rPr>
              <a:t>File / Use Uni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6146-EFE9-4BDD-A6D0-ACE6814AD09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30F-F633-4805-8702-ED9E28C7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032-2712-4E35-8102-6E27D4DE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77AFE-57EA-4E93-8CFE-760D87EA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65C65-B9D6-4E9A-8F62-0BF356AA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711DF-1428-48B0-8C0C-8026B62B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07DC6-4E86-4745-8918-DAF5F492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FB563-B47A-426F-8073-1A587AD8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91B9E-217C-4EDD-A8E5-386CA119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DBF9E-C95A-4F21-86E2-8C86E371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C93D8-DB0E-4E3C-B5D5-542BDE00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952B6-D020-45FD-B3F7-CF30E15E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3CD06-0C6E-4914-9178-0C7D933A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4F9-88E2-4484-9E42-512CD962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30BC9-56D2-41E5-B3A4-63E0A9C1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EAD77-0587-43D2-B39D-BCFE8BEB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A6DE9-67C5-423C-B5E7-D9DEEA3E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D3DD5-9EC0-4440-9CB7-278E3B3B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878A0-17E3-431D-8505-4DD9C094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45AAA-8120-40A5-8260-B2C518EE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4F695-607A-4D6E-8B9F-41E073D8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6017B-B471-4732-BD80-032713D6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1D93A-23B1-4E24-8727-EA833B08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3BFC6-67BE-4FAF-A842-A987D435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452D-741B-41CE-BEA6-C3BB16C7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57405-0F87-4804-9135-EE53F72D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A1DB9-CB39-4AD0-BBB5-B39A7197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13FB5-05A5-4F35-B569-9F2F98F4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95768-DB51-4139-BE88-A5438565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B8A7E-3569-415B-B30C-617746A2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AA928-F345-43F8-B21E-854537B6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DC8F5-29B7-495E-A824-A629F2FE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F41B9-561B-4316-96FB-61863AC4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1FD07-0EF5-4D31-B91B-8E84B9C2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E6524-93E1-4ABF-B5B8-2575FD7F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A071-1F50-41B5-8DBC-97B2C7B2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9DDBD-E636-47C0-85E3-9DFC2DE0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B30A0-1616-45C6-8255-6C27D4AD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7018F-D1A9-45AA-A4C0-3413AF3A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E22F1-1442-4333-8CE9-01E63840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9A8BE-F393-40EB-84FE-97EE1F4E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3BBC5-617B-44AC-976B-8D3F3EF9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D6240-984B-4ACE-8139-834B4DDB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A3C08-40F7-45FC-834D-F182AEE9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6E36B-B501-4EA3-9453-1B87EDF4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E0A7F-7ABA-4CA9-B774-0116F695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FBAD-8E77-408A-9E60-2CE2F79D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6023F-444B-4061-99D7-0306AEE9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6961B-6928-42C4-9495-5DF75DEA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AFD2F-83D4-4F08-984E-631A4F15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6791B-FCF5-4942-BA56-5E5DDC2F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141A7-5483-4501-A2EC-763BEBF1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31BD-1255-4291-A721-13BF746C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76E1-81A2-4DCD-8933-35D35E31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3286-F8B2-4B95-A471-6898BE02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90AA-0B44-47A2-BF88-15EB8A8B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5D33-B26F-448A-8176-E5F90086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9DD-B0F3-4752-B820-2BF02BF5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DD13-9F57-4C94-BEFD-9BDF1D92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A649-6F47-47AC-9D87-B9E1BB7C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5462-5D7D-44A9-B947-C4804931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F0D6-9820-4E27-8B48-60E6FEDF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E316-B9F3-4209-9AC6-D786BBF3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EDC75-814F-4FDC-8DFB-7109577B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3AF02-20E6-4985-BFFD-AFEE60E4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6E802-8B37-4012-9CB7-45728EC5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F1871-4E84-4D8C-8CFE-EFF59860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15DF-7FFC-466D-8E2D-C06E3464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F4D-1A25-435C-9146-5579258E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80294-61D2-4793-B096-9A29ED30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6B3E-212A-4CD6-9B25-8A877C70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CEC1F-51DA-44C0-88A0-D33AE72C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0E20F-AD92-462D-A0EF-CC7ADBAD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D8509-1CB8-47FD-A8DA-1461CA6A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F4155-A856-4906-BAED-AE7D25F3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4CB12-2BB8-4BCC-828C-C950C089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07974-CB1D-475C-A5CF-91866BF6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62333-70FA-4267-AFF4-C2977D88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7A7D8-509D-452E-8EB3-1AF5F28F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2E4-B6F2-4185-BD26-4AA960AE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B3C99-4D0C-4C22-A1D9-BF2C7B03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664C-4F1F-4626-A88C-849BF474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88482-CA71-49DD-9B57-29C33C87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68EE4-E0EB-4078-8CE2-BEAF94DA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8E43C-54CF-4046-A049-97CE193D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AF79F-6FF8-4449-ABB5-67D775C9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96F8C-0D98-42B2-A34A-5936EEFE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DA54B-1186-4CBB-A884-E6C9BA34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0C7BC-AB57-41CB-A5DC-F8BEC694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9DF6C-AD86-48D1-A2D6-6E51096C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8955-E80B-4DA1-AF18-93C43043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C62BC-68AE-41B6-9CF7-B74875F4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DADBC-C37F-42BE-82E5-B093ECDE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29859-9C8C-4AC5-AE88-DA0F5774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1B569-6E68-4C04-9C5B-5806A140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5A684-9AAA-42E8-9CF1-0837609F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A95A1-ED87-4354-B31E-36861500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AC5B6-75C1-4CFA-B6AC-39813E24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80FB2-35CE-4429-BC48-E7A2001B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0C41E-EB09-4DF6-8676-76CD7128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68F5B-7473-4261-B7D1-7405C08A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658-CF03-4DD3-A0C7-58DF7A77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EE251-2CBD-4EAB-BFF7-DA8964BD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D2B6E-851F-49BD-8D16-8A41EE78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EC835-E0CF-4233-8425-513DAB57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E484E-8614-4EB6-A237-C239B883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0D964-B376-4F0E-B554-E224422F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74552-9609-4110-8B03-29CC0820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8ACAF-C432-4137-A270-2E61753B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023A6-B45B-46A9-8112-B9B6DF93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32EFA-45FB-4F39-9AF5-8FB3CA92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DEC28-58ED-4F18-AEDB-930BF66B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456-3456-4B40-B025-42365602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D5567-7750-4B59-8F69-5D3DB98F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82687-C3EF-44DA-B9ED-BFE53466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D33E1-290D-4B62-98CB-2622B2FF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A522C-D6AE-4450-87FD-BAED9C44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A8F15-069B-4A48-9D90-B75349D3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FA150-9D05-401F-905E-3BA83884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B780A-C2FF-4239-8FEA-F2380A78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79619-0CF8-49A0-B6CC-4240BC4A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EB93B-CC0D-4980-97DE-61A65D44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54DDA-E749-4464-B6F0-B1AE4BAA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E40D-6754-40AE-BBFB-1FBCD262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F68E3-8162-4572-AC97-F055A340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F9674-D6A5-4B6D-89CE-AAD6A591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469BE-6E00-4DF0-B3FB-CE9A2613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AA174-769D-4615-8E31-50AD10EA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96670-CC9A-4B17-80B2-157252A4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E11C4-65CB-4904-A671-3094C7BB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066CB-8EC3-4BA6-9895-841DCE43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925A2-9A78-4BFE-B74D-6DF464EA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5D099-5534-43E4-84AF-456DFA27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B6025-14BC-455E-9FBD-55054A08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7FF-133B-4CDE-9BAC-A3EF4183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BC0A6-49E6-4724-8459-9C4ED68E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5EA13-E4D9-4B49-B009-7A6CA90E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26FFC-02CD-4698-904F-5E068D71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E9808-6405-427B-A741-1A5A1C89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8D0CF-7997-4675-8FAA-F9C3A051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4ECCD-03F7-40EE-BC49-6D43FEBE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F9142-76B1-4595-86DB-AE5EF68E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15F9C-EFCC-4383-B96E-8E818792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5A6BC-A9D2-4F3C-846A-4CFD1652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C5BF7-EF2C-4862-B870-7D180276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6B8A-09F9-487F-A713-E0E3141D48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0922-FDB9-42FA-9BDE-E4C0DFD9C8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B9F4-CBAA-4DCF-A271-79D95CAE6C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F9CC-DB98-4181-AC70-3FEB91B9CE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E2B3-2320-4D64-AA85-BDF61EE5A5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71AD-B92E-43F7-9F65-5348EA8D45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DD3D-DC4B-426D-AA47-58CA9DCB2A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7ADF-C202-4A71-AFF9-63498CCF3D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F269-1D2F-4853-AC41-DB3CAD7C4A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1049-23E0-49F2-A452-215FC78C97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E0BE-D7DE-4F3F-8CF4-9920BD55C7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114F-C649-43FA-BD0E-B898BAC157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655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33"/>
                </a:solidFill>
                <a:latin typeface="Arial"/>
              </a:rPr>
              <a:t>Лекция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2057040" y="213336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"/>
              </a:rPr>
              <a:t>Delphi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228600" y="685800"/>
            <a:ext cx="8610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ля того, чтобы сохранить проект,  в главном меню выберем пун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File / Save Project As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4572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71360" y="122400"/>
            <a:ext cx="348156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Сохранение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6" descr="D:\usu\Курсовая\Рисунки\сохранение.bmp"/>
          <p:cNvPicPr/>
          <p:nvPr/>
        </p:nvPicPr>
        <p:blipFill>
          <a:blip r:embed="rId1"/>
          <a:stretch/>
        </p:blipFill>
        <p:spPr>
          <a:xfrm>
            <a:off x="0" y="1523880"/>
            <a:ext cx="3429000" cy="51055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02" name="Text Box 7"/>
          <p:cNvSpPr/>
          <p:nvPr/>
        </p:nvSpPr>
        <p:spPr>
          <a:xfrm>
            <a:off x="3655080" y="1295280"/>
            <a:ext cx="473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адим нашему проекту имя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Project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3581280" y="2174760"/>
            <a:ext cx="5562720" cy="4481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пуск процесса компиляции выполняется по команд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Projec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/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ompile&lt;Project1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Компиляция проекта для получения приложения  может быть выполнена на любой  стадии  разработки  проект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Это удобно для проверки вида и правильности    функционирования отдельных компонентов формы, а также для  проверки  создаваемого  код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После компиляции проекта  создается исполняемый файл приложения с именем файла проекта 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3645000" y="1752480"/>
            <a:ext cx="22381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Компиля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Picture 10" descr="D:\usu\Курсовая\Рисунки\exe.bmp"/>
          <p:cNvPicPr/>
          <p:nvPr/>
        </p:nvPicPr>
        <p:blipFill>
          <a:blip r:embed="rId2"/>
          <a:stretch/>
        </p:blipFill>
        <p:spPr>
          <a:xfrm>
            <a:off x="5943600" y="632448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6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672840" y="122400"/>
            <a:ext cx="26632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апуск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228600" y="685800"/>
            <a:ext cx="8702640" cy="1160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dee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пустить проект  на выполнение можно из среды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 из среды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Windows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.  Из среды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осуществляется командой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Run / Ru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ли  нажатием клавиш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&lt;F9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4401000" y="1981080"/>
            <a:ext cx="198504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амеч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212760" y="2327400"/>
            <a:ext cx="862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4267080" y="2438280"/>
            <a:ext cx="4587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ельзя запустить вторую копию приложения при уже запущенном приложении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родолжить разработку проекта можно только после завершения работы приложения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ри зацикливании (зависании) приложения завершение его работы необходимо выполнять средствами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с помощью команды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Run / Program Reset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ли нажатия клавиш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&lt;Ctrl&gt;+&lt;F2&gt;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Oval 7"/>
          <p:cNvSpPr/>
          <p:nvPr/>
        </p:nvSpPr>
        <p:spPr>
          <a:xfrm>
            <a:off x="4267080" y="2590920"/>
            <a:ext cx="15264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Oval 8"/>
          <p:cNvSpPr/>
          <p:nvPr/>
        </p:nvSpPr>
        <p:spPr>
          <a:xfrm>
            <a:off x="4267080" y="3505320"/>
            <a:ext cx="15264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Oval 9"/>
          <p:cNvSpPr/>
          <p:nvPr/>
        </p:nvSpPr>
        <p:spPr>
          <a:xfrm>
            <a:off x="4267080" y="4495680"/>
            <a:ext cx="152640" cy="15264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10" descr="D:\usu\Курсовая\Рисунки\run.bmp"/>
          <p:cNvPicPr/>
          <p:nvPr/>
        </p:nvPicPr>
        <p:blipFill>
          <a:blip r:embed="rId1"/>
          <a:stretch/>
        </p:blipFill>
        <p:spPr>
          <a:xfrm>
            <a:off x="0" y="1905120"/>
            <a:ext cx="4191120" cy="4724280"/>
          </a:xfrm>
          <a:prstGeom prst="rect">
            <a:avLst/>
          </a:prstGeom>
          <a:ln w="0">
            <a:noFill/>
          </a:ln>
        </p:spPr>
      </p:pic>
      <p:sp>
        <p:nvSpPr>
          <p:cNvPr id="6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118080" y="385920"/>
            <a:ext cx="849096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Приложение которое мы создали будет иметь ви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" name="Picture 4" descr="D:\usu\Курсовая\Рисунки\Form21.bmp"/>
          <p:cNvPicPr/>
          <p:nvPr/>
        </p:nvPicPr>
        <p:blipFill>
          <a:blip r:embed="rId1"/>
          <a:stretch/>
        </p:blipFill>
        <p:spPr>
          <a:xfrm>
            <a:off x="533520" y="1143000"/>
            <a:ext cx="7848360" cy="5334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C:\Мои документы\Безымянный.bmp"/>
          <p:cNvPicPr/>
          <p:nvPr/>
        </p:nvPicPr>
        <p:blipFill>
          <a:blip r:embed="rId2"/>
          <a:stretch/>
        </p:blipFill>
        <p:spPr>
          <a:xfrm>
            <a:off x="3429000" y="3809880"/>
            <a:ext cx="5105520" cy="2819520"/>
          </a:xfrm>
          <a:prstGeom prst="rect">
            <a:avLst/>
          </a:prstGeom>
          <a:ln w="0">
            <a:noFill/>
          </a:ln>
        </p:spPr>
      </p:pic>
      <p:sp>
        <p:nvSpPr>
          <p:cNvPr id="6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D:\usu\Курсовая\Рисунки\вид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5943600" y="4724280"/>
            <a:ext cx="3008160" cy="1798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Палитра компонен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редактора код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конструктора формы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инспектора объек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Line 5"/>
          <p:cNvSpPr/>
          <p:nvPr/>
        </p:nvSpPr>
        <p:spPr>
          <a:xfrm flipH="1" flipV="1">
            <a:off x="1676160" y="1600200"/>
            <a:ext cx="4267080" cy="45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Line 6"/>
          <p:cNvSpPr/>
          <p:nvPr/>
        </p:nvSpPr>
        <p:spPr>
          <a:xfrm flipH="1" flipV="1">
            <a:off x="3733920" y="2438280"/>
            <a:ext cx="2209680" cy="335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7"/>
          <p:cNvSpPr/>
          <p:nvPr/>
        </p:nvSpPr>
        <p:spPr>
          <a:xfrm flipH="1" flipV="1">
            <a:off x="5029200" y="1752120"/>
            <a:ext cx="914400" cy="358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8"/>
          <p:cNvSpPr/>
          <p:nvPr/>
        </p:nvSpPr>
        <p:spPr>
          <a:xfrm flipV="1">
            <a:off x="6095880" y="11430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6"/>
          <p:cNvSpPr/>
          <p:nvPr/>
        </p:nvSpPr>
        <p:spPr>
          <a:xfrm>
            <a:off x="304920" y="2362320"/>
            <a:ext cx="495288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228600" y="685800"/>
            <a:ext cx="868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редактора кода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Unit1.pas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создает   исходный   текст модуля  разрабатываемого приложения.  Каждый   редактируемый  файл  находится на отдельной странице,  доступ  к которой можно получить, щелкнув на ее ярлыч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Times New Roman"/>
              </a:rPr>
              <a:t>Окно конструктора формы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Form1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  нем  выполняется  проектирование формы. Для  чего  на форму  из  Палитры   компонентов помещаются необходимые элемен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инспектора объект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тображает свойства и события объектов  для текущей формы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Form1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го можно отобразить с помощью команды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View / Object Inspector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ли нажатия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лавиши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&lt;F11&gt;.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инспектора объектов имеет 2 вкладк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Properties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войства) и 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vents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Событ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18"/>
          <p:cNvSpPr/>
          <p:nvPr/>
        </p:nvSpPr>
        <p:spPr>
          <a:xfrm>
            <a:off x="124200" y="236232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конструктора фор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7847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167760" y="228600"/>
            <a:ext cx="417204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редактора к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13"/>
          <p:cNvSpPr/>
          <p:nvPr/>
        </p:nvSpPr>
        <p:spPr>
          <a:xfrm>
            <a:off x="304920" y="4191120"/>
            <a:ext cx="510516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185760" y="4191120"/>
            <a:ext cx="52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инспектора объе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228600" y="533520"/>
            <a:ext cx="8534520" cy="619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pr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сновный файл проекта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fm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Ф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айл формы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Pas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 модуля Паскаля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Res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ы ресурсов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!(создае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первом сохранении)</a:t>
            </a:r>
            <a:r>
              <a:rPr b="1" lang="ru-RU" sz="2400" spc="-1" strike="noStrike">
                <a:solidFill>
                  <a:srgbClr val="ccff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Opt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 параметров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~*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езервные копии файл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cr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Delphi Component Resource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cu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компилированный файл моду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sm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ромежуточный к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ll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ы динамических библиот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sk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нфигурация рабочей об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Exe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сполняемые фай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956520" y="0"/>
            <a:ext cx="46231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Расширения фай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5791320" y="685800"/>
            <a:ext cx="380880" cy="1752480"/>
          </a:xfrm>
          <a:custGeom>
            <a:avLst/>
            <a:gdLst>
              <a:gd name="textAreaLeft" fmla="*/ 0 w 380880"/>
              <a:gd name="textAreaRight" fmla="*/ 137520 w 3808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6411240" y="838080"/>
            <a:ext cx="19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язатель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ай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ля работ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ло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3"/>
          <p:cNvSpPr/>
          <p:nvPr/>
        </p:nvSpPr>
        <p:spPr>
          <a:xfrm>
            <a:off x="2890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123120" y="228600"/>
            <a:ext cx="672012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Пример простого при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212760" y="879480"/>
            <a:ext cx="8702640" cy="5214600"/>
          </a:xfrm>
          <a:prstGeom prst="rect">
            <a:avLst/>
          </a:prstGeom>
          <a:gradFill rotWithShape="0">
            <a:gsLst>
              <a:gs pos="0">
                <a:srgbClr val="e9e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оздание нового приложения начинается с того, что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Delphi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предлагает пустое окно - форму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Form1.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нтерфейс приложения составляют компоненты, которые можно выбирать из  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Палитры компонентов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  размещать  их  на форме и изменять их свойств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ыбор компонента в Палитре выполняется щелчком мыши на нужном компоненте,  например,  кнопке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Butto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и  после этого щелкнуть на форме. На  ней  появится  выбранный компонент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осле размещения компонента на форме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вносит  изменения  в  файл модуля, т.е. добавляется  строчк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l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Название компонента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g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: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l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Тип компонента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нешний вид компонента определяют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его свойства, которые доступны в окн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Инспектора объектов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 когда компонент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 форме выделен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Picture 7" descr="D:\usu\Курсовая\Рисунки\строка.bmp"/>
          <p:cNvPicPr/>
          <p:nvPr/>
        </p:nvPicPr>
        <p:blipFill>
          <a:blip r:embed="rId1"/>
          <a:stretch/>
        </p:blipFill>
        <p:spPr>
          <a:xfrm>
            <a:off x="5791320" y="4114800"/>
            <a:ext cx="2971800" cy="6858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D:\usu\Курсовая\Рисунки\кнопка.bmp"/>
          <p:cNvPicPr/>
          <p:nvPr/>
        </p:nvPicPr>
        <p:blipFill>
          <a:blip r:embed="rId2"/>
          <a:stretch/>
        </p:blipFill>
        <p:spPr>
          <a:xfrm>
            <a:off x="5486400" y="4876920"/>
            <a:ext cx="3429000" cy="1676160"/>
          </a:xfrm>
          <a:prstGeom prst="rect">
            <a:avLst/>
          </a:prstGeom>
          <a:ln w="0">
            <a:noFill/>
          </a:ln>
        </p:spPr>
      </p:pic>
      <p:sp>
        <p:nvSpPr>
          <p:cNvPr id="563" name="Line 9"/>
          <p:cNvSpPr/>
          <p:nvPr/>
        </p:nvSpPr>
        <p:spPr>
          <a:xfrm flipV="1">
            <a:off x="2743200" y="5562720"/>
            <a:ext cx="3200400" cy="380880"/>
          </a:xfrm>
          <a:prstGeom prst="line">
            <a:avLst/>
          </a:prstGeom>
          <a:ln w="2844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Line 10"/>
          <p:cNvSpPr/>
          <p:nvPr/>
        </p:nvSpPr>
        <p:spPr>
          <a:xfrm>
            <a:off x="5181480" y="4419720"/>
            <a:ext cx="838440" cy="1522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3" descr="C:\Мои документы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30481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"/>
          <p:cNvSpPr/>
          <p:nvPr/>
        </p:nvSpPr>
        <p:spPr>
          <a:xfrm>
            <a:off x="3048120" y="117360"/>
            <a:ext cx="6095880" cy="6923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В окне </a:t>
            </a:r>
            <a:r>
              <a:rPr b="1" lang="ru-RU" sz="2100" spc="-1" strike="noStrike">
                <a:solidFill>
                  <a:srgbClr val="000066"/>
                </a:solidFill>
                <a:latin typeface="Comic Sans MS"/>
              </a:rPr>
              <a:t>Инспектора объектов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 приводятся названия всех свойств и их значения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   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Свойства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представляют  собой  атрибуты, определяющие способ отображения и функцио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ирования компонентов при выполнении приложения. Изменять значения свойств можно непосредственно в Инспекторе, при этом сразу же изменяется соответствующий компонент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адим нашей кнопке другой заголовок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пишем в строке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 u="sng">
                <a:solidFill>
                  <a:srgbClr val="990000"/>
                </a:solidFill>
                <a:uFillTx/>
                <a:latin typeface="Times New Roman"/>
              </a:rPr>
              <a:t>Captio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 Form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ffffff"/>
                </a:solidFill>
                <a:uFillTx/>
                <a:latin typeface="Comic Sans MS"/>
              </a:rPr>
              <a:t>Некоторые свойства 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Comic Sans MS"/>
              </a:rPr>
              <a:t>Button</a:t>
            </a:r>
            <a:r>
              <a:rPr b="1" i="1" lang="ru-RU" sz="1700" spc="-1" strike="noStrike" u="sng">
                <a:solidFill>
                  <a:srgbClr val="ffffff"/>
                </a:solidFill>
                <a:uFillTx/>
                <a:latin typeface="Comic Sans M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Cursor:TCurso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изображение мыши при наведении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на кнопку (например: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rHandPoint           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Default:Boolean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нажатие кнопки выполняется по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клавише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Enter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, если значение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Default=Tru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Font:TFont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шрифт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Height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высота кнопки в пикселях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Width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ширина кнопки в пикселях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Left 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горизонтальная координата левого верхнего угл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Top 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вертикальная координата левого верхнего угл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Line 7"/>
          <p:cNvSpPr/>
          <p:nvPr/>
        </p:nvSpPr>
        <p:spPr>
          <a:xfrm flipH="1" flipV="1">
            <a:off x="2437920" y="1981080"/>
            <a:ext cx="685800" cy="106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D:\usu\Курсовая\Рисунки\Рука.bmp"/>
          <p:cNvPicPr/>
          <p:nvPr/>
        </p:nvPicPr>
        <p:blipFill>
          <a:blip r:embed="rId2"/>
          <a:stretch/>
        </p:blipFill>
        <p:spPr>
          <a:xfrm>
            <a:off x="7010280" y="3886200"/>
            <a:ext cx="619200" cy="533520"/>
          </a:xfrm>
          <a:prstGeom prst="rect">
            <a:avLst/>
          </a:prstGeom>
          <a:ln w="0">
            <a:noFill/>
          </a:ln>
        </p:spPr>
      </p:pic>
      <p:sp>
        <p:nvSpPr>
          <p:cNvPr id="5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8" descr="D:\usu\Курсовая\Рисунки\OnClick.bmp"/>
          <p:cNvPicPr/>
          <p:nvPr/>
        </p:nvPicPr>
        <p:blipFill>
          <a:blip r:embed="rId1"/>
          <a:stretch/>
        </p:blipFill>
        <p:spPr>
          <a:xfrm>
            <a:off x="0" y="3200400"/>
            <a:ext cx="5715000" cy="2286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D:\usu\Курсовая\Рисунки\события.bmp"/>
          <p:cNvPicPr/>
          <p:nvPr/>
        </p:nvPicPr>
        <p:blipFill>
          <a:blip r:embed="rId2"/>
          <a:stretch/>
        </p:blipFill>
        <p:spPr>
          <a:xfrm>
            <a:off x="0" y="0"/>
            <a:ext cx="5181480" cy="20574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5181480" y="0"/>
            <a:ext cx="3962520" cy="2044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бы  кнопка   могла реагировать  на  какое  либо событие,  необходимо  указать </a:t>
            </a:r>
            <a:r>
              <a:rPr b="1" lang="ru-RU" sz="1900" spc="-1" strike="noStrike">
                <a:solidFill>
                  <a:srgbClr val="ff0033"/>
                </a:solidFill>
                <a:latin typeface="Comic Sans MS"/>
              </a:rPr>
              <a:t>процедуру обработки событ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которая будет вызываться при возникновении  данного собы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0" y="2133720"/>
            <a:ext cx="9144000" cy="13741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d4d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ля этого нужно сделать двойной щелчок в области события </a:t>
            </a:r>
            <a:r>
              <a:rPr b="0" lang="en-US" sz="2100" spc="-1" strike="noStrike">
                <a:solidFill>
                  <a:srgbClr val="ff0033"/>
                </a:solidFill>
                <a:latin typeface="Comic Sans MS"/>
              </a:rPr>
              <a:t>OnClick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(или  двойной  щелчок  по  кнопке  </a:t>
            </a:r>
            <a:r>
              <a:rPr b="1" lang="en-US" sz="2100" spc="-1" strike="noStrike">
                <a:solidFill>
                  <a:srgbClr val="990000"/>
                </a:solidFill>
                <a:latin typeface="Times New Roman"/>
              </a:rPr>
              <a:t>About Form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 результате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создает  в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модуле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формы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заготовку  </a:t>
            </a:r>
            <a:r>
              <a:rPr b="0" lang="ru-RU" sz="2100" spc="-1" strike="noStrike">
                <a:solidFill>
                  <a:srgbClr val="ff0033"/>
                </a:solidFill>
                <a:latin typeface="Comic Sans MS"/>
              </a:rPr>
              <a:t>процедуры-обработчик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Freeform 7"/>
          <p:cNvSpPr/>
          <p:nvPr/>
        </p:nvSpPr>
        <p:spPr>
          <a:xfrm>
            <a:off x="1828800" y="1219320"/>
            <a:ext cx="5715000" cy="1066680"/>
          </a:xfrm>
          <a:custGeom>
            <a:avLst/>
            <a:gdLst/>
            <a:ahLst/>
            <a:rect l="l" t="t" r="r" b="b"/>
            <a:pathLst>
              <a:path w="3696" h="720">
                <a:moveTo>
                  <a:pt x="3696" y="720"/>
                </a:moveTo>
                <a:cubicBezTo>
                  <a:pt x="3112" y="676"/>
                  <a:pt x="2528" y="632"/>
                  <a:pt x="1968" y="576"/>
                </a:cubicBezTo>
                <a:cubicBezTo>
                  <a:pt x="1408" y="520"/>
                  <a:pt x="664" y="480"/>
                  <a:pt x="336" y="384"/>
                </a:cubicBezTo>
                <a:cubicBezTo>
                  <a:pt x="8" y="288"/>
                  <a:pt x="56" y="64"/>
                  <a:pt x="0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9"/>
          <p:cNvSpPr/>
          <p:nvPr/>
        </p:nvSpPr>
        <p:spPr>
          <a:xfrm>
            <a:off x="3276720" y="2971800"/>
            <a:ext cx="635040" cy="1066680"/>
          </a:xfrm>
          <a:custGeom>
            <a:avLst/>
            <a:gdLst/>
            <a:ahLst/>
            <a:rect l="l" t="t" r="r" b="b"/>
            <a:pathLst>
              <a:path w="400" h="720">
                <a:moveTo>
                  <a:pt x="96" y="0"/>
                </a:moveTo>
                <a:cubicBezTo>
                  <a:pt x="248" y="132"/>
                  <a:pt x="400" y="264"/>
                  <a:pt x="384" y="384"/>
                </a:cubicBezTo>
                <a:cubicBezTo>
                  <a:pt x="368" y="504"/>
                  <a:pt x="64" y="656"/>
                  <a:pt x="0" y="72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699160" y="4038480"/>
            <a:ext cx="3444840" cy="1739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var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About: TAbou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About:=TAbout.Create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About.Show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Book Antiqua"/>
              </a:rPr>
              <a:t>e</a:t>
            </a: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AutoShape 13"/>
          <p:cNvSpPr/>
          <p:nvPr/>
        </p:nvSpPr>
        <p:spPr>
          <a:xfrm>
            <a:off x="5410080" y="4038480"/>
            <a:ext cx="381240" cy="1447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 flipV="1">
            <a:off x="761760" y="4647960"/>
            <a:ext cx="4647960" cy="75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79280" y="5491080"/>
            <a:ext cx="842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Теперь при нажатии на кнопку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 Form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будет появляться ещ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дна форма по имени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,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которую мы опишем в модуле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Unit2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5840280" y="3675240"/>
            <a:ext cx="321336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апишем в процедур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228600" y="0"/>
            <a:ext cx="86104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Опишем вторую форму в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t2.pas.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главном меню  выберем пун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File / New /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Зададим этой форме </a:t>
            </a:r>
            <a:r>
              <a:rPr b="1" lang="en-US" sz="2100" spc="-1" strike="noStrike">
                <a:solidFill>
                  <a:srgbClr val="990000"/>
                </a:solidFill>
                <a:latin typeface="Comic Sans MS"/>
              </a:rPr>
              <a:t>Captio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 </a:t>
            </a:r>
            <a:r>
              <a:rPr b="1" lang="en-US" sz="2100" spc="-1" strike="noStrike">
                <a:solidFill>
                  <a:srgbClr val="990000"/>
                </a:solidFill>
                <a:latin typeface="Comic Sans MS"/>
              </a:rPr>
              <a:t>Name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оместим на форму кнопку 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Button</a:t>
            </a:r>
            <a:r>
              <a:rPr b="1" lang="ru-RU" sz="21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 заголов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ком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lose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 компоненту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21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который пред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тавляет  собой  простой текст,  который  н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редактируется при выполнении программы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Текст вводится в поле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Caption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4" name="Picture 3" descr="D:\usu\Курсовая\Рисунки\about.bmp"/>
          <p:cNvPicPr/>
          <p:nvPr/>
        </p:nvPicPr>
        <p:blipFill>
          <a:blip r:embed="rId1"/>
          <a:stretch/>
        </p:blipFill>
        <p:spPr>
          <a:xfrm>
            <a:off x="5943600" y="10666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4"/>
          <p:cNvSpPr/>
          <p:nvPr/>
        </p:nvSpPr>
        <p:spPr>
          <a:xfrm>
            <a:off x="241920" y="2712960"/>
            <a:ext cx="38203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екоторые свойств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ffff00"/>
                </a:solidFill>
                <a:latin typeface="Comic Sans MS"/>
              </a:rPr>
              <a:t>Labe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28600" y="3200400"/>
            <a:ext cx="8686800" cy="3934440"/>
          </a:xfrm>
          <a:prstGeom prst="rect">
            <a:avLst/>
          </a:prstGeom>
          <a:gradFill rotWithShape="0">
            <a:gsLst>
              <a:gs pos="0">
                <a:srgbClr val="b3c6ff"/>
              </a:gs>
              <a:gs pos="50000">
                <a:srgbClr val="3366ff"/>
              </a:gs>
              <a:gs pos="100000">
                <a:srgbClr val="b3c6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utoSize:Boolea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ая коррекция размера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2100" spc="-1" strike="noStrike">
                <a:solidFill>
                  <a:srgbClr val="990099"/>
                </a:solidFill>
                <a:latin typeface="Times New Roman"/>
              </a:rPr>
              <a:t>,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зависимости от текста надписи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ligment: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А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ligment</a:t>
            </a:r>
            <a:r>
              <a:rPr b="1" lang="ru-RU" sz="2100" spc="-1" strike="noStrike">
                <a:solidFill>
                  <a:srgbClr val="000066"/>
                </a:solidFill>
                <a:latin typeface="Comic Sans MS"/>
              </a:rPr>
              <a:t>-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пособ выравнивания текста внутри компонента, может принимать следующие значения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LeftJustify</a:t>
            </a:r>
            <a:r>
              <a:rPr b="1" lang="ru-RU" sz="21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 выравнивание по левому краю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Center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-центрирование текст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RightJustify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- выравнивание по правому краю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WordWrap:Boolea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автоматический перенос слов на другую строку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Transparent:Boolea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 прозрачная надпись или закрашенная. Цвет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закрашивания устанавливается свойством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olor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.              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7753680" y="609480"/>
            <a:ext cx="799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Line 8"/>
          <p:cNvSpPr/>
          <p:nvPr/>
        </p:nvSpPr>
        <p:spPr>
          <a:xfrm flipH="1">
            <a:off x="7009920" y="914400"/>
            <a:ext cx="76212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228600" y="228600"/>
            <a:ext cx="8610480" cy="2180880"/>
          </a:xfrm>
          <a:prstGeom prst="rect">
            <a:avLst/>
          </a:prstGeom>
          <a:gradFill rotWithShape="0">
            <a:gsLst>
              <a:gs pos="0">
                <a:srgbClr val="b9caff"/>
              </a:gs>
              <a:gs pos="50000">
                <a:srgbClr val="3366ff"/>
              </a:gs>
              <a:gs pos="100000">
                <a:srgbClr val="b9ca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При нажатии на кнопку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33"/>
                </a:solidFill>
                <a:latin typeface="Comic Sans MS"/>
              </a:rPr>
              <a:t>Close</a:t>
            </a:r>
            <a:r>
              <a:rPr b="1" lang="ru-RU" sz="2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сделаем так, чтобы форма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Abou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крывалась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procedure</a:t>
            </a: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ru-RU" sz="2300" spc="-1" strike="noStrike">
                <a:solidFill>
                  <a:srgbClr val="663300"/>
                </a:solidFill>
                <a:latin typeface="Times New Roman"/>
              </a:rPr>
              <a:t>TAbout.Button1Click(Sender: TObject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begi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300" spc="-1" strike="noStrike">
                <a:solidFill>
                  <a:srgbClr val="ff0033"/>
                </a:solidFill>
                <a:latin typeface="Comic Sans MS"/>
              </a:rPr>
              <a:t>Close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   </a:t>
            </a: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end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6" descr="D:\usu\Курсовая\Рисунки\unit2.bmp"/>
          <p:cNvPicPr/>
          <p:nvPr/>
        </p:nvPicPr>
        <p:blipFill>
          <a:blip r:embed="rId1"/>
          <a:stretch/>
        </p:blipFill>
        <p:spPr>
          <a:xfrm>
            <a:off x="3733920" y="1676520"/>
            <a:ext cx="5410080" cy="51814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7"/>
          <p:cNvSpPr/>
          <p:nvPr/>
        </p:nvSpPr>
        <p:spPr>
          <a:xfrm>
            <a:off x="0" y="2438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ш модуль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t2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меет вид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Line 8"/>
          <p:cNvSpPr/>
          <p:nvPr/>
        </p:nvSpPr>
        <p:spPr>
          <a:xfrm>
            <a:off x="1143000" y="2895480"/>
            <a:ext cx="29718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304920" y="2971800"/>
            <a:ext cx="3504960" cy="3204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ри  нажатии кнопки </a:t>
            </a: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About Form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ервой формы на экране отображается вторая форма, которая до этого была невидима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Т.к.  из  модуля  </a:t>
            </a:r>
            <a:r>
              <a:rPr b="1" lang="en-US" sz="1700" spc="-1" strike="noStrike">
                <a:solidFill>
                  <a:srgbClr val="ff0033"/>
                </a:solidFill>
                <a:latin typeface="Tahoma"/>
              </a:rPr>
              <a:t>Unit1</a:t>
            </a:r>
            <a:r>
              <a:rPr b="1" lang="ru-RU" sz="1700" spc="-1" strike="noStrike">
                <a:solidFill>
                  <a:srgbClr val="ff0033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осуществляется операция со второй формой, то в разделе 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implementation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модуля</a:t>
            </a:r>
            <a:r>
              <a:rPr b="1" lang="ru-RU" sz="1700" spc="-1" strike="noStrike">
                <a:solidFill>
                  <a:srgbClr val="ff0033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ff0033"/>
                </a:solidFill>
                <a:latin typeface="Tahoma"/>
              </a:rPr>
              <a:t>Unit1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оместим  код </a:t>
            </a: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uses Unit2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File / Use Unit…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1364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12" descr="D:\usu\Курсовая\Рисунки\implementation.bmp"/>
          <p:cNvPicPr/>
          <p:nvPr/>
        </p:nvPicPr>
        <p:blipFill>
          <a:blip r:embed="rId2"/>
          <a:stretch/>
        </p:blipFill>
        <p:spPr>
          <a:xfrm>
            <a:off x="609480" y="6019920"/>
            <a:ext cx="2971800" cy="609480"/>
          </a:xfrm>
          <a:prstGeom prst="rect">
            <a:avLst/>
          </a:prstGeom>
          <a:ln w="0">
            <a:noFill/>
          </a:ln>
        </p:spPr>
      </p:pic>
      <p:sp>
        <p:nvSpPr>
          <p:cNvPr id="5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2T13:29:04Z</dcterms:created>
  <dc:creator>User</dc:creator>
  <dc:description/>
  <dc:language>en-US</dc:language>
  <cp:lastModifiedBy>LEGION</cp:lastModifiedBy>
  <dcterms:modified xsi:type="dcterms:W3CDTF">2015-04-01T07:07:15Z</dcterms:modified>
  <cp:revision>3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4140</vt:lpwstr>
  </property>
</Properties>
</file>