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E7C0-3342-44FA-8D75-3444AF4D8B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кция 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Lucida Sans"/>
              </a:rPr>
              <a:t>Delph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BF52-9C25-4020-9AD8-F4DA1BA0E6C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Сохранение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того, чтобы сохранить проект,  в главном меню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Save Project A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му проекту имя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Компи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к процесса компиляции выполняется по коман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jec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/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mpile&lt;Project1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E5C4-9215-4248-91F3-11EDD0554DC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пуск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пустить проект  на выполнение можно из сред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из среды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Windows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Из среды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уществляется коман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Ru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 нажатием клавиш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9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ельзя запустить вторую копию приложения при уже запущенном при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должить разработку проекта можно только после завершения работы при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Run / Program Reset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клавиш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Ctrl&gt;+&lt;F2&gt;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E073-E31B-4A78-9B63-E3CEEE9E428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47DD-B5FA-4D56-8442-7056A8A8705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редактора к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редактора код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Unit1.pas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конструктора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кно конструктора формы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(Form1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Окно инспектора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тображает свойства и события объектов  для текущей формы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Form1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можно отобразить с помощью команды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View / Object Inspector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ли нажатия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лавиш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&lt;F11&gt;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кно инспектора объектов имеет 2 вкладки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roperties</a:t>
            </a:r>
            <a:r>
              <a:rPr b="1" lang="en-US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войства) и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Events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Собы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DB79-3BEA-49EE-AA07-8925CEBA97B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Расширения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p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сновный файл проекта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fm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йл формы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Pa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модуля Паскаля 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Res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ресурсов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!(создает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при первом сохранении)</a:t>
            </a:r>
            <a:r>
              <a:rPr b="1" lang="ru-RU" sz="1200" spc="-1" strike="noStrike">
                <a:solidFill>
                  <a:srgbClr val="ccff99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Op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 параметров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~*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зервные копии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r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Delphi Component Resource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cu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компилированный файл моду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m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омежуточный к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ll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айлы динамических библиот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Dsk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нфигурация рабоче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.Exe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сполняемые фай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ECCE-DB51-4054-8A2F-1DA7B6E4CBB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Пример прост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оздание нового приложения начинается с того, что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Delph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предлагает пустое окно - форму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orm1.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нтерфейс приложения составляют компоненты, которые можно выбирать из 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Палитры компонен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 размещать  их  на форме и изменять их сво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и  после этого щелкнуть на форме. На  ней  появится  выбранны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сле размещения компонента на форм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вносит  изменения  в  файл модуля, т.е. добавляется  строч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звание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l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ип компонента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нешний вид компонента опред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его свойства, которые доступны в ок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Инспектора объектов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 когда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 форме выде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32C1-550E-4BDF-B12C-C07E30C8753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 окне 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приводятся названия всех свойств и их 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ойства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представляют  собой  атрибуты, определяющие способ отображения и функци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адим нашей кнопке другой заголов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напишем в строке</a:t>
            </a:r>
            <a:r>
              <a:rPr b="1" lang="ru-RU" sz="11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990000"/>
                </a:solidFill>
                <a:uFillTx/>
                <a:latin typeface="Calibri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omic Sans MS"/>
              </a:rPr>
              <a:t>Button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Cursor:TCurso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изображение мыши при наведен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 кнопку (например: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crHandPoint           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Default:Boolean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нажатие кнопки выполняется по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        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клавише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Enter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, если значение 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Default=Tr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Font:TFont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шриф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Height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 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высот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Width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ширина кнопки в пикселя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Left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mic Sans MS"/>
              </a:rPr>
              <a:t>Top :Integer</a:t>
            </a:r>
            <a:r>
              <a:rPr b="1" lang="en-US" sz="1000" spc="-1" strike="noStrike">
                <a:solidFill>
                  <a:srgbClr val="eeece1"/>
                </a:solidFill>
                <a:latin typeface="Comic Sans MS"/>
              </a:rPr>
              <a:t> -</a:t>
            </a:r>
            <a:r>
              <a:rPr b="1" lang="ru-RU" sz="1000" spc="-1" strike="noStrike">
                <a:solidFill>
                  <a:srgbClr val="eeece1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079D-B91D-40CD-99CD-955C9391FB1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400" spc="-1" strike="noStrike">
                <a:solidFill>
                  <a:srgbClr val="0000ff"/>
                </a:solidFill>
                <a:latin typeface="Comic Sans MS"/>
              </a:rPr>
              <a:t>процедуру обработки событ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ля этого нужно сделать двойной щелчок в области событ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OnClick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(или  двойной  щелчок  по  кнопке  </a:t>
            </a:r>
            <a:r>
              <a:rPr b="1" lang="en-US" sz="1200" spc="-1" strike="noStrike">
                <a:solidFill>
                  <a:srgbClr val="990000"/>
                </a:solidFill>
                <a:latin typeface="Calibri"/>
              </a:rPr>
              <a:t>About Form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 результат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Delphi 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и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создает 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модуле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формы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заготовку 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оцедуры-обработч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Теперь при нажатии на кнопку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будет появляться е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одна форма по имени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которую мы опишем в модуле </a:t>
            </a:r>
            <a:r>
              <a:rPr b="1" lang="en-US" sz="1200" spc="-1" strike="noStrike">
                <a:solidFill>
                  <a:srgbClr val="eeece1"/>
                </a:solidFill>
                <a:latin typeface="Calibri"/>
              </a:rPr>
              <a:t>Unit2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F099-A062-4512-BAB7-7C566B21449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Опишем вторую форму в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Unit2.pas.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главном меню  выберем пун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ile / New /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дадим этой форме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</a:t>
            </a:r>
            <a:r>
              <a:rPr b="1" lang="en-US" sz="12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оместим на форму кнопку 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 заголов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 компоненту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который пр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тавляет  собой  простой текст,  который 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редактируется при выполнен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Текст вводится в поле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Caption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utoSize:Boolean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автоматическая коррекция размера </a:t>
            </a:r>
            <a:r>
              <a:rPr b="1" lang="en-US" sz="12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зависимости от текста над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ligment:T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ligment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пособ выравнивания текста внутри компонента, может принимать следующие зна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LeftJustify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выравнивание по ле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Cente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центрирование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1" lang="en-US" sz="1200" spc="-1" strike="noStrike">
                <a:solidFill>
                  <a:srgbClr val="990099"/>
                </a:solidFill>
                <a:latin typeface="Calibri"/>
              </a:rPr>
              <a:t>taRightJustify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- выравнивание по правому к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WordWrap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автоматический перенос слов на другую ст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Transparent:Boolean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- прозрачная надпись или закрашенная. Ц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ашивания устанавливается свойством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lor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4F68-A062-46FB-887E-C8854ED7CA8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При нажатии на кнопку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lose</a:t>
            </a: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делаем так, чтобы форма </a:t>
            </a:r>
            <a:r>
              <a:rPr b="1" lang="en-US" sz="1200" spc="-1" strike="noStrike">
                <a:solidFill>
                  <a:srgbClr val="000066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крыв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procedure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TAbout.Button1Click(Sender: TObject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Arial Black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Clos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и  нажатии кнопки 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About Form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.к.  из  модуля 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implementatio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одуля</a:t>
            </a:r>
            <a:r>
              <a:rPr b="1" lang="ru-RU" sz="1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Unit1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местим  код </a:t>
            </a:r>
            <a:r>
              <a:rPr b="1" lang="en-US" sz="1200" spc="-1" strike="noStrike">
                <a:solidFill>
                  <a:srgbClr val="800080"/>
                </a:solidFill>
                <a:latin typeface="Tahoma"/>
              </a:rPr>
              <a:t>uses Unit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r>
              <a:rPr b="1" lang="ru-RU" sz="1200" spc="-1" strike="noStrike">
                <a:solidFill>
                  <a:srgbClr val="eeece1"/>
                </a:solidFill>
                <a:latin typeface="Comic Sans MS"/>
              </a:rPr>
              <a:t> </a:t>
            </a:r>
            <a:r>
              <a:rPr b="1" lang="en-US" sz="1200" spc="-1" strike="noStrike">
                <a:solidFill>
                  <a:srgbClr val="eeece1"/>
                </a:solidFill>
                <a:latin typeface="Comic Sans MS"/>
              </a:rPr>
              <a:t>File / Use Uni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4BCE-7B12-47EB-97AE-1B8BC5E11D8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D527-3700-4A65-B700-CD2DBEE5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CDE-2E0B-40EA-A47B-E58D5F12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FC9EE-322F-4425-BFC7-F193C120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89AD2-0D23-41EF-A20B-034C1100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7677B-C877-4440-A227-722E927C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022F0-9E0D-41C0-9DE0-79BA0524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EB7CD-DDB9-48FF-A93B-B1459D7E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B1CE4-71C1-4CF4-830D-DDFF00E5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3F66F-4897-4278-B40B-A0B1C68C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C1367-716C-4295-A521-C6B2EAA8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5F7C5-F4C1-42B0-9C6D-07022558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2D17D-7A85-4763-BD72-38CE0995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F37-D28A-4F12-ADAD-2D08ED35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3C3BE-A550-46AD-8D18-B3E9B869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1E3F0-9C55-479D-8F39-BDC004B0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E9658-6ABA-4E66-81A3-FADCE1FC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6E5BF-A1DA-4C10-86D0-29ED37BA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AF7B1-3A80-4BAA-B80B-B5523473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3717D-5878-4C41-B606-6EEB6EF2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113EB-222C-438A-9BB1-CA63BDC5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4630F-843C-4334-AF85-C0D3D2ED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43B1C-FCA4-4D5F-9EAD-5328F09D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952BC-A21F-4BE1-B9F4-A4DD0191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D30-41E9-491D-988F-183E20A8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DDDF0-0056-48AA-81A9-A4C2C84C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B3B14-70C9-4C58-83DE-316097C1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BF427-B6F0-4417-92A6-2202EBAC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201CE-F802-4742-8DD7-F8A47E8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36068-77EE-4F6F-981E-1F6EF2C6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5E252-BC87-47A0-9FA6-E980EDE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CA68E-21BB-4D5F-A01F-15ECBF33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901C9-03AE-454C-93EF-D25F9F37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16E21-48AD-4D71-8E37-E3667F61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4B7F1-FD2E-4D53-9CE6-2787A2B0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809F-62A0-4B2A-BCA0-3ABA2011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23EED-CE98-45A9-863B-F9064E22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0C41B-FB57-4D00-9647-32340925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D1DF2-FF88-46CA-8CC2-CE02CB85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E842A-0402-421C-8543-A7668E47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43D08-7057-4781-BE42-84718888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31FF5-69E0-4055-82EF-10E0E3DE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31F9A-8522-482F-A370-5BEF90D6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C9A75-9CAE-460A-AAAE-64EE21AE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83A39-CEB5-4C07-975D-A1E3C55F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FC1DD-EEA6-41F4-A634-6C7157EF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81DD-04A4-4E62-8D52-F22DC0A5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A7F22-6947-4F0B-A848-AFF7E40F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F63CD-F4A6-4DF9-B0DF-D6CF237B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94197-AF7A-470F-B13F-1416E7D3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36532-8B6B-4070-A24C-EC719E7A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10DC2-AE21-43C2-A6C3-390EB657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5DC4-6579-4FBA-918C-3486FCB1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AC44-AC8D-44E6-881B-70ADB109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18F9-6BDC-46B4-8979-B5B9D39D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61B7-B680-4998-9EAB-777A7FA2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0832-D45A-4AFA-ABD5-B70A90E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3CD-B474-4EEF-96AF-37E35FD4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4138-0098-4777-A289-B1D24878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03DC-6DEA-4496-AD3C-F3A36F9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5BB9-2601-40A0-84EF-0743383A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B664-AC06-472F-B37C-CFA29276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CE54-1D31-4DE3-9B7C-BC2C9505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1E2C0-4EBB-47B3-A052-3926DC86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129D-C5DF-407C-A1E4-C491ADBC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6DB0-51BF-4E8D-92CA-59551F1D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CB3E3-A903-4DBE-B700-0FB474C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1F44-4A1C-4ACF-B306-0F343C00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5C8-DEDA-43B7-9A5E-2A98B0E2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0D2B-C271-42AB-8D2F-9AB10B78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DDDC-8A2A-471A-BD5E-0DE7B7C7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39F5-4504-432D-8A07-5ED48D9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BEDA-BD26-4E2F-A754-AD606DC9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4E42-51D7-4152-B584-B2CCBC68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E6775-B9F0-476E-8B62-73515FBC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3F1B-2BBD-4E7A-B573-5F9E8C06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F52F-537E-4B55-9706-642A7F10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6E847-D572-4047-804C-5B69E634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4748C-5911-4B55-8EB1-DA5B08D7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4BA-EF06-4959-AF80-44494472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C112-3BCB-4C33-B008-7D868CFC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2CA27-2EFC-4AFB-AE21-B2AB8ECC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0C5FD-2E84-475B-A170-D4733411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0E6B7-F5C8-41A1-AF67-9C938013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99704-94CE-45DB-A8D0-8470240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C6EE3-E756-477E-A1CD-7A679936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07F5C-B5EA-465E-8B79-89BC06CC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B3777-4C39-4F22-82D0-FC291405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3E9B3-269A-4147-A51A-BECFD778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83C6C-F758-4A10-9EC8-699A2AC5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66E-4100-4A1A-85E5-C749A28A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7B95-EB99-438E-BEF0-433F2F83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DB242-81B3-43BB-BBFD-FB92EAAC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B8815-817C-4A92-9863-5C0A555A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BB589-455C-4FC9-AD01-6FBBC460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C1C72-843A-4BC2-A28D-000C6968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128F5-EE7B-44BE-9F41-B0F9519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482AD-226E-40ED-B160-332B5794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D7A94-4234-42D0-B1DD-D7EAC8D7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8B34B-3833-4A7E-9A57-F5A7947A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23485-BA75-489B-8006-DD986812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E95D-992F-47D3-A514-D478F1FB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BCDE9-F935-4F94-8D3A-592F0F8D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0336D-8402-4030-BBB9-8AE826B5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3B662-F5AD-4342-80BC-0BC2F18D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F11AF-C3BA-43B1-BC2E-3A02BA0D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46C88-9A77-4759-825C-058C6D5C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30DBE-498E-400C-9D24-D60B0940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8B4EE-5B3C-447C-90B3-E6022BF9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519F9-0474-48A8-9F80-70F0D210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20424-E87B-474A-85BC-11D3DA71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4382A-38F9-4247-A68B-2ACA8C70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119-F256-4713-A476-A1166397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13C55-71EB-409A-8AF2-975137ED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23A7E-ABCB-41C0-92D2-9757F9A0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85602-9B11-4D5A-8957-A0E093AA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42C19-4A62-4E92-8010-5B379B8B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6C500-DCD0-4EF4-B594-1C717AE0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BC86-4B03-489A-84FB-BA4A2806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C222C-BD0D-47BA-ABC0-9A9AB549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17C76-C8CA-4E06-9F55-D56B6460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C656F-D7E2-4638-BB74-2EC813E0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DE483-EBA6-48AA-8A03-074B3B4F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F93-4488-4100-808E-0D19D527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FBFA6-5900-40CC-88C9-C99C97F3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E6717-E0F9-475E-9402-D6A767D7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11851-DED4-43F7-927F-C092C70A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1E61D-68B2-4601-A9FE-563D69E1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1A510-D07C-426D-8054-EC80AD2C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75DF-D23E-435D-9541-3D4BE3D3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E24E7-8C05-498E-A6CD-99B08231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5CFF6-F322-4FC1-AF31-345C033C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10FE5-1CA3-40A9-A019-9F7BF9A6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623BA-326E-4B29-BB7B-86509246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694-8FC7-4FA6-AE1A-1132506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02AB2-10FA-4FE4-AF82-DF2CD9F7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C6E7D-F4F2-4BEF-B561-FD2E7AE2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2E000-43A4-4E3A-8E47-E71BF6EF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E0F41-2984-4E4E-AC91-562E68B9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10F8B-745B-4A80-BE9F-BF8746EE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59864-1B1F-411F-91E9-7E43E74A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37752-A786-4510-928D-CE48601D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8C5C5-BE2C-4B3A-9007-70353AEF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236D8-9534-4062-AFFA-2F90784B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D3C7B-3012-470C-BA65-4D991050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3168-FA00-4ADE-81AC-E8A8C9F969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EA08-CE58-4B1F-8565-FE5974E823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52BF-024A-4B9B-A2D6-C6CA1AB6C6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6818-5796-4B3D-A6E4-AAFA25BB1E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96ED-FE44-41A4-BA3D-1C55782EA2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C557-0BAC-427B-B0CC-91A1C23DFA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3BC7-3A2C-49CC-BEB6-1A1F01BB94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17BB-3210-486C-A196-1833801BA8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A04A-9EED-48F1-AB57-626BD52748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0767-189B-4775-9ADD-9DD37988A2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BEB3-582C-4FFE-8C75-22C93B29F6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DB91-3CB4-43B6-A605-1B40EF2225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655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33"/>
                </a:solidFill>
                <a:latin typeface="Arial"/>
              </a:rPr>
              <a:t>Лекция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2057040" y="213336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"/>
              </a:rPr>
              <a:t>Delphi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228600" y="685800"/>
            <a:ext cx="8610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того, чтобы сохранить проект,  в главном меню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ile / Save Project As…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457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71360" y="122400"/>
            <a:ext cx="34815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Сохранение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6" descr="D:\usu\Курсовая\Рисунки\сохранение.bmp"/>
          <p:cNvPicPr/>
          <p:nvPr/>
        </p:nvPicPr>
        <p:blipFill>
          <a:blip r:embed="rId1"/>
          <a:stretch/>
        </p:blipFill>
        <p:spPr>
          <a:xfrm>
            <a:off x="0" y="1523880"/>
            <a:ext cx="3429000" cy="51055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602" name="Text Box 7"/>
          <p:cNvSpPr/>
          <p:nvPr/>
        </p:nvSpPr>
        <p:spPr>
          <a:xfrm>
            <a:off x="3655080" y="1295280"/>
            <a:ext cx="4734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му проекту имя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581280" y="2174760"/>
            <a:ext cx="5562720" cy="448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к процесса компиляции выполняется по команд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Projec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/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mpile&lt;Project1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Компиляция проекта для получения приложения  может быть выполнена на любой  стадии  разработки  проект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Это удобно для проверки вида и правильности    функционирования отдельных компонентов формы, а также для  проверки  создаваемого  код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осле компиляции проекта  создается исполняемый файл приложения с именем файла проекта 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3645000" y="1752480"/>
            <a:ext cx="22381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Компиля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5" name="Picture 10" descr="D:\usu\Курсовая\Рисунки\exe.bmp"/>
          <p:cNvPicPr/>
          <p:nvPr/>
        </p:nvPicPr>
        <p:blipFill>
          <a:blip r:embed="rId2"/>
          <a:stretch/>
        </p:blipFill>
        <p:spPr>
          <a:xfrm>
            <a:off x="5943600" y="6324480"/>
            <a:ext cx="1905120" cy="5335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72840" y="122400"/>
            <a:ext cx="26632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пуск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3"/>
          <p:cNvSpPr/>
          <p:nvPr/>
        </p:nvSpPr>
        <p:spPr>
          <a:xfrm>
            <a:off x="228600" y="685800"/>
            <a:ext cx="8702640" cy="11606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ee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пустить проект  на выполнение можно из среды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 из среды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Windows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.  Из среды 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осуществляется командой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Run / Ru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или  нажатием клавиш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&lt;F9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4401000" y="1981080"/>
            <a:ext cx="1985040" cy="459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амеч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212760" y="2327400"/>
            <a:ext cx="862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4267080" y="2438280"/>
            <a:ext cx="458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ельзя запустить вторую копию приложения при уже запущенном приложении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одолжить разработку проекта можно только после завершения работы прилож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ри зацикливании (зависании) приложения завершение его работы необходимо выполнять средствам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Run / Program Reset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ли нажатия клавиш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Ctrl&gt;+&lt;F2&gt;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Oval 7"/>
          <p:cNvSpPr/>
          <p:nvPr/>
        </p:nvSpPr>
        <p:spPr>
          <a:xfrm>
            <a:off x="4267080" y="25909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Oval 8"/>
          <p:cNvSpPr/>
          <p:nvPr/>
        </p:nvSpPr>
        <p:spPr>
          <a:xfrm>
            <a:off x="4267080" y="3505320"/>
            <a:ext cx="15264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Oval 9"/>
          <p:cNvSpPr/>
          <p:nvPr/>
        </p:nvSpPr>
        <p:spPr>
          <a:xfrm>
            <a:off x="4267080" y="4495680"/>
            <a:ext cx="152640" cy="15264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10" descr="D:\usu\Курсовая\Рисунки\run.bmp"/>
          <p:cNvPicPr/>
          <p:nvPr/>
        </p:nvPicPr>
        <p:blipFill>
          <a:blip r:embed="rId1"/>
          <a:stretch/>
        </p:blipFill>
        <p:spPr>
          <a:xfrm>
            <a:off x="0" y="1905120"/>
            <a:ext cx="4191120" cy="4724280"/>
          </a:xfrm>
          <a:prstGeom prst="rect">
            <a:avLst/>
          </a:prstGeom>
          <a:ln w="0">
            <a:noFill/>
          </a:ln>
        </p:spPr>
      </p:pic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118080" y="385920"/>
            <a:ext cx="849096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Приложение которое мы создали будет иметь вид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Picture 4" descr="D:\usu\Курсовая\Рисунки\Form21.bmp"/>
          <p:cNvPicPr/>
          <p:nvPr/>
        </p:nvPicPr>
        <p:blipFill>
          <a:blip r:embed="rId1"/>
          <a:stretch/>
        </p:blipFill>
        <p:spPr>
          <a:xfrm>
            <a:off x="533520" y="1143000"/>
            <a:ext cx="7848360" cy="5334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C:\Мои документы\Безымянный.bmp"/>
          <p:cNvPicPr/>
          <p:nvPr/>
        </p:nvPicPr>
        <p:blipFill>
          <a:blip r:embed="rId2"/>
          <a:stretch/>
        </p:blipFill>
        <p:spPr>
          <a:xfrm>
            <a:off x="3429000" y="3809880"/>
            <a:ext cx="5105520" cy="2819520"/>
          </a:xfrm>
          <a:prstGeom prst="rect">
            <a:avLst/>
          </a:prstGeom>
          <a:ln w="0">
            <a:noFill/>
          </a:ln>
        </p:spPr>
      </p:pic>
      <p:sp>
        <p:nvSpPr>
          <p:cNvPr id="6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D:\usu\Курсовая\Рисунки\вид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5943600" y="4724280"/>
            <a:ext cx="3008160" cy="1798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Палитра компонен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редактора код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конструктора формы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Verdana"/>
              </a:rPr>
              <a:t>Окно инспектора объект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Line 5"/>
          <p:cNvSpPr/>
          <p:nvPr/>
        </p:nvSpPr>
        <p:spPr>
          <a:xfrm flipH="1" flipV="1">
            <a:off x="1676160" y="1600200"/>
            <a:ext cx="426708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Line 6"/>
          <p:cNvSpPr/>
          <p:nvPr/>
        </p:nvSpPr>
        <p:spPr>
          <a:xfrm flipH="1" flipV="1">
            <a:off x="3733920" y="2438280"/>
            <a:ext cx="2209680" cy="3353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7"/>
          <p:cNvSpPr/>
          <p:nvPr/>
        </p:nvSpPr>
        <p:spPr>
          <a:xfrm flipH="1" flipV="1">
            <a:off x="5029200" y="1752120"/>
            <a:ext cx="914400" cy="358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8"/>
          <p:cNvSpPr/>
          <p:nvPr/>
        </p:nvSpPr>
        <p:spPr>
          <a:xfrm flipV="1">
            <a:off x="6095880" y="11430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6"/>
          <p:cNvSpPr/>
          <p:nvPr/>
        </p:nvSpPr>
        <p:spPr>
          <a:xfrm>
            <a:off x="304920" y="2362320"/>
            <a:ext cx="495288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228600" y="685800"/>
            <a:ext cx="868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редактора кода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Unit1.pas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создает   исходный   текст модуля  разрабатываемого приложения.  Каждый   редактируемый  файл  находится на отдельной странице,  доступ  к которой можно получить, щелкнув на ее ярлыч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кно конструктора формы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Form1)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  нем  выполняется  проектирование формы. Для  чего  на форму  из  Палитры   компонентов помещаются необходимые элеме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ображает свойства и события объектов  для текущей формы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Form1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Его можно отобразить с помощью команды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View / Object Inspector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ли нажатия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лавиш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&lt;F11&gt;.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кно инспектора объектов имеет 2 вклад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Properties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войства) и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Events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Событ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124200" y="2362320"/>
            <a:ext cx="52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конструктора фор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78476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167760" y="228600"/>
            <a:ext cx="417204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редактора к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13"/>
          <p:cNvSpPr/>
          <p:nvPr/>
        </p:nvSpPr>
        <p:spPr>
          <a:xfrm>
            <a:off x="304920" y="4191120"/>
            <a:ext cx="5105160" cy="533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185760" y="419112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Окно инспектора объе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228600" y="533520"/>
            <a:ext cx="8534520" cy="619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pr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сновный файл проекта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fm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Ф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айл формы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Pa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модуля Паскаля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Res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ресурсов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!(создае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первом сохранении)</a:t>
            </a: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Opt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 параметров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~*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езервные копии фай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r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Delphi Component Resource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cu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компилированный файл моду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m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ромежуточный к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ll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Файлы динамических библиот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Dsk 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онфигурация рабочей об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.Exe</a:t>
            </a:r>
            <a:r>
              <a:rPr b="1" lang="ru-RU" sz="24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сполняемые фай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56520" y="0"/>
            <a:ext cx="46231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Расширения фай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5791320" y="685800"/>
            <a:ext cx="380880" cy="1752480"/>
          </a:xfrm>
          <a:custGeom>
            <a:avLst/>
            <a:gdLst>
              <a:gd name="textAreaLeft" fmla="*/ 0 w 380880"/>
              <a:gd name="textAreaRight" fmla="*/ 137520 w 3808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6411240" y="8380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бязательн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айл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для работ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3"/>
          <p:cNvSpPr/>
          <p:nvPr/>
        </p:nvSpPr>
        <p:spPr>
          <a:xfrm>
            <a:off x="289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23120" y="228600"/>
            <a:ext cx="672012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Пример простого при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12760" y="879480"/>
            <a:ext cx="8702640" cy="5214600"/>
          </a:xfrm>
          <a:prstGeom prst="rect">
            <a:avLst/>
          </a:prstGeom>
          <a:gradFill rotWithShape="0">
            <a:gsLst>
              <a:gs pos="0">
                <a:srgbClr val="e9e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оздание нового приложения начинается с того, что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Delphi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предлагает пустое окно - форму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Form1.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нтерфейс приложения составляют компоненты, которые можно выбирать из 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Палитры компонен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 размещать  их  на форме и изменять их свойств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ыбор компонента в Палитре выполняется щелчком мыши на нужном компоненте,  например,  кнопке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и  после этого щелкнуть на форме. На  ней  появится  выбранны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сле размещения компонента на форм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вносит  изменения  в  файл модуля, т.е. добавляется  строчк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Название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: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lt;</a:t>
            </a:r>
            <a:r>
              <a:rPr b="1" lang="ru-RU" sz="2100" spc="-1" strike="noStrike">
                <a:solidFill>
                  <a:srgbClr val="ff0033"/>
                </a:solidFill>
                <a:latin typeface="Times New Roman"/>
              </a:rPr>
              <a:t>Тип компонента</a:t>
            </a:r>
            <a:r>
              <a:rPr b="1" lang="en-US" sz="2100" spc="-1" strike="noStrike">
                <a:solidFill>
                  <a:srgbClr val="ff0033"/>
                </a:solidFill>
                <a:latin typeface="Times New Roman"/>
              </a:rPr>
              <a:t>&gt;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нешний вид компонента определяют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его свойства, которые доступны в ок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Инспектора объектов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 когда компонен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 форме выделен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1" name="Picture 7" descr="D:\usu\Курсовая\Рисунки\строка.bmp"/>
          <p:cNvPicPr/>
          <p:nvPr/>
        </p:nvPicPr>
        <p:blipFill>
          <a:blip r:embed="rId1"/>
          <a:stretch/>
        </p:blipFill>
        <p:spPr>
          <a:xfrm>
            <a:off x="5791320" y="4114800"/>
            <a:ext cx="2971800" cy="6858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D:\usu\Курсовая\Рисунки\кнопка.bmp"/>
          <p:cNvPicPr/>
          <p:nvPr/>
        </p:nvPicPr>
        <p:blipFill>
          <a:blip r:embed="rId2"/>
          <a:stretch/>
        </p:blipFill>
        <p:spPr>
          <a:xfrm>
            <a:off x="5486400" y="4876920"/>
            <a:ext cx="3429000" cy="1676160"/>
          </a:xfrm>
          <a:prstGeom prst="rect">
            <a:avLst/>
          </a:prstGeom>
          <a:ln w="0">
            <a:noFill/>
          </a:ln>
        </p:spPr>
      </p:pic>
      <p:sp>
        <p:nvSpPr>
          <p:cNvPr id="563" name="Line 9"/>
          <p:cNvSpPr/>
          <p:nvPr/>
        </p:nvSpPr>
        <p:spPr>
          <a:xfrm flipV="1">
            <a:off x="2743200" y="5562720"/>
            <a:ext cx="3200400" cy="380880"/>
          </a:xfrm>
          <a:prstGeom prst="line">
            <a:avLst/>
          </a:prstGeom>
          <a:ln w="2844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5181480" y="4419720"/>
            <a:ext cx="838440" cy="152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C:\Мои документы\Безымянный.bmp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3048120" y="117360"/>
            <a:ext cx="6095880" cy="692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В окне 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Инспектора объектов</a:t>
            </a:r>
            <a:r>
              <a:rPr b="1" lang="ru-RU" sz="2100" spc="-1" strike="noStrike">
                <a:solidFill>
                  <a:srgbClr val="990000"/>
                </a:solidFill>
                <a:latin typeface="Times New Roman"/>
              </a:rPr>
              <a:t> приводятся названия всех свойств и их значения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   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Свойства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представляют  собой  атрибуты, определяющие способ отображения и функцио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ирования компонентов при выполнении приложения. Изменять значения свойств можно непосредственно в Инспекторе, при этом сразу же изменяется соответствующий компонент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адим нашей кнопке другой заголовок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пишем в строке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 u="sng">
                <a:solidFill>
                  <a:srgbClr val="990000"/>
                </a:solidFill>
                <a:uFillTx/>
                <a:latin typeface="Times New Roman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Некоторые свойства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Comic Sans MS"/>
              </a:rPr>
              <a:t>Button</a:t>
            </a:r>
            <a:r>
              <a:rPr b="1" i="1" lang="ru-RU" sz="1700" spc="-1" strike="noStrike" u="sng">
                <a:solidFill>
                  <a:srgbClr val="ffffff"/>
                </a:solidFill>
                <a:uFillTx/>
                <a:latin typeface="Comic Sans M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Cursor:TCurso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изображение мыши при наведении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 кнопку (например: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crHandPoint           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Default:Boolean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нажатие кнопки выполняется по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клавише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Enter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, если значение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Default=Tru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Font:TFont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шриф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Height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высот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Width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ширина кнопки в пикселях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Left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горизонт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33"/>
                </a:solidFill>
                <a:latin typeface="Comic Sans MS"/>
              </a:rPr>
              <a:t>Top :Integer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вертикальная координата левого верхнего уг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7"/>
          <p:cNvSpPr/>
          <p:nvPr/>
        </p:nvSpPr>
        <p:spPr>
          <a:xfrm flipH="1" flipV="1">
            <a:off x="2437920" y="1981080"/>
            <a:ext cx="685800" cy="106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D:\usu\Курсовая\Рисунки\Рука.bmp"/>
          <p:cNvPicPr/>
          <p:nvPr/>
        </p:nvPicPr>
        <p:blipFill>
          <a:blip r:embed="rId2"/>
          <a:stretch/>
        </p:blipFill>
        <p:spPr>
          <a:xfrm>
            <a:off x="7010280" y="3886200"/>
            <a:ext cx="619200" cy="533520"/>
          </a:xfrm>
          <a:prstGeom prst="rect">
            <a:avLst/>
          </a:prstGeom>
          <a:ln w="0">
            <a:noFill/>
          </a:ln>
        </p:spPr>
      </p:pic>
      <p:sp>
        <p:nvSpPr>
          <p:cNvPr id="5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8" descr="D:\usu\Курсовая\Рисунки\OnClick.bmp"/>
          <p:cNvPicPr/>
          <p:nvPr/>
        </p:nvPicPr>
        <p:blipFill>
          <a:blip r:embed="rId1"/>
          <a:stretch/>
        </p:blipFill>
        <p:spPr>
          <a:xfrm>
            <a:off x="0" y="3200400"/>
            <a:ext cx="5715000" cy="2286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" descr="D:\usu\Курсовая\Рисунки\события.bmp"/>
          <p:cNvPicPr/>
          <p:nvPr/>
        </p:nvPicPr>
        <p:blipFill>
          <a:blip r:embed="rId2"/>
          <a:stretch/>
        </p:blipFill>
        <p:spPr>
          <a:xfrm>
            <a:off x="0" y="0"/>
            <a:ext cx="5181480" cy="20574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5181480" y="0"/>
            <a:ext cx="3962520" cy="2044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ы  кнопка   могла реагировать  на  какое  либо событие,  необходимо  указать </a:t>
            </a:r>
            <a:r>
              <a:rPr b="1" lang="ru-RU" sz="1900" spc="-1" strike="noStrike">
                <a:solidFill>
                  <a:srgbClr val="ff0033"/>
                </a:solidFill>
                <a:latin typeface="Comic Sans MS"/>
              </a:rPr>
              <a:t>процедуру обработки событ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которая будет вызываться при возникновении  данного собы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2133720"/>
            <a:ext cx="9144000" cy="1374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d4df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Для этого нужно сделать двойной щелчок в области события </a:t>
            </a:r>
            <a:r>
              <a:rPr b="0" lang="en-US" sz="2100" spc="-1" strike="noStrike">
                <a:solidFill>
                  <a:srgbClr val="ff0033"/>
                </a:solidFill>
                <a:latin typeface="Comic Sans MS"/>
              </a:rPr>
              <a:t>OnClick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(или  двойной  щелчок  по  кнопке  </a:t>
            </a:r>
            <a:r>
              <a:rPr b="1" lang="en-US" sz="2100" spc="-1" strike="noStrike">
                <a:solidFill>
                  <a:srgbClr val="990000"/>
                </a:solidFill>
                <a:latin typeface="Times New Roman"/>
              </a:rPr>
              <a:t>About Form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 результат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Delphi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и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создает 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модуле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формы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заготовку  </a:t>
            </a:r>
            <a:r>
              <a:rPr b="0" lang="ru-RU" sz="2100" spc="-1" strike="noStrike">
                <a:solidFill>
                  <a:srgbClr val="ff0033"/>
                </a:solidFill>
                <a:latin typeface="Comic Sans MS"/>
              </a:rPr>
              <a:t>процедуры-обработчика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Freeform 7"/>
          <p:cNvSpPr/>
          <p:nvPr/>
        </p:nvSpPr>
        <p:spPr>
          <a:xfrm>
            <a:off x="1828800" y="1219320"/>
            <a:ext cx="5715000" cy="1066680"/>
          </a:xfrm>
          <a:custGeom>
            <a:avLst/>
            <a:gdLst/>
            <a:ahLst/>
            <a:rect l="l" t="t" r="r" b="b"/>
            <a:pathLst>
              <a:path w="3696" h="720">
                <a:moveTo>
                  <a:pt x="3696" y="720"/>
                </a:moveTo>
                <a:cubicBezTo>
                  <a:pt x="3112" y="676"/>
                  <a:pt x="2528" y="632"/>
                  <a:pt x="1968" y="576"/>
                </a:cubicBezTo>
                <a:cubicBezTo>
                  <a:pt x="1408" y="520"/>
                  <a:pt x="664" y="480"/>
                  <a:pt x="336" y="384"/>
                </a:cubicBezTo>
                <a:cubicBezTo>
                  <a:pt x="8" y="288"/>
                  <a:pt x="56" y="64"/>
                  <a:pt x="0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9"/>
          <p:cNvSpPr/>
          <p:nvPr/>
        </p:nvSpPr>
        <p:spPr>
          <a:xfrm>
            <a:off x="3276720" y="2971800"/>
            <a:ext cx="635040" cy="1066680"/>
          </a:xfrm>
          <a:custGeom>
            <a:avLst/>
            <a:gdLst/>
            <a:ahLst/>
            <a:rect l="l" t="t" r="r" b="b"/>
            <a:pathLst>
              <a:path w="400" h="720">
                <a:moveTo>
                  <a:pt x="96" y="0"/>
                </a:moveTo>
                <a:cubicBezTo>
                  <a:pt x="248" y="132"/>
                  <a:pt x="400" y="264"/>
                  <a:pt x="384" y="384"/>
                </a:cubicBezTo>
                <a:cubicBezTo>
                  <a:pt x="368" y="504"/>
                  <a:pt x="64" y="656"/>
                  <a:pt x="0" y="72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699160" y="4038480"/>
            <a:ext cx="3444840" cy="1739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var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About: TAbou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:=TAbout.Create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About.Show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Book Antiqua"/>
              </a:rPr>
              <a:t>e</a:t>
            </a:r>
            <a:r>
              <a:rPr b="1" lang="ru-RU" sz="1800" spc="-1" strike="noStrike">
                <a:solidFill>
                  <a:srgbClr val="ff0033"/>
                </a:solidFill>
                <a:latin typeface="Book Antiqua"/>
              </a:rPr>
              <a:t>n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13"/>
          <p:cNvSpPr/>
          <p:nvPr/>
        </p:nvSpPr>
        <p:spPr>
          <a:xfrm>
            <a:off x="5410080" y="4038480"/>
            <a:ext cx="381240" cy="144792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 flipV="1">
            <a:off x="761760" y="4647960"/>
            <a:ext cx="4647960" cy="75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79280" y="5491080"/>
            <a:ext cx="842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Теперь при нажатии на кнопку 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 Form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будет появляться ещ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дна форма по имени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которую мы опишем в модуле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it2</a:t>
            </a: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5840280" y="3675240"/>
            <a:ext cx="321336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апишем в процедур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228600" y="0"/>
            <a:ext cx="86104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Опишем вторую форму в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.pas.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главном меню  выберем пунк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33"/>
                </a:solidFill>
                <a:latin typeface="Comic Sans MS"/>
              </a:rPr>
              <a:t>File / New /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дадим этой форме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Captio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1" lang="en-US" sz="2100" spc="-1" strike="noStrike">
                <a:solidFill>
                  <a:srgbClr val="990000"/>
                </a:solidFill>
                <a:latin typeface="Comic Sans MS"/>
              </a:rPr>
              <a:t>Nam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bou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Поместим на форму кнопку 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Button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 заголов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 компоненту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который пред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тавляет  собой  простой текст,  который  не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редактируется при выполнении программы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Текст вводится в поле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Caption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4" name="Picture 3" descr="D:\usu\Курсовая\Рисунки\about.bmp"/>
          <p:cNvPicPr/>
          <p:nvPr/>
        </p:nvPicPr>
        <p:blipFill>
          <a:blip r:embed="rId1"/>
          <a:stretch/>
        </p:blipFill>
        <p:spPr>
          <a:xfrm>
            <a:off x="5943600" y="106668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4"/>
          <p:cNvSpPr/>
          <p:nvPr/>
        </p:nvSpPr>
        <p:spPr>
          <a:xfrm>
            <a:off x="241920" y="2712960"/>
            <a:ext cx="38203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Некоторые свойств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ffff00"/>
                </a:solidFill>
                <a:latin typeface="Comic Sans MS"/>
              </a:rPr>
              <a:t>Labe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28600" y="3200400"/>
            <a:ext cx="8686800" cy="3934440"/>
          </a:xfrm>
          <a:prstGeom prst="rect">
            <a:avLst/>
          </a:prstGeom>
          <a:gradFill rotWithShape="0">
            <a:gsLst>
              <a:gs pos="0">
                <a:srgbClr val="b3c6ff"/>
              </a:gs>
              <a:gs pos="50000">
                <a:srgbClr val="3366ff"/>
              </a:gs>
              <a:gs pos="100000">
                <a:srgbClr val="b3c6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utoSize:Boolean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автоматическая коррекция размера </a:t>
            </a:r>
            <a:r>
              <a:rPr b="1" lang="en-US" sz="2100" spc="-1" strike="noStrike">
                <a:solidFill>
                  <a:srgbClr val="990099"/>
                </a:solidFill>
                <a:latin typeface="Comic Sans MS"/>
              </a:rPr>
              <a:t>Label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,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в зависимости от текста надписи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Aligment:T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А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ligment</a:t>
            </a:r>
            <a:r>
              <a:rPr b="1" lang="ru-RU" sz="2100" spc="-1" strike="noStrike">
                <a:solidFill>
                  <a:srgbClr val="000066"/>
                </a:solidFill>
                <a:latin typeface="Comic Sans MS"/>
              </a:rPr>
              <a:t>-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способ выравнивания текста внутри компонента, может принимать следующие значения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LeftJustify</a:t>
            </a:r>
            <a:r>
              <a:rPr b="1" lang="ru-RU" sz="21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выравнивание по ле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Cente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центрирование текст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          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en-US" sz="2100" spc="-1" strike="noStrike">
                <a:solidFill>
                  <a:srgbClr val="990099"/>
                </a:solidFill>
                <a:latin typeface="Times New Roman"/>
              </a:rPr>
              <a:t>taRightJustify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- выравнивание по правому краю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WordWrap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автоматический перенос слов на другую строку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Transparent:Boolean</a:t>
            </a:r>
            <a:r>
              <a:rPr b="1" lang="ru-RU" sz="2100" spc="-1" strike="noStrike">
                <a:solidFill>
                  <a:srgbClr val="ff0033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- прозрачная надпись или закрашенная. Цвет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закрашивания устанавливается свойством </a:t>
            </a:r>
            <a:r>
              <a:rPr b="1" lang="en-US" sz="2100" spc="-1" strike="noStrike">
                <a:solidFill>
                  <a:srgbClr val="ff0033"/>
                </a:solidFill>
                <a:latin typeface="Comic Sans MS"/>
              </a:rPr>
              <a:t>Color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.                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7753680" y="609480"/>
            <a:ext cx="799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b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8"/>
          <p:cNvSpPr/>
          <p:nvPr/>
        </p:nvSpPr>
        <p:spPr>
          <a:xfrm flipH="1">
            <a:off x="7009920" y="914400"/>
            <a:ext cx="76212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228600" y="228600"/>
            <a:ext cx="8610480" cy="2180880"/>
          </a:xfrm>
          <a:prstGeom prst="rect">
            <a:avLst/>
          </a:prstGeom>
          <a:gradFill rotWithShape="0">
            <a:gsLst>
              <a:gs pos="0">
                <a:srgbClr val="b9caff"/>
              </a:gs>
              <a:gs pos="50000">
                <a:srgbClr val="3366ff"/>
              </a:gs>
              <a:gs pos="100000">
                <a:srgbClr val="b9caf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При нажатии на кнопку</a:t>
            </a:r>
            <a:r>
              <a:rPr b="0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33"/>
                </a:solidFill>
                <a:latin typeface="Comic Sans MS"/>
              </a:rPr>
              <a:t>Close</a:t>
            </a:r>
            <a:r>
              <a:rPr b="1" lang="ru-RU" sz="22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делаем так, чтобы форма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Abo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закрывалась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procedure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</a:t>
            </a: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TAbout.Button1Click(Sender: TObject)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Arial Black"/>
              </a:rPr>
              <a:t>begin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ff0033"/>
                </a:solidFill>
                <a:latin typeface="Comic Sans MS"/>
              </a:rPr>
              <a:t>Close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2300" spc="-1" strike="noStrike">
                <a:solidFill>
                  <a:srgbClr val="663300"/>
                </a:solidFill>
                <a:latin typeface="Arial Black"/>
              </a:rPr>
              <a:t>end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6" descr="D:\usu\Курсовая\Рисунки\unit2.bmp"/>
          <p:cNvPicPr/>
          <p:nvPr/>
        </p:nvPicPr>
        <p:blipFill>
          <a:blip r:embed="rId1"/>
          <a:stretch/>
        </p:blipFill>
        <p:spPr>
          <a:xfrm>
            <a:off x="3733920" y="1676520"/>
            <a:ext cx="5410080" cy="51814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7"/>
          <p:cNvSpPr/>
          <p:nvPr/>
        </p:nvSpPr>
        <p:spPr>
          <a:xfrm>
            <a:off x="0" y="243828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Наш модуль </a:t>
            </a:r>
            <a:r>
              <a:rPr b="1" lang="en-US" sz="2100" spc="-1" strike="noStrike">
                <a:solidFill>
                  <a:srgbClr val="000066"/>
                </a:solidFill>
                <a:latin typeface="Times New Roman"/>
              </a:rPr>
              <a:t>Unit2 </a:t>
            </a:r>
            <a:r>
              <a:rPr b="1" lang="ru-RU" sz="2100" spc="-1" strike="noStrike">
                <a:solidFill>
                  <a:srgbClr val="000066"/>
                </a:solidFill>
                <a:latin typeface="Times New Roman"/>
              </a:rPr>
              <a:t>имеет вид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1143000" y="2895480"/>
            <a:ext cx="29718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04920" y="2971800"/>
            <a:ext cx="3504960" cy="320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ри  нажатии кнопки </a:t>
            </a:r>
            <a:r>
              <a:rPr b="1" lang="en-US" sz="1700" spc="-1" strike="noStrike">
                <a:solidFill>
                  <a:srgbClr val="ffff00"/>
                </a:solidFill>
                <a:latin typeface="Comic Sans MS"/>
              </a:rPr>
              <a:t>About Form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ервой формы на экране отображается вторая форма, которая до этого была невидима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Т.к.  из  модуля 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осуществляется операция со второй формой, то в разделе 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implementation</a:t>
            </a: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модуля</a:t>
            </a:r>
            <a:r>
              <a:rPr b="1" lang="ru-RU" sz="1700" spc="-1" strike="noStrike">
                <a:solidFill>
                  <a:srgbClr val="ff0033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ff0033"/>
                </a:solidFill>
                <a:latin typeface="Tahoma"/>
              </a:rPr>
              <a:t>Unit1 </a:t>
            </a: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поместим  код </a:t>
            </a: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uses Unit2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1" lang="ru-RU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ile / Use Unit…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1364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12" descr="D:\usu\Курсовая\Рисунки\implementation.bmp"/>
          <p:cNvPicPr/>
          <p:nvPr/>
        </p:nvPicPr>
        <p:blipFill>
          <a:blip r:embed="rId2"/>
          <a:stretch/>
        </p:blipFill>
        <p:spPr>
          <a:xfrm>
            <a:off x="609480" y="6019920"/>
            <a:ext cx="2971800" cy="609480"/>
          </a:xfrm>
          <a:prstGeom prst="rect">
            <a:avLst/>
          </a:prstGeom>
          <a:ln w="0">
            <a:noFill/>
          </a:ln>
        </p:spPr>
      </p:pic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13:29:04Z</dcterms:created>
  <dc:creator>User</dc:creator>
  <dc:description/>
  <dc:language>en-US</dc:language>
  <cp:lastModifiedBy>LEGION</cp:lastModifiedBy>
  <dcterms:modified xsi:type="dcterms:W3CDTF">2015-04-01T07:07:15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4140</vt:lpwstr>
  </property>
</Properties>
</file>