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94C2-1DFF-4E19-AD01-EC79E272A6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3202-A1AF-43B3-B92D-727FC55A91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Налогооб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1. Пропорциона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 изменяет нераве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2. Прогрессивное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меньшает нераве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3. Регрессивное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величивает нераве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1C59-3181-4151-A511-04368776E2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Благодар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просмотр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92F5-05DE-4D83-A72B-CAC6D15C65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3300"/>
                </a:solidFill>
                <a:uFillTx/>
                <a:latin typeface="Arial Black"/>
              </a:rPr>
              <a:t>Цель:</a:t>
            </a: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Отработка навыков решения задач по 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3300"/>
                </a:solidFill>
                <a:uFillTx/>
                <a:latin typeface="Arial Black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актуализировать теоретические знания по данной тем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выделить типы задач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разработать алгоритм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967E-67CC-4E10-B0B6-F7688A490C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графический показатель, характеризующий реальное распределение доходов в условиях рыноч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кривая, каждая точка которой показывает степень отклонения реального распределения доходов от абсолютного раве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C64E-D939-463C-82BC-FDE437EC37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21E2-4959-4EBC-AAA3-0218A57500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EBA4-2203-4CAC-8264-748F1A2564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F453-3348-47A9-B795-18FD181EE8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индексный показатель, характеризующий степень неравенства доходов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D7F7-57C6-42DC-AFB4-4DC4A9CF1C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4F6E-947F-41DA-9520-BE3F06A476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4766-95C2-4945-B69C-31D615B023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E10-2428-4362-B2F9-AAD2F233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E915-9B30-4DE6-90BA-AB22E1D0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1E19-EE46-4161-80E7-EFBAB340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F27-B427-4927-BEA8-C890E844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D5FC-EDB3-4639-B24E-E4B20E68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275-BC6A-46D2-9666-BEA64CD9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C30-E069-433F-85AB-B0776C4C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CA26-59C1-427B-9BD3-1490D516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535-DA9A-40D1-8463-90262C68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508B-80B2-402B-8A86-2318923A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D46E-0201-451E-BD6C-519E1E02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752-C348-4639-8400-7A5FEB05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c73b"/>
            </a:gs>
            <a:gs pos="100000">
              <a:srgbClr val="ff6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B72C-C5A9-41E3-9AC6-30473BFB0E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Налогооб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1. Пропорциона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е изменяет нераве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2. Прогрессивное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Уменьшает не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3. Регрессивное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Увеличивает не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6"/>
          <p:cNvSpPr/>
          <p:nvPr/>
        </p:nvSpPr>
        <p:spPr>
          <a:xfrm>
            <a:off x="914400" y="1295280"/>
            <a:ext cx="7543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Благодарю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з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просмотр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 Black"/>
              </a:rPr>
              <a:t>Цель:</a:t>
            </a:r>
            <a:r>
              <a:rPr b="0" lang="ru-RU" sz="3200" spc="-1" strike="noStrike">
                <a:solidFill>
                  <a:srgbClr val="99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тработка навыков решения задач по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 Black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 Black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ктуализировать теоретические знания по данной те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выделить типы за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азработать алгоритм решения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это графический показатель, характеризующий реальное распределение доходов в условиях рыночной эконом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это кривая, каждая точка которой показывает степень отклонения реального распределения доходов от абсолютного рав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 rot="19020000">
            <a:off x="1680840" y="3885840"/>
            <a:ext cx="36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Линия абсолютного рав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1828800" y="6172200"/>
            <a:ext cx="37339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2881800" y="613260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Линия абсолю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 rot="16200000">
            <a:off x="5013360" y="463176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нерав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2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572" y="2012"/>
                  <a:pt x="1144" y="1768"/>
                  <a:pt x="1536" y="1392"/>
                </a:cubicBezTo>
                <a:cubicBezTo>
                  <a:pt x="1928" y="1016"/>
                  <a:pt x="2216" y="232"/>
                  <a:pt x="2352" y="0"/>
                </a:cubicBezTo>
              </a:path>
            </a:pathLst>
          </a:custGeom>
          <a:noFill/>
          <a:ln w="76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66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7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572" y="2012"/>
                  <a:pt x="1144" y="1768"/>
                  <a:pt x="1536" y="1392"/>
                </a:cubicBezTo>
                <a:cubicBezTo>
                  <a:pt x="1928" y="1016"/>
                  <a:pt x="2216" y="232"/>
                  <a:pt x="2352" y="0"/>
                </a:cubicBezTo>
              </a:path>
            </a:pathLst>
          </a:custGeom>
          <a:noFill/>
          <a:ln w="76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8"/>
          <p:cNvSpPr/>
          <p:nvPr/>
        </p:nvSpPr>
        <p:spPr>
          <a:xfrm>
            <a:off x="1905120" y="2590920"/>
            <a:ext cx="3657600" cy="358128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04" h="2256">
                <a:moveTo>
                  <a:pt x="0" y="2256"/>
                </a:moveTo>
                <a:cubicBezTo>
                  <a:pt x="744" y="2252"/>
                  <a:pt x="1488" y="2248"/>
                  <a:pt x="1872" y="1872"/>
                </a:cubicBezTo>
                <a:cubicBezTo>
                  <a:pt x="2256" y="1496"/>
                  <a:pt x="2232" y="312"/>
                  <a:pt x="2304" y="0"/>
                </a:cubicBezTo>
              </a:path>
            </a:pathLst>
          </a:custGeom>
          <a:noFill/>
          <a:ln w="572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9"/>
          <p:cNvSpPr/>
          <p:nvPr/>
        </p:nvSpPr>
        <p:spPr>
          <a:xfrm>
            <a:off x="1828800" y="2590920"/>
            <a:ext cx="3657600" cy="358128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04" h="2256">
                <a:moveTo>
                  <a:pt x="0" y="2256"/>
                </a:moveTo>
                <a:cubicBezTo>
                  <a:pt x="456" y="1940"/>
                  <a:pt x="912" y="1624"/>
                  <a:pt x="1296" y="1248"/>
                </a:cubicBezTo>
                <a:cubicBezTo>
                  <a:pt x="1680" y="872"/>
                  <a:pt x="2136" y="208"/>
                  <a:pt x="2304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2438280" y="15238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ак изменилось неравенство в общест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66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0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476" y="2156"/>
                  <a:pt x="952" y="2056"/>
                  <a:pt x="1344" y="1680"/>
                </a:cubicBezTo>
                <a:cubicBezTo>
                  <a:pt x="1736" y="1304"/>
                  <a:pt x="2184" y="280"/>
                  <a:pt x="2352" y="0"/>
                </a:cubicBezTo>
              </a:path>
            </a:pathLst>
          </a:custGeom>
          <a:noFill/>
          <a:ln w="572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1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716" y="1892"/>
                  <a:pt x="1432" y="1528"/>
                  <a:pt x="1824" y="1152"/>
                </a:cubicBezTo>
                <a:cubicBezTo>
                  <a:pt x="2216" y="776"/>
                  <a:pt x="2264" y="192"/>
                  <a:pt x="2352" y="0"/>
                </a:cubicBezTo>
              </a:path>
            </a:pathLst>
          </a:custGeom>
          <a:noFill/>
          <a:ln w="572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2362320" y="15238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к изменилось неравенство доход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это индексный показатель, характеризующий степень неравенства доходов в обще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 flipV="1">
            <a:off x="609480" y="21337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609480" y="62485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440" y="16765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725720" y="62164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 flipH="1">
            <a:off x="609480" y="266688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4343400" y="2666880"/>
            <a:ext cx="0" cy="358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4041000" y="6324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30040" y="6248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434340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4421520" y="5791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5241960" y="186516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7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8"/>
          <p:cNvSpPr/>
          <p:nvPr/>
        </p:nvSpPr>
        <p:spPr>
          <a:xfrm>
            <a:off x="1066680" y="5791320"/>
            <a:ext cx="0" cy="30456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295280" y="5638680"/>
            <a:ext cx="0" cy="4572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1523880" y="5410080"/>
            <a:ext cx="0" cy="60984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828800" y="5105520"/>
            <a:ext cx="0" cy="83808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2133720" y="4800600"/>
            <a:ext cx="0" cy="106668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3"/>
          <p:cNvSpPr/>
          <p:nvPr/>
        </p:nvSpPr>
        <p:spPr>
          <a:xfrm>
            <a:off x="2362320" y="457200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4"/>
          <p:cNvSpPr/>
          <p:nvPr/>
        </p:nvSpPr>
        <p:spPr>
          <a:xfrm>
            <a:off x="2590920" y="4343400"/>
            <a:ext cx="0" cy="121932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5"/>
          <p:cNvSpPr/>
          <p:nvPr/>
        </p:nvSpPr>
        <p:spPr>
          <a:xfrm>
            <a:off x="2819520" y="4114800"/>
            <a:ext cx="0" cy="121932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6"/>
          <p:cNvSpPr/>
          <p:nvPr/>
        </p:nvSpPr>
        <p:spPr>
          <a:xfrm>
            <a:off x="3048120" y="396252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3276720" y="373392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9"/>
          <p:cNvSpPr/>
          <p:nvPr/>
        </p:nvSpPr>
        <p:spPr>
          <a:xfrm>
            <a:off x="3505320" y="3505320"/>
            <a:ext cx="0" cy="99036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3733920" y="3276720"/>
            <a:ext cx="0" cy="6858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1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2195640" y="5827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3414960" y="4836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4"/>
          <p:cNvSpPr/>
          <p:nvPr/>
        </p:nvSpPr>
        <p:spPr>
          <a:xfrm>
            <a:off x="3352680" y="48769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>
            <a:off x="2209680" y="5867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6"/>
          <p:cNvSpPr/>
          <p:nvPr/>
        </p:nvSpPr>
        <p:spPr>
          <a:xfrm rot="16200000">
            <a:off x="685440" y="2590200"/>
            <a:ext cx="3581640" cy="3733920"/>
          </a:xfrm>
          <a:prstGeom prst="rtTriangle">
            <a:avLst/>
          </a:prstGeom>
          <a:solidFill>
            <a:srgbClr val="0080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4876920" y="2743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--------------------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5410080" y="26668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лощадь фигуры ОА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0"/>
          <p:cNvSpPr/>
          <p:nvPr/>
        </p:nvSpPr>
        <p:spPr>
          <a:xfrm>
            <a:off x="548640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1"/>
          <p:cNvSpPr/>
          <p:nvPr/>
        </p:nvSpPr>
        <p:spPr>
          <a:xfrm>
            <a:off x="5484960" y="309888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лощадь фигуры О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 flipV="1">
            <a:off x="609480" y="21337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609480" y="62485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440" y="16765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4725720" y="62164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 flipH="1">
            <a:off x="609480" y="266688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4343400" y="2666880"/>
            <a:ext cx="0" cy="358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4041000" y="6324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230040" y="6248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34340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421520" y="5791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5241960" y="186516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2195640" y="5827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3414960" y="4836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9"/>
          <p:cNvSpPr/>
          <p:nvPr/>
        </p:nvSpPr>
        <p:spPr>
          <a:xfrm>
            <a:off x="548640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1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2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3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4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4267080" y="163656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G =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абсолютное равенство до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7"/>
          <p:cNvSpPr/>
          <p:nvPr/>
        </p:nvSpPr>
        <p:spPr>
          <a:xfrm flipV="1">
            <a:off x="4343400" y="2666520"/>
            <a:ext cx="0" cy="3581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8"/>
          <p:cNvSpPr/>
          <p:nvPr/>
        </p:nvSpPr>
        <p:spPr>
          <a:xfrm>
            <a:off x="609480" y="6248520"/>
            <a:ext cx="373392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9"/>
          <p:cNvSpPr/>
          <p:nvPr/>
        </p:nvSpPr>
        <p:spPr>
          <a:xfrm>
            <a:off x="4648320" y="29322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 = 1 =&gt;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абсолютное неравенство доходов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0"/>
          <p:cNvSpPr/>
          <p:nvPr/>
        </p:nvSpPr>
        <p:spPr>
          <a:xfrm>
            <a:off x="6156360" y="461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1"/>
          <p:cNvSpPr/>
          <p:nvPr/>
        </p:nvSpPr>
        <p:spPr>
          <a:xfrm>
            <a:off x="5257800" y="426708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 Black"/>
              </a:rPr>
              <a:t>0 &lt; G  &lt;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4952880" y="5562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 Black"/>
              </a:rPr>
              <a:t>0</a:t>
            </a:r>
            <a:r>
              <a:rPr b="1" lang="ru-RU" sz="2800" spc="-1" strike="noStrike">
                <a:solidFill>
                  <a:srgbClr val="993300"/>
                </a:solidFill>
                <a:latin typeface="Arial Black"/>
              </a:rPr>
              <a:t>%</a:t>
            </a:r>
            <a:r>
              <a:rPr b="1" lang="en-US" sz="2800" spc="-1" strike="noStrike">
                <a:solidFill>
                  <a:srgbClr val="993300"/>
                </a:solidFill>
                <a:latin typeface="Arial Black"/>
              </a:rPr>
              <a:t> &lt; G  &lt; 1</a:t>
            </a:r>
            <a:r>
              <a:rPr b="1" lang="ru-RU" sz="2800" spc="-1" strike="noStrike">
                <a:solidFill>
                  <a:srgbClr val="993300"/>
                </a:solidFill>
                <a:latin typeface="Arial Black"/>
              </a:rPr>
              <a:t>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6174360" y="50292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4-11-10T12:16:0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