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2E27-FF12-4065-AF49-31CC34C38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1807-9D91-4338-AE8B-544FCE16A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8552-876A-49CA-9177-B68A200C9F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524B-8CD6-4DA7-B30E-BB43AE2B3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FA03-90C0-4817-BF5F-3C064AED6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B78E-73D1-47CE-9795-8145F64BA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A33C-A987-4C90-A153-E6DA2FFCE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4D81-A7E5-4697-BC35-BC5959080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ADFB-0979-4129-8784-67E16BD53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1CBD-4530-41A3-80B3-670094F9D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2A8E-75FE-46AD-B2A6-F1CEAFBB20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F789-2D95-41B1-86C8-70BB4CB1E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A6F-7888-47D2-95EC-040A093D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76C-B4CA-41E0-8639-B556D569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30C-5485-454F-878F-C2308C2F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3CE-A06D-463A-AB18-FAFD4566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064-E4D2-4B0A-8ED2-3A5FD5CC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E20-621E-4891-BE53-CD934CE5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254-4CD3-482B-AA99-F73D8E05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96D-B0D1-43AA-942A-FE5CD38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8E6-80C0-42DE-A903-9E98609F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B3E-C6F7-4E53-951F-99663C8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385-4585-41F8-879F-5AEC2B37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CF7-6AF1-47EC-9F43-9B497FCF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c73b"/>
            </a:gs>
            <a:gs pos="100000">
              <a:srgbClr val="ff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12F3-AE46-4DF5-9FC8-8AF840143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914400" y="1295280"/>
            <a:ext cx="7543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3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 rot="19020000">
            <a:off x="1680840" y="388584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иния абсолютного 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1828800" y="6172200"/>
            <a:ext cx="37339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881800" y="61326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иния абсолю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 rot="16200000">
            <a:off x="5013360" y="463176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8"/>
          <p:cNvSpPr/>
          <p:nvPr/>
        </p:nvSpPr>
        <p:spPr>
          <a:xfrm>
            <a:off x="190512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744" y="2252"/>
                  <a:pt x="1488" y="2248"/>
                  <a:pt x="1872" y="1872"/>
                </a:cubicBezTo>
                <a:cubicBezTo>
                  <a:pt x="2256" y="1496"/>
                  <a:pt x="2232" y="312"/>
                  <a:pt x="2304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9"/>
          <p:cNvSpPr/>
          <p:nvPr/>
        </p:nvSpPr>
        <p:spPr>
          <a:xfrm>
            <a:off x="182880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456" y="1940"/>
                  <a:pt x="912" y="1624"/>
                  <a:pt x="1296" y="1248"/>
                </a:cubicBezTo>
                <a:cubicBezTo>
                  <a:pt x="1680" y="872"/>
                  <a:pt x="2136" y="208"/>
                  <a:pt x="2304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24382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к изменилось неравенство в обще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0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476" y="2156"/>
                  <a:pt x="952" y="2056"/>
                  <a:pt x="1344" y="1680"/>
                </a:cubicBezTo>
                <a:cubicBezTo>
                  <a:pt x="1736" y="1304"/>
                  <a:pt x="2184" y="280"/>
                  <a:pt x="2352" y="0"/>
                </a:cubicBez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1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716" y="1892"/>
                  <a:pt x="1432" y="1528"/>
                  <a:pt x="1824" y="1152"/>
                </a:cubicBezTo>
                <a:cubicBezTo>
                  <a:pt x="2216" y="776"/>
                  <a:pt x="2264" y="192"/>
                  <a:pt x="2352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2362320" y="15238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к изменилось неравенство дохо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1066680" y="5791320"/>
            <a:ext cx="0" cy="3045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295280" y="563868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523880" y="5410080"/>
            <a:ext cx="0" cy="60984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828800" y="5105520"/>
            <a:ext cx="0" cy="8380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2133720" y="4800600"/>
            <a:ext cx="0" cy="10666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2362320" y="457200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2590920" y="43434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5"/>
          <p:cNvSpPr/>
          <p:nvPr/>
        </p:nvSpPr>
        <p:spPr>
          <a:xfrm>
            <a:off x="2819520" y="41148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3048120" y="39625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3276720" y="37339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3505320" y="3505320"/>
            <a:ext cx="0" cy="9903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3733920" y="3276720"/>
            <a:ext cx="0" cy="6858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1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4"/>
          <p:cNvSpPr/>
          <p:nvPr/>
        </p:nvSpPr>
        <p:spPr>
          <a:xfrm>
            <a:off x="3352680" y="4876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>
            <a:off x="2209680" y="5867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6"/>
          <p:cNvSpPr/>
          <p:nvPr/>
        </p:nvSpPr>
        <p:spPr>
          <a:xfrm rot="16200000">
            <a:off x="685440" y="2590200"/>
            <a:ext cx="3581640" cy="3733920"/>
          </a:xfrm>
          <a:prstGeom prst="rtTriangle">
            <a:avLst/>
          </a:prstGeom>
          <a:solidFill>
            <a:srgbClr val="008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4876920" y="2743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--------------------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541008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лощадь фигуры О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5484960" y="30988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лощадь фигуры О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4267080" y="16365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 =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бсолютное равенство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 flipV="1">
            <a:off x="4343400" y="2666520"/>
            <a:ext cx="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8"/>
          <p:cNvSpPr/>
          <p:nvPr/>
        </p:nvSpPr>
        <p:spPr>
          <a:xfrm>
            <a:off x="609480" y="6248520"/>
            <a:ext cx="37339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4648320" y="2932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 = 1 =&gt;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абсолютное неравенство доходов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0"/>
          <p:cNvSpPr/>
          <p:nvPr/>
        </p:nvSpPr>
        <p:spPr>
          <a:xfrm>
            <a:off x="6156360" y="461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5257800" y="42670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Black"/>
              </a:rPr>
              <a:t>0 &lt; G 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4952880" y="556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0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%</a:t>
            </a: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 &lt; G  &lt; 1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6174360" y="50292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4-11-10T12:16:0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