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E961-012B-4B4C-B7D3-677C12C3D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2229-ADBB-450E-8468-36FA3249D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C8F1-7ACE-4959-9F60-ED0C84A4A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лассификация логической топ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ольце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CDE2-B9F6-4C2A-A2AD-7C0E49589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Аппаратные компоненты Л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етевые карты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сетевые адапте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Хабы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концентраторы) – дублир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лученные данные на все по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витч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коммутирующие хабы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едают полученные д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только адрес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E027-E4F7-4737-8193-4840E0B59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етевые каб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аксиаль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итая па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птоволокон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Скорость передачи данны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аксиальный – 10 Мбит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я пара – 100 Мбит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олоконный – 10 Гбит/с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A7E0-5C8D-43E6-B457-6652BA50F6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Беспроводны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Каналы связ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диосвязь, обычно до 100 м (11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c,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54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нфракрасное излучение (5-10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нфракрасные лазеры (до 100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ехнология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WiFi (Wireless Fide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5883-4BEC-4BE7-91DD-776862429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альняя беспроводная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-точ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бъединение двух сегментов сети с помощ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иосвязи (направленные антенн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нескольких сегм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Глобальная се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AA41-19DB-4F7F-AF9C-BCDDF5389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ADCF-8B40-46B0-AA9F-630A08849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между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t, networ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сеть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нтерне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глобальная сеть, объедин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пьютерные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налы связ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б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утниковая радио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вайд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фирма, предоставл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ечным пользователям выход в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з её локальн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F44B-E3F2-43E7-82FA-E41CB8DD4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ип подключений к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6674-77E7-49A7-9BD2-EC714114B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ротоколы служб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HyperText Transfer Protocol)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File Transfer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Simple Mail Transfer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правка сообщ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электронной поч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Post Office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ием сообщ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электронной почты (требуется па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8D51-5880-493B-AD5C-165A200BB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Доменные адр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qqq.microsoft.ru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AFB4-609D-4423-A073-809E2F680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то такое вычислительная се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ая сеть (ВС)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–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вокупность ЭВ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ъединён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средств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передачи данных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редства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лектрические каб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лефонные ли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 кабеля (оптическое волок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 (беспроводные сети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Fi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E4AE-5FB1-4671-AD79-C86CEC084A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Адрес документа в Интерн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адре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 в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E9F2-4D2C-4149-B83F-9E0E70140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WW (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World Wide Web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жба для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ормацией в виде гипер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текс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текст, содержащий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мед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документ, который включае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сунки, звуки, видео и содержит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раузер (броузер,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rowser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программа для про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ниц на экране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сии 8.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ozilla FireFo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Oper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1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E5B1-DD4F-437C-A908-0CD61D03B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лассификация 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ы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глоб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F0B2-76EE-46E3-AD62-3AA3C0996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кальные вычислительные сети (ЛВ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Архитектура локальной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из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FBCF-875A-4F6D-B5A0-533B6DC0C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 топология – толст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A2A0-22BC-4E15-8BF0-45E73C48A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 топология – тон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A701-7C9D-49C1-AB6D-1C9CB419B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Звездообраз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980B-900E-4CDB-8303-08007255D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аспределённая звёзд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5D06-9F34-4102-A650-3229374C1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ольцеобраз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306-60C4-4CD4-8D0C-CE5E2995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B32-A6D1-4DC3-A0D1-3E1019C4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22D-67E3-4C4B-8D88-772CCFD0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2A7-75C0-4739-90BB-EB58EF24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437-0D22-4E81-B2E2-AF55E7B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28E-6385-4950-BAE6-B7A9DA4A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77C-72A9-426D-BC6D-A98B189E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39F-07F5-42C0-B105-0AEBC88D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B04-06C3-416D-ABD9-D2E2262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181-B1F3-4C0C-B6F0-E587977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3B0-279D-470D-9B40-E092E5AC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773-7DE8-46C6-BD53-CE50D6B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784B-8866-46B8-987B-7CA8656919E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3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24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25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30.wmf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6"/>
          <p:cNvSpPr/>
          <p:nvPr/>
        </p:nvSpPr>
        <p:spPr>
          <a:xfrm rot="1171200">
            <a:off x="1549440" y="2065320"/>
            <a:ext cx="6388200" cy="258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7"/>
          <p:cNvSpPr/>
          <p:nvPr/>
        </p:nvSpPr>
        <p:spPr>
          <a:xfrm>
            <a:off x="1335240" y="1598760"/>
            <a:ext cx="6900840" cy="31557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ычислитель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се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5" descr="Macbook Pro"/>
          <p:cNvPicPr/>
          <p:nvPr/>
        </p:nvPicPr>
        <p:blipFill>
          <a:blip r:embed="rId1"/>
          <a:stretch/>
        </p:blipFill>
        <p:spPr>
          <a:xfrm>
            <a:off x="66204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Globe"/>
          <p:cNvPicPr/>
          <p:nvPr/>
        </p:nvPicPr>
        <p:blipFill>
          <a:blip r:embed="rId2"/>
          <a:stretch/>
        </p:blipFill>
        <p:spPr>
          <a:xfrm>
            <a:off x="6365880" y="3911760"/>
            <a:ext cx="2295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лассификация логической топ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 flipH="1">
            <a:off x="2022120" y="2692440"/>
            <a:ext cx="194292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509760" y="3778200"/>
            <a:ext cx="312552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ши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4968720" y="2676600"/>
            <a:ext cx="194328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1542960" y="1773360"/>
            <a:ext cx="5946840" cy="9522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270400" y="3773520"/>
            <a:ext cx="312588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льц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cuteftp_icon_png"/>
          <p:cNvPicPr/>
          <p:nvPr/>
        </p:nvPicPr>
        <p:blipFill>
          <a:blip r:embed="rId1"/>
          <a:stretch/>
        </p:blipFill>
        <p:spPr>
          <a:xfrm>
            <a:off x="4118040" y="3592440"/>
            <a:ext cx="1822320" cy="1822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connect_to_network"/>
          <p:cNvPicPr/>
          <p:nvPr/>
        </p:nvPicPr>
        <p:blipFill>
          <a:blip r:embed="rId2"/>
          <a:stretch/>
        </p:blipFill>
        <p:spPr>
          <a:xfrm>
            <a:off x="409680" y="2743200"/>
            <a:ext cx="1373040" cy="13730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6"/>
          <p:cNvSpPr/>
          <p:nvPr/>
        </p:nvSpPr>
        <p:spPr>
          <a:xfrm>
            <a:off x="782640" y="331920"/>
            <a:ext cx="7056360" cy="44928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ппаратные компоненты Л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920880" y="1523880"/>
            <a:ext cx="4902120" cy="77004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етевые карт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сетевые адап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3171960" y="3029040"/>
            <a:ext cx="4902120" cy="9633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аб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концентраторы) – дубл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лученные данные на все по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798480" y="4532400"/>
            <a:ext cx="4902120" cy="11826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итч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коммутирующие хабы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едают полученные да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олько адрес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1" descr="hd5"/>
          <p:cNvPicPr/>
          <p:nvPr/>
        </p:nvPicPr>
        <p:blipFill>
          <a:blip r:embed="rId1"/>
          <a:stretch/>
        </p:blipFill>
        <p:spPr>
          <a:xfrm rot="20202000">
            <a:off x="5186160" y="49705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2" descr="hd4"/>
          <p:cNvPicPr/>
          <p:nvPr/>
        </p:nvPicPr>
        <p:blipFill>
          <a:blip r:embed="rId2"/>
          <a:stretch/>
        </p:blipFill>
        <p:spPr>
          <a:xfrm rot="2326200">
            <a:off x="2120400" y="319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3" descr="kcmpci"/>
          <p:cNvPicPr/>
          <p:nvPr/>
        </p:nvPicPr>
        <p:blipFill>
          <a:blip r:embed="rId3"/>
          <a:stretch/>
        </p:blipFill>
        <p:spPr>
          <a:xfrm rot="18628800">
            <a:off x="5546520" y="154476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0"/>
          <p:cNvGrpSpPr/>
          <p:nvPr/>
        </p:nvGrpSpPr>
        <p:grpSpPr>
          <a:xfrm>
            <a:off x="428760" y="368280"/>
            <a:ext cx="8186760" cy="3968640"/>
            <a:chOff x="428760" y="368280"/>
            <a:chExt cx="8186760" cy="3968640"/>
          </a:xfrm>
        </p:grpSpPr>
        <p:sp>
          <p:nvSpPr>
            <p:cNvPr id="255" name="AutoShape 17"/>
            <p:cNvSpPr/>
            <p:nvPr/>
          </p:nvSpPr>
          <p:spPr>
            <a:xfrm>
              <a:off x="428760" y="368280"/>
              <a:ext cx="8186760" cy="396864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"/>
            <p:cNvSpPr/>
            <p:nvPr/>
          </p:nvSpPr>
          <p:spPr>
            <a:xfrm>
              <a:off x="689040" y="555480"/>
              <a:ext cx="3298680" cy="31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3880"/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Bookman Old Style"/>
                </a:rPr>
                <a:t>Сетевые кабе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коаксиаль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итая пар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птоволоко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Picture 3" descr=""/>
            <p:cNvPicPr/>
            <p:nvPr/>
          </p:nvPicPr>
          <p:blipFill>
            <a:blip r:embed="rId1"/>
            <a:stretch/>
          </p:blipFill>
          <p:spPr>
            <a:xfrm>
              <a:off x="3062160" y="2152440"/>
              <a:ext cx="19940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"/>
            <p:cNvPicPr/>
            <p:nvPr/>
          </p:nvPicPr>
          <p:blipFill>
            <a:blip r:embed="rId2"/>
            <a:stretch/>
          </p:blipFill>
          <p:spPr>
            <a:xfrm>
              <a:off x="3838680" y="942840"/>
              <a:ext cx="18381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5"/>
            <p:cNvSpPr/>
            <p:nvPr/>
          </p:nvSpPr>
          <p:spPr>
            <a:xfrm>
              <a:off x="4995720" y="664920"/>
              <a:ext cx="217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о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4514760" y="973080"/>
              <a:ext cx="1314720" cy="547560"/>
            </a:xfrm>
            <a:custGeom>
              <a:avLst/>
              <a:gdLst/>
              <a:ahLst/>
              <a:rect l="l" t="t" r="r" b="b"/>
              <a:pathLst>
                <a:path w="828" h="345">
                  <a:moveTo>
                    <a:pt x="0" y="101"/>
                  </a:moveTo>
                  <a:lnTo>
                    <a:pt x="828" y="0"/>
                  </a:lnTo>
                  <a:lnTo>
                    <a:pt x="482" y="3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5602320" y="1558800"/>
              <a:ext cx="217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ник (мед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3535200" y="1558800"/>
              <a:ext cx="1246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9" descr=""/>
            <p:cNvPicPr/>
            <p:nvPr/>
          </p:nvPicPr>
          <p:blipFill>
            <a:blip r:embed="rId3"/>
            <a:stretch/>
          </p:blipFill>
          <p:spPr>
            <a:xfrm>
              <a:off x="5118120" y="2690640"/>
              <a:ext cx="170640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Rectangle 10"/>
            <p:cNvSpPr/>
            <p:nvPr/>
          </p:nvSpPr>
          <p:spPr>
            <a:xfrm>
              <a:off x="6151680" y="2427120"/>
              <a:ext cx="217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лочка (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3740040" y="3079440"/>
              <a:ext cx="1771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лочка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ластик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6618240" y="3570120"/>
              <a:ext cx="16462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сновн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локн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 flipH="1">
              <a:off x="6400440" y="2732040"/>
              <a:ext cx="63972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H="1" flipV="1">
              <a:off x="6800760" y="3463920"/>
              <a:ext cx="52560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5165640" y="3303000"/>
              <a:ext cx="35568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8"/>
            <p:cNvSpPr/>
            <p:nvPr/>
          </p:nvSpPr>
          <p:spPr>
            <a:xfrm>
              <a:off x="888840" y="2031840"/>
              <a:ext cx="701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9"/>
            <p:cNvSpPr/>
            <p:nvPr/>
          </p:nvSpPr>
          <p:spPr>
            <a:xfrm>
              <a:off x="939960" y="2933640"/>
              <a:ext cx="38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AutoShape 21"/>
          <p:cNvSpPr/>
          <p:nvPr/>
        </p:nvSpPr>
        <p:spPr>
          <a:xfrm>
            <a:off x="509760" y="4487760"/>
            <a:ext cx="6267240" cy="1646280"/>
          </a:xfrm>
          <a:prstGeom prst="roundRect">
            <a:avLst>
              <a:gd name="adj" fmla="val 15139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корость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ксиальный – 10 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я пара – 100 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оволоконный – 10 Гбит/с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2" descr="kivio"/>
          <p:cNvPicPr/>
          <p:nvPr/>
        </p:nvPicPr>
        <p:blipFill>
          <a:blip r:embed="rId4"/>
          <a:stretch/>
        </p:blipFill>
        <p:spPr>
          <a:xfrm>
            <a:off x="5211720" y="476424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39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еспроводные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40"/>
          <p:cNvSpPr/>
          <p:nvPr/>
        </p:nvSpPr>
        <p:spPr>
          <a:xfrm>
            <a:off x="549360" y="1417680"/>
            <a:ext cx="7297560" cy="189720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Каналы свя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, обычно до 100 м (11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c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4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ракрасное излучение (5-10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ракрасные лазеры (до 100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34" descr="WiFi1"/>
          <p:cNvPicPr/>
          <p:nvPr/>
        </p:nvPicPr>
        <p:blipFill>
          <a:blip r:embed="rId1"/>
          <a:stretch/>
        </p:blipFill>
        <p:spPr>
          <a:xfrm>
            <a:off x="6940440" y="8222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1"/>
          <p:cNvSpPr/>
          <p:nvPr/>
        </p:nvSpPr>
        <p:spPr>
          <a:xfrm>
            <a:off x="3114720" y="3475080"/>
            <a:ext cx="515124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хнология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iFi (Wireless Fide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65"/>
          <p:cNvGrpSpPr/>
          <p:nvPr/>
        </p:nvGrpSpPr>
        <p:grpSpPr>
          <a:xfrm>
            <a:off x="460440" y="4110120"/>
            <a:ext cx="7805520" cy="2343960"/>
            <a:chOff x="460440" y="4110120"/>
            <a:chExt cx="7805520" cy="2343960"/>
          </a:xfrm>
        </p:grpSpPr>
        <p:sp>
          <p:nvSpPr>
            <p:cNvPr id="280" name="AutoShape 152"/>
            <p:cNvSpPr/>
            <p:nvPr/>
          </p:nvSpPr>
          <p:spPr>
            <a:xfrm>
              <a:off x="460440" y="4110120"/>
              <a:ext cx="7805520" cy="2341440"/>
            </a:xfrm>
            <a:prstGeom prst="roundRect">
              <a:avLst>
                <a:gd name="adj" fmla="val 386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51"/>
            <p:cNvGrpSpPr/>
            <p:nvPr/>
          </p:nvGrpSpPr>
          <p:grpSpPr>
            <a:xfrm>
              <a:off x="2820960" y="4265640"/>
              <a:ext cx="5348160" cy="987120"/>
              <a:chOff x="2820960" y="4265640"/>
              <a:chExt cx="5348160" cy="987120"/>
            </a:xfrm>
          </p:grpSpPr>
          <p:sp>
            <p:nvSpPr>
              <p:cNvPr id="282" name="Rectangle 61"/>
              <p:cNvSpPr/>
              <p:nvPr/>
            </p:nvSpPr>
            <p:spPr>
              <a:xfrm>
                <a:off x="2820960" y="4265640"/>
                <a:ext cx="1506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точка доступ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60"/>
              <p:cNvSpPr/>
              <p:nvPr/>
            </p:nvSpPr>
            <p:spPr>
              <a:xfrm>
                <a:off x="4456080" y="5011560"/>
                <a:ext cx="20304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63"/>
              <p:cNvSpPr/>
              <p:nvPr/>
            </p:nvSpPr>
            <p:spPr>
              <a:xfrm>
                <a:off x="4294080" y="4457520"/>
                <a:ext cx="517320" cy="517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84"/>
              <p:cNvSpPr/>
              <p:nvPr/>
            </p:nvSpPr>
            <p:spPr>
              <a:xfrm>
                <a:off x="4413240" y="4581360"/>
                <a:ext cx="279360" cy="279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6"/>
              <p:cNvSpPr/>
              <p:nvPr/>
            </p:nvSpPr>
            <p:spPr>
              <a:xfrm flipH="1">
                <a:off x="4646520" y="5073480"/>
                <a:ext cx="340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87"/>
              <p:cNvGrpSpPr/>
              <p:nvPr/>
            </p:nvGrpSpPr>
            <p:grpSpPr>
              <a:xfrm>
                <a:off x="6807240" y="4732200"/>
                <a:ext cx="155520" cy="374760"/>
                <a:chOff x="6807240" y="4732200"/>
                <a:chExt cx="155520" cy="374760"/>
              </a:xfrm>
            </p:grpSpPr>
            <p:sp>
              <p:nvSpPr>
                <p:cNvPr id="288" name="Rectangle 88"/>
                <p:cNvSpPr/>
                <p:nvPr/>
              </p:nvSpPr>
              <p:spPr>
                <a:xfrm flipH="1">
                  <a:off x="6807240" y="5045040"/>
                  <a:ext cx="15552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89"/>
                <p:cNvSpPr/>
                <p:nvPr/>
              </p:nvSpPr>
              <p:spPr>
                <a:xfrm flipH="1">
                  <a:off x="6852240" y="4998600"/>
                  <a:ext cx="6444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90"/>
                <p:cNvSpPr/>
                <p:nvPr/>
              </p:nvSpPr>
              <p:spPr>
                <a:xfrm flipV="1">
                  <a:off x="688464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91"/>
              <p:cNvGrpSpPr/>
              <p:nvPr/>
            </p:nvGrpSpPr>
            <p:grpSpPr>
              <a:xfrm>
                <a:off x="6016320" y="4732200"/>
                <a:ext cx="154080" cy="374760"/>
                <a:chOff x="6016320" y="4732200"/>
                <a:chExt cx="154080" cy="374760"/>
              </a:xfrm>
            </p:grpSpPr>
            <p:sp>
              <p:nvSpPr>
                <p:cNvPr id="292" name="Rectangle 92"/>
                <p:cNvSpPr/>
                <p:nvPr/>
              </p:nvSpPr>
              <p:spPr>
                <a:xfrm flipH="1">
                  <a:off x="6016320" y="5045040"/>
                  <a:ext cx="15408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93"/>
                <p:cNvSpPr/>
                <p:nvPr/>
              </p:nvSpPr>
              <p:spPr>
                <a:xfrm flipH="1">
                  <a:off x="6060960" y="4998600"/>
                  <a:ext cx="6372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4"/>
                <p:cNvSpPr/>
                <p:nvPr/>
              </p:nvSpPr>
              <p:spPr>
                <a:xfrm flipV="1">
                  <a:off x="609300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95"/>
              <p:cNvGrpSpPr/>
              <p:nvPr/>
            </p:nvGrpSpPr>
            <p:grpSpPr>
              <a:xfrm>
                <a:off x="5271840" y="4732200"/>
                <a:ext cx="154080" cy="374760"/>
                <a:chOff x="5271840" y="4732200"/>
                <a:chExt cx="154080" cy="374760"/>
              </a:xfrm>
            </p:grpSpPr>
            <p:sp>
              <p:nvSpPr>
                <p:cNvPr id="296" name="Rectangle 96"/>
                <p:cNvSpPr/>
                <p:nvPr/>
              </p:nvSpPr>
              <p:spPr>
                <a:xfrm flipH="1">
                  <a:off x="5271840" y="5045040"/>
                  <a:ext cx="15408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97"/>
                <p:cNvSpPr/>
                <p:nvPr/>
              </p:nvSpPr>
              <p:spPr>
                <a:xfrm flipH="1">
                  <a:off x="5316480" y="4998600"/>
                  <a:ext cx="6372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8"/>
                <p:cNvSpPr/>
                <p:nvPr/>
              </p:nvSpPr>
              <p:spPr>
                <a:xfrm flipV="1">
                  <a:off x="534852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03"/>
              <p:cNvGrpSpPr/>
              <p:nvPr/>
            </p:nvGrpSpPr>
            <p:grpSpPr>
              <a:xfrm>
                <a:off x="7543800" y="4728960"/>
                <a:ext cx="155520" cy="374760"/>
                <a:chOff x="7543800" y="4728960"/>
                <a:chExt cx="155520" cy="374760"/>
              </a:xfrm>
            </p:grpSpPr>
            <p:sp>
              <p:nvSpPr>
                <p:cNvPr id="300" name="Rectangle 104"/>
                <p:cNvSpPr/>
                <p:nvPr/>
              </p:nvSpPr>
              <p:spPr>
                <a:xfrm flipH="1">
                  <a:off x="7543800" y="5041800"/>
                  <a:ext cx="15552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105"/>
                <p:cNvSpPr/>
                <p:nvPr/>
              </p:nvSpPr>
              <p:spPr>
                <a:xfrm flipH="1">
                  <a:off x="7588800" y="4995360"/>
                  <a:ext cx="6444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06"/>
                <p:cNvSpPr/>
                <p:nvPr/>
              </p:nvSpPr>
              <p:spPr>
                <a:xfrm flipV="1">
                  <a:off x="7621200" y="472896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119"/>
              <p:cNvGrpSpPr/>
              <p:nvPr/>
            </p:nvGrpSpPr>
            <p:grpSpPr>
              <a:xfrm>
                <a:off x="8047080" y="5027400"/>
                <a:ext cx="122040" cy="93600"/>
                <a:chOff x="8047080" y="5027400"/>
                <a:chExt cx="122040" cy="93600"/>
              </a:xfrm>
            </p:grpSpPr>
            <p:sp>
              <p:nvSpPr>
                <p:cNvPr id="304" name="AutoShape 120"/>
                <p:cNvSpPr/>
                <p:nvPr/>
              </p:nvSpPr>
              <p:spPr>
                <a:xfrm flipH="1">
                  <a:off x="8066160" y="5042880"/>
                  <a:ext cx="102600" cy="62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69696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121"/>
                <p:cNvSpPr/>
                <p:nvPr/>
              </p:nvSpPr>
              <p:spPr>
                <a:xfrm flipH="1">
                  <a:off x="8046720" y="5027400"/>
                  <a:ext cx="64440" cy="9360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6" name="Picture 136" descr="WiFi4"/>
              <p:cNvPicPr/>
              <p:nvPr/>
            </p:nvPicPr>
            <p:blipFill>
              <a:blip r:embed="rId2"/>
              <a:stretch/>
            </p:blipFill>
            <p:spPr>
              <a:xfrm>
                <a:off x="4025880" y="464328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Picture 142" descr="K013"/>
              <p:cNvPicPr/>
              <p:nvPr/>
            </p:nvPicPr>
            <p:blipFill>
              <a:blip r:embed="rId3"/>
              <a:stretch/>
            </p:blipFill>
            <p:spPr>
              <a:xfrm>
                <a:off x="5111640" y="4314600"/>
                <a:ext cx="488880" cy="48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144" descr="K013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Picture 145" descr="K013"/>
              <p:cNvPicPr/>
              <p:nvPr/>
            </p:nvPicPr>
            <p:blipFill>
              <a:blip r:embed="rId5"/>
              <a:stretch/>
            </p:blipFill>
            <p:spPr>
              <a:xfrm>
                <a:off x="657684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Picture 146" descr="K013"/>
              <p:cNvPicPr/>
              <p:nvPr/>
            </p:nvPicPr>
            <p:blipFill>
              <a:blip r:embed="rId6"/>
              <a:stretch/>
            </p:blipFill>
            <p:spPr>
              <a:xfrm>
                <a:off x="735012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1" name="Group 150"/>
            <p:cNvGrpSpPr/>
            <p:nvPr/>
          </p:nvGrpSpPr>
          <p:grpSpPr>
            <a:xfrm>
              <a:off x="2629080" y="5143680"/>
              <a:ext cx="1217160" cy="1221480"/>
              <a:chOff x="2629080" y="5143680"/>
              <a:chExt cx="1217160" cy="1221480"/>
            </a:xfrm>
          </p:grpSpPr>
          <p:grpSp>
            <p:nvGrpSpPr>
              <p:cNvPr id="312" name="Group 67"/>
              <p:cNvGrpSpPr/>
              <p:nvPr/>
            </p:nvGrpSpPr>
            <p:grpSpPr>
              <a:xfrm>
                <a:off x="2996280" y="5528520"/>
                <a:ext cx="849960" cy="836640"/>
                <a:chOff x="2996280" y="5528520"/>
                <a:chExt cx="849960" cy="836640"/>
              </a:xfrm>
            </p:grpSpPr>
            <p:sp>
              <p:nvSpPr>
                <p:cNvPr id="313" name="Oval 62"/>
                <p:cNvSpPr/>
                <p:nvPr/>
              </p:nvSpPr>
              <p:spPr>
                <a:xfrm>
                  <a:off x="3283920" y="581148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64"/>
                <p:cNvSpPr/>
                <p:nvPr/>
              </p:nvSpPr>
              <p:spPr>
                <a:xfrm>
                  <a:off x="3147840" y="567756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65"/>
                <p:cNvSpPr/>
                <p:nvPr/>
              </p:nvSpPr>
              <p:spPr>
                <a:xfrm>
                  <a:off x="2996280" y="5528520"/>
                  <a:ext cx="849960" cy="836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6" name="Picture 147" descr="L009"/>
              <p:cNvPicPr/>
              <p:nvPr/>
            </p:nvPicPr>
            <p:blipFill>
              <a:blip r:embed="rId7"/>
              <a:stretch/>
            </p:blipFill>
            <p:spPr>
              <a:xfrm>
                <a:off x="2629080" y="5143680"/>
                <a:ext cx="988920" cy="97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7" name="Group 153"/>
            <p:cNvGrpSpPr/>
            <p:nvPr/>
          </p:nvGrpSpPr>
          <p:grpSpPr>
            <a:xfrm>
              <a:off x="5041800" y="5232240"/>
              <a:ext cx="1217160" cy="1221840"/>
              <a:chOff x="5041800" y="5232240"/>
              <a:chExt cx="1217160" cy="1221840"/>
            </a:xfrm>
          </p:grpSpPr>
          <p:grpSp>
            <p:nvGrpSpPr>
              <p:cNvPr id="318" name="Group 154"/>
              <p:cNvGrpSpPr/>
              <p:nvPr/>
            </p:nvGrpSpPr>
            <p:grpSpPr>
              <a:xfrm>
                <a:off x="5409000" y="5617080"/>
                <a:ext cx="849960" cy="837000"/>
                <a:chOff x="5409000" y="5617080"/>
                <a:chExt cx="849960" cy="837000"/>
              </a:xfrm>
            </p:grpSpPr>
            <p:sp>
              <p:nvSpPr>
                <p:cNvPr id="319" name="Oval 155"/>
                <p:cNvSpPr/>
                <p:nvPr/>
              </p:nvSpPr>
              <p:spPr>
                <a:xfrm>
                  <a:off x="5696640" y="590040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156"/>
                <p:cNvSpPr/>
                <p:nvPr/>
              </p:nvSpPr>
              <p:spPr>
                <a:xfrm>
                  <a:off x="5560560" y="576612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57"/>
                <p:cNvSpPr/>
                <p:nvPr/>
              </p:nvSpPr>
              <p:spPr>
                <a:xfrm>
                  <a:off x="5409000" y="5617080"/>
                  <a:ext cx="849960" cy="83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2" name="Picture 158" descr="L009"/>
              <p:cNvPicPr/>
              <p:nvPr/>
            </p:nvPicPr>
            <p:blipFill>
              <a:blip r:embed="rId8"/>
              <a:stretch/>
            </p:blipFill>
            <p:spPr>
              <a:xfrm>
                <a:off x="5041800" y="5232240"/>
                <a:ext cx="989280" cy="97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3" name="Group 159"/>
            <p:cNvGrpSpPr/>
            <p:nvPr/>
          </p:nvGrpSpPr>
          <p:grpSpPr>
            <a:xfrm>
              <a:off x="888840" y="4394160"/>
              <a:ext cx="1217160" cy="1221840"/>
              <a:chOff x="888840" y="4394160"/>
              <a:chExt cx="1217160" cy="1221840"/>
            </a:xfrm>
          </p:grpSpPr>
          <p:grpSp>
            <p:nvGrpSpPr>
              <p:cNvPr id="324" name="Group 160"/>
              <p:cNvGrpSpPr/>
              <p:nvPr/>
            </p:nvGrpSpPr>
            <p:grpSpPr>
              <a:xfrm>
                <a:off x="1256040" y="4779000"/>
                <a:ext cx="849960" cy="837000"/>
                <a:chOff x="1256040" y="4779000"/>
                <a:chExt cx="849960" cy="837000"/>
              </a:xfrm>
            </p:grpSpPr>
            <p:sp>
              <p:nvSpPr>
                <p:cNvPr id="325" name="Oval 161"/>
                <p:cNvSpPr/>
                <p:nvPr/>
              </p:nvSpPr>
              <p:spPr>
                <a:xfrm>
                  <a:off x="1543680" y="506232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62"/>
                <p:cNvSpPr/>
                <p:nvPr/>
              </p:nvSpPr>
              <p:spPr>
                <a:xfrm>
                  <a:off x="1407600" y="492804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63"/>
                <p:cNvSpPr/>
                <p:nvPr/>
              </p:nvSpPr>
              <p:spPr>
                <a:xfrm>
                  <a:off x="1256040" y="4779000"/>
                  <a:ext cx="849960" cy="83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8" name="Picture 164" descr="L009"/>
              <p:cNvPicPr/>
              <p:nvPr/>
            </p:nvPicPr>
            <p:blipFill>
              <a:blip r:embed="rId9"/>
              <a:stretch/>
            </p:blipFill>
            <p:spPr>
              <a:xfrm>
                <a:off x="888840" y="4394160"/>
                <a:ext cx="989280" cy="9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84"/>
          <p:cNvSpPr/>
          <p:nvPr/>
        </p:nvSpPr>
        <p:spPr>
          <a:xfrm>
            <a:off x="320760" y="3235320"/>
            <a:ext cx="8427960" cy="3463920"/>
          </a:xfrm>
          <a:prstGeom prst="roundRect">
            <a:avLst>
              <a:gd name="adj" fmla="val 6463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динение нескольких сегме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8"/>
          <p:cNvSpPr/>
          <p:nvPr/>
        </p:nvSpPr>
        <p:spPr>
          <a:xfrm>
            <a:off x="345960" y="441360"/>
            <a:ext cx="587556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альняя беспровод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59"/>
          <p:cNvSpPr/>
          <p:nvPr/>
        </p:nvSpPr>
        <p:spPr>
          <a:xfrm>
            <a:off x="320760" y="1203480"/>
            <a:ext cx="8427960" cy="18255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а-точ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бъединение двух сегментов сети с помощ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освязи (направленные антен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82"/>
          <p:cNvGrpSpPr/>
          <p:nvPr/>
        </p:nvGrpSpPr>
        <p:grpSpPr>
          <a:xfrm>
            <a:off x="569880" y="1911240"/>
            <a:ext cx="3930480" cy="874800"/>
            <a:chOff x="569880" y="1911240"/>
            <a:chExt cx="3930480" cy="874800"/>
          </a:xfrm>
        </p:grpSpPr>
        <p:sp>
          <p:nvSpPr>
            <p:cNvPr id="334" name="AutoShape 98"/>
            <p:cNvSpPr/>
            <p:nvPr/>
          </p:nvSpPr>
          <p:spPr>
            <a:xfrm flipH="1" rot="5400000">
              <a:off x="3748680" y="1804680"/>
              <a:ext cx="362160" cy="114012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9"/>
            <p:cNvSpPr/>
            <p:nvPr/>
          </p:nvSpPr>
          <p:spPr>
            <a:xfrm flipH="1">
              <a:off x="3314880" y="2352600"/>
              <a:ext cx="885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00"/>
            <p:cNvSpPr/>
            <p:nvPr/>
          </p:nvSpPr>
          <p:spPr>
            <a:xfrm>
              <a:off x="3359160" y="24033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1"/>
            <p:cNvSpPr/>
            <p:nvPr/>
          </p:nvSpPr>
          <p:spPr>
            <a:xfrm flipH="1">
              <a:off x="3254400" y="26827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02"/>
            <p:cNvSpPr/>
            <p:nvPr/>
          </p:nvSpPr>
          <p:spPr>
            <a:xfrm>
              <a:off x="677880" y="27446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103"/>
            <p:cNvGrpSpPr/>
            <p:nvPr/>
          </p:nvGrpSpPr>
          <p:grpSpPr>
            <a:xfrm>
              <a:off x="950760" y="2403360"/>
              <a:ext cx="155880" cy="374760"/>
              <a:chOff x="950760" y="2403360"/>
              <a:chExt cx="155880" cy="374760"/>
            </a:xfrm>
          </p:grpSpPr>
          <p:sp>
            <p:nvSpPr>
              <p:cNvPr id="340" name="Rectangle 104"/>
              <p:cNvSpPr/>
              <p:nvPr/>
            </p:nvSpPr>
            <p:spPr>
              <a:xfrm>
                <a:off x="950760" y="2716200"/>
                <a:ext cx="1558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05"/>
              <p:cNvSpPr/>
              <p:nvPr/>
            </p:nvSpPr>
            <p:spPr>
              <a:xfrm>
                <a:off x="996840" y="26697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06"/>
              <p:cNvSpPr/>
              <p:nvPr/>
            </p:nvSpPr>
            <p:spPr>
              <a:xfrm flipV="1">
                <a:off x="102924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107"/>
            <p:cNvGrpSpPr/>
            <p:nvPr/>
          </p:nvGrpSpPr>
          <p:grpSpPr>
            <a:xfrm>
              <a:off x="1743120" y="2403360"/>
              <a:ext cx="154080" cy="374760"/>
              <a:chOff x="1743120" y="2403360"/>
              <a:chExt cx="154080" cy="374760"/>
            </a:xfrm>
          </p:grpSpPr>
          <p:sp>
            <p:nvSpPr>
              <p:cNvPr id="344" name="Rectangle 108"/>
              <p:cNvSpPr/>
              <p:nvPr/>
            </p:nvSpPr>
            <p:spPr>
              <a:xfrm>
                <a:off x="1743120" y="27162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09"/>
              <p:cNvSpPr/>
              <p:nvPr/>
            </p:nvSpPr>
            <p:spPr>
              <a:xfrm>
                <a:off x="1788480" y="26697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10"/>
              <p:cNvSpPr/>
              <p:nvPr/>
            </p:nvSpPr>
            <p:spPr>
              <a:xfrm flipV="1">
                <a:off x="182052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11"/>
            <p:cNvGrpSpPr/>
            <p:nvPr/>
          </p:nvGrpSpPr>
          <p:grpSpPr>
            <a:xfrm>
              <a:off x="2487600" y="2403360"/>
              <a:ext cx="154080" cy="374760"/>
              <a:chOff x="2487600" y="2403360"/>
              <a:chExt cx="154080" cy="374760"/>
            </a:xfrm>
          </p:grpSpPr>
          <p:sp>
            <p:nvSpPr>
              <p:cNvPr id="348" name="Rectangle 112"/>
              <p:cNvSpPr/>
              <p:nvPr/>
            </p:nvSpPr>
            <p:spPr>
              <a:xfrm>
                <a:off x="2487600" y="27162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3"/>
              <p:cNvSpPr/>
              <p:nvPr/>
            </p:nvSpPr>
            <p:spPr>
              <a:xfrm>
                <a:off x="2532960" y="26697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14"/>
              <p:cNvSpPr/>
              <p:nvPr/>
            </p:nvSpPr>
            <p:spPr>
              <a:xfrm flipV="1">
                <a:off x="256500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24"/>
            <p:cNvGrpSpPr/>
            <p:nvPr/>
          </p:nvGrpSpPr>
          <p:grpSpPr>
            <a:xfrm>
              <a:off x="569880" y="2692440"/>
              <a:ext cx="122040" cy="93600"/>
              <a:chOff x="569880" y="2692440"/>
              <a:chExt cx="122040" cy="93600"/>
            </a:xfrm>
          </p:grpSpPr>
          <p:sp>
            <p:nvSpPr>
              <p:cNvPr id="352" name="AutoShape 125"/>
              <p:cNvSpPr/>
              <p:nvPr/>
            </p:nvSpPr>
            <p:spPr>
              <a:xfrm>
                <a:off x="569880" y="270792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6"/>
              <p:cNvSpPr/>
              <p:nvPr/>
            </p:nvSpPr>
            <p:spPr>
              <a:xfrm>
                <a:off x="627480" y="26924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Picture 260" descr="K013"/>
            <p:cNvPicPr/>
            <p:nvPr/>
          </p:nvPicPr>
          <p:blipFill>
            <a:blip r:embed="rId2"/>
            <a:stretch/>
          </p:blipFill>
          <p:spPr>
            <a:xfrm>
              <a:off x="711360" y="192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61" descr="K013"/>
            <p:cNvPicPr/>
            <p:nvPr/>
          </p:nvPicPr>
          <p:blipFill>
            <a:blip r:embed="rId3"/>
            <a:stretch/>
          </p:blipFill>
          <p:spPr>
            <a:xfrm>
              <a:off x="1511280" y="192420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262" descr="K013"/>
            <p:cNvPicPr/>
            <p:nvPr/>
          </p:nvPicPr>
          <p:blipFill>
            <a:blip r:embed="rId4"/>
            <a:stretch/>
          </p:blipFill>
          <p:spPr>
            <a:xfrm>
              <a:off x="2247840" y="191124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83"/>
          <p:cNvGrpSpPr/>
          <p:nvPr/>
        </p:nvGrpSpPr>
        <p:grpSpPr>
          <a:xfrm>
            <a:off x="4753080" y="1911240"/>
            <a:ext cx="3930120" cy="862200"/>
            <a:chOff x="4753080" y="1911240"/>
            <a:chExt cx="3930120" cy="862200"/>
          </a:xfrm>
        </p:grpSpPr>
        <p:sp>
          <p:nvSpPr>
            <p:cNvPr id="358" name="AutoShape 95"/>
            <p:cNvSpPr/>
            <p:nvPr/>
          </p:nvSpPr>
          <p:spPr>
            <a:xfrm rot="16200000">
              <a:off x="5141880" y="1791720"/>
              <a:ext cx="361800" cy="113976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7"/>
            <p:cNvSpPr/>
            <p:nvPr/>
          </p:nvSpPr>
          <p:spPr>
            <a:xfrm>
              <a:off x="5850000" y="2340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8"/>
            <p:cNvSpPr/>
            <p:nvPr/>
          </p:nvSpPr>
          <p:spPr>
            <a:xfrm>
              <a:off x="5894280" y="23907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9"/>
            <p:cNvSpPr/>
            <p:nvPr/>
          </p:nvSpPr>
          <p:spPr>
            <a:xfrm>
              <a:off x="5796000" y="26701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 flipH="1">
              <a:off x="5986440" y="27320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64"/>
            <p:cNvGrpSpPr/>
            <p:nvPr/>
          </p:nvGrpSpPr>
          <p:grpSpPr>
            <a:xfrm>
              <a:off x="8147160" y="2390760"/>
              <a:ext cx="155520" cy="374760"/>
              <a:chOff x="8147160" y="2390760"/>
              <a:chExt cx="155520" cy="374760"/>
            </a:xfrm>
          </p:grpSpPr>
          <p:sp>
            <p:nvSpPr>
              <p:cNvPr id="364" name="Rectangle 65"/>
              <p:cNvSpPr/>
              <p:nvPr/>
            </p:nvSpPr>
            <p:spPr>
              <a:xfrm flipH="1">
                <a:off x="8147160" y="270360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 flipH="1">
                <a:off x="8192160" y="26571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67"/>
              <p:cNvSpPr/>
              <p:nvPr/>
            </p:nvSpPr>
            <p:spPr>
              <a:xfrm flipV="1">
                <a:off x="822456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68"/>
            <p:cNvGrpSpPr/>
            <p:nvPr/>
          </p:nvGrpSpPr>
          <p:grpSpPr>
            <a:xfrm>
              <a:off x="7356240" y="2390760"/>
              <a:ext cx="153720" cy="374760"/>
              <a:chOff x="7356240" y="2390760"/>
              <a:chExt cx="153720" cy="374760"/>
            </a:xfrm>
          </p:grpSpPr>
          <p:sp>
            <p:nvSpPr>
              <p:cNvPr id="368" name="Rectangle 69"/>
              <p:cNvSpPr/>
              <p:nvPr/>
            </p:nvSpPr>
            <p:spPr>
              <a:xfrm flipH="1">
                <a:off x="7355880" y="270360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 flipH="1">
                <a:off x="7400520" y="265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71"/>
              <p:cNvSpPr/>
              <p:nvPr/>
            </p:nvSpPr>
            <p:spPr>
              <a:xfrm flipV="1">
                <a:off x="743256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72"/>
            <p:cNvGrpSpPr/>
            <p:nvPr/>
          </p:nvGrpSpPr>
          <p:grpSpPr>
            <a:xfrm>
              <a:off x="6611760" y="2390760"/>
              <a:ext cx="154080" cy="374760"/>
              <a:chOff x="6611760" y="2390760"/>
              <a:chExt cx="154080" cy="374760"/>
            </a:xfrm>
          </p:grpSpPr>
          <p:sp>
            <p:nvSpPr>
              <p:cNvPr id="372" name="Rectangle 73"/>
              <p:cNvSpPr/>
              <p:nvPr/>
            </p:nvSpPr>
            <p:spPr>
              <a:xfrm flipH="1">
                <a:off x="6611760" y="27036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 flipH="1">
                <a:off x="6656400" y="265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75"/>
              <p:cNvSpPr/>
              <p:nvPr/>
            </p:nvSpPr>
            <p:spPr>
              <a:xfrm flipV="1">
                <a:off x="668844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2"/>
            <p:cNvGrpSpPr/>
            <p:nvPr/>
          </p:nvGrpSpPr>
          <p:grpSpPr>
            <a:xfrm>
              <a:off x="8561520" y="2679840"/>
              <a:ext cx="121680" cy="93600"/>
              <a:chOff x="8561520" y="2679840"/>
              <a:chExt cx="121680" cy="93600"/>
            </a:xfrm>
          </p:grpSpPr>
          <p:sp>
            <p:nvSpPr>
              <p:cNvPr id="376" name="AutoShape 93"/>
              <p:cNvSpPr/>
              <p:nvPr/>
            </p:nvSpPr>
            <p:spPr>
              <a:xfrm flipH="1">
                <a:off x="8580960" y="269532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94"/>
              <p:cNvSpPr/>
              <p:nvPr/>
            </p:nvSpPr>
            <p:spPr>
              <a:xfrm flipH="1">
                <a:off x="8561160" y="26798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8" name="Picture 263" descr="K013"/>
            <p:cNvPicPr/>
            <p:nvPr/>
          </p:nvPicPr>
          <p:blipFill>
            <a:blip r:embed="rId6"/>
            <a:stretch/>
          </p:blipFill>
          <p:spPr>
            <a:xfrm>
              <a:off x="6362640" y="191124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64" descr="K013"/>
            <p:cNvPicPr/>
            <p:nvPr/>
          </p:nvPicPr>
          <p:blipFill>
            <a:blip r:embed="rId7"/>
            <a:stretch/>
          </p:blipFill>
          <p:spPr>
            <a:xfrm>
              <a:off x="7112160" y="1911240"/>
              <a:ext cx="59508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65" descr="K013"/>
            <p:cNvPicPr/>
            <p:nvPr/>
          </p:nvPicPr>
          <p:blipFill>
            <a:blip r:embed="rId8"/>
            <a:stretch/>
          </p:blipFill>
          <p:spPr>
            <a:xfrm>
              <a:off x="7886880" y="1911240"/>
              <a:ext cx="59508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Group 281"/>
          <p:cNvGrpSpPr/>
          <p:nvPr/>
        </p:nvGrpSpPr>
        <p:grpSpPr>
          <a:xfrm>
            <a:off x="841320" y="3987720"/>
            <a:ext cx="3327840" cy="1336320"/>
            <a:chOff x="841320" y="3987720"/>
            <a:chExt cx="3327840" cy="1336320"/>
          </a:xfrm>
        </p:grpSpPr>
        <p:grpSp>
          <p:nvGrpSpPr>
            <p:cNvPr id="382" name="Group 163"/>
            <p:cNvGrpSpPr/>
            <p:nvPr/>
          </p:nvGrpSpPr>
          <p:grpSpPr>
            <a:xfrm>
              <a:off x="3094200" y="3987720"/>
              <a:ext cx="1052280" cy="1052280"/>
              <a:chOff x="3094200" y="3987720"/>
              <a:chExt cx="1052280" cy="1052280"/>
            </a:xfrm>
          </p:grpSpPr>
          <p:sp>
            <p:nvSpPr>
              <p:cNvPr id="383" name="Oval 159"/>
              <p:cNvSpPr/>
              <p:nvPr/>
            </p:nvSpPr>
            <p:spPr>
              <a:xfrm>
                <a:off x="3477960" y="4370040"/>
                <a:ext cx="285480" cy="285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60"/>
              <p:cNvSpPr/>
              <p:nvPr/>
            </p:nvSpPr>
            <p:spPr>
              <a:xfrm>
                <a:off x="3357360" y="4251240"/>
                <a:ext cx="525240" cy="525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61"/>
              <p:cNvSpPr/>
              <p:nvPr/>
            </p:nvSpPr>
            <p:spPr>
              <a:xfrm>
                <a:off x="3243240" y="4136760"/>
                <a:ext cx="753480" cy="754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62"/>
              <p:cNvSpPr/>
              <p:nvPr/>
            </p:nvSpPr>
            <p:spPr>
              <a:xfrm>
                <a:off x="3094200" y="3987720"/>
                <a:ext cx="1052280" cy="10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Oval 129"/>
            <p:cNvSpPr/>
            <p:nvPr/>
          </p:nvSpPr>
          <p:spPr>
            <a:xfrm flipH="1">
              <a:off x="3585600" y="44704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0"/>
            <p:cNvSpPr/>
            <p:nvPr/>
          </p:nvSpPr>
          <p:spPr>
            <a:xfrm>
              <a:off x="3630600" y="452124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31"/>
            <p:cNvSpPr/>
            <p:nvPr/>
          </p:nvSpPr>
          <p:spPr>
            <a:xfrm flipH="1">
              <a:off x="3525840" y="480060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32"/>
            <p:cNvSpPr/>
            <p:nvPr/>
          </p:nvSpPr>
          <p:spPr>
            <a:xfrm>
              <a:off x="949320" y="486252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33"/>
            <p:cNvGrpSpPr/>
            <p:nvPr/>
          </p:nvGrpSpPr>
          <p:grpSpPr>
            <a:xfrm>
              <a:off x="1222560" y="4521240"/>
              <a:ext cx="155520" cy="374760"/>
              <a:chOff x="1222560" y="4521240"/>
              <a:chExt cx="155520" cy="374760"/>
            </a:xfrm>
          </p:grpSpPr>
          <p:sp>
            <p:nvSpPr>
              <p:cNvPr id="392" name="Rectangle 134"/>
              <p:cNvSpPr/>
              <p:nvPr/>
            </p:nvSpPr>
            <p:spPr>
              <a:xfrm>
                <a:off x="1222560" y="483408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35"/>
              <p:cNvSpPr/>
              <p:nvPr/>
            </p:nvSpPr>
            <p:spPr>
              <a:xfrm>
                <a:off x="1268280" y="478764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36"/>
              <p:cNvSpPr/>
              <p:nvPr/>
            </p:nvSpPr>
            <p:spPr>
              <a:xfrm flipV="1">
                <a:off x="130068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37"/>
            <p:cNvGrpSpPr/>
            <p:nvPr/>
          </p:nvGrpSpPr>
          <p:grpSpPr>
            <a:xfrm>
              <a:off x="2014560" y="4521240"/>
              <a:ext cx="154080" cy="374760"/>
              <a:chOff x="2014560" y="4521240"/>
              <a:chExt cx="154080" cy="374760"/>
            </a:xfrm>
          </p:grpSpPr>
          <p:sp>
            <p:nvSpPr>
              <p:cNvPr id="396" name="Rectangle 138"/>
              <p:cNvSpPr/>
              <p:nvPr/>
            </p:nvSpPr>
            <p:spPr>
              <a:xfrm>
                <a:off x="2014560" y="4834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39"/>
              <p:cNvSpPr/>
              <p:nvPr/>
            </p:nvSpPr>
            <p:spPr>
              <a:xfrm>
                <a:off x="2059920" y="4787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40"/>
              <p:cNvSpPr/>
              <p:nvPr/>
            </p:nvSpPr>
            <p:spPr>
              <a:xfrm flipV="1">
                <a:off x="209196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41"/>
            <p:cNvGrpSpPr/>
            <p:nvPr/>
          </p:nvGrpSpPr>
          <p:grpSpPr>
            <a:xfrm>
              <a:off x="2759040" y="4521240"/>
              <a:ext cx="154080" cy="374760"/>
              <a:chOff x="2759040" y="4521240"/>
              <a:chExt cx="154080" cy="374760"/>
            </a:xfrm>
          </p:grpSpPr>
          <p:sp>
            <p:nvSpPr>
              <p:cNvPr id="400" name="Rectangle 142"/>
              <p:cNvSpPr/>
              <p:nvPr/>
            </p:nvSpPr>
            <p:spPr>
              <a:xfrm>
                <a:off x="2759040" y="4834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143"/>
              <p:cNvSpPr/>
              <p:nvPr/>
            </p:nvSpPr>
            <p:spPr>
              <a:xfrm>
                <a:off x="2804400" y="4787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44"/>
              <p:cNvSpPr/>
              <p:nvPr/>
            </p:nvSpPr>
            <p:spPr>
              <a:xfrm flipV="1">
                <a:off x="283644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54"/>
            <p:cNvGrpSpPr/>
            <p:nvPr/>
          </p:nvGrpSpPr>
          <p:grpSpPr>
            <a:xfrm>
              <a:off x="841320" y="4809960"/>
              <a:ext cx="122040" cy="93960"/>
              <a:chOff x="841320" y="4809960"/>
              <a:chExt cx="122040" cy="93960"/>
            </a:xfrm>
          </p:grpSpPr>
          <p:sp>
            <p:nvSpPr>
              <p:cNvPr id="404" name="AutoShape 155"/>
              <p:cNvSpPr/>
              <p:nvPr/>
            </p:nvSpPr>
            <p:spPr>
              <a:xfrm>
                <a:off x="841320" y="482544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156"/>
              <p:cNvSpPr/>
              <p:nvPr/>
            </p:nvSpPr>
            <p:spPr>
              <a:xfrm>
                <a:off x="898920" y="4809960"/>
                <a:ext cx="64440" cy="93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Rectangle 158"/>
            <p:cNvSpPr/>
            <p:nvPr/>
          </p:nvSpPr>
          <p:spPr>
            <a:xfrm>
              <a:off x="3198960" y="4879800"/>
              <a:ext cx="970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цент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266" descr="K013"/>
            <p:cNvPicPr/>
            <p:nvPr/>
          </p:nvPicPr>
          <p:blipFill>
            <a:blip r:embed="rId9"/>
            <a:stretch/>
          </p:blipFill>
          <p:spPr>
            <a:xfrm>
              <a:off x="990720" y="399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67" descr="K013"/>
            <p:cNvPicPr/>
            <p:nvPr/>
          </p:nvPicPr>
          <p:blipFill>
            <a:blip r:embed="rId10"/>
            <a:stretch/>
          </p:blipFill>
          <p:spPr>
            <a:xfrm>
              <a:off x="1778040" y="400680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68" descr="K013"/>
            <p:cNvPicPr/>
            <p:nvPr/>
          </p:nvPicPr>
          <p:blipFill>
            <a:blip r:embed="rId11"/>
            <a:stretch/>
          </p:blipFill>
          <p:spPr>
            <a:xfrm>
              <a:off x="2527200" y="401940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280"/>
          <p:cNvGrpSpPr/>
          <p:nvPr/>
        </p:nvGrpSpPr>
        <p:grpSpPr>
          <a:xfrm>
            <a:off x="4672080" y="3994200"/>
            <a:ext cx="3930120" cy="849240"/>
            <a:chOff x="4672080" y="3994200"/>
            <a:chExt cx="3930120" cy="849240"/>
          </a:xfrm>
        </p:grpSpPr>
        <p:sp>
          <p:nvSpPr>
            <p:cNvPr id="411" name="AutoShape 165"/>
            <p:cNvSpPr/>
            <p:nvPr/>
          </p:nvSpPr>
          <p:spPr>
            <a:xfrm rot="16200000">
              <a:off x="5060880" y="3861720"/>
              <a:ext cx="361800" cy="113976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66"/>
            <p:cNvSpPr/>
            <p:nvPr/>
          </p:nvSpPr>
          <p:spPr>
            <a:xfrm>
              <a:off x="5769000" y="4410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67"/>
            <p:cNvSpPr/>
            <p:nvPr/>
          </p:nvSpPr>
          <p:spPr>
            <a:xfrm>
              <a:off x="5813280" y="44607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68"/>
            <p:cNvSpPr/>
            <p:nvPr/>
          </p:nvSpPr>
          <p:spPr>
            <a:xfrm>
              <a:off x="5715000" y="47401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9"/>
            <p:cNvSpPr/>
            <p:nvPr/>
          </p:nvSpPr>
          <p:spPr>
            <a:xfrm flipH="1">
              <a:off x="5905440" y="48020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70"/>
            <p:cNvGrpSpPr/>
            <p:nvPr/>
          </p:nvGrpSpPr>
          <p:grpSpPr>
            <a:xfrm>
              <a:off x="8066160" y="4460760"/>
              <a:ext cx="155520" cy="374760"/>
              <a:chOff x="8066160" y="4460760"/>
              <a:chExt cx="155520" cy="374760"/>
            </a:xfrm>
          </p:grpSpPr>
          <p:sp>
            <p:nvSpPr>
              <p:cNvPr id="417" name="Rectangle 171"/>
              <p:cNvSpPr/>
              <p:nvPr/>
            </p:nvSpPr>
            <p:spPr>
              <a:xfrm flipH="1">
                <a:off x="8066160" y="477360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72"/>
              <p:cNvSpPr/>
              <p:nvPr/>
            </p:nvSpPr>
            <p:spPr>
              <a:xfrm flipH="1">
                <a:off x="8111160" y="47271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173"/>
              <p:cNvSpPr/>
              <p:nvPr/>
            </p:nvSpPr>
            <p:spPr>
              <a:xfrm flipV="1">
                <a:off x="814356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74"/>
            <p:cNvGrpSpPr/>
            <p:nvPr/>
          </p:nvGrpSpPr>
          <p:grpSpPr>
            <a:xfrm>
              <a:off x="7275240" y="4460760"/>
              <a:ext cx="153720" cy="374760"/>
              <a:chOff x="7275240" y="4460760"/>
              <a:chExt cx="153720" cy="374760"/>
            </a:xfrm>
          </p:grpSpPr>
          <p:sp>
            <p:nvSpPr>
              <p:cNvPr id="421" name="Rectangle 175"/>
              <p:cNvSpPr/>
              <p:nvPr/>
            </p:nvSpPr>
            <p:spPr>
              <a:xfrm flipH="1">
                <a:off x="7274880" y="477360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76"/>
              <p:cNvSpPr/>
              <p:nvPr/>
            </p:nvSpPr>
            <p:spPr>
              <a:xfrm flipH="1">
                <a:off x="7319520" y="472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77"/>
              <p:cNvSpPr/>
              <p:nvPr/>
            </p:nvSpPr>
            <p:spPr>
              <a:xfrm flipV="1">
                <a:off x="735156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78"/>
            <p:cNvGrpSpPr/>
            <p:nvPr/>
          </p:nvGrpSpPr>
          <p:grpSpPr>
            <a:xfrm>
              <a:off x="6530760" y="4460760"/>
              <a:ext cx="154080" cy="374760"/>
              <a:chOff x="6530760" y="4460760"/>
              <a:chExt cx="154080" cy="374760"/>
            </a:xfrm>
          </p:grpSpPr>
          <p:sp>
            <p:nvSpPr>
              <p:cNvPr id="425" name="Rectangle 179"/>
              <p:cNvSpPr/>
              <p:nvPr/>
            </p:nvSpPr>
            <p:spPr>
              <a:xfrm flipH="1">
                <a:off x="6530760" y="47736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80"/>
              <p:cNvSpPr/>
              <p:nvPr/>
            </p:nvSpPr>
            <p:spPr>
              <a:xfrm flipH="1">
                <a:off x="6575400" y="472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81"/>
              <p:cNvSpPr/>
              <p:nvPr/>
            </p:nvSpPr>
            <p:spPr>
              <a:xfrm flipV="1">
                <a:off x="660744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191"/>
            <p:cNvGrpSpPr/>
            <p:nvPr/>
          </p:nvGrpSpPr>
          <p:grpSpPr>
            <a:xfrm>
              <a:off x="8480520" y="4749840"/>
              <a:ext cx="121680" cy="93600"/>
              <a:chOff x="8480520" y="4749840"/>
              <a:chExt cx="121680" cy="93600"/>
            </a:xfrm>
          </p:grpSpPr>
          <p:sp>
            <p:nvSpPr>
              <p:cNvPr id="429" name="AutoShape 192"/>
              <p:cNvSpPr/>
              <p:nvPr/>
            </p:nvSpPr>
            <p:spPr>
              <a:xfrm flipH="1">
                <a:off x="8499960" y="476532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93"/>
              <p:cNvSpPr/>
              <p:nvPr/>
            </p:nvSpPr>
            <p:spPr>
              <a:xfrm flipH="1">
                <a:off x="8480160" y="47498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1" name="Picture 269" descr="K013"/>
            <p:cNvPicPr/>
            <p:nvPr/>
          </p:nvPicPr>
          <p:blipFill>
            <a:blip r:embed="rId13"/>
            <a:stretch/>
          </p:blipFill>
          <p:spPr>
            <a:xfrm>
              <a:off x="6311880" y="399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270" descr="K013"/>
            <p:cNvPicPr/>
            <p:nvPr/>
          </p:nvPicPr>
          <p:blipFill>
            <a:blip r:embed="rId14"/>
            <a:stretch/>
          </p:blipFill>
          <p:spPr>
            <a:xfrm>
              <a:off x="7022880" y="399420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71" descr="K013"/>
            <p:cNvPicPr/>
            <p:nvPr/>
          </p:nvPicPr>
          <p:blipFill>
            <a:blip r:embed="rId15"/>
            <a:stretch/>
          </p:blipFill>
          <p:spPr>
            <a:xfrm>
              <a:off x="7835760" y="3994200"/>
              <a:ext cx="595440" cy="59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Group 279"/>
          <p:cNvGrpSpPr/>
          <p:nvPr/>
        </p:nvGrpSpPr>
        <p:grpSpPr>
          <a:xfrm>
            <a:off x="5051880" y="5295960"/>
            <a:ext cx="3562920" cy="1056960"/>
            <a:chOff x="5051880" y="5295960"/>
            <a:chExt cx="3562920" cy="1056960"/>
          </a:xfrm>
        </p:grpSpPr>
        <p:sp>
          <p:nvSpPr>
            <p:cNvPr id="435" name="AutoShape 225"/>
            <p:cNvSpPr/>
            <p:nvPr/>
          </p:nvSpPr>
          <p:spPr>
            <a:xfrm rot="18478200">
              <a:off x="5309280" y="5278680"/>
              <a:ext cx="362160" cy="830160"/>
            </a:xfrm>
            <a:prstGeom prst="triangle">
              <a:avLst>
                <a:gd name="adj" fmla="val 50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26"/>
            <p:cNvSpPr/>
            <p:nvPr/>
          </p:nvSpPr>
          <p:spPr>
            <a:xfrm>
              <a:off x="5781600" y="591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27"/>
            <p:cNvSpPr/>
            <p:nvPr/>
          </p:nvSpPr>
          <p:spPr>
            <a:xfrm>
              <a:off x="5825880" y="597024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28"/>
            <p:cNvSpPr/>
            <p:nvPr/>
          </p:nvSpPr>
          <p:spPr>
            <a:xfrm>
              <a:off x="5727600" y="6249960"/>
              <a:ext cx="20304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229"/>
            <p:cNvSpPr/>
            <p:nvPr/>
          </p:nvSpPr>
          <p:spPr>
            <a:xfrm flipH="1">
              <a:off x="5918040" y="631188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230"/>
            <p:cNvGrpSpPr/>
            <p:nvPr/>
          </p:nvGrpSpPr>
          <p:grpSpPr>
            <a:xfrm>
              <a:off x="8078760" y="5970240"/>
              <a:ext cx="155520" cy="374760"/>
              <a:chOff x="8078760" y="5970240"/>
              <a:chExt cx="155520" cy="374760"/>
            </a:xfrm>
          </p:grpSpPr>
          <p:sp>
            <p:nvSpPr>
              <p:cNvPr id="441" name="Rectangle 231"/>
              <p:cNvSpPr/>
              <p:nvPr/>
            </p:nvSpPr>
            <p:spPr>
              <a:xfrm flipH="1">
                <a:off x="8078760" y="628308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32"/>
              <p:cNvSpPr/>
              <p:nvPr/>
            </p:nvSpPr>
            <p:spPr>
              <a:xfrm flipH="1">
                <a:off x="8123760" y="623664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33"/>
              <p:cNvSpPr/>
              <p:nvPr/>
            </p:nvSpPr>
            <p:spPr>
              <a:xfrm flipV="1">
                <a:off x="815616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34"/>
            <p:cNvGrpSpPr/>
            <p:nvPr/>
          </p:nvGrpSpPr>
          <p:grpSpPr>
            <a:xfrm>
              <a:off x="7288200" y="5970240"/>
              <a:ext cx="154080" cy="374760"/>
              <a:chOff x="7288200" y="5970240"/>
              <a:chExt cx="154080" cy="374760"/>
            </a:xfrm>
          </p:grpSpPr>
          <p:sp>
            <p:nvSpPr>
              <p:cNvPr id="445" name="Rectangle 235"/>
              <p:cNvSpPr/>
              <p:nvPr/>
            </p:nvSpPr>
            <p:spPr>
              <a:xfrm flipH="1">
                <a:off x="7288200" y="6283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36"/>
              <p:cNvSpPr/>
              <p:nvPr/>
            </p:nvSpPr>
            <p:spPr>
              <a:xfrm flipH="1">
                <a:off x="7332840" y="6236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7"/>
              <p:cNvSpPr/>
              <p:nvPr/>
            </p:nvSpPr>
            <p:spPr>
              <a:xfrm flipV="1">
                <a:off x="736488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38"/>
            <p:cNvGrpSpPr/>
            <p:nvPr/>
          </p:nvGrpSpPr>
          <p:grpSpPr>
            <a:xfrm>
              <a:off x="6543360" y="5970240"/>
              <a:ext cx="153720" cy="374760"/>
              <a:chOff x="6543360" y="5970240"/>
              <a:chExt cx="153720" cy="374760"/>
            </a:xfrm>
          </p:grpSpPr>
          <p:sp>
            <p:nvSpPr>
              <p:cNvPr id="449" name="Rectangle 239"/>
              <p:cNvSpPr/>
              <p:nvPr/>
            </p:nvSpPr>
            <p:spPr>
              <a:xfrm flipH="1">
                <a:off x="6543000" y="628308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40"/>
              <p:cNvSpPr/>
              <p:nvPr/>
            </p:nvSpPr>
            <p:spPr>
              <a:xfrm flipH="1">
                <a:off x="6587640" y="6236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41"/>
              <p:cNvSpPr/>
              <p:nvPr/>
            </p:nvSpPr>
            <p:spPr>
              <a:xfrm flipV="1">
                <a:off x="661968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51"/>
            <p:cNvGrpSpPr/>
            <p:nvPr/>
          </p:nvGrpSpPr>
          <p:grpSpPr>
            <a:xfrm>
              <a:off x="8493120" y="6259320"/>
              <a:ext cx="121680" cy="93600"/>
              <a:chOff x="8493120" y="6259320"/>
              <a:chExt cx="121680" cy="93600"/>
            </a:xfrm>
          </p:grpSpPr>
          <p:sp>
            <p:nvSpPr>
              <p:cNvPr id="453" name="AutoShape 252"/>
              <p:cNvSpPr/>
              <p:nvPr/>
            </p:nvSpPr>
            <p:spPr>
              <a:xfrm flipH="1">
                <a:off x="8512560" y="627480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53"/>
              <p:cNvSpPr/>
              <p:nvPr/>
            </p:nvSpPr>
            <p:spPr>
              <a:xfrm flipH="1">
                <a:off x="8492760" y="625932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5" name="Picture 272" descr="K013"/>
            <p:cNvPicPr/>
            <p:nvPr/>
          </p:nvPicPr>
          <p:blipFill>
            <a:blip r:embed="rId17"/>
            <a:stretch/>
          </p:blipFill>
          <p:spPr>
            <a:xfrm>
              <a:off x="6311880" y="547992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73" descr="K013"/>
            <p:cNvPicPr/>
            <p:nvPr/>
          </p:nvPicPr>
          <p:blipFill>
            <a:blip r:embed="rId18"/>
            <a:stretch/>
          </p:blipFill>
          <p:spPr>
            <a:xfrm>
              <a:off x="7035840" y="547992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74" descr="K013"/>
            <p:cNvPicPr/>
            <p:nvPr/>
          </p:nvPicPr>
          <p:blipFill>
            <a:blip r:embed="rId19"/>
            <a:stretch/>
          </p:blipFill>
          <p:spPr>
            <a:xfrm>
              <a:off x="7835760" y="5479920"/>
              <a:ext cx="595440" cy="59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Group 278"/>
          <p:cNvGrpSpPr/>
          <p:nvPr/>
        </p:nvGrpSpPr>
        <p:grpSpPr>
          <a:xfrm>
            <a:off x="1508400" y="5229720"/>
            <a:ext cx="2980800" cy="1299240"/>
            <a:chOff x="1508400" y="5229720"/>
            <a:chExt cx="2980800" cy="1299240"/>
          </a:xfrm>
        </p:grpSpPr>
        <p:sp>
          <p:nvSpPr>
            <p:cNvPr id="459" name="AutoShape 195"/>
            <p:cNvSpPr/>
            <p:nvPr/>
          </p:nvSpPr>
          <p:spPr>
            <a:xfrm rot="1710000">
              <a:off x="1688400" y="5267160"/>
              <a:ext cx="372960" cy="849240"/>
            </a:xfrm>
            <a:prstGeom prst="triangle">
              <a:avLst>
                <a:gd name="adj" fmla="val 100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96"/>
            <p:cNvSpPr/>
            <p:nvPr/>
          </p:nvSpPr>
          <p:spPr>
            <a:xfrm>
              <a:off x="1655640" y="60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97"/>
            <p:cNvSpPr/>
            <p:nvPr/>
          </p:nvSpPr>
          <p:spPr>
            <a:xfrm>
              <a:off x="1699920" y="6146640"/>
              <a:ext cx="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98"/>
            <p:cNvSpPr/>
            <p:nvPr/>
          </p:nvSpPr>
          <p:spPr>
            <a:xfrm>
              <a:off x="1601640" y="642600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99"/>
            <p:cNvSpPr/>
            <p:nvPr/>
          </p:nvSpPr>
          <p:spPr>
            <a:xfrm flipH="1">
              <a:off x="1792080" y="648792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200"/>
            <p:cNvGrpSpPr/>
            <p:nvPr/>
          </p:nvGrpSpPr>
          <p:grpSpPr>
            <a:xfrm>
              <a:off x="3952080" y="6146280"/>
              <a:ext cx="155880" cy="374400"/>
              <a:chOff x="3952080" y="6146280"/>
              <a:chExt cx="155880" cy="374400"/>
            </a:xfrm>
          </p:grpSpPr>
          <p:sp>
            <p:nvSpPr>
              <p:cNvPr id="465" name="Rectangle 201"/>
              <p:cNvSpPr/>
              <p:nvPr/>
            </p:nvSpPr>
            <p:spPr>
              <a:xfrm flipH="1">
                <a:off x="3951720" y="6459120"/>
                <a:ext cx="1558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02"/>
              <p:cNvSpPr/>
              <p:nvPr/>
            </p:nvSpPr>
            <p:spPr>
              <a:xfrm flipH="1">
                <a:off x="3997080" y="641268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203"/>
              <p:cNvSpPr/>
              <p:nvPr/>
            </p:nvSpPr>
            <p:spPr>
              <a:xfrm flipV="1">
                <a:off x="402948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204"/>
            <p:cNvGrpSpPr/>
            <p:nvPr/>
          </p:nvGrpSpPr>
          <p:grpSpPr>
            <a:xfrm>
              <a:off x="3161880" y="6146280"/>
              <a:ext cx="154080" cy="374400"/>
              <a:chOff x="3161880" y="6146280"/>
              <a:chExt cx="154080" cy="374400"/>
            </a:xfrm>
          </p:grpSpPr>
          <p:sp>
            <p:nvSpPr>
              <p:cNvPr id="469" name="Rectangle 205"/>
              <p:cNvSpPr/>
              <p:nvPr/>
            </p:nvSpPr>
            <p:spPr>
              <a:xfrm flipH="1">
                <a:off x="3161880" y="6459120"/>
                <a:ext cx="1540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06"/>
              <p:cNvSpPr/>
              <p:nvPr/>
            </p:nvSpPr>
            <p:spPr>
              <a:xfrm flipH="1">
                <a:off x="3206520" y="641268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07"/>
              <p:cNvSpPr/>
              <p:nvPr/>
            </p:nvSpPr>
            <p:spPr>
              <a:xfrm flipV="1">
                <a:off x="323856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08"/>
            <p:cNvGrpSpPr/>
            <p:nvPr/>
          </p:nvGrpSpPr>
          <p:grpSpPr>
            <a:xfrm>
              <a:off x="2417400" y="6146280"/>
              <a:ext cx="154080" cy="374400"/>
              <a:chOff x="2417400" y="6146280"/>
              <a:chExt cx="154080" cy="374400"/>
            </a:xfrm>
          </p:grpSpPr>
          <p:sp>
            <p:nvSpPr>
              <p:cNvPr id="473" name="Rectangle 209"/>
              <p:cNvSpPr/>
              <p:nvPr/>
            </p:nvSpPr>
            <p:spPr>
              <a:xfrm flipH="1">
                <a:off x="2417400" y="6459120"/>
                <a:ext cx="1540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10"/>
              <p:cNvSpPr/>
              <p:nvPr/>
            </p:nvSpPr>
            <p:spPr>
              <a:xfrm flipH="1">
                <a:off x="2462040" y="641268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211"/>
              <p:cNvSpPr/>
              <p:nvPr/>
            </p:nvSpPr>
            <p:spPr>
              <a:xfrm flipV="1">
                <a:off x="249408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221"/>
            <p:cNvGrpSpPr/>
            <p:nvPr/>
          </p:nvGrpSpPr>
          <p:grpSpPr>
            <a:xfrm>
              <a:off x="4367160" y="6435360"/>
              <a:ext cx="122040" cy="93600"/>
              <a:chOff x="4367160" y="6435360"/>
              <a:chExt cx="122040" cy="93600"/>
            </a:xfrm>
          </p:grpSpPr>
          <p:sp>
            <p:nvSpPr>
              <p:cNvPr id="477" name="AutoShape 222"/>
              <p:cNvSpPr/>
              <p:nvPr/>
            </p:nvSpPr>
            <p:spPr>
              <a:xfrm flipH="1">
                <a:off x="4386240" y="645084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23"/>
              <p:cNvSpPr/>
              <p:nvPr/>
            </p:nvSpPr>
            <p:spPr>
              <a:xfrm flipH="1">
                <a:off x="4366800" y="643536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9" name="Picture 275" descr="K013"/>
            <p:cNvPicPr/>
            <p:nvPr/>
          </p:nvPicPr>
          <p:blipFill>
            <a:blip r:embed="rId21"/>
            <a:stretch/>
          </p:blipFill>
          <p:spPr>
            <a:xfrm>
              <a:off x="2184120" y="569556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76" descr="K013"/>
            <p:cNvPicPr/>
            <p:nvPr/>
          </p:nvPicPr>
          <p:blipFill>
            <a:blip r:embed="rId22"/>
            <a:stretch/>
          </p:blipFill>
          <p:spPr>
            <a:xfrm>
              <a:off x="2920680" y="572112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277" descr="K013"/>
            <p:cNvPicPr/>
            <p:nvPr/>
          </p:nvPicPr>
          <p:blipFill>
            <a:blip r:embed="rId23"/>
            <a:stretch/>
          </p:blipFill>
          <p:spPr>
            <a:xfrm>
              <a:off x="3695400" y="569556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1170000" y="1649520"/>
            <a:ext cx="6900840" cy="31557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Глобальная се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6" descr="N009"/>
          <p:cNvPicPr/>
          <p:nvPr/>
        </p:nvPicPr>
        <p:blipFill>
          <a:blip r:embed="rId1"/>
          <a:stretch/>
        </p:blipFill>
        <p:spPr>
          <a:xfrm>
            <a:off x="5079960" y="3873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3081240" y="495360"/>
            <a:ext cx="2055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r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5"/>
          <p:cNvSpPr/>
          <p:nvPr/>
        </p:nvSpPr>
        <p:spPr>
          <a:xfrm>
            <a:off x="1184400" y="1273320"/>
            <a:ext cx="2793960" cy="568080"/>
          </a:xfrm>
          <a:prstGeom prst="wedgeRoundRectCallout">
            <a:avLst>
              <a:gd name="adj1" fmla="val 40115"/>
              <a:gd name="adj2" fmla="val -37708"/>
              <a:gd name="adj3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между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6"/>
          <p:cNvSpPr/>
          <p:nvPr/>
        </p:nvSpPr>
        <p:spPr>
          <a:xfrm>
            <a:off x="4332240" y="1282680"/>
            <a:ext cx="3708360" cy="568440"/>
          </a:xfrm>
          <a:prstGeom prst="wedgeRoundRectCallout">
            <a:avLst>
              <a:gd name="adj1" fmla="val -41564"/>
              <a:gd name="adj2" fmla="val -37708"/>
              <a:gd name="adj3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, networ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сет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34960" y="2627280"/>
            <a:ext cx="7840800" cy="3460680"/>
          </a:xfrm>
          <a:prstGeom prst="roundRect">
            <a:avLst>
              <a:gd name="adj" fmla="val 6468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нтерне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глобальная сеть, объедин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пьютерные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налы связ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б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утниковая радио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вайд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фирма, предоставл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ечным пользователям выход в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з её локальн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2"/>
          <p:cNvSpPr/>
          <p:nvPr/>
        </p:nvSpPr>
        <p:spPr>
          <a:xfrm>
            <a:off x="1459080" y="2320920"/>
            <a:ext cx="342720" cy="55440"/>
          </a:xfrm>
          <a:custGeom>
            <a:avLst/>
            <a:gdLst/>
            <a:ahLst/>
            <a:rect l="l" t="t" r="r" b="b"/>
            <a:pathLst>
              <a:path w="216" h="35">
                <a:moveTo>
                  <a:pt x="0" y="5"/>
                </a:moveTo>
                <a:cubicBezTo>
                  <a:pt x="35" y="2"/>
                  <a:pt x="70" y="0"/>
                  <a:pt x="106" y="5"/>
                </a:cubicBezTo>
                <a:cubicBezTo>
                  <a:pt x="142" y="10"/>
                  <a:pt x="198" y="30"/>
                  <a:pt x="216" y="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3"/>
          <p:cNvSpPr/>
          <p:nvPr/>
        </p:nvSpPr>
        <p:spPr>
          <a:xfrm>
            <a:off x="3451320" y="2101680"/>
            <a:ext cx="3830400" cy="3583080"/>
          </a:xfrm>
          <a:custGeom>
            <a:avLst/>
            <a:gdLst/>
            <a:ahLst/>
            <a:rect l="l" t="t" r="r" b="b"/>
            <a:pathLst>
              <a:path w="2229" h="2425">
                <a:moveTo>
                  <a:pt x="2208" y="2373"/>
                </a:moveTo>
                <a:cubicBezTo>
                  <a:pt x="2172" y="2353"/>
                  <a:pt x="1993" y="2425"/>
                  <a:pt x="1989" y="2251"/>
                </a:cubicBezTo>
                <a:cubicBezTo>
                  <a:pt x="1985" y="2077"/>
                  <a:pt x="2229" y="1630"/>
                  <a:pt x="2183" y="1330"/>
                </a:cubicBezTo>
                <a:cubicBezTo>
                  <a:pt x="2137" y="1030"/>
                  <a:pt x="1916" y="626"/>
                  <a:pt x="1710" y="451"/>
                </a:cubicBezTo>
                <a:cubicBezTo>
                  <a:pt x="1504" y="276"/>
                  <a:pt x="1206" y="352"/>
                  <a:pt x="946" y="280"/>
                </a:cubicBezTo>
                <a:cubicBezTo>
                  <a:pt x="686" y="208"/>
                  <a:pt x="300" y="32"/>
                  <a:pt x="150" y="16"/>
                </a:cubicBezTo>
                <a:cubicBezTo>
                  <a:pt x="0" y="0"/>
                  <a:pt x="68" y="149"/>
                  <a:pt x="46" y="1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"/>
          <p:cNvSpPr/>
          <p:nvPr/>
        </p:nvSpPr>
        <p:spPr>
          <a:xfrm>
            <a:off x="701640" y="2301840"/>
            <a:ext cx="490680" cy="816120"/>
          </a:xfrm>
          <a:custGeom>
            <a:avLst/>
            <a:gdLst/>
            <a:ahLst/>
            <a:rect l="l" t="t" r="r" b="b"/>
            <a:pathLst>
              <a:path w="309" h="514">
                <a:moveTo>
                  <a:pt x="292" y="514"/>
                </a:moveTo>
                <a:cubicBezTo>
                  <a:pt x="289" y="487"/>
                  <a:pt x="309" y="394"/>
                  <a:pt x="272" y="352"/>
                </a:cubicBezTo>
                <a:cubicBezTo>
                  <a:pt x="235" y="310"/>
                  <a:pt x="115" y="309"/>
                  <a:pt x="72" y="264"/>
                </a:cubicBezTo>
                <a:cubicBezTo>
                  <a:pt x="29" y="219"/>
                  <a:pt x="0" y="128"/>
                  <a:pt x="16" y="84"/>
                </a:cubicBezTo>
                <a:cubicBezTo>
                  <a:pt x="32" y="40"/>
                  <a:pt x="137" y="17"/>
                  <a:pt x="1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5"/>
          <p:cNvSpPr/>
          <p:nvPr/>
        </p:nvSpPr>
        <p:spPr>
          <a:xfrm>
            <a:off x="4446720" y="4552920"/>
            <a:ext cx="796680" cy="665280"/>
          </a:xfrm>
          <a:custGeom>
            <a:avLst/>
            <a:gdLst/>
            <a:ahLst/>
            <a:rect l="l" t="t" r="r" b="b"/>
            <a:pathLst>
              <a:path w="502" h="419">
                <a:moveTo>
                  <a:pt x="502" y="400"/>
                </a:moveTo>
                <a:cubicBezTo>
                  <a:pt x="489" y="394"/>
                  <a:pt x="443" y="419"/>
                  <a:pt x="424" y="364"/>
                </a:cubicBezTo>
                <a:cubicBezTo>
                  <a:pt x="405" y="309"/>
                  <a:pt x="459" y="131"/>
                  <a:pt x="388" y="70"/>
                </a:cubicBezTo>
                <a:cubicBezTo>
                  <a:pt x="317" y="9"/>
                  <a:pt x="158" y="1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"/>
          <p:cNvSpPr/>
          <p:nvPr/>
        </p:nvSpPr>
        <p:spPr>
          <a:xfrm>
            <a:off x="976320" y="5057640"/>
            <a:ext cx="1344600" cy="1393920"/>
          </a:xfrm>
          <a:custGeom>
            <a:avLst/>
            <a:gdLst/>
            <a:ahLst/>
            <a:rect l="l" t="t" r="r" b="b"/>
            <a:pathLst>
              <a:path w="847" h="878">
                <a:moveTo>
                  <a:pt x="573" y="807"/>
                </a:moveTo>
                <a:cubicBezTo>
                  <a:pt x="490" y="842"/>
                  <a:pt x="408" y="878"/>
                  <a:pt x="317" y="861"/>
                </a:cubicBezTo>
                <a:cubicBezTo>
                  <a:pt x="226" y="844"/>
                  <a:pt x="52" y="755"/>
                  <a:pt x="26" y="706"/>
                </a:cubicBezTo>
                <a:cubicBezTo>
                  <a:pt x="0" y="657"/>
                  <a:pt x="133" y="613"/>
                  <a:pt x="163" y="570"/>
                </a:cubicBezTo>
                <a:cubicBezTo>
                  <a:pt x="193" y="527"/>
                  <a:pt x="175" y="469"/>
                  <a:pt x="204" y="445"/>
                </a:cubicBezTo>
                <a:cubicBezTo>
                  <a:pt x="233" y="421"/>
                  <a:pt x="312" y="441"/>
                  <a:pt x="340" y="428"/>
                </a:cubicBezTo>
                <a:cubicBezTo>
                  <a:pt x="368" y="415"/>
                  <a:pt x="337" y="380"/>
                  <a:pt x="374" y="368"/>
                </a:cubicBezTo>
                <a:cubicBezTo>
                  <a:pt x="411" y="356"/>
                  <a:pt x="499" y="361"/>
                  <a:pt x="564" y="356"/>
                </a:cubicBezTo>
                <a:cubicBezTo>
                  <a:pt x="629" y="351"/>
                  <a:pt x="723" y="374"/>
                  <a:pt x="763" y="338"/>
                </a:cubicBezTo>
                <a:cubicBezTo>
                  <a:pt x="803" y="302"/>
                  <a:pt x="847" y="198"/>
                  <a:pt x="804" y="142"/>
                </a:cubicBezTo>
                <a:cubicBezTo>
                  <a:pt x="761" y="86"/>
                  <a:pt x="558" y="26"/>
                  <a:pt x="50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9"/>
          <p:cNvSpPr/>
          <p:nvPr/>
        </p:nvSpPr>
        <p:spPr>
          <a:xfrm rot="5400000">
            <a:off x="5568840" y="790200"/>
            <a:ext cx="557280" cy="1341360"/>
          </a:xfrm>
          <a:prstGeom prst="upArrow">
            <a:avLst>
              <a:gd name="adj1" fmla="val 50000"/>
              <a:gd name="adj2" fmla="val 60174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6883560" y="836640"/>
            <a:ext cx="226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утниковый или оптоволоконный канал связи с серве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1"/>
          <p:cNvGrpSpPr/>
          <p:nvPr/>
        </p:nvGrpSpPr>
        <p:grpSpPr>
          <a:xfrm>
            <a:off x="1625760" y="5338800"/>
            <a:ext cx="1554120" cy="1197000"/>
            <a:chOff x="1625760" y="5338800"/>
            <a:chExt cx="1554120" cy="1197000"/>
          </a:xfrm>
        </p:grpSpPr>
        <p:sp>
          <p:nvSpPr>
            <p:cNvPr id="498" name="AutoShape 12"/>
            <p:cNvSpPr/>
            <p:nvPr/>
          </p:nvSpPr>
          <p:spPr>
            <a:xfrm>
              <a:off x="1625760" y="5338800"/>
              <a:ext cx="155412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1815120" y="6385320"/>
              <a:ext cx="22680" cy="403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9" y="0"/>
                  </a:moveTo>
                  <a:lnTo>
                    <a:pt x="19" y="11"/>
                  </a:lnTo>
                  <a:lnTo>
                    <a:pt x="12" y="12"/>
                  </a:lnTo>
                  <a:lnTo>
                    <a:pt x="4" y="16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1866600" y="6385320"/>
              <a:ext cx="85680" cy="428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0"/>
                  </a:moveTo>
                  <a:lnTo>
                    <a:pt x="72" y="3"/>
                  </a:lnTo>
                  <a:lnTo>
                    <a:pt x="68" y="13"/>
                  </a:lnTo>
                  <a:lnTo>
                    <a:pt x="64" y="26"/>
                  </a:lnTo>
                  <a:lnTo>
                    <a:pt x="62" y="36"/>
                  </a:lnTo>
                  <a:lnTo>
                    <a:pt x="39" y="33"/>
                  </a:lnTo>
                  <a:lnTo>
                    <a:pt x="25" y="33"/>
                  </a:lnTo>
                  <a:lnTo>
                    <a:pt x="22" y="23"/>
                  </a:lnTo>
                  <a:lnTo>
                    <a:pt x="20" y="14"/>
                  </a:lnTo>
                  <a:lnTo>
                    <a:pt x="13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1926000" y="6479280"/>
              <a:ext cx="41760" cy="190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29" y="0"/>
                  </a:moveTo>
                  <a:lnTo>
                    <a:pt x="29" y="5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5" y="16"/>
                  </a:lnTo>
                  <a:lnTo>
                    <a:pt x="5" y="16"/>
                  </a:lnTo>
                  <a:lnTo>
                    <a:pt x="0" y="12"/>
                  </a:lnTo>
                  <a:lnTo>
                    <a:pt x="12" y="9"/>
                  </a:lnTo>
                  <a:lnTo>
                    <a:pt x="22" y="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1978560" y="6305400"/>
              <a:ext cx="638280" cy="192960"/>
            </a:xfrm>
            <a:custGeom>
              <a:avLst/>
              <a:gdLst/>
              <a:ahLst/>
              <a:rect l="l" t="t" r="r" b="b"/>
              <a:pathLst>
                <a:path w="535" h="162">
                  <a:moveTo>
                    <a:pt x="492" y="9"/>
                  </a:moveTo>
                  <a:lnTo>
                    <a:pt x="490" y="17"/>
                  </a:lnTo>
                  <a:lnTo>
                    <a:pt x="485" y="15"/>
                  </a:lnTo>
                  <a:lnTo>
                    <a:pt x="482" y="20"/>
                  </a:lnTo>
                  <a:lnTo>
                    <a:pt x="474" y="13"/>
                  </a:lnTo>
                  <a:lnTo>
                    <a:pt x="297" y="109"/>
                  </a:lnTo>
                  <a:lnTo>
                    <a:pt x="295" y="109"/>
                  </a:lnTo>
                  <a:lnTo>
                    <a:pt x="67" y="107"/>
                  </a:lnTo>
                  <a:lnTo>
                    <a:pt x="66" y="87"/>
                  </a:lnTo>
                  <a:lnTo>
                    <a:pt x="66" y="70"/>
                  </a:lnTo>
                  <a:lnTo>
                    <a:pt x="58" y="71"/>
                  </a:lnTo>
                  <a:lnTo>
                    <a:pt x="40" y="71"/>
                  </a:lnTo>
                  <a:lnTo>
                    <a:pt x="42" y="83"/>
                  </a:lnTo>
                  <a:lnTo>
                    <a:pt x="40" y="96"/>
                  </a:lnTo>
                  <a:lnTo>
                    <a:pt x="36" y="106"/>
                  </a:lnTo>
                  <a:lnTo>
                    <a:pt x="27" y="114"/>
                  </a:lnTo>
                  <a:lnTo>
                    <a:pt x="18" y="123"/>
                  </a:lnTo>
                  <a:lnTo>
                    <a:pt x="7" y="129"/>
                  </a:lnTo>
                  <a:lnTo>
                    <a:pt x="3" y="136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3" y="153"/>
                  </a:lnTo>
                  <a:lnTo>
                    <a:pt x="3" y="158"/>
                  </a:lnTo>
                  <a:lnTo>
                    <a:pt x="0" y="162"/>
                  </a:lnTo>
                  <a:lnTo>
                    <a:pt x="457" y="162"/>
                  </a:lnTo>
                  <a:lnTo>
                    <a:pt x="462" y="149"/>
                  </a:lnTo>
                  <a:lnTo>
                    <a:pt x="469" y="140"/>
                  </a:lnTo>
                  <a:lnTo>
                    <a:pt x="481" y="128"/>
                  </a:lnTo>
                  <a:lnTo>
                    <a:pt x="494" y="122"/>
                  </a:lnTo>
                  <a:lnTo>
                    <a:pt x="503" y="88"/>
                  </a:lnTo>
                  <a:lnTo>
                    <a:pt x="531" y="27"/>
                  </a:lnTo>
                  <a:lnTo>
                    <a:pt x="529" y="22"/>
                  </a:lnTo>
                  <a:lnTo>
                    <a:pt x="535" y="0"/>
                  </a:lnTo>
                  <a:lnTo>
                    <a:pt x="516" y="0"/>
                  </a:lnTo>
                  <a:lnTo>
                    <a:pt x="510" y="6"/>
                  </a:lnTo>
                  <a:lnTo>
                    <a:pt x="492" y="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>
              <a:off x="1964160" y="6388920"/>
              <a:ext cx="45360" cy="536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5"/>
                  </a:moveTo>
                  <a:lnTo>
                    <a:pt x="9" y="43"/>
                  </a:lnTo>
                  <a:lnTo>
                    <a:pt x="5" y="40"/>
                  </a:lnTo>
                  <a:lnTo>
                    <a:pt x="1" y="37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3" y="0"/>
                  </a:lnTo>
                  <a:lnTo>
                    <a:pt x="32" y="2"/>
                  </a:lnTo>
                  <a:lnTo>
                    <a:pt x="36" y="9"/>
                  </a:lnTo>
                  <a:lnTo>
                    <a:pt x="38" y="18"/>
                  </a:lnTo>
                  <a:lnTo>
                    <a:pt x="32" y="27"/>
                  </a:lnTo>
                  <a:lnTo>
                    <a:pt x="22" y="39"/>
                  </a:lnTo>
                  <a:lnTo>
                    <a:pt x="12" y="45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8"/>
            <p:cNvSpPr/>
            <p:nvPr/>
          </p:nvSpPr>
          <p:spPr>
            <a:xfrm>
              <a:off x="2392560" y="6225120"/>
              <a:ext cx="166680" cy="53640"/>
            </a:xfrm>
            <a:custGeom>
              <a:avLst/>
              <a:gdLst/>
              <a:ahLst/>
              <a:rect l="l" t="t" r="r" b="b"/>
              <a:pathLst>
                <a:path w="140" h="45">
                  <a:moveTo>
                    <a:pt x="128" y="45"/>
                  </a:moveTo>
                  <a:lnTo>
                    <a:pt x="128" y="37"/>
                  </a:lnTo>
                  <a:lnTo>
                    <a:pt x="123" y="34"/>
                  </a:lnTo>
                  <a:lnTo>
                    <a:pt x="125" y="28"/>
                  </a:lnTo>
                  <a:lnTo>
                    <a:pt x="140" y="12"/>
                  </a:lnTo>
                  <a:lnTo>
                    <a:pt x="140" y="6"/>
                  </a:lnTo>
                  <a:lnTo>
                    <a:pt x="105" y="0"/>
                  </a:lnTo>
                  <a:lnTo>
                    <a:pt x="84" y="7"/>
                  </a:lnTo>
                  <a:lnTo>
                    <a:pt x="62" y="12"/>
                  </a:lnTo>
                  <a:lnTo>
                    <a:pt x="40" y="8"/>
                  </a:lnTo>
                  <a:lnTo>
                    <a:pt x="21" y="8"/>
                  </a:lnTo>
                  <a:lnTo>
                    <a:pt x="0" y="13"/>
                  </a:lnTo>
                  <a:lnTo>
                    <a:pt x="128" y="4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>
              <a:off x="3016440" y="6240960"/>
              <a:ext cx="45000" cy="257400"/>
            </a:xfrm>
            <a:custGeom>
              <a:avLst/>
              <a:gdLst/>
              <a:ahLst/>
              <a:rect l="l" t="t" r="r" b="b"/>
              <a:pathLst>
                <a:path w="38" h="216">
                  <a:moveTo>
                    <a:pt x="38" y="216"/>
                  </a:moveTo>
                  <a:lnTo>
                    <a:pt x="38" y="0"/>
                  </a:lnTo>
                  <a:lnTo>
                    <a:pt x="29" y="30"/>
                  </a:lnTo>
                  <a:lnTo>
                    <a:pt x="18" y="93"/>
                  </a:lnTo>
                  <a:lnTo>
                    <a:pt x="1" y="167"/>
                  </a:lnTo>
                  <a:lnTo>
                    <a:pt x="0" y="216"/>
                  </a:lnTo>
                  <a:lnTo>
                    <a:pt x="38" y="21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>
              <a:off x="2711160" y="5339880"/>
              <a:ext cx="462600" cy="565560"/>
            </a:xfrm>
            <a:custGeom>
              <a:avLst/>
              <a:gdLst/>
              <a:ahLst/>
              <a:rect l="l" t="t" r="r" b="b"/>
              <a:pathLst>
                <a:path w="388" h="474">
                  <a:moveTo>
                    <a:pt x="293" y="444"/>
                  </a:moveTo>
                  <a:lnTo>
                    <a:pt x="309" y="460"/>
                  </a:lnTo>
                  <a:lnTo>
                    <a:pt x="318" y="466"/>
                  </a:lnTo>
                  <a:lnTo>
                    <a:pt x="332" y="471"/>
                  </a:lnTo>
                  <a:lnTo>
                    <a:pt x="348" y="474"/>
                  </a:lnTo>
                  <a:lnTo>
                    <a:pt x="358" y="474"/>
                  </a:lnTo>
                  <a:lnTo>
                    <a:pt x="345" y="469"/>
                  </a:lnTo>
                  <a:lnTo>
                    <a:pt x="362" y="467"/>
                  </a:lnTo>
                  <a:lnTo>
                    <a:pt x="375" y="465"/>
                  </a:lnTo>
                  <a:lnTo>
                    <a:pt x="388" y="460"/>
                  </a:lnTo>
                  <a:lnTo>
                    <a:pt x="367" y="456"/>
                  </a:lnTo>
                  <a:lnTo>
                    <a:pt x="352" y="449"/>
                  </a:lnTo>
                  <a:lnTo>
                    <a:pt x="355" y="447"/>
                  </a:lnTo>
                  <a:lnTo>
                    <a:pt x="349" y="441"/>
                  </a:lnTo>
                  <a:lnTo>
                    <a:pt x="362" y="441"/>
                  </a:lnTo>
                  <a:lnTo>
                    <a:pt x="372" y="440"/>
                  </a:lnTo>
                  <a:lnTo>
                    <a:pt x="374" y="440"/>
                  </a:lnTo>
                  <a:lnTo>
                    <a:pt x="364" y="435"/>
                  </a:lnTo>
                  <a:lnTo>
                    <a:pt x="376" y="434"/>
                  </a:lnTo>
                  <a:lnTo>
                    <a:pt x="361" y="422"/>
                  </a:lnTo>
                  <a:lnTo>
                    <a:pt x="349" y="412"/>
                  </a:lnTo>
                  <a:lnTo>
                    <a:pt x="339" y="390"/>
                  </a:lnTo>
                  <a:lnTo>
                    <a:pt x="328" y="352"/>
                  </a:lnTo>
                  <a:lnTo>
                    <a:pt x="319" y="327"/>
                  </a:lnTo>
                  <a:lnTo>
                    <a:pt x="309" y="309"/>
                  </a:lnTo>
                  <a:lnTo>
                    <a:pt x="300" y="299"/>
                  </a:lnTo>
                  <a:lnTo>
                    <a:pt x="288" y="290"/>
                  </a:lnTo>
                  <a:lnTo>
                    <a:pt x="279" y="284"/>
                  </a:lnTo>
                  <a:lnTo>
                    <a:pt x="272" y="292"/>
                  </a:lnTo>
                  <a:lnTo>
                    <a:pt x="259" y="288"/>
                  </a:lnTo>
                  <a:lnTo>
                    <a:pt x="266" y="264"/>
                  </a:lnTo>
                  <a:lnTo>
                    <a:pt x="267" y="253"/>
                  </a:lnTo>
                  <a:lnTo>
                    <a:pt x="274" y="214"/>
                  </a:lnTo>
                  <a:lnTo>
                    <a:pt x="275" y="200"/>
                  </a:lnTo>
                  <a:lnTo>
                    <a:pt x="279" y="178"/>
                  </a:lnTo>
                  <a:lnTo>
                    <a:pt x="280" y="155"/>
                  </a:lnTo>
                  <a:lnTo>
                    <a:pt x="280" y="135"/>
                  </a:lnTo>
                  <a:lnTo>
                    <a:pt x="276" y="117"/>
                  </a:lnTo>
                  <a:lnTo>
                    <a:pt x="274" y="105"/>
                  </a:lnTo>
                  <a:lnTo>
                    <a:pt x="270" y="96"/>
                  </a:lnTo>
                  <a:lnTo>
                    <a:pt x="271" y="89"/>
                  </a:lnTo>
                  <a:lnTo>
                    <a:pt x="270" y="79"/>
                  </a:lnTo>
                  <a:lnTo>
                    <a:pt x="263" y="68"/>
                  </a:lnTo>
                  <a:lnTo>
                    <a:pt x="249" y="51"/>
                  </a:lnTo>
                  <a:lnTo>
                    <a:pt x="226" y="33"/>
                  </a:lnTo>
                  <a:lnTo>
                    <a:pt x="209" y="22"/>
                  </a:lnTo>
                  <a:lnTo>
                    <a:pt x="197" y="21"/>
                  </a:lnTo>
                  <a:lnTo>
                    <a:pt x="188" y="21"/>
                  </a:lnTo>
                  <a:lnTo>
                    <a:pt x="176" y="9"/>
                  </a:lnTo>
                  <a:lnTo>
                    <a:pt x="166" y="5"/>
                  </a:lnTo>
                  <a:lnTo>
                    <a:pt x="147" y="2"/>
                  </a:lnTo>
                  <a:lnTo>
                    <a:pt x="130" y="0"/>
                  </a:lnTo>
                  <a:lnTo>
                    <a:pt x="113" y="5"/>
                  </a:lnTo>
                  <a:lnTo>
                    <a:pt x="87" y="18"/>
                  </a:lnTo>
                  <a:lnTo>
                    <a:pt x="62" y="25"/>
                  </a:lnTo>
                  <a:lnTo>
                    <a:pt x="48" y="25"/>
                  </a:lnTo>
                  <a:lnTo>
                    <a:pt x="38" y="31"/>
                  </a:lnTo>
                  <a:lnTo>
                    <a:pt x="13" y="53"/>
                  </a:lnTo>
                  <a:lnTo>
                    <a:pt x="4" y="64"/>
                  </a:lnTo>
                  <a:lnTo>
                    <a:pt x="0" y="73"/>
                  </a:lnTo>
                  <a:lnTo>
                    <a:pt x="3" y="78"/>
                  </a:lnTo>
                  <a:lnTo>
                    <a:pt x="7" y="89"/>
                  </a:lnTo>
                  <a:lnTo>
                    <a:pt x="20" y="77"/>
                  </a:lnTo>
                  <a:lnTo>
                    <a:pt x="30" y="70"/>
                  </a:lnTo>
                  <a:lnTo>
                    <a:pt x="38" y="64"/>
                  </a:lnTo>
                  <a:lnTo>
                    <a:pt x="43" y="66"/>
                  </a:lnTo>
                  <a:lnTo>
                    <a:pt x="55" y="73"/>
                  </a:lnTo>
                  <a:lnTo>
                    <a:pt x="68" y="86"/>
                  </a:lnTo>
                  <a:lnTo>
                    <a:pt x="73" y="103"/>
                  </a:lnTo>
                  <a:lnTo>
                    <a:pt x="77" y="122"/>
                  </a:lnTo>
                  <a:lnTo>
                    <a:pt x="77" y="153"/>
                  </a:lnTo>
                  <a:lnTo>
                    <a:pt x="81" y="168"/>
                  </a:lnTo>
                  <a:lnTo>
                    <a:pt x="88" y="182"/>
                  </a:lnTo>
                  <a:lnTo>
                    <a:pt x="99" y="194"/>
                  </a:lnTo>
                  <a:lnTo>
                    <a:pt x="101" y="198"/>
                  </a:lnTo>
                  <a:lnTo>
                    <a:pt x="110" y="209"/>
                  </a:lnTo>
                  <a:lnTo>
                    <a:pt x="123" y="217"/>
                  </a:lnTo>
                  <a:lnTo>
                    <a:pt x="136" y="220"/>
                  </a:lnTo>
                  <a:lnTo>
                    <a:pt x="148" y="222"/>
                  </a:lnTo>
                  <a:lnTo>
                    <a:pt x="161" y="223"/>
                  </a:lnTo>
                  <a:lnTo>
                    <a:pt x="165" y="227"/>
                  </a:lnTo>
                  <a:lnTo>
                    <a:pt x="175" y="235"/>
                  </a:lnTo>
                  <a:lnTo>
                    <a:pt x="178" y="236"/>
                  </a:lnTo>
                  <a:lnTo>
                    <a:pt x="179" y="247"/>
                  </a:lnTo>
                  <a:lnTo>
                    <a:pt x="191" y="266"/>
                  </a:lnTo>
                  <a:lnTo>
                    <a:pt x="200" y="275"/>
                  </a:lnTo>
                  <a:lnTo>
                    <a:pt x="213" y="286"/>
                  </a:lnTo>
                  <a:lnTo>
                    <a:pt x="226" y="291"/>
                  </a:lnTo>
                  <a:lnTo>
                    <a:pt x="232" y="305"/>
                  </a:lnTo>
                  <a:lnTo>
                    <a:pt x="246" y="299"/>
                  </a:lnTo>
                  <a:lnTo>
                    <a:pt x="250" y="297"/>
                  </a:lnTo>
                  <a:lnTo>
                    <a:pt x="253" y="309"/>
                  </a:lnTo>
                  <a:lnTo>
                    <a:pt x="256" y="322"/>
                  </a:lnTo>
                  <a:lnTo>
                    <a:pt x="263" y="369"/>
                  </a:lnTo>
                  <a:lnTo>
                    <a:pt x="250" y="374"/>
                  </a:lnTo>
                  <a:lnTo>
                    <a:pt x="252" y="374"/>
                  </a:lnTo>
                  <a:lnTo>
                    <a:pt x="276" y="404"/>
                  </a:lnTo>
                  <a:lnTo>
                    <a:pt x="288" y="430"/>
                  </a:lnTo>
                  <a:lnTo>
                    <a:pt x="293" y="447"/>
                  </a:lnTo>
                  <a:lnTo>
                    <a:pt x="293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1"/>
            <p:cNvSpPr/>
            <p:nvPr/>
          </p:nvSpPr>
          <p:spPr>
            <a:xfrm>
              <a:off x="2810160" y="5510520"/>
              <a:ext cx="54720" cy="60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0" y="0"/>
                  </a:moveTo>
                  <a:lnTo>
                    <a:pt x="0" y="8"/>
                  </a:lnTo>
                  <a:lnTo>
                    <a:pt x="8" y="29"/>
                  </a:lnTo>
                  <a:lnTo>
                    <a:pt x="17" y="40"/>
                  </a:lnTo>
                  <a:lnTo>
                    <a:pt x="27" y="48"/>
                  </a:lnTo>
                  <a:lnTo>
                    <a:pt x="34" y="51"/>
                  </a:lnTo>
                  <a:lnTo>
                    <a:pt x="42" y="51"/>
                  </a:lnTo>
                  <a:lnTo>
                    <a:pt x="46" y="48"/>
                  </a:lnTo>
                  <a:lnTo>
                    <a:pt x="36" y="45"/>
                  </a:lnTo>
                  <a:lnTo>
                    <a:pt x="25" y="39"/>
                  </a:lnTo>
                  <a:lnTo>
                    <a:pt x="14" y="29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2"/>
            <p:cNvSpPr/>
            <p:nvPr/>
          </p:nvSpPr>
          <p:spPr>
            <a:xfrm>
              <a:off x="2897280" y="5552280"/>
              <a:ext cx="28440" cy="140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0"/>
                  </a:moveTo>
                  <a:lnTo>
                    <a:pt x="10" y="5"/>
                  </a:lnTo>
                  <a:lnTo>
                    <a:pt x="18" y="0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0"/>
                  </a:lnTo>
                  <a:lnTo>
                    <a:pt x="2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3"/>
            <p:cNvSpPr/>
            <p:nvPr/>
          </p:nvSpPr>
          <p:spPr>
            <a:xfrm>
              <a:off x="2705040" y="5416200"/>
              <a:ext cx="124920" cy="16704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82" y="58"/>
                  </a:moveTo>
                  <a:lnTo>
                    <a:pt x="78" y="39"/>
                  </a:lnTo>
                  <a:lnTo>
                    <a:pt x="73" y="22"/>
                  </a:lnTo>
                  <a:lnTo>
                    <a:pt x="60" y="9"/>
                  </a:lnTo>
                  <a:lnTo>
                    <a:pt x="48" y="2"/>
                  </a:lnTo>
                  <a:lnTo>
                    <a:pt x="43" y="0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2" y="25"/>
                  </a:lnTo>
                  <a:lnTo>
                    <a:pt x="5" y="50"/>
                  </a:lnTo>
                  <a:lnTo>
                    <a:pt x="3" y="62"/>
                  </a:lnTo>
                  <a:lnTo>
                    <a:pt x="5" y="78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3" y="98"/>
                  </a:lnTo>
                  <a:lnTo>
                    <a:pt x="5" y="106"/>
                  </a:lnTo>
                  <a:lnTo>
                    <a:pt x="6" y="118"/>
                  </a:lnTo>
                  <a:lnTo>
                    <a:pt x="0" y="127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18" y="136"/>
                  </a:lnTo>
                  <a:lnTo>
                    <a:pt x="23" y="136"/>
                  </a:lnTo>
                  <a:lnTo>
                    <a:pt x="25" y="140"/>
                  </a:lnTo>
                  <a:lnTo>
                    <a:pt x="105" y="130"/>
                  </a:lnTo>
                  <a:lnTo>
                    <a:pt x="104" y="130"/>
                  </a:lnTo>
                  <a:lnTo>
                    <a:pt x="93" y="118"/>
                  </a:lnTo>
                  <a:lnTo>
                    <a:pt x="86" y="104"/>
                  </a:lnTo>
                  <a:lnTo>
                    <a:pt x="82" y="89"/>
                  </a:lnTo>
                  <a:lnTo>
                    <a:pt x="82" y="5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4"/>
            <p:cNvSpPr/>
            <p:nvPr/>
          </p:nvSpPr>
          <p:spPr>
            <a:xfrm>
              <a:off x="2696760" y="5564160"/>
              <a:ext cx="12960" cy="154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2"/>
                  </a:moveTo>
                  <a:lnTo>
                    <a:pt x="2" y="8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3"/>
                  </a:lnTo>
                  <a:lnTo>
                    <a:pt x="11" y="10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5"/>
            <p:cNvSpPr/>
            <p:nvPr/>
          </p:nvSpPr>
          <p:spPr>
            <a:xfrm>
              <a:off x="2675160" y="5572440"/>
              <a:ext cx="24840" cy="25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0" y="1"/>
                  </a:moveTo>
                  <a:lnTo>
                    <a:pt x="21" y="5"/>
                  </a:lnTo>
                  <a:lnTo>
                    <a:pt x="17" y="8"/>
                  </a:lnTo>
                  <a:lnTo>
                    <a:pt x="7" y="22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6"/>
            <p:cNvSpPr/>
            <p:nvPr/>
          </p:nvSpPr>
          <p:spPr>
            <a:xfrm>
              <a:off x="2701440" y="5578560"/>
              <a:ext cx="33120" cy="320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7" y="1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0" y="27"/>
                  </a:lnTo>
                  <a:lnTo>
                    <a:pt x="11" y="26"/>
                  </a:lnTo>
                  <a:lnTo>
                    <a:pt x="0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7"/>
            <p:cNvSpPr/>
            <p:nvPr/>
          </p:nvSpPr>
          <p:spPr>
            <a:xfrm>
              <a:off x="2674080" y="5573520"/>
              <a:ext cx="313560" cy="20880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206" y="39"/>
                  </a:moveTo>
                  <a:lnTo>
                    <a:pt x="196" y="31"/>
                  </a:lnTo>
                  <a:lnTo>
                    <a:pt x="192" y="27"/>
                  </a:lnTo>
                  <a:lnTo>
                    <a:pt x="191" y="27"/>
                  </a:lnTo>
                  <a:lnTo>
                    <a:pt x="179" y="26"/>
                  </a:lnTo>
                  <a:lnTo>
                    <a:pt x="167" y="24"/>
                  </a:lnTo>
                  <a:lnTo>
                    <a:pt x="154" y="21"/>
                  </a:lnTo>
                  <a:lnTo>
                    <a:pt x="141" y="13"/>
                  </a:lnTo>
                  <a:lnTo>
                    <a:pt x="132" y="2"/>
                  </a:lnTo>
                  <a:lnTo>
                    <a:pt x="132" y="0"/>
                  </a:lnTo>
                  <a:lnTo>
                    <a:pt x="51" y="12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4" y="30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8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36" y="44"/>
                  </a:lnTo>
                  <a:lnTo>
                    <a:pt x="31" y="46"/>
                  </a:lnTo>
                  <a:lnTo>
                    <a:pt x="21" y="51"/>
                  </a:lnTo>
                  <a:lnTo>
                    <a:pt x="21" y="57"/>
                  </a:lnTo>
                  <a:lnTo>
                    <a:pt x="17" y="70"/>
                  </a:lnTo>
                  <a:lnTo>
                    <a:pt x="21" y="73"/>
                  </a:lnTo>
                  <a:lnTo>
                    <a:pt x="27" y="79"/>
                  </a:lnTo>
                  <a:lnTo>
                    <a:pt x="22" y="85"/>
                  </a:lnTo>
                  <a:lnTo>
                    <a:pt x="22" y="92"/>
                  </a:lnTo>
                  <a:lnTo>
                    <a:pt x="30" y="98"/>
                  </a:lnTo>
                  <a:lnTo>
                    <a:pt x="36" y="112"/>
                  </a:lnTo>
                  <a:lnTo>
                    <a:pt x="26" y="139"/>
                  </a:lnTo>
                  <a:lnTo>
                    <a:pt x="34" y="149"/>
                  </a:lnTo>
                  <a:lnTo>
                    <a:pt x="45" y="156"/>
                  </a:lnTo>
                  <a:lnTo>
                    <a:pt x="65" y="148"/>
                  </a:lnTo>
                  <a:lnTo>
                    <a:pt x="86" y="152"/>
                  </a:lnTo>
                  <a:lnTo>
                    <a:pt x="105" y="151"/>
                  </a:lnTo>
                  <a:lnTo>
                    <a:pt x="121" y="147"/>
                  </a:lnTo>
                  <a:lnTo>
                    <a:pt x="135" y="140"/>
                  </a:lnTo>
                  <a:lnTo>
                    <a:pt x="121" y="159"/>
                  </a:lnTo>
                  <a:lnTo>
                    <a:pt x="117" y="169"/>
                  </a:lnTo>
                  <a:lnTo>
                    <a:pt x="121" y="175"/>
                  </a:lnTo>
                  <a:lnTo>
                    <a:pt x="210" y="133"/>
                  </a:lnTo>
                  <a:lnTo>
                    <a:pt x="263" y="109"/>
                  </a:lnTo>
                  <a:lnTo>
                    <a:pt x="257" y="95"/>
                  </a:lnTo>
                  <a:lnTo>
                    <a:pt x="258" y="96"/>
                  </a:lnTo>
                  <a:lnTo>
                    <a:pt x="244" y="90"/>
                  </a:lnTo>
                  <a:lnTo>
                    <a:pt x="231" y="79"/>
                  </a:lnTo>
                  <a:lnTo>
                    <a:pt x="222" y="70"/>
                  </a:lnTo>
                  <a:lnTo>
                    <a:pt x="210" y="51"/>
                  </a:lnTo>
                  <a:lnTo>
                    <a:pt x="209" y="40"/>
                  </a:lnTo>
                  <a:lnTo>
                    <a:pt x="206" y="39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"/>
            <p:cNvSpPr/>
            <p:nvPr/>
          </p:nvSpPr>
          <p:spPr>
            <a:xfrm>
              <a:off x="2694240" y="5623920"/>
              <a:ext cx="22680" cy="10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4"/>
                  </a:moveTo>
                  <a:lnTo>
                    <a:pt x="6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4" y="9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9"/>
            <p:cNvSpPr/>
            <p:nvPr/>
          </p:nvSpPr>
          <p:spPr>
            <a:xfrm>
              <a:off x="2799360" y="5740920"/>
              <a:ext cx="35640" cy="345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1"/>
                  </a:moveTo>
                  <a:lnTo>
                    <a:pt x="16" y="7"/>
                  </a:lnTo>
                  <a:lnTo>
                    <a:pt x="30" y="0"/>
                  </a:lnTo>
                  <a:lnTo>
                    <a:pt x="16" y="19"/>
                  </a:lnTo>
                  <a:lnTo>
                    <a:pt x="12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"/>
            <p:cNvSpPr/>
            <p:nvPr/>
          </p:nvSpPr>
          <p:spPr>
            <a:xfrm>
              <a:off x="2627280" y="5694120"/>
              <a:ext cx="385200" cy="329040"/>
            </a:xfrm>
            <a:custGeom>
              <a:avLst/>
              <a:gdLst/>
              <a:ahLst/>
              <a:rect l="l" t="t" r="r" b="b"/>
              <a:pathLst>
                <a:path w="323" h="276">
                  <a:moveTo>
                    <a:pt x="22" y="263"/>
                  </a:moveTo>
                  <a:lnTo>
                    <a:pt x="16" y="255"/>
                  </a:lnTo>
                  <a:lnTo>
                    <a:pt x="17" y="250"/>
                  </a:lnTo>
                  <a:lnTo>
                    <a:pt x="27" y="224"/>
                  </a:lnTo>
                  <a:lnTo>
                    <a:pt x="36" y="207"/>
                  </a:lnTo>
                  <a:lnTo>
                    <a:pt x="39" y="204"/>
                  </a:lnTo>
                  <a:lnTo>
                    <a:pt x="16" y="220"/>
                  </a:lnTo>
                  <a:lnTo>
                    <a:pt x="0" y="234"/>
                  </a:lnTo>
                  <a:lnTo>
                    <a:pt x="3" y="216"/>
                  </a:lnTo>
                  <a:lnTo>
                    <a:pt x="11" y="198"/>
                  </a:lnTo>
                  <a:lnTo>
                    <a:pt x="14" y="191"/>
                  </a:lnTo>
                  <a:lnTo>
                    <a:pt x="27" y="181"/>
                  </a:lnTo>
                  <a:lnTo>
                    <a:pt x="36" y="174"/>
                  </a:lnTo>
                  <a:lnTo>
                    <a:pt x="43" y="165"/>
                  </a:lnTo>
                  <a:lnTo>
                    <a:pt x="51" y="148"/>
                  </a:lnTo>
                  <a:lnTo>
                    <a:pt x="56" y="138"/>
                  </a:lnTo>
                  <a:lnTo>
                    <a:pt x="71" y="130"/>
                  </a:lnTo>
                  <a:lnTo>
                    <a:pt x="84" y="126"/>
                  </a:lnTo>
                  <a:lnTo>
                    <a:pt x="99" y="116"/>
                  </a:lnTo>
                  <a:lnTo>
                    <a:pt x="118" y="93"/>
                  </a:lnTo>
                  <a:lnTo>
                    <a:pt x="126" y="89"/>
                  </a:lnTo>
                  <a:lnTo>
                    <a:pt x="160" y="74"/>
                  </a:lnTo>
                  <a:lnTo>
                    <a:pt x="249" y="32"/>
                  </a:lnTo>
                  <a:lnTo>
                    <a:pt x="302" y="8"/>
                  </a:lnTo>
                  <a:lnTo>
                    <a:pt x="316" y="2"/>
                  </a:lnTo>
                  <a:lnTo>
                    <a:pt x="320" y="0"/>
                  </a:lnTo>
                  <a:lnTo>
                    <a:pt x="323" y="12"/>
                  </a:lnTo>
                  <a:lnTo>
                    <a:pt x="256" y="45"/>
                  </a:lnTo>
                  <a:lnTo>
                    <a:pt x="201" y="73"/>
                  </a:lnTo>
                  <a:lnTo>
                    <a:pt x="153" y="102"/>
                  </a:lnTo>
                  <a:lnTo>
                    <a:pt x="140" y="117"/>
                  </a:lnTo>
                  <a:lnTo>
                    <a:pt x="93" y="182"/>
                  </a:lnTo>
                  <a:lnTo>
                    <a:pt x="55" y="228"/>
                  </a:lnTo>
                  <a:lnTo>
                    <a:pt x="25" y="276"/>
                  </a:lnTo>
                  <a:lnTo>
                    <a:pt x="22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1"/>
            <p:cNvSpPr/>
            <p:nvPr/>
          </p:nvSpPr>
          <p:spPr>
            <a:xfrm>
              <a:off x="2615400" y="5724000"/>
              <a:ext cx="408960" cy="472320"/>
            </a:xfrm>
            <a:custGeom>
              <a:avLst/>
              <a:gdLst/>
              <a:ahLst/>
              <a:rect l="l" t="t" r="r" b="b"/>
              <a:pathLst>
                <a:path w="343" h="396">
                  <a:moveTo>
                    <a:pt x="1" y="396"/>
                  </a:moveTo>
                  <a:lnTo>
                    <a:pt x="13" y="358"/>
                  </a:lnTo>
                  <a:lnTo>
                    <a:pt x="18" y="341"/>
                  </a:lnTo>
                  <a:lnTo>
                    <a:pt x="27" y="324"/>
                  </a:lnTo>
                  <a:lnTo>
                    <a:pt x="41" y="302"/>
                  </a:lnTo>
                  <a:lnTo>
                    <a:pt x="61" y="276"/>
                  </a:lnTo>
                  <a:lnTo>
                    <a:pt x="97" y="241"/>
                  </a:lnTo>
                  <a:lnTo>
                    <a:pt x="138" y="214"/>
                  </a:lnTo>
                  <a:lnTo>
                    <a:pt x="145" y="209"/>
                  </a:lnTo>
                  <a:lnTo>
                    <a:pt x="137" y="188"/>
                  </a:lnTo>
                  <a:lnTo>
                    <a:pt x="131" y="179"/>
                  </a:lnTo>
                  <a:lnTo>
                    <a:pt x="171" y="177"/>
                  </a:lnTo>
                  <a:lnTo>
                    <a:pt x="181" y="160"/>
                  </a:lnTo>
                  <a:lnTo>
                    <a:pt x="197" y="140"/>
                  </a:lnTo>
                  <a:lnTo>
                    <a:pt x="211" y="125"/>
                  </a:lnTo>
                  <a:lnTo>
                    <a:pt x="236" y="104"/>
                  </a:lnTo>
                  <a:lnTo>
                    <a:pt x="272" y="81"/>
                  </a:lnTo>
                  <a:lnTo>
                    <a:pt x="310" y="61"/>
                  </a:lnTo>
                  <a:lnTo>
                    <a:pt x="330" y="52"/>
                  </a:lnTo>
                  <a:lnTo>
                    <a:pt x="343" y="47"/>
                  </a:lnTo>
                  <a:lnTo>
                    <a:pt x="336" y="0"/>
                  </a:lnTo>
                  <a:lnTo>
                    <a:pt x="308" y="8"/>
                  </a:lnTo>
                  <a:lnTo>
                    <a:pt x="271" y="26"/>
                  </a:lnTo>
                  <a:lnTo>
                    <a:pt x="228" y="49"/>
                  </a:lnTo>
                  <a:lnTo>
                    <a:pt x="170" y="87"/>
                  </a:lnTo>
                  <a:lnTo>
                    <a:pt x="103" y="157"/>
                  </a:lnTo>
                  <a:lnTo>
                    <a:pt x="65" y="203"/>
                  </a:lnTo>
                  <a:lnTo>
                    <a:pt x="35" y="251"/>
                  </a:lnTo>
                  <a:lnTo>
                    <a:pt x="21" y="288"/>
                  </a:lnTo>
                  <a:lnTo>
                    <a:pt x="8" y="326"/>
                  </a:lnTo>
                  <a:lnTo>
                    <a:pt x="4" y="343"/>
                  </a:lnTo>
                  <a:lnTo>
                    <a:pt x="1" y="369"/>
                  </a:lnTo>
                  <a:lnTo>
                    <a:pt x="0" y="396"/>
                  </a:lnTo>
                  <a:lnTo>
                    <a:pt x="1" y="396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2"/>
            <p:cNvSpPr/>
            <p:nvPr/>
          </p:nvSpPr>
          <p:spPr>
            <a:xfrm>
              <a:off x="2565360" y="6159600"/>
              <a:ext cx="60840" cy="155880"/>
            </a:xfrm>
            <a:custGeom>
              <a:avLst/>
              <a:gdLst/>
              <a:ahLst/>
              <a:rect l="l" t="t" r="r" b="b"/>
              <a:pathLst>
                <a:path w="51" h="131">
                  <a:moveTo>
                    <a:pt x="43" y="4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9" y="27"/>
                  </a:lnTo>
                  <a:lnTo>
                    <a:pt x="11" y="62"/>
                  </a:lnTo>
                  <a:lnTo>
                    <a:pt x="8" y="96"/>
                  </a:lnTo>
                  <a:lnTo>
                    <a:pt x="0" y="131"/>
                  </a:lnTo>
                  <a:lnTo>
                    <a:pt x="18" y="128"/>
                  </a:lnTo>
                  <a:lnTo>
                    <a:pt x="24" y="122"/>
                  </a:lnTo>
                  <a:lnTo>
                    <a:pt x="43" y="122"/>
                  </a:lnTo>
                  <a:lnTo>
                    <a:pt x="51" y="94"/>
                  </a:lnTo>
                  <a:lnTo>
                    <a:pt x="46" y="76"/>
                  </a:lnTo>
                  <a:lnTo>
                    <a:pt x="43" y="50"/>
                  </a:lnTo>
                  <a:lnTo>
                    <a:pt x="42" y="31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"/>
            <p:cNvSpPr/>
            <p:nvPr/>
          </p:nvSpPr>
          <p:spPr>
            <a:xfrm>
              <a:off x="2529720" y="6156000"/>
              <a:ext cx="48600" cy="17316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35" y="4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24" y="9"/>
                  </a:lnTo>
                  <a:lnTo>
                    <a:pt x="29" y="13"/>
                  </a:lnTo>
                  <a:lnTo>
                    <a:pt x="20" y="30"/>
                  </a:lnTo>
                  <a:lnTo>
                    <a:pt x="24" y="39"/>
                  </a:lnTo>
                  <a:lnTo>
                    <a:pt x="28" y="48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1" y="74"/>
                  </a:lnTo>
                  <a:lnTo>
                    <a:pt x="19" y="75"/>
                  </a:lnTo>
                  <a:lnTo>
                    <a:pt x="16" y="79"/>
                  </a:lnTo>
                  <a:lnTo>
                    <a:pt x="13" y="82"/>
                  </a:lnTo>
                  <a:lnTo>
                    <a:pt x="10" y="84"/>
                  </a:lnTo>
                  <a:lnTo>
                    <a:pt x="8" y="92"/>
                  </a:lnTo>
                  <a:lnTo>
                    <a:pt x="13" y="95"/>
                  </a:lnTo>
                  <a:lnTo>
                    <a:pt x="13" y="103"/>
                  </a:lnTo>
                  <a:lnTo>
                    <a:pt x="6" y="113"/>
                  </a:lnTo>
                  <a:lnTo>
                    <a:pt x="0" y="125"/>
                  </a:lnTo>
                  <a:lnTo>
                    <a:pt x="11" y="132"/>
                  </a:lnTo>
                  <a:lnTo>
                    <a:pt x="12" y="138"/>
                  </a:lnTo>
                  <a:lnTo>
                    <a:pt x="20" y="145"/>
                  </a:lnTo>
                  <a:lnTo>
                    <a:pt x="23" y="140"/>
                  </a:lnTo>
                  <a:lnTo>
                    <a:pt x="28" y="142"/>
                  </a:lnTo>
                  <a:lnTo>
                    <a:pt x="30" y="134"/>
                  </a:lnTo>
                  <a:lnTo>
                    <a:pt x="38" y="99"/>
                  </a:lnTo>
                  <a:lnTo>
                    <a:pt x="41" y="65"/>
                  </a:lnTo>
                  <a:lnTo>
                    <a:pt x="39" y="30"/>
                  </a:lnTo>
                  <a:lnTo>
                    <a:pt x="35" y="3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"/>
            <p:cNvSpPr/>
            <p:nvPr/>
          </p:nvSpPr>
          <p:spPr>
            <a:xfrm>
              <a:off x="2523960" y="5785920"/>
              <a:ext cx="558000" cy="712440"/>
            </a:xfrm>
            <a:custGeom>
              <a:avLst/>
              <a:gdLst/>
              <a:ahLst/>
              <a:rect l="l" t="t" r="r" b="b"/>
              <a:pathLst>
                <a:path w="468" h="597">
                  <a:moveTo>
                    <a:pt x="453" y="267"/>
                  </a:moveTo>
                  <a:lnTo>
                    <a:pt x="441" y="332"/>
                  </a:lnTo>
                  <a:lnTo>
                    <a:pt x="431" y="366"/>
                  </a:lnTo>
                  <a:lnTo>
                    <a:pt x="420" y="397"/>
                  </a:lnTo>
                  <a:lnTo>
                    <a:pt x="403" y="428"/>
                  </a:lnTo>
                  <a:lnTo>
                    <a:pt x="394" y="442"/>
                  </a:lnTo>
                  <a:lnTo>
                    <a:pt x="379" y="463"/>
                  </a:lnTo>
                  <a:lnTo>
                    <a:pt x="358" y="497"/>
                  </a:lnTo>
                  <a:lnTo>
                    <a:pt x="343" y="516"/>
                  </a:lnTo>
                  <a:lnTo>
                    <a:pt x="326" y="549"/>
                  </a:lnTo>
                  <a:lnTo>
                    <a:pt x="313" y="568"/>
                  </a:lnTo>
                  <a:lnTo>
                    <a:pt x="298" y="584"/>
                  </a:lnTo>
                  <a:lnTo>
                    <a:pt x="282" y="597"/>
                  </a:lnTo>
                  <a:lnTo>
                    <a:pt x="0" y="597"/>
                  </a:lnTo>
                  <a:lnTo>
                    <a:pt x="5" y="584"/>
                  </a:lnTo>
                  <a:lnTo>
                    <a:pt x="12" y="575"/>
                  </a:lnTo>
                  <a:lnTo>
                    <a:pt x="24" y="563"/>
                  </a:lnTo>
                  <a:lnTo>
                    <a:pt x="37" y="557"/>
                  </a:lnTo>
                  <a:lnTo>
                    <a:pt x="46" y="523"/>
                  </a:lnTo>
                  <a:lnTo>
                    <a:pt x="74" y="462"/>
                  </a:lnTo>
                  <a:lnTo>
                    <a:pt x="72" y="457"/>
                  </a:lnTo>
                  <a:lnTo>
                    <a:pt x="78" y="435"/>
                  </a:lnTo>
                  <a:lnTo>
                    <a:pt x="86" y="407"/>
                  </a:lnTo>
                  <a:lnTo>
                    <a:pt x="81" y="389"/>
                  </a:lnTo>
                  <a:lnTo>
                    <a:pt x="78" y="363"/>
                  </a:lnTo>
                  <a:lnTo>
                    <a:pt x="77" y="344"/>
                  </a:lnTo>
                  <a:lnTo>
                    <a:pt x="78" y="344"/>
                  </a:lnTo>
                  <a:lnTo>
                    <a:pt x="90" y="306"/>
                  </a:lnTo>
                  <a:lnTo>
                    <a:pt x="99" y="289"/>
                  </a:lnTo>
                  <a:lnTo>
                    <a:pt x="116" y="262"/>
                  </a:lnTo>
                  <a:lnTo>
                    <a:pt x="138" y="235"/>
                  </a:lnTo>
                  <a:lnTo>
                    <a:pt x="151" y="221"/>
                  </a:lnTo>
                  <a:lnTo>
                    <a:pt x="182" y="195"/>
                  </a:lnTo>
                  <a:lnTo>
                    <a:pt x="200" y="184"/>
                  </a:lnTo>
                  <a:lnTo>
                    <a:pt x="217" y="171"/>
                  </a:lnTo>
                  <a:lnTo>
                    <a:pt x="215" y="162"/>
                  </a:lnTo>
                  <a:lnTo>
                    <a:pt x="222" y="157"/>
                  </a:lnTo>
                  <a:lnTo>
                    <a:pt x="214" y="136"/>
                  </a:lnTo>
                  <a:lnTo>
                    <a:pt x="236" y="138"/>
                  </a:lnTo>
                  <a:lnTo>
                    <a:pt x="247" y="123"/>
                  </a:lnTo>
                  <a:lnTo>
                    <a:pt x="248" y="125"/>
                  </a:lnTo>
                  <a:lnTo>
                    <a:pt x="258" y="108"/>
                  </a:lnTo>
                  <a:lnTo>
                    <a:pt x="274" y="88"/>
                  </a:lnTo>
                  <a:lnTo>
                    <a:pt x="288" y="73"/>
                  </a:lnTo>
                  <a:lnTo>
                    <a:pt x="313" y="52"/>
                  </a:lnTo>
                  <a:lnTo>
                    <a:pt x="349" y="29"/>
                  </a:lnTo>
                  <a:lnTo>
                    <a:pt x="387" y="9"/>
                  </a:lnTo>
                  <a:lnTo>
                    <a:pt x="407" y="0"/>
                  </a:lnTo>
                  <a:lnTo>
                    <a:pt x="409" y="0"/>
                  </a:lnTo>
                  <a:lnTo>
                    <a:pt x="433" y="30"/>
                  </a:lnTo>
                  <a:lnTo>
                    <a:pt x="445" y="56"/>
                  </a:lnTo>
                  <a:lnTo>
                    <a:pt x="450" y="73"/>
                  </a:lnTo>
                  <a:lnTo>
                    <a:pt x="453" y="91"/>
                  </a:lnTo>
                  <a:lnTo>
                    <a:pt x="431" y="79"/>
                  </a:lnTo>
                  <a:lnTo>
                    <a:pt x="420" y="75"/>
                  </a:lnTo>
                  <a:lnTo>
                    <a:pt x="401" y="73"/>
                  </a:lnTo>
                  <a:lnTo>
                    <a:pt x="388" y="71"/>
                  </a:lnTo>
                  <a:lnTo>
                    <a:pt x="375" y="74"/>
                  </a:lnTo>
                  <a:lnTo>
                    <a:pt x="407" y="79"/>
                  </a:lnTo>
                  <a:lnTo>
                    <a:pt x="431" y="91"/>
                  </a:lnTo>
                  <a:lnTo>
                    <a:pt x="444" y="100"/>
                  </a:lnTo>
                  <a:lnTo>
                    <a:pt x="453" y="112"/>
                  </a:lnTo>
                  <a:lnTo>
                    <a:pt x="453" y="117"/>
                  </a:lnTo>
                  <a:lnTo>
                    <a:pt x="462" y="126"/>
                  </a:lnTo>
                  <a:lnTo>
                    <a:pt x="466" y="138"/>
                  </a:lnTo>
                  <a:lnTo>
                    <a:pt x="468" y="153"/>
                  </a:lnTo>
                  <a:lnTo>
                    <a:pt x="468" y="171"/>
                  </a:lnTo>
                  <a:lnTo>
                    <a:pt x="459" y="211"/>
                  </a:lnTo>
                  <a:lnTo>
                    <a:pt x="457" y="226"/>
                  </a:lnTo>
                  <a:lnTo>
                    <a:pt x="454" y="245"/>
                  </a:lnTo>
                  <a:lnTo>
                    <a:pt x="453" y="267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5"/>
            <p:cNvSpPr/>
            <p:nvPr/>
          </p:nvSpPr>
          <p:spPr>
            <a:xfrm>
              <a:off x="2860200" y="6055920"/>
              <a:ext cx="213480" cy="442440"/>
            </a:xfrm>
            <a:custGeom>
              <a:avLst/>
              <a:gdLst/>
              <a:ahLst/>
              <a:rect l="l" t="t" r="r" b="b"/>
              <a:pathLst>
                <a:path w="179" h="371">
                  <a:moveTo>
                    <a:pt x="172" y="19"/>
                  </a:moveTo>
                  <a:lnTo>
                    <a:pt x="171" y="41"/>
                  </a:lnTo>
                  <a:lnTo>
                    <a:pt x="159" y="106"/>
                  </a:lnTo>
                  <a:lnTo>
                    <a:pt x="149" y="140"/>
                  </a:lnTo>
                  <a:lnTo>
                    <a:pt x="138" y="171"/>
                  </a:lnTo>
                  <a:lnTo>
                    <a:pt x="121" y="202"/>
                  </a:lnTo>
                  <a:lnTo>
                    <a:pt x="112" y="216"/>
                  </a:lnTo>
                  <a:lnTo>
                    <a:pt x="97" y="237"/>
                  </a:lnTo>
                  <a:lnTo>
                    <a:pt x="76" y="271"/>
                  </a:lnTo>
                  <a:lnTo>
                    <a:pt x="61" y="290"/>
                  </a:lnTo>
                  <a:lnTo>
                    <a:pt x="44" y="323"/>
                  </a:lnTo>
                  <a:lnTo>
                    <a:pt x="31" y="342"/>
                  </a:lnTo>
                  <a:lnTo>
                    <a:pt x="16" y="358"/>
                  </a:lnTo>
                  <a:lnTo>
                    <a:pt x="0" y="371"/>
                  </a:lnTo>
                  <a:lnTo>
                    <a:pt x="131" y="371"/>
                  </a:lnTo>
                  <a:lnTo>
                    <a:pt x="134" y="318"/>
                  </a:lnTo>
                  <a:lnTo>
                    <a:pt x="149" y="250"/>
                  </a:lnTo>
                  <a:lnTo>
                    <a:pt x="155" y="214"/>
                  </a:lnTo>
                  <a:lnTo>
                    <a:pt x="160" y="187"/>
                  </a:lnTo>
                  <a:lnTo>
                    <a:pt x="166" y="172"/>
                  </a:lnTo>
                  <a:lnTo>
                    <a:pt x="169" y="153"/>
                  </a:lnTo>
                  <a:lnTo>
                    <a:pt x="179" y="75"/>
                  </a:lnTo>
                  <a:lnTo>
                    <a:pt x="175" y="0"/>
                  </a:lnTo>
                  <a:lnTo>
                    <a:pt x="172" y="19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6"/>
            <p:cNvSpPr/>
            <p:nvPr/>
          </p:nvSpPr>
          <p:spPr>
            <a:xfrm>
              <a:off x="2286360" y="6109560"/>
              <a:ext cx="277920" cy="131400"/>
            </a:xfrm>
            <a:custGeom>
              <a:avLst/>
              <a:gdLst/>
              <a:ahLst/>
              <a:rect l="l" t="t" r="r" b="b"/>
              <a:pathLst>
                <a:path w="233" h="110">
                  <a:moveTo>
                    <a:pt x="67" y="30"/>
                  </a:moveTo>
                  <a:lnTo>
                    <a:pt x="49" y="37"/>
                  </a:lnTo>
                  <a:lnTo>
                    <a:pt x="31" y="46"/>
                  </a:lnTo>
                  <a:lnTo>
                    <a:pt x="18" y="48"/>
                  </a:lnTo>
                  <a:lnTo>
                    <a:pt x="7" y="46"/>
                  </a:lnTo>
                  <a:lnTo>
                    <a:pt x="0" y="37"/>
                  </a:lnTo>
                  <a:lnTo>
                    <a:pt x="75" y="3"/>
                  </a:lnTo>
                  <a:lnTo>
                    <a:pt x="98" y="0"/>
                  </a:lnTo>
                  <a:lnTo>
                    <a:pt x="134" y="4"/>
                  </a:lnTo>
                  <a:lnTo>
                    <a:pt x="153" y="4"/>
                  </a:lnTo>
                  <a:lnTo>
                    <a:pt x="166" y="9"/>
                  </a:lnTo>
                  <a:lnTo>
                    <a:pt x="184" y="16"/>
                  </a:lnTo>
                  <a:lnTo>
                    <a:pt x="212" y="30"/>
                  </a:lnTo>
                  <a:lnTo>
                    <a:pt x="228" y="39"/>
                  </a:lnTo>
                  <a:lnTo>
                    <a:pt x="215" y="39"/>
                  </a:lnTo>
                  <a:lnTo>
                    <a:pt x="228" y="48"/>
                  </a:lnTo>
                  <a:lnTo>
                    <a:pt x="233" y="52"/>
                  </a:lnTo>
                  <a:lnTo>
                    <a:pt x="224" y="69"/>
                  </a:lnTo>
                  <a:lnTo>
                    <a:pt x="228" y="78"/>
                  </a:lnTo>
                  <a:lnTo>
                    <a:pt x="232" y="87"/>
                  </a:lnTo>
                  <a:lnTo>
                    <a:pt x="229" y="104"/>
                  </a:lnTo>
                  <a:lnTo>
                    <a:pt x="229" y="103"/>
                  </a:lnTo>
                  <a:lnTo>
                    <a:pt x="194" y="97"/>
                  </a:lnTo>
                  <a:lnTo>
                    <a:pt x="173" y="104"/>
                  </a:lnTo>
                  <a:lnTo>
                    <a:pt x="151" y="109"/>
                  </a:lnTo>
                  <a:lnTo>
                    <a:pt x="129" y="105"/>
                  </a:lnTo>
                  <a:lnTo>
                    <a:pt x="110" y="105"/>
                  </a:lnTo>
                  <a:lnTo>
                    <a:pt x="89" y="110"/>
                  </a:lnTo>
                  <a:lnTo>
                    <a:pt x="89" y="97"/>
                  </a:lnTo>
                  <a:lnTo>
                    <a:pt x="96" y="91"/>
                  </a:lnTo>
                  <a:lnTo>
                    <a:pt x="105" y="85"/>
                  </a:lnTo>
                  <a:lnTo>
                    <a:pt x="119" y="82"/>
                  </a:lnTo>
                  <a:lnTo>
                    <a:pt x="134" y="81"/>
                  </a:lnTo>
                  <a:lnTo>
                    <a:pt x="146" y="78"/>
                  </a:lnTo>
                  <a:lnTo>
                    <a:pt x="162" y="69"/>
                  </a:lnTo>
                  <a:lnTo>
                    <a:pt x="150" y="55"/>
                  </a:lnTo>
                  <a:lnTo>
                    <a:pt x="131" y="49"/>
                  </a:lnTo>
                  <a:lnTo>
                    <a:pt x="115" y="43"/>
                  </a:lnTo>
                  <a:lnTo>
                    <a:pt x="97" y="46"/>
                  </a:lnTo>
                  <a:lnTo>
                    <a:pt x="79" y="56"/>
                  </a:lnTo>
                  <a:lnTo>
                    <a:pt x="66" y="61"/>
                  </a:lnTo>
                  <a:lnTo>
                    <a:pt x="55" y="68"/>
                  </a:lnTo>
                  <a:lnTo>
                    <a:pt x="48" y="82"/>
                  </a:lnTo>
                  <a:lnTo>
                    <a:pt x="32" y="88"/>
                  </a:lnTo>
                  <a:lnTo>
                    <a:pt x="19" y="87"/>
                  </a:lnTo>
                  <a:lnTo>
                    <a:pt x="40" y="52"/>
                  </a:lnTo>
                  <a:lnTo>
                    <a:pt x="67" y="31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2057400" y="6315840"/>
              <a:ext cx="276840" cy="119160"/>
            </a:xfrm>
            <a:custGeom>
              <a:avLst/>
              <a:gdLst/>
              <a:ahLst/>
              <a:rect l="l" t="t" r="r" b="b"/>
              <a:pathLst>
                <a:path w="232" h="100">
                  <a:moveTo>
                    <a:pt x="0" y="61"/>
                  </a:moveTo>
                  <a:lnTo>
                    <a:pt x="0" y="78"/>
                  </a:lnTo>
                  <a:lnTo>
                    <a:pt x="1" y="98"/>
                  </a:lnTo>
                  <a:lnTo>
                    <a:pt x="229" y="100"/>
                  </a:lnTo>
                  <a:lnTo>
                    <a:pt x="232" y="91"/>
                  </a:lnTo>
                  <a:lnTo>
                    <a:pt x="232" y="84"/>
                  </a:lnTo>
                  <a:lnTo>
                    <a:pt x="225" y="78"/>
                  </a:lnTo>
                  <a:lnTo>
                    <a:pt x="218" y="72"/>
                  </a:lnTo>
                  <a:lnTo>
                    <a:pt x="92" y="26"/>
                  </a:lnTo>
                  <a:lnTo>
                    <a:pt x="23" y="0"/>
                  </a:lnTo>
                  <a:lnTo>
                    <a:pt x="14" y="10"/>
                  </a:lnTo>
                  <a:lnTo>
                    <a:pt x="8" y="23"/>
                  </a:lnTo>
                  <a:lnTo>
                    <a:pt x="1" y="4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2084760" y="6224040"/>
              <a:ext cx="460080" cy="210960"/>
            </a:xfrm>
            <a:custGeom>
              <a:avLst/>
              <a:gdLst/>
              <a:ahLst/>
              <a:rect l="l" t="t" r="r" b="b"/>
              <a:pathLst>
                <a:path w="386" h="177">
                  <a:moveTo>
                    <a:pt x="208" y="177"/>
                  </a:moveTo>
                  <a:lnTo>
                    <a:pt x="385" y="81"/>
                  </a:lnTo>
                  <a:lnTo>
                    <a:pt x="384" y="75"/>
                  </a:lnTo>
                  <a:lnTo>
                    <a:pt x="373" y="68"/>
                  </a:lnTo>
                  <a:lnTo>
                    <a:pt x="379" y="56"/>
                  </a:lnTo>
                  <a:lnTo>
                    <a:pt x="386" y="46"/>
                  </a:lnTo>
                  <a:lnTo>
                    <a:pt x="205" y="0"/>
                  </a:lnTo>
                  <a:lnTo>
                    <a:pt x="110" y="34"/>
                  </a:lnTo>
                  <a:lnTo>
                    <a:pt x="0" y="77"/>
                  </a:lnTo>
                  <a:lnTo>
                    <a:pt x="69" y="103"/>
                  </a:lnTo>
                  <a:lnTo>
                    <a:pt x="195" y="149"/>
                  </a:lnTo>
                  <a:lnTo>
                    <a:pt x="202" y="155"/>
                  </a:lnTo>
                  <a:lnTo>
                    <a:pt x="209" y="161"/>
                  </a:lnTo>
                  <a:lnTo>
                    <a:pt x="209" y="168"/>
                  </a:lnTo>
                  <a:lnTo>
                    <a:pt x="206" y="177"/>
                  </a:lnTo>
                  <a:lnTo>
                    <a:pt x="208" y="177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9"/>
            <p:cNvSpPr/>
            <p:nvPr/>
          </p:nvSpPr>
          <p:spPr>
            <a:xfrm>
              <a:off x="2164680" y="6237360"/>
              <a:ext cx="284760" cy="110880"/>
            </a:xfrm>
            <a:custGeom>
              <a:avLst/>
              <a:gdLst/>
              <a:ahLst/>
              <a:rect l="l" t="t" r="r" b="b"/>
              <a:pathLst>
                <a:path w="239" h="93">
                  <a:moveTo>
                    <a:pt x="161" y="0"/>
                  </a:moveTo>
                  <a:lnTo>
                    <a:pt x="10" y="58"/>
                  </a:lnTo>
                  <a:lnTo>
                    <a:pt x="0" y="72"/>
                  </a:lnTo>
                  <a:lnTo>
                    <a:pt x="25" y="81"/>
                  </a:lnTo>
                  <a:lnTo>
                    <a:pt x="39" y="76"/>
                  </a:lnTo>
                  <a:lnTo>
                    <a:pt x="65" y="87"/>
                  </a:lnTo>
                  <a:lnTo>
                    <a:pt x="78" y="81"/>
                  </a:lnTo>
                  <a:lnTo>
                    <a:pt x="102" y="90"/>
                  </a:lnTo>
                  <a:lnTo>
                    <a:pt x="118" y="85"/>
                  </a:lnTo>
                  <a:lnTo>
                    <a:pt x="141" y="93"/>
                  </a:lnTo>
                  <a:lnTo>
                    <a:pt x="207" y="63"/>
                  </a:lnTo>
                  <a:lnTo>
                    <a:pt x="239" y="49"/>
                  </a:lnTo>
                  <a:lnTo>
                    <a:pt x="235" y="36"/>
                  </a:lnTo>
                  <a:lnTo>
                    <a:pt x="222" y="31"/>
                  </a:lnTo>
                  <a:lnTo>
                    <a:pt x="220" y="23"/>
                  </a:lnTo>
                  <a:lnTo>
                    <a:pt x="207" y="19"/>
                  </a:lnTo>
                  <a:lnTo>
                    <a:pt x="201" y="1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0"/>
            <p:cNvSpPr/>
            <p:nvPr/>
          </p:nvSpPr>
          <p:spPr>
            <a:xfrm>
              <a:off x="2047680" y="6227640"/>
              <a:ext cx="168120" cy="162360"/>
            </a:xfrm>
            <a:custGeom>
              <a:avLst/>
              <a:gdLst/>
              <a:ahLst/>
              <a:rect l="l" t="t" r="r" b="b"/>
              <a:pathLst>
                <a:path w="141" h="136">
                  <a:moveTo>
                    <a:pt x="31" y="74"/>
                  </a:moveTo>
                  <a:lnTo>
                    <a:pt x="141" y="31"/>
                  </a:lnTo>
                  <a:lnTo>
                    <a:pt x="141" y="0"/>
                  </a:lnTo>
                  <a:lnTo>
                    <a:pt x="0" y="53"/>
                  </a:lnTo>
                  <a:lnTo>
                    <a:pt x="0" y="136"/>
                  </a:lnTo>
                  <a:lnTo>
                    <a:pt x="8" y="135"/>
                  </a:lnTo>
                  <a:lnTo>
                    <a:pt x="9" y="119"/>
                  </a:lnTo>
                  <a:lnTo>
                    <a:pt x="16" y="97"/>
                  </a:lnTo>
                  <a:lnTo>
                    <a:pt x="22" y="8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1"/>
            <p:cNvSpPr/>
            <p:nvPr/>
          </p:nvSpPr>
          <p:spPr>
            <a:xfrm>
              <a:off x="1866600" y="6291000"/>
              <a:ext cx="181080" cy="99000"/>
            </a:xfrm>
            <a:custGeom>
              <a:avLst/>
              <a:gdLst/>
              <a:ahLst/>
              <a:rect l="l" t="t" r="r" b="b"/>
              <a:pathLst>
                <a:path w="152" h="83">
                  <a:moveTo>
                    <a:pt x="152" y="0"/>
                  </a:moveTo>
                  <a:lnTo>
                    <a:pt x="152" y="83"/>
                  </a:lnTo>
                  <a:lnTo>
                    <a:pt x="134" y="83"/>
                  </a:lnTo>
                  <a:lnTo>
                    <a:pt x="129" y="73"/>
                  </a:lnTo>
                  <a:lnTo>
                    <a:pt x="120" y="66"/>
                  </a:lnTo>
                  <a:lnTo>
                    <a:pt x="108" y="62"/>
                  </a:lnTo>
                  <a:lnTo>
                    <a:pt x="95" y="64"/>
                  </a:lnTo>
                  <a:lnTo>
                    <a:pt x="83" y="70"/>
                  </a:lnTo>
                  <a:lnTo>
                    <a:pt x="72" y="82"/>
                  </a:lnTo>
                  <a:lnTo>
                    <a:pt x="0" y="79"/>
                  </a:lnTo>
                  <a:lnTo>
                    <a:pt x="0" y="4"/>
                  </a:lnTo>
                  <a:lnTo>
                    <a:pt x="2" y="5"/>
                  </a:lnTo>
                  <a:lnTo>
                    <a:pt x="136" y="5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2"/>
            <p:cNvSpPr/>
            <p:nvPr/>
          </p:nvSpPr>
          <p:spPr>
            <a:xfrm>
              <a:off x="1762560" y="6297120"/>
              <a:ext cx="74880" cy="8820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34" y="74"/>
                  </a:moveTo>
                  <a:lnTo>
                    <a:pt x="0" y="74"/>
                  </a:lnTo>
                  <a:lnTo>
                    <a:pt x="3" y="26"/>
                  </a:lnTo>
                  <a:lnTo>
                    <a:pt x="19" y="22"/>
                  </a:lnTo>
                  <a:lnTo>
                    <a:pt x="21" y="0"/>
                  </a:lnTo>
                  <a:lnTo>
                    <a:pt x="63" y="0"/>
                  </a:lnTo>
                  <a:lnTo>
                    <a:pt x="63" y="74"/>
                  </a:lnTo>
                  <a:lnTo>
                    <a:pt x="34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3"/>
            <p:cNvSpPr/>
            <p:nvPr/>
          </p:nvSpPr>
          <p:spPr>
            <a:xfrm>
              <a:off x="1820160" y="6398640"/>
              <a:ext cx="18720" cy="118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5"/>
                  </a:moveTo>
                  <a:lnTo>
                    <a:pt x="6" y="9"/>
                  </a:lnTo>
                  <a:lnTo>
                    <a:pt x="11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0" y="5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1866600" y="6398640"/>
              <a:ext cx="23760" cy="11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8" y="9"/>
                  </a:lnTo>
                  <a:lnTo>
                    <a:pt x="15" y="7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1896480" y="6364800"/>
              <a:ext cx="132480" cy="13608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69" y="112"/>
                  </a:moveTo>
                  <a:lnTo>
                    <a:pt x="72" y="108"/>
                  </a:lnTo>
                  <a:lnTo>
                    <a:pt x="72" y="103"/>
                  </a:lnTo>
                  <a:lnTo>
                    <a:pt x="71" y="96"/>
                  </a:lnTo>
                  <a:lnTo>
                    <a:pt x="71" y="91"/>
                  </a:lnTo>
                  <a:lnTo>
                    <a:pt x="72" y="86"/>
                  </a:lnTo>
                  <a:lnTo>
                    <a:pt x="76" y="79"/>
                  </a:lnTo>
                  <a:lnTo>
                    <a:pt x="87" y="73"/>
                  </a:lnTo>
                  <a:lnTo>
                    <a:pt x="96" y="64"/>
                  </a:lnTo>
                  <a:lnTo>
                    <a:pt x="105" y="56"/>
                  </a:lnTo>
                  <a:lnTo>
                    <a:pt x="109" y="46"/>
                  </a:lnTo>
                  <a:lnTo>
                    <a:pt x="111" y="33"/>
                  </a:lnTo>
                  <a:lnTo>
                    <a:pt x="109" y="21"/>
                  </a:lnTo>
                  <a:lnTo>
                    <a:pt x="104" y="11"/>
                  </a:lnTo>
                  <a:lnTo>
                    <a:pt x="95" y="4"/>
                  </a:lnTo>
                  <a:lnTo>
                    <a:pt x="83" y="0"/>
                  </a:lnTo>
                  <a:lnTo>
                    <a:pt x="70" y="2"/>
                  </a:lnTo>
                  <a:lnTo>
                    <a:pt x="58" y="8"/>
                  </a:lnTo>
                  <a:lnTo>
                    <a:pt x="47" y="20"/>
                  </a:lnTo>
                  <a:lnTo>
                    <a:pt x="43" y="30"/>
                  </a:lnTo>
                  <a:lnTo>
                    <a:pt x="39" y="43"/>
                  </a:lnTo>
                  <a:lnTo>
                    <a:pt x="37" y="53"/>
                  </a:lnTo>
                  <a:lnTo>
                    <a:pt x="14" y="50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9"/>
                  </a:lnTo>
                  <a:lnTo>
                    <a:pt x="17" y="77"/>
                  </a:lnTo>
                  <a:lnTo>
                    <a:pt x="25" y="83"/>
                  </a:lnTo>
                  <a:lnTo>
                    <a:pt x="43" y="79"/>
                  </a:lnTo>
                  <a:lnTo>
                    <a:pt x="57" y="74"/>
                  </a:lnTo>
                  <a:lnTo>
                    <a:pt x="63" y="70"/>
                  </a:lnTo>
                  <a:lnTo>
                    <a:pt x="69" y="65"/>
                  </a:lnTo>
                  <a:lnTo>
                    <a:pt x="66" y="63"/>
                  </a:lnTo>
                  <a:lnTo>
                    <a:pt x="62" y="60"/>
                  </a:lnTo>
                  <a:lnTo>
                    <a:pt x="58" y="57"/>
                  </a:lnTo>
                  <a:lnTo>
                    <a:pt x="57" y="44"/>
                  </a:lnTo>
                  <a:lnTo>
                    <a:pt x="60" y="34"/>
                  </a:lnTo>
                  <a:lnTo>
                    <a:pt x="65" y="26"/>
                  </a:lnTo>
                  <a:lnTo>
                    <a:pt x="71" y="21"/>
                  </a:lnTo>
                  <a:lnTo>
                    <a:pt x="80" y="20"/>
                  </a:lnTo>
                  <a:lnTo>
                    <a:pt x="89" y="22"/>
                  </a:lnTo>
                  <a:lnTo>
                    <a:pt x="93" y="29"/>
                  </a:lnTo>
                  <a:lnTo>
                    <a:pt x="95" y="38"/>
                  </a:lnTo>
                  <a:lnTo>
                    <a:pt x="89" y="47"/>
                  </a:lnTo>
                  <a:lnTo>
                    <a:pt x="79" y="59"/>
                  </a:lnTo>
                  <a:lnTo>
                    <a:pt x="69" y="65"/>
                  </a:lnTo>
                  <a:lnTo>
                    <a:pt x="69" y="77"/>
                  </a:lnTo>
                  <a:lnTo>
                    <a:pt x="66" y="85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6" y="107"/>
                  </a:lnTo>
                  <a:lnTo>
                    <a:pt x="57" y="109"/>
                  </a:lnTo>
                  <a:lnTo>
                    <a:pt x="60" y="112"/>
                  </a:lnTo>
                  <a:lnTo>
                    <a:pt x="63" y="114"/>
                  </a:lnTo>
                  <a:lnTo>
                    <a:pt x="69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1736640" y="6442560"/>
              <a:ext cx="241920" cy="56880"/>
            </a:xfrm>
            <a:custGeom>
              <a:avLst/>
              <a:gdLst/>
              <a:ahLst/>
              <a:rect l="l" t="t" r="r" b="b"/>
              <a:pathLst>
                <a:path w="203" h="48">
                  <a:moveTo>
                    <a:pt x="203" y="0"/>
                  </a:moveTo>
                  <a:lnTo>
                    <a:pt x="197" y="5"/>
                  </a:lnTo>
                  <a:lnTo>
                    <a:pt x="191" y="9"/>
                  </a:lnTo>
                  <a:lnTo>
                    <a:pt x="177" y="14"/>
                  </a:lnTo>
                  <a:lnTo>
                    <a:pt x="159" y="18"/>
                  </a:lnTo>
                  <a:lnTo>
                    <a:pt x="118" y="21"/>
                  </a:lnTo>
                  <a:lnTo>
                    <a:pt x="51" y="21"/>
                  </a:lnTo>
                  <a:lnTo>
                    <a:pt x="43" y="18"/>
                  </a:lnTo>
                  <a:lnTo>
                    <a:pt x="33" y="18"/>
                  </a:lnTo>
                  <a:lnTo>
                    <a:pt x="21" y="16"/>
                  </a:lnTo>
                  <a:lnTo>
                    <a:pt x="12" y="12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14"/>
                  </a:lnTo>
                  <a:lnTo>
                    <a:pt x="3" y="21"/>
                  </a:lnTo>
                  <a:lnTo>
                    <a:pt x="9" y="30"/>
                  </a:lnTo>
                  <a:lnTo>
                    <a:pt x="20" y="36"/>
                  </a:lnTo>
                  <a:lnTo>
                    <a:pt x="30" y="40"/>
                  </a:lnTo>
                  <a:lnTo>
                    <a:pt x="39" y="43"/>
                  </a:lnTo>
                  <a:lnTo>
                    <a:pt x="47" y="44"/>
                  </a:lnTo>
                  <a:lnTo>
                    <a:pt x="69" y="47"/>
                  </a:lnTo>
                  <a:lnTo>
                    <a:pt x="100" y="48"/>
                  </a:lnTo>
                  <a:lnTo>
                    <a:pt x="131" y="47"/>
                  </a:lnTo>
                  <a:lnTo>
                    <a:pt x="159" y="43"/>
                  </a:lnTo>
                  <a:lnTo>
                    <a:pt x="171" y="40"/>
                  </a:lnTo>
                  <a:lnTo>
                    <a:pt x="181" y="36"/>
                  </a:lnTo>
                  <a:lnTo>
                    <a:pt x="188" y="31"/>
                  </a:lnTo>
                  <a:lnTo>
                    <a:pt x="200" y="20"/>
                  </a:lnTo>
                  <a:lnTo>
                    <a:pt x="203" y="1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7"/>
            <p:cNvSpPr/>
            <p:nvPr/>
          </p:nvSpPr>
          <p:spPr>
            <a:xfrm>
              <a:off x="1775880" y="6493680"/>
              <a:ext cx="158400" cy="35640"/>
            </a:xfrm>
            <a:custGeom>
              <a:avLst/>
              <a:gdLst/>
              <a:ahLst/>
              <a:rect l="l" t="t" r="r" b="b"/>
              <a:pathLst>
                <a:path w="133" h="30">
                  <a:moveTo>
                    <a:pt x="101" y="27"/>
                  </a:moveTo>
                  <a:lnTo>
                    <a:pt x="72" y="30"/>
                  </a:lnTo>
                  <a:lnTo>
                    <a:pt x="43" y="27"/>
                  </a:lnTo>
                  <a:lnTo>
                    <a:pt x="27" y="26"/>
                  </a:lnTo>
                  <a:lnTo>
                    <a:pt x="14" y="23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4"/>
                  </a:lnTo>
                  <a:lnTo>
                    <a:pt x="14" y="1"/>
                  </a:lnTo>
                  <a:lnTo>
                    <a:pt x="36" y="4"/>
                  </a:lnTo>
                  <a:lnTo>
                    <a:pt x="67" y="5"/>
                  </a:lnTo>
                  <a:lnTo>
                    <a:pt x="98" y="4"/>
                  </a:lnTo>
                  <a:lnTo>
                    <a:pt x="126" y="0"/>
                  </a:lnTo>
                  <a:lnTo>
                    <a:pt x="131" y="4"/>
                  </a:lnTo>
                  <a:lnTo>
                    <a:pt x="133" y="9"/>
                  </a:lnTo>
                  <a:lnTo>
                    <a:pt x="132" y="14"/>
                  </a:lnTo>
                  <a:lnTo>
                    <a:pt x="127" y="19"/>
                  </a:lnTo>
                  <a:lnTo>
                    <a:pt x="115" y="25"/>
                  </a:lnTo>
                  <a:lnTo>
                    <a:pt x="101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8"/>
            <p:cNvSpPr/>
            <p:nvPr/>
          </p:nvSpPr>
          <p:spPr>
            <a:xfrm>
              <a:off x="1787760" y="6401880"/>
              <a:ext cx="137880" cy="65160"/>
            </a:xfrm>
            <a:custGeom>
              <a:avLst/>
              <a:gdLst/>
              <a:ahLst/>
              <a:rect l="l" t="t" r="r" b="b"/>
              <a:pathLst>
                <a:path w="116" h="55">
                  <a:moveTo>
                    <a:pt x="88" y="9"/>
                  </a:moveTo>
                  <a:lnTo>
                    <a:pt x="86" y="0"/>
                  </a:lnTo>
                  <a:lnTo>
                    <a:pt x="81" y="4"/>
                  </a:lnTo>
                  <a:lnTo>
                    <a:pt x="74" y="6"/>
                  </a:lnTo>
                  <a:lnTo>
                    <a:pt x="66" y="7"/>
                  </a:lnTo>
                  <a:lnTo>
                    <a:pt x="43" y="7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6" y="13"/>
                  </a:lnTo>
                  <a:lnTo>
                    <a:pt x="23" y="20"/>
                  </a:lnTo>
                  <a:lnTo>
                    <a:pt x="20" y="32"/>
                  </a:lnTo>
                  <a:lnTo>
                    <a:pt x="11" y="43"/>
                  </a:lnTo>
                  <a:lnTo>
                    <a:pt x="7" y="48"/>
                  </a:lnTo>
                  <a:lnTo>
                    <a:pt x="0" y="52"/>
                  </a:lnTo>
                  <a:lnTo>
                    <a:pt x="8" y="55"/>
                  </a:lnTo>
                  <a:lnTo>
                    <a:pt x="75" y="55"/>
                  </a:lnTo>
                  <a:lnTo>
                    <a:pt x="116" y="52"/>
                  </a:lnTo>
                  <a:lnTo>
                    <a:pt x="108" y="46"/>
                  </a:lnTo>
                  <a:lnTo>
                    <a:pt x="99" y="38"/>
                  </a:lnTo>
                  <a:lnTo>
                    <a:pt x="93" y="25"/>
                  </a:lnTo>
                  <a:lnTo>
                    <a:pt x="91" y="19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9"/>
            <p:cNvSpPr/>
            <p:nvPr/>
          </p:nvSpPr>
          <p:spPr>
            <a:xfrm>
              <a:off x="1736640" y="6426000"/>
              <a:ext cx="78480" cy="381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12" y="26"/>
                  </a:moveTo>
                  <a:lnTo>
                    <a:pt x="21" y="30"/>
                  </a:lnTo>
                  <a:lnTo>
                    <a:pt x="33" y="32"/>
                  </a:lnTo>
                  <a:lnTo>
                    <a:pt x="43" y="32"/>
                  </a:lnTo>
                  <a:lnTo>
                    <a:pt x="50" y="28"/>
                  </a:lnTo>
                  <a:lnTo>
                    <a:pt x="54" y="23"/>
                  </a:lnTo>
                  <a:lnTo>
                    <a:pt x="63" y="12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38" y="4"/>
                  </a:lnTo>
                  <a:lnTo>
                    <a:pt x="21" y="6"/>
                  </a:lnTo>
                  <a:lnTo>
                    <a:pt x="8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0"/>
            <p:cNvSpPr/>
            <p:nvPr/>
          </p:nvSpPr>
          <p:spPr>
            <a:xfrm>
              <a:off x="1954800" y="5706000"/>
              <a:ext cx="322920" cy="590760"/>
            </a:xfrm>
            <a:custGeom>
              <a:avLst/>
              <a:gdLst/>
              <a:ahLst/>
              <a:rect l="l" t="t" r="r" b="b"/>
              <a:pathLst>
                <a:path w="271" h="495">
                  <a:moveTo>
                    <a:pt x="219" y="437"/>
                  </a:moveTo>
                  <a:lnTo>
                    <a:pt x="256" y="424"/>
                  </a:lnTo>
                  <a:lnTo>
                    <a:pt x="263" y="419"/>
                  </a:lnTo>
                  <a:lnTo>
                    <a:pt x="269" y="410"/>
                  </a:lnTo>
                  <a:lnTo>
                    <a:pt x="271" y="400"/>
                  </a:lnTo>
                  <a:lnTo>
                    <a:pt x="223" y="7"/>
                  </a:lnTo>
                  <a:lnTo>
                    <a:pt x="222" y="3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7" y="476"/>
                  </a:lnTo>
                  <a:lnTo>
                    <a:pt x="51" y="485"/>
                  </a:lnTo>
                  <a:lnTo>
                    <a:pt x="56" y="491"/>
                  </a:lnTo>
                  <a:lnTo>
                    <a:pt x="62" y="495"/>
                  </a:lnTo>
                  <a:lnTo>
                    <a:pt x="78" y="490"/>
                  </a:lnTo>
                  <a:lnTo>
                    <a:pt x="219" y="437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1"/>
            <p:cNvSpPr/>
            <p:nvPr/>
          </p:nvSpPr>
          <p:spPr>
            <a:xfrm>
              <a:off x="1837800" y="5962680"/>
              <a:ext cx="28440" cy="447480"/>
            </a:xfrm>
            <a:custGeom>
              <a:avLst/>
              <a:gdLst/>
              <a:ahLst/>
              <a:rect l="l" t="t" r="r" b="b"/>
              <a:pathLst>
                <a:path w="24" h="375">
                  <a:moveTo>
                    <a:pt x="24" y="375"/>
                  </a:moveTo>
                  <a:lnTo>
                    <a:pt x="24" y="9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24" y="375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2"/>
            <p:cNvSpPr/>
            <p:nvPr/>
          </p:nvSpPr>
          <p:spPr>
            <a:xfrm>
              <a:off x="1994400" y="5727600"/>
              <a:ext cx="203760" cy="3204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169" y="0"/>
                  </a:moveTo>
                  <a:lnTo>
                    <a:pt x="171" y="6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3"/>
            <p:cNvSpPr/>
            <p:nvPr/>
          </p:nvSpPr>
          <p:spPr>
            <a:xfrm>
              <a:off x="1990800" y="5751720"/>
              <a:ext cx="256320" cy="489240"/>
            </a:xfrm>
            <a:custGeom>
              <a:avLst/>
              <a:gdLst/>
              <a:ahLst/>
              <a:rect l="l" t="t" r="r" b="b"/>
              <a:pathLst>
                <a:path w="215" h="410">
                  <a:moveTo>
                    <a:pt x="161" y="0"/>
                  </a:moveTo>
                  <a:lnTo>
                    <a:pt x="167" y="2"/>
                  </a:lnTo>
                  <a:lnTo>
                    <a:pt x="174" y="6"/>
                  </a:lnTo>
                  <a:lnTo>
                    <a:pt x="176" y="12"/>
                  </a:lnTo>
                  <a:lnTo>
                    <a:pt x="215" y="348"/>
                  </a:lnTo>
                  <a:lnTo>
                    <a:pt x="215" y="355"/>
                  </a:lnTo>
                  <a:lnTo>
                    <a:pt x="211" y="361"/>
                  </a:lnTo>
                  <a:lnTo>
                    <a:pt x="204" y="365"/>
                  </a:lnTo>
                  <a:lnTo>
                    <a:pt x="60" y="410"/>
                  </a:lnTo>
                  <a:lnTo>
                    <a:pt x="53" y="410"/>
                  </a:lnTo>
                  <a:lnTo>
                    <a:pt x="47" y="407"/>
                  </a:lnTo>
                  <a:lnTo>
                    <a:pt x="43" y="400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5" y="25"/>
                  </a:lnTo>
                  <a:lnTo>
                    <a:pt x="12" y="23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4"/>
            <p:cNvSpPr/>
            <p:nvPr/>
          </p:nvSpPr>
          <p:spPr>
            <a:xfrm>
              <a:off x="1626840" y="5729040"/>
              <a:ext cx="401760" cy="568080"/>
            </a:xfrm>
            <a:custGeom>
              <a:avLst/>
              <a:gdLst/>
              <a:ahLst/>
              <a:rect l="l" t="t" r="r" b="b"/>
              <a:pathLst>
                <a:path w="337" h="476">
                  <a:moveTo>
                    <a:pt x="177" y="476"/>
                  </a:moveTo>
                  <a:lnTo>
                    <a:pt x="177" y="196"/>
                  </a:lnTo>
                  <a:lnTo>
                    <a:pt x="201" y="205"/>
                  </a:lnTo>
                  <a:lnTo>
                    <a:pt x="201" y="475"/>
                  </a:lnTo>
                  <a:lnTo>
                    <a:pt x="203" y="476"/>
                  </a:lnTo>
                  <a:lnTo>
                    <a:pt x="337" y="476"/>
                  </a:lnTo>
                  <a:lnTo>
                    <a:pt x="331" y="472"/>
                  </a:lnTo>
                  <a:lnTo>
                    <a:pt x="326" y="466"/>
                  </a:lnTo>
                  <a:lnTo>
                    <a:pt x="322" y="457"/>
                  </a:lnTo>
                  <a:lnTo>
                    <a:pt x="275" y="22"/>
                  </a:lnTo>
                  <a:lnTo>
                    <a:pt x="275" y="14"/>
                  </a:lnTo>
                  <a:lnTo>
                    <a:pt x="276" y="5"/>
                  </a:lnTo>
                  <a:lnTo>
                    <a:pt x="279" y="1"/>
                  </a:lnTo>
                  <a:lnTo>
                    <a:pt x="279" y="0"/>
                  </a:lnTo>
                  <a:lnTo>
                    <a:pt x="157" y="51"/>
                  </a:lnTo>
                  <a:lnTo>
                    <a:pt x="156" y="51"/>
                  </a:lnTo>
                  <a:lnTo>
                    <a:pt x="13" y="115"/>
                  </a:lnTo>
                  <a:lnTo>
                    <a:pt x="5" y="122"/>
                  </a:lnTo>
                  <a:lnTo>
                    <a:pt x="0" y="132"/>
                  </a:lnTo>
                  <a:lnTo>
                    <a:pt x="0" y="458"/>
                  </a:lnTo>
                  <a:lnTo>
                    <a:pt x="2" y="467"/>
                  </a:lnTo>
                  <a:lnTo>
                    <a:pt x="9" y="475"/>
                  </a:lnTo>
                  <a:lnTo>
                    <a:pt x="21" y="476"/>
                  </a:lnTo>
                  <a:lnTo>
                    <a:pt x="177" y="47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5"/>
            <p:cNvSpPr/>
            <p:nvPr/>
          </p:nvSpPr>
          <p:spPr>
            <a:xfrm>
              <a:off x="2734920" y="5571360"/>
              <a:ext cx="96480" cy="1620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81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6"/>
            <p:cNvSpPr/>
            <p:nvPr/>
          </p:nvSpPr>
          <p:spPr>
            <a:xfrm>
              <a:off x="2699280" y="5660640"/>
              <a:ext cx="30960" cy="72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26" y="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7"/>
            <p:cNvSpPr/>
            <p:nvPr/>
          </p:nvSpPr>
          <p:spPr>
            <a:xfrm>
              <a:off x="3017520" y="5572440"/>
              <a:ext cx="16560" cy="5724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5" y="0"/>
                  </a:moveTo>
                  <a:lnTo>
                    <a:pt x="9" y="12"/>
                  </a:lnTo>
                  <a:lnTo>
                    <a:pt x="9" y="23"/>
                  </a:lnTo>
                  <a:lnTo>
                    <a:pt x="5" y="36"/>
                  </a:lnTo>
                  <a:lnTo>
                    <a:pt x="0" y="48"/>
                  </a:lnTo>
                  <a:lnTo>
                    <a:pt x="9" y="39"/>
                  </a:lnTo>
                  <a:lnTo>
                    <a:pt x="13" y="30"/>
                  </a:lnTo>
                  <a:lnTo>
                    <a:pt x="14" y="19"/>
                  </a:lnTo>
                  <a:lnTo>
                    <a:pt x="12" y="8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8"/>
            <p:cNvSpPr/>
            <p:nvPr/>
          </p:nvSpPr>
          <p:spPr>
            <a:xfrm>
              <a:off x="3031920" y="5595120"/>
              <a:ext cx="10800" cy="4644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0" y="39"/>
                  </a:moveTo>
                  <a:lnTo>
                    <a:pt x="9" y="32"/>
                  </a:lnTo>
                  <a:lnTo>
                    <a:pt x="7" y="16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2873160" y="5660640"/>
              <a:ext cx="25920" cy="53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0"/>
                  </a:moveTo>
                  <a:lnTo>
                    <a:pt x="18" y="13"/>
                  </a:lnTo>
                  <a:lnTo>
                    <a:pt x="16" y="26"/>
                  </a:lnTo>
                  <a:lnTo>
                    <a:pt x="7" y="39"/>
                  </a:lnTo>
                  <a:lnTo>
                    <a:pt x="0" y="45"/>
                  </a:lnTo>
                  <a:lnTo>
                    <a:pt x="7" y="32"/>
                  </a:lnTo>
                  <a:lnTo>
                    <a:pt x="12" y="17"/>
                  </a:lnTo>
                  <a:lnTo>
                    <a:pt x="13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0"/>
            <p:cNvSpPr/>
            <p:nvPr/>
          </p:nvSpPr>
          <p:spPr>
            <a:xfrm>
              <a:off x="1842840" y="5855400"/>
              <a:ext cx="27000" cy="9648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12" y="0"/>
                  </a:moveTo>
                  <a:lnTo>
                    <a:pt x="6" y="21"/>
                  </a:lnTo>
                  <a:lnTo>
                    <a:pt x="2" y="34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7" y="80"/>
                  </a:lnTo>
                  <a:lnTo>
                    <a:pt x="11" y="81"/>
                  </a:lnTo>
                  <a:lnTo>
                    <a:pt x="15" y="80"/>
                  </a:lnTo>
                  <a:lnTo>
                    <a:pt x="19" y="76"/>
                  </a:lnTo>
                  <a:lnTo>
                    <a:pt x="20" y="69"/>
                  </a:lnTo>
                  <a:lnTo>
                    <a:pt x="23" y="63"/>
                  </a:lnTo>
                  <a:lnTo>
                    <a:pt x="23" y="51"/>
                  </a:lnTo>
                  <a:lnTo>
                    <a:pt x="20" y="39"/>
                  </a:lnTo>
                  <a:lnTo>
                    <a:pt x="18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24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1"/>
            <p:cNvSpPr/>
            <p:nvPr/>
          </p:nvSpPr>
          <p:spPr>
            <a:xfrm>
              <a:off x="2823120" y="5950800"/>
              <a:ext cx="29880" cy="15372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1" y="129"/>
                  </a:moveTo>
                  <a:lnTo>
                    <a:pt x="3" y="75"/>
                  </a:lnTo>
                  <a:lnTo>
                    <a:pt x="9" y="44"/>
                  </a:lnTo>
                  <a:lnTo>
                    <a:pt x="15" y="19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9" y="19"/>
                  </a:lnTo>
                  <a:lnTo>
                    <a:pt x="1" y="37"/>
                  </a:lnTo>
                  <a:lnTo>
                    <a:pt x="0" y="89"/>
                  </a:lnTo>
                  <a:lnTo>
                    <a:pt x="1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2"/>
            <p:cNvSpPr/>
            <p:nvPr/>
          </p:nvSpPr>
          <p:spPr>
            <a:xfrm>
              <a:off x="3028320" y="5605920"/>
              <a:ext cx="57240" cy="5004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27" y="12"/>
                  </a:moveTo>
                  <a:lnTo>
                    <a:pt x="12" y="23"/>
                  </a:lnTo>
                  <a:lnTo>
                    <a:pt x="3" y="30"/>
                  </a:lnTo>
                  <a:lnTo>
                    <a:pt x="0" y="41"/>
                  </a:lnTo>
                  <a:lnTo>
                    <a:pt x="9" y="42"/>
                  </a:lnTo>
                  <a:lnTo>
                    <a:pt x="26" y="42"/>
                  </a:lnTo>
                  <a:lnTo>
                    <a:pt x="43" y="38"/>
                  </a:lnTo>
                  <a:lnTo>
                    <a:pt x="48" y="36"/>
                  </a:lnTo>
                  <a:lnTo>
                    <a:pt x="45" y="20"/>
                  </a:lnTo>
                  <a:lnTo>
                    <a:pt x="48" y="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3"/>
            <p:cNvSpPr/>
            <p:nvPr/>
          </p:nvSpPr>
          <p:spPr>
            <a:xfrm>
              <a:off x="2738520" y="5708520"/>
              <a:ext cx="277920" cy="202680"/>
            </a:xfrm>
            <a:custGeom>
              <a:avLst/>
              <a:gdLst/>
              <a:ahLst/>
              <a:rect l="l" t="t" r="r" b="b"/>
              <a:pathLst>
                <a:path w="233" h="170">
                  <a:moveTo>
                    <a:pt x="233" y="13"/>
                  </a:moveTo>
                  <a:lnTo>
                    <a:pt x="205" y="21"/>
                  </a:lnTo>
                  <a:lnTo>
                    <a:pt x="168" y="39"/>
                  </a:lnTo>
                  <a:lnTo>
                    <a:pt x="125" y="62"/>
                  </a:lnTo>
                  <a:lnTo>
                    <a:pt x="67" y="100"/>
                  </a:lnTo>
                  <a:lnTo>
                    <a:pt x="0" y="170"/>
                  </a:lnTo>
                  <a:lnTo>
                    <a:pt x="47" y="105"/>
                  </a:lnTo>
                  <a:lnTo>
                    <a:pt x="60" y="90"/>
                  </a:lnTo>
                  <a:lnTo>
                    <a:pt x="108" y="61"/>
                  </a:lnTo>
                  <a:lnTo>
                    <a:pt x="163" y="33"/>
                  </a:lnTo>
                  <a:lnTo>
                    <a:pt x="230" y="0"/>
                  </a:lnTo>
                  <a:lnTo>
                    <a:pt x="2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4"/>
            <p:cNvSpPr/>
            <p:nvPr/>
          </p:nvSpPr>
          <p:spPr>
            <a:xfrm>
              <a:off x="2631240" y="5979600"/>
              <a:ext cx="151200" cy="171720"/>
            </a:xfrm>
            <a:custGeom>
              <a:avLst/>
              <a:gdLst/>
              <a:ahLst/>
              <a:rect l="l" t="t" r="r" b="b"/>
              <a:pathLst>
                <a:path w="127" h="144">
                  <a:moveTo>
                    <a:pt x="0" y="144"/>
                  </a:moveTo>
                  <a:lnTo>
                    <a:pt x="5" y="127"/>
                  </a:lnTo>
                  <a:lnTo>
                    <a:pt x="14" y="110"/>
                  </a:lnTo>
                  <a:lnTo>
                    <a:pt x="28" y="88"/>
                  </a:lnTo>
                  <a:lnTo>
                    <a:pt x="48" y="62"/>
                  </a:lnTo>
                  <a:lnTo>
                    <a:pt x="84" y="27"/>
                  </a:lnTo>
                  <a:lnTo>
                    <a:pt x="125" y="0"/>
                  </a:lnTo>
                  <a:lnTo>
                    <a:pt x="127" y="9"/>
                  </a:lnTo>
                  <a:lnTo>
                    <a:pt x="110" y="22"/>
                  </a:lnTo>
                  <a:lnTo>
                    <a:pt x="92" y="33"/>
                  </a:lnTo>
                  <a:lnTo>
                    <a:pt x="61" y="59"/>
                  </a:lnTo>
                  <a:lnTo>
                    <a:pt x="48" y="73"/>
                  </a:lnTo>
                  <a:lnTo>
                    <a:pt x="26" y="100"/>
                  </a:lnTo>
                  <a:lnTo>
                    <a:pt x="9" y="12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5"/>
            <p:cNvSpPr/>
            <p:nvPr/>
          </p:nvSpPr>
          <p:spPr>
            <a:xfrm>
              <a:off x="2772000" y="5932800"/>
              <a:ext cx="47520" cy="1764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40" y="2"/>
                  </a:moveTo>
                  <a:lnTo>
                    <a:pt x="0" y="4"/>
                  </a:lnTo>
                  <a:lnTo>
                    <a:pt x="6" y="13"/>
                  </a:lnTo>
                  <a:lnTo>
                    <a:pt x="28" y="15"/>
                  </a:lnTo>
                  <a:lnTo>
                    <a:pt x="39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6"/>
            <p:cNvSpPr/>
            <p:nvPr/>
          </p:nvSpPr>
          <p:spPr>
            <a:xfrm>
              <a:off x="3020040" y="5654880"/>
              <a:ext cx="30960" cy="33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6" y="1"/>
                  </a:moveTo>
                  <a:lnTo>
                    <a:pt x="7" y="0"/>
                  </a:lnTo>
                  <a:lnTo>
                    <a:pt x="0" y="24"/>
                  </a:lnTo>
                  <a:lnTo>
                    <a:pt x="13" y="28"/>
                  </a:lnTo>
                  <a:lnTo>
                    <a:pt x="20" y="20"/>
                  </a:lnTo>
                  <a:lnTo>
                    <a:pt x="26" y="4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7"/>
            <p:cNvSpPr/>
            <p:nvPr/>
          </p:nvSpPr>
          <p:spPr>
            <a:xfrm>
              <a:off x="2714400" y="5416200"/>
              <a:ext cx="41760" cy="165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0" y="14"/>
                  </a:moveTo>
                  <a:lnTo>
                    <a:pt x="17" y="4"/>
                  </a:lnTo>
                  <a:lnTo>
                    <a:pt x="30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68"/>
            <p:cNvSpPr/>
            <p:nvPr/>
          </p:nvSpPr>
          <p:spPr>
            <a:xfrm>
              <a:off x="2981880" y="5688360"/>
              <a:ext cx="1188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9"/>
            <p:cNvSpPr/>
            <p:nvPr/>
          </p:nvSpPr>
          <p:spPr>
            <a:xfrm>
              <a:off x="2940120" y="5646240"/>
              <a:ext cx="58320" cy="2844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0" y="0"/>
                  </a:moveTo>
                  <a:lnTo>
                    <a:pt x="5" y="7"/>
                  </a:lnTo>
                  <a:lnTo>
                    <a:pt x="13" y="14"/>
                  </a:lnTo>
                  <a:lnTo>
                    <a:pt x="23" y="20"/>
                  </a:lnTo>
                  <a:lnTo>
                    <a:pt x="27" y="21"/>
                  </a:lnTo>
                  <a:lnTo>
                    <a:pt x="32" y="22"/>
                  </a:lnTo>
                  <a:lnTo>
                    <a:pt x="39" y="24"/>
                  </a:lnTo>
                  <a:lnTo>
                    <a:pt x="49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0"/>
            <p:cNvSpPr/>
            <p:nvPr/>
          </p:nvSpPr>
          <p:spPr>
            <a:xfrm>
              <a:off x="2831400" y="5573520"/>
              <a:ext cx="109800" cy="1656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0" y="0"/>
                  </a:moveTo>
                  <a:lnTo>
                    <a:pt x="13" y="8"/>
                  </a:lnTo>
                  <a:lnTo>
                    <a:pt x="29" y="13"/>
                  </a:lnTo>
                  <a:lnTo>
                    <a:pt x="47" y="14"/>
                  </a:lnTo>
                  <a:lnTo>
                    <a:pt x="68" y="14"/>
                  </a:lnTo>
                  <a:lnTo>
                    <a:pt x="87" y="11"/>
                  </a:lnTo>
                  <a:lnTo>
                    <a:pt x="9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1"/>
            <p:cNvSpPr/>
            <p:nvPr/>
          </p:nvSpPr>
          <p:spPr>
            <a:xfrm>
              <a:off x="2901960" y="5602320"/>
              <a:ext cx="25920" cy="36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3"/>
                  </a:moveTo>
                  <a:lnTo>
                    <a:pt x="15" y="2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2"/>
            <p:cNvSpPr/>
            <p:nvPr/>
          </p:nvSpPr>
          <p:spPr>
            <a:xfrm>
              <a:off x="2792160" y="5442120"/>
              <a:ext cx="15120" cy="4284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0"/>
                  </a:moveTo>
                  <a:lnTo>
                    <a:pt x="6" y="5"/>
                  </a:lnTo>
                  <a:lnTo>
                    <a:pt x="13" y="17"/>
                  </a:lnTo>
                  <a:lnTo>
                    <a:pt x="13" y="30"/>
                  </a:lnTo>
                  <a:lnTo>
                    <a:pt x="9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3"/>
            <p:cNvSpPr/>
            <p:nvPr/>
          </p:nvSpPr>
          <p:spPr>
            <a:xfrm>
              <a:off x="2873160" y="5662080"/>
              <a:ext cx="17640" cy="576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5"/>
                  </a:move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4"/>
            <p:cNvSpPr/>
            <p:nvPr/>
          </p:nvSpPr>
          <p:spPr>
            <a:xfrm>
              <a:off x="2941200" y="5633280"/>
              <a:ext cx="20160" cy="190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2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5"/>
            <p:cNvSpPr/>
            <p:nvPr/>
          </p:nvSpPr>
          <p:spPr>
            <a:xfrm>
              <a:off x="2961360" y="5652720"/>
              <a:ext cx="19080" cy="34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0"/>
                  </a:moveTo>
                  <a:lnTo>
                    <a:pt x="9" y="16"/>
                  </a:lnTo>
                  <a:lnTo>
                    <a:pt x="1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6"/>
            <p:cNvSpPr/>
            <p:nvPr/>
          </p:nvSpPr>
          <p:spPr>
            <a:xfrm>
              <a:off x="2924280" y="5634360"/>
              <a:ext cx="53640" cy="1800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0"/>
                  </a:moveTo>
                  <a:lnTo>
                    <a:pt x="13" y="10"/>
                  </a:lnTo>
                  <a:lnTo>
                    <a:pt x="32" y="15"/>
                  </a:lnTo>
                  <a:lnTo>
                    <a:pt x="45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7"/>
            <p:cNvSpPr/>
            <p:nvPr/>
          </p:nvSpPr>
          <p:spPr>
            <a:xfrm>
              <a:off x="2899440" y="5619960"/>
              <a:ext cx="20160" cy="403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7" y="0"/>
                  </a:moveTo>
                  <a:lnTo>
                    <a:pt x="4" y="2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78"/>
            <p:cNvSpPr/>
            <p:nvPr/>
          </p:nvSpPr>
          <p:spPr>
            <a:xfrm>
              <a:off x="2919960" y="5619960"/>
              <a:ext cx="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9"/>
            <p:cNvSpPr/>
            <p:nvPr/>
          </p:nvSpPr>
          <p:spPr>
            <a:xfrm>
              <a:off x="2919960" y="5604840"/>
              <a:ext cx="25920" cy="190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5" y="5"/>
                  </a:lnTo>
                  <a:lnTo>
                    <a:pt x="13" y="12"/>
                  </a:lnTo>
                  <a:lnTo>
                    <a:pt x="22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80"/>
            <p:cNvSpPr/>
            <p:nvPr/>
          </p:nvSpPr>
          <p:spPr>
            <a:xfrm flipH="1">
              <a:off x="2923200" y="5610600"/>
              <a:ext cx="216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81"/>
            <p:cNvSpPr/>
            <p:nvPr/>
          </p:nvSpPr>
          <p:spPr>
            <a:xfrm flipH="1">
              <a:off x="2710080" y="5682240"/>
              <a:ext cx="57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2"/>
            <p:cNvSpPr/>
            <p:nvPr/>
          </p:nvSpPr>
          <p:spPr>
            <a:xfrm>
              <a:off x="2727720" y="5654880"/>
              <a:ext cx="6840" cy="176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2" y="6"/>
                  </a:lnTo>
                  <a:lnTo>
                    <a:pt x="4" y="11"/>
                  </a:lnTo>
                  <a:lnTo>
                    <a:pt x="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3"/>
            <p:cNvSpPr/>
            <p:nvPr/>
          </p:nvSpPr>
          <p:spPr>
            <a:xfrm>
              <a:off x="2725200" y="5579640"/>
              <a:ext cx="2160" cy="3060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1" y="0"/>
                  </a:moveTo>
                  <a:lnTo>
                    <a:pt x="2" y="6"/>
                  </a:lnTo>
                  <a:lnTo>
                    <a:pt x="2" y="1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84"/>
            <p:cNvSpPr/>
            <p:nvPr/>
          </p:nvSpPr>
          <p:spPr>
            <a:xfrm flipH="1" flipV="1">
              <a:off x="2724120" y="5566320"/>
              <a:ext cx="10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5"/>
            <p:cNvSpPr/>
            <p:nvPr/>
          </p:nvSpPr>
          <p:spPr>
            <a:xfrm>
              <a:off x="2732400" y="5571360"/>
              <a:ext cx="4680" cy="6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6"/>
            <p:cNvSpPr/>
            <p:nvPr/>
          </p:nvSpPr>
          <p:spPr>
            <a:xfrm>
              <a:off x="2705040" y="5533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3" y="0"/>
                  </a:moveTo>
                  <a:lnTo>
                    <a:pt x="5" y="8"/>
                  </a:lnTo>
                  <a:lnTo>
                    <a:pt x="6" y="2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87"/>
            <p:cNvSpPr/>
            <p:nvPr/>
          </p:nvSpPr>
          <p:spPr>
            <a:xfrm>
              <a:off x="2721960" y="5536800"/>
              <a:ext cx="151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8"/>
            <p:cNvSpPr/>
            <p:nvPr/>
          </p:nvSpPr>
          <p:spPr>
            <a:xfrm>
              <a:off x="2732400" y="5571360"/>
              <a:ext cx="2160" cy="68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9"/>
            <p:cNvSpPr/>
            <p:nvPr/>
          </p:nvSpPr>
          <p:spPr>
            <a:xfrm>
              <a:off x="2726280" y="5537880"/>
              <a:ext cx="8280" cy="33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12"/>
                  </a:lnTo>
                  <a:lnTo>
                    <a:pt x="5" y="17"/>
                  </a:lnTo>
                  <a:lnTo>
                    <a:pt x="7" y="25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0"/>
            <p:cNvSpPr/>
            <p:nvPr/>
          </p:nvSpPr>
          <p:spPr>
            <a:xfrm>
              <a:off x="2732400" y="5537880"/>
              <a:ext cx="30960" cy="936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0" y="0"/>
                  </a:moveTo>
                  <a:lnTo>
                    <a:pt x="12" y="6"/>
                  </a:lnTo>
                  <a:lnTo>
                    <a:pt x="16" y="8"/>
                  </a:lnTo>
                  <a:lnTo>
                    <a:pt x="26" y="8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91"/>
            <p:cNvSpPr/>
            <p:nvPr/>
          </p:nvSpPr>
          <p:spPr>
            <a:xfrm>
              <a:off x="2711160" y="5531760"/>
              <a:ext cx="1080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92"/>
            <p:cNvSpPr/>
            <p:nvPr/>
          </p:nvSpPr>
          <p:spPr>
            <a:xfrm>
              <a:off x="2710080" y="5520960"/>
              <a:ext cx="68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3"/>
            <p:cNvSpPr/>
            <p:nvPr/>
          </p:nvSpPr>
          <p:spPr>
            <a:xfrm>
              <a:off x="2720520" y="5526000"/>
              <a:ext cx="97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4"/>
            <p:cNvSpPr/>
            <p:nvPr/>
          </p:nvSpPr>
          <p:spPr>
            <a:xfrm>
              <a:off x="2727720" y="5527440"/>
              <a:ext cx="28440" cy="140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8" y="4"/>
                  </a:lnTo>
                  <a:lnTo>
                    <a:pt x="17" y="5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95"/>
            <p:cNvSpPr/>
            <p:nvPr/>
          </p:nvSpPr>
          <p:spPr>
            <a:xfrm flipV="1">
              <a:off x="2737440" y="5567400"/>
              <a:ext cx="201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96"/>
            <p:cNvSpPr/>
            <p:nvPr/>
          </p:nvSpPr>
          <p:spPr>
            <a:xfrm>
              <a:off x="2708640" y="5533200"/>
              <a:ext cx="1080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7"/>
            <p:cNvSpPr/>
            <p:nvPr/>
          </p:nvSpPr>
          <p:spPr>
            <a:xfrm>
              <a:off x="1797480" y="6409080"/>
              <a:ext cx="29520" cy="5832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5" y="0"/>
                  </a:moveTo>
                  <a:lnTo>
                    <a:pt x="25" y="10"/>
                  </a:lnTo>
                  <a:lnTo>
                    <a:pt x="22" y="20"/>
                  </a:lnTo>
                  <a:lnTo>
                    <a:pt x="15" y="32"/>
                  </a:lnTo>
                  <a:lnTo>
                    <a:pt x="9" y="40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8"/>
            <p:cNvSpPr/>
            <p:nvPr/>
          </p:nvSpPr>
          <p:spPr>
            <a:xfrm>
              <a:off x="1808280" y="6409080"/>
              <a:ext cx="24840" cy="583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0"/>
                  </a:moveTo>
                  <a:lnTo>
                    <a:pt x="19" y="13"/>
                  </a:lnTo>
                  <a:lnTo>
                    <a:pt x="16" y="24"/>
                  </a:lnTo>
                  <a:lnTo>
                    <a:pt x="10" y="33"/>
                  </a:lnTo>
                  <a:lnTo>
                    <a:pt x="5" y="42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9"/>
            <p:cNvSpPr/>
            <p:nvPr/>
          </p:nvSpPr>
          <p:spPr>
            <a:xfrm>
              <a:off x="2366280" y="6128640"/>
              <a:ext cx="45000" cy="165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4"/>
                  </a:moveTo>
                  <a:lnTo>
                    <a:pt x="19" y="5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0"/>
            <p:cNvSpPr/>
            <p:nvPr/>
          </p:nvSpPr>
          <p:spPr>
            <a:xfrm>
              <a:off x="2640600" y="5950800"/>
              <a:ext cx="212040" cy="547560"/>
            </a:xfrm>
            <a:custGeom>
              <a:avLst/>
              <a:gdLst/>
              <a:ahLst/>
              <a:rect l="l" t="t" r="r" b="b"/>
              <a:pathLst>
                <a:path w="178" h="459">
                  <a:moveTo>
                    <a:pt x="0" y="459"/>
                  </a:moveTo>
                  <a:lnTo>
                    <a:pt x="14" y="445"/>
                  </a:lnTo>
                  <a:lnTo>
                    <a:pt x="24" y="433"/>
                  </a:lnTo>
                  <a:lnTo>
                    <a:pt x="41" y="415"/>
                  </a:lnTo>
                  <a:lnTo>
                    <a:pt x="54" y="395"/>
                  </a:lnTo>
                  <a:lnTo>
                    <a:pt x="76" y="373"/>
                  </a:lnTo>
                  <a:lnTo>
                    <a:pt x="89" y="359"/>
                  </a:lnTo>
                  <a:lnTo>
                    <a:pt x="95" y="364"/>
                  </a:lnTo>
                  <a:lnTo>
                    <a:pt x="103" y="372"/>
                  </a:lnTo>
                  <a:lnTo>
                    <a:pt x="101" y="363"/>
                  </a:lnTo>
                  <a:lnTo>
                    <a:pt x="94" y="354"/>
                  </a:lnTo>
                  <a:lnTo>
                    <a:pt x="101" y="345"/>
                  </a:lnTo>
                  <a:lnTo>
                    <a:pt x="103" y="333"/>
                  </a:lnTo>
                  <a:lnTo>
                    <a:pt x="114" y="290"/>
                  </a:lnTo>
                  <a:lnTo>
                    <a:pt x="123" y="267"/>
                  </a:lnTo>
                  <a:lnTo>
                    <a:pt x="130" y="253"/>
                  </a:lnTo>
                  <a:lnTo>
                    <a:pt x="140" y="245"/>
                  </a:lnTo>
                  <a:lnTo>
                    <a:pt x="143" y="242"/>
                  </a:lnTo>
                  <a:lnTo>
                    <a:pt x="162" y="247"/>
                  </a:lnTo>
                  <a:lnTo>
                    <a:pt x="159" y="240"/>
                  </a:lnTo>
                  <a:lnTo>
                    <a:pt x="150" y="221"/>
                  </a:lnTo>
                  <a:lnTo>
                    <a:pt x="156" y="215"/>
                  </a:lnTo>
                  <a:lnTo>
                    <a:pt x="154" y="157"/>
                  </a:lnTo>
                  <a:lnTo>
                    <a:pt x="154" y="129"/>
                  </a:lnTo>
                  <a:lnTo>
                    <a:pt x="156" y="75"/>
                  </a:lnTo>
                  <a:lnTo>
                    <a:pt x="162" y="44"/>
                  </a:lnTo>
                  <a:lnTo>
                    <a:pt x="168" y="19"/>
                  </a:lnTo>
                  <a:lnTo>
                    <a:pt x="178" y="0"/>
                  </a:lnTo>
                  <a:lnTo>
                    <a:pt x="172" y="6"/>
                  </a:lnTo>
                  <a:lnTo>
                    <a:pt x="162" y="19"/>
                  </a:lnTo>
                  <a:lnTo>
                    <a:pt x="154" y="37"/>
                  </a:lnTo>
                  <a:lnTo>
                    <a:pt x="153" y="89"/>
                  </a:lnTo>
                  <a:lnTo>
                    <a:pt x="154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1"/>
            <p:cNvSpPr/>
            <p:nvPr/>
          </p:nvSpPr>
          <p:spPr>
            <a:xfrm>
              <a:off x="3110400" y="5817240"/>
              <a:ext cx="34560" cy="414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9" y="35"/>
                  </a:moveTo>
                  <a:lnTo>
                    <a:pt x="15" y="23"/>
                  </a:lnTo>
                  <a:lnTo>
                    <a:pt x="6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2"/>
            <p:cNvSpPr/>
            <p:nvPr/>
          </p:nvSpPr>
          <p:spPr>
            <a:xfrm>
              <a:off x="2032560" y="5824440"/>
              <a:ext cx="48600" cy="2484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0" y="21"/>
                  </a:moveTo>
                  <a:lnTo>
                    <a:pt x="5" y="11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40" y="10"/>
                  </a:lnTo>
                  <a:lnTo>
                    <a:pt x="41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3"/>
            <p:cNvSpPr/>
            <p:nvPr/>
          </p:nvSpPr>
          <p:spPr>
            <a:xfrm>
              <a:off x="2081520" y="5824440"/>
              <a:ext cx="49680" cy="2484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21"/>
                  </a:moveTo>
                  <a:lnTo>
                    <a:pt x="37" y="12"/>
                  </a:lnTo>
                  <a:lnTo>
                    <a:pt x="30" y="6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7" y="3"/>
                  </a:lnTo>
                  <a:lnTo>
                    <a:pt x="2" y="1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4"/>
            <p:cNvSpPr/>
            <p:nvPr/>
          </p:nvSpPr>
          <p:spPr>
            <a:xfrm>
              <a:off x="2081520" y="5831640"/>
              <a:ext cx="41400" cy="381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32"/>
                  </a:moveTo>
                  <a:lnTo>
                    <a:pt x="33" y="19"/>
                  </a:lnTo>
                  <a:lnTo>
                    <a:pt x="29" y="10"/>
                  </a:lnTo>
                  <a:lnTo>
                    <a:pt x="24" y="4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4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5"/>
            <p:cNvSpPr/>
            <p:nvPr/>
          </p:nvSpPr>
          <p:spPr>
            <a:xfrm>
              <a:off x="2041920" y="5831640"/>
              <a:ext cx="39240" cy="381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2" y="19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33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6"/>
            <p:cNvSpPr/>
            <p:nvPr/>
          </p:nvSpPr>
          <p:spPr>
            <a:xfrm>
              <a:off x="2081520" y="5811120"/>
              <a:ext cx="34560" cy="320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29" y="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7"/>
            <p:cNvSpPr/>
            <p:nvPr/>
          </p:nvSpPr>
          <p:spPr>
            <a:xfrm>
              <a:off x="2044440" y="5808600"/>
              <a:ext cx="36720" cy="345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1" y="29"/>
                  </a:moveTo>
                  <a:lnTo>
                    <a:pt x="30" y="17"/>
                  </a:lnTo>
                  <a:lnTo>
                    <a:pt x="26" y="10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6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8"/>
            <p:cNvSpPr/>
            <p:nvPr/>
          </p:nvSpPr>
          <p:spPr>
            <a:xfrm>
              <a:off x="2080080" y="5802840"/>
              <a:ext cx="8280" cy="40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1" y="34"/>
                  </a:moveTo>
                  <a:lnTo>
                    <a:pt x="0" y="25"/>
                  </a:lnTo>
                  <a:lnTo>
                    <a:pt x="0" y="7"/>
                  </a:lnTo>
                  <a:lnTo>
                    <a:pt x="1" y="2"/>
                  </a:lnTo>
                  <a:lnTo>
                    <a:pt x="4" y="0"/>
                  </a:lnTo>
                  <a:lnTo>
                    <a:pt x="7" y="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9"/>
            <p:cNvSpPr/>
            <p:nvPr/>
          </p:nvSpPr>
          <p:spPr>
            <a:xfrm>
              <a:off x="2053800" y="5842440"/>
              <a:ext cx="27360" cy="237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3" y="1"/>
                  </a:moveTo>
                  <a:lnTo>
                    <a:pt x="18" y="0"/>
                  </a:lnTo>
                  <a:lnTo>
                    <a:pt x="12" y="1"/>
                  </a:lnTo>
                  <a:lnTo>
                    <a:pt x="7" y="5"/>
                  </a:lnTo>
                  <a:lnTo>
                    <a:pt x="1" y="14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10"/>
            <p:cNvSpPr/>
            <p:nvPr/>
          </p:nvSpPr>
          <p:spPr>
            <a:xfrm>
              <a:off x="2069280" y="5843520"/>
              <a:ext cx="11880" cy="4140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0"/>
                  </a:moveTo>
                  <a:lnTo>
                    <a:pt x="7" y="1"/>
                  </a:lnTo>
                  <a:lnTo>
                    <a:pt x="4" y="8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1" y="3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1"/>
            <p:cNvSpPr/>
            <p:nvPr/>
          </p:nvSpPr>
          <p:spPr>
            <a:xfrm>
              <a:off x="2081520" y="5843520"/>
              <a:ext cx="8280" cy="52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7" y="17"/>
                  </a:lnTo>
                  <a:lnTo>
                    <a:pt x="7" y="4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2"/>
            <p:cNvSpPr/>
            <p:nvPr/>
          </p:nvSpPr>
          <p:spPr>
            <a:xfrm>
              <a:off x="2083680" y="5839920"/>
              <a:ext cx="27360" cy="25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3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1" y="13"/>
                  </a:lnTo>
                  <a:lnTo>
                    <a:pt x="23" y="2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3"/>
            <p:cNvSpPr/>
            <p:nvPr/>
          </p:nvSpPr>
          <p:spPr>
            <a:xfrm>
              <a:off x="2067120" y="6027120"/>
              <a:ext cx="41400" cy="2484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1"/>
                  </a:moveTo>
                  <a:lnTo>
                    <a:pt x="3" y="12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3" y="9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4"/>
            <p:cNvSpPr/>
            <p:nvPr/>
          </p:nvSpPr>
          <p:spPr>
            <a:xfrm>
              <a:off x="2108520" y="6029640"/>
              <a:ext cx="39240" cy="226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29" y="10"/>
                  </a:lnTo>
                  <a:lnTo>
                    <a:pt x="24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15"/>
            <p:cNvSpPr/>
            <p:nvPr/>
          </p:nvSpPr>
          <p:spPr>
            <a:xfrm>
              <a:off x="2108520" y="6035400"/>
              <a:ext cx="33480" cy="35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30"/>
                  </a:moveTo>
                  <a:lnTo>
                    <a:pt x="25" y="18"/>
                  </a:lnTo>
                  <a:lnTo>
                    <a:pt x="24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16"/>
            <p:cNvSpPr/>
            <p:nvPr/>
          </p:nvSpPr>
          <p:spPr>
            <a:xfrm>
              <a:off x="2072880" y="6035400"/>
              <a:ext cx="35640" cy="35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30"/>
                  </a:moveTo>
                  <a:lnTo>
                    <a:pt x="2" y="18"/>
                  </a:lnTo>
                  <a:lnTo>
                    <a:pt x="5" y="10"/>
                  </a:lnTo>
                  <a:lnTo>
                    <a:pt x="9" y="4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3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17"/>
            <p:cNvSpPr/>
            <p:nvPr/>
          </p:nvSpPr>
          <p:spPr>
            <a:xfrm>
              <a:off x="2108520" y="6015240"/>
              <a:ext cx="28440" cy="3096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lnTo>
                    <a:pt x="0" y="19"/>
                  </a:lnTo>
                  <a:lnTo>
                    <a:pt x="1" y="10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4" y="1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18"/>
            <p:cNvSpPr/>
            <p:nvPr/>
          </p:nvSpPr>
          <p:spPr>
            <a:xfrm>
              <a:off x="2075400" y="6015240"/>
              <a:ext cx="33120" cy="309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8" y="26"/>
                  </a:moveTo>
                  <a:lnTo>
                    <a:pt x="26" y="14"/>
                  </a:lnTo>
                  <a:lnTo>
                    <a:pt x="22" y="7"/>
                  </a:lnTo>
                  <a:lnTo>
                    <a:pt x="17" y="3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19"/>
            <p:cNvSpPr/>
            <p:nvPr/>
          </p:nvSpPr>
          <p:spPr>
            <a:xfrm>
              <a:off x="2106360" y="6008040"/>
              <a:ext cx="5760" cy="38160"/>
            </a:xfrm>
            <a:custGeom>
              <a:avLst/>
              <a:gdLst/>
              <a:ahLst/>
              <a:rect l="l" t="t" r="r" b="b"/>
              <a:pathLst>
                <a:path w="5" h="32">
                  <a:moveTo>
                    <a:pt x="2" y="32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20"/>
            <p:cNvSpPr/>
            <p:nvPr/>
          </p:nvSpPr>
          <p:spPr>
            <a:xfrm>
              <a:off x="2084760" y="6045120"/>
              <a:ext cx="23760" cy="237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1"/>
            <p:cNvSpPr/>
            <p:nvPr/>
          </p:nvSpPr>
          <p:spPr>
            <a:xfrm>
              <a:off x="2096640" y="6047280"/>
              <a:ext cx="11880" cy="4032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lnTo>
                    <a:pt x="6" y="2"/>
                  </a:lnTo>
                  <a:lnTo>
                    <a:pt x="3" y="7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2" y="34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22"/>
            <p:cNvSpPr/>
            <p:nvPr/>
          </p:nvSpPr>
          <p:spPr>
            <a:xfrm>
              <a:off x="2108520" y="6046200"/>
              <a:ext cx="5760" cy="5220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0" y="0"/>
                  </a:moveTo>
                  <a:lnTo>
                    <a:pt x="2" y="4"/>
                  </a:lnTo>
                  <a:lnTo>
                    <a:pt x="3" y="8"/>
                  </a:lnTo>
                  <a:lnTo>
                    <a:pt x="5" y="16"/>
                  </a:lnTo>
                  <a:lnTo>
                    <a:pt x="5" y="44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23"/>
            <p:cNvSpPr/>
            <p:nvPr/>
          </p:nvSpPr>
          <p:spPr>
            <a:xfrm>
              <a:off x="2108520" y="6042960"/>
              <a:ext cx="23760" cy="25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4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6"/>
                  </a:lnTo>
                  <a:lnTo>
                    <a:pt x="19" y="13"/>
                  </a:lnTo>
                  <a:lnTo>
                    <a:pt x="20" y="22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24"/>
            <p:cNvSpPr/>
            <p:nvPr/>
          </p:nvSpPr>
          <p:spPr>
            <a:xfrm>
              <a:off x="2069280" y="5919840"/>
              <a:ext cx="56880" cy="2160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8" y="18"/>
                  </a:moveTo>
                  <a:lnTo>
                    <a:pt x="43" y="9"/>
                  </a:lnTo>
                  <a:lnTo>
                    <a:pt x="33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3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25"/>
            <p:cNvSpPr/>
            <p:nvPr/>
          </p:nvSpPr>
          <p:spPr>
            <a:xfrm>
              <a:off x="2064600" y="59306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52" y="9"/>
                  </a:moveTo>
                  <a:lnTo>
                    <a:pt x="43" y="2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26"/>
            <p:cNvSpPr/>
            <p:nvPr/>
          </p:nvSpPr>
          <p:spPr>
            <a:xfrm>
              <a:off x="2084760" y="5907960"/>
              <a:ext cx="41400" cy="334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5" y="28"/>
                  </a:moveTo>
                  <a:lnTo>
                    <a:pt x="32" y="13"/>
                  </a:lnTo>
                  <a:lnTo>
                    <a:pt x="25" y="6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27"/>
            <p:cNvSpPr/>
            <p:nvPr/>
          </p:nvSpPr>
          <p:spPr>
            <a:xfrm>
              <a:off x="2111040" y="5894640"/>
              <a:ext cx="16560" cy="4644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3" y="39"/>
                  </a:moveTo>
                  <a:lnTo>
                    <a:pt x="13" y="24"/>
                  </a:lnTo>
                  <a:lnTo>
                    <a:pt x="14" y="13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28"/>
            <p:cNvSpPr/>
            <p:nvPr/>
          </p:nvSpPr>
          <p:spPr>
            <a:xfrm>
              <a:off x="2126520" y="5905440"/>
              <a:ext cx="30960" cy="33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lnTo>
                    <a:pt x="7" y="12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29"/>
            <p:cNvSpPr/>
            <p:nvPr/>
          </p:nvSpPr>
          <p:spPr>
            <a:xfrm>
              <a:off x="2126520" y="5915160"/>
              <a:ext cx="61920" cy="2592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0" y="22"/>
                  </a:moveTo>
                  <a:lnTo>
                    <a:pt x="9" y="6"/>
                  </a:lnTo>
                  <a:lnTo>
                    <a:pt x="20" y="2"/>
                  </a:lnTo>
                  <a:lnTo>
                    <a:pt x="34" y="0"/>
                  </a:lnTo>
                  <a:lnTo>
                    <a:pt x="44" y="4"/>
                  </a:lnTo>
                  <a:lnTo>
                    <a:pt x="52" y="14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30"/>
            <p:cNvSpPr/>
            <p:nvPr/>
          </p:nvSpPr>
          <p:spPr>
            <a:xfrm>
              <a:off x="2126520" y="5932800"/>
              <a:ext cx="82080" cy="3672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0" y="7"/>
                  </a:moveTo>
                  <a:lnTo>
                    <a:pt x="14" y="0"/>
                  </a:lnTo>
                  <a:lnTo>
                    <a:pt x="47" y="0"/>
                  </a:lnTo>
                  <a:lnTo>
                    <a:pt x="58" y="7"/>
                  </a:lnTo>
                  <a:lnTo>
                    <a:pt x="66" y="17"/>
                  </a:lnTo>
                  <a:lnTo>
                    <a:pt x="69" y="31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1"/>
            <p:cNvSpPr/>
            <p:nvPr/>
          </p:nvSpPr>
          <p:spPr>
            <a:xfrm>
              <a:off x="2126520" y="5937480"/>
              <a:ext cx="47520" cy="666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3"/>
                  </a:moveTo>
                  <a:lnTo>
                    <a:pt x="16" y="0"/>
                  </a:lnTo>
                  <a:lnTo>
                    <a:pt x="29" y="3"/>
                  </a:lnTo>
                  <a:lnTo>
                    <a:pt x="38" y="13"/>
                  </a:lnTo>
                  <a:lnTo>
                    <a:pt x="40" y="30"/>
                  </a:lnTo>
                  <a:lnTo>
                    <a:pt x="40" y="42"/>
                  </a:lnTo>
                  <a:lnTo>
                    <a:pt x="36" y="56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32"/>
            <p:cNvSpPr/>
            <p:nvPr/>
          </p:nvSpPr>
          <p:spPr>
            <a:xfrm>
              <a:off x="2126520" y="5942520"/>
              <a:ext cx="21600" cy="475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0" y="0"/>
                  </a:moveTo>
                  <a:lnTo>
                    <a:pt x="13" y="3"/>
                  </a:lnTo>
                  <a:lnTo>
                    <a:pt x="18" y="10"/>
                  </a:lnTo>
                  <a:lnTo>
                    <a:pt x="18" y="25"/>
                  </a:lnTo>
                  <a:lnTo>
                    <a:pt x="16" y="40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33"/>
            <p:cNvSpPr/>
            <p:nvPr/>
          </p:nvSpPr>
          <p:spPr>
            <a:xfrm>
              <a:off x="2125440" y="5942520"/>
              <a:ext cx="9360" cy="5220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1" y="0"/>
                  </a:moveTo>
                  <a:lnTo>
                    <a:pt x="6" y="5"/>
                  </a:lnTo>
                  <a:lnTo>
                    <a:pt x="8" y="18"/>
                  </a:lnTo>
                  <a:lnTo>
                    <a:pt x="5" y="31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4"/>
            <p:cNvSpPr/>
            <p:nvPr/>
          </p:nvSpPr>
          <p:spPr>
            <a:xfrm>
              <a:off x="2112120" y="5942520"/>
              <a:ext cx="14040" cy="345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6" y="7"/>
                  </a:lnTo>
                  <a:lnTo>
                    <a:pt x="0" y="18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35"/>
            <p:cNvSpPr/>
            <p:nvPr/>
          </p:nvSpPr>
          <p:spPr>
            <a:xfrm>
              <a:off x="2084760" y="5938920"/>
              <a:ext cx="41400" cy="5004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3"/>
                  </a:moveTo>
                  <a:lnTo>
                    <a:pt x="26" y="0"/>
                  </a:lnTo>
                  <a:lnTo>
                    <a:pt x="13" y="2"/>
                  </a:lnTo>
                  <a:lnTo>
                    <a:pt x="5" y="10"/>
                  </a:lnTo>
                  <a:lnTo>
                    <a:pt x="0" y="25"/>
                  </a:lnTo>
                  <a:lnTo>
                    <a:pt x="3" y="4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6"/>
            <p:cNvSpPr/>
            <p:nvPr/>
          </p:nvSpPr>
          <p:spPr>
            <a:xfrm>
              <a:off x="2164680" y="6114240"/>
              <a:ext cx="33480" cy="1404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2"/>
                  </a:moveTo>
                  <a:lnTo>
                    <a:pt x="2" y="5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8" y="9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7"/>
            <p:cNvSpPr/>
            <p:nvPr/>
          </p:nvSpPr>
          <p:spPr>
            <a:xfrm>
              <a:off x="2164680" y="6120360"/>
              <a:ext cx="35640" cy="24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7"/>
                  </a:moveTo>
                  <a:lnTo>
                    <a:pt x="4" y="3"/>
                  </a:lnTo>
                  <a:lnTo>
                    <a:pt x="13" y="0"/>
                  </a:lnTo>
                  <a:lnTo>
                    <a:pt x="23" y="3"/>
                  </a:lnTo>
                  <a:lnTo>
                    <a:pt x="28" y="8"/>
                  </a:lnTo>
                  <a:lnTo>
                    <a:pt x="30" y="13"/>
                  </a:lnTo>
                  <a:lnTo>
                    <a:pt x="30" y="2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38"/>
            <p:cNvSpPr/>
            <p:nvPr/>
          </p:nvSpPr>
          <p:spPr>
            <a:xfrm>
              <a:off x="2164680" y="6108480"/>
              <a:ext cx="23760" cy="20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7"/>
                  </a:moveTo>
                  <a:lnTo>
                    <a:pt x="0" y="8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39"/>
            <p:cNvSpPr/>
            <p:nvPr/>
          </p:nvSpPr>
          <p:spPr>
            <a:xfrm>
              <a:off x="2162520" y="6098760"/>
              <a:ext cx="10440" cy="29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25"/>
                  </a:moveTo>
                  <a:lnTo>
                    <a:pt x="1" y="16"/>
                  </a:lnTo>
                  <a:lnTo>
                    <a:pt x="0" y="8"/>
                  </a:lnTo>
                  <a:lnTo>
                    <a:pt x="2" y="3"/>
                  </a:lnTo>
                  <a:lnTo>
                    <a:pt x="5" y="0"/>
                  </a:lnTo>
                  <a:lnTo>
                    <a:pt x="9" y="3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40"/>
            <p:cNvSpPr/>
            <p:nvPr/>
          </p:nvSpPr>
          <p:spPr>
            <a:xfrm>
              <a:off x="2145600" y="6107400"/>
              <a:ext cx="18720" cy="187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lnTo>
                    <a:pt x="11" y="6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1"/>
            <p:cNvSpPr/>
            <p:nvPr/>
          </p:nvSpPr>
          <p:spPr>
            <a:xfrm>
              <a:off x="2126520" y="6110640"/>
              <a:ext cx="37800" cy="176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lnTo>
                    <a:pt x="26" y="6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4" y="3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42"/>
            <p:cNvSpPr/>
            <p:nvPr/>
          </p:nvSpPr>
          <p:spPr>
            <a:xfrm>
              <a:off x="2112120" y="6123600"/>
              <a:ext cx="51120" cy="2160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4"/>
                  </a:moveTo>
                  <a:lnTo>
                    <a:pt x="34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3" y="10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43"/>
            <p:cNvSpPr/>
            <p:nvPr/>
          </p:nvSpPr>
          <p:spPr>
            <a:xfrm>
              <a:off x="2134800" y="6125040"/>
              <a:ext cx="29520" cy="414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5" y="3"/>
                  </a:moveTo>
                  <a:lnTo>
                    <a:pt x="15" y="0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3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4"/>
            <p:cNvSpPr/>
            <p:nvPr/>
          </p:nvSpPr>
          <p:spPr>
            <a:xfrm>
              <a:off x="2150280" y="6128640"/>
              <a:ext cx="12960" cy="28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0"/>
                  </a:moveTo>
                  <a:lnTo>
                    <a:pt x="3" y="2"/>
                  </a:lnTo>
                  <a:lnTo>
                    <a:pt x="0" y="6"/>
                  </a:lnTo>
                  <a:lnTo>
                    <a:pt x="0" y="15"/>
                  </a:lnTo>
                  <a:lnTo>
                    <a:pt x="2" y="2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45"/>
            <p:cNvSpPr/>
            <p:nvPr/>
          </p:nvSpPr>
          <p:spPr>
            <a:xfrm>
              <a:off x="2158560" y="6128640"/>
              <a:ext cx="5760" cy="320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5" y="27"/>
                  </a:lnTo>
                  <a:lnTo>
                    <a:pt x="5" y="2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46"/>
            <p:cNvSpPr/>
            <p:nvPr/>
          </p:nvSpPr>
          <p:spPr>
            <a:xfrm>
              <a:off x="2164680" y="6128640"/>
              <a:ext cx="8280" cy="212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3" y="4"/>
                  </a:lnTo>
                  <a:lnTo>
                    <a:pt x="6" y="10"/>
                  </a:lnTo>
                  <a:lnTo>
                    <a:pt x="7" y="1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47"/>
            <p:cNvSpPr/>
            <p:nvPr/>
          </p:nvSpPr>
          <p:spPr>
            <a:xfrm>
              <a:off x="2164680" y="6126120"/>
              <a:ext cx="24840" cy="2952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7" y="6"/>
                  </a:lnTo>
                  <a:lnTo>
                    <a:pt x="21" y="15"/>
                  </a:lnTo>
                  <a:lnTo>
                    <a:pt x="19" y="2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48"/>
            <p:cNvSpPr/>
            <p:nvPr/>
          </p:nvSpPr>
          <p:spPr>
            <a:xfrm>
              <a:off x="2062080" y="5843520"/>
              <a:ext cx="64080" cy="310320"/>
            </a:xfrm>
            <a:custGeom>
              <a:avLst/>
              <a:gdLst/>
              <a:ahLst/>
              <a:rect l="l" t="t" r="r" b="b"/>
              <a:pathLst>
                <a:path w="54" h="260">
                  <a:moveTo>
                    <a:pt x="15" y="0"/>
                  </a:moveTo>
                  <a:lnTo>
                    <a:pt x="9" y="21"/>
                  </a:lnTo>
                  <a:lnTo>
                    <a:pt x="4" y="49"/>
                  </a:lnTo>
                  <a:lnTo>
                    <a:pt x="0" y="83"/>
                  </a:lnTo>
                  <a:lnTo>
                    <a:pt x="0" y="174"/>
                  </a:lnTo>
                  <a:lnTo>
                    <a:pt x="2" y="223"/>
                  </a:lnTo>
                  <a:lnTo>
                    <a:pt x="6" y="260"/>
                  </a:lnTo>
                  <a:lnTo>
                    <a:pt x="5" y="232"/>
                  </a:lnTo>
                  <a:lnTo>
                    <a:pt x="6" y="205"/>
                  </a:lnTo>
                  <a:lnTo>
                    <a:pt x="9" y="169"/>
                  </a:lnTo>
                  <a:lnTo>
                    <a:pt x="13" y="141"/>
                  </a:lnTo>
                  <a:lnTo>
                    <a:pt x="18" y="106"/>
                  </a:lnTo>
                  <a:lnTo>
                    <a:pt x="24" y="83"/>
                  </a:lnTo>
                  <a:lnTo>
                    <a:pt x="32" y="70"/>
                  </a:lnTo>
                  <a:lnTo>
                    <a:pt x="41" y="65"/>
                  </a:lnTo>
                  <a:lnTo>
                    <a:pt x="49" y="66"/>
                  </a:lnTo>
                  <a:lnTo>
                    <a:pt x="54" y="7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9"/>
            <p:cNvSpPr/>
            <p:nvPr/>
          </p:nvSpPr>
          <p:spPr>
            <a:xfrm>
              <a:off x="2069280" y="6046200"/>
              <a:ext cx="36720" cy="10728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90"/>
                  </a:moveTo>
                  <a:lnTo>
                    <a:pt x="0" y="66"/>
                  </a:lnTo>
                  <a:lnTo>
                    <a:pt x="1" y="43"/>
                  </a:lnTo>
                  <a:lnTo>
                    <a:pt x="5" y="29"/>
                  </a:lnTo>
                  <a:lnTo>
                    <a:pt x="10" y="14"/>
                  </a:lnTo>
                  <a:lnTo>
                    <a:pt x="20" y="4"/>
                  </a:lnTo>
                  <a:lnTo>
                    <a:pt x="31" y="0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50"/>
            <p:cNvSpPr/>
            <p:nvPr/>
          </p:nvSpPr>
          <p:spPr>
            <a:xfrm>
              <a:off x="2164680" y="6123600"/>
              <a:ext cx="51120" cy="572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4"/>
                  </a:moveTo>
                  <a:lnTo>
                    <a:pt x="8" y="0"/>
                  </a:lnTo>
                  <a:lnTo>
                    <a:pt x="20" y="1"/>
                  </a:lnTo>
                  <a:lnTo>
                    <a:pt x="28" y="10"/>
                  </a:lnTo>
                  <a:lnTo>
                    <a:pt x="37" y="30"/>
                  </a:lnTo>
                  <a:lnTo>
                    <a:pt x="43" y="4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51"/>
            <p:cNvSpPr/>
            <p:nvPr/>
          </p:nvSpPr>
          <p:spPr>
            <a:xfrm>
              <a:off x="3029400" y="6041520"/>
              <a:ext cx="39240" cy="392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0" y="33"/>
                  </a:moveTo>
                  <a:lnTo>
                    <a:pt x="26" y="25"/>
                  </a:lnTo>
                  <a:lnTo>
                    <a:pt x="21" y="17"/>
                  </a:lnTo>
                  <a:lnTo>
                    <a:pt x="5" y="4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4" y="7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152"/>
          <p:cNvGrpSpPr/>
          <p:nvPr/>
        </p:nvGrpSpPr>
        <p:grpSpPr>
          <a:xfrm>
            <a:off x="455760" y="4521240"/>
            <a:ext cx="576000" cy="422280"/>
            <a:chOff x="455760" y="4521240"/>
            <a:chExt cx="576000" cy="422280"/>
          </a:xfrm>
        </p:grpSpPr>
        <p:sp>
          <p:nvSpPr>
            <p:cNvPr id="639" name="Freeform 153"/>
            <p:cNvSpPr/>
            <p:nvPr/>
          </p:nvSpPr>
          <p:spPr>
            <a:xfrm>
              <a:off x="455760" y="4521240"/>
              <a:ext cx="57600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54"/>
            <p:cNvSpPr/>
            <p:nvPr/>
          </p:nvSpPr>
          <p:spPr>
            <a:xfrm>
              <a:off x="671400" y="470232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55"/>
            <p:cNvSpPr/>
            <p:nvPr/>
          </p:nvSpPr>
          <p:spPr>
            <a:xfrm>
              <a:off x="725760" y="47023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56"/>
            <p:cNvSpPr/>
            <p:nvPr/>
          </p:nvSpPr>
          <p:spPr>
            <a:xfrm>
              <a:off x="780480" y="47023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7"/>
            <p:cNvSpPr/>
            <p:nvPr/>
          </p:nvSpPr>
          <p:spPr>
            <a:xfrm>
              <a:off x="671400" y="474444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58"/>
            <p:cNvSpPr/>
            <p:nvPr/>
          </p:nvSpPr>
          <p:spPr>
            <a:xfrm>
              <a:off x="725760" y="47444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59"/>
            <p:cNvSpPr/>
            <p:nvPr/>
          </p:nvSpPr>
          <p:spPr>
            <a:xfrm>
              <a:off x="780480" y="47444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60"/>
            <p:cNvSpPr/>
            <p:nvPr/>
          </p:nvSpPr>
          <p:spPr>
            <a:xfrm>
              <a:off x="671400" y="478332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61"/>
            <p:cNvSpPr/>
            <p:nvPr/>
          </p:nvSpPr>
          <p:spPr>
            <a:xfrm>
              <a:off x="725760" y="47833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62"/>
            <p:cNvSpPr/>
            <p:nvPr/>
          </p:nvSpPr>
          <p:spPr>
            <a:xfrm>
              <a:off x="780480" y="47833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63"/>
            <p:cNvSpPr/>
            <p:nvPr/>
          </p:nvSpPr>
          <p:spPr>
            <a:xfrm>
              <a:off x="528120" y="4610160"/>
              <a:ext cx="43164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Freeform 164"/>
          <p:cNvSpPr/>
          <p:nvPr/>
        </p:nvSpPr>
        <p:spPr>
          <a:xfrm>
            <a:off x="3992400" y="5491080"/>
            <a:ext cx="1860840" cy="1203480"/>
          </a:xfrm>
          <a:custGeom>
            <a:avLst/>
            <a:gdLst/>
            <a:ahLst/>
            <a:rect l="l" t="t" r="r" b="b"/>
            <a:pathLst>
              <a:path w="1410" h="758">
                <a:moveTo>
                  <a:pt x="0" y="250"/>
                </a:moveTo>
                <a:lnTo>
                  <a:pt x="784" y="0"/>
                </a:lnTo>
                <a:lnTo>
                  <a:pt x="1410" y="232"/>
                </a:lnTo>
                <a:lnTo>
                  <a:pt x="578" y="758"/>
                </a:lnTo>
                <a:lnTo>
                  <a:pt x="56" y="340"/>
                </a:lnTo>
                <a:lnTo>
                  <a:pt x="0" y="25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65"/>
          <p:cNvSpPr/>
          <p:nvPr/>
        </p:nvSpPr>
        <p:spPr>
          <a:xfrm>
            <a:off x="438480" y="53928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66"/>
          <p:cNvSpPr/>
          <p:nvPr/>
        </p:nvSpPr>
        <p:spPr>
          <a:xfrm>
            <a:off x="1017720" y="4840200"/>
            <a:ext cx="56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167"/>
          <p:cNvGrpSpPr/>
          <p:nvPr/>
        </p:nvGrpSpPr>
        <p:grpSpPr>
          <a:xfrm>
            <a:off x="1346040" y="5540400"/>
            <a:ext cx="598680" cy="171360"/>
            <a:chOff x="1346040" y="5540400"/>
            <a:chExt cx="598680" cy="171360"/>
          </a:xfrm>
        </p:grpSpPr>
        <p:sp>
          <p:nvSpPr>
            <p:cNvPr id="654" name="AutoShape 168"/>
            <p:cNvSpPr/>
            <p:nvPr/>
          </p:nvSpPr>
          <p:spPr>
            <a:xfrm>
              <a:off x="1346040" y="5540400"/>
              <a:ext cx="598680" cy="151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69"/>
            <p:cNvSpPr/>
            <p:nvPr/>
          </p:nvSpPr>
          <p:spPr>
            <a:xfrm>
              <a:off x="1392480" y="558828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70"/>
            <p:cNvSpPr/>
            <p:nvPr/>
          </p:nvSpPr>
          <p:spPr>
            <a:xfrm>
              <a:off x="1464480" y="558828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71"/>
            <p:cNvSpPr/>
            <p:nvPr/>
          </p:nvSpPr>
          <p:spPr>
            <a:xfrm>
              <a:off x="1539360" y="558828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72"/>
            <p:cNvSpPr/>
            <p:nvPr/>
          </p:nvSpPr>
          <p:spPr>
            <a:xfrm>
              <a:off x="1416240" y="568980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73"/>
            <p:cNvSpPr/>
            <p:nvPr/>
          </p:nvSpPr>
          <p:spPr>
            <a:xfrm>
              <a:off x="1851480" y="568800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Freeform 174"/>
          <p:cNvSpPr/>
          <p:nvPr/>
        </p:nvSpPr>
        <p:spPr>
          <a:xfrm>
            <a:off x="1677960" y="4203720"/>
            <a:ext cx="320760" cy="731880"/>
          </a:xfrm>
          <a:custGeom>
            <a:avLst/>
            <a:gdLst/>
            <a:ahLst/>
            <a:rect l="l" t="t" r="r" b="b"/>
            <a:pathLst>
              <a:path w="202" h="461">
                <a:moveTo>
                  <a:pt x="0" y="461"/>
                </a:moveTo>
                <a:lnTo>
                  <a:pt x="202" y="320"/>
                </a:lnTo>
                <a:lnTo>
                  <a:pt x="1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5"/>
          <p:cNvSpPr/>
          <p:nvPr/>
        </p:nvSpPr>
        <p:spPr>
          <a:xfrm>
            <a:off x="2385360" y="4294080"/>
            <a:ext cx="19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ител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т (сплиттер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76"/>
          <p:cNvSpPr/>
          <p:nvPr/>
        </p:nvSpPr>
        <p:spPr>
          <a:xfrm>
            <a:off x="5218200" y="5245200"/>
            <a:ext cx="318960" cy="617400"/>
          </a:xfrm>
          <a:custGeom>
            <a:avLst/>
            <a:gdLst/>
            <a:ahLst/>
            <a:rect l="l" t="t" r="r" b="b"/>
            <a:pathLst>
              <a:path w="201" h="389">
                <a:moveTo>
                  <a:pt x="0" y="340"/>
                </a:moveTo>
                <a:cubicBezTo>
                  <a:pt x="67" y="364"/>
                  <a:pt x="135" y="389"/>
                  <a:pt x="168" y="332"/>
                </a:cubicBezTo>
                <a:cubicBezTo>
                  <a:pt x="201" y="275"/>
                  <a:pt x="198" y="137"/>
                  <a:pt x="1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177"/>
          <p:cNvGrpSpPr/>
          <p:nvPr/>
        </p:nvGrpSpPr>
        <p:grpSpPr>
          <a:xfrm>
            <a:off x="3859200" y="5154480"/>
            <a:ext cx="1465200" cy="1167120"/>
            <a:chOff x="3859200" y="5154480"/>
            <a:chExt cx="1465200" cy="1167120"/>
          </a:xfrm>
        </p:grpSpPr>
        <p:sp>
          <p:nvSpPr>
            <p:cNvPr id="664" name="AutoShape 178"/>
            <p:cNvSpPr/>
            <p:nvPr/>
          </p:nvSpPr>
          <p:spPr>
            <a:xfrm>
              <a:off x="3859200" y="5154480"/>
              <a:ext cx="1465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79"/>
            <p:cNvSpPr/>
            <p:nvPr/>
          </p:nvSpPr>
          <p:spPr>
            <a:xfrm>
              <a:off x="3859920" y="5471640"/>
              <a:ext cx="599040" cy="844200"/>
            </a:xfrm>
            <a:custGeom>
              <a:avLst/>
              <a:gdLst/>
              <a:ahLst/>
              <a:rect l="l" t="t" r="r" b="b"/>
              <a:pathLst>
                <a:path w="523" h="737">
                  <a:moveTo>
                    <a:pt x="135" y="0"/>
                  </a:moveTo>
                  <a:lnTo>
                    <a:pt x="159" y="6"/>
                  </a:lnTo>
                  <a:lnTo>
                    <a:pt x="186" y="20"/>
                  </a:lnTo>
                  <a:lnTo>
                    <a:pt x="213" y="40"/>
                  </a:lnTo>
                  <a:lnTo>
                    <a:pt x="238" y="63"/>
                  </a:lnTo>
                  <a:lnTo>
                    <a:pt x="259" y="88"/>
                  </a:lnTo>
                  <a:lnTo>
                    <a:pt x="278" y="115"/>
                  </a:lnTo>
                  <a:lnTo>
                    <a:pt x="293" y="146"/>
                  </a:lnTo>
                  <a:lnTo>
                    <a:pt x="292" y="149"/>
                  </a:lnTo>
                  <a:lnTo>
                    <a:pt x="292" y="153"/>
                  </a:lnTo>
                  <a:lnTo>
                    <a:pt x="307" y="161"/>
                  </a:lnTo>
                  <a:lnTo>
                    <a:pt x="328" y="175"/>
                  </a:lnTo>
                  <a:lnTo>
                    <a:pt x="347" y="193"/>
                  </a:lnTo>
                  <a:lnTo>
                    <a:pt x="356" y="201"/>
                  </a:lnTo>
                  <a:lnTo>
                    <a:pt x="362" y="213"/>
                  </a:lnTo>
                  <a:lnTo>
                    <a:pt x="364" y="232"/>
                  </a:lnTo>
                  <a:lnTo>
                    <a:pt x="366" y="256"/>
                  </a:lnTo>
                  <a:lnTo>
                    <a:pt x="375" y="300"/>
                  </a:lnTo>
                  <a:lnTo>
                    <a:pt x="385" y="344"/>
                  </a:lnTo>
                  <a:lnTo>
                    <a:pt x="400" y="385"/>
                  </a:lnTo>
                  <a:lnTo>
                    <a:pt x="404" y="396"/>
                  </a:lnTo>
                  <a:lnTo>
                    <a:pt x="396" y="448"/>
                  </a:lnTo>
                  <a:lnTo>
                    <a:pt x="396" y="449"/>
                  </a:lnTo>
                  <a:lnTo>
                    <a:pt x="395" y="464"/>
                  </a:lnTo>
                  <a:lnTo>
                    <a:pt x="386" y="538"/>
                  </a:lnTo>
                  <a:lnTo>
                    <a:pt x="386" y="545"/>
                  </a:lnTo>
                  <a:lnTo>
                    <a:pt x="395" y="554"/>
                  </a:lnTo>
                  <a:lnTo>
                    <a:pt x="441" y="509"/>
                  </a:lnTo>
                  <a:lnTo>
                    <a:pt x="457" y="511"/>
                  </a:lnTo>
                  <a:lnTo>
                    <a:pt x="476" y="519"/>
                  </a:lnTo>
                  <a:lnTo>
                    <a:pt x="494" y="529"/>
                  </a:lnTo>
                  <a:lnTo>
                    <a:pt x="508" y="543"/>
                  </a:lnTo>
                  <a:lnTo>
                    <a:pt x="519" y="559"/>
                  </a:lnTo>
                  <a:lnTo>
                    <a:pt x="522" y="563"/>
                  </a:lnTo>
                  <a:lnTo>
                    <a:pt x="523" y="566"/>
                  </a:lnTo>
                  <a:lnTo>
                    <a:pt x="523" y="574"/>
                  </a:lnTo>
                  <a:lnTo>
                    <a:pt x="520" y="582"/>
                  </a:lnTo>
                  <a:lnTo>
                    <a:pt x="507" y="586"/>
                  </a:lnTo>
                  <a:lnTo>
                    <a:pt x="508" y="586"/>
                  </a:lnTo>
                  <a:lnTo>
                    <a:pt x="491" y="591"/>
                  </a:lnTo>
                  <a:lnTo>
                    <a:pt x="488" y="614"/>
                  </a:lnTo>
                  <a:lnTo>
                    <a:pt x="484" y="619"/>
                  </a:lnTo>
                  <a:lnTo>
                    <a:pt x="458" y="647"/>
                  </a:lnTo>
                  <a:lnTo>
                    <a:pt x="432" y="671"/>
                  </a:lnTo>
                  <a:lnTo>
                    <a:pt x="401" y="690"/>
                  </a:lnTo>
                  <a:lnTo>
                    <a:pt x="370" y="708"/>
                  </a:lnTo>
                  <a:lnTo>
                    <a:pt x="335" y="722"/>
                  </a:lnTo>
                  <a:lnTo>
                    <a:pt x="300" y="731"/>
                  </a:lnTo>
                  <a:lnTo>
                    <a:pt x="300" y="732"/>
                  </a:lnTo>
                  <a:lnTo>
                    <a:pt x="286" y="736"/>
                  </a:lnTo>
                  <a:lnTo>
                    <a:pt x="273" y="737"/>
                  </a:lnTo>
                  <a:lnTo>
                    <a:pt x="0" y="737"/>
                  </a:lnTo>
                  <a:lnTo>
                    <a:pt x="0" y="132"/>
                  </a:lnTo>
                  <a:lnTo>
                    <a:pt x="8" y="102"/>
                  </a:lnTo>
                  <a:lnTo>
                    <a:pt x="28" y="80"/>
                  </a:lnTo>
                  <a:lnTo>
                    <a:pt x="40" y="67"/>
                  </a:lnTo>
                  <a:lnTo>
                    <a:pt x="51" y="61"/>
                  </a:lnTo>
                  <a:lnTo>
                    <a:pt x="62" y="52"/>
                  </a:lnTo>
                  <a:lnTo>
                    <a:pt x="79" y="48"/>
                  </a:lnTo>
                  <a:lnTo>
                    <a:pt x="109" y="6"/>
                  </a:lnTo>
                  <a:lnTo>
                    <a:pt x="116" y="1"/>
                  </a:lnTo>
                  <a:lnTo>
                    <a:pt x="131" y="1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80"/>
            <p:cNvSpPr/>
            <p:nvPr/>
          </p:nvSpPr>
          <p:spPr>
            <a:xfrm>
              <a:off x="3995280" y="5155200"/>
              <a:ext cx="438480" cy="308160"/>
            </a:xfrm>
            <a:custGeom>
              <a:avLst/>
              <a:gdLst/>
              <a:ahLst/>
              <a:rect l="l" t="t" r="r" b="b"/>
              <a:pathLst>
                <a:path w="383" h="269">
                  <a:moveTo>
                    <a:pt x="12" y="268"/>
                  </a:moveTo>
                  <a:lnTo>
                    <a:pt x="26" y="262"/>
                  </a:lnTo>
                  <a:lnTo>
                    <a:pt x="41" y="258"/>
                  </a:lnTo>
                  <a:lnTo>
                    <a:pt x="56" y="258"/>
                  </a:lnTo>
                  <a:lnTo>
                    <a:pt x="73" y="262"/>
                  </a:lnTo>
                  <a:lnTo>
                    <a:pt x="85" y="269"/>
                  </a:lnTo>
                  <a:lnTo>
                    <a:pt x="121" y="239"/>
                  </a:lnTo>
                  <a:lnTo>
                    <a:pt x="117" y="230"/>
                  </a:lnTo>
                  <a:lnTo>
                    <a:pt x="117" y="222"/>
                  </a:lnTo>
                  <a:lnTo>
                    <a:pt x="125" y="188"/>
                  </a:lnTo>
                  <a:lnTo>
                    <a:pt x="125" y="186"/>
                  </a:lnTo>
                  <a:lnTo>
                    <a:pt x="131" y="177"/>
                  </a:lnTo>
                  <a:lnTo>
                    <a:pt x="141" y="170"/>
                  </a:lnTo>
                  <a:lnTo>
                    <a:pt x="151" y="168"/>
                  </a:lnTo>
                  <a:lnTo>
                    <a:pt x="163" y="169"/>
                  </a:lnTo>
                  <a:lnTo>
                    <a:pt x="173" y="174"/>
                  </a:lnTo>
                  <a:lnTo>
                    <a:pt x="180" y="183"/>
                  </a:lnTo>
                  <a:lnTo>
                    <a:pt x="183" y="193"/>
                  </a:lnTo>
                  <a:lnTo>
                    <a:pt x="183" y="205"/>
                  </a:lnTo>
                  <a:lnTo>
                    <a:pt x="179" y="216"/>
                  </a:lnTo>
                  <a:lnTo>
                    <a:pt x="225" y="235"/>
                  </a:lnTo>
                  <a:lnTo>
                    <a:pt x="249" y="179"/>
                  </a:lnTo>
                  <a:lnTo>
                    <a:pt x="265" y="168"/>
                  </a:lnTo>
                  <a:lnTo>
                    <a:pt x="260" y="149"/>
                  </a:lnTo>
                  <a:lnTo>
                    <a:pt x="282" y="154"/>
                  </a:lnTo>
                  <a:lnTo>
                    <a:pt x="305" y="156"/>
                  </a:lnTo>
                  <a:lnTo>
                    <a:pt x="326" y="154"/>
                  </a:lnTo>
                  <a:lnTo>
                    <a:pt x="335" y="151"/>
                  </a:lnTo>
                  <a:lnTo>
                    <a:pt x="339" y="154"/>
                  </a:lnTo>
                  <a:lnTo>
                    <a:pt x="358" y="158"/>
                  </a:lnTo>
                  <a:lnTo>
                    <a:pt x="362" y="158"/>
                  </a:lnTo>
                  <a:lnTo>
                    <a:pt x="370" y="156"/>
                  </a:lnTo>
                  <a:lnTo>
                    <a:pt x="378" y="151"/>
                  </a:lnTo>
                  <a:lnTo>
                    <a:pt x="383" y="141"/>
                  </a:lnTo>
                  <a:lnTo>
                    <a:pt x="381" y="136"/>
                  </a:lnTo>
                  <a:lnTo>
                    <a:pt x="377" y="128"/>
                  </a:lnTo>
                  <a:lnTo>
                    <a:pt x="353" y="101"/>
                  </a:lnTo>
                  <a:lnTo>
                    <a:pt x="325" y="75"/>
                  </a:lnTo>
                  <a:lnTo>
                    <a:pt x="295" y="55"/>
                  </a:lnTo>
                  <a:lnTo>
                    <a:pt x="263" y="36"/>
                  </a:lnTo>
                  <a:lnTo>
                    <a:pt x="229" y="21"/>
                  </a:lnTo>
                  <a:lnTo>
                    <a:pt x="193" y="10"/>
                  </a:lnTo>
                  <a:lnTo>
                    <a:pt x="156" y="3"/>
                  </a:lnTo>
                  <a:lnTo>
                    <a:pt x="136" y="0"/>
                  </a:lnTo>
                  <a:lnTo>
                    <a:pt x="108" y="15"/>
                  </a:lnTo>
                  <a:lnTo>
                    <a:pt x="81" y="33"/>
                  </a:lnTo>
                  <a:lnTo>
                    <a:pt x="57" y="55"/>
                  </a:lnTo>
                  <a:lnTo>
                    <a:pt x="37" y="79"/>
                  </a:lnTo>
                  <a:lnTo>
                    <a:pt x="19" y="106"/>
                  </a:lnTo>
                  <a:lnTo>
                    <a:pt x="7" y="132"/>
                  </a:lnTo>
                  <a:lnTo>
                    <a:pt x="0" y="151"/>
                  </a:lnTo>
                  <a:lnTo>
                    <a:pt x="8" y="173"/>
                  </a:lnTo>
                  <a:lnTo>
                    <a:pt x="12" y="194"/>
                  </a:lnTo>
                  <a:lnTo>
                    <a:pt x="12" y="216"/>
                  </a:lnTo>
                  <a:lnTo>
                    <a:pt x="8" y="238"/>
                  </a:lnTo>
                  <a:lnTo>
                    <a:pt x="0" y="258"/>
                  </a:lnTo>
                  <a:lnTo>
                    <a:pt x="8" y="265"/>
                  </a:lnTo>
                  <a:lnTo>
                    <a:pt x="12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1"/>
            <p:cNvSpPr/>
            <p:nvPr/>
          </p:nvSpPr>
          <p:spPr>
            <a:xfrm>
              <a:off x="4008960" y="5325840"/>
              <a:ext cx="396360" cy="312480"/>
            </a:xfrm>
            <a:custGeom>
              <a:avLst/>
              <a:gdLst/>
              <a:ahLst/>
              <a:rect l="l" t="t" r="r" b="b"/>
              <a:pathLst>
                <a:path w="346" h="273">
                  <a:moveTo>
                    <a:pt x="346" y="9"/>
                  </a:moveTo>
                  <a:lnTo>
                    <a:pt x="327" y="5"/>
                  </a:lnTo>
                  <a:lnTo>
                    <a:pt x="323" y="2"/>
                  </a:lnTo>
                  <a:lnTo>
                    <a:pt x="314" y="5"/>
                  </a:lnTo>
                  <a:lnTo>
                    <a:pt x="293" y="7"/>
                  </a:lnTo>
                  <a:lnTo>
                    <a:pt x="270" y="5"/>
                  </a:lnTo>
                  <a:lnTo>
                    <a:pt x="248" y="0"/>
                  </a:lnTo>
                  <a:lnTo>
                    <a:pt x="253" y="19"/>
                  </a:lnTo>
                  <a:lnTo>
                    <a:pt x="237" y="30"/>
                  </a:lnTo>
                  <a:lnTo>
                    <a:pt x="213" y="86"/>
                  </a:lnTo>
                  <a:lnTo>
                    <a:pt x="167" y="67"/>
                  </a:lnTo>
                  <a:lnTo>
                    <a:pt x="171" y="56"/>
                  </a:lnTo>
                  <a:lnTo>
                    <a:pt x="171" y="44"/>
                  </a:lnTo>
                  <a:lnTo>
                    <a:pt x="168" y="34"/>
                  </a:lnTo>
                  <a:lnTo>
                    <a:pt x="161" y="25"/>
                  </a:lnTo>
                  <a:lnTo>
                    <a:pt x="151" y="20"/>
                  </a:lnTo>
                  <a:lnTo>
                    <a:pt x="139" y="19"/>
                  </a:lnTo>
                  <a:lnTo>
                    <a:pt x="129" y="21"/>
                  </a:lnTo>
                  <a:lnTo>
                    <a:pt x="119" y="28"/>
                  </a:lnTo>
                  <a:lnTo>
                    <a:pt x="113" y="37"/>
                  </a:lnTo>
                  <a:lnTo>
                    <a:pt x="113" y="39"/>
                  </a:lnTo>
                  <a:lnTo>
                    <a:pt x="105" y="73"/>
                  </a:lnTo>
                  <a:lnTo>
                    <a:pt x="105" y="81"/>
                  </a:lnTo>
                  <a:lnTo>
                    <a:pt x="109" y="90"/>
                  </a:lnTo>
                  <a:lnTo>
                    <a:pt x="73" y="120"/>
                  </a:lnTo>
                  <a:lnTo>
                    <a:pt x="61" y="113"/>
                  </a:lnTo>
                  <a:lnTo>
                    <a:pt x="44" y="109"/>
                  </a:lnTo>
                  <a:lnTo>
                    <a:pt x="29" y="109"/>
                  </a:lnTo>
                  <a:lnTo>
                    <a:pt x="14" y="113"/>
                  </a:lnTo>
                  <a:lnTo>
                    <a:pt x="0" y="119"/>
                  </a:lnTo>
                  <a:lnTo>
                    <a:pt x="5" y="127"/>
                  </a:lnTo>
                  <a:lnTo>
                    <a:pt x="29" y="133"/>
                  </a:lnTo>
                  <a:lnTo>
                    <a:pt x="56" y="147"/>
                  </a:lnTo>
                  <a:lnTo>
                    <a:pt x="83" y="167"/>
                  </a:lnTo>
                  <a:lnTo>
                    <a:pt x="108" y="190"/>
                  </a:lnTo>
                  <a:lnTo>
                    <a:pt x="129" y="215"/>
                  </a:lnTo>
                  <a:lnTo>
                    <a:pt x="148" y="242"/>
                  </a:lnTo>
                  <a:lnTo>
                    <a:pt x="163" y="273"/>
                  </a:lnTo>
                  <a:lnTo>
                    <a:pt x="175" y="265"/>
                  </a:lnTo>
                  <a:lnTo>
                    <a:pt x="260" y="265"/>
                  </a:lnTo>
                  <a:lnTo>
                    <a:pt x="269" y="261"/>
                  </a:lnTo>
                  <a:lnTo>
                    <a:pt x="276" y="255"/>
                  </a:lnTo>
                  <a:lnTo>
                    <a:pt x="278" y="246"/>
                  </a:lnTo>
                  <a:lnTo>
                    <a:pt x="278" y="238"/>
                  </a:lnTo>
                  <a:lnTo>
                    <a:pt x="276" y="232"/>
                  </a:lnTo>
                  <a:lnTo>
                    <a:pt x="292" y="205"/>
                  </a:lnTo>
                  <a:lnTo>
                    <a:pt x="283" y="199"/>
                  </a:lnTo>
                  <a:lnTo>
                    <a:pt x="269" y="188"/>
                  </a:lnTo>
                  <a:lnTo>
                    <a:pt x="262" y="184"/>
                  </a:lnTo>
                  <a:lnTo>
                    <a:pt x="266" y="175"/>
                  </a:lnTo>
                  <a:lnTo>
                    <a:pt x="288" y="188"/>
                  </a:lnTo>
                  <a:lnTo>
                    <a:pt x="295" y="190"/>
                  </a:lnTo>
                  <a:lnTo>
                    <a:pt x="302" y="169"/>
                  </a:lnTo>
                  <a:lnTo>
                    <a:pt x="304" y="166"/>
                  </a:lnTo>
                  <a:lnTo>
                    <a:pt x="331" y="166"/>
                  </a:lnTo>
                  <a:lnTo>
                    <a:pt x="332" y="162"/>
                  </a:lnTo>
                  <a:lnTo>
                    <a:pt x="327" y="96"/>
                  </a:lnTo>
                  <a:lnTo>
                    <a:pt x="333" y="94"/>
                  </a:lnTo>
                  <a:lnTo>
                    <a:pt x="338" y="87"/>
                  </a:lnTo>
                  <a:lnTo>
                    <a:pt x="340" y="80"/>
                  </a:lnTo>
                  <a:lnTo>
                    <a:pt x="340" y="77"/>
                  </a:lnTo>
                  <a:lnTo>
                    <a:pt x="346" y="9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82"/>
            <p:cNvSpPr/>
            <p:nvPr/>
          </p:nvSpPr>
          <p:spPr>
            <a:xfrm>
              <a:off x="4347000" y="5491080"/>
              <a:ext cx="4320" cy="205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3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83"/>
            <p:cNvSpPr/>
            <p:nvPr/>
          </p:nvSpPr>
          <p:spPr>
            <a:xfrm flipH="1">
              <a:off x="4289760" y="5499000"/>
              <a:ext cx="1224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4"/>
            <p:cNvSpPr/>
            <p:nvPr/>
          </p:nvSpPr>
          <p:spPr>
            <a:xfrm>
              <a:off x="4132440" y="5429160"/>
              <a:ext cx="23040" cy="295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6"/>
                  </a:moveTo>
                  <a:lnTo>
                    <a:pt x="10" y="18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85"/>
            <p:cNvSpPr/>
            <p:nvPr/>
          </p:nvSpPr>
          <p:spPr>
            <a:xfrm>
              <a:off x="4325040" y="5409720"/>
              <a:ext cx="54000" cy="2628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8" y="0"/>
                  </a:moveTo>
                  <a:lnTo>
                    <a:pt x="47" y="13"/>
                  </a:lnTo>
                  <a:lnTo>
                    <a:pt x="31" y="23"/>
                  </a:lnTo>
                  <a:lnTo>
                    <a:pt x="16" y="21"/>
                  </a:lnTo>
                  <a:lnTo>
                    <a:pt x="5" y="17"/>
                  </a:lnTo>
                  <a:lnTo>
                    <a:pt x="0" y="16"/>
                  </a:lnTo>
                  <a:lnTo>
                    <a:pt x="28" y="21"/>
                  </a:lnTo>
                  <a:lnTo>
                    <a:pt x="32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86"/>
            <p:cNvSpPr/>
            <p:nvPr/>
          </p:nvSpPr>
          <p:spPr>
            <a:xfrm>
              <a:off x="4329720" y="5429160"/>
              <a:ext cx="13680" cy="169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4"/>
                  </a:moveTo>
                  <a:lnTo>
                    <a:pt x="8" y="15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7"/>
            <p:cNvSpPr/>
            <p:nvPr/>
          </p:nvSpPr>
          <p:spPr>
            <a:xfrm>
              <a:off x="4155840" y="5453280"/>
              <a:ext cx="27000" cy="14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5"/>
                  </a:moveTo>
                  <a:lnTo>
                    <a:pt x="11" y="13"/>
                  </a:lnTo>
                  <a:lnTo>
                    <a:pt x="24" y="13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88"/>
            <p:cNvSpPr/>
            <p:nvPr/>
          </p:nvSpPr>
          <p:spPr>
            <a:xfrm>
              <a:off x="4351680" y="5509440"/>
              <a:ext cx="29520" cy="64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6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5" y="6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89"/>
            <p:cNvSpPr/>
            <p:nvPr/>
          </p:nvSpPr>
          <p:spPr>
            <a:xfrm>
              <a:off x="4309200" y="5526720"/>
              <a:ext cx="29520" cy="273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1" y="24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4" y="0"/>
                  </a:lnTo>
                  <a:lnTo>
                    <a:pt x="26" y="13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0"/>
            <p:cNvSpPr/>
            <p:nvPr/>
          </p:nvSpPr>
          <p:spPr>
            <a:xfrm flipH="1">
              <a:off x="4307040" y="553680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91"/>
            <p:cNvSpPr/>
            <p:nvPr/>
          </p:nvSpPr>
          <p:spPr>
            <a:xfrm>
              <a:off x="4313520" y="5522040"/>
              <a:ext cx="108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92"/>
            <p:cNvSpPr/>
            <p:nvPr/>
          </p:nvSpPr>
          <p:spPr>
            <a:xfrm>
              <a:off x="4365360" y="5979240"/>
              <a:ext cx="232200" cy="137160"/>
            </a:xfrm>
            <a:custGeom>
              <a:avLst/>
              <a:gdLst/>
              <a:ahLst/>
              <a:rect l="l" t="t" r="r" b="b"/>
              <a:pathLst>
                <a:path w="203" h="120">
                  <a:moveTo>
                    <a:pt x="78" y="116"/>
                  </a:moveTo>
                  <a:lnTo>
                    <a:pt x="67" y="100"/>
                  </a:lnTo>
                  <a:lnTo>
                    <a:pt x="53" y="86"/>
                  </a:lnTo>
                  <a:lnTo>
                    <a:pt x="35" y="76"/>
                  </a:lnTo>
                  <a:lnTo>
                    <a:pt x="16" y="68"/>
                  </a:lnTo>
                  <a:lnTo>
                    <a:pt x="0" y="66"/>
                  </a:lnTo>
                  <a:lnTo>
                    <a:pt x="6" y="53"/>
                  </a:lnTo>
                  <a:lnTo>
                    <a:pt x="20" y="34"/>
                  </a:lnTo>
                  <a:lnTo>
                    <a:pt x="44" y="11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1"/>
                  </a:lnTo>
                  <a:lnTo>
                    <a:pt x="99" y="6"/>
                  </a:lnTo>
                  <a:lnTo>
                    <a:pt x="105" y="12"/>
                  </a:lnTo>
                  <a:lnTo>
                    <a:pt x="110" y="20"/>
                  </a:lnTo>
                  <a:lnTo>
                    <a:pt x="116" y="29"/>
                  </a:lnTo>
                  <a:lnTo>
                    <a:pt x="133" y="26"/>
                  </a:lnTo>
                  <a:lnTo>
                    <a:pt x="140" y="25"/>
                  </a:lnTo>
                  <a:lnTo>
                    <a:pt x="145" y="22"/>
                  </a:lnTo>
                  <a:lnTo>
                    <a:pt x="158" y="24"/>
                  </a:lnTo>
                  <a:lnTo>
                    <a:pt x="167" y="29"/>
                  </a:lnTo>
                  <a:lnTo>
                    <a:pt x="173" y="38"/>
                  </a:lnTo>
                  <a:lnTo>
                    <a:pt x="178" y="44"/>
                  </a:lnTo>
                  <a:lnTo>
                    <a:pt x="184" y="62"/>
                  </a:lnTo>
                  <a:lnTo>
                    <a:pt x="186" y="64"/>
                  </a:lnTo>
                  <a:lnTo>
                    <a:pt x="191" y="67"/>
                  </a:lnTo>
                  <a:lnTo>
                    <a:pt x="195" y="69"/>
                  </a:lnTo>
                  <a:lnTo>
                    <a:pt x="199" y="76"/>
                  </a:lnTo>
                  <a:lnTo>
                    <a:pt x="203" y="85"/>
                  </a:lnTo>
                  <a:lnTo>
                    <a:pt x="167" y="85"/>
                  </a:lnTo>
                  <a:lnTo>
                    <a:pt x="147" y="88"/>
                  </a:lnTo>
                  <a:lnTo>
                    <a:pt x="128" y="95"/>
                  </a:lnTo>
                  <a:lnTo>
                    <a:pt x="110" y="106"/>
                  </a:lnTo>
                  <a:lnTo>
                    <a:pt x="99" y="116"/>
                  </a:lnTo>
                  <a:lnTo>
                    <a:pt x="81" y="120"/>
                  </a:lnTo>
                  <a:lnTo>
                    <a:pt x="78" y="116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93"/>
            <p:cNvSpPr/>
            <p:nvPr/>
          </p:nvSpPr>
          <p:spPr>
            <a:xfrm>
              <a:off x="4529160" y="6040080"/>
              <a:ext cx="25200" cy="75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6"/>
                  </a:moveTo>
                  <a:lnTo>
                    <a:pt x="5" y="5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4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94"/>
            <p:cNvSpPr/>
            <p:nvPr/>
          </p:nvSpPr>
          <p:spPr>
            <a:xfrm>
              <a:off x="4312800" y="5959800"/>
              <a:ext cx="121320" cy="43560"/>
            </a:xfrm>
            <a:custGeom>
              <a:avLst/>
              <a:gdLst/>
              <a:ahLst/>
              <a:rect l="l" t="t" r="r" b="b"/>
              <a:pathLst>
                <a:path w="106" h="38">
                  <a:moveTo>
                    <a:pt x="90" y="28"/>
                  </a:moveTo>
                  <a:lnTo>
                    <a:pt x="89" y="27"/>
                  </a:lnTo>
                  <a:lnTo>
                    <a:pt x="81" y="24"/>
                  </a:lnTo>
                  <a:lnTo>
                    <a:pt x="67" y="20"/>
                  </a:lnTo>
                  <a:lnTo>
                    <a:pt x="49" y="20"/>
                  </a:lnTo>
                  <a:lnTo>
                    <a:pt x="32" y="24"/>
                  </a:lnTo>
                  <a:lnTo>
                    <a:pt x="15" y="29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42" y="0"/>
                  </a:lnTo>
                  <a:lnTo>
                    <a:pt x="106" y="19"/>
                  </a:lnTo>
                  <a:lnTo>
                    <a:pt x="90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95"/>
            <p:cNvSpPr/>
            <p:nvPr/>
          </p:nvSpPr>
          <p:spPr>
            <a:xfrm>
              <a:off x="4302360" y="5982480"/>
              <a:ext cx="113400" cy="11196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3" y="64"/>
                  </a:moveTo>
                  <a:lnTo>
                    <a:pt x="19" y="98"/>
                  </a:lnTo>
                  <a:lnTo>
                    <a:pt x="0" y="92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24" y="9"/>
                  </a:lnTo>
                  <a:lnTo>
                    <a:pt x="41" y="4"/>
                  </a:lnTo>
                  <a:lnTo>
                    <a:pt x="58" y="0"/>
                  </a:lnTo>
                  <a:lnTo>
                    <a:pt x="76" y="0"/>
                  </a:lnTo>
                  <a:lnTo>
                    <a:pt x="90" y="4"/>
                  </a:lnTo>
                  <a:lnTo>
                    <a:pt x="98" y="7"/>
                  </a:lnTo>
                  <a:lnTo>
                    <a:pt x="99" y="8"/>
                  </a:lnTo>
                  <a:lnTo>
                    <a:pt x="75" y="31"/>
                  </a:lnTo>
                  <a:lnTo>
                    <a:pt x="61" y="50"/>
                  </a:lnTo>
                  <a:lnTo>
                    <a:pt x="55" y="63"/>
                  </a:lnTo>
                  <a:lnTo>
                    <a:pt x="53" y="64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96"/>
            <p:cNvSpPr/>
            <p:nvPr/>
          </p:nvSpPr>
          <p:spPr>
            <a:xfrm>
              <a:off x="4302360" y="6087960"/>
              <a:ext cx="21600" cy="180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6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97"/>
            <p:cNvSpPr/>
            <p:nvPr/>
          </p:nvSpPr>
          <p:spPr>
            <a:xfrm>
              <a:off x="4491360" y="6001920"/>
              <a:ext cx="25920" cy="100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0"/>
                  </a:moveTo>
                  <a:lnTo>
                    <a:pt x="6" y="9"/>
                  </a:lnTo>
                  <a:lnTo>
                    <a:pt x="2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98"/>
            <p:cNvSpPr/>
            <p:nvPr/>
          </p:nvSpPr>
          <p:spPr>
            <a:xfrm>
              <a:off x="4442040" y="6022440"/>
              <a:ext cx="337680" cy="174240"/>
            </a:xfrm>
            <a:custGeom>
              <a:avLst/>
              <a:gdLst/>
              <a:ahLst/>
              <a:rect l="l" t="t" r="r" b="b"/>
              <a:pathLst>
                <a:path w="295" h="152">
                  <a:moveTo>
                    <a:pt x="14" y="82"/>
                  </a:moveTo>
                  <a:lnTo>
                    <a:pt x="32" y="78"/>
                  </a:lnTo>
                  <a:lnTo>
                    <a:pt x="43" y="68"/>
                  </a:lnTo>
                  <a:lnTo>
                    <a:pt x="61" y="57"/>
                  </a:lnTo>
                  <a:lnTo>
                    <a:pt x="80" y="50"/>
                  </a:lnTo>
                  <a:lnTo>
                    <a:pt x="100" y="47"/>
                  </a:lnTo>
                  <a:lnTo>
                    <a:pt x="136" y="47"/>
                  </a:lnTo>
                  <a:lnTo>
                    <a:pt x="132" y="38"/>
                  </a:lnTo>
                  <a:lnTo>
                    <a:pt x="128" y="31"/>
                  </a:lnTo>
                  <a:lnTo>
                    <a:pt x="124" y="29"/>
                  </a:lnTo>
                  <a:lnTo>
                    <a:pt x="119" y="26"/>
                  </a:lnTo>
                  <a:lnTo>
                    <a:pt x="117" y="24"/>
                  </a:lnTo>
                  <a:lnTo>
                    <a:pt x="111" y="6"/>
                  </a:lnTo>
                  <a:lnTo>
                    <a:pt x="106" y="0"/>
                  </a:lnTo>
                  <a:lnTo>
                    <a:pt x="292" y="47"/>
                  </a:lnTo>
                  <a:lnTo>
                    <a:pt x="295" y="54"/>
                  </a:lnTo>
                  <a:lnTo>
                    <a:pt x="295" y="63"/>
                  </a:lnTo>
                  <a:lnTo>
                    <a:pt x="292" y="71"/>
                  </a:lnTo>
                  <a:lnTo>
                    <a:pt x="147" y="148"/>
                  </a:lnTo>
                  <a:lnTo>
                    <a:pt x="137" y="152"/>
                  </a:lnTo>
                  <a:lnTo>
                    <a:pt x="128" y="152"/>
                  </a:lnTo>
                  <a:lnTo>
                    <a:pt x="0" y="105"/>
                  </a:lnTo>
                  <a:lnTo>
                    <a:pt x="12" y="101"/>
                  </a:lnTo>
                  <a:lnTo>
                    <a:pt x="15" y="93"/>
                  </a:lnTo>
                  <a:lnTo>
                    <a:pt x="15" y="85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99"/>
            <p:cNvSpPr/>
            <p:nvPr/>
          </p:nvSpPr>
          <p:spPr>
            <a:xfrm>
              <a:off x="4712400" y="5613480"/>
              <a:ext cx="532440" cy="519840"/>
            </a:xfrm>
            <a:custGeom>
              <a:avLst/>
              <a:gdLst/>
              <a:ahLst/>
              <a:rect l="l" t="t" r="r" b="b"/>
              <a:pathLst>
                <a:path w="465" h="454">
                  <a:moveTo>
                    <a:pt x="240" y="345"/>
                  </a:moveTo>
                  <a:lnTo>
                    <a:pt x="373" y="108"/>
                  </a:lnTo>
                  <a:lnTo>
                    <a:pt x="339" y="89"/>
                  </a:lnTo>
                  <a:lnTo>
                    <a:pt x="339" y="88"/>
                  </a:lnTo>
                  <a:lnTo>
                    <a:pt x="180" y="39"/>
                  </a:lnTo>
                  <a:lnTo>
                    <a:pt x="177" y="44"/>
                  </a:lnTo>
                  <a:lnTo>
                    <a:pt x="110" y="25"/>
                  </a:lnTo>
                  <a:lnTo>
                    <a:pt x="16" y="181"/>
                  </a:lnTo>
                  <a:lnTo>
                    <a:pt x="0" y="174"/>
                  </a:lnTo>
                  <a:lnTo>
                    <a:pt x="42" y="100"/>
                  </a:lnTo>
                  <a:lnTo>
                    <a:pt x="63" y="60"/>
                  </a:lnTo>
                  <a:lnTo>
                    <a:pt x="76" y="37"/>
                  </a:lnTo>
                  <a:lnTo>
                    <a:pt x="98" y="0"/>
                  </a:lnTo>
                  <a:lnTo>
                    <a:pt x="118" y="5"/>
                  </a:lnTo>
                  <a:lnTo>
                    <a:pt x="169" y="19"/>
                  </a:lnTo>
                  <a:lnTo>
                    <a:pt x="358" y="67"/>
                  </a:lnTo>
                  <a:lnTo>
                    <a:pt x="453" y="91"/>
                  </a:lnTo>
                  <a:lnTo>
                    <a:pt x="326" y="319"/>
                  </a:lnTo>
                  <a:lnTo>
                    <a:pt x="465" y="450"/>
                  </a:lnTo>
                  <a:lnTo>
                    <a:pt x="465" y="454"/>
                  </a:lnTo>
                  <a:lnTo>
                    <a:pt x="240" y="345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00"/>
            <p:cNvSpPr/>
            <p:nvPr/>
          </p:nvSpPr>
          <p:spPr>
            <a:xfrm>
              <a:off x="4651560" y="5642280"/>
              <a:ext cx="263160" cy="371160"/>
            </a:xfrm>
            <a:custGeom>
              <a:avLst/>
              <a:gdLst/>
              <a:ahLst/>
              <a:rect l="l" t="t" r="r" b="b"/>
              <a:pathLst>
                <a:path w="230" h="324">
                  <a:moveTo>
                    <a:pt x="119" y="182"/>
                  </a:moveTo>
                  <a:lnTo>
                    <a:pt x="131" y="189"/>
                  </a:lnTo>
                  <a:lnTo>
                    <a:pt x="69" y="297"/>
                  </a:lnTo>
                  <a:lnTo>
                    <a:pt x="58" y="290"/>
                  </a:lnTo>
                  <a:lnTo>
                    <a:pt x="55" y="290"/>
                  </a:lnTo>
                  <a:lnTo>
                    <a:pt x="52" y="291"/>
                  </a:lnTo>
                  <a:lnTo>
                    <a:pt x="50" y="294"/>
                  </a:lnTo>
                  <a:lnTo>
                    <a:pt x="50" y="299"/>
                  </a:lnTo>
                  <a:lnTo>
                    <a:pt x="52" y="301"/>
                  </a:lnTo>
                  <a:lnTo>
                    <a:pt x="53" y="304"/>
                  </a:lnTo>
                  <a:lnTo>
                    <a:pt x="63" y="310"/>
                  </a:lnTo>
                  <a:lnTo>
                    <a:pt x="58" y="324"/>
                  </a:lnTo>
                  <a:lnTo>
                    <a:pt x="0" y="274"/>
                  </a:lnTo>
                  <a:lnTo>
                    <a:pt x="11" y="254"/>
                  </a:lnTo>
                  <a:lnTo>
                    <a:pt x="69" y="156"/>
                  </a:lnTo>
                  <a:lnTo>
                    <a:pt x="163" y="0"/>
                  </a:lnTo>
                  <a:lnTo>
                    <a:pt x="230" y="19"/>
                  </a:lnTo>
                  <a:lnTo>
                    <a:pt x="224" y="33"/>
                  </a:lnTo>
                  <a:lnTo>
                    <a:pt x="208" y="27"/>
                  </a:lnTo>
                  <a:lnTo>
                    <a:pt x="203" y="28"/>
                  </a:lnTo>
                  <a:lnTo>
                    <a:pt x="201" y="30"/>
                  </a:lnTo>
                  <a:lnTo>
                    <a:pt x="199" y="33"/>
                  </a:lnTo>
                  <a:lnTo>
                    <a:pt x="199" y="35"/>
                  </a:lnTo>
                  <a:lnTo>
                    <a:pt x="201" y="36"/>
                  </a:lnTo>
                  <a:lnTo>
                    <a:pt x="201" y="38"/>
                  </a:lnTo>
                  <a:lnTo>
                    <a:pt x="203" y="41"/>
                  </a:lnTo>
                  <a:lnTo>
                    <a:pt x="214" y="45"/>
                  </a:lnTo>
                  <a:lnTo>
                    <a:pt x="138" y="177"/>
                  </a:lnTo>
                  <a:lnTo>
                    <a:pt x="125" y="170"/>
                  </a:lnTo>
                  <a:lnTo>
                    <a:pt x="121" y="172"/>
                  </a:lnTo>
                  <a:lnTo>
                    <a:pt x="119" y="173"/>
                  </a:lnTo>
                  <a:lnTo>
                    <a:pt x="119" y="176"/>
                  </a:lnTo>
                  <a:lnTo>
                    <a:pt x="116" y="177"/>
                  </a:lnTo>
                  <a:lnTo>
                    <a:pt x="119" y="181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01"/>
            <p:cNvSpPr/>
            <p:nvPr/>
          </p:nvSpPr>
          <p:spPr>
            <a:xfrm>
              <a:off x="4718160" y="5658120"/>
              <a:ext cx="382680" cy="47304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5" y="296"/>
                  </a:moveTo>
                  <a:lnTo>
                    <a:pt x="0" y="310"/>
                  </a:lnTo>
                  <a:lnTo>
                    <a:pt x="124" y="413"/>
                  </a:lnTo>
                  <a:lnTo>
                    <a:pt x="334" y="49"/>
                  </a:lnTo>
                  <a:lnTo>
                    <a:pt x="175" y="0"/>
                  </a:lnTo>
                  <a:lnTo>
                    <a:pt x="172" y="5"/>
                  </a:lnTo>
                  <a:lnTo>
                    <a:pt x="166" y="19"/>
                  </a:lnTo>
                  <a:lnTo>
                    <a:pt x="181" y="24"/>
                  </a:lnTo>
                  <a:lnTo>
                    <a:pt x="175" y="36"/>
                  </a:lnTo>
                  <a:lnTo>
                    <a:pt x="156" y="31"/>
                  </a:lnTo>
                  <a:lnTo>
                    <a:pt x="80" y="163"/>
                  </a:lnTo>
                  <a:lnTo>
                    <a:pt x="96" y="172"/>
                  </a:lnTo>
                  <a:lnTo>
                    <a:pt x="90" y="183"/>
                  </a:lnTo>
                  <a:lnTo>
                    <a:pt x="73" y="175"/>
                  </a:lnTo>
                  <a:lnTo>
                    <a:pt x="11" y="283"/>
                  </a:lnTo>
                  <a:lnTo>
                    <a:pt x="27" y="293"/>
                  </a:lnTo>
                  <a:lnTo>
                    <a:pt x="20" y="306"/>
                  </a:lnTo>
                  <a:lnTo>
                    <a:pt x="5" y="2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02"/>
            <p:cNvSpPr/>
            <p:nvPr/>
          </p:nvSpPr>
          <p:spPr>
            <a:xfrm>
              <a:off x="4860360" y="5714280"/>
              <a:ext cx="279360" cy="430560"/>
            </a:xfrm>
            <a:custGeom>
              <a:avLst/>
              <a:gdLst/>
              <a:ahLst/>
              <a:rect l="l" t="t" r="r" b="b"/>
              <a:pathLst>
                <a:path w="244" h="376">
                  <a:moveTo>
                    <a:pt x="210" y="1"/>
                  </a:moveTo>
                  <a:lnTo>
                    <a:pt x="244" y="20"/>
                  </a:lnTo>
                  <a:lnTo>
                    <a:pt x="111" y="257"/>
                  </a:lnTo>
                  <a:lnTo>
                    <a:pt x="42" y="376"/>
                  </a:lnTo>
                  <a:lnTo>
                    <a:pt x="0" y="364"/>
                  </a:lnTo>
                  <a:lnTo>
                    <a:pt x="210" y="0"/>
                  </a:lnTo>
                  <a:lnTo>
                    <a:pt x="210" y="1"/>
                  </a:lnTo>
                  <a:close/>
                </a:path>
              </a:pathLst>
            </a:cu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03"/>
            <p:cNvSpPr/>
            <p:nvPr/>
          </p:nvSpPr>
          <p:spPr>
            <a:xfrm>
              <a:off x="4879800" y="5673240"/>
              <a:ext cx="45720" cy="259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5" y="6"/>
                  </a:moveTo>
                  <a:lnTo>
                    <a:pt x="9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15" y="18"/>
                  </a:lnTo>
                  <a:lnTo>
                    <a:pt x="34" y="23"/>
                  </a:lnTo>
                  <a:lnTo>
                    <a:pt x="40" y="11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04"/>
            <p:cNvSpPr/>
            <p:nvPr/>
          </p:nvSpPr>
          <p:spPr>
            <a:xfrm>
              <a:off x="4784760" y="5837040"/>
              <a:ext cx="43200" cy="3060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2" y="7"/>
                  </a:moveTo>
                  <a:lnTo>
                    <a:pt x="9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15" y="19"/>
                  </a:lnTo>
                  <a:lnTo>
                    <a:pt x="32" y="27"/>
                  </a:lnTo>
                  <a:lnTo>
                    <a:pt x="38" y="16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05"/>
            <p:cNvSpPr/>
            <p:nvPr/>
          </p:nvSpPr>
          <p:spPr>
            <a:xfrm>
              <a:off x="4709160" y="5974560"/>
              <a:ext cx="39960" cy="3420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3" y="20"/>
                  </a:moveTo>
                  <a:lnTo>
                    <a:pt x="3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9" y="7"/>
                  </a:lnTo>
                  <a:lnTo>
                    <a:pt x="35" y="17"/>
                  </a:lnTo>
                  <a:lnTo>
                    <a:pt x="28" y="3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06"/>
            <p:cNvSpPr/>
            <p:nvPr/>
          </p:nvSpPr>
          <p:spPr>
            <a:xfrm>
              <a:off x="5085720" y="5668560"/>
              <a:ext cx="232560" cy="31032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192" y="0"/>
                  </a:moveTo>
                  <a:lnTo>
                    <a:pt x="193" y="3"/>
                  </a:lnTo>
                  <a:lnTo>
                    <a:pt x="199" y="10"/>
                  </a:lnTo>
                  <a:lnTo>
                    <a:pt x="203" y="21"/>
                  </a:lnTo>
                  <a:lnTo>
                    <a:pt x="203" y="180"/>
                  </a:lnTo>
                  <a:lnTo>
                    <a:pt x="202" y="183"/>
                  </a:lnTo>
                  <a:lnTo>
                    <a:pt x="199" y="185"/>
                  </a:lnTo>
                  <a:lnTo>
                    <a:pt x="197" y="189"/>
                  </a:lnTo>
                  <a:lnTo>
                    <a:pt x="0" y="271"/>
                  </a:lnTo>
                  <a:lnTo>
                    <a:pt x="127" y="43"/>
                  </a:lnTo>
                  <a:lnTo>
                    <a:pt x="32" y="19"/>
                  </a:lnTo>
                  <a:lnTo>
                    <a:pt x="108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07"/>
            <p:cNvSpPr/>
            <p:nvPr/>
          </p:nvSpPr>
          <p:spPr>
            <a:xfrm>
              <a:off x="4489920" y="5704200"/>
              <a:ext cx="270360" cy="233280"/>
            </a:xfrm>
            <a:custGeom>
              <a:avLst/>
              <a:gdLst/>
              <a:ahLst/>
              <a:rect l="l" t="t" r="r" b="b"/>
              <a:pathLst>
                <a:path w="236" h="204">
                  <a:moveTo>
                    <a:pt x="153" y="199"/>
                  </a:moveTo>
                  <a:lnTo>
                    <a:pt x="210" y="102"/>
                  </a:lnTo>
                  <a:lnTo>
                    <a:pt x="194" y="95"/>
                  </a:lnTo>
                  <a:lnTo>
                    <a:pt x="236" y="21"/>
                  </a:lnTo>
                  <a:lnTo>
                    <a:pt x="80" y="0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5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138"/>
                  </a:lnTo>
                  <a:lnTo>
                    <a:pt x="149" y="204"/>
                  </a:lnTo>
                  <a:lnTo>
                    <a:pt x="153" y="199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08"/>
            <p:cNvSpPr/>
            <p:nvPr/>
          </p:nvSpPr>
          <p:spPr>
            <a:xfrm>
              <a:off x="4522320" y="5334120"/>
              <a:ext cx="697320" cy="393840"/>
            </a:xfrm>
            <a:custGeom>
              <a:avLst/>
              <a:gdLst/>
              <a:ahLst/>
              <a:rect l="l" t="t" r="r" b="b"/>
              <a:pathLst>
                <a:path w="609" h="344">
                  <a:moveTo>
                    <a:pt x="229" y="304"/>
                  </a:moveTo>
                  <a:lnTo>
                    <a:pt x="208" y="344"/>
                  </a:lnTo>
                  <a:lnTo>
                    <a:pt x="52" y="323"/>
                  </a:lnTo>
                  <a:lnTo>
                    <a:pt x="39" y="320"/>
                  </a:lnTo>
                  <a:lnTo>
                    <a:pt x="25" y="319"/>
                  </a:lnTo>
                  <a:lnTo>
                    <a:pt x="14" y="311"/>
                  </a:lnTo>
                  <a:lnTo>
                    <a:pt x="5" y="301"/>
                  </a:lnTo>
                  <a:lnTo>
                    <a:pt x="0" y="288"/>
                  </a:lnTo>
                  <a:lnTo>
                    <a:pt x="30" y="36"/>
                  </a:lnTo>
                  <a:lnTo>
                    <a:pt x="34" y="23"/>
                  </a:lnTo>
                  <a:lnTo>
                    <a:pt x="40" y="13"/>
                  </a:lnTo>
                  <a:lnTo>
                    <a:pt x="52" y="4"/>
                  </a:lnTo>
                  <a:lnTo>
                    <a:pt x="62" y="0"/>
                  </a:lnTo>
                  <a:lnTo>
                    <a:pt x="568" y="9"/>
                  </a:lnTo>
                  <a:lnTo>
                    <a:pt x="577" y="11"/>
                  </a:lnTo>
                  <a:lnTo>
                    <a:pt x="583" y="14"/>
                  </a:lnTo>
                  <a:lnTo>
                    <a:pt x="587" y="22"/>
                  </a:lnTo>
                  <a:lnTo>
                    <a:pt x="590" y="32"/>
                  </a:lnTo>
                  <a:lnTo>
                    <a:pt x="609" y="280"/>
                  </a:lnTo>
                  <a:lnTo>
                    <a:pt x="606" y="287"/>
                  </a:lnTo>
                  <a:lnTo>
                    <a:pt x="600" y="292"/>
                  </a:lnTo>
                  <a:lnTo>
                    <a:pt x="524" y="311"/>
                  </a:lnTo>
                  <a:lnTo>
                    <a:pt x="335" y="263"/>
                  </a:lnTo>
                  <a:lnTo>
                    <a:pt x="349" y="63"/>
                  </a:lnTo>
                  <a:lnTo>
                    <a:pt x="346" y="54"/>
                  </a:lnTo>
                  <a:lnTo>
                    <a:pt x="342" y="46"/>
                  </a:lnTo>
                  <a:lnTo>
                    <a:pt x="333" y="38"/>
                  </a:lnTo>
                  <a:lnTo>
                    <a:pt x="324" y="37"/>
                  </a:lnTo>
                  <a:lnTo>
                    <a:pt x="322" y="36"/>
                  </a:lnTo>
                  <a:lnTo>
                    <a:pt x="71" y="32"/>
                  </a:lnTo>
                  <a:lnTo>
                    <a:pt x="61" y="41"/>
                  </a:lnTo>
                  <a:lnTo>
                    <a:pt x="54" y="51"/>
                  </a:lnTo>
                  <a:lnTo>
                    <a:pt x="34" y="281"/>
                  </a:lnTo>
                  <a:lnTo>
                    <a:pt x="229" y="30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09"/>
            <p:cNvSpPr/>
            <p:nvPr/>
          </p:nvSpPr>
          <p:spPr>
            <a:xfrm>
              <a:off x="4561200" y="5370840"/>
              <a:ext cx="360720" cy="311400"/>
            </a:xfrm>
            <a:custGeom>
              <a:avLst/>
              <a:gdLst/>
              <a:ahLst/>
              <a:rect l="l" t="t" r="r" b="b"/>
              <a:pathLst>
                <a:path w="315" h="272">
                  <a:moveTo>
                    <a:pt x="255" y="28"/>
                  </a:moveTo>
                  <a:lnTo>
                    <a:pt x="252" y="25"/>
                  </a:lnTo>
                  <a:lnTo>
                    <a:pt x="249" y="23"/>
                  </a:lnTo>
                  <a:lnTo>
                    <a:pt x="240" y="23"/>
                  </a:lnTo>
                  <a:lnTo>
                    <a:pt x="193" y="22"/>
                  </a:lnTo>
                  <a:lnTo>
                    <a:pt x="131" y="22"/>
                  </a:lnTo>
                  <a:lnTo>
                    <a:pt x="91" y="25"/>
                  </a:lnTo>
                  <a:lnTo>
                    <a:pt x="63" y="25"/>
                  </a:lnTo>
                  <a:lnTo>
                    <a:pt x="57" y="29"/>
                  </a:lnTo>
                  <a:lnTo>
                    <a:pt x="52" y="36"/>
                  </a:lnTo>
                  <a:lnTo>
                    <a:pt x="51" y="38"/>
                  </a:lnTo>
                  <a:lnTo>
                    <a:pt x="43" y="112"/>
                  </a:lnTo>
                  <a:lnTo>
                    <a:pt x="40" y="184"/>
                  </a:lnTo>
                  <a:lnTo>
                    <a:pt x="39" y="215"/>
                  </a:lnTo>
                  <a:lnTo>
                    <a:pt x="39" y="226"/>
                  </a:lnTo>
                  <a:lnTo>
                    <a:pt x="40" y="231"/>
                  </a:lnTo>
                  <a:lnTo>
                    <a:pt x="47" y="234"/>
                  </a:lnTo>
                  <a:lnTo>
                    <a:pt x="52" y="234"/>
                  </a:lnTo>
                  <a:lnTo>
                    <a:pt x="101" y="241"/>
                  </a:lnTo>
                  <a:lnTo>
                    <a:pt x="153" y="248"/>
                  </a:lnTo>
                  <a:lnTo>
                    <a:pt x="205" y="249"/>
                  </a:lnTo>
                  <a:lnTo>
                    <a:pt x="208" y="249"/>
                  </a:lnTo>
                  <a:lnTo>
                    <a:pt x="195" y="272"/>
                  </a:lnTo>
                  <a:lnTo>
                    <a:pt x="0" y="249"/>
                  </a:lnTo>
                  <a:lnTo>
                    <a:pt x="20" y="19"/>
                  </a:lnTo>
                  <a:lnTo>
                    <a:pt x="27" y="9"/>
                  </a:lnTo>
                  <a:lnTo>
                    <a:pt x="37" y="0"/>
                  </a:lnTo>
                  <a:lnTo>
                    <a:pt x="288" y="4"/>
                  </a:lnTo>
                  <a:lnTo>
                    <a:pt x="290" y="5"/>
                  </a:lnTo>
                  <a:lnTo>
                    <a:pt x="299" y="6"/>
                  </a:lnTo>
                  <a:lnTo>
                    <a:pt x="308" y="14"/>
                  </a:lnTo>
                  <a:lnTo>
                    <a:pt x="312" y="22"/>
                  </a:lnTo>
                  <a:lnTo>
                    <a:pt x="315" y="31"/>
                  </a:lnTo>
                  <a:lnTo>
                    <a:pt x="301" y="231"/>
                  </a:lnTo>
                  <a:lnTo>
                    <a:pt x="250" y="217"/>
                  </a:lnTo>
                  <a:lnTo>
                    <a:pt x="255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10"/>
            <p:cNvSpPr/>
            <p:nvPr/>
          </p:nvSpPr>
          <p:spPr>
            <a:xfrm>
              <a:off x="4605840" y="5396040"/>
              <a:ext cx="247320" cy="25992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211" y="195"/>
                  </a:moveTo>
                  <a:lnTo>
                    <a:pt x="191" y="190"/>
                  </a:lnTo>
                  <a:lnTo>
                    <a:pt x="169" y="227"/>
                  </a:lnTo>
                  <a:lnTo>
                    <a:pt x="166" y="227"/>
                  </a:lnTo>
                  <a:lnTo>
                    <a:pt x="114" y="226"/>
                  </a:lnTo>
                  <a:lnTo>
                    <a:pt x="62" y="219"/>
                  </a:lnTo>
                  <a:lnTo>
                    <a:pt x="13" y="212"/>
                  </a:lnTo>
                  <a:lnTo>
                    <a:pt x="8" y="212"/>
                  </a:lnTo>
                  <a:lnTo>
                    <a:pt x="1" y="209"/>
                  </a:lnTo>
                  <a:lnTo>
                    <a:pt x="0" y="204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4" y="90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8" y="7"/>
                  </a:lnTo>
                  <a:lnTo>
                    <a:pt x="24" y="3"/>
                  </a:lnTo>
                  <a:lnTo>
                    <a:pt x="52" y="3"/>
                  </a:lnTo>
                  <a:lnTo>
                    <a:pt x="92" y="0"/>
                  </a:lnTo>
                  <a:lnTo>
                    <a:pt x="154" y="0"/>
                  </a:lnTo>
                  <a:lnTo>
                    <a:pt x="201" y="1"/>
                  </a:lnTo>
                  <a:lnTo>
                    <a:pt x="210" y="1"/>
                  </a:lnTo>
                  <a:lnTo>
                    <a:pt x="213" y="3"/>
                  </a:lnTo>
                  <a:lnTo>
                    <a:pt x="216" y="6"/>
                  </a:lnTo>
                  <a:lnTo>
                    <a:pt x="211" y="19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11"/>
            <p:cNvSpPr/>
            <p:nvPr/>
          </p:nvSpPr>
          <p:spPr>
            <a:xfrm flipH="1">
              <a:off x="4884120" y="5406120"/>
              <a:ext cx="7920" cy="21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12"/>
            <p:cNvSpPr/>
            <p:nvPr/>
          </p:nvSpPr>
          <p:spPr>
            <a:xfrm>
              <a:off x="4033080" y="5912640"/>
              <a:ext cx="133920" cy="402840"/>
            </a:xfrm>
            <a:custGeom>
              <a:avLst/>
              <a:gdLst/>
              <a:ahLst/>
              <a:rect l="l" t="t" r="r" b="b"/>
              <a:pathLst>
                <a:path w="117" h="352">
                  <a:moveTo>
                    <a:pt x="0" y="0"/>
                  </a:moveTo>
                  <a:lnTo>
                    <a:pt x="7" y="64"/>
                  </a:lnTo>
                  <a:lnTo>
                    <a:pt x="15" y="126"/>
                  </a:lnTo>
                  <a:lnTo>
                    <a:pt x="31" y="188"/>
                  </a:lnTo>
                  <a:lnTo>
                    <a:pt x="48" y="248"/>
                  </a:lnTo>
                  <a:lnTo>
                    <a:pt x="68" y="297"/>
                  </a:lnTo>
                  <a:lnTo>
                    <a:pt x="88" y="333"/>
                  </a:lnTo>
                  <a:lnTo>
                    <a:pt x="98" y="344"/>
                  </a:lnTo>
                  <a:lnTo>
                    <a:pt x="117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13"/>
            <p:cNvSpPr/>
            <p:nvPr/>
          </p:nvSpPr>
          <p:spPr>
            <a:xfrm>
              <a:off x="4312800" y="6106320"/>
              <a:ext cx="72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14"/>
            <p:cNvSpPr/>
            <p:nvPr/>
          </p:nvSpPr>
          <p:spPr>
            <a:xfrm flipH="1">
              <a:off x="4296240" y="6095880"/>
              <a:ext cx="54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5"/>
            <p:cNvSpPr/>
            <p:nvPr/>
          </p:nvSpPr>
          <p:spPr>
            <a:xfrm>
              <a:off x="4114440" y="5609160"/>
              <a:ext cx="81000" cy="37440"/>
            </a:xfrm>
            <a:custGeom>
              <a:avLst/>
              <a:gdLst/>
              <a:ahLst/>
              <a:rect l="l" t="t" r="r" b="b"/>
              <a:pathLst>
                <a:path w="71" h="33">
                  <a:moveTo>
                    <a:pt x="71" y="33"/>
                  </a:moveTo>
                  <a:lnTo>
                    <a:pt x="62" y="27"/>
                  </a:lnTo>
                  <a:lnTo>
                    <a:pt x="52" y="20"/>
                  </a:lnTo>
                  <a:lnTo>
                    <a:pt x="43" y="15"/>
                  </a:lnTo>
                  <a:lnTo>
                    <a:pt x="32" y="12"/>
                  </a:lnTo>
                  <a:lnTo>
                    <a:pt x="22" y="7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16"/>
          <p:cNvGrpSpPr/>
          <p:nvPr/>
        </p:nvGrpSpPr>
        <p:grpSpPr>
          <a:xfrm>
            <a:off x="5221440" y="5116680"/>
            <a:ext cx="598320" cy="171360"/>
            <a:chOff x="5221440" y="5116680"/>
            <a:chExt cx="598320" cy="171360"/>
          </a:xfrm>
        </p:grpSpPr>
        <p:sp>
          <p:nvSpPr>
            <p:cNvPr id="703" name="AutoShape 217"/>
            <p:cNvSpPr/>
            <p:nvPr/>
          </p:nvSpPr>
          <p:spPr>
            <a:xfrm>
              <a:off x="5221440" y="511668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218"/>
            <p:cNvSpPr/>
            <p:nvPr/>
          </p:nvSpPr>
          <p:spPr>
            <a:xfrm>
              <a:off x="5267520" y="51645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219"/>
            <p:cNvSpPr/>
            <p:nvPr/>
          </p:nvSpPr>
          <p:spPr>
            <a:xfrm>
              <a:off x="5339520" y="516456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220"/>
            <p:cNvSpPr/>
            <p:nvPr/>
          </p:nvSpPr>
          <p:spPr>
            <a:xfrm>
              <a:off x="5414760" y="51645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221"/>
            <p:cNvSpPr/>
            <p:nvPr/>
          </p:nvSpPr>
          <p:spPr>
            <a:xfrm>
              <a:off x="5291640" y="52660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22"/>
            <p:cNvSpPr/>
            <p:nvPr/>
          </p:nvSpPr>
          <p:spPr>
            <a:xfrm>
              <a:off x="5726880" y="52642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23"/>
          <p:cNvGrpSpPr/>
          <p:nvPr/>
        </p:nvGrpSpPr>
        <p:grpSpPr>
          <a:xfrm>
            <a:off x="898560" y="2249640"/>
            <a:ext cx="598320" cy="171360"/>
            <a:chOff x="898560" y="2249640"/>
            <a:chExt cx="598320" cy="171360"/>
          </a:xfrm>
        </p:grpSpPr>
        <p:sp>
          <p:nvSpPr>
            <p:cNvPr id="710" name="AutoShape 224"/>
            <p:cNvSpPr/>
            <p:nvPr/>
          </p:nvSpPr>
          <p:spPr>
            <a:xfrm>
              <a:off x="898560" y="224964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25"/>
            <p:cNvSpPr/>
            <p:nvPr/>
          </p:nvSpPr>
          <p:spPr>
            <a:xfrm>
              <a:off x="944640" y="229752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226"/>
            <p:cNvSpPr/>
            <p:nvPr/>
          </p:nvSpPr>
          <p:spPr>
            <a:xfrm>
              <a:off x="1016640" y="229752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227"/>
            <p:cNvSpPr/>
            <p:nvPr/>
          </p:nvSpPr>
          <p:spPr>
            <a:xfrm>
              <a:off x="1091880" y="229752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28"/>
            <p:cNvSpPr/>
            <p:nvPr/>
          </p:nvSpPr>
          <p:spPr>
            <a:xfrm>
              <a:off x="968760" y="239904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29"/>
            <p:cNvSpPr/>
            <p:nvPr/>
          </p:nvSpPr>
          <p:spPr>
            <a:xfrm>
              <a:off x="1404000" y="239724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230"/>
          <p:cNvSpPr/>
          <p:nvPr/>
        </p:nvSpPr>
        <p:spPr>
          <a:xfrm>
            <a:off x="826920" y="3146400"/>
            <a:ext cx="5172120" cy="106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ная 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31"/>
          <p:cNvSpPr/>
          <p:nvPr/>
        </p:nvSpPr>
        <p:spPr>
          <a:xfrm>
            <a:off x="765360" y="18892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32"/>
          <p:cNvSpPr/>
          <p:nvPr/>
        </p:nvSpPr>
        <p:spPr>
          <a:xfrm>
            <a:off x="2350080" y="3144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233"/>
          <p:cNvSpPr/>
          <p:nvPr/>
        </p:nvSpPr>
        <p:spPr>
          <a:xfrm>
            <a:off x="3587760" y="2701800"/>
            <a:ext cx="473040" cy="576360"/>
          </a:xfrm>
          <a:custGeom>
            <a:avLst/>
            <a:gdLst/>
            <a:ahLst/>
            <a:rect l="l" t="t" r="r" b="b"/>
            <a:pathLst>
              <a:path w="326" h="287">
                <a:moveTo>
                  <a:pt x="326" y="287"/>
                </a:moveTo>
                <a:cubicBezTo>
                  <a:pt x="319" y="247"/>
                  <a:pt x="318" y="84"/>
                  <a:pt x="285" y="42"/>
                </a:cubicBezTo>
                <a:cubicBezTo>
                  <a:pt x="252" y="0"/>
                  <a:pt x="175" y="32"/>
                  <a:pt x="128" y="34"/>
                </a:cubicBezTo>
                <a:cubicBezTo>
                  <a:pt x="81" y="36"/>
                  <a:pt x="27" y="50"/>
                  <a:pt x="0" y="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234"/>
          <p:cNvGrpSpPr/>
          <p:nvPr/>
        </p:nvGrpSpPr>
        <p:grpSpPr>
          <a:xfrm>
            <a:off x="3900600" y="3287880"/>
            <a:ext cx="598320" cy="171360"/>
            <a:chOff x="3900600" y="3287880"/>
            <a:chExt cx="598320" cy="171360"/>
          </a:xfrm>
        </p:grpSpPr>
        <p:sp>
          <p:nvSpPr>
            <p:cNvPr id="721" name="AutoShape 235"/>
            <p:cNvSpPr/>
            <p:nvPr/>
          </p:nvSpPr>
          <p:spPr>
            <a:xfrm>
              <a:off x="3900600" y="328788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236"/>
            <p:cNvSpPr/>
            <p:nvPr/>
          </p:nvSpPr>
          <p:spPr>
            <a:xfrm>
              <a:off x="3946680" y="33357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237"/>
            <p:cNvSpPr/>
            <p:nvPr/>
          </p:nvSpPr>
          <p:spPr>
            <a:xfrm>
              <a:off x="4018680" y="333576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38"/>
            <p:cNvSpPr/>
            <p:nvPr/>
          </p:nvSpPr>
          <p:spPr>
            <a:xfrm>
              <a:off x="4093920" y="33357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39"/>
            <p:cNvSpPr/>
            <p:nvPr/>
          </p:nvSpPr>
          <p:spPr>
            <a:xfrm>
              <a:off x="3970800" y="34372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240"/>
            <p:cNvSpPr/>
            <p:nvPr/>
          </p:nvSpPr>
          <p:spPr>
            <a:xfrm>
              <a:off x="4406040" y="34354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Freeform 241"/>
          <p:cNvSpPr/>
          <p:nvPr/>
        </p:nvSpPr>
        <p:spPr>
          <a:xfrm>
            <a:off x="898560" y="3152880"/>
            <a:ext cx="1119240" cy="1038240"/>
          </a:xfrm>
          <a:custGeom>
            <a:avLst/>
            <a:gdLst/>
            <a:ahLst/>
            <a:rect l="l" t="t" r="r" b="b"/>
            <a:pathLst>
              <a:path w="705" h="654">
                <a:moveTo>
                  <a:pt x="692" y="654"/>
                </a:moveTo>
                <a:cubicBezTo>
                  <a:pt x="680" y="631"/>
                  <a:pt x="705" y="542"/>
                  <a:pt x="620" y="516"/>
                </a:cubicBezTo>
                <a:cubicBezTo>
                  <a:pt x="535" y="490"/>
                  <a:pt x="278" y="514"/>
                  <a:pt x="180" y="498"/>
                </a:cubicBezTo>
                <a:cubicBezTo>
                  <a:pt x="82" y="482"/>
                  <a:pt x="57" y="466"/>
                  <a:pt x="30" y="418"/>
                </a:cubicBezTo>
                <a:cubicBezTo>
                  <a:pt x="3" y="370"/>
                  <a:pt x="0" y="265"/>
                  <a:pt x="16" y="210"/>
                </a:cubicBezTo>
                <a:cubicBezTo>
                  <a:pt x="32" y="155"/>
                  <a:pt x="103" y="123"/>
                  <a:pt x="127" y="88"/>
                </a:cubicBezTo>
                <a:cubicBezTo>
                  <a:pt x="151" y="53"/>
                  <a:pt x="152" y="18"/>
                  <a:pt x="158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42"/>
          <p:cNvSpPr/>
          <p:nvPr/>
        </p:nvSpPr>
        <p:spPr>
          <a:xfrm flipV="1">
            <a:off x="4241880" y="3884760"/>
            <a:ext cx="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43"/>
          <p:cNvSpPr/>
          <p:nvPr/>
        </p:nvSpPr>
        <p:spPr>
          <a:xfrm>
            <a:off x="4010040" y="4403880"/>
            <a:ext cx="46368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244"/>
          <p:cNvSpPr/>
          <p:nvPr/>
        </p:nvSpPr>
        <p:spPr>
          <a:xfrm>
            <a:off x="4486320" y="4457880"/>
            <a:ext cx="1141200" cy="125280"/>
          </a:xfrm>
          <a:custGeom>
            <a:avLst/>
            <a:gdLst/>
            <a:ahLst/>
            <a:rect l="l" t="t" r="r" b="b"/>
            <a:pathLst>
              <a:path w="719" h="79">
                <a:moveTo>
                  <a:pt x="719" y="79"/>
                </a:moveTo>
                <a:cubicBezTo>
                  <a:pt x="684" y="71"/>
                  <a:pt x="562" y="43"/>
                  <a:pt x="507" y="31"/>
                </a:cubicBezTo>
                <a:cubicBezTo>
                  <a:pt x="452" y="19"/>
                  <a:pt x="470" y="11"/>
                  <a:pt x="386" y="6"/>
                </a:cubicBezTo>
                <a:cubicBezTo>
                  <a:pt x="302" y="1"/>
                  <a:pt x="80" y="1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245"/>
          <p:cNvGrpSpPr/>
          <p:nvPr/>
        </p:nvGrpSpPr>
        <p:grpSpPr>
          <a:xfrm>
            <a:off x="5518080" y="4265640"/>
            <a:ext cx="576360" cy="422280"/>
            <a:chOff x="5518080" y="4265640"/>
            <a:chExt cx="576360" cy="422280"/>
          </a:xfrm>
        </p:grpSpPr>
        <p:sp>
          <p:nvSpPr>
            <p:cNvPr id="732" name="Freeform 246"/>
            <p:cNvSpPr/>
            <p:nvPr/>
          </p:nvSpPr>
          <p:spPr>
            <a:xfrm>
              <a:off x="5518080" y="4265640"/>
              <a:ext cx="57636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47"/>
            <p:cNvSpPr/>
            <p:nvPr/>
          </p:nvSpPr>
          <p:spPr>
            <a:xfrm>
              <a:off x="5734080" y="444672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48"/>
            <p:cNvSpPr/>
            <p:nvPr/>
          </p:nvSpPr>
          <p:spPr>
            <a:xfrm>
              <a:off x="5788440" y="44467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49"/>
            <p:cNvSpPr/>
            <p:nvPr/>
          </p:nvSpPr>
          <p:spPr>
            <a:xfrm>
              <a:off x="5843160" y="44467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50"/>
            <p:cNvSpPr/>
            <p:nvPr/>
          </p:nvSpPr>
          <p:spPr>
            <a:xfrm>
              <a:off x="5734080" y="448884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1"/>
            <p:cNvSpPr/>
            <p:nvPr/>
          </p:nvSpPr>
          <p:spPr>
            <a:xfrm>
              <a:off x="5788440" y="44888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52"/>
            <p:cNvSpPr/>
            <p:nvPr/>
          </p:nvSpPr>
          <p:spPr>
            <a:xfrm>
              <a:off x="5843160" y="44888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53"/>
            <p:cNvSpPr/>
            <p:nvPr/>
          </p:nvSpPr>
          <p:spPr>
            <a:xfrm>
              <a:off x="5734080" y="452772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54"/>
            <p:cNvSpPr/>
            <p:nvPr/>
          </p:nvSpPr>
          <p:spPr>
            <a:xfrm>
              <a:off x="5788440" y="45277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55"/>
            <p:cNvSpPr/>
            <p:nvPr/>
          </p:nvSpPr>
          <p:spPr>
            <a:xfrm>
              <a:off x="5843160" y="45277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56"/>
            <p:cNvSpPr/>
            <p:nvPr/>
          </p:nvSpPr>
          <p:spPr>
            <a:xfrm>
              <a:off x="5590440" y="4354560"/>
              <a:ext cx="43200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Line 257"/>
          <p:cNvSpPr/>
          <p:nvPr/>
        </p:nvSpPr>
        <p:spPr>
          <a:xfrm flipV="1">
            <a:off x="4232160" y="34318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58"/>
          <p:cNvGrpSpPr/>
          <p:nvPr/>
        </p:nvGrpSpPr>
        <p:grpSpPr>
          <a:xfrm>
            <a:off x="6985080" y="4986360"/>
            <a:ext cx="1960560" cy="1432080"/>
            <a:chOff x="6985080" y="4986360"/>
            <a:chExt cx="1960560" cy="1432080"/>
          </a:xfrm>
        </p:grpSpPr>
        <p:sp>
          <p:nvSpPr>
            <p:cNvPr id="745" name="AutoShape 259"/>
            <p:cNvSpPr/>
            <p:nvPr/>
          </p:nvSpPr>
          <p:spPr>
            <a:xfrm>
              <a:off x="6985080" y="4986360"/>
              <a:ext cx="196056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260"/>
            <p:cNvGrpSpPr/>
            <p:nvPr/>
          </p:nvGrpSpPr>
          <p:grpSpPr>
            <a:xfrm>
              <a:off x="6985080" y="4986360"/>
              <a:ext cx="1960200" cy="1432080"/>
              <a:chOff x="6985080" y="4986360"/>
              <a:chExt cx="1960200" cy="1432080"/>
            </a:xfrm>
          </p:grpSpPr>
          <p:sp>
            <p:nvSpPr>
              <p:cNvPr id="747" name="Freeform 261"/>
              <p:cNvSpPr/>
              <p:nvPr/>
            </p:nvSpPr>
            <p:spPr>
              <a:xfrm>
                <a:off x="8547840" y="5018400"/>
                <a:ext cx="310680" cy="356760"/>
              </a:xfrm>
              <a:custGeom>
                <a:avLst/>
                <a:gdLst/>
                <a:ahLst/>
                <a:rect l="l" t="t" r="r" b="b"/>
                <a:pathLst>
                  <a:path w="2660" h="3054">
                    <a:moveTo>
                      <a:pt x="1588" y="0"/>
                    </a:moveTo>
                    <a:lnTo>
                      <a:pt x="1456" y="98"/>
                    </a:lnTo>
                    <a:lnTo>
                      <a:pt x="1268" y="253"/>
                    </a:lnTo>
                    <a:lnTo>
                      <a:pt x="1079" y="414"/>
                    </a:lnTo>
                    <a:lnTo>
                      <a:pt x="949" y="521"/>
                    </a:lnTo>
                    <a:lnTo>
                      <a:pt x="879" y="582"/>
                    </a:lnTo>
                    <a:lnTo>
                      <a:pt x="856" y="628"/>
                    </a:lnTo>
                    <a:lnTo>
                      <a:pt x="843" y="677"/>
                    </a:lnTo>
                    <a:lnTo>
                      <a:pt x="820" y="763"/>
                    </a:lnTo>
                    <a:lnTo>
                      <a:pt x="738" y="827"/>
                    </a:lnTo>
                    <a:lnTo>
                      <a:pt x="589" y="879"/>
                    </a:lnTo>
                    <a:lnTo>
                      <a:pt x="432" y="918"/>
                    </a:lnTo>
                    <a:lnTo>
                      <a:pt x="333" y="957"/>
                    </a:lnTo>
                    <a:lnTo>
                      <a:pt x="286" y="1028"/>
                    </a:lnTo>
                    <a:lnTo>
                      <a:pt x="292" y="1107"/>
                    </a:lnTo>
                    <a:lnTo>
                      <a:pt x="349" y="1176"/>
                    </a:lnTo>
                    <a:lnTo>
                      <a:pt x="401" y="1256"/>
                    </a:lnTo>
                    <a:lnTo>
                      <a:pt x="333" y="1302"/>
                    </a:lnTo>
                    <a:lnTo>
                      <a:pt x="271" y="1348"/>
                    </a:lnTo>
                    <a:lnTo>
                      <a:pt x="238" y="1403"/>
                    </a:lnTo>
                    <a:lnTo>
                      <a:pt x="257" y="1495"/>
                    </a:lnTo>
                    <a:lnTo>
                      <a:pt x="219" y="1493"/>
                    </a:lnTo>
                    <a:lnTo>
                      <a:pt x="185" y="1513"/>
                    </a:lnTo>
                    <a:lnTo>
                      <a:pt x="168" y="1544"/>
                    </a:lnTo>
                    <a:lnTo>
                      <a:pt x="178" y="1598"/>
                    </a:lnTo>
                    <a:lnTo>
                      <a:pt x="198" y="1665"/>
                    </a:lnTo>
                    <a:lnTo>
                      <a:pt x="196" y="1742"/>
                    </a:lnTo>
                    <a:lnTo>
                      <a:pt x="171" y="1797"/>
                    </a:lnTo>
                    <a:lnTo>
                      <a:pt x="95" y="1827"/>
                    </a:lnTo>
                    <a:lnTo>
                      <a:pt x="36" y="1899"/>
                    </a:lnTo>
                    <a:lnTo>
                      <a:pt x="6" y="1959"/>
                    </a:lnTo>
                    <a:lnTo>
                      <a:pt x="0" y="2043"/>
                    </a:lnTo>
                    <a:lnTo>
                      <a:pt x="51" y="2165"/>
                    </a:lnTo>
                    <a:lnTo>
                      <a:pt x="365" y="2511"/>
                    </a:lnTo>
                    <a:lnTo>
                      <a:pt x="428" y="2598"/>
                    </a:lnTo>
                    <a:lnTo>
                      <a:pt x="446" y="2692"/>
                    </a:lnTo>
                    <a:lnTo>
                      <a:pt x="445" y="2774"/>
                    </a:lnTo>
                    <a:lnTo>
                      <a:pt x="423" y="2861"/>
                    </a:lnTo>
                    <a:lnTo>
                      <a:pt x="401" y="2961"/>
                    </a:lnTo>
                    <a:lnTo>
                      <a:pt x="368" y="3054"/>
                    </a:lnTo>
                    <a:lnTo>
                      <a:pt x="1898" y="3033"/>
                    </a:lnTo>
                    <a:lnTo>
                      <a:pt x="2660" y="1523"/>
                    </a:lnTo>
                    <a:lnTo>
                      <a:pt x="1588" y="0"/>
                    </a:lnTo>
                    <a:close/>
                  </a:path>
                </a:pathLst>
              </a:custGeom>
              <a:solidFill>
                <a:srgbClr val="f1b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62"/>
              <p:cNvSpPr/>
              <p:nvPr/>
            </p:nvSpPr>
            <p:spPr>
              <a:xfrm>
                <a:off x="8547840" y="5018400"/>
                <a:ext cx="310680" cy="356760"/>
              </a:xfrm>
              <a:custGeom>
                <a:avLst/>
                <a:gdLst/>
                <a:ahLst/>
                <a:rect l="l" t="t" r="r" b="b"/>
                <a:pathLst>
                  <a:path w="2660" h="3054">
                    <a:moveTo>
                      <a:pt x="1588" y="0"/>
                    </a:moveTo>
                    <a:lnTo>
                      <a:pt x="1456" y="98"/>
                    </a:lnTo>
                    <a:lnTo>
                      <a:pt x="1268" y="253"/>
                    </a:lnTo>
                    <a:lnTo>
                      <a:pt x="1079" y="414"/>
                    </a:lnTo>
                    <a:lnTo>
                      <a:pt x="949" y="521"/>
                    </a:lnTo>
                    <a:lnTo>
                      <a:pt x="879" y="582"/>
                    </a:lnTo>
                    <a:lnTo>
                      <a:pt x="856" y="628"/>
                    </a:lnTo>
                    <a:lnTo>
                      <a:pt x="843" y="677"/>
                    </a:lnTo>
                    <a:lnTo>
                      <a:pt x="820" y="763"/>
                    </a:lnTo>
                    <a:lnTo>
                      <a:pt x="738" y="827"/>
                    </a:lnTo>
                    <a:lnTo>
                      <a:pt x="589" y="879"/>
                    </a:lnTo>
                    <a:lnTo>
                      <a:pt x="432" y="918"/>
                    </a:lnTo>
                    <a:lnTo>
                      <a:pt x="333" y="957"/>
                    </a:lnTo>
                    <a:lnTo>
                      <a:pt x="286" y="1028"/>
                    </a:lnTo>
                    <a:lnTo>
                      <a:pt x="292" y="1107"/>
                    </a:lnTo>
                    <a:lnTo>
                      <a:pt x="349" y="1176"/>
                    </a:lnTo>
                    <a:lnTo>
                      <a:pt x="401" y="1256"/>
                    </a:lnTo>
                    <a:lnTo>
                      <a:pt x="333" y="1302"/>
                    </a:lnTo>
                    <a:lnTo>
                      <a:pt x="271" y="1348"/>
                    </a:lnTo>
                    <a:lnTo>
                      <a:pt x="238" y="1403"/>
                    </a:lnTo>
                    <a:lnTo>
                      <a:pt x="257" y="1495"/>
                    </a:lnTo>
                    <a:lnTo>
                      <a:pt x="219" y="1493"/>
                    </a:lnTo>
                    <a:lnTo>
                      <a:pt x="185" y="1513"/>
                    </a:lnTo>
                    <a:lnTo>
                      <a:pt x="168" y="1544"/>
                    </a:lnTo>
                    <a:lnTo>
                      <a:pt x="178" y="1598"/>
                    </a:lnTo>
                    <a:lnTo>
                      <a:pt x="198" y="1665"/>
                    </a:lnTo>
                    <a:lnTo>
                      <a:pt x="196" y="1742"/>
                    </a:lnTo>
                    <a:lnTo>
                      <a:pt x="171" y="1797"/>
                    </a:lnTo>
                    <a:lnTo>
                      <a:pt x="95" y="1827"/>
                    </a:lnTo>
                    <a:lnTo>
                      <a:pt x="36" y="1899"/>
                    </a:lnTo>
                    <a:lnTo>
                      <a:pt x="6" y="1959"/>
                    </a:lnTo>
                    <a:lnTo>
                      <a:pt x="0" y="2043"/>
                    </a:lnTo>
                    <a:lnTo>
                      <a:pt x="51" y="2165"/>
                    </a:lnTo>
                    <a:lnTo>
                      <a:pt x="365" y="2511"/>
                    </a:lnTo>
                    <a:lnTo>
                      <a:pt x="428" y="2598"/>
                    </a:lnTo>
                    <a:lnTo>
                      <a:pt x="446" y="2692"/>
                    </a:lnTo>
                    <a:lnTo>
                      <a:pt x="445" y="2774"/>
                    </a:lnTo>
                    <a:lnTo>
                      <a:pt x="423" y="2861"/>
                    </a:lnTo>
                    <a:lnTo>
                      <a:pt x="401" y="2961"/>
                    </a:lnTo>
                    <a:lnTo>
                      <a:pt x="368" y="3054"/>
                    </a:lnTo>
                    <a:lnTo>
                      <a:pt x="1898" y="3033"/>
                    </a:lnTo>
                    <a:lnTo>
                      <a:pt x="2660" y="1523"/>
                    </a:lnTo>
                    <a:lnTo>
                      <a:pt x="1588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263"/>
              <p:cNvSpPr/>
              <p:nvPr/>
            </p:nvSpPr>
            <p:spPr>
              <a:xfrm>
                <a:off x="8685360" y="4986360"/>
                <a:ext cx="244440" cy="233640"/>
              </a:xfrm>
              <a:custGeom>
                <a:avLst/>
                <a:gdLst/>
                <a:ahLst/>
                <a:rect l="l" t="t" r="r" b="b"/>
                <a:pathLst>
                  <a:path w="2107" h="1996">
                    <a:moveTo>
                      <a:pt x="477" y="2"/>
                    </a:moveTo>
                    <a:lnTo>
                      <a:pt x="397" y="29"/>
                    </a:lnTo>
                    <a:lnTo>
                      <a:pt x="315" y="67"/>
                    </a:lnTo>
                    <a:lnTo>
                      <a:pt x="226" y="125"/>
                    </a:lnTo>
                    <a:lnTo>
                      <a:pt x="161" y="193"/>
                    </a:lnTo>
                    <a:lnTo>
                      <a:pt x="78" y="270"/>
                    </a:lnTo>
                    <a:lnTo>
                      <a:pt x="19" y="339"/>
                    </a:lnTo>
                    <a:lnTo>
                      <a:pt x="0" y="412"/>
                    </a:lnTo>
                    <a:lnTo>
                      <a:pt x="24" y="494"/>
                    </a:lnTo>
                    <a:lnTo>
                      <a:pt x="95" y="529"/>
                    </a:lnTo>
                    <a:lnTo>
                      <a:pt x="192" y="449"/>
                    </a:lnTo>
                    <a:lnTo>
                      <a:pt x="278" y="377"/>
                    </a:lnTo>
                    <a:lnTo>
                      <a:pt x="369" y="386"/>
                    </a:lnTo>
                    <a:lnTo>
                      <a:pt x="442" y="414"/>
                    </a:lnTo>
                    <a:lnTo>
                      <a:pt x="509" y="458"/>
                    </a:lnTo>
                    <a:lnTo>
                      <a:pt x="559" y="522"/>
                    </a:lnTo>
                    <a:lnTo>
                      <a:pt x="602" y="599"/>
                    </a:lnTo>
                    <a:lnTo>
                      <a:pt x="673" y="665"/>
                    </a:lnTo>
                    <a:lnTo>
                      <a:pt x="633" y="790"/>
                    </a:lnTo>
                    <a:lnTo>
                      <a:pt x="623" y="886"/>
                    </a:lnTo>
                    <a:lnTo>
                      <a:pt x="636" y="983"/>
                    </a:lnTo>
                    <a:lnTo>
                      <a:pt x="606" y="1060"/>
                    </a:lnTo>
                    <a:lnTo>
                      <a:pt x="561" y="1123"/>
                    </a:lnTo>
                    <a:lnTo>
                      <a:pt x="509" y="1181"/>
                    </a:lnTo>
                    <a:lnTo>
                      <a:pt x="455" y="1233"/>
                    </a:lnTo>
                    <a:lnTo>
                      <a:pt x="399" y="1284"/>
                    </a:lnTo>
                    <a:lnTo>
                      <a:pt x="350" y="1338"/>
                    </a:lnTo>
                    <a:lnTo>
                      <a:pt x="307" y="1409"/>
                    </a:lnTo>
                    <a:lnTo>
                      <a:pt x="262" y="1527"/>
                    </a:lnTo>
                    <a:lnTo>
                      <a:pt x="226" y="1643"/>
                    </a:lnTo>
                    <a:lnTo>
                      <a:pt x="205" y="1701"/>
                    </a:lnTo>
                    <a:lnTo>
                      <a:pt x="143" y="1813"/>
                    </a:lnTo>
                    <a:lnTo>
                      <a:pt x="95" y="1868"/>
                    </a:lnTo>
                    <a:lnTo>
                      <a:pt x="185" y="1962"/>
                    </a:lnTo>
                    <a:lnTo>
                      <a:pt x="273" y="1890"/>
                    </a:lnTo>
                    <a:lnTo>
                      <a:pt x="358" y="1860"/>
                    </a:lnTo>
                    <a:lnTo>
                      <a:pt x="414" y="1868"/>
                    </a:lnTo>
                    <a:lnTo>
                      <a:pt x="480" y="1874"/>
                    </a:lnTo>
                    <a:lnTo>
                      <a:pt x="529" y="1893"/>
                    </a:lnTo>
                    <a:lnTo>
                      <a:pt x="566" y="1924"/>
                    </a:lnTo>
                    <a:lnTo>
                      <a:pt x="594" y="1961"/>
                    </a:lnTo>
                    <a:lnTo>
                      <a:pt x="610" y="1996"/>
                    </a:lnTo>
                    <a:lnTo>
                      <a:pt x="1500" y="1845"/>
                    </a:lnTo>
                    <a:lnTo>
                      <a:pt x="2107" y="1055"/>
                    </a:lnTo>
                    <a:lnTo>
                      <a:pt x="2060" y="964"/>
                    </a:lnTo>
                    <a:lnTo>
                      <a:pt x="2008" y="875"/>
                    </a:lnTo>
                    <a:lnTo>
                      <a:pt x="1959" y="787"/>
                    </a:lnTo>
                    <a:lnTo>
                      <a:pt x="1850" y="647"/>
                    </a:lnTo>
                    <a:lnTo>
                      <a:pt x="1761" y="551"/>
                    </a:lnTo>
                    <a:lnTo>
                      <a:pt x="1640" y="488"/>
                    </a:lnTo>
                    <a:lnTo>
                      <a:pt x="1508" y="422"/>
                    </a:lnTo>
                    <a:lnTo>
                      <a:pt x="1404" y="371"/>
                    </a:lnTo>
                    <a:lnTo>
                      <a:pt x="1297" y="292"/>
                    </a:lnTo>
                    <a:lnTo>
                      <a:pt x="1148" y="207"/>
                    </a:lnTo>
                    <a:lnTo>
                      <a:pt x="1010" y="107"/>
                    </a:lnTo>
                    <a:lnTo>
                      <a:pt x="877" y="62"/>
                    </a:lnTo>
                    <a:lnTo>
                      <a:pt x="755" y="21"/>
                    </a:lnTo>
                    <a:lnTo>
                      <a:pt x="661" y="6"/>
                    </a:lnTo>
                    <a:lnTo>
                      <a:pt x="568" y="0"/>
                    </a:lnTo>
                    <a:lnTo>
                      <a:pt x="477" y="2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64"/>
              <p:cNvSpPr/>
              <p:nvPr/>
            </p:nvSpPr>
            <p:spPr>
              <a:xfrm>
                <a:off x="8685360" y="4986360"/>
                <a:ext cx="244440" cy="233640"/>
              </a:xfrm>
              <a:custGeom>
                <a:avLst/>
                <a:gdLst/>
                <a:ahLst/>
                <a:rect l="l" t="t" r="r" b="b"/>
                <a:pathLst>
                  <a:path w="2107" h="1996">
                    <a:moveTo>
                      <a:pt x="477" y="2"/>
                    </a:moveTo>
                    <a:lnTo>
                      <a:pt x="397" y="29"/>
                    </a:lnTo>
                    <a:lnTo>
                      <a:pt x="315" y="67"/>
                    </a:lnTo>
                    <a:lnTo>
                      <a:pt x="226" y="125"/>
                    </a:lnTo>
                    <a:lnTo>
                      <a:pt x="161" y="193"/>
                    </a:lnTo>
                    <a:lnTo>
                      <a:pt x="78" y="270"/>
                    </a:lnTo>
                    <a:lnTo>
                      <a:pt x="19" y="339"/>
                    </a:lnTo>
                    <a:lnTo>
                      <a:pt x="0" y="412"/>
                    </a:lnTo>
                    <a:lnTo>
                      <a:pt x="24" y="494"/>
                    </a:lnTo>
                    <a:lnTo>
                      <a:pt x="95" y="529"/>
                    </a:lnTo>
                    <a:lnTo>
                      <a:pt x="192" y="449"/>
                    </a:lnTo>
                    <a:lnTo>
                      <a:pt x="278" y="377"/>
                    </a:lnTo>
                    <a:lnTo>
                      <a:pt x="369" y="386"/>
                    </a:lnTo>
                    <a:lnTo>
                      <a:pt x="442" y="414"/>
                    </a:lnTo>
                    <a:lnTo>
                      <a:pt x="509" y="458"/>
                    </a:lnTo>
                    <a:lnTo>
                      <a:pt x="559" y="522"/>
                    </a:lnTo>
                    <a:lnTo>
                      <a:pt x="602" y="599"/>
                    </a:lnTo>
                    <a:lnTo>
                      <a:pt x="673" y="665"/>
                    </a:lnTo>
                    <a:lnTo>
                      <a:pt x="633" y="790"/>
                    </a:lnTo>
                    <a:lnTo>
                      <a:pt x="623" y="886"/>
                    </a:lnTo>
                    <a:lnTo>
                      <a:pt x="636" y="983"/>
                    </a:lnTo>
                    <a:lnTo>
                      <a:pt x="606" y="1060"/>
                    </a:lnTo>
                    <a:lnTo>
                      <a:pt x="561" y="1123"/>
                    </a:lnTo>
                    <a:lnTo>
                      <a:pt x="509" y="1181"/>
                    </a:lnTo>
                    <a:lnTo>
                      <a:pt x="455" y="1233"/>
                    </a:lnTo>
                    <a:lnTo>
                      <a:pt x="399" y="1284"/>
                    </a:lnTo>
                    <a:lnTo>
                      <a:pt x="350" y="1338"/>
                    </a:lnTo>
                    <a:lnTo>
                      <a:pt x="307" y="1409"/>
                    </a:lnTo>
                    <a:lnTo>
                      <a:pt x="262" y="1527"/>
                    </a:lnTo>
                    <a:lnTo>
                      <a:pt x="226" y="1643"/>
                    </a:lnTo>
                    <a:lnTo>
                      <a:pt x="205" y="1701"/>
                    </a:lnTo>
                    <a:lnTo>
                      <a:pt x="143" y="1813"/>
                    </a:lnTo>
                    <a:lnTo>
                      <a:pt x="95" y="1868"/>
                    </a:lnTo>
                    <a:lnTo>
                      <a:pt x="185" y="1962"/>
                    </a:lnTo>
                    <a:lnTo>
                      <a:pt x="273" y="1890"/>
                    </a:lnTo>
                    <a:lnTo>
                      <a:pt x="358" y="1860"/>
                    </a:lnTo>
                    <a:lnTo>
                      <a:pt x="414" y="1868"/>
                    </a:lnTo>
                    <a:lnTo>
                      <a:pt x="480" y="1874"/>
                    </a:lnTo>
                    <a:lnTo>
                      <a:pt x="529" y="1893"/>
                    </a:lnTo>
                    <a:lnTo>
                      <a:pt x="566" y="1924"/>
                    </a:lnTo>
                    <a:lnTo>
                      <a:pt x="594" y="1961"/>
                    </a:lnTo>
                    <a:lnTo>
                      <a:pt x="610" y="1996"/>
                    </a:lnTo>
                    <a:lnTo>
                      <a:pt x="1500" y="1845"/>
                    </a:lnTo>
                    <a:lnTo>
                      <a:pt x="2107" y="1055"/>
                    </a:lnTo>
                    <a:lnTo>
                      <a:pt x="2060" y="964"/>
                    </a:lnTo>
                    <a:lnTo>
                      <a:pt x="2008" y="875"/>
                    </a:lnTo>
                    <a:lnTo>
                      <a:pt x="1959" y="787"/>
                    </a:lnTo>
                    <a:lnTo>
                      <a:pt x="1850" y="647"/>
                    </a:lnTo>
                    <a:lnTo>
                      <a:pt x="1761" y="551"/>
                    </a:lnTo>
                    <a:lnTo>
                      <a:pt x="1640" y="488"/>
                    </a:lnTo>
                    <a:lnTo>
                      <a:pt x="1508" y="422"/>
                    </a:lnTo>
                    <a:lnTo>
                      <a:pt x="1404" y="371"/>
                    </a:lnTo>
                    <a:lnTo>
                      <a:pt x="1297" y="292"/>
                    </a:lnTo>
                    <a:lnTo>
                      <a:pt x="1148" y="207"/>
                    </a:lnTo>
                    <a:lnTo>
                      <a:pt x="1010" y="107"/>
                    </a:lnTo>
                    <a:lnTo>
                      <a:pt x="877" y="62"/>
                    </a:lnTo>
                    <a:lnTo>
                      <a:pt x="755" y="21"/>
                    </a:lnTo>
                    <a:lnTo>
                      <a:pt x="661" y="6"/>
                    </a:lnTo>
                    <a:lnTo>
                      <a:pt x="568" y="0"/>
                    </a:lnTo>
                    <a:lnTo>
                      <a:pt x="477" y="2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265"/>
              <p:cNvSpPr/>
              <p:nvPr/>
            </p:nvSpPr>
            <p:spPr>
              <a:xfrm>
                <a:off x="8648640" y="508032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60" h="382">
                    <a:moveTo>
                      <a:pt x="110" y="0"/>
                    </a:moveTo>
                    <a:lnTo>
                      <a:pt x="46" y="10"/>
                    </a:lnTo>
                    <a:lnTo>
                      <a:pt x="0" y="84"/>
                    </a:lnTo>
                    <a:lnTo>
                      <a:pt x="98" y="134"/>
                    </a:lnTo>
                    <a:lnTo>
                      <a:pt x="199" y="202"/>
                    </a:lnTo>
                    <a:lnTo>
                      <a:pt x="274" y="287"/>
                    </a:lnTo>
                    <a:lnTo>
                      <a:pt x="313" y="364"/>
                    </a:lnTo>
                    <a:lnTo>
                      <a:pt x="360" y="382"/>
                    </a:lnTo>
                    <a:lnTo>
                      <a:pt x="351" y="276"/>
                    </a:lnTo>
                    <a:lnTo>
                      <a:pt x="314" y="181"/>
                    </a:lnTo>
                    <a:lnTo>
                      <a:pt x="254" y="94"/>
                    </a:lnTo>
                    <a:lnTo>
                      <a:pt x="170" y="4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266"/>
              <p:cNvSpPr/>
              <p:nvPr/>
            </p:nvSpPr>
            <p:spPr>
              <a:xfrm>
                <a:off x="8648640" y="508032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60" h="382">
                    <a:moveTo>
                      <a:pt x="110" y="0"/>
                    </a:moveTo>
                    <a:lnTo>
                      <a:pt x="46" y="10"/>
                    </a:lnTo>
                    <a:lnTo>
                      <a:pt x="0" y="84"/>
                    </a:lnTo>
                    <a:lnTo>
                      <a:pt x="98" y="134"/>
                    </a:lnTo>
                    <a:lnTo>
                      <a:pt x="199" y="202"/>
                    </a:lnTo>
                    <a:lnTo>
                      <a:pt x="274" y="287"/>
                    </a:lnTo>
                    <a:lnTo>
                      <a:pt x="313" y="364"/>
                    </a:lnTo>
                    <a:lnTo>
                      <a:pt x="360" y="382"/>
                    </a:lnTo>
                    <a:lnTo>
                      <a:pt x="351" y="276"/>
                    </a:lnTo>
                    <a:lnTo>
                      <a:pt x="314" y="181"/>
                    </a:lnTo>
                    <a:lnTo>
                      <a:pt x="254" y="94"/>
                    </a:lnTo>
                    <a:lnTo>
                      <a:pt x="170" y="40"/>
                    </a:lnTo>
                    <a:lnTo>
                      <a:pt x="11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67"/>
              <p:cNvSpPr/>
              <p:nvPr/>
            </p:nvSpPr>
            <p:spPr>
              <a:xfrm>
                <a:off x="8647200" y="5087160"/>
                <a:ext cx="34920" cy="26280"/>
              </a:xfrm>
              <a:custGeom>
                <a:avLst/>
                <a:gdLst/>
                <a:ahLst/>
                <a:rect l="l" t="t" r="r" b="b"/>
                <a:pathLst>
                  <a:path w="293" h="237">
                    <a:moveTo>
                      <a:pt x="123" y="162"/>
                    </a:moveTo>
                    <a:lnTo>
                      <a:pt x="175" y="174"/>
                    </a:lnTo>
                    <a:lnTo>
                      <a:pt x="231" y="198"/>
                    </a:lnTo>
                    <a:lnTo>
                      <a:pt x="293" y="237"/>
                    </a:lnTo>
                    <a:lnTo>
                      <a:pt x="202" y="89"/>
                    </a:lnTo>
                    <a:lnTo>
                      <a:pt x="23" y="0"/>
                    </a:lnTo>
                    <a:lnTo>
                      <a:pt x="0" y="46"/>
                    </a:lnTo>
                    <a:lnTo>
                      <a:pt x="6" y="81"/>
                    </a:lnTo>
                    <a:lnTo>
                      <a:pt x="13" y="125"/>
                    </a:lnTo>
                    <a:lnTo>
                      <a:pt x="58" y="140"/>
                    </a:lnTo>
                    <a:lnTo>
                      <a:pt x="123" y="16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68"/>
              <p:cNvSpPr/>
              <p:nvPr/>
            </p:nvSpPr>
            <p:spPr>
              <a:xfrm>
                <a:off x="8581320" y="5147280"/>
                <a:ext cx="37440" cy="23760"/>
              </a:xfrm>
              <a:custGeom>
                <a:avLst/>
                <a:gdLst/>
                <a:ahLst/>
                <a:rect l="l" t="t" r="r" b="b"/>
                <a:pathLst>
                  <a:path w="316" h="200">
                    <a:moveTo>
                      <a:pt x="316" y="62"/>
                    </a:moveTo>
                    <a:lnTo>
                      <a:pt x="219" y="95"/>
                    </a:lnTo>
                    <a:lnTo>
                      <a:pt x="148" y="82"/>
                    </a:lnTo>
                    <a:lnTo>
                      <a:pt x="94" y="55"/>
                    </a:lnTo>
                    <a:lnTo>
                      <a:pt x="41" y="19"/>
                    </a:lnTo>
                    <a:lnTo>
                      <a:pt x="0" y="0"/>
                    </a:lnTo>
                    <a:lnTo>
                      <a:pt x="44" y="78"/>
                    </a:lnTo>
                    <a:lnTo>
                      <a:pt x="94" y="135"/>
                    </a:lnTo>
                    <a:lnTo>
                      <a:pt x="41" y="195"/>
                    </a:lnTo>
                    <a:lnTo>
                      <a:pt x="100" y="200"/>
                    </a:lnTo>
                    <a:lnTo>
                      <a:pt x="197" y="172"/>
                    </a:lnTo>
                    <a:lnTo>
                      <a:pt x="274" y="130"/>
                    </a:lnTo>
                    <a:lnTo>
                      <a:pt x="316" y="6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69"/>
              <p:cNvSpPr/>
              <p:nvPr/>
            </p:nvSpPr>
            <p:spPr>
              <a:xfrm>
                <a:off x="8576280" y="5182200"/>
                <a:ext cx="18000" cy="23400"/>
              </a:xfrm>
              <a:custGeom>
                <a:avLst/>
                <a:gdLst/>
                <a:ahLst/>
                <a:rect l="l" t="t" r="r" b="b"/>
                <a:pathLst>
                  <a:path w="163" h="200">
                    <a:moveTo>
                      <a:pt x="2" y="0"/>
                    </a:moveTo>
                    <a:lnTo>
                      <a:pt x="0" y="46"/>
                    </a:lnTo>
                    <a:lnTo>
                      <a:pt x="16" y="88"/>
                    </a:lnTo>
                    <a:lnTo>
                      <a:pt x="65" y="121"/>
                    </a:lnTo>
                    <a:lnTo>
                      <a:pt x="112" y="151"/>
                    </a:lnTo>
                    <a:lnTo>
                      <a:pt x="163" y="200"/>
                    </a:lnTo>
                    <a:lnTo>
                      <a:pt x="120" y="115"/>
                    </a:lnTo>
                    <a:lnTo>
                      <a:pt x="81" y="62"/>
                    </a:lnTo>
                    <a:lnTo>
                      <a:pt x="4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70"/>
              <p:cNvSpPr/>
              <p:nvPr/>
            </p:nvSpPr>
            <p:spPr>
              <a:xfrm>
                <a:off x="8567640" y="519876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0" y="0"/>
                    </a:moveTo>
                    <a:lnTo>
                      <a:pt x="6" y="47"/>
                    </a:lnTo>
                    <a:lnTo>
                      <a:pt x="19" y="81"/>
                    </a:lnTo>
                    <a:lnTo>
                      <a:pt x="54" y="94"/>
                    </a:lnTo>
                    <a:lnTo>
                      <a:pt x="83" y="94"/>
                    </a:lnTo>
                    <a:lnTo>
                      <a:pt x="142" y="67"/>
                    </a:lnTo>
                    <a:lnTo>
                      <a:pt x="83" y="59"/>
                    </a:lnTo>
                    <a:lnTo>
                      <a:pt x="46" y="47"/>
                    </a:lnTo>
                    <a:lnTo>
                      <a:pt x="1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71"/>
              <p:cNvSpPr/>
              <p:nvPr/>
            </p:nvSpPr>
            <p:spPr>
              <a:xfrm>
                <a:off x="8549280" y="5259240"/>
                <a:ext cx="113040" cy="63000"/>
              </a:xfrm>
              <a:custGeom>
                <a:avLst/>
                <a:gdLst/>
                <a:ahLst/>
                <a:rect l="l" t="t" r="r" b="b"/>
                <a:pathLst>
                  <a:path w="982" h="532">
                    <a:moveTo>
                      <a:pt x="529" y="442"/>
                    </a:moveTo>
                    <a:lnTo>
                      <a:pt x="576" y="393"/>
                    </a:lnTo>
                    <a:lnTo>
                      <a:pt x="655" y="359"/>
                    </a:lnTo>
                    <a:lnTo>
                      <a:pt x="734" y="332"/>
                    </a:lnTo>
                    <a:lnTo>
                      <a:pt x="801" y="317"/>
                    </a:lnTo>
                    <a:lnTo>
                      <a:pt x="888" y="294"/>
                    </a:lnTo>
                    <a:lnTo>
                      <a:pt x="982" y="233"/>
                    </a:lnTo>
                    <a:lnTo>
                      <a:pt x="918" y="247"/>
                    </a:lnTo>
                    <a:lnTo>
                      <a:pt x="833" y="254"/>
                    </a:lnTo>
                    <a:lnTo>
                      <a:pt x="718" y="261"/>
                    </a:lnTo>
                    <a:lnTo>
                      <a:pt x="620" y="267"/>
                    </a:lnTo>
                    <a:lnTo>
                      <a:pt x="519" y="273"/>
                    </a:lnTo>
                    <a:lnTo>
                      <a:pt x="426" y="261"/>
                    </a:lnTo>
                    <a:lnTo>
                      <a:pt x="342" y="240"/>
                    </a:lnTo>
                    <a:lnTo>
                      <a:pt x="262" y="211"/>
                    </a:lnTo>
                    <a:lnTo>
                      <a:pt x="192" y="164"/>
                    </a:lnTo>
                    <a:lnTo>
                      <a:pt x="128" y="124"/>
                    </a:lnTo>
                    <a:lnTo>
                      <a:pt x="77" y="80"/>
                    </a:lnTo>
                    <a:lnTo>
                      <a:pt x="42" y="44"/>
                    </a:lnTo>
                    <a:lnTo>
                      <a:pt x="0" y="0"/>
                    </a:lnTo>
                    <a:lnTo>
                      <a:pt x="8" y="61"/>
                    </a:lnTo>
                    <a:lnTo>
                      <a:pt x="42" y="154"/>
                    </a:lnTo>
                    <a:lnTo>
                      <a:pt x="121" y="236"/>
                    </a:lnTo>
                    <a:lnTo>
                      <a:pt x="251" y="339"/>
                    </a:lnTo>
                    <a:lnTo>
                      <a:pt x="359" y="445"/>
                    </a:lnTo>
                    <a:lnTo>
                      <a:pt x="422" y="532"/>
                    </a:lnTo>
                    <a:lnTo>
                      <a:pt x="480" y="493"/>
                    </a:lnTo>
                    <a:lnTo>
                      <a:pt x="529" y="44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272"/>
              <p:cNvSpPr/>
              <p:nvPr/>
            </p:nvSpPr>
            <p:spPr>
              <a:xfrm>
                <a:off x="8696520" y="5214600"/>
                <a:ext cx="48600" cy="40320"/>
              </a:xfrm>
              <a:custGeom>
                <a:avLst/>
                <a:gdLst/>
                <a:ahLst/>
                <a:rect l="l" t="t" r="r" b="b"/>
                <a:pathLst>
                  <a:path w="423" h="349">
                    <a:moveTo>
                      <a:pt x="115" y="330"/>
                    </a:moveTo>
                    <a:lnTo>
                      <a:pt x="195" y="282"/>
                    </a:lnTo>
                    <a:lnTo>
                      <a:pt x="248" y="261"/>
                    </a:lnTo>
                    <a:lnTo>
                      <a:pt x="297" y="238"/>
                    </a:lnTo>
                    <a:lnTo>
                      <a:pt x="344" y="204"/>
                    </a:lnTo>
                    <a:lnTo>
                      <a:pt x="368" y="170"/>
                    </a:lnTo>
                    <a:lnTo>
                      <a:pt x="380" y="123"/>
                    </a:lnTo>
                    <a:lnTo>
                      <a:pt x="364" y="75"/>
                    </a:lnTo>
                    <a:lnTo>
                      <a:pt x="397" y="32"/>
                    </a:lnTo>
                    <a:lnTo>
                      <a:pt x="423" y="8"/>
                    </a:lnTo>
                    <a:lnTo>
                      <a:pt x="392" y="0"/>
                    </a:lnTo>
                    <a:lnTo>
                      <a:pt x="351" y="0"/>
                    </a:lnTo>
                    <a:lnTo>
                      <a:pt x="313" y="17"/>
                    </a:lnTo>
                    <a:lnTo>
                      <a:pt x="278" y="28"/>
                    </a:lnTo>
                    <a:lnTo>
                      <a:pt x="239" y="44"/>
                    </a:lnTo>
                    <a:lnTo>
                      <a:pt x="206" y="153"/>
                    </a:lnTo>
                    <a:lnTo>
                      <a:pt x="144" y="166"/>
                    </a:lnTo>
                    <a:lnTo>
                      <a:pt x="100" y="238"/>
                    </a:lnTo>
                    <a:lnTo>
                      <a:pt x="72" y="276"/>
                    </a:lnTo>
                    <a:lnTo>
                      <a:pt x="36" y="282"/>
                    </a:lnTo>
                    <a:lnTo>
                      <a:pt x="0" y="296"/>
                    </a:lnTo>
                    <a:lnTo>
                      <a:pt x="11" y="336"/>
                    </a:lnTo>
                    <a:lnTo>
                      <a:pt x="36" y="349"/>
                    </a:lnTo>
                    <a:lnTo>
                      <a:pt x="115" y="33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273"/>
              <p:cNvSpPr/>
              <p:nvPr/>
            </p:nvSpPr>
            <p:spPr>
              <a:xfrm>
                <a:off x="8685360" y="5196240"/>
                <a:ext cx="173160" cy="176040"/>
              </a:xfrm>
              <a:custGeom>
                <a:avLst/>
                <a:gdLst/>
                <a:ahLst/>
                <a:rect l="l" t="t" r="r" b="b"/>
                <a:pathLst>
                  <a:path w="1484" h="1510">
                    <a:moveTo>
                      <a:pt x="603" y="436"/>
                    </a:moveTo>
                    <a:lnTo>
                      <a:pt x="525" y="490"/>
                    </a:lnTo>
                    <a:lnTo>
                      <a:pt x="445" y="530"/>
                    </a:lnTo>
                    <a:lnTo>
                      <a:pt x="364" y="575"/>
                    </a:lnTo>
                    <a:lnTo>
                      <a:pt x="303" y="623"/>
                    </a:lnTo>
                    <a:lnTo>
                      <a:pt x="232" y="659"/>
                    </a:lnTo>
                    <a:lnTo>
                      <a:pt x="131" y="669"/>
                    </a:lnTo>
                    <a:lnTo>
                      <a:pt x="56" y="630"/>
                    </a:lnTo>
                    <a:lnTo>
                      <a:pt x="0" y="677"/>
                    </a:lnTo>
                    <a:lnTo>
                      <a:pt x="19" y="760"/>
                    </a:lnTo>
                    <a:lnTo>
                      <a:pt x="98" y="880"/>
                    </a:lnTo>
                    <a:lnTo>
                      <a:pt x="157" y="964"/>
                    </a:lnTo>
                    <a:lnTo>
                      <a:pt x="149" y="1102"/>
                    </a:lnTo>
                    <a:lnTo>
                      <a:pt x="121" y="1214"/>
                    </a:lnTo>
                    <a:lnTo>
                      <a:pt x="98" y="1299"/>
                    </a:lnTo>
                    <a:lnTo>
                      <a:pt x="36" y="1430"/>
                    </a:lnTo>
                    <a:lnTo>
                      <a:pt x="722" y="1510"/>
                    </a:lnTo>
                    <a:lnTo>
                      <a:pt x="1484" y="0"/>
                    </a:lnTo>
                    <a:lnTo>
                      <a:pt x="603" y="436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74"/>
              <p:cNvSpPr/>
              <p:nvPr/>
            </p:nvSpPr>
            <p:spPr>
              <a:xfrm>
                <a:off x="8592480" y="514584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275" h="161">
                    <a:moveTo>
                      <a:pt x="275" y="0"/>
                    </a:moveTo>
                    <a:lnTo>
                      <a:pt x="226" y="56"/>
                    </a:lnTo>
                    <a:lnTo>
                      <a:pt x="219" y="86"/>
                    </a:lnTo>
                    <a:lnTo>
                      <a:pt x="175" y="127"/>
                    </a:lnTo>
                    <a:lnTo>
                      <a:pt x="128" y="150"/>
                    </a:lnTo>
                    <a:lnTo>
                      <a:pt x="72" y="161"/>
                    </a:lnTo>
                    <a:lnTo>
                      <a:pt x="33" y="159"/>
                    </a:lnTo>
                    <a:lnTo>
                      <a:pt x="0" y="15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275"/>
              <p:cNvSpPr/>
              <p:nvPr/>
            </p:nvSpPr>
            <p:spPr>
              <a:xfrm>
                <a:off x="8589960" y="515700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82" h="56">
                    <a:moveTo>
                      <a:pt x="82" y="56"/>
                    </a:moveTo>
                    <a:lnTo>
                      <a:pt x="30" y="16"/>
                    </a:lnTo>
                    <a:lnTo>
                      <a:pt x="0" y="0"/>
                    </a:lnTo>
                    <a:lnTo>
                      <a:pt x="45" y="5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76"/>
              <p:cNvSpPr/>
              <p:nvPr/>
            </p:nvSpPr>
            <p:spPr>
              <a:xfrm>
                <a:off x="8594280" y="515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179" h="595">
                    <a:moveTo>
                      <a:pt x="179" y="0"/>
                    </a:moveTo>
                    <a:lnTo>
                      <a:pt x="142" y="80"/>
                    </a:lnTo>
                    <a:lnTo>
                      <a:pt x="128" y="150"/>
                    </a:lnTo>
                    <a:lnTo>
                      <a:pt x="124" y="215"/>
                    </a:lnTo>
                    <a:lnTo>
                      <a:pt x="109" y="276"/>
                    </a:lnTo>
                    <a:lnTo>
                      <a:pt x="78" y="378"/>
                    </a:lnTo>
                    <a:lnTo>
                      <a:pt x="39" y="465"/>
                    </a:lnTo>
                    <a:lnTo>
                      <a:pt x="1" y="551"/>
                    </a:lnTo>
                    <a:lnTo>
                      <a:pt x="0" y="59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7"/>
              <p:cNvSpPr/>
              <p:nvPr/>
            </p:nvSpPr>
            <p:spPr>
              <a:xfrm>
                <a:off x="8645760" y="510660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1" h="125">
                    <a:moveTo>
                      <a:pt x="43" y="0"/>
                    </a:moveTo>
                    <a:lnTo>
                      <a:pt x="51" y="27"/>
                    </a:lnTo>
                    <a:lnTo>
                      <a:pt x="31" y="69"/>
                    </a:lnTo>
                    <a:lnTo>
                      <a:pt x="14" y="97"/>
                    </a:lnTo>
                    <a:lnTo>
                      <a:pt x="0" y="12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78"/>
              <p:cNvSpPr/>
              <p:nvPr/>
            </p:nvSpPr>
            <p:spPr>
              <a:xfrm>
                <a:off x="8652960" y="5112360"/>
                <a:ext cx="18000" cy="12600"/>
              </a:xfrm>
              <a:custGeom>
                <a:avLst/>
                <a:gdLst/>
                <a:ahLst/>
                <a:rect l="l" t="t" r="r" b="b"/>
                <a:pathLst>
                  <a:path w="159" h="112">
                    <a:moveTo>
                      <a:pt x="0" y="0"/>
                    </a:moveTo>
                    <a:lnTo>
                      <a:pt x="27" y="5"/>
                    </a:lnTo>
                    <a:lnTo>
                      <a:pt x="62" y="23"/>
                    </a:lnTo>
                    <a:lnTo>
                      <a:pt x="129" y="70"/>
                    </a:lnTo>
                    <a:lnTo>
                      <a:pt x="159" y="11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79"/>
              <p:cNvSpPr/>
              <p:nvPr/>
            </p:nvSpPr>
            <p:spPr>
              <a:xfrm>
                <a:off x="8643240" y="5130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106" h="40">
                    <a:moveTo>
                      <a:pt x="0" y="0"/>
                    </a:moveTo>
                    <a:lnTo>
                      <a:pt x="23" y="22"/>
                    </a:lnTo>
                    <a:lnTo>
                      <a:pt x="52" y="35"/>
                    </a:lnTo>
                    <a:lnTo>
                      <a:pt x="106" y="4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80"/>
              <p:cNvSpPr/>
              <p:nvPr/>
            </p:nvSpPr>
            <p:spPr>
              <a:xfrm>
                <a:off x="8637840" y="51177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67" y="24"/>
                    </a:moveTo>
                    <a:lnTo>
                      <a:pt x="0" y="0"/>
                    </a:lnTo>
                    <a:lnTo>
                      <a:pt x="54" y="39"/>
                    </a:lnTo>
                    <a:lnTo>
                      <a:pt x="80" y="56"/>
                    </a:lnTo>
                    <a:lnTo>
                      <a:pt x="53" y="62"/>
                    </a:lnTo>
                    <a:lnTo>
                      <a:pt x="92" y="69"/>
                    </a:lnTo>
                    <a:lnTo>
                      <a:pt x="129" y="88"/>
                    </a:lnTo>
                    <a:lnTo>
                      <a:pt x="185" y="111"/>
                    </a:lnTo>
                    <a:lnTo>
                      <a:pt x="242" y="117"/>
                    </a:lnTo>
                    <a:lnTo>
                      <a:pt x="191" y="98"/>
                    </a:lnTo>
                    <a:lnTo>
                      <a:pt x="140" y="73"/>
                    </a:lnTo>
                    <a:lnTo>
                      <a:pt x="95" y="45"/>
                    </a:lnTo>
                    <a:lnTo>
                      <a:pt x="67" y="2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81"/>
              <p:cNvSpPr/>
              <p:nvPr/>
            </p:nvSpPr>
            <p:spPr>
              <a:xfrm>
                <a:off x="8637840" y="51177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67" y="24"/>
                    </a:moveTo>
                    <a:lnTo>
                      <a:pt x="0" y="0"/>
                    </a:lnTo>
                    <a:lnTo>
                      <a:pt x="54" y="39"/>
                    </a:lnTo>
                    <a:lnTo>
                      <a:pt x="80" y="56"/>
                    </a:lnTo>
                    <a:lnTo>
                      <a:pt x="53" y="62"/>
                    </a:lnTo>
                    <a:lnTo>
                      <a:pt x="92" y="69"/>
                    </a:lnTo>
                    <a:lnTo>
                      <a:pt x="129" y="88"/>
                    </a:lnTo>
                    <a:lnTo>
                      <a:pt x="185" y="111"/>
                    </a:lnTo>
                    <a:lnTo>
                      <a:pt x="242" y="117"/>
                    </a:lnTo>
                    <a:lnTo>
                      <a:pt x="191" y="98"/>
                    </a:lnTo>
                    <a:lnTo>
                      <a:pt x="140" y="73"/>
                    </a:lnTo>
                    <a:lnTo>
                      <a:pt x="95" y="45"/>
                    </a:lnTo>
                    <a:lnTo>
                      <a:pt x="67" y="2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282"/>
              <p:cNvSpPr/>
              <p:nvPr/>
            </p:nvSpPr>
            <p:spPr>
              <a:xfrm>
                <a:off x="8670960" y="5134680"/>
                <a:ext cx="4320" cy="25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283"/>
              <p:cNvSpPr/>
              <p:nvPr/>
            </p:nvSpPr>
            <p:spPr>
              <a:xfrm>
                <a:off x="8667000" y="5133240"/>
                <a:ext cx="144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84"/>
              <p:cNvSpPr/>
              <p:nvPr/>
            </p:nvSpPr>
            <p:spPr>
              <a:xfrm>
                <a:off x="8632080" y="512604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89" h="90">
                    <a:moveTo>
                      <a:pt x="89" y="0"/>
                    </a:moveTo>
                    <a:lnTo>
                      <a:pt x="85" y="21"/>
                    </a:lnTo>
                    <a:lnTo>
                      <a:pt x="26" y="59"/>
                    </a:lnTo>
                    <a:lnTo>
                      <a:pt x="0" y="9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85"/>
              <p:cNvSpPr/>
              <p:nvPr/>
            </p:nvSpPr>
            <p:spPr>
              <a:xfrm>
                <a:off x="868644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0" y="0"/>
                    </a:moveTo>
                    <a:lnTo>
                      <a:pt x="4" y="48"/>
                    </a:lnTo>
                    <a:lnTo>
                      <a:pt x="50" y="9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86"/>
              <p:cNvSpPr/>
              <p:nvPr/>
            </p:nvSpPr>
            <p:spPr>
              <a:xfrm>
                <a:off x="8711640" y="5214600"/>
                <a:ext cx="39240" cy="40320"/>
              </a:xfrm>
              <a:custGeom>
                <a:avLst/>
                <a:gdLst/>
                <a:ahLst/>
                <a:rect l="l" t="t" r="r" b="b"/>
                <a:pathLst>
                  <a:path w="330" h="349">
                    <a:moveTo>
                      <a:pt x="0" y="349"/>
                    </a:moveTo>
                    <a:lnTo>
                      <a:pt x="152" y="314"/>
                    </a:lnTo>
                    <a:lnTo>
                      <a:pt x="238" y="272"/>
                    </a:lnTo>
                    <a:lnTo>
                      <a:pt x="285" y="229"/>
                    </a:lnTo>
                    <a:lnTo>
                      <a:pt x="319" y="175"/>
                    </a:lnTo>
                    <a:lnTo>
                      <a:pt x="326" y="137"/>
                    </a:lnTo>
                    <a:lnTo>
                      <a:pt x="330" y="85"/>
                    </a:lnTo>
                    <a:lnTo>
                      <a:pt x="319" y="39"/>
                    </a:lnTo>
                    <a:lnTo>
                      <a:pt x="297" y="9"/>
                    </a:lnTo>
                    <a:lnTo>
                      <a:pt x="257" y="0"/>
                    </a:lnTo>
                    <a:lnTo>
                      <a:pt x="213" y="2"/>
                    </a:lnTo>
                    <a:lnTo>
                      <a:pt x="175" y="1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87"/>
              <p:cNvSpPr/>
              <p:nvPr/>
            </p:nvSpPr>
            <p:spPr>
              <a:xfrm>
                <a:off x="8700480" y="524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0" y="67"/>
                    </a:moveTo>
                    <a:lnTo>
                      <a:pt x="107" y="67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88"/>
              <p:cNvSpPr/>
              <p:nvPr/>
            </p:nvSpPr>
            <p:spPr>
              <a:xfrm>
                <a:off x="8700480" y="524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0" y="67"/>
                    </a:moveTo>
                    <a:lnTo>
                      <a:pt x="107" y="67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289"/>
              <p:cNvSpPr/>
              <p:nvPr/>
            </p:nvSpPr>
            <p:spPr>
              <a:xfrm flipH="1" flipV="1">
                <a:off x="8732160" y="5215320"/>
                <a:ext cx="5400" cy="82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90"/>
              <p:cNvSpPr/>
              <p:nvPr/>
            </p:nvSpPr>
            <p:spPr>
              <a:xfrm>
                <a:off x="8714520" y="52272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97" h="128">
                    <a:moveTo>
                      <a:pt x="97" y="0"/>
                    </a:moveTo>
                    <a:lnTo>
                      <a:pt x="94" y="47"/>
                    </a:lnTo>
                    <a:lnTo>
                      <a:pt x="97" y="94"/>
                    </a:lnTo>
                    <a:lnTo>
                      <a:pt x="52" y="119"/>
                    </a:lnTo>
                    <a:lnTo>
                      <a:pt x="0" y="12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91"/>
              <p:cNvSpPr/>
              <p:nvPr/>
            </p:nvSpPr>
            <p:spPr>
              <a:xfrm>
                <a:off x="8708760" y="52045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204" h="94">
                    <a:moveTo>
                      <a:pt x="204" y="0"/>
                    </a:moveTo>
                    <a:lnTo>
                      <a:pt x="140" y="25"/>
                    </a:lnTo>
                    <a:lnTo>
                      <a:pt x="38" y="94"/>
                    </a:lnTo>
                    <a:lnTo>
                      <a:pt x="0" y="9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92"/>
              <p:cNvSpPr/>
              <p:nvPr/>
            </p:nvSpPr>
            <p:spPr>
              <a:xfrm>
                <a:off x="8736840" y="5088240"/>
                <a:ext cx="196920" cy="229320"/>
              </a:xfrm>
              <a:custGeom>
                <a:avLst/>
                <a:gdLst/>
                <a:ahLst/>
                <a:rect l="l" t="t" r="r" b="b"/>
                <a:pathLst>
                  <a:path w="1703" h="1970">
                    <a:moveTo>
                      <a:pt x="542" y="903"/>
                    </a:moveTo>
                    <a:lnTo>
                      <a:pt x="456" y="972"/>
                    </a:lnTo>
                    <a:lnTo>
                      <a:pt x="370" y="1006"/>
                    </a:lnTo>
                    <a:lnTo>
                      <a:pt x="283" y="1019"/>
                    </a:lnTo>
                    <a:lnTo>
                      <a:pt x="192" y="1025"/>
                    </a:lnTo>
                    <a:lnTo>
                      <a:pt x="88" y="1018"/>
                    </a:lnTo>
                    <a:lnTo>
                      <a:pt x="125" y="1049"/>
                    </a:lnTo>
                    <a:lnTo>
                      <a:pt x="153" y="1086"/>
                    </a:lnTo>
                    <a:lnTo>
                      <a:pt x="169" y="1121"/>
                    </a:lnTo>
                    <a:lnTo>
                      <a:pt x="182" y="1180"/>
                    </a:lnTo>
                    <a:lnTo>
                      <a:pt x="181" y="1235"/>
                    </a:lnTo>
                    <a:lnTo>
                      <a:pt x="165" y="1282"/>
                    </a:lnTo>
                    <a:lnTo>
                      <a:pt x="142" y="1324"/>
                    </a:lnTo>
                    <a:lnTo>
                      <a:pt x="111" y="1364"/>
                    </a:lnTo>
                    <a:lnTo>
                      <a:pt x="75" y="1401"/>
                    </a:lnTo>
                    <a:lnTo>
                      <a:pt x="39" y="1428"/>
                    </a:lnTo>
                    <a:lnTo>
                      <a:pt x="0" y="1456"/>
                    </a:lnTo>
                    <a:lnTo>
                      <a:pt x="29" y="1528"/>
                    </a:lnTo>
                    <a:lnTo>
                      <a:pt x="61" y="1603"/>
                    </a:lnTo>
                    <a:lnTo>
                      <a:pt x="79" y="1725"/>
                    </a:lnTo>
                    <a:lnTo>
                      <a:pt x="88" y="1772"/>
                    </a:lnTo>
                    <a:lnTo>
                      <a:pt x="111" y="1844"/>
                    </a:lnTo>
                    <a:lnTo>
                      <a:pt x="146" y="1909"/>
                    </a:lnTo>
                    <a:lnTo>
                      <a:pt x="206" y="1970"/>
                    </a:lnTo>
                    <a:lnTo>
                      <a:pt x="821" y="1575"/>
                    </a:lnTo>
                    <a:lnTo>
                      <a:pt x="1518" y="1134"/>
                    </a:lnTo>
                    <a:lnTo>
                      <a:pt x="1577" y="1012"/>
                    </a:lnTo>
                    <a:lnTo>
                      <a:pt x="1624" y="888"/>
                    </a:lnTo>
                    <a:lnTo>
                      <a:pt x="1660" y="765"/>
                    </a:lnTo>
                    <a:lnTo>
                      <a:pt x="1675" y="670"/>
                    </a:lnTo>
                    <a:lnTo>
                      <a:pt x="1703" y="524"/>
                    </a:lnTo>
                    <a:lnTo>
                      <a:pt x="1695" y="396"/>
                    </a:lnTo>
                    <a:lnTo>
                      <a:pt x="1684" y="263"/>
                    </a:lnTo>
                    <a:lnTo>
                      <a:pt x="1666" y="180"/>
                    </a:lnTo>
                    <a:lnTo>
                      <a:pt x="1619" y="89"/>
                    </a:lnTo>
                    <a:lnTo>
                      <a:pt x="1567" y="0"/>
                    </a:lnTo>
                    <a:lnTo>
                      <a:pt x="1543" y="89"/>
                    </a:lnTo>
                    <a:lnTo>
                      <a:pt x="1496" y="118"/>
                    </a:lnTo>
                    <a:lnTo>
                      <a:pt x="1420" y="157"/>
                    </a:lnTo>
                    <a:lnTo>
                      <a:pt x="1315" y="250"/>
                    </a:lnTo>
                    <a:lnTo>
                      <a:pt x="1260" y="320"/>
                    </a:lnTo>
                    <a:lnTo>
                      <a:pt x="1220" y="386"/>
                    </a:lnTo>
                    <a:lnTo>
                      <a:pt x="1181" y="450"/>
                    </a:lnTo>
                    <a:lnTo>
                      <a:pt x="1128" y="519"/>
                    </a:lnTo>
                    <a:lnTo>
                      <a:pt x="1051" y="595"/>
                    </a:lnTo>
                    <a:lnTo>
                      <a:pt x="937" y="684"/>
                    </a:lnTo>
                    <a:lnTo>
                      <a:pt x="859" y="729"/>
                    </a:lnTo>
                    <a:lnTo>
                      <a:pt x="769" y="782"/>
                    </a:lnTo>
                    <a:lnTo>
                      <a:pt x="666" y="840"/>
                    </a:lnTo>
                    <a:lnTo>
                      <a:pt x="542" y="90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93"/>
              <p:cNvSpPr/>
              <p:nvPr/>
            </p:nvSpPr>
            <p:spPr>
              <a:xfrm>
                <a:off x="8736840" y="5088240"/>
                <a:ext cx="196920" cy="229320"/>
              </a:xfrm>
              <a:custGeom>
                <a:avLst/>
                <a:gdLst/>
                <a:ahLst/>
                <a:rect l="l" t="t" r="r" b="b"/>
                <a:pathLst>
                  <a:path w="1703" h="1970">
                    <a:moveTo>
                      <a:pt x="542" y="903"/>
                    </a:moveTo>
                    <a:lnTo>
                      <a:pt x="456" y="972"/>
                    </a:lnTo>
                    <a:lnTo>
                      <a:pt x="370" y="1006"/>
                    </a:lnTo>
                    <a:lnTo>
                      <a:pt x="283" y="1019"/>
                    </a:lnTo>
                    <a:lnTo>
                      <a:pt x="192" y="1025"/>
                    </a:lnTo>
                    <a:lnTo>
                      <a:pt x="88" y="1018"/>
                    </a:lnTo>
                    <a:lnTo>
                      <a:pt x="125" y="1049"/>
                    </a:lnTo>
                    <a:lnTo>
                      <a:pt x="153" y="1086"/>
                    </a:lnTo>
                    <a:lnTo>
                      <a:pt x="169" y="1121"/>
                    </a:lnTo>
                    <a:lnTo>
                      <a:pt x="182" y="1180"/>
                    </a:lnTo>
                    <a:lnTo>
                      <a:pt x="181" y="1235"/>
                    </a:lnTo>
                    <a:lnTo>
                      <a:pt x="165" y="1282"/>
                    </a:lnTo>
                    <a:lnTo>
                      <a:pt x="142" y="1324"/>
                    </a:lnTo>
                    <a:lnTo>
                      <a:pt x="111" y="1364"/>
                    </a:lnTo>
                    <a:lnTo>
                      <a:pt x="75" y="1401"/>
                    </a:lnTo>
                    <a:lnTo>
                      <a:pt x="39" y="1428"/>
                    </a:lnTo>
                    <a:lnTo>
                      <a:pt x="0" y="1456"/>
                    </a:lnTo>
                    <a:lnTo>
                      <a:pt x="29" y="1528"/>
                    </a:lnTo>
                    <a:lnTo>
                      <a:pt x="61" y="1603"/>
                    </a:lnTo>
                    <a:lnTo>
                      <a:pt x="79" y="1725"/>
                    </a:lnTo>
                    <a:lnTo>
                      <a:pt x="88" y="1772"/>
                    </a:lnTo>
                    <a:lnTo>
                      <a:pt x="111" y="1844"/>
                    </a:lnTo>
                    <a:lnTo>
                      <a:pt x="146" y="1909"/>
                    </a:lnTo>
                    <a:lnTo>
                      <a:pt x="206" y="1970"/>
                    </a:lnTo>
                    <a:lnTo>
                      <a:pt x="821" y="1575"/>
                    </a:lnTo>
                    <a:lnTo>
                      <a:pt x="1518" y="1134"/>
                    </a:lnTo>
                    <a:lnTo>
                      <a:pt x="1577" y="1012"/>
                    </a:lnTo>
                    <a:lnTo>
                      <a:pt x="1624" y="888"/>
                    </a:lnTo>
                    <a:lnTo>
                      <a:pt x="1660" y="765"/>
                    </a:lnTo>
                    <a:lnTo>
                      <a:pt x="1675" y="670"/>
                    </a:lnTo>
                    <a:lnTo>
                      <a:pt x="1703" y="524"/>
                    </a:lnTo>
                    <a:lnTo>
                      <a:pt x="1695" y="396"/>
                    </a:lnTo>
                    <a:lnTo>
                      <a:pt x="1684" y="263"/>
                    </a:lnTo>
                    <a:lnTo>
                      <a:pt x="1666" y="180"/>
                    </a:lnTo>
                    <a:lnTo>
                      <a:pt x="1619" y="89"/>
                    </a:lnTo>
                    <a:lnTo>
                      <a:pt x="1567" y="0"/>
                    </a:lnTo>
                    <a:lnTo>
                      <a:pt x="1543" y="89"/>
                    </a:lnTo>
                    <a:lnTo>
                      <a:pt x="1496" y="118"/>
                    </a:lnTo>
                    <a:lnTo>
                      <a:pt x="1420" y="157"/>
                    </a:lnTo>
                    <a:lnTo>
                      <a:pt x="1315" y="250"/>
                    </a:lnTo>
                    <a:lnTo>
                      <a:pt x="1260" y="320"/>
                    </a:lnTo>
                    <a:lnTo>
                      <a:pt x="1220" y="386"/>
                    </a:lnTo>
                    <a:lnTo>
                      <a:pt x="1181" y="450"/>
                    </a:lnTo>
                    <a:lnTo>
                      <a:pt x="1128" y="519"/>
                    </a:lnTo>
                    <a:lnTo>
                      <a:pt x="1051" y="595"/>
                    </a:lnTo>
                    <a:lnTo>
                      <a:pt x="937" y="684"/>
                    </a:lnTo>
                    <a:lnTo>
                      <a:pt x="859" y="729"/>
                    </a:lnTo>
                    <a:lnTo>
                      <a:pt x="769" y="782"/>
                    </a:lnTo>
                    <a:lnTo>
                      <a:pt x="666" y="840"/>
                    </a:lnTo>
                    <a:lnTo>
                      <a:pt x="542" y="903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94"/>
              <p:cNvSpPr/>
              <p:nvPr/>
            </p:nvSpPr>
            <p:spPr>
              <a:xfrm>
                <a:off x="8763480" y="5064480"/>
                <a:ext cx="111960" cy="61560"/>
              </a:xfrm>
              <a:custGeom>
                <a:avLst/>
                <a:gdLst/>
                <a:ahLst/>
                <a:rect l="l" t="t" r="r" b="b"/>
                <a:pathLst>
                  <a:path w="960" h="524">
                    <a:moveTo>
                      <a:pt x="0" y="8"/>
                    </a:moveTo>
                    <a:lnTo>
                      <a:pt x="66" y="0"/>
                    </a:lnTo>
                    <a:lnTo>
                      <a:pt x="197" y="29"/>
                    </a:lnTo>
                    <a:lnTo>
                      <a:pt x="461" y="196"/>
                    </a:lnTo>
                    <a:lnTo>
                      <a:pt x="667" y="339"/>
                    </a:lnTo>
                    <a:lnTo>
                      <a:pt x="912" y="470"/>
                    </a:lnTo>
                    <a:lnTo>
                      <a:pt x="960" y="52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95"/>
              <p:cNvSpPr/>
              <p:nvPr/>
            </p:nvSpPr>
            <p:spPr>
              <a:xfrm>
                <a:off x="8840520" y="5023800"/>
                <a:ext cx="20880" cy="65520"/>
              </a:xfrm>
              <a:custGeom>
                <a:avLst/>
                <a:gdLst/>
                <a:ahLst/>
                <a:rect l="l" t="t" r="r" b="b"/>
                <a:pathLst>
                  <a:path w="181" h="572">
                    <a:moveTo>
                      <a:pt x="0" y="0"/>
                    </a:moveTo>
                    <a:lnTo>
                      <a:pt x="58" y="96"/>
                    </a:lnTo>
                    <a:lnTo>
                      <a:pt x="58" y="171"/>
                    </a:lnTo>
                    <a:lnTo>
                      <a:pt x="60" y="279"/>
                    </a:lnTo>
                    <a:lnTo>
                      <a:pt x="91" y="379"/>
                    </a:lnTo>
                    <a:lnTo>
                      <a:pt x="134" y="479"/>
                    </a:lnTo>
                    <a:lnTo>
                      <a:pt x="181" y="57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96"/>
              <p:cNvSpPr/>
              <p:nvPr/>
            </p:nvSpPr>
            <p:spPr>
              <a:xfrm>
                <a:off x="8766360" y="4994640"/>
                <a:ext cx="33480" cy="41760"/>
              </a:xfrm>
              <a:custGeom>
                <a:avLst/>
                <a:gdLst/>
                <a:ahLst/>
                <a:rect l="l" t="t" r="r" b="b"/>
                <a:pathLst>
                  <a:path w="287" h="360">
                    <a:moveTo>
                      <a:pt x="0" y="0"/>
                    </a:moveTo>
                    <a:lnTo>
                      <a:pt x="81" y="22"/>
                    </a:lnTo>
                    <a:lnTo>
                      <a:pt x="160" y="85"/>
                    </a:lnTo>
                    <a:lnTo>
                      <a:pt x="211" y="164"/>
                    </a:lnTo>
                    <a:lnTo>
                      <a:pt x="248" y="261"/>
                    </a:lnTo>
                    <a:lnTo>
                      <a:pt x="287" y="36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97"/>
              <p:cNvSpPr/>
              <p:nvPr/>
            </p:nvSpPr>
            <p:spPr>
              <a:xfrm>
                <a:off x="8704800" y="5014080"/>
                <a:ext cx="47520" cy="21240"/>
              </a:xfrm>
              <a:custGeom>
                <a:avLst/>
                <a:gdLst/>
                <a:ahLst/>
                <a:rect l="l" t="t" r="r" b="b"/>
                <a:pathLst>
                  <a:path w="399" h="179">
                    <a:moveTo>
                      <a:pt x="0" y="166"/>
                    </a:moveTo>
                    <a:lnTo>
                      <a:pt x="102" y="77"/>
                    </a:lnTo>
                    <a:lnTo>
                      <a:pt x="211" y="0"/>
                    </a:lnTo>
                    <a:lnTo>
                      <a:pt x="337" y="46"/>
                    </a:lnTo>
                    <a:lnTo>
                      <a:pt x="399" y="17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98"/>
              <p:cNvSpPr/>
              <p:nvPr/>
            </p:nvSpPr>
            <p:spPr>
              <a:xfrm>
                <a:off x="8803800" y="5082840"/>
                <a:ext cx="1440" cy="47520"/>
              </a:xfrm>
              <a:custGeom>
                <a:avLst/>
                <a:gdLst/>
                <a:ahLst/>
                <a:rect l="l" t="t" r="r" b="b"/>
                <a:pathLst>
                  <a:path w="21" h="410">
                    <a:moveTo>
                      <a:pt x="0" y="0"/>
                    </a:moveTo>
                    <a:lnTo>
                      <a:pt x="21" y="167"/>
                    </a:lnTo>
                    <a:lnTo>
                      <a:pt x="21" y="41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99"/>
              <p:cNvSpPr/>
              <p:nvPr/>
            </p:nvSpPr>
            <p:spPr>
              <a:xfrm>
                <a:off x="8759160" y="5102280"/>
                <a:ext cx="22320" cy="46080"/>
              </a:xfrm>
              <a:custGeom>
                <a:avLst/>
                <a:gdLst/>
                <a:ahLst/>
                <a:rect l="l" t="t" r="r" b="b"/>
                <a:pathLst>
                  <a:path w="199" h="401">
                    <a:moveTo>
                      <a:pt x="0" y="0"/>
                    </a:moveTo>
                    <a:lnTo>
                      <a:pt x="11" y="132"/>
                    </a:lnTo>
                    <a:lnTo>
                      <a:pt x="66" y="252"/>
                    </a:lnTo>
                    <a:lnTo>
                      <a:pt x="199" y="40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00"/>
              <p:cNvSpPr/>
              <p:nvPr/>
            </p:nvSpPr>
            <p:spPr>
              <a:xfrm>
                <a:off x="8732520" y="5140080"/>
                <a:ext cx="6840" cy="40320"/>
              </a:xfrm>
              <a:custGeom>
                <a:avLst/>
                <a:gdLst/>
                <a:ahLst/>
                <a:rect l="l" t="t" r="r" b="b"/>
                <a:pathLst>
                  <a:path w="65" h="351">
                    <a:moveTo>
                      <a:pt x="65" y="0"/>
                    </a:moveTo>
                    <a:lnTo>
                      <a:pt x="15" y="96"/>
                    </a:lnTo>
                    <a:lnTo>
                      <a:pt x="0" y="207"/>
                    </a:lnTo>
                    <a:lnTo>
                      <a:pt x="34" y="35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01"/>
              <p:cNvSpPr/>
              <p:nvPr/>
            </p:nvSpPr>
            <p:spPr>
              <a:xfrm>
                <a:off x="8890920" y="5151600"/>
                <a:ext cx="9720" cy="41760"/>
              </a:xfrm>
              <a:custGeom>
                <a:avLst/>
                <a:gdLst/>
                <a:ahLst/>
                <a:rect l="l" t="t" r="r" b="b"/>
                <a:pathLst>
                  <a:path w="84" h="355">
                    <a:moveTo>
                      <a:pt x="0" y="0"/>
                    </a:moveTo>
                    <a:lnTo>
                      <a:pt x="84" y="162"/>
                    </a:lnTo>
                    <a:lnTo>
                      <a:pt x="84" y="355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02"/>
              <p:cNvSpPr/>
              <p:nvPr/>
            </p:nvSpPr>
            <p:spPr>
              <a:xfrm>
                <a:off x="8815320" y="5194800"/>
                <a:ext cx="5040" cy="39240"/>
              </a:xfrm>
              <a:custGeom>
                <a:avLst/>
                <a:gdLst/>
                <a:ahLst/>
                <a:rect l="l" t="t" r="r" b="b"/>
                <a:pathLst>
                  <a:path w="45" h="338">
                    <a:moveTo>
                      <a:pt x="45" y="0"/>
                    </a:moveTo>
                    <a:lnTo>
                      <a:pt x="32" y="77"/>
                    </a:lnTo>
                    <a:lnTo>
                      <a:pt x="15" y="159"/>
                    </a:lnTo>
                    <a:lnTo>
                      <a:pt x="0" y="338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03"/>
              <p:cNvSpPr/>
              <p:nvPr/>
            </p:nvSpPr>
            <p:spPr>
              <a:xfrm>
                <a:off x="8468280" y="5354280"/>
                <a:ext cx="244800" cy="169200"/>
              </a:xfrm>
              <a:custGeom>
                <a:avLst/>
                <a:gdLst/>
                <a:ahLst/>
                <a:rect l="l" t="t" r="r" b="b"/>
                <a:pathLst>
                  <a:path w="2105" h="1456">
                    <a:moveTo>
                      <a:pt x="893" y="266"/>
                    </a:moveTo>
                    <a:lnTo>
                      <a:pt x="713" y="318"/>
                    </a:lnTo>
                    <a:lnTo>
                      <a:pt x="565" y="394"/>
                    </a:lnTo>
                    <a:lnTo>
                      <a:pt x="438" y="487"/>
                    </a:lnTo>
                    <a:lnTo>
                      <a:pt x="335" y="600"/>
                    </a:lnTo>
                    <a:lnTo>
                      <a:pt x="243" y="721"/>
                    </a:lnTo>
                    <a:lnTo>
                      <a:pt x="162" y="854"/>
                    </a:lnTo>
                    <a:lnTo>
                      <a:pt x="81" y="994"/>
                    </a:lnTo>
                    <a:lnTo>
                      <a:pt x="0" y="1131"/>
                    </a:lnTo>
                    <a:lnTo>
                      <a:pt x="92" y="1456"/>
                    </a:lnTo>
                    <a:lnTo>
                      <a:pt x="1858" y="633"/>
                    </a:lnTo>
                    <a:lnTo>
                      <a:pt x="2105" y="0"/>
                    </a:lnTo>
                    <a:lnTo>
                      <a:pt x="1913" y="26"/>
                    </a:lnTo>
                    <a:lnTo>
                      <a:pt x="1718" y="29"/>
                    </a:lnTo>
                    <a:lnTo>
                      <a:pt x="1522" y="29"/>
                    </a:lnTo>
                    <a:lnTo>
                      <a:pt x="1340" y="29"/>
                    </a:lnTo>
                    <a:lnTo>
                      <a:pt x="1169" y="43"/>
                    </a:lnTo>
                    <a:lnTo>
                      <a:pt x="1020" y="83"/>
                    </a:lnTo>
                    <a:lnTo>
                      <a:pt x="929" y="175"/>
                    </a:lnTo>
                    <a:lnTo>
                      <a:pt x="893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04"/>
              <p:cNvSpPr/>
              <p:nvPr/>
            </p:nvSpPr>
            <p:spPr>
              <a:xfrm>
                <a:off x="8468280" y="5354280"/>
                <a:ext cx="244800" cy="169200"/>
              </a:xfrm>
              <a:custGeom>
                <a:avLst/>
                <a:gdLst/>
                <a:ahLst/>
                <a:rect l="l" t="t" r="r" b="b"/>
                <a:pathLst>
                  <a:path w="2105" h="1456">
                    <a:moveTo>
                      <a:pt x="893" y="266"/>
                    </a:moveTo>
                    <a:lnTo>
                      <a:pt x="713" y="318"/>
                    </a:lnTo>
                    <a:lnTo>
                      <a:pt x="565" y="394"/>
                    </a:lnTo>
                    <a:lnTo>
                      <a:pt x="438" y="487"/>
                    </a:lnTo>
                    <a:lnTo>
                      <a:pt x="335" y="600"/>
                    </a:lnTo>
                    <a:lnTo>
                      <a:pt x="243" y="721"/>
                    </a:lnTo>
                    <a:lnTo>
                      <a:pt x="162" y="854"/>
                    </a:lnTo>
                    <a:lnTo>
                      <a:pt x="81" y="994"/>
                    </a:lnTo>
                    <a:lnTo>
                      <a:pt x="0" y="1131"/>
                    </a:lnTo>
                    <a:lnTo>
                      <a:pt x="92" y="1456"/>
                    </a:lnTo>
                    <a:lnTo>
                      <a:pt x="1858" y="633"/>
                    </a:lnTo>
                    <a:lnTo>
                      <a:pt x="2105" y="0"/>
                    </a:lnTo>
                    <a:lnTo>
                      <a:pt x="1913" y="26"/>
                    </a:lnTo>
                    <a:lnTo>
                      <a:pt x="1718" y="29"/>
                    </a:lnTo>
                    <a:lnTo>
                      <a:pt x="1522" y="29"/>
                    </a:lnTo>
                    <a:lnTo>
                      <a:pt x="1340" y="29"/>
                    </a:lnTo>
                    <a:lnTo>
                      <a:pt x="1169" y="43"/>
                    </a:lnTo>
                    <a:lnTo>
                      <a:pt x="1020" y="83"/>
                    </a:lnTo>
                    <a:lnTo>
                      <a:pt x="929" y="175"/>
                    </a:lnTo>
                    <a:lnTo>
                      <a:pt x="893" y="26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05"/>
              <p:cNvSpPr/>
              <p:nvPr/>
            </p:nvSpPr>
            <p:spPr>
              <a:xfrm>
                <a:off x="8187120" y="5337720"/>
                <a:ext cx="608400" cy="649440"/>
              </a:xfrm>
              <a:custGeom>
                <a:avLst/>
                <a:gdLst/>
                <a:ahLst/>
                <a:rect l="l" t="t" r="r" b="b"/>
                <a:pathLst>
                  <a:path w="5222" h="5565">
                    <a:moveTo>
                      <a:pt x="1936" y="3940"/>
                    </a:moveTo>
                    <a:lnTo>
                      <a:pt x="0" y="5565"/>
                    </a:lnTo>
                    <a:lnTo>
                      <a:pt x="2696" y="5399"/>
                    </a:lnTo>
                    <a:lnTo>
                      <a:pt x="3400" y="4805"/>
                    </a:lnTo>
                    <a:lnTo>
                      <a:pt x="4521" y="2460"/>
                    </a:lnTo>
                    <a:lnTo>
                      <a:pt x="5222" y="1986"/>
                    </a:lnTo>
                    <a:lnTo>
                      <a:pt x="4870" y="0"/>
                    </a:lnTo>
                    <a:lnTo>
                      <a:pt x="4704" y="92"/>
                    </a:lnTo>
                    <a:lnTo>
                      <a:pt x="4518" y="142"/>
                    </a:lnTo>
                    <a:lnTo>
                      <a:pt x="4326" y="168"/>
                    </a:lnTo>
                    <a:lnTo>
                      <a:pt x="4309" y="216"/>
                    </a:lnTo>
                    <a:lnTo>
                      <a:pt x="4274" y="380"/>
                    </a:lnTo>
                    <a:lnTo>
                      <a:pt x="4167" y="493"/>
                    </a:lnTo>
                    <a:lnTo>
                      <a:pt x="4094" y="608"/>
                    </a:lnTo>
                    <a:lnTo>
                      <a:pt x="4001" y="643"/>
                    </a:lnTo>
                    <a:lnTo>
                      <a:pt x="3831" y="737"/>
                    </a:lnTo>
                    <a:lnTo>
                      <a:pt x="1936" y="394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06"/>
              <p:cNvSpPr/>
              <p:nvPr/>
            </p:nvSpPr>
            <p:spPr>
              <a:xfrm>
                <a:off x="8187120" y="5337720"/>
                <a:ext cx="608400" cy="649440"/>
              </a:xfrm>
              <a:custGeom>
                <a:avLst/>
                <a:gdLst/>
                <a:ahLst/>
                <a:rect l="l" t="t" r="r" b="b"/>
                <a:pathLst>
                  <a:path w="5222" h="5565">
                    <a:moveTo>
                      <a:pt x="1936" y="3940"/>
                    </a:moveTo>
                    <a:lnTo>
                      <a:pt x="0" y="5565"/>
                    </a:lnTo>
                    <a:lnTo>
                      <a:pt x="2696" y="5399"/>
                    </a:lnTo>
                    <a:lnTo>
                      <a:pt x="3400" y="4805"/>
                    </a:lnTo>
                    <a:lnTo>
                      <a:pt x="4521" y="2460"/>
                    </a:lnTo>
                    <a:lnTo>
                      <a:pt x="5222" y="1986"/>
                    </a:lnTo>
                    <a:lnTo>
                      <a:pt x="4870" y="0"/>
                    </a:lnTo>
                    <a:lnTo>
                      <a:pt x="4704" y="92"/>
                    </a:lnTo>
                    <a:lnTo>
                      <a:pt x="4518" y="142"/>
                    </a:lnTo>
                    <a:lnTo>
                      <a:pt x="4326" y="168"/>
                    </a:lnTo>
                    <a:lnTo>
                      <a:pt x="4309" y="216"/>
                    </a:lnTo>
                    <a:lnTo>
                      <a:pt x="4274" y="380"/>
                    </a:lnTo>
                    <a:lnTo>
                      <a:pt x="4167" y="493"/>
                    </a:lnTo>
                    <a:lnTo>
                      <a:pt x="4094" y="608"/>
                    </a:lnTo>
                    <a:lnTo>
                      <a:pt x="4001" y="643"/>
                    </a:lnTo>
                    <a:lnTo>
                      <a:pt x="3831" y="737"/>
                    </a:lnTo>
                    <a:lnTo>
                      <a:pt x="1936" y="394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07"/>
              <p:cNvSpPr/>
              <p:nvPr/>
            </p:nvSpPr>
            <p:spPr>
              <a:xfrm>
                <a:off x="7606440" y="6270120"/>
                <a:ext cx="332640" cy="147960"/>
              </a:xfrm>
              <a:custGeom>
                <a:avLst/>
                <a:gdLst/>
                <a:ahLst/>
                <a:rect l="l" t="t" r="r" b="b"/>
                <a:pathLst>
                  <a:path w="2851" h="1269">
                    <a:moveTo>
                      <a:pt x="0" y="1269"/>
                    </a:moveTo>
                    <a:lnTo>
                      <a:pt x="988" y="1269"/>
                    </a:lnTo>
                    <a:lnTo>
                      <a:pt x="1130" y="1160"/>
                    </a:lnTo>
                    <a:lnTo>
                      <a:pt x="1416" y="1005"/>
                    </a:lnTo>
                    <a:lnTo>
                      <a:pt x="1756" y="751"/>
                    </a:lnTo>
                    <a:lnTo>
                      <a:pt x="1996" y="569"/>
                    </a:lnTo>
                    <a:lnTo>
                      <a:pt x="2496" y="259"/>
                    </a:lnTo>
                    <a:lnTo>
                      <a:pt x="2851" y="0"/>
                    </a:lnTo>
                    <a:lnTo>
                      <a:pt x="1830" y="211"/>
                    </a:lnTo>
                    <a:lnTo>
                      <a:pt x="0" y="1265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08"/>
              <p:cNvSpPr/>
              <p:nvPr/>
            </p:nvSpPr>
            <p:spPr>
              <a:xfrm>
                <a:off x="7606440" y="6270120"/>
                <a:ext cx="332640" cy="147960"/>
              </a:xfrm>
              <a:custGeom>
                <a:avLst/>
                <a:gdLst/>
                <a:ahLst/>
                <a:rect l="l" t="t" r="r" b="b"/>
                <a:pathLst>
                  <a:path w="2851" h="1269">
                    <a:moveTo>
                      <a:pt x="0" y="1269"/>
                    </a:moveTo>
                    <a:lnTo>
                      <a:pt x="988" y="1269"/>
                    </a:lnTo>
                    <a:lnTo>
                      <a:pt x="1130" y="1160"/>
                    </a:lnTo>
                    <a:lnTo>
                      <a:pt x="1416" y="1005"/>
                    </a:lnTo>
                    <a:lnTo>
                      <a:pt x="1756" y="751"/>
                    </a:lnTo>
                    <a:lnTo>
                      <a:pt x="1996" y="569"/>
                    </a:lnTo>
                    <a:lnTo>
                      <a:pt x="2496" y="259"/>
                    </a:lnTo>
                    <a:lnTo>
                      <a:pt x="2851" y="0"/>
                    </a:lnTo>
                    <a:lnTo>
                      <a:pt x="1830" y="211"/>
                    </a:lnTo>
                    <a:lnTo>
                      <a:pt x="0" y="1265"/>
                    </a:lnTo>
                    <a:lnTo>
                      <a:pt x="0" y="126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09"/>
              <p:cNvSpPr/>
              <p:nvPr/>
            </p:nvSpPr>
            <p:spPr>
              <a:xfrm>
                <a:off x="7296840" y="5918760"/>
                <a:ext cx="1157040" cy="499680"/>
              </a:xfrm>
              <a:custGeom>
                <a:avLst/>
                <a:gdLst/>
                <a:ahLst/>
                <a:rect l="l" t="t" r="r" b="b"/>
                <a:pathLst>
                  <a:path w="9917" h="4282">
                    <a:moveTo>
                      <a:pt x="4216" y="1327"/>
                    </a:moveTo>
                    <a:lnTo>
                      <a:pt x="4076" y="1387"/>
                    </a:lnTo>
                    <a:lnTo>
                      <a:pt x="3941" y="1456"/>
                    </a:lnTo>
                    <a:lnTo>
                      <a:pt x="3809" y="1525"/>
                    </a:lnTo>
                    <a:lnTo>
                      <a:pt x="3674" y="1607"/>
                    </a:lnTo>
                    <a:lnTo>
                      <a:pt x="3444" y="1759"/>
                    </a:lnTo>
                    <a:lnTo>
                      <a:pt x="3128" y="2017"/>
                    </a:lnTo>
                    <a:lnTo>
                      <a:pt x="2878" y="2226"/>
                    </a:lnTo>
                    <a:lnTo>
                      <a:pt x="2496" y="2493"/>
                    </a:lnTo>
                    <a:lnTo>
                      <a:pt x="2123" y="2753"/>
                    </a:lnTo>
                    <a:lnTo>
                      <a:pt x="1761" y="3013"/>
                    </a:lnTo>
                    <a:lnTo>
                      <a:pt x="1404" y="3270"/>
                    </a:lnTo>
                    <a:lnTo>
                      <a:pt x="1053" y="3478"/>
                    </a:lnTo>
                    <a:lnTo>
                      <a:pt x="705" y="3778"/>
                    </a:lnTo>
                    <a:lnTo>
                      <a:pt x="354" y="4029"/>
                    </a:lnTo>
                    <a:lnTo>
                      <a:pt x="0" y="4282"/>
                    </a:lnTo>
                    <a:lnTo>
                      <a:pt x="3013" y="4282"/>
                    </a:lnTo>
                    <a:lnTo>
                      <a:pt x="3155" y="4173"/>
                    </a:lnTo>
                    <a:lnTo>
                      <a:pt x="3442" y="4018"/>
                    </a:lnTo>
                    <a:lnTo>
                      <a:pt x="3836" y="3778"/>
                    </a:lnTo>
                    <a:lnTo>
                      <a:pt x="4066" y="3638"/>
                    </a:lnTo>
                    <a:lnTo>
                      <a:pt x="4230" y="3535"/>
                    </a:lnTo>
                    <a:lnTo>
                      <a:pt x="4429" y="3438"/>
                    </a:lnTo>
                    <a:lnTo>
                      <a:pt x="4731" y="3325"/>
                    </a:lnTo>
                    <a:lnTo>
                      <a:pt x="5047" y="3222"/>
                    </a:lnTo>
                    <a:lnTo>
                      <a:pt x="5217" y="3155"/>
                    </a:lnTo>
                    <a:lnTo>
                      <a:pt x="5447" y="3063"/>
                    </a:lnTo>
                    <a:lnTo>
                      <a:pt x="5683" y="2974"/>
                    </a:lnTo>
                    <a:lnTo>
                      <a:pt x="5852" y="2910"/>
                    </a:lnTo>
                    <a:lnTo>
                      <a:pt x="6956" y="2570"/>
                    </a:lnTo>
                    <a:lnTo>
                      <a:pt x="7608" y="1976"/>
                    </a:lnTo>
                    <a:lnTo>
                      <a:pt x="9917" y="200"/>
                    </a:lnTo>
                    <a:lnTo>
                      <a:pt x="9722" y="156"/>
                    </a:lnTo>
                    <a:lnTo>
                      <a:pt x="9542" y="95"/>
                    </a:lnTo>
                    <a:lnTo>
                      <a:pt x="9368" y="27"/>
                    </a:lnTo>
                    <a:lnTo>
                      <a:pt x="7401" y="0"/>
                    </a:lnTo>
                    <a:lnTo>
                      <a:pt x="6225" y="442"/>
                    </a:lnTo>
                    <a:lnTo>
                      <a:pt x="5834" y="634"/>
                    </a:lnTo>
                    <a:lnTo>
                      <a:pt x="5497" y="791"/>
                    </a:lnTo>
                    <a:lnTo>
                      <a:pt x="5166" y="959"/>
                    </a:lnTo>
                    <a:lnTo>
                      <a:pt x="4877" y="1078"/>
                    </a:lnTo>
                    <a:lnTo>
                      <a:pt x="4731" y="1141"/>
                    </a:lnTo>
                    <a:lnTo>
                      <a:pt x="4553" y="1227"/>
                    </a:lnTo>
                    <a:lnTo>
                      <a:pt x="4369" y="1303"/>
                    </a:lnTo>
                    <a:lnTo>
                      <a:pt x="4216" y="1327"/>
                    </a:lnTo>
                    <a:close/>
                  </a:path>
                </a:pathLst>
              </a:custGeom>
              <a:solidFill>
                <a:srgbClr val="291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10"/>
              <p:cNvSpPr/>
              <p:nvPr/>
            </p:nvSpPr>
            <p:spPr>
              <a:xfrm>
                <a:off x="7296840" y="5918760"/>
                <a:ext cx="1157040" cy="499680"/>
              </a:xfrm>
              <a:custGeom>
                <a:avLst/>
                <a:gdLst/>
                <a:ahLst/>
                <a:rect l="l" t="t" r="r" b="b"/>
                <a:pathLst>
                  <a:path w="9917" h="4282">
                    <a:moveTo>
                      <a:pt x="4216" y="1327"/>
                    </a:moveTo>
                    <a:lnTo>
                      <a:pt x="4076" y="1387"/>
                    </a:lnTo>
                    <a:lnTo>
                      <a:pt x="3941" y="1456"/>
                    </a:lnTo>
                    <a:lnTo>
                      <a:pt x="3809" y="1525"/>
                    </a:lnTo>
                    <a:lnTo>
                      <a:pt x="3674" y="1607"/>
                    </a:lnTo>
                    <a:lnTo>
                      <a:pt x="3444" y="1759"/>
                    </a:lnTo>
                    <a:lnTo>
                      <a:pt x="3128" y="2017"/>
                    </a:lnTo>
                    <a:lnTo>
                      <a:pt x="2878" y="2226"/>
                    </a:lnTo>
                    <a:lnTo>
                      <a:pt x="2496" y="2493"/>
                    </a:lnTo>
                    <a:lnTo>
                      <a:pt x="2123" y="2753"/>
                    </a:lnTo>
                    <a:lnTo>
                      <a:pt x="1761" y="3013"/>
                    </a:lnTo>
                    <a:lnTo>
                      <a:pt x="1404" y="3270"/>
                    </a:lnTo>
                    <a:lnTo>
                      <a:pt x="1053" y="3478"/>
                    </a:lnTo>
                    <a:lnTo>
                      <a:pt x="705" y="3778"/>
                    </a:lnTo>
                    <a:lnTo>
                      <a:pt x="354" y="4029"/>
                    </a:lnTo>
                    <a:lnTo>
                      <a:pt x="0" y="4282"/>
                    </a:lnTo>
                    <a:lnTo>
                      <a:pt x="3013" y="4282"/>
                    </a:lnTo>
                    <a:lnTo>
                      <a:pt x="3155" y="4173"/>
                    </a:lnTo>
                    <a:lnTo>
                      <a:pt x="3442" y="4018"/>
                    </a:lnTo>
                    <a:lnTo>
                      <a:pt x="3836" y="3778"/>
                    </a:lnTo>
                    <a:lnTo>
                      <a:pt x="4066" y="3638"/>
                    </a:lnTo>
                    <a:lnTo>
                      <a:pt x="4230" y="3535"/>
                    </a:lnTo>
                    <a:lnTo>
                      <a:pt x="4429" y="3438"/>
                    </a:lnTo>
                    <a:lnTo>
                      <a:pt x="4731" y="3325"/>
                    </a:lnTo>
                    <a:lnTo>
                      <a:pt x="5047" y="3222"/>
                    </a:lnTo>
                    <a:lnTo>
                      <a:pt x="5217" y="3155"/>
                    </a:lnTo>
                    <a:lnTo>
                      <a:pt x="5447" y="3063"/>
                    </a:lnTo>
                    <a:lnTo>
                      <a:pt x="5683" y="2974"/>
                    </a:lnTo>
                    <a:lnTo>
                      <a:pt x="5852" y="2910"/>
                    </a:lnTo>
                    <a:lnTo>
                      <a:pt x="6956" y="2570"/>
                    </a:lnTo>
                    <a:lnTo>
                      <a:pt x="7608" y="1976"/>
                    </a:lnTo>
                    <a:lnTo>
                      <a:pt x="9917" y="200"/>
                    </a:lnTo>
                    <a:lnTo>
                      <a:pt x="9722" y="156"/>
                    </a:lnTo>
                    <a:lnTo>
                      <a:pt x="9542" y="95"/>
                    </a:lnTo>
                    <a:lnTo>
                      <a:pt x="9368" y="27"/>
                    </a:lnTo>
                    <a:lnTo>
                      <a:pt x="7401" y="0"/>
                    </a:lnTo>
                    <a:lnTo>
                      <a:pt x="6225" y="442"/>
                    </a:lnTo>
                    <a:lnTo>
                      <a:pt x="5834" y="634"/>
                    </a:lnTo>
                    <a:lnTo>
                      <a:pt x="5497" y="791"/>
                    </a:lnTo>
                    <a:lnTo>
                      <a:pt x="5166" y="959"/>
                    </a:lnTo>
                    <a:lnTo>
                      <a:pt x="4877" y="1078"/>
                    </a:lnTo>
                    <a:lnTo>
                      <a:pt x="4731" y="1141"/>
                    </a:lnTo>
                    <a:lnTo>
                      <a:pt x="4553" y="1227"/>
                    </a:lnTo>
                    <a:lnTo>
                      <a:pt x="4369" y="1303"/>
                    </a:lnTo>
                    <a:lnTo>
                      <a:pt x="4216" y="13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311"/>
              <p:cNvSpPr/>
              <p:nvPr/>
            </p:nvSpPr>
            <p:spPr>
              <a:xfrm>
                <a:off x="7914240" y="6027840"/>
                <a:ext cx="107280" cy="100800"/>
              </a:xfrm>
              <a:custGeom>
                <a:avLst/>
                <a:gdLst/>
                <a:ahLst/>
                <a:rect l="l" t="t" r="r" b="b"/>
                <a:pathLst>
                  <a:path w="933" h="871">
                    <a:moveTo>
                      <a:pt x="933" y="0"/>
                    </a:moveTo>
                    <a:lnTo>
                      <a:pt x="737" y="87"/>
                    </a:lnTo>
                    <a:lnTo>
                      <a:pt x="337" y="400"/>
                    </a:lnTo>
                    <a:lnTo>
                      <a:pt x="35" y="828"/>
                    </a:lnTo>
                    <a:lnTo>
                      <a:pt x="0" y="87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312"/>
              <p:cNvSpPr/>
              <p:nvPr/>
            </p:nvSpPr>
            <p:spPr>
              <a:xfrm>
                <a:off x="7862400" y="6208560"/>
                <a:ext cx="92160" cy="68400"/>
              </a:xfrm>
              <a:custGeom>
                <a:avLst/>
                <a:gdLst/>
                <a:ahLst/>
                <a:rect l="l" t="t" r="r" b="b"/>
                <a:pathLst>
                  <a:path w="780" h="594">
                    <a:moveTo>
                      <a:pt x="780" y="0"/>
                    </a:moveTo>
                    <a:lnTo>
                      <a:pt x="763" y="12"/>
                    </a:lnTo>
                    <a:lnTo>
                      <a:pt x="707" y="45"/>
                    </a:lnTo>
                    <a:lnTo>
                      <a:pt x="673" y="68"/>
                    </a:lnTo>
                    <a:lnTo>
                      <a:pt x="639" y="90"/>
                    </a:lnTo>
                    <a:lnTo>
                      <a:pt x="601" y="117"/>
                    </a:lnTo>
                    <a:lnTo>
                      <a:pt x="570" y="141"/>
                    </a:lnTo>
                    <a:lnTo>
                      <a:pt x="536" y="167"/>
                    </a:lnTo>
                    <a:lnTo>
                      <a:pt x="501" y="195"/>
                    </a:lnTo>
                    <a:lnTo>
                      <a:pt x="468" y="221"/>
                    </a:lnTo>
                    <a:lnTo>
                      <a:pt x="436" y="249"/>
                    </a:lnTo>
                    <a:lnTo>
                      <a:pt x="404" y="274"/>
                    </a:lnTo>
                    <a:lnTo>
                      <a:pt x="373" y="299"/>
                    </a:lnTo>
                    <a:lnTo>
                      <a:pt x="344" y="327"/>
                    </a:lnTo>
                    <a:lnTo>
                      <a:pt x="313" y="352"/>
                    </a:lnTo>
                    <a:lnTo>
                      <a:pt x="282" y="382"/>
                    </a:lnTo>
                    <a:lnTo>
                      <a:pt x="255" y="403"/>
                    </a:lnTo>
                    <a:lnTo>
                      <a:pt x="221" y="428"/>
                    </a:lnTo>
                    <a:lnTo>
                      <a:pt x="188" y="450"/>
                    </a:lnTo>
                    <a:lnTo>
                      <a:pt x="156" y="476"/>
                    </a:lnTo>
                    <a:lnTo>
                      <a:pt x="118" y="497"/>
                    </a:lnTo>
                    <a:lnTo>
                      <a:pt x="85" y="521"/>
                    </a:lnTo>
                    <a:lnTo>
                      <a:pt x="52" y="546"/>
                    </a:lnTo>
                    <a:lnTo>
                      <a:pt x="24" y="570"/>
                    </a:lnTo>
                    <a:lnTo>
                      <a:pt x="0" y="59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313"/>
              <p:cNvSpPr/>
              <p:nvPr/>
            </p:nvSpPr>
            <p:spPr>
              <a:xfrm>
                <a:off x="7587720" y="6170760"/>
                <a:ext cx="83880" cy="59760"/>
              </a:xfrm>
              <a:custGeom>
                <a:avLst/>
                <a:gdLst/>
                <a:ahLst/>
                <a:rect l="l" t="t" r="r" b="b"/>
                <a:pathLst>
                  <a:path w="719" h="510">
                    <a:moveTo>
                      <a:pt x="719" y="0"/>
                    </a:moveTo>
                    <a:lnTo>
                      <a:pt x="558" y="151"/>
                    </a:lnTo>
                    <a:lnTo>
                      <a:pt x="380" y="284"/>
                    </a:lnTo>
                    <a:lnTo>
                      <a:pt x="195" y="394"/>
                    </a:lnTo>
                    <a:lnTo>
                      <a:pt x="0" y="51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14"/>
              <p:cNvSpPr/>
              <p:nvPr/>
            </p:nvSpPr>
            <p:spPr>
              <a:xfrm>
                <a:off x="7494120" y="6250320"/>
                <a:ext cx="235080" cy="135720"/>
              </a:xfrm>
              <a:custGeom>
                <a:avLst/>
                <a:gdLst/>
                <a:ahLst/>
                <a:rect l="l" t="t" r="r" b="b"/>
                <a:pathLst>
                  <a:path w="2013" h="1164">
                    <a:moveTo>
                      <a:pt x="2013" y="0"/>
                    </a:moveTo>
                    <a:lnTo>
                      <a:pt x="1867" y="233"/>
                    </a:lnTo>
                    <a:lnTo>
                      <a:pt x="1740" y="466"/>
                    </a:lnTo>
                    <a:lnTo>
                      <a:pt x="1376" y="686"/>
                    </a:lnTo>
                    <a:lnTo>
                      <a:pt x="1090" y="778"/>
                    </a:lnTo>
                    <a:lnTo>
                      <a:pt x="786" y="849"/>
                    </a:lnTo>
                    <a:lnTo>
                      <a:pt x="484" y="921"/>
                    </a:lnTo>
                    <a:lnTo>
                      <a:pt x="192" y="1013"/>
                    </a:lnTo>
                    <a:lnTo>
                      <a:pt x="0" y="116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15"/>
              <p:cNvSpPr/>
              <p:nvPr/>
            </p:nvSpPr>
            <p:spPr>
              <a:xfrm>
                <a:off x="7607520" y="6344280"/>
                <a:ext cx="72360" cy="36000"/>
              </a:xfrm>
              <a:custGeom>
                <a:avLst/>
                <a:gdLst/>
                <a:ahLst/>
                <a:rect l="l" t="t" r="r" b="b"/>
                <a:pathLst>
                  <a:path w="624" h="318">
                    <a:moveTo>
                      <a:pt x="624" y="0"/>
                    </a:moveTo>
                    <a:lnTo>
                      <a:pt x="304" y="132"/>
                    </a:lnTo>
                    <a:lnTo>
                      <a:pt x="0" y="31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16"/>
              <p:cNvSpPr/>
              <p:nvPr/>
            </p:nvSpPr>
            <p:spPr>
              <a:xfrm>
                <a:off x="6986160" y="5835960"/>
                <a:ext cx="1171080" cy="235080"/>
              </a:xfrm>
              <a:custGeom>
                <a:avLst/>
                <a:gdLst/>
                <a:ahLst/>
                <a:rect l="l" t="t" r="r" b="b"/>
                <a:pathLst>
                  <a:path w="10047" h="2010">
                    <a:moveTo>
                      <a:pt x="5808" y="1095"/>
                    </a:moveTo>
                    <a:lnTo>
                      <a:pt x="0" y="1095"/>
                    </a:lnTo>
                    <a:lnTo>
                      <a:pt x="0" y="2010"/>
                    </a:lnTo>
                    <a:lnTo>
                      <a:pt x="5808" y="2010"/>
                    </a:lnTo>
                    <a:lnTo>
                      <a:pt x="6233" y="2010"/>
                    </a:lnTo>
                    <a:lnTo>
                      <a:pt x="10047" y="323"/>
                    </a:lnTo>
                    <a:lnTo>
                      <a:pt x="10047" y="0"/>
                    </a:lnTo>
                    <a:lnTo>
                      <a:pt x="5808" y="1095"/>
                    </a:lnTo>
                    <a:close/>
                  </a:path>
                </a:pathLst>
              </a:custGeom>
              <a:solidFill>
                <a:srgbClr val="60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17"/>
              <p:cNvSpPr/>
              <p:nvPr/>
            </p:nvSpPr>
            <p:spPr>
              <a:xfrm>
                <a:off x="6986160" y="5835960"/>
                <a:ext cx="1171080" cy="235080"/>
              </a:xfrm>
              <a:custGeom>
                <a:avLst/>
                <a:gdLst/>
                <a:ahLst/>
                <a:rect l="l" t="t" r="r" b="b"/>
                <a:pathLst>
                  <a:path w="10047" h="2010">
                    <a:moveTo>
                      <a:pt x="5808" y="1095"/>
                    </a:moveTo>
                    <a:lnTo>
                      <a:pt x="0" y="1095"/>
                    </a:lnTo>
                    <a:lnTo>
                      <a:pt x="0" y="2010"/>
                    </a:lnTo>
                    <a:lnTo>
                      <a:pt x="5808" y="2010"/>
                    </a:lnTo>
                    <a:lnTo>
                      <a:pt x="6233" y="2010"/>
                    </a:lnTo>
                    <a:lnTo>
                      <a:pt x="10047" y="323"/>
                    </a:lnTo>
                    <a:lnTo>
                      <a:pt x="10047" y="0"/>
                    </a:lnTo>
                    <a:lnTo>
                      <a:pt x="5808" y="1095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318"/>
              <p:cNvSpPr/>
              <p:nvPr/>
            </p:nvSpPr>
            <p:spPr>
              <a:xfrm>
                <a:off x="6985080" y="5791320"/>
                <a:ext cx="1242720" cy="174600"/>
              </a:xfrm>
              <a:custGeom>
                <a:avLst/>
                <a:gdLst/>
                <a:ahLst/>
                <a:rect l="l" t="t" r="r" b="b"/>
                <a:pathLst>
                  <a:path w="10659" h="1492">
                    <a:moveTo>
                      <a:pt x="10659" y="1"/>
                    </a:moveTo>
                    <a:lnTo>
                      <a:pt x="0" y="1"/>
                    </a:lnTo>
                    <a:lnTo>
                      <a:pt x="0" y="1492"/>
                    </a:lnTo>
                    <a:lnTo>
                      <a:pt x="7815" y="1492"/>
                    </a:lnTo>
                    <a:lnTo>
                      <a:pt x="7989" y="1116"/>
                    </a:lnTo>
                    <a:lnTo>
                      <a:pt x="10659" y="0"/>
                    </a:lnTo>
                    <a:lnTo>
                      <a:pt x="10659" y="1"/>
                    </a:lnTo>
                    <a:close/>
                  </a:path>
                </a:pathLst>
              </a:custGeom>
              <a:solidFill>
                <a:srgbClr val="e57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319"/>
              <p:cNvSpPr/>
              <p:nvPr/>
            </p:nvSpPr>
            <p:spPr>
              <a:xfrm>
                <a:off x="6985080" y="5791320"/>
                <a:ext cx="1242720" cy="174600"/>
              </a:xfrm>
              <a:custGeom>
                <a:avLst/>
                <a:gdLst/>
                <a:ahLst/>
                <a:rect l="l" t="t" r="r" b="b"/>
                <a:pathLst>
                  <a:path w="10659" h="1492">
                    <a:moveTo>
                      <a:pt x="10659" y="1"/>
                    </a:moveTo>
                    <a:lnTo>
                      <a:pt x="0" y="1"/>
                    </a:lnTo>
                    <a:lnTo>
                      <a:pt x="0" y="1492"/>
                    </a:lnTo>
                    <a:lnTo>
                      <a:pt x="7815" y="1492"/>
                    </a:lnTo>
                    <a:lnTo>
                      <a:pt x="7989" y="1116"/>
                    </a:lnTo>
                    <a:lnTo>
                      <a:pt x="10659" y="0"/>
                    </a:lnTo>
                    <a:lnTo>
                      <a:pt x="10659" y="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320"/>
              <p:cNvSpPr/>
              <p:nvPr/>
            </p:nvSpPr>
            <p:spPr>
              <a:xfrm>
                <a:off x="7476120" y="5791320"/>
                <a:ext cx="703800" cy="109080"/>
              </a:xfrm>
              <a:custGeom>
                <a:avLst/>
                <a:gdLst/>
                <a:ahLst/>
                <a:rect l="l" t="t" r="r" b="b"/>
                <a:pathLst>
                  <a:path w="6037" h="930">
                    <a:moveTo>
                      <a:pt x="5609" y="24"/>
                    </a:moveTo>
                    <a:lnTo>
                      <a:pt x="2343" y="0"/>
                    </a:lnTo>
                    <a:lnTo>
                      <a:pt x="0" y="786"/>
                    </a:lnTo>
                    <a:lnTo>
                      <a:pt x="1443" y="786"/>
                    </a:lnTo>
                    <a:lnTo>
                      <a:pt x="1830" y="647"/>
                    </a:lnTo>
                    <a:lnTo>
                      <a:pt x="3343" y="930"/>
                    </a:lnTo>
                    <a:lnTo>
                      <a:pt x="3791" y="894"/>
                    </a:lnTo>
                    <a:lnTo>
                      <a:pt x="6037" y="24"/>
                    </a:lnTo>
                    <a:lnTo>
                      <a:pt x="5609" y="24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21"/>
              <p:cNvSpPr/>
              <p:nvPr/>
            </p:nvSpPr>
            <p:spPr>
              <a:xfrm>
                <a:off x="7476120" y="5791320"/>
                <a:ext cx="703800" cy="109080"/>
              </a:xfrm>
              <a:custGeom>
                <a:avLst/>
                <a:gdLst/>
                <a:ahLst/>
                <a:rect l="l" t="t" r="r" b="b"/>
                <a:pathLst>
                  <a:path w="6037" h="930">
                    <a:moveTo>
                      <a:pt x="5609" y="24"/>
                    </a:moveTo>
                    <a:lnTo>
                      <a:pt x="2343" y="0"/>
                    </a:lnTo>
                    <a:lnTo>
                      <a:pt x="0" y="786"/>
                    </a:lnTo>
                    <a:lnTo>
                      <a:pt x="1443" y="786"/>
                    </a:lnTo>
                    <a:lnTo>
                      <a:pt x="1830" y="647"/>
                    </a:lnTo>
                    <a:lnTo>
                      <a:pt x="3343" y="930"/>
                    </a:lnTo>
                    <a:lnTo>
                      <a:pt x="3791" y="894"/>
                    </a:lnTo>
                    <a:lnTo>
                      <a:pt x="6037" y="24"/>
                    </a:lnTo>
                    <a:lnTo>
                      <a:pt x="5609" y="2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22"/>
              <p:cNvSpPr/>
              <p:nvPr/>
            </p:nvSpPr>
            <p:spPr>
              <a:xfrm>
                <a:off x="7897320" y="5794200"/>
                <a:ext cx="330120" cy="171720"/>
              </a:xfrm>
              <a:custGeom>
                <a:avLst/>
                <a:gdLst/>
                <a:ahLst/>
                <a:rect l="l" t="t" r="r" b="b"/>
                <a:pathLst>
                  <a:path w="2836" h="1479">
                    <a:moveTo>
                      <a:pt x="2836" y="0"/>
                    </a:moveTo>
                    <a:lnTo>
                      <a:pt x="0" y="1099"/>
                    </a:lnTo>
                    <a:lnTo>
                      <a:pt x="0" y="1479"/>
                    </a:lnTo>
                    <a:lnTo>
                      <a:pt x="2836" y="285"/>
                    </a:lnTo>
                    <a:lnTo>
                      <a:pt x="2836" y="0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23"/>
              <p:cNvSpPr/>
              <p:nvPr/>
            </p:nvSpPr>
            <p:spPr>
              <a:xfrm>
                <a:off x="7897320" y="5794200"/>
                <a:ext cx="330120" cy="171720"/>
              </a:xfrm>
              <a:custGeom>
                <a:avLst/>
                <a:gdLst/>
                <a:ahLst/>
                <a:rect l="l" t="t" r="r" b="b"/>
                <a:pathLst>
                  <a:path w="2836" h="1479">
                    <a:moveTo>
                      <a:pt x="2836" y="0"/>
                    </a:moveTo>
                    <a:lnTo>
                      <a:pt x="0" y="1099"/>
                    </a:lnTo>
                    <a:lnTo>
                      <a:pt x="0" y="1479"/>
                    </a:lnTo>
                    <a:lnTo>
                      <a:pt x="2836" y="285"/>
                    </a:lnTo>
                    <a:lnTo>
                      <a:pt x="283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324"/>
              <p:cNvSpPr/>
              <p:nvPr/>
            </p:nvSpPr>
            <p:spPr>
              <a:xfrm>
                <a:off x="6986160" y="5921280"/>
                <a:ext cx="909360" cy="10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325"/>
              <p:cNvSpPr/>
              <p:nvPr/>
            </p:nvSpPr>
            <p:spPr>
              <a:xfrm>
                <a:off x="8370000" y="6247440"/>
                <a:ext cx="75240" cy="170640"/>
              </a:xfrm>
              <a:prstGeom prst="rect">
                <a:avLst/>
              </a:prstGeom>
              <a:solidFill>
                <a:srgbClr val="818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26"/>
              <p:cNvSpPr/>
              <p:nvPr/>
            </p:nvSpPr>
            <p:spPr>
              <a:xfrm>
                <a:off x="8370000" y="6247440"/>
                <a:ext cx="75240" cy="170640"/>
              </a:xfrm>
              <a:custGeom>
                <a:avLst/>
                <a:gdLst/>
                <a:ahLst/>
                <a:rect l="l" t="t" r="r" b="b"/>
                <a:pathLst>
                  <a:path w="647" h="1459">
                    <a:moveTo>
                      <a:pt x="647" y="0"/>
                    </a:moveTo>
                    <a:lnTo>
                      <a:pt x="647" y="0"/>
                    </a:lnTo>
                    <a:lnTo>
                      <a:pt x="647" y="1459"/>
                    </a:lnTo>
                    <a:lnTo>
                      <a:pt x="0" y="1459"/>
                    </a:lnTo>
                    <a:lnTo>
                      <a:pt x="0" y="0"/>
                    </a:lnTo>
                    <a:lnTo>
                      <a:pt x="64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27"/>
              <p:cNvSpPr/>
              <p:nvPr/>
            </p:nvSpPr>
            <p:spPr>
              <a:xfrm>
                <a:off x="8378640" y="6237720"/>
                <a:ext cx="20880" cy="18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328"/>
              <p:cNvSpPr/>
              <p:nvPr/>
            </p:nvSpPr>
            <p:spPr>
              <a:xfrm>
                <a:off x="8378640" y="6237720"/>
                <a:ext cx="20880" cy="18036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29"/>
              <p:cNvSpPr/>
              <p:nvPr/>
            </p:nvSpPr>
            <p:spPr>
              <a:xfrm>
                <a:off x="8017560" y="5531040"/>
                <a:ext cx="875880" cy="737280"/>
              </a:xfrm>
              <a:custGeom>
                <a:avLst/>
                <a:gdLst/>
                <a:ahLst/>
                <a:rect l="l" t="t" r="r" b="b"/>
                <a:pathLst>
                  <a:path w="7513" h="6322">
                    <a:moveTo>
                      <a:pt x="5865" y="671"/>
                    </a:moveTo>
                    <a:lnTo>
                      <a:pt x="4327" y="3518"/>
                    </a:lnTo>
                    <a:lnTo>
                      <a:pt x="0" y="4082"/>
                    </a:lnTo>
                    <a:lnTo>
                      <a:pt x="47" y="4369"/>
                    </a:lnTo>
                    <a:lnTo>
                      <a:pt x="121" y="4649"/>
                    </a:lnTo>
                    <a:lnTo>
                      <a:pt x="223" y="4925"/>
                    </a:lnTo>
                    <a:lnTo>
                      <a:pt x="341" y="5186"/>
                    </a:lnTo>
                    <a:lnTo>
                      <a:pt x="477" y="5438"/>
                    </a:lnTo>
                    <a:lnTo>
                      <a:pt x="616" y="5673"/>
                    </a:lnTo>
                    <a:lnTo>
                      <a:pt x="762" y="5883"/>
                    </a:lnTo>
                    <a:lnTo>
                      <a:pt x="904" y="6070"/>
                    </a:lnTo>
                    <a:lnTo>
                      <a:pt x="983" y="6170"/>
                    </a:lnTo>
                    <a:lnTo>
                      <a:pt x="1101" y="6242"/>
                    </a:lnTo>
                    <a:lnTo>
                      <a:pt x="1247" y="6286"/>
                    </a:lnTo>
                    <a:lnTo>
                      <a:pt x="1424" y="6312"/>
                    </a:lnTo>
                    <a:lnTo>
                      <a:pt x="1861" y="6322"/>
                    </a:lnTo>
                    <a:lnTo>
                      <a:pt x="2390" y="6317"/>
                    </a:lnTo>
                    <a:lnTo>
                      <a:pt x="2918" y="6317"/>
                    </a:lnTo>
                    <a:lnTo>
                      <a:pt x="3366" y="6319"/>
                    </a:lnTo>
                    <a:lnTo>
                      <a:pt x="3759" y="6315"/>
                    </a:lnTo>
                    <a:lnTo>
                      <a:pt x="4118" y="6305"/>
                    </a:lnTo>
                    <a:lnTo>
                      <a:pt x="4295" y="6294"/>
                    </a:lnTo>
                    <a:lnTo>
                      <a:pt x="4460" y="6270"/>
                    </a:lnTo>
                    <a:lnTo>
                      <a:pt x="4617" y="6222"/>
                    </a:lnTo>
                    <a:lnTo>
                      <a:pt x="4767" y="6160"/>
                    </a:lnTo>
                    <a:lnTo>
                      <a:pt x="4912" y="6089"/>
                    </a:lnTo>
                    <a:lnTo>
                      <a:pt x="5046" y="6003"/>
                    </a:lnTo>
                    <a:lnTo>
                      <a:pt x="5216" y="5856"/>
                    </a:lnTo>
                    <a:lnTo>
                      <a:pt x="5509" y="5552"/>
                    </a:lnTo>
                    <a:lnTo>
                      <a:pt x="5691" y="5341"/>
                    </a:lnTo>
                    <a:lnTo>
                      <a:pt x="5917" y="5066"/>
                    </a:lnTo>
                    <a:lnTo>
                      <a:pt x="6067" y="4828"/>
                    </a:lnTo>
                    <a:lnTo>
                      <a:pt x="6118" y="4736"/>
                    </a:lnTo>
                    <a:lnTo>
                      <a:pt x="6194" y="4554"/>
                    </a:lnTo>
                    <a:lnTo>
                      <a:pt x="6285" y="4297"/>
                    </a:lnTo>
                    <a:lnTo>
                      <a:pt x="6391" y="3978"/>
                    </a:lnTo>
                    <a:lnTo>
                      <a:pt x="6646" y="3200"/>
                    </a:lnTo>
                    <a:lnTo>
                      <a:pt x="6918" y="2340"/>
                    </a:lnTo>
                    <a:lnTo>
                      <a:pt x="7181" y="1488"/>
                    </a:lnTo>
                    <a:lnTo>
                      <a:pt x="7298" y="1098"/>
                    </a:lnTo>
                    <a:lnTo>
                      <a:pt x="7397" y="746"/>
                    </a:lnTo>
                    <a:lnTo>
                      <a:pt x="7469" y="448"/>
                    </a:lnTo>
                    <a:lnTo>
                      <a:pt x="7508" y="215"/>
                    </a:lnTo>
                    <a:lnTo>
                      <a:pt x="7513" y="61"/>
                    </a:lnTo>
                    <a:lnTo>
                      <a:pt x="7475" y="0"/>
                    </a:lnTo>
                    <a:lnTo>
                      <a:pt x="5865" y="6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30"/>
              <p:cNvSpPr/>
              <p:nvPr/>
            </p:nvSpPr>
            <p:spPr>
              <a:xfrm>
                <a:off x="8017560" y="5531040"/>
                <a:ext cx="875880" cy="737280"/>
              </a:xfrm>
              <a:custGeom>
                <a:avLst/>
                <a:gdLst/>
                <a:ahLst/>
                <a:rect l="l" t="t" r="r" b="b"/>
                <a:pathLst>
                  <a:path w="7513" h="6322">
                    <a:moveTo>
                      <a:pt x="5865" y="671"/>
                    </a:moveTo>
                    <a:lnTo>
                      <a:pt x="4327" y="3518"/>
                    </a:lnTo>
                    <a:lnTo>
                      <a:pt x="0" y="4082"/>
                    </a:lnTo>
                    <a:lnTo>
                      <a:pt x="47" y="4369"/>
                    </a:lnTo>
                    <a:lnTo>
                      <a:pt x="121" y="4649"/>
                    </a:lnTo>
                    <a:lnTo>
                      <a:pt x="223" y="4925"/>
                    </a:lnTo>
                    <a:lnTo>
                      <a:pt x="341" y="5186"/>
                    </a:lnTo>
                    <a:lnTo>
                      <a:pt x="477" y="5438"/>
                    </a:lnTo>
                    <a:lnTo>
                      <a:pt x="616" y="5673"/>
                    </a:lnTo>
                    <a:lnTo>
                      <a:pt x="762" y="5883"/>
                    </a:lnTo>
                    <a:lnTo>
                      <a:pt x="904" y="6070"/>
                    </a:lnTo>
                    <a:lnTo>
                      <a:pt x="983" y="6170"/>
                    </a:lnTo>
                    <a:lnTo>
                      <a:pt x="1101" y="6242"/>
                    </a:lnTo>
                    <a:lnTo>
                      <a:pt x="1247" y="6286"/>
                    </a:lnTo>
                    <a:lnTo>
                      <a:pt x="1424" y="6312"/>
                    </a:lnTo>
                    <a:lnTo>
                      <a:pt x="1861" y="6322"/>
                    </a:lnTo>
                    <a:lnTo>
                      <a:pt x="2390" y="6317"/>
                    </a:lnTo>
                    <a:lnTo>
                      <a:pt x="2918" y="6317"/>
                    </a:lnTo>
                    <a:lnTo>
                      <a:pt x="3366" y="6319"/>
                    </a:lnTo>
                    <a:lnTo>
                      <a:pt x="3759" y="6315"/>
                    </a:lnTo>
                    <a:lnTo>
                      <a:pt x="4118" y="6305"/>
                    </a:lnTo>
                    <a:lnTo>
                      <a:pt x="4295" y="6294"/>
                    </a:lnTo>
                    <a:lnTo>
                      <a:pt x="4460" y="6270"/>
                    </a:lnTo>
                    <a:lnTo>
                      <a:pt x="4617" y="6222"/>
                    </a:lnTo>
                    <a:lnTo>
                      <a:pt x="4767" y="6160"/>
                    </a:lnTo>
                    <a:lnTo>
                      <a:pt x="4912" y="6089"/>
                    </a:lnTo>
                    <a:lnTo>
                      <a:pt x="5046" y="6003"/>
                    </a:lnTo>
                    <a:lnTo>
                      <a:pt x="5216" y="5856"/>
                    </a:lnTo>
                    <a:lnTo>
                      <a:pt x="5509" y="5552"/>
                    </a:lnTo>
                    <a:lnTo>
                      <a:pt x="5691" y="5341"/>
                    </a:lnTo>
                    <a:lnTo>
                      <a:pt x="5917" y="5066"/>
                    </a:lnTo>
                    <a:lnTo>
                      <a:pt x="6067" y="4828"/>
                    </a:lnTo>
                    <a:lnTo>
                      <a:pt x="6118" y="4736"/>
                    </a:lnTo>
                    <a:lnTo>
                      <a:pt x="6194" y="4554"/>
                    </a:lnTo>
                    <a:lnTo>
                      <a:pt x="6285" y="4297"/>
                    </a:lnTo>
                    <a:lnTo>
                      <a:pt x="6391" y="3978"/>
                    </a:lnTo>
                    <a:lnTo>
                      <a:pt x="6646" y="3200"/>
                    </a:lnTo>
                    <a:lnTo>
                      <a:pt x="6918" y="2340"/>
                    </a:lnTo>
                    <a:lnTo>
                      <a:pt x="7181" y="1488"/>
                    </a:lnTo>
                    <a:lnTo>
                      <a:pt x="7298" y="1098"/>
                    </a:lnTo>
                    <a:lnTo>
                      <a:pt x="7397" y="746"/>
                    </a:lnTo>
                    <a:lnTo>
                      <a:pt x="7469" y="448"/>
                    </a:lnTo>
                    <a:lnTo>
                      <a:pt x="7508" y="215"/>
                    </a:lnTo>
                    <a:lnTo>
                      <a:pt x="7513" y="61"/>
                    </a:lnTo>
                    <a:lnTo>
                      <a:pt x="7475" y="0"/>
                    </a:lnTo>
                    <a:lnTo>
                      <a:pt x="5865" y="67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331"/>
              <p:cNvSpPr/>
              <p:nvPr/>
            </p:nvSpPr>
            <p:spPr>
              <a:xfrm>
                <a:off x="8356320" y="6083640"/>
                <a:ext cx="192960" cy="162360"/>
              </a:xfrm>
              <a:custGeom>
                <a:avLst/>
                <a:gdLst/>
                <a:ahLst/>
                <a:rect l="l" t="t" r="r" b="b"/>
                <a:pathLst>
                  <a:path w="1657" h="1387">
                    <a:moveTo>
                      <a:pt x="1657" y="0"/>
                    </a:moveTo>
                    <a:lnTo>
                      <a:pt x="1565" y="48"/>
                    </a:lnTo>
                    <a:lnTo>
                      <a:pt x="1400" y="98"/>
                    </a:lnTo>
                    <a:lnTo>
                      <a:pt x="1226" y="139"/>
                    </a:lnTo>
                    <a:lnTo>
                      <a:pt x="892" y="207"/>
                    </a:lnTo>
                    <a:lnTo>
                      <a:pt x="760" y="248"/>
                    </a:lnTo>
                    <a:lnTo>
                      <a:pt x="637" y="305"/>
                    </a:lnTo>
                    <a:lnTo>
                      <a:pt x="553" y="365"/>
                    </a:lnTo>
                    <a:lnTo>
                      <a:pt x="457" y="439"/>
                    </a:lnTo>
                    <a:lnTo>
                      <a:pt x="394" y="507"/>
                    </a:lnTo>
                    <a:lnTo>
                      <a:pt x="344" y="594"/>
                    </a:lnTo>
                    <a:lnTo>
                      <a:pt x="304" y="679"/>
                    </a:lnTo>
                    <a:lnTo>
                      <a:pt x="241" y="924"/>
                    </a:lnTo>
                    <a:lnTo>
                      <a:pt x="219" y="1019"/>
                    </a:lnTo>
                    <a:lnTo>
                      <a:pt x="151" y="1134"/>
                    </a:lnTo>
                    <a:lnTo>
                      <a:pt x="0" y="1387"/>
                    </a:lnTo>
                    <a:lnTo>
                      <a:pt x="416" y="1386"/>
                    </a:lnTo>
                    <a:lnTo>
                      <a:pt x="834" y="1363"/>
                    </a:lnTo>
                    <a:lnTo>
                      <a:pt x="1133" y="1319"/>
                    </a:lnTo>
                    <a:lnTo>
                      <a:pt x="1386" y="1269"/>
                    </a:lnTo>
                    <a:lnTo>
                      <a:pt x="1452" y="1233"/>
                    </a:lnTo>
                    <a:lnTo>
                      <a:pt x="1493" y="1190"/>
                    </a:lnTo>
                    <a:lnTo>
                      <a:pt x="1523" y="1128"/>
                    </a:lnTo>
                    <a:lnTo>
                      <a:pt x="1556" y="968"/>
                    </a:lnTo>
                    <a:lnTo>
                      <a:pt x="1566" y="652"/>
                    </a:lnTo>
                    <a:lnTo>
                      <a:pt x="1595" y="372"/>
                    </a:lnTo>
                    <a:lnTo>
                      <a:pt x="1657" y="0"/>
                    </a:lnTo>
                    <a:close/>
                  </a:path>
                </a:pathLst>
              </a:custGeom>
              <a:solidFill>
                <a:srgbClr val="5a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332"/>
              <p:cNvSpPr/>
              <p:nvPr/>
            </p:nvSpPr>
            <p:spPr>
              <a:xfrm>
                <a:off x="8356320" y="6083640"/>
                <a:ext cx="192960" cy="162360"/>
              </a:xfrm>
              <a:custGeom>
                <a:avLst/>
                <a:gdLst/>
                <a:ahLst/>
                <a:rect l="l" t="t" r="r" b="b"/>
                <a:pathLst>
                  <a:path w="1657" h="1387">
                    <a:moveTo>
                      <a:pt x="1657" y="0"/>
                    </a:moveTo>
                    <a:lnTo>
                      <a:pt x="1565" y="48"/>
                    </a:lnTo>
                    <a:lnTo>
                      <a:pt x="1400" y="98"/>
                    </a:lnTo>
                    <a:lnTo>
                      <a:pt x="1226" y="139"/>
                    </a:lnTo>
                    <a:lnTo>
                      <a:pt x="892" y="207"/>
                    </a:lnTo>
                    <a:lnTo>
                      <a:pt x="760" y="248"/>
                    </a:lnTo>
                    <a:lnTo>
                      <a:pt x="637" y="305"/>
                    </a:lnTo>
                    <a:lnTo>
                      <a:pt x="553" y="365"/>
                    </a:lnTo>
                    <a:lnTo>
                      <a:pt x="457" y="439"/>
                    </a:lnTo>
                    <a:lnTo>
                      <a:pt x="394" y="507"/>
                    </a:lnTo>
                    <a:lnTo>
                      <a:pt x="344" y="594"/>
                    </a:lnTo>
                    <a:lnTo>
                      <a:pt x="304" y="679"/>
                    </a:lnTo>
                    <a:lnTo>
                      <a:pt x="241" y="924"/>
                    </a:lnTo>
                    <a:lnTo>
                      <a:pt x="219" y="1019"/>
                    </a:lnTo>
                    <a:lnTo>
                      <a:pt x="151" y="1134"/>
                    </a:lnTo>
                    <a:lnTo>
                      <a:pt x="0" y="1387"/>
                    </a:lnTo>
                    <a:lnTo>
                      <a:pt x="416" y="1386"/>
                    </a:lnTo>
                    <a:lnTo>
                      <a:pt x="834" y="1363"/>
                    </a:lnTo>
                    <a:lnTo>
                      <a:pt x="1133" y="1319"/>
                    </a:lnTo>
                    <a:lnTo>
                      <a:pt x="1386" y="1269"/>
                    </a:lnTo>
                    <a:lnTo>
                      <a:pt x="1452" y="1233"/>
                    </a:lnTo>
                    <a:lnTo>
                      <a:pt x="1493" y="1190"/>
                    </a:lnTo>
                    <a:lnTo>
                      <a:pt x="1523" y="1128"/>
                    </a:lnTo>
                    <a:lnTo>
                      <a:pt x="1556" y="968"/>
                    </a:lnTo>
                    <a:lnTo>
                      <a:pt x="1566" y="652"/>
                    </a:lnTo>
                    <a:lnTo>
                      <a:pt x="1595" y="372"/>
                    </a:lnTo>
                    <a:lnTo>
                      <a:pt x="165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333"/>
              <p:cNvSpPr/>
              <p:nvPr/>
            </p:nvSpPr>
            <p:spPr>
              <a:xfrm>
                <a:off x="8542440" y="5942520"/>
                <a:ext cx="44640" cy="313560"/>
              </a:xfrm>
              <a:custGeom>
                <a:avLst/>
                <a:gdLst/>
                <a:ahLst/>
                <a:rect l="l" t="t" r="r" b="b"/>
                <a:pathLst>
                  <a:path w="388" h="2682">
                    <a:moveTo>
                      <a:pt x="388" y="0"/>
                    </a:moveTo>
                    <a:lnTo>
                      <a:pt x="359" y="140"/>
                    </a:lnTo>
                    <a:lnTo>
                      <a:pt x="284" y="493"/>
                    </a:lnTo>
                    <a:lnTo>
                      <a:pt x="192" y="911"/>
                    </a:lnTo>
                    <a:lnTo>
                      <a:pt x="107" y="1289"/>
                    </a:lnTo>
                    <a:lnTo>
                      <a:pt x="51" y="1646"/>
                    </a:lnTo>
                    <a:lnTo>
                      <a:pt x="11" y="1950"/>
                    </a:lnTo>
                    <a:lnTo>
                      <a:pt x="1" y="2180"/>
                    </a:lnTo>
                    <a:lnTo>
                      <a:pt x="0" y="2345"/>
                    </a:lnTo>
                    <a:lnTo>
                      <a:pt x="17" y="2481"/>
                    </a:lnTo>
                    <a:lnTo>
                      <a:pt x="47" y="2585"/>
                    </a:lnTo>
                    <a:lnTo>
                      <a:pt x="97" y="2655"/>
                    </a:lnTo>
                    <a:lnTo>
                      <a:pt x="167" y="2682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334"/>
              <p:cNvSpPr/>
              <p:nvPr/>
            </p:nvSpPr>
            <p:spPr>
              <a:xfrm>
                <a:off x="7063200" y="5617800"/>
                <a:ext cx="761040" cy="55800"/>
              </a:xfrm>
              <a:custGeom>
                <a:avLst/>
                <a:gdLst/>
                <a:ahLst/>
                <a:rect l="l" t="t" r="r" b="b"/>
                <a:pathLst>
                  <a:path w="6527" h="484">
                    <a:moveTo>
                      <a:pt x="6527" y="0"/>
                    </a:moveTo>
                    <a:lnTo>
                      <a:pt x="2952" y="94"/>
                    </a:lnTo>
                    <a:lnTo>
                      <a:pt x="0" y="484"/>
                    </a:lnTo>
                    <a:lnTo>
                      <a:pt x="3529" y="484"/>
                    </a:lnTo>
                    <a:lnTo>
                      <a:pt x="65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335"/>
              <p:cNvSpPr/>
              <p:nvPr/>
            </p:nvSpPr>
            <p:spPr>
              <a:xfrm>
                <a:off x="7063200" y="5617800"/>
                <a:ext cx="761040" cy="55800"/>
              </a:xfrm>
              <a:custGeom>
                <a:avLst/>
                <a:gdLst/>
                <a:ahLst/>
                <a:rect l="l" t="t" r="r" b="b"/>
                <a:pathLst>
                  <a:path w="6527" h="484">
                    <a:moveTo>
                      <a:pt x="6527" y="0"/>
                    </a:moveTo>
                    <a:lnTo>
                      <a:pt x="2952" y="94"/>
                    </a:lnTo>
                    <a:lnTo>
                      <a:pt x="0" y="484"/>
                    </a:lnTo>
                    <a:lnTo>
                      <a:pt x="3529" y="484"/>
                    </a:lnTo>
                    <a:lnTo>
                      <a:pt x="652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336"/>
              <p:cNvSpPr/>
              <p:nvPr/>
            </p:nvSpPr>
            <p:spPr>
              <a:xfrm>
                <a:off x="7063200" y="5673600"/>
                <a:ext cx="415080" cy="212760"/>
              </a:xfrm>
              <a:custGeom>
                <a:avLst/>
                <a:gdLst/>
                <a:ahLst/>
                <a:rect l="l" t="t" r="r" b="b"/>
                <a:pathLst>
                  <a:path w="3558" h="1816">
                    <a:moveTo>
                      <a:pt x="3558" y="1816"/>
                    </a:moveTo>
                    <a:lnTo>
                      <a:pt x="3558" y="0"/>
                    </a:lnTo>
                    <a:lnTo>
                      <a:pt x="0" y="0"/>
                    </a:lnTo>
                    <a:lnTo>
                      <a:pt x="0" y="1583"/>
                    </a:lnTo>
                    <a:lnTo>
                      <a:pt x="3558" y="181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337"/>
              <p:cNvSpPr/>
              <p:nvPr/>
            </p:nvSpPr>
            <p:spPr>
              <a:xfrm>
                <a:off x="7063200" y="5673600"/>
                <a:ext cx="415080" cy="212760"/>
              </a:xfrm>
              <a:custGeom>
                <a:avLst/>
                <a:gdLst/>
                <a:ahLst/>
                <a:rect l="l" t="t" r="r" b="b"/>
                <a:pathLst>
                  <a:path w="3558" h="1816">
                    <a:moveTo>
                      <a:pt x="3558" y="1816"/>
                    </a:moveTo>
                    <a:lnTo>
                      <a:pt x="3558" y="0"/>
                    </a:lnTo>
                    <a:lnTo>
                      <a:pt x="0" y="0"/>
                    </a:lnTo>
                    <a:lnTo>
                      <a:pt x="0" y="1583"/>
                    </a:lnTo>
                    <a:lnTo>
                      <a:pt x="3558" y="181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338"/>
              <p:cNvSpPr/>
              <p:nvPr/>
            </p:nvSpPr>
            <p:spPr>
              <a:xfrm>
                <a:off x="7407360" y="5617800"/>
                <a:ext cx="417240" cy="38880"/>
              </a:xfrm>
              <a:custGeom>
                <a:avLst/>
                <a:gdLst/>
                <a:ahLst/>
                <a:rect l="l" t="t" r="r" b="b"/>
                <a:pathLst>
                  <a:path w="3575" h="340">
                    <a:moveTo>
                      <a:pt x="3575" y="0"/>
                    </a:moveTo>
                    <a:lnTo>
                      <a:pt x="0" y="94"/>
                    </a:lnTo>
                    <a:lnTo>
                      <a:pt x="632" y="340"/>
                    </a:lnTo>
                    <a:lnTo>
                      <a:pt x="1027" y="340"/>
                    </a:lnTo>
                    <a:lnTo>
                      <a:pt x="1452" y="327"/>
                    </a:lnTo>
                    <a:lnTo>
                      <a:pt x="1967" y="282"/>
                    </a:lnTo>
                    <a:lnTo>
                      <a:pt x="3575" y="0"/>
                    </a:lnTo>
                    <a:close/>
                  </a:path>
                </a:pathLst>
              </a:custGeom>
              <a:solidFill>
                <a:srgbClr val="818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339"/>
              <p:cNvSpPr/>
              <p:nvPr/>
            </p:nvSpPr>
            <p:spPr>
              <a:xfrm>
                <a:off x="7407360" y="5617800"/>
                <a:ext cx="417240" cy="38880"/>
              </a:xfrm>
              <a:custGeom>
                <a:avLst/>
                <a:gdLst/>
                <a:ahLst/>
                <a:rect l="l" t="t" r="r" b="b"/>
                <a:pathLst>
                  <a:path w="3575" h="340">
                    <a:moveTo>
                      <a:pt x="3575" y="0"/>
                    </a:moveTo>
                    <a:lnTo>
                      <a:pt x="0" y="94"/>
                    </a:lnTo>
                    <a:lnTo>
                      <a:pt x="632" y="340"/>
                    </a:lnTo>
                    <a:lnTo>
                      <a:pt x="1027" y="340"/>
                    </a:lnTo>
                    <a:lnTo>
                      <a:pt x="1452" y="327"/>
                    </a:lnTo>
                    <a:lnTo>
                      <a:pt x="1967" y="282"/>
                    </a:lnTo>
                    <a:lnTo>
                      <a:pt x="3575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340"/>
              <p:cNvSpPr/>
              <p:nvPr/>
            </p:nvSpPr>
            <p:spPr>
              <a:xfrm>
                <a:off x="7478640" y="5617800"/>
                <a:ext cx="345600" cy="268560"/>
              </a:xfrm>
              <a:custGeom>
                <a:avLst/>
                <a:gdLst/>
                <a:ahLst/>
                <a:rect l="l" t="t" r="r" b="b"/>
                <a:pathLst>
                  <a:path w="2969" h="2300">
                    <a:moveTo>
                      <a:pt x="0" y="2300"/>
                    </a:moveTo>
                    <a:lnTo>
                      <a:pt x="0" y="484"/>
                    </a:lnTo>
                    <a:lnTo>
                      <a:pt x="2969" y="0"/>
                    </a:lnTo>
                    <a:lnTo>
                      <a:pt x="2969" y="1488"/>
                    </a:lnTo>
                    <a:lnTo>
                      <a:pt x="0" y="230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341"/>
              <p:cNvSpPr/>
              <p:nvPr/>
            </p:nvSpPr>
            <p:spPr>
              <a:xfrm>
                <a:off x="7478640" y="5617800"/>
                <a:ext cx="345600" cy="268560"/>
              </a:xfrm>
              <a:custGeom>
                <a:avLst/>
                <a:gdLst/>
                <a:ahLst/>
                <a:rect l="l" t="t" r="r" b="b"/>
                <a:pathLst>
                  <a:path w="2969" h="2300">
                    <a:moveTo>
                      <a:pt x="0" y="2300"/>
                    </a:moveTo>
                    <a:lnTo>
                      <a:pt x="0" y="484"/>
                    </a:lnTo>
                    <a:lnTo>
                      <a:pt x="2969" y="0"/>
                    </a:lnTo>
                    <a:lnTo>
                      <a:pt x="2969" y="1488"/>
                    </a:lnTo>
                    <a:lnTo>
                      <a:pt x="0" y="230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342"/>
              <p:cNvSpPr/>
              <p:nvPr/>
            </p:nvSpPr>
            <p:spPr>
              <a:xfrm>
                <a:off x="7522200" y="568476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8" h="359">
                    <a:moveTo>
                      <a:pt x="0" y="27"/>
                    </a:moveTo>
                    <a:lnTo>
                      <a:pt x="188" y="0"/>
                    </a:lnTo>
                    <a:lnTo>
                      <a:pt x="188" y="312"/>
                    </a:lnTo>
                    <a:lnTo>
                      <a:pt x="0" y="35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343"/>
              <p:cNvSpPr/>
              <p:nvPr/>
            </p:nvSpPr>
            <p:spPr>
              <a:xfrm>
                <a:off x="7522200" y="568476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8" h="359">
                    <a:moveTo>
                      <a:pt x="0" y="27"/>
                    </a:moveTo>
                    <a:lnTo>
                      <a:pt x="188" y="0"/>
                    </a:lnTo>
                    <a:lnTo>
                      <a:pt x="188" y="312"/>
                    </a:lnTo>
                    <a:lnTo>
                      <a:pt x="0" y="359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344"/>
              <p:cNvSpPr/>
              <p:nvPr/>
            </p:nvSpPr>
            <p:spPr>
              <a:xfrm>
                <a:off x="7519320" y="5726880"/>
                <a:ext cx="144000" cy="104760"/>
              </a:xfrm>
              <a:custGeom>
                <a:avLst/>
                <a:gdLst/>
                <a:ahLst/>
                <a:rect l="l" t="t" r="r" b="b"/>
                <a:pathLst>
                  <a:path w="1238" h="904">
                    <a:moveTo>
                      <a:pt x="0" y="264"/>
                    </a:moveTo>
                    <a:lnTo>
                      <a:pt x="0" y="904"/>
                    </a:lnTo>
                    <a:lnTo>
                      <a:pt x="1238" y="584"/>
                    </a:lnTo>
                    <a:lnTo>
                      <a:pt x="1238" y="0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345"/>
              <p:cNvSpPr/>
              <p:nvPr/>
            </p:nvSpPr>
            <p:spPr>
              <a:xfrm>
                <a:off x="7519320" y="5726880"/>
                <a:ext cx="144000" cy="104760"/>
              </a:xfrm>
              <a:custGeom>
                <a:avLst/>
                <a:gdLst/>
                <a:ahLst/>
                <a:rect l="l" t="t" r="r" b="b"/>
                <a:pathLst>
                  <a:path w="1238" h="904">
                    <a:moveTo>
                      <a:pt x="0" y="264"/>
                    </a:moveTo>
                    <a:lnTo>
                      <a:pt x="0" y="904"/>
                    </a:lnTo>
                    <a:lnTo>
                      <a:pt x="1238" y="584"/>
                    </a:lnTo>
                    <a:lnTo>
                      <a:pt x="1238" y="0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346"/>
              <p:cNvSpPr/>
              <p:nvPr/>
            </p:nvSpPr>
            <p:spPr>
              <a:xfrm>
                <a:off x="7443720" y="5283000"/>
                <a:ext cx="289440" cy="32040"/>
              </a:xfrm>
              <a:custGeom>
                <a:avLst/>
                <a:gdLst/>
                <a:ahLst/>
                <a:rect l="l" t="t" r="r" b="b"/>
                <a:pathLst>
                  <a:path w="2489" h="280">
                    <a:moveTo>
                      <a:pt x="0" y="6"/>
                    </a:moveTo>
                    <a:lnTo>
                      <a:pt x="86" y="189"/>
                    </a:lnTo>
                    <a:lnTo>
                      <a:pt x="2489" y="280"/>
                    </a:lnTo>
                    <a:lnTo>
                      <a:pt x="2453" y="210"/>
                    </a:lnTo>
                    <a:lnTo>
                      <a:pt x="2398" y="152"/>
                    </a:lnTo>
                    <a:lnTo>
                      <a:pt x="2319" y="12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347"/>
              <p:cNvSpPr/>
              <p:nvPr/>
            </p:nvSpPr>
            <p:spPr>
              <a:xfrm>
                <a:off x="7443720" y="5283000"/>
                <a:ext cx="289440" cy="32040"/>
              </a:xfrm>
              <a:custGeom>
                <a:avLst/>
                <a:gdLst/>
                <a:ahLst/>
                <a:rect l="l" t="t" r="r" b="b"/>
                <a:pathLst>
                  <a:path w="2489" h="280">
                    <a:moveTo>
                      <a:pt x="0" y="6"/>
                    </a:moveTo>
                    <a:lnTo>
                      <a:pt x="86" y="189"/>
                    </a:lnTo>
                    <a:lnTo>
                      <a:pt x="2489" y="280"/>
                    </a:lnTo>
                    <a:lnTo>
                      <a:pt x="2453" y="210"/>
                    </a:lnTo>
                    <a:lnTo>
                      <a:pt x="2398" y="152"/>
                    </a:lnTo>
                    <a:lnTo>
                      <a:pt x="2319" y="12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348"/>
              <p:cNvSpPr/>
              <p:nvPr/>
            </p:nvSpPr>
            <p:spPr>
              <a:xfrm>
                <a:off x="7456320" y="5295600"/>
                <a:ext cx="324360" cy="360720"/>
              </a:xfrm>
              <a:custGeom>
                <a:avLst/>
                <a:gdLst/>
                <a:ahLst/>
                <a:rect l="l" t="t" r="r" b="b"/>
                <a:pathLst>
                  <a:path w="2777" h="3104">
                    <a:moveTo>
                      <a:pt x="0" y="0"/>
                    </a:moveTo>
                    <a:lnTo>
                      <a:pt x="245" y="3104"/>
                    </a:lnTo>
                    <a:lnTo>
                      <a:pt x="2450" y="2775"/>
                    </a:lnTo>
                    <a:lnTo>
                      <a:pt x="2534" y="2764"/>
                    </a:lnTo>
                    <a:lnTo>
                      <a:pt x="2605" y="2736"/>
                    </a:lnTo>
                    <a:lnTo>
                      <a:pt x="2666" y="2682"/>
                    </a:lnTo>
                    <a:lnTo>
                      <a:pt x="2718" y="2612"/>
                    </a:lnTo>
                    <a:lnTo>
                      <a:pt x="2752" y="2525"/>
                    </a:lnTo>
                    <a:lnTo>
                      <a:pt x="2773" y="2428"/>
                    </a:lnTo>
                    <a:lnTo>
                      <a:pt x="2777" y="2318"/>
                    </a:lnTo>
                    <a:lnTo>
                      <a:pt x="2765" y="2197"/>
                    </a:lnTo>
                    <a:lnTo>
                      <a:pt x="2398" y="243"/>
                    </a:lnTo>
                    <a:lnTo>
                      <a:pt x="2374" y="174"/>
                    </a:lnTo>
                    <a:lnTo>
                      <a:pt x="2338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349"/>
              <p:cNvSpPr/>
              <p:nvPr/>
            </p:nvSpPr>
            <p:spPr>
              <a:xfrm>
                <a:off x="7456320" y="5295600"/>
                <a:ext cx="324360" cy="360720"/>
              </a:xfrm>
              <a:custGeom>
                <a:avLst/>
                <a:gdLst/>
                <a:ahLst/>
                <a:rect l="l" t="t" r="r" b="b"/>
                <a:pathLst>
                  <a:path w="2777" h="3104">
                    <a:moveTo>
                      <a:pt x="0" y="0"/>
                    </a:moveTo>
                    <a:lnTo>
                      <a:pt x="245" y="3104"/>
                    </a:lnTo>
                    <a:lnTo>
                      <a:pt x="2450" y="2775"/>
                    </a:lnTo>
                    <a:lnTo>
                      <a:pt x="2534" y="2764"/>
                    </a:lnTo>
                    <a:lnTo>
                      <a:pt x="2605" y="2736"/>
                    </a:lnTo>
                    <a:lnTo>
                      <a:pt x="2666" y="2682"/>
                    </a:lnTo>
                    <a:lnTo>
                      <a:pt x="2718" y="2612"/>
                    </a:lnTo>
                    <a:lnTo>
                      <a:pt x="2752" y="2525"/>
                    </a:lnTo>
                    <a:lnTo>
                      <a:pt x="2773" y="2428"/>
                    </a:lnTo>
                    <a:lnTo>
                      <a:pt x="2777" y="2318"/>
                    </a:lnTo>
                    <a:lnTo>
                      <a:pt x="2765" y="2197"/>
                    </a:lnTo>
                    <a:lnTo>
                      <a:pt x="2398" y="243"/>
                    </a:lnTo>
                    <a:lnTo>
                      <a:pt x="2374" y="174"/>
                    </a:lnTo>
                    <a:lnTo>
                      <a:pt x="2338" y="10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350"/>
              <p:cNvSpPr/>
              <p:nvPr/>
            </p:nvSpPr>
            <p:spPr>
              <a:xfrm>
                <a:off x="7504200" y="5320800"/>
                <a:ext cx="255960" cy="261720"/>
              </a:xfrm>
              <a:custGeom>
                <a:avLst/>
                <a:gdLst/>
                <a:ahLst/>
                <a:rect l="l" t="t" r="r" b="b"/>
                <a:pathLst>
                  <a:path w="2194" h="2241">
                    <a:moveTo>
                      <a:pt x="1806" y="71"/>
                    </a:moveTo>
                    <a:lnTo>
                      <a:pt x="0" y="0"/>
                    </a:lnTo>
                    <a:lnTo>
                      <a:pt x="427" y="2241"/>
                    </a:lnTo>
                    <a:lnTo>
                      <a:pt x="2194" y="2031"/>
                    </a:lnTo>
                    <a:lnTo>
                      <a:pt x="1806" y="71"/>
                    </a:lnTo>
                    <a:close/>
                  </a:path>
                </a:pathLst>
              </a:custGeom>
              <a:solidFill>
                <a:srgbClr val="2a1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351"/>
              <p:cNvSpPr/>
              <p:nvPr/>
            </p:nvSpPr>
            <p:spPr>
              <a:xfrm>
                <a:off x="7504200" y="5320800"/>
                <a:ext cx="255960" cy="261720"/>
              </a:xfrm>
              <a:custGeom>
                <a:avLst/>
                <a:gdLst/>
                <a:ahLst/>
                <a:rect l="l" t="t" r="r" b="b"/>
                <a:pathLst>
                  <a:path w="2194" h="2241">
                    <a:moveTo>
                      <a:pt x="1806" y="71"/>
                    </a:moveTo>
                    <a:lnTo>
                      <a:pt x="0" y="0"/>
                    </a:lnTo>
                    <a:lnTo>
                      <a:pt x="427" y="2241"/>
                    </a:lnTo>
                    <a:lnTo>
                      <a:pt x="2194" y="2031"/>
                    </a:lnTo>
                    <a:lnTo>
                      <a:pt x="1806" y="7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352"/>
              <p:cNvSpPr/>
              <p:nvPr/>
            </p:nvSpPr>
            <p:spPr>
              <a:xfrm>
                <a:off x="7505280" y="5331960"/>
                <a:ext cx="240840" cy="239040"/>
              </a:xfrm>
              <a:custGeom>
                <a:avLst/>
                <a:gdLst/>
                <a:ahLst/>
                <a:rect l="l" t="t" r="r" b="b"/>
                <a:pathLst>
                  <a:path w="2059" h="2060">
                    <a:moveTo>
                      <a:pt x="1714" y="56"/>
                    </a:moveTo>
                    <a:lnTo>
                      <a:pt x="0" y="0"/>
                    </a:lnTo>
                    <a:lnTo>
                      <a:pt x="397" y="2060"/>
                    </a:lnTo>
                    <a:lnTo>
                      <a:pt x="2059" y="1881"/>
                    </a:lnTo>
                    <a:lnTo>
                      <a:pt x="1714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353"/>
              <p:cNvSpPr/>
              <p:nvPr/>
            </p:nvSpPr>
            <p:spPr>
              <a:xfrm>
                <a:off x="7505280" y="5331960"/>
                <a:ext cx="240840" cy="239040"/>
              </a:xfrm>
              <a:custGeom>
                <a:avLst/>
                <a:gdLst/>
                <a:ahLst/>
                <a:rect l="l" t="t" r="r" b="b"/>
                <a:pathLst>
                  <a:path w="2059" h="2060">
                    <a:moveTo>
                      <a:pt x="1714" y="56"/>
                    </a:moveTo>
                    <a:lnTo>
                      <a:pt x="0" y="0"/>
                    </a:lnTo>
                    <a:lnTo>
                      <a:pt x="397" y="2060"/>
                    </a:lnTo>
                    <a:lnTo>
                      <a:pt x="2059" y="1881"/>
                    </a:lnTo>
                    <a:lnTo>
                      <a:pt x="1714" y="5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54"/>
              <p:cNvSpPr/>
              <p:nvPr/>
            </p:nvSpPr>
            <p:spPr>
              <a:xfrm>
                <a:off x="7659360" y="5483520"/>
                <a:ext cx="32040" cy="40320"/>
              </a:xfrm>
              <a:custGeom>
                <a:avLst/>
                <a:gdLst/>
                <a:ahLst/>
                <a:rect l="l" t="t" r="r" b="b"/>
                <a:pathLst>
                  <a:path w="275" h="357">
                    <a:moveTo>
                      <a:pt x="215" y="0"/>
                    </a:moveTo>
                    <a:lnTo>
                      <a:pt x="0" y="14"/>
                    </a:lnTo>
                    <a:lnTo>
                      <a:pt x="51" y="357"/>
                    </a:lnTo>
                    <a:lnTo>
                      <a:pt x="275" y="338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55"/>
              <p:cNvSpPr/>
              <p:nvPr/>
            </p:nvSpPr>
            <p:spPr>
              <a:xfrm>
                <a:off x="7659360" y="5483520"/>
                <a:ext cx="32040" cy="40320"/>
              </a:xfrm>
              <a:custGeom>
                <a:avLst/>
                <a:gdLst/>
                <a:ahLst/>
                <a:rect l="l" t="t" r="r" b="b"/>
                <a:pathLst>
                  <a:path w="275" h="357">
                    <a:moveTo>
                      <a:pt x="215" y="0"/>
                    </a:moveTo>
                    <a:lnTo>
                      <a:pt x="0" y="14"/>
                    </a:lnTo>
                    <a:lnTo>
                      <a:pt x="51" y="357"/>
                    </a:lnTo>
                    <a:lnTo>
                      <a:pt x="275" y="338"/>
                    </a:lnTo>
                    <a:lnTo>
                      <a:pt x="215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56"/>
              <p:cNvSpPr/>
              <p:nvPr/>
            </p:nvSpPr>
            <p:spPr>
              <a:xfrm>
                <a:off x="7599240" y="5439960"/>
                <a:ext cx="41760" cy="88200"/>
              </a:xfrm>
              <a:custGeom>
                <a:avLst/>
                <a:gdLst/>
                <a:ahLst/>
                <a:rect l="l" t="t" r="r" b="b"/>
                <a:pathLst>
                  <a:path w="360" h="762">
                    <a:moveTo>
                      <a:pt x="216" y="0"/>
                    </a:moveTo>
                    <a:lnTo>
                      <a:pt x="0" y="8"/>
                    </a:lnTo>
                    <a:lnTo>
                      <a:pt x="134" y="762"/>
                    </a:lnTo>
                    <a:lnTo>
                      <a:pt x="360" y="743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009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357"/>
              <p:cNvSpPr/>
              <p:nvPr/>
            </p:nvSpPr>
            <p:spPr>
              <a:xfrm>
                <a:off x="7599240" y="5439960"/>
                <a:ext cx="41760" cy="88200"/>
              </a:xfrm>
              <a:custGeom>
                <a:avLst/>
                <a:gdLst/>
                <a:ahLst/>
                <a:rect l="l" t="t" r="r" b="b"/>
                <a:pathLst>
                  <a:path w="360" h="762">
                    <a:moveTo>
                      <a:pt x="216" y="0"/>
                    </a:moveTo>
                    <a:lnTo>
                      <a:pt x="0" y="8"/>
                    </a:lnTo>
                    <a:lnTo>
                      <a:pt x="134" y="762"/>
                    </a:lnTo>
                    <a:lnTo>
                      <a:pt x="360" y="743"/>
                    </a:lnTo>
                    <a:lnTo>
                      <a:pt x="21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358"/>
              <p:cNvSpPr/>
              <p:nvPr/>
            </p:nvSpPr>
            <p:spPr>
              <a:xfrm>
                <a:off x="7558560" y="54748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220" y="0"/>
                    </a:moveTo>
                    <a:lnTo>
                      <a:pt x="0" y="11"/>
                    </a:lnTo>
                    <a:lnTo>
                      <a:pt x="88" y="496"/>
                    </a:lnTo>
                    <a:lnTo>
                      <a:pt x="311" y="47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16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59"/>
              <p:cNvSpPr/>
              <p:nvPr/>
            </p:nvSpPr>
            <p:spPr>
              <a:xfrm>
                <a:off x="7558560" y="54748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220" y="0"/>
                    </a:moveTo>
                    <a:lnTo>
                      <a:pt x="0" y="11"/>
                    </a:lnTo>
                    <a:lnTo>
                      <a:pt x="88" y="496"/>
                    </a:lnTo>
                    <a:lnTo>
                      <a:pt x="311" y="474"/>
                    </a:lnTo>
                    <a:lnTo>
                      <a:pt x="22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360"/>
              <p:cNvSpPr/>
              <p:nvPr/>
            </p:nvSpPr>
            <p:spPr>
              <a:xfrm>
                <a:off x="7161120" y="5283000"/>
                <a:ext cx="358200" cy="376200"/>
              </a:xfrm>
              <a:custGeom>
                <a:avLst/>
                <a:gdLst/>
                <a:ahLst/>
                <a:rect l="l" t="t" r="r" b="b"/>
                <a:pathLst>
                  <a:path w="3076" h="3225">
                    <a:moveTo>
                      <a:pt x="0" y="1259"/>
                    </a:moveTo>
                    <a:lnTo>
                      <a:pt x="0" y="2244"/>
                    </a:lnTo>
                    <a:lnTo>
                      <a:pt x="711" y="2382"/>
                    </a:lnTo>
                    <a:lnTo>
                      <a:pt x="745" y="3219"/>
                    </a:lnTo>
                    <a:lnTo>
                      <a:pt x="1942" y="3225"/>
                    </a:lnTo>
                    <a:lnTo>
                      <a:pt x="2704" y="3225"/>
                    </a:lnTo>
                    <a:lnTo>
                      <a:pt x="2789" y="3202"/>
                    </a:lnTo>
                    <a:lnTo>
                      <a:pt x="2867" y="3153"/>
                    </a:lnTo>
                    <a:lnTo>
                      <a:pt x="2934" y="3077"/>
                    </a:lnTo>
                    <a:lnTo>
                      <a:pt x="2992" y="2982"/>
                    </a:lnTo>
                    <a:lnTo>
                      <a:pt x="3036" y="2872"/>
                    </a:lnTo>
                    <a:lnTo>
                      <a:pt x="3064" y="2760"/>
                    </a:lnTo>
                    <a:lnTo>
                      <a:pt x="3076" y="2649"/>
                    </a:lnTo>
                    <a:lnTo>
                      <a:pt x="3070" y="2549"/>
                    </a:lnTo>
                    <a:lnTo>
                      <a:pt x="2643" y="264"/>
                    </a:lnTo>
                    <a:lnTo>
                      <a:pt x="2608" y="184"/>
                    </a:lnTo>
                    <a:lnTo>
                      <a:pt x="2571" y="101"/>
                    </a:lnTo>
                    <a:lnTo>
                      <a:pt x="2507" y="35"/>
                    </a:lnTo>
                    <a:lnTo>
                      <a:pt x="2413" y="0"/>
                    </a:lnTo>
                    <a:lnTo>
                      <a:pt x="636" y="281"/>
                    </a:lnTo>
                    <a:lnTo>
                      <a:pt x="653" y="988"/>
                    </a:lnTo>
                    <a:lnTo>
                      <a:pt x="0" y="125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61"/>
              <p:cNvSpPr/>
              <p:nvPr/>
            </p:nvSpPr>
            <p:spPr>
              <a:xfrm>
                <a:off x="7161120" y="5283000"/>
                <a:ext cx="358200" cy="376200"/>
              </a:xfrm>
              <a:custGeom>
                <a:avLst/>
                <a:gdLst/>
                <a:ahLst/>
                <a:rect l="l" t="t" r="r" b="b"/>
                <a:pathLst>
                  <a:path w="3076" h="3225">
                    <a:moveTo>
                      <a:pt x="0" y="1259"/>
                    </a:moveTo>
                    <a:lnTo>
                      <a:pt x="0" y="2244"/>
                    </a:lnTo>
                    <a:lnTo>
                      <a:pt x="711" y="2382"/>
                    </a:lnTo>
                    <a:lnTo>
                      <a:pt x="745" y="3219"/>
                    </a:lnTo>
                    <a:lnTo>
                      <a:pt x="1942" y="3225"/>
                    </a:lnTo>
                    <a:lnTo>
                      <a:pt x="2704" y="3225"/>
                    </a:lnTo>
                    <a:lnTo>
                      <a:pt x="2789" y="3202"/>
                    </a:lnTo>
                    <a:lnTo>
                      <a:pt x="2867" y="3153"/>
                    </a:lnTo>
                    <a:lnTo>
                      <a:pt x="2934" y="3077"/>
                    </a:lnTo>
                    <a:lnTo>
                      <a:pt x="2992" y="2982"/>
                    </a:lnTo>
                    <a:lnTo>
                      <a:pt x="3036" y="2872"/>
                    </a:lnTo>
                    <a:lnTo>
                      <a:pt x="3064" y="2760"/>
                    </a:lnTo>
                    <a:lnTo>
                      <a:pt x="3076" y="2649"/>
                    </a:lnTo>
                    <a:lnTo>
                      <a:pt x="3070" y="2549"/>
                    </a:lnTo>
                    <a:lnTo>
                      <a:pt x="2643" y="264"/>
                    </a:lnTo>
                    <a:lnTo>
                      <a:pt x="2608" y="184"/>
                    </a:lnTo>
                    <a:lnTo>
                      <a:pt x="2571" y="101"/>
                    </a:lnTo>
                    <a:lnTo>
                      <a:pt x="2507" y="35"/>
                    </a:lnTo>
                    <a:lnTo>
                      <a:pt x="2413" y="0"/>
                    </a:lnTo>
                    <a:lnTo>
                      <a:pt x="636" y="281"/>
                    </a:lnTo>
                    <a:lnTo>
                      <a:pt x="653" y="988"/>
                    </a:lnTo>
                    <a:lnTo>
                      <a:pt x="0" y="125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362"/>
              <p:cNvSpPr/>
              <p:nvPr/>
            </p:nvSpPr>
            <p:spPr>
              <a:xfrm>
                <a:off x="7665120" y="5966280"/>
                <a:ext cx="36000" cy="451800"/>
              </a:xfrm>
              <a:prstGeom prst="rect">
                <a:avLst/>
              </a:pr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363"/>
              <p:cNvSpPr/>
              <p:nvPr/>
            </p:nvSpPr>
            <p:spPr>
              <a:xfrm>
                <a:off x="7665120" y="5966280"/>
                <a:ext cx="36000" cy="45180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364"/>
              <p:cNvSpPr/>
              <p:nvPr/>
            </p:nvSpPr>
            <p:spPr>
              <a:xfrm>
                <a:off x="7695720" y="5964840"/>
                <a:ext cx="19440" cy="45324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5"/>
              <p:cNvSpPr/>
              <p:nvPr/>
            </p:nvSpPr>
            <p:spPr>
              <a:xfrm>
                <a:off x="7695720" y="5964840"/>
                <a:ext cx="19440" cy="45324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366"/>
              <p:cNvSpPr/>
              <p:nvPr/>
            </p:nvSpPr>
            <p:spPr>
              <a:xfrm>
                <a:off x="7236720" y="5397840"/>
                <a:ext cx="8280" cy="1609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367"/>
              <p:cNvSpPr/>
              <p:nvPr/>
            </p:nvSpPr>
            <p:spPr>
              <a:xfrm>
                <a:off x="7669080" y="5730840"/>
                <a:ext cx="475560" cy="145440"/>
              </a:xfrm>
              <a:custGeom>
                <a:avLst/>
                <a:gdLst/>
                <a:ahLst/>
                <a:rect l="l" t="t" r="r" b="b"/>
                <a:pathLst>
                  <a:path w="4076" h="1252">
                    <a:moveTo>
                      <a:pt x="1672" y="1252"/>
                    </a:moveTo>
                    <a:lnTo>
                      <a:pt x="4014" y="447"/>
                    </a:lnTo>
                    <a:lnTo>
                      <a:pt x="4076" y="344"/>
                    </a:lnTo>
                    <a:lnTo>
                      <a:pt x="2614" y="0"/>
                    </a:lnTo>
                    <a:lnTo>
                      <a:pt x="0" y="704"/>
                    </a:lnTo>
                    <a:lnTo>
                      <a:pt x="1672" y="1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368"/>
              <p:cNvSpPr/>
              <p:nvPr/>
            </p:nvSpPr>
            <p:spPr>
              <a:xfrm>
                <a:off x="7669080" y="5730840"/>
                <a:ext cx="475560" cy="145440"/>
              </a:xfrm>
              <a:custGeom>
                <a:avLst/>
                <a:gdLst/>
                <a:ahLst/>
                <a:rect l="l" t="t" r="r" b="b"/>
                <a:pathLst>
                  <a:path w="4076" h="1252">
                    <a:moveTo>
                      <a:pt x="1672" y="1252"/>
                    </a:moveTo>
                    <a:lnTo>
                      <a:pt x="4014" y="447"/>
                    </a:lnTo>
                    <a:lnTo>
                      <a:pt x="4076" y="344"/>
                    </a:lnTo>
                    <a:lnTo>
                      <a:pt x="2614" y="0"/>
                    </a:lnTo>
                    <a:lnTo>
                      <a:pt x="0" y="704"/>
                    </a:lnTo>
                    <a:lnTo>
                      <a:pt x="1672" y="1252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369"/>
              <p:cNvSpPr/>
              <p:nvPr/>
            </p:nvSpPr>
            <p:spPr>
              <a:xfrm>
                <a:off x="7669080" y="5812200"/>
                <a:ext cx="195480" cy="88200"/>
              </a:xfrm>
              <a:custGeom>
                <a:avLst/>
                <a:gdLst/>
                <a:ahLst/>
                <a:rect l="l" t="t" r="r" b="b"/>
                <a:pathLst>
                  <a:path w="1683" h="755">
                    <a:moveTo>
                      <a:pt x="0" y="0"/>
                    </a:moveTo>
                    <a:lnTo>
                      <a:pt x="0" y="557"/>
                    </a:lnTo>
                    <a:lnTo>
                      <a:pt x="1683" y="755"/>
                    </a:lnTo>
                    <a:lnTo>
                      <a:pt x="1683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370"/>
              <p:cNvSpPr/>
              <p:nvPr/>
            </p:nvSpPr>
            <p:spPr>
              <a:xfrm>
                <a:off x="7669080" y="5812200"/>
                <a:ext cx="195480" cy="88200"/>
              </a:xfrm>
              <a:custGeom>
                <a:avLst/>
                <a:gdLst/>
                <a:ahLst/>
                <a:rect l="l" t="t" r="r" b="b"/>
                <a:pathLst>
                  <a:path w="1683" h="755">
                    <a:moveTo>
                      <a:pt x="0" y="0"/>
                    </a:moveTo>
                    <a:lnTo>
                      <a:pt x="0" y="557"/>
                    </a:lnTo>
                    <a:lnTo>
                      <a:pt x="1683" y="755"/>
                    </a:lnTo>
                    <a:lnTo>
                      <a:pt x="1683" y="47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371"/>
              <p:cNvSpPr/>
              <p:nvPr/>
            </p:nvSpPr>
            <p:spPr>
              <a:xfrm>
                <a:off x="7737480" y="5752080"/>
                <a:ext cx="341280" cy="104760"/>
              </a:xfrm>
              <a:custGeom>
                <a:avLst/>
                <a:gdLst/>
                <a:ahLst/>
                <a:rect l="l" t="t" r="r" b="b"/>
                <a:pathLst>
                  <a:path w="2922" h="906">
                    <a:moveTo>
                      <a:pt x="1086" y="906"/>
                    </a:moveTo>
                    <a:lnTo>
                      <a:pt x="0" y="608"/>
                    </a:lnTo>
                    <a:lnTo>
                      <a:pt x="5" y="560"/>
                    </a:lnTo>
                    <a:lnTo>
                      <a:pt x="1962" y="0"/>
                    </a:lnTo>
                    <a:lnTo>
                      <a:pt x="2922" y="237"/>
                    </a:lnTo>
                    <a:lnTo>
                      <a:pt x="2922" y="292"/>
                    </a:lnTo>
                    <a:lnTo>
                      <a:pt x="1086" y="9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372"/>
              <p:cNvSpPr/>
              <p:nvPr/>
            </p:nvSpPr>
            <p:spPr>
              <a:xfrm>
                <a:off x="7737480" y="5752080"/>
                <a:ext cx="341280" cy="104760"/>
              </a:xfrm>
              <a:custGeom>
                <a:avLst/>
                <a:gdLst/>
                <a:ahLst/>
                <a:rect l="l" t="t" r="r" b="b"/>
                <a:pathLst>
                  <a:path w="2922" h="906">
                    <a:moveTo>
                      <a:pt x="1086" y="906"/>
                    </a:moveTo>
                    <a:lnTo>
                      <a:pt x="0" y="608"/>
                    </a:lnTo>
                    <a:lnTo>
                      <a:pt x="5" y="560"/>
                    </a:lnTo>
                    <a:lnTo>
                      <a:pt x="1962" y="0"/>
                    </a:lnTo>
                    <a:lnTo>
                      <a:pt x="2922" y="237"/>
                    </a:lnTo>
                    <a:lnTo>
                      <a:pt x="2922" y="292"/>
                    </a:lnTo>
                    <a:lnTo>
                      <a:pt x="1086" y="906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373"/>
              <p:cNvSpPr/>
              <p:nvPr/>
            </p:nvSpPr>
            <p:spPr>
              <a:xfrm>
                <a:off x="8031600" y="5753520"/>
                <a:ext cx="88200" cy="26280"/>
              </a:xfrm>
              <a:custGeom>
                <a:avLst/>
                <a:gdLst/>
                <a:ahLst/>
                <a:rect l="l" t="t" r="r" b="b"/>
                <a:pathLst>
                  <a:path w="748" h="233">
                    <a:moveTo>
                      <a:pt x="522" y="233"/>
                    </a:moveTo>
                    <a:lnTo>
                      <a:pt x="748" y="159"/>
                    </a:lnTo>
                    <a:lnTo>
                      <a:pt x="748" y="130"/>
                    </a:lnTo>
                    <a:lnTo>
                      <a:pt x="245" y="0"/>
                    </a:lnTo>
                    <a:lnTo>
                      <a:pt x="0" y="73"/>
                    </a:lnTo>
                    <a:lnTo>
                      <a:pt x="0" y="109"/>
                    </a:lnTo>
                    <a:lnTo>
                      <a:pt x="522" y="233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74"/>
              <p:cNvSpPr/>
              <p:nvPr/>
            </p:nvSpPr>
            <p:spPr>
              <a:xfrm>
                <a:off x="8031600" y="5753520"/>
                <a:ext cx="88200" cy="26280"/>
              </a:xfrm>
              <a:custGeom>
                <a:avLst/>
                <a:gdLst/>
                <a:ahLst/>
                <a:rect l="l" t="t" r="r" b="b"/>
                <a:pathLst>
                  <a:path w="748" h="233">
                    <a:moveTo>
                      <a:pt x="522" y="233"/>
                    </a:moveTo>
                    <a:lnTo>
                      <a:pt x="748" y="159"/>
                    </a:lnTo>
                    <a:lnTo>
                      <a:pt x="748" y="130"/>
                    </a:lnTo>
                    <a:lnTo>
                      <a:pt x="245" y="0"/>
                    </a:lnTo>
                    <a:lnTo>
                      <a:pt x="0" y="73"/>
                    </a:lnTo>
                    <a:lnTo>
                      <a:pt x="0" y="109"/>
                    </a:lnTo>
                    <a:lnTo>
                      <a:pt x="522" y="233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375"/>
              <p:cNvSpPr/>
              <p:nvPr/>
            </p:nvSpPr>
            <p:spPr>
              <a:xfrm>
                <a:off x="7740360" y="5743800"/>
                <a:ext cx="208440" cy="61560"/>
              </a:xfrm>
              <a:custGeom>
                <a:avLst/>
                <a:gdLst/>
                <a:ahLst/>
                <a:rect l="l" t="t" r="r" b="b"/>
                <a:pathLst>
                  <a:path w="1791" h="524">
                    <a:moveTo>
                      <a:pt x="0" y="487"/>
                    </a:moveTo>
                    <a:lnTo>
                      <a:pt x="139" y="524"/>
                    </a:lnTo>
                    <a:lnTo>
                      <a:pt x="1791" y="58"/>
                    </a:lnTo>
                    <a:lnTo>
                      <a:pt x="1791" y="30"/>
                    </a:lnTo>
                    <a:lnTo>
                      <a:pt x="1677" y="0"/>
                    </a:lnTo>
                    <a:lnTo>
                      <a:pt x="0" y="451"/>
                    </a:ln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376"/>
              <p:cNvSpPr/>
              <p:nvPr/>
            </p:nvSpPr>
            <p:spPr>
              <a:xfrm>
                <a:off x="7740360" y="5743800"/>
                <a:ext cx="208440" cy="61560"/>
              </a:xfrm>
              <a:custGeom>
                <a:avLst/>
                <a:gdLst/>
                <a:ahLst/>
                <a:rect l="l" t="t" r="r" b="b"/>
                <a:pathLst>
                  <a:path w="1791" h="524">
                    <a:moveTo>
                      <a:pt x="0" y="487"/>
                    </a:moveTo>
                    <a:lnTo>
                      <a:pt x="139" y="524"/>
                    </a:lnTo>
                    <a:lnTo>
                      <a:pt x="1791" y="58"/>
                    </a:lnTo>
                    <a:lnTo>
                      <a:pt x="1791" y="30"/>
                    </a:lnTo>
                    <a:lnTo>
                      <a:pt x="1677" y="0"/>
                    </a:lnTo>
                    <a:lnTo>
                      <a:pt x="0" y="451"/>
                    </a:lnTo>
                    <a:lnTo>
                      <a:pt x="0" y="48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377"/>
              <p:cNvSpPr/>
              <p:nvPr/>
            </p:nvSpPr>
            <p:spPr>
              <a:xfrm>
                <a:off x="7864920" y="577152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2404" h="1113">
                    <a:moveTo>
                      <a:pt x="2404" y="0"/>
                    </a:moveTo>
                    <a:lnTo>
                      <a:pt x="0" y="838"/>
                    </a:lnTo>
                    <a:lnTo>
                      <a:pt x="0" y="1113"/>
                    </a:lnTo>
                    <a:lnTo>
                      <a:pt x="2404" y="236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378"/>
              <p:cNvSpPr/>
              <p:nvPr/>
            </p:nvSpPr>
            <p:spPr>
              <a:xfrm>
                <a:off x="7864920" y="577152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2404" h="1113">
                    <a:moveTo>
                      <a:pt x="2404" y="0"/>
                    </a:moveTo>
                    <a:lnTo>
                      <a:pt x="0" y="838"/>
                    </a:lnTo>
                    <a:lnTo>
                      <a:pt x="0" y="1113"/>
                    </a:lnTo>
                    <a:lnTo>
                      <a:pt x="2404" y="236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79"/>
              <p:cNvSpPr/>
              <p:nvPr/>
            </p:nvSpPr>
            <p:spPr>
              <a:xfrm>
                <a:off x="7740360" y="5747760"/>
                <a:ext cx="208440" cy="53280"/>
              </a:xfrm>
              <a:custGeom>
                <a:avLst/>
                <a:gdLst/>
                <a:ahLst/>
                <a:rect l="l" t="t" r="r" b="b"/>
                <a:pathLst>
                  <a:path w="1785" h="453">
                    <a:moveTo>
                      <a:pt x="0" y="419"/>
                    </a:moveTo>
                    <a:lnTo>
                      <a:pt x="137" y="453"/>
                    </a:lnTo>
                    <a:lnTo>
                      <a:pt x="1785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380"/>
              <p:cNvSpPr/>
              <p:nvPr/>
            </p:nvSpPr>
            <p:spPr>
              <a:xfrm>
                <a:off x="7760160" y="5747760"/>
                <a:ext cx="178920" cy="51480"/>
              </a:xfrm>
              <a:custGeom>
                <a:avLst/>
                <a:gdLst/>
                <a:ahLst/>
                <a:rect l="l" t="t" r="r" b="b"/>
                <a:pathLst>
                  <a:path w="1528" h="451">
                    <a:moveTo>
                      <a:pt x="0" y="373"/>
                    </a:moveTo>
                    <a:lnTo>
                      <a:pt x="134" y="414"/>
                    </a:lnTo>
                    <a:lnTo>
                      <a:pt x="134" y="451"/>
                    </a:lnTo>
                    <a:lnTo>
                      <a:pt x="276" y="409"/>
                    </a:lnTo>
                    <a:lnTo>
                      <a:pt x="276" y="375"/>
                    </a:lnTo>
                    <a:lnTo>
                      <a:pt x="146" y="334"/>
                    </a:lnTo>
                    <a:lnTo>
                      <a:pt x="298" y="291"/>
                    </a:lnTo>
                    <a:lnTo>
                      <a:pt x="452" y="326"/>
                    </a:lnTo>
                    <a:lnTo>
                      <a:pt x="452" y="358"/>
                    </a:lnTo>
                    <a:lnTo>
                      <a:pt x="578" y="321"/>
                    </a:lnTo>
                    <a:lnTo>
                      <a:pt x="578" y="291"/>
                    </a:lnTo>
                    <a:lnTo>
                      <a:pt x="438" y="256"/>
                    </a:lnTo>
                    <a:lnTo>
                      <a:pt x="587" y="213"/>
                    </a:lnTo>
                    <a:lnTo>
                      <a:pt x="728" y="244"/>
                    </a:lnTo>
                    <a:lnTo>
                      <a:pt x="728" y="278"/>
                    </a:lnTo>
                    <a:lnTo>
                      <a:pt x="888" y="235"/>
                    </a:lnTo>
                    <a:lnTo>
                      <a:pt x="732" y="174"/>
                    </a:lnTo>
                    <a:lnTo>
                      <a:pt x="878" y="137"/>
                    </a:lnTo>
                    <a:lnTo>
                      <a:pt x="1022" y="166"/>
                    </a:lnTo>
                    <a:lnTo>
                      <a:pt x="1022" y="197"/>
                    </a:lnTo>
                    <a:lnTo>
                      <a:pt x="1147" y="161"/>
                    </a:lnTo>
                    <a:lnTo>
                      <a:pt x="1147" y="130"/>
                    </a:lnTo>
                    <a:lnTo>
                      <a:pt x="1003" y="103"/>
                    </a:lnTo>
                    <a:lnTo>
                      <a:pt x="1145" y="68"/>
                    </a:lnTo>
                    <a:lnTo>
                      <a:pt x="1284" y="91"/>
                    </a:lnTo>
                    <a:lnTo>
                      <a:pt x="1284" y="119"/>
                    </a:lnTo>
                    <a:lnTo>
                      <a:pt x="1415" y="87"/>
                    </a:lnTo>
                    <a:lnTo>
                      <a:pt x="1415" y="58"/>
                    </a:lnTo>
                    <a:lnTo>
                      <a:pt x="1268" y="29"/>
                    </a:lnTo>
                    <a:lnTo>
                      <a:pt x="1389" y="0"/>
                    </a:lnTo>
                    <a:lnTo>
                      <a:pt x="1528" y="2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381"/>
              <p:cNvSpPr/>
              <p:nvPr/>
            </p:nvSpPr>
            <p:spPr>
              <a:xfrm>
                <a:off x="7755840" y="5801040"/>
                <a:ext cx="144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382"/>
              <p:cNvSpPr/>
              <p:nvPr/>
            </p:nvSpPr>
            <p:spPr>
              <a:xfrm>
                <a:off x="8041320" y="5756400"/>
                <a:ext cx="66960" cy="20880"/>
              </a:xfrm>
              <a:custGeom>
                <a:avLst/>
                <a:gdLst/>
                <a:ahLst/>
                <a:rect l="l" t="t" r="r" b="b"/>
                <a:pathLst>
                  <a:path w="577" h="189">
                    <a:moveTo>
                      <a:pt x="246" y="0"/>
                    </a:moveTo>
                    <a:lnTo>
                      <a:pt x="0" y="78"/>
                    </a:lnTo>
                    <a:lnTo>
                      <a:pt x="0" y="105"/>
                    </a:lnTo>
                    <a:lnTo>
                      <a:pt x="81" y="126"/>
                    </a:lnTo>
                    <a:lnTo>
                      <a:pt x="81" y="97"/>
                    </a:lnTo>
                    <a:lnTo>
                      <a:pt x="333" y="27"/>
                    </a:lnTo>
                    <a:lnTo>
                      <a:pt x="414" y="45"/>
                    </a:lnTo>
                    <a:lnTo>
                      <a:pt x="172" y="120"/>
                    </a:lnTo>
                    <a:lnTo>
                      <a:pt x="174" y="147"/>
                    </a:lnTo>
                    <a:lnTo>
                      <a:pt x="252" y="171"/>
                    </a:lnTo>
                    <a:lnTo>
                      <a:pt x="252" y="138"/>
                    </a:lnTo>
                    <a:lnTo>
                      <a:pt x="486" y="68"/>
                    </a:lnTo>
                    <a:lnTo>
                      <a:pt x="577" y="90"/>
                    </a:lnTo>
                    <a:lnTo>
                      <a:pt x="344" y="161"/>
                    </a:lnTo>
                    <a:lnTo>
                      <a:pt x="344" y="18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383"/>
              <p:cNvSpPr/>
              <p:nvPr/>
            </p:nvSpPr>
            <p:spPr>
              <a:xfrm>
                <a:off x="8033040" y="5761800"/>
                <a:ext cx="86400" cy="15480"/>
              </a:xfrm>
              <a:custGeom>
                <a:avLst/>
                <a:gdLst/>
                <a:ahLst/>
                <a:rect l="l" t="t" r="r" b="b"/>
                <a:pathLst>
                  <a:path w="745" h="132">
                    <a:moveTo>
                      <a:pt x="745" y="61"/>
                    </a:moveTo>
                    <a:lnTo>
                      <a:pt x="519" y="13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384"/>
              <p:cNvSpPr/>
              <p:nvPr/>
            </p:nvSpPr>
            <p:spPr>
              <a:xfrm>
                <a:off x="8042760" y="5756400"/>
                <a:ext cx="69840" cy="23400"/>
              </a:xfrm>
              <a:custGeom>
                <a:avLst/>
                <a:gdLst/>
                <a:ahLst/>
                <a:rect l="l" t="t" r="r" b="b"/>
                <a:pathLst>
                  <a:path w="606" h="214">
                    <a:moveTo>
                      <a:pt x="606" y="153"/>
                    </a:moveTo>
                    <a:lnTo>
                      <a:pt x="97" y="0"/>
                    </a:lnTo>
                    <a:lnTo>
                      <a:pt x="0" y="27"/>
                    </a:lnTo>
                    <a:lnTo>
                      <a:pt x="513" y="158"/>
                    </a:lnTo>
                    <a:lnTo>
                      <a:pt x="513" y="187"/>
                    </a:lnTo>
                    <a:lnTo>
                      <a:pt x="434" y="214"/>
                    </a:lnTo>
                    <a:lnTo>
                      <a:pt x="434" y="18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385"/>
              <p:cNvSpPr/>
              <p:nvPr/>
            </p:nvSpPr>
            <p:spPr>
              <a:xfrm>
                <a:off x="7863480" y="5851440"/>
                <a:ext cx="108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386"/>
              <p:cNvSpPr/>
              <p:nvPr/>
            </p:nvSpPr>
            <p:spPr>
              <a:xfrm>
                <a:off x="7760160" y="5757480"/>
                <a:ext cx="306000" cy="96480"/>
              </a:xfrm>
              <a:custGeom>
                <a:avLst/>
                <a:gdLst/>
                <a:ahLst/>
                <a:rect l="l" t="t" r="r" b="b"/>
                <a:pathLst>
                  <a:path w="2629" h="824">
                    <a:moveTo>
                      <a:pt x="0" y="611"/>
                    </a:moveTo>
                    <a:lnTo>
                      <a:pt x="0" y="561"/>
                    </a:lnTo>
                    <a:lnTo>
                      <a:pt x="1954" y="0"/>
                    </a:lnTo>
                    <a:lnTo>
                      <a:pt x="2110" y="34"/>
                    </a:lnTo>
                    <a:lnTo>
                      <a:pt x="198" y="611"/>
                    </a:lnTo>
                    <a:lnTo>
                      <a:pt x="198" y="664"/>
                    </a:lnTo>
                    <a:lnTo>
                      <a:pt x="333" y="701"/>
                    </a:lnTo>
                    <a:lnTo>
                      <a:pt x="333" y="648"/>
                    </a:lnTo>
                    <a:lnTo>
                      <a:pt x="2231" y="67"/>
                    </a:lnTo>
                    <a:lnTo>
                      <a:pt x="2368" y="101"/>
                    </a:lnTo>
                    <a:lnTo>
                      <a:pt x="494" y="692"/>
                    </a:lnTo>
                    <a:lnTo>
                      <a:pt x="494" y="743"/>
                    </a:lnTo>
                    <a:lnTo>
                      <a:pt x="650" y="789"/>
                    </a:lnTo>
                    <a:lnTo>
                      <a:pt x="650" y="733"/>
                    </a:lnTo>
                    <a:lnTo>
                      <a:pt x="2515" y="132"/>
                    </a:lnTo>
                    <a:lnTo>
                      <a:pt x="2629" y="166"/>
                    </a:lnTo>
                    <a:lnTo>
                      <a:pt x="785" y="767"/>
                    </a:lnTo>
                    <a:lnTo>
                      <a:pt x="785" y="82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87"/>
              <p:cNvSpPr/>
              <p:nvPr/>
            </p:nvSpPr>
            <p:spPr>
              <a:xfrm>
                <a:off x="7755840" y="5754960"/>
                <a:ext cx="310680" cy="96480"/>
              </a:xfrm>
              <a:custGeom>
                <a:avLst/>
                <a:gdLst/>
                <a:ahLst/>
                <a:rect l="l" t="t" r="r" b="b"/>
                <a:pathLst>
                  <a:path w="2675" h="835">
                    <a:moveTo>
                      <a:pt x="0" y="497"/>
                    </a:moveTo>
                    <a:lnTo>
                      <a:pt x="1071" y="776"/>
                    </a:lnTo>
                    <a:lnTo>
                      <a:pt x="1071" y="835"/>
                    </a:lnTo>
                    <a:lnTo>
                      <a:pt x="1222" y="783"/>
                    </a:lnTo>
                    <a:lnTo>
                      <a:pt x="1222" y="729"/>
                    </a:lnTo>
                    <a:lnTo>
                      <a:pt x="147" y="453"/>
                    </a:lnTo>
                    <a:lnTo>
                      <a:pt x="316" y="402"/>
                    </a:lnTo>
                    <a:lnTo>
                      <a:pt x="1352" y="685"/>
                    </a:lnTo>
                    <a:lnTo>
                      <a:pt x="1352" y="738"/>
                    </a:lnTo>
                    <a:lnTo>
                      <a:pt x="1486" y="700"/>
                    </a:lnTo>
                    <a:lnTo>
                      <a:pt x="1484" y="632"/>
                    </a:lnTo>
                    <a:lnTo>
                      <a:pt x="470" y="367"/>
                    </a:lnTo>
                    <a:lnTo>
                      <a:pt x="606" y="323"/>
                    </a:lnTo>
                    <a:lnTo>
                      <a:pt x="1638" y="593"/>
                    </a:lnTo>
                    <a:lnTo>
                      <a:pt x="1633" y="647"/>
                    </a:lnTo>
                    <a:lnTo>
                      <a:pt x="1764" y="609"/>
                    </a:lnTo>
                    <a:lnTo>
                      <a:pt x="1766" y="551"/>
                    </a:lnTo>
                    <a:lnTo>
                      <a:pt x="744" y="287"/>
                    </a:lnTo>
                    <a:lnTo>
                      <a:pt x="896" y="237"/>
                    </a:lnTo>
                    <a:lnTo>
                      <a:pt x="1902" y="509"/>
                    </a:lnTo>
                    <a:lnTo>
                      <a:pt x="1905" y="558"/>
                    </a:lnTo>
                    <a:lnTo>
                      <a:pt x="2033" y="516"/>
                    </a:lnTo>
                    <a:lnTo>
                      <a:pt x="2033" y="465"/>
                    </a:lnTo>
                    <a:lnTo>
                      <a:pt x="1042" y="199"/>
                    </a:lnTo>
                    <a:lnTo>
                      <a:pt x="1191" y="153"/>
                    </a:lnTo>
                    <a:lnTo>
                      <a:pt x="2170" y="419"/>
                    </a:lnTo>
                    <a:lnTo>
                      <a:pt x="2170" y="471"/>
                    </a:lnTo>
                    <a:lnTo>
                      <a:pt x="2300" y="429"/>
                    </a:lnTo>
                    <a:lnTo>
                      <a:pt x="2300" y="374"/>
                    </a:lnTo>
                    <a:lnTo>
                      <a:pt x="1350" y="108"/>
                    </a:lnTo>
                    <a:lnTo>
                      <a:pt x="1511" y="65"/>
                    </a:lnTo>
                    <a:lnTo>
                      <a:pt x="2433" y="329"/>
                    </a:lnTo>
                    <a:lnTo>
                      <a:pt x="2433" y="384"/>
                    </a:lnTo>
                    <a:lnTo>
                      <a:pt x="2561" y="332"/>
                    </a:lnTo>
                    <a:lnTo>
                      <a:pt x="2563" y="290"/>
                    </a:lnTo>
                    <a:lnTo>
                      <a:pt x="1629" y="30"/>
                    </a:lnTo>
                    <a:lnTo>
                      <a:pt x="1739" y="0"/>
                    </a:lnTo>
                    <a:lnTo>
                      <a:pt x="2675" y="252"/>
                    </a:lnTo>
                    <a:lnTo>
                      <a:pt x="2675" y="29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88"/>
              <p:cNvSpPr/>
              <p:nvPr/>
            </p:nvSpPr>
            <p:spPr>
              <a:xfrm>
                <a:off x="7737480" y="5779800"/>
                <a:ext cx="341280" cy="69840"/>
              </a:xfrm>
              <a:custGeom>
                <a:avLst/>
                <a:gdLst/>
                <a:ahLst/>
                <a:rect l="l" t="t" r="r" b="b"/>
                <a:pathLst>
                  <a:path w="2922" h="604">
                    <a:moveTo>
                      <a:pt x="0" y="319"/>
                    </a:moveTo>
                    <a:lnTo>
                      <a:pt x="1080" y="604"/>
                    </a:lnTo>
                    <a:lnTo>
                      <a:pt x="2922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89"/>
              <p:cNvSpPr/>
              <p:nvPr/>
            </p:nvSpPr>
            <p:spPr>
              <a:xfrm>
                <a:off x="7565760" y="5355720"/>
                <a:ext cx="99000" cy="22320"/>
              </a:xfrm>
              <a:custGeom>
                <a:avLst/>
                <a:gdLst/>
                <a:ahLst/>
                <a:rect l="l" t="t" r="r" b="b"/>
                <a:pathLst>
                  <a:path w="851" h="181">
                    <a:moveTo>
                      <a:pt x="0" y="0"/>
                    </a:moveTo>
                    <a:lnTo>
                      <a:pt x="23" y="181"/>
                    </a:lnTo>
                    <a:lnTo>
                      <a:pt x="851" y="181"/>
                    </a:lnTo>
                    <a:lnTo>
                      <a:pt x="819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90"/>
              <p:cNvSpPr/>
              <p:nvPr/>
            </p:nvSpPr>
            <p:spPr>
              <a:xfrm>
                <a:off x="7565760" y="5355720"/>
                <a:ext cx="99000" cy="22320"/>
              </a:xfrm>
              <a:custGeom>
                <a:avLst/>
                <a:gdLst/>
                <a:ahLst/>
                <a:rect l="l" t="t" r="r" b="b"/>
                <a:pathLst>
                  <a:path w="851" h="181">
                    <a:moveTo>
                      <a:pt x="0" y="0"/>
                    </a:moveTo>
                    <a:lnTo>
                      <a:pt x="23" y="181"/>
                    </a:lnTo>
                    <a:lnTo>
                      <a:pt x="851" y="181"/>
                    </a:lnTo>
                    <a:lnTo>
                      <a:pt x="819" y="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91"/>
              <p:cNvSpPr/>
              <p:nvPr/>
            </p:nvSpPr>
            <p:spPr>
              <a:xfrm>
                <a:off x="7688880" y="5414760"/>
                <a:ext cx="40320" cy="106200"/>
              </a:xfrm>
              <a:custGeom>
                <a:avLst/>
                <a:gdLst/>
                <a:ahLst/>
                <a:rect l="l" t="t" r="r" b="b"/>
                <a:pathLst>
                  <a:path w="343" h="911">
                    <a:moveTo>
                      <a:pt x="179" y="5"/>
                    </a:moveTo>
                    <a:lnTo>
                      <a:pt x="0" y="0"/>
                    </a:lnTo>
                    <a:lnTo>
                      <a:pt x="156" y="911"/>
                    </a:lnTo>
                    <a:lnTo>
                      <a:pt x="343" y="893"/>
                    </a:lnTo>
                    <a:lnTo>
                      <a:pt x="179" y="5"/>
                    </a:lnTo>
                    <a:close/>
                  </a:path>
                </a:pathLst>
              </a:custGeom>
              <a:solidFill>
                <a:srgbClr val="f1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92"/>
              <p:cNvSpPr/>
              <p:nvPr/>
            </p:nvSpPr>
            <p:spPr>
              <a:xfrm>
                <a:off x="7688880" y="5414760"/>
                <a:ext cx="40320" cy="106200"/>
              </a:xfrm>
              <a:custGeom>
                <a:avLst/>
                <a:gdLst/>
                <a:ahLst/>
                <a:rect l="l" t="t" r="r" b="b"/>
                <a:pathLst>
                  <a:path w="343" h="911">
                    <a:moveTo>
                      <a:pt x="179" y="5"/>
                    </a:moveTo>
                    <a:lnTo>
                      <a:pt x="0" y="0"/>
                    </a:lnTo>
                    <a:lnTo>
                      <a:pt x="156" y="911"/>
                    </a:lnTo>
                    <a:lnTo>
                      <a:pt x="343" y="893"/>
                    </a:lnTo>
                    <a:lnTo>
                      <a:pt x="179" y="5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93"/>
              <p:cNvSpPr/>
              <p:nvPr/>
            </p:nvSpPr>
            <p:spPr>
              <a:xfrm>
                <a:off x="7534800" y="5402160"/>
                <a:ext cx="198360" cy="132840"/>
              </a:xfrm>
              <a:custGeom>
                <a:avLst/>
                <a:gdLst/>
                <a:ahLst/>
                <a:rect l="l" t="t" r="r" b="b"/>
                <a:pathLst>
                  <a:path w="1708" h="1141">
                    <a:moveTo>
                      <a:pt x="0" y="0"/>
                    </a:moveTo>
                    <a:lnTo>
                      <a:pt x="199" y="1141"/>
                    </a:lnTo>
                    <a:lnTo>
                      <a:pt x="1708" y="100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394"/>
              <p:cNvSpPr/>
              <p:nvPr/>
            </p:nvSpPr>
            <p:spPr>
              <a:xfrm flipV="1">
                <a:off x="7576920" y="5535000"/>
                <a:ext cx="152640" cy="151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395"/>
              <p:cNvSpPr/>
              <p:nvPr/>
            </p:nvSpPr>
            <p:spPr>
              <a:xfrm>
                <a:off x="7574040" y="5362560"/>
                <a:ext cx="1440" cy="111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96"/>
              <p:cNvSpPr/>
              <p:nvPr/>
            </p:nvSpPr>
            <p:spPr>
              <a:xfrm>
                <a:off x="7583760" y="536436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29" y="0"/>
                    </a:moveTo>
                    <a:lnTo>
                      <a:pt x="0" y="39"/>
                    </a:lnTo>
                    <a:lnTo>
                      <a:pt x="36" y="7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97"/>
              <p:cNvSpPr/>
              <p:nvPr/>
            </p:nvSpPr>
            <p:spPr>
              <a:xfrm>
                <a:off x="7597800" y="536544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7" h="73">
                    <a:moveTo>
                      <a:pt x="25" y="0"/>
                    </a:moveTo>
                    <a:lnTo>
                      <a:pt x="0" y="17"/>
                    </a:lnTo>
                    <a:lnTo>
                      <a:pt x="3" y="64"/>
                    </a:lnTo>
                    <a:lnTo>
                      <a:pt x="37" y="7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98"/>
              <p:cNvSpPr/>
              <p:nvPr/>
            </p:nvSpPr>
            <p:spPr>
              <a:xfrm>
                <a:off x="7610400" y="5365440"/>
                <a:ext cx="6840" cy="68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99"/>
              <p:cNvSpPr/>
              <p:nvPr/>
            </p:nvSpPr>
            <p:spPr>
              <a:xfrm>
                <a:off x="7618680" y="5367240"/>
                <a:ext cx="540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400"/>
              <p:cNvSpPr/>
              <p:nvPr/>
            </p:nvSpPr>
            <p:spPr>
              <a:xfrm>
                <a:off x="7628400" y="5367240"/>
                <a:ext cx="144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401"/>
              <p:cNvSpPr/>
              <p:nvPr/>
            </p:nvSpPr>
            <p:spPr>
              <a:xfrm flipV="1">
                <a:off x="7634160" y="5366880"/>
                <a:ext cx="5040" cy="10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402"/>
              <p:cNvSpPr/>
              <p:nvPr/>
            </p:nvSpPr>
            <p:spPr>
              <a:xfrm>
                <a:off x="7652160" y="5367240"/>
                <a:ext cx="252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03"/>
              <p:cNvSpPr/>
              <p:nvPr/>
            </p:nvSpPr>
            <p:spPr>
              <a:xfrm>
                <a:off x="7687080" y="5634360"/>
                <a:ext cx="123120" cy="162000"/>
              </a:xfrm>
              <a:custGeom>
                <a:avLst/>
                <a:gdLst/>
                <a:ahLst/>
                <a:rect l="l" t="t" r="r" b="b"/>
                <a:pathLst>
                  <a:path w="1056" h="1390">
                    <a:moveTo>
                      <a:pt x="0" y="185"/>
                    </a:moveTo>
                    <a:lnTo>
                      <a:pt x="1056" y="0"/>
                    </a:lnTo>
                    <a:lnTo>
                      <a:pt x="1056" y="560"/>
                    </a:lnTo>
                    <a:lnTo>
                      <a:pt x="5" y="797"/>
                    </a:lnTo>
                    <a:lnTo>
                      <a:pt x="1056" y="560"/>
                    </a:lnTo>
                    <a:lnTo>
                      <a:pt x="1056" y="1130"/>
                    </a:lnTo>
                    <a:lnTo>
                      <a:pt x="0" y="139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04"/>
              <p:cNvSpPr/>
              <p:nvPr/>
            </p:nvSpPr>
            <p:spPr>
              <a:xfrm>
                <a:off x="7687080" y="5634360"/>
                <a:ext cx="123120" cy="162000"/>
              </a:xfrm>
              <a:custGeom>
                <a:avLst/>
                <a:gdLst/>
                <a:ahLst/>
                <a:rect l="l" t="t" r="r" b="b"/>
                <a:pathLst>
                  <a:path w="1056" h="1390">
                    <a:moveTo>
                      <a:pt x="0" y="185"/>
                    </a:moveTo>
                    <a:lnTo>
                      <a:pt x="1056" y="0"/>
                    </a:lnTo>
                    <a:lnTo>
                      <a:pt x="1056" y="560"/>
                    </a:lnTo>
                    <a:lnTo>
                      <a:pt x="5" y="797"/>
                    </a:lnTo>
                    <a:lnTo>
                      <a:pt x="1056" y="560"/>
                    </a:lnTo>
                    <a:lnTo>
                      <a:pt x="1056" y="1130"/>
                    </a:lnTo>
                    <a:lnTo>
                      <a:pt x="0" y="1390"/>
                    </a:lnTo>
                    <a:lnTo>
                      <a:pt x="0" y="185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05"/>
              <p:cNvSpPr/>
              <p:nvPr/>
            </p:nvSpPr>
            <p:spPr>
              <a:xfrm>
                <a:off x="7698600" y="5666400"/>
                <a:ext cx="104400" cy="32040"/>
              </a:xfrm>
              <a:custGeom>
                <a:avLst/>
                <a:gdLst/>
                <a:ahLst/>
                <a:rect l="l" t="t" r="r" b="b"/>
                <a:pathLst>
                  <a:path w="900" h="276">
                    <a:moveTo>
                      <a:pt x="0" y="172"/>
                    </a:moveTo>
                    <a:lnTo>
                      <a:pt x="0" y="276"/>
                    </a:lnTo>
                    <a:lnTo>
                      <a:pt x="900" y="97"/>
                    </a:lnTo>
                    <a:lnTo>
                      <a:pt x="900" y="0"/>
                    </a:lnTo>
                    <a:lnTo>
                      <a:pt x="605" y="57"/>
                    </a:lnTo>
                    <a:lnTo>
                      <a:pt x="605" y="0"/>
                    </a:lnTo>
                    <a:lnTo>
                      <a:pt x="380" y="36"/>
                    </a:lnTo>
                    <a:lnTo>
                      <a:pt x="381" y="97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06"/>
              <p:cNvSpPr/>
              <p:nvPr/>
            </p:nvSpPr>
            <p:spPr>
              <a:xfrm>
                <a:off x="7698600" y="5666400"/>
                <a:ext cx="104400" cy="32040"/>
              </a:xfrm>
              <a:custGeom>
                <a:avLst/>
                <a:gdLst/>
                <a:ahLst/>
                <a:rect l="l" t="t" r="r" b="b"/>
                <a:pathLst>
                  <a:path w="900" h="276">
                    <a:moveTo>
                      <a:pt x="0" y="172"/>
                    </a:moveTo>
                    <a:lnTo>
                      <a:pt x="0" y="276"/>
                    </a:lnTo>
                    <a:lnTo>
                      <a:pt x="900" y="97"/>
                    </a:lnTo>
                    <a:lnTo>
                      <a:pt x="900" y="0"/>
                    </a:lnTo>
                    <a:lnTo>
                      <a:pt x="605" y="57"/>
                    </a:lnTo>
                    <a:lnTo>
                      <a:pt x="605" y="0"/>
                    </a:lnTo>
                    <a:lnTo>
                      <a:pt x="380" y="36"/>
                    </a:lnTo>
                    <a:lnTo>
                      <a:pt x="381" y="97"/>
                    </a:lnTo>
                    <a:lnTo>
                      <a:pt x="0" y="172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07"/>
              <p:cNvSpPr/>
              <p:nvPr/>
            </p:nvSpPr>
            <p:spPr>
              <a:xfrm>
                <a:off x="7698600" y="573264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891" h="310">
                    <a:moveTo>
                      <a:pt x="0" y="204"/>
                    </a:moveTo>
                    <a:lnTo>
                      <a:pt x="0" y="310"/>
                    </a:lnTo>
                    <a:lnTo>
                      <a:pt x="891" y="98"/>
                    </a:lnTo>
                    <a:lnTo>
                      <a:pt x="891" y="0"/>
                    </a:lnTo>
                    <a:lnTo>
                      <a:pt x="590" y="65"/>
                    </a:lnTo>
                    <a:lnTo>
                      <a:pt x="590" y="10"/>
                    </a:lnTo>
                    <a:lnTo>
                      <a:pt x="370" y="58"/>
                    </a:lnTo>
                    <a:lnTo>
                      <a:pt x="370" y="119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08"/>
              <p:cNvSpPr/>
              <p:nvPr/>
            </p:nvSpPr>
            <p:spPr>
              <a:xfrm>
                <a:off x="7698600" y="573264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891" h="310">
                    <a:moveTo>
                      <a:pt x="0" y="204"/>
                    </a:moveTo>
                    <a:lnTo>
                      <a:pt x="0" y="310"/>
                    </a:lnTo>
                    <a:lnTo>
                      <a:pt x="891" y="98"/>
                    </a:lnTo>
                    <a:lnTo>
                      <a:pt x="891" y="0"/>
                    </a:lnTo>
                    <a:lnTo>
                      <a:pt x="590" y="65"/>
                    </a:lnTo>
                    <a:lnTo>
                      <a:pt x="590" y="10"/>
                    </a:lnTo>
                    <a:lnTo>
                      <a:pt x="370" y="58"/>
                    </a:lnTo>
                    <a:lnTo>
                      <a:pt x="370" y="119"/>
                    </a:lnTo>
                    <a:lnTo>
                      <a:pt x="0" y="204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09"/>
              <p:cNvSpPr/>
              <p:nvPr/>
            </p:nvSpPr>
            <p:spPr>
              <a:xfrm>
                <a:off x="7988040" y="5522400"/>
                <a:ext cx="909720" cy="497160"/>
              </a:xfrm>
              <a:custGeom>
                <a:avLst/>
                <a:gdLst/>
                <a:ahLst/>
                <a:rect l="l" t="t" r="r" b="b"/>
                <a:pathLst>
                  <a:path w="7795" h="4260">
                    <a:moveTo>
                      <a:pt x="6691" y="267"/>
                    </a:moveTo>
                    <a:lnTo>
                      <a:pt x="6438" y="397"/>
                    </a:lnTo>
                    <a:lnTo>
                      <a:pt x="6181" y="524"/>
                    </a:lnTo>
                    <a:lnTo>
                      <a:pt x="5734" y="1296"/>
                    </a:lnTo>
                    <a:lnTo>
                      <a:pt x="5034" y="2857"/>
                    </a:lnTo>
                    <a:lnTo>
                      <a:pt x="4859" y="2911"/>
                    </a:lnTo>
                    <a:lnTo>
                      <a:pt x="4787" y="3088"/>
                    </a:lnTo>
                    <a:lnTo>
                      <a:pt x="4712" y="3232"/>
                    </a:lnTo>
                    <a:lnTo>
                      <a:pt x="4636" y="3342"/>
                    </a:lnTo>
                    <a:lnTo>
                      <a:pt x="4544" y="3423"/>
                    </a:lnTo>
                    <a:lnTo>
                      <a:pt x="4437" y="3478"/>
                    </a:lnTo>
                    <a:lnTo>
                      <a:pt x="4297" y="3509"/>
                    </a:lnTo>
                    <a:lnTo>
                      <a:pt x="3293" y="3599"/>
                    </a:lnTo>
                    <a:lnTo>
                      <a:pt x="2331" y="3632"/>
                    </a:lnTo>
                    <a:lnTo>
                      <a:pt x="1380" y="3636"/>
                    </a:lnTo>
                    <a:lnTo>
                      <a:pt x="892" y="3636"/>
                    </a:lnTo>
                    <a:lnTo>
                      <a:pt x="388" y="3642"/>
                    </a:lnTo>
                    <a:lnTo>
                      <a:pt x="239" y="3666"/>
                    </a:lnTo>
                    <a:lnTo>
                      <a:pt x="145" y="3703"/>
                    </a:lnTo>
                    <a:lnTo>
                      <a:pt x="86" y="3758"/>
                    </a:lnTo>
                    <a:lnTo>
                      <a:pt x="44" y="3814"/>
                    </a:lnTo>
                    <a:lnTo>
                      <a:pt x="21" y="3861"/>
                    </a:lnTo>
                    <a:lnTo>
                      <a:pt x="0" y="3918"/>
                    </a:lnTo>
                    <a:lnTo>
                      <a:pt x="5" y="4017"/>
                    </a:lnTo>
                    <a:lnTo>
                      <a:pt x="27" y="4111"/>
                    </a:lnTo>
                    <a:lnTo>
                      <a:pt x="54" y="4151"/>
                    </a:lnTo>
                    <a:lnTo>
                      <a:pt x="86" y="4190"/>
                    </a:lnTo>
                    <a:lnTo>
                      <a:pt x="135" y="4207"/>
                    </a:lnTo>
                    <a:lnTo>
                      <a:pt x="183" y="4230"/>
                    </a:lnTo>
                    <a:lnTo>
                      <a:pt x="1161" y="4260"/>
                    </a:lnTo>
                    <a:lnTo>
                      <a:pt x="2198" y="4253"/>
                    </a:lnTo>
                    <a:lnTo>
                      <a:pt x="3259" y="4207"/>
                    </a:lnTo>
                    <a:lnTo>
                      <a:pt x="3787" y="4174"/>
                    </a:lnTo>
                    <a:lnTo>
                      <a:pt x="4309" y="4131"/>
                    </a:lnTo>
                    <a:lnTo>
                      <a:pt x="4520" y="4090"/>
                    </a:lnTo>
                    <a:lnTo>
                      <a:pt x="4698" y="4028"/>
                    </a:lnTo>
                    <a:lnTo>
                      <a:pt x="4843" y="3942"/>
                    </a:lnTo>
                    <a:lnTo>
                      <a:pt x="4963" y="3837"/>
                    </a:lnTo>
                    <a:lnTo>
                      <a:pt x="5066" y="3704"/>
                    </a:lnTo>
                    <a:lnTo>
                      <a:pt x="5152" y="3549"/>
                    </a:lnTo>
                    <a:lnTo>
                      <a:pt x="5230" y="3375"/>
                    </a:lnTo>
                    <a:lnTo>
                      <a:pt x="5305" y="3174"/>
                    </a:lnTo>
                    <a:lnTo>
                      <a:pt x="5481" y="2721"/>
                    </a:lnTo>
                    <a:lnTo>
                      <a:pt x="5693" y="2251"/>
                    </a:lnTo>
                    <a:lnTo>
                      <a:pt x="5806" y="2016"/>
                    </a:lnTo>
                    <a:lnTo>
                      <a:pt x="5913" y="1790"/>
                    </a:lnTo>
                    <a:lnTo>
                      <a:pt x="6016" y="1575"/>
                    </a:lnTo>
                    <a:lnTo>
                      <a:pt x="6081" y="1425"/>
                    </a:lnTo>
                    <a:lnTo>
                      <a:pt x="6144" y="1288"/>
                    </a:lnTo>
                    <a:lnTo>
                      <a:pt x="6221" y="1171"/>
                    </a:lnTo>
                    <a:lnTo>
                      <a:pt x="6313" y="1068"/>
                    </a:lnTo>
                    <a:lnTo>
                      <a:pt x="6413" y="980"/>
                    </a:lnTo>
                    <a:lnTo>
                      <a:pt x="6680" y="867"/>
                    </a:lnTo>
                    <a:lnTo>
                      <a:pt x="6941" y="773"/>
                    </a:lnTo>
                    <a:lnTo>
                      <a:pt x="7196" y="673"/>
                    </a:lnTo>
                    <a:lnTo>
                      <a:pt x="7458" y="564"/>
                    </a:lnTo>
                    <a:lnTo>
                      <a:pt x="7595" y="487"/>
                    </a:lnTo>
                    <a:lnTo>
                      <a:pt x="7714" y="397"/>
                    </a:lnTo>
                    <a:lnTo>
                      <a:pt x="7783" y="299"/>
                    </a:lnTo>
                    <a:lnTo>
                      <a:pt x="7795" y="178"/>
                    </a:lnTo>
                    <a:lnTo>
                      <a:pt x="7782" y="86"/>
                    </a:lnTo>
                    <a:lnTo>
                      <a:pt x="7747" y="37"/>
                    </a:lnTo>
                    <a:lnTo>
                      <a:pt x="7709" y="25"/>
                    </a:lnTo>
                    <a:lnTo>
                      <a:pt x="7638" y="0"/>
                    </a:lnTo>
                    <a:lnTo>
                      <a:pt x="6691" y="267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10"/>
              <p:cNvSpPr/>
              <p:nvPr/>
            </p:nvSpPr>
            <p:spPr>
              <a:xfrm>
                <a:off x="7988040" y="5522400"/>
                <a:ext cx="909720" cy="497160"/>
              </a:xfrm>
              <a:custGeom>
                <a:avLst/>
                <a:gdLst/>
                <a:ahLst/>
                <a:rect l="l" t="t" r="r" b="b"/>
                <a:pathLst>
                  <a:path w="7795" h="4260">
                    <a:moveTo>
                      <a:pt x="6691" y="267"/>
                    </a:moveTo>
                    <a:lnTo>
                      <a:pt x="6438" y="397"/>
                    </a:lnTo>
                    <a:lnTo>
                      <a:pt x="6181" y="524"/>
                    </a:lnTo>
                    <a:lnTo>
                      <a:pt x="5734" y="1296"/>
                    </a:lnTo>
                    <a:lnTo>
                      <a:pt x="5034" y="2857"/>
                    </a:lnTo>
                    <a:lnTo>
                      <a:pt x="4859" y="2911"/>
                    </a:lnTo>
                    <a:lnTo>
                      <a:pt x="4787" y="3088"/>
                    </a:lnTo>
                    <a:lnTo>
                      <a:pt x="4712" y="3232"/>
                    </a:lnTo>
                    <a:lnTo>
                      <a:pt x="4636" y="3342"/>
                    </a:lnTo>
                    <a:lnTo>
                      <a:pt x="4544" y="3423"/>
                    </a:lnTo>
                    <a:lnTo>
                      <a:pt x="4437" y="3478"/>
                    </a:lnTo>
                    <a:lnTo>
                      <a:pt x="4297" y="3509"/>
                    </a:lnTo>
                    <a:lnTo>
                      <a:pt x="3293" y="3599"/>
                    </a:lnTo>
                    <a:lnTo>
                      <a:pt x="2331" y="3632"/>
                    </a:lnTo>
                    <a:lnTo>
                      <a:pt x="1380" y="3636"/>
                    </a:lnTo>
                    <a:lnTo>
                      <a:pt x="892" y="3636"/>
                    </a:lnTo>
                    <a:lnTo>
                      <a:pt x="388" y="3642"/>
                    </a:lnTo>
                    <a:lnTo>
                      <a:pt x="239" y="3666"/>
                    </a:lnTo>
                    <a:lnTo>
                      <a:pt x="145" y="3703"/>
                    </a:lnTo>
                    <a:lnTo>
                      <a:pt x="86" y="3758"/>
                    </a:lnTo>
                    <a:lnTo>
                      <a:pt x="44" y="3814"/>
                    </a:lnTo>
                    <a:lnTo>
                      <a:pt x="21" y="3861"/>
                    </a:lnTo>
                    <a:lnTo>
                      <a:pt x="0" y="3918"/>
                    </a:lnTo>
                    <a:lnTo>
                      <a:pt x="5" y="4017"/>
                    </a:lnTo>
                    <a:lnTo>
                      <a:pt x="27" y="4111"/>
                    </a:lnTo>
                    <a:lnTo>
                      <a:pt x="54" y="4151"/>
                    </a:lnTo>
                    <a:lnTo>
                      <a:pt x="86" y="4190"/>
                    </a:lnTo>
                    <a:lnTo>
                      <a:pt x="135" y="4207"/>
                    </a:lnTo>
                    <a:lnTo>
                      <a:pt x="183" y="4230"/>
                    </a:lnTo>
                    <a:lnTo>
                      <a:pt x="1161" y="4260"/>
                    </a:lnTo>
                    <a:lnTo>
                      <a:pt x="2198" y="4253"/>
                    </a:lnTo>
                    <a:lnTo>
                      <a:pt x="3259" y="4207"/>
                    </a:lnTo>
                    <a:lnTo>
                      <a:pt x="3787" y="4174"/>
                    </a:lnTo>
                    <a:lnTo>
                      <a:pt x="4309" y="4131"/>
                    </a:lnTo>
                    <a:lnTo>
                      <a:pt x="4520" y="4090"/>
                    </a:lnTo>
                    <a:lnTo>
                      <a:pt x="4698" y="4028"/>
                    </a:lnTo>
                    <a:lnTo>
                      <a:pt x="4843" y="3942"/>
                    </a:lnTo>
                    <a:lnTo>
                      <a:pt x="4963" y="3837"/>
                    </a:lnTo>
                    <a:lnTo>
                      <a:pt x="5066" y="3704"/>
                    </a:lnTo>
                    <a:lnTo>
                      <a:pt x="5152" y="3549"/>
                    </a:lnTo>
                    <a:lnTo>
                      <a:pt x="5230" y="3375"/>
                    </a:lnTo>
                    <a:lnTo>
                      <a:pt x="5305" y="3174"/>
                    </a:lnTo>
                    <a:lnTo>
                      <a:pt x="5481" y="2721"/>
                    </a:lnTo>
                    <a:lnTo>
                      <a:pt x="5693" y="2251"/>
                    </a:lnTo>
                    <a:lnTo>
                      <a:pt x="5806" y="2016"/>
                    </a:lnTo>
                    <a:lnTo>
                      <a:pt x="5913" y="1790"/>
                    </a:lnTo>
                    <a:lnTo>
                      <a:pt x="6016" y="1575"/>
                    </a:lnTo>
                    <a:lnTo>
                      <a:pt x="6081" y="1425"/>
                    </a:lnTo>
                    <a:lnTo>
                      <a:pt x="6144" y="1288"/>
                    </a:lnTo>
                    <a:lnTo>
                      <a:pt x="6221" y="1171"/>
                    </a:lnTo>
                    <a:lnTo>
                      <a:pt x="6313" y="1068"/>
                    </a:lnTo>
                    <a:lnTo>
                      <a:pt x="6413" y="980"/>
                    </a:lnTo>
                    <a:lnTo>
                      <a:pt x="6680" y="867"/>
                    </a:lnTo>
                    <a:lnTo>
                      <a:pt x="6941" y="773"/>
                    </a:lnTo>
                    <a:lnTo>
                      <a:pt x="7196" y="673"/>
                    </a:lnTo>
                    <a:lnTo>
                      <a:pt x="7458" y="564"/>
                    </a:lnTo>
                    <a:lnTo>
                      <a:pt x="7595" y="487"/>
                    </a:lnTo>
                    <a:lnTo>
                      <a:pt x="7714" y="397"/>
                    </a:lnTo>
                    <a:lnTo>
                      <a:pt x="7783" y="299"/>
                    </a:lnTo>
                    <a:lnTo>
                      <a:pt x="7795" y="178"/>
                    </a:lnTo>
                    <a:lnTo>
                      <a:pt x="7782" y="86"/>
                    </a:lnTo>
                    <a:lnTo>
                      <a:pt x="7747" y="37"/>
                    </a:lnTo>
                    <a:lnTo>
                      <a:pt x="7709" y="25"/>
                    </a:lnTo>
                    <a:lnTo>
                      <a:pt x="7638" y="0"/>
                    </a:lnTo>
                    <a:lnTo>
                      <a:pt x="6691" y="26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11"/>
              <p:cNvSpPr/>
              <p:nvPr/>
            </p:nvSpPr>
            <p:spPr>
              <a:xfrm>
                <a:off x="8713080" y="5215680"/>
                <a:ext cx="230400" cy="345960"/>
              </a:xfrm>
              <a:custGeom>
                <a:avLst/>
                <a:gdLst/>
                <a:ahLst/>
                <a:rect l="l" t="t" r="r" b="b"/>
                <a:pathLst>
                  <a:path w="1980" h="2971">
                    <a:moveTo>
                      <a:pt x="1713" y="0"/>
                    </a:moveTo>
                    <a:lnTo>
                      <a:pt x="1594" y="17"/>
                    </a:lnTo>
                    <a:lnTo>
                      <a:pt x="1479" y="37"/>
                    </a:lnTo>
                    <a:lnTo>
                      <a:pt x="1369" y="71"/>
                    </a:lnTo>
                    <a:lnTo>
                      <a:pt x="1259" y="109"/>
                    </a:lnTo>
                    <a:lnTo>
                      <a:pt x="1155" y="150"/>
                    </a:lnTo>
                    <a:lnTo>
                      <a:pt x="1058" y="201"/>
                    </a:lnTo>
                    <a:lnTo>
                      <a:pt x="964" y="257"/>
                    </a:lnTo>
                    <a:lnTo>
                      <a:pt x="870" y="319"/>
                    </a:lnTo>
                    <a:lnTo>
                      <a:pt x="785" y="385"/>
                    </a:lnTo>
                    <a:lnTo>
                      <a:pt x="704" y="459"/>
                    </a:lnTo>
                    <a:lnTo>
                      <a:pt x="629" y="535"/>
                    </a:lnTo>
                    <a:lnTo>
                      <a:pt x="558" y="617"/>
                    </a:lnTo>
                    <a:lnTo>
                      <a:pt x="492" y="702"/>
                    </a:lnTo>
                    <a:lnTo>
                      <a:pt x="430" y="795"/>
                    </a:lnTo>
                    <a:lnTo>
                      <a:pt x="373" y="888"/>
                    </a:lnTo>
                    <a:lnTo>
                      <a:pt x="322" y="987"/>
                    </a:lnTo>
                    <a:lnTo>
                      <a:pt x="253" y="1115"/>
                    </a:lnTo>
                    <a:lnTo>
                      <a:pt x="195" y="1244"/>
                    </a:lnTo>
                    <a:lnTo>
                      <a:pt x="146" y="1369"/>
                    </a:lnTo>
                    <a:lnTo>
                      <a:pt x="102" y="1494"/>
                    </a:lnTo>
                    <a:lnTo>
                      <a:pt x="69" y="1612"/>
                    </a:lnTo>
                    <a:lnTo>
                      <a:pt x="43" y="1728"/>
                    </a:lnTo>
                    <a:lnTo>
                      <a:pt x="23" y="1844"/>
                    </a:lnTo>
                    <a:lnTo>
                      <a:pt x="8" y="1951"/>
                    </a:lnTo>
                    <a:lnTo>
                      <a:pt x="2" y="2057"/>
                    </a:lnTo>
                    <a:lnTo>
                      <a:pt x="0" y="2158"/>
                    </a:lnTo>
                    <a:lnTo>
                      <a:pt x="2" y="2255"/>
                    </a:lnTo>
                    <a:lnTo>
                      <a:pt x="8" y="2351"/>
                    </a:lnTo>
                    <a:lnTo>
                      <a:pt x="23" y="2438"/>
                    </a:lnTo>
                    <a:lnTo>
                      <a:pt x="32" y="2555"/>
                    </a:lnTo>
                    <a:lnTo>
                      <a:pt x="64" y="2653"/>
                    </a:lnTo>
                    <a:lnTo>
                      <a:pt x="123" y="2736"/>
                    </a:lnTo>
                    <a:lnTo>
                      <a:pt x="190" y="2809"/>
                    </a:lnTo>
                    <a:lnTo>
                      <a:pt x="271" y="2872"/>
                    </a:lnTo>
                    <a:lnTo>
                      <a:pt x="376" y="2929"/>
                    </a:lnTo>
                    <a:lnTo>
                      <a:pt x="478" y="2962"/>
                    </a:lnTo>
                    <a:lnTo>
                      <a:pt x="582" y="2971"/>
                    </a:lnTo>
                    <a:lnTo>
                      <a:pt x="683" y="2964"/>
                    </a:lnTo>
                    <a:lnTo>
                      <a:pt x="787" y="2935"/>
                    </a:lnTo>
                    <a:lnTo>
                      <a:pt x="890" y="2900"/>
                    </a:lnTo>
                    <a:lnTo>
                      <a:pt x="1006" y="2844"/>
                    </a:lnTo>
                    <a:lnTo>
                      <a:pt x="1115" y="2797"/>
                    </a:lnTo>
                    <a:lnTo>
                      <a:pt x="1227" y="2750"/>
                    </a:lnTo>
                    <a:lnTo>
                      <a:pt x="1335" y="2701"/>
                    </a:lnTo>
                    <a:lnTo>
                      <a:pt x="1434" y="2641"/>
                    </a:lnTo>
                    <a:lnTo>
                      <a:pt x="1520" y="2569"/>
                    </a:lnTo>
                    <a:lnTo>
                      <a:pt x="1594" y="2476"/>
                    </a:lnTo>
                    <a:lnTo>
                      <a:pt x="1645" y="2367"/>
                    </a:lnTo>
                    <a:lnTo>
                      <a:pt x="1969" y="315"/>
                    </a:lnTo>
                    <a:lnTo>
                      <a:pt x="1980" y="214"/>
                    </a:lnTo>
                    <a:lnTo>
                      <a:pt x="1971" y="138"/>
                    </a:lnTo>
                    <a:lnTo>
                      <a:pt x="1906" y="45"/>
                    </a:lnTo>
                    <a:lnTo>
                      <a:pt x="1811" y="8"/>
                    </a:lnTo>
                    <a:lnTo>
                      <a:pt x="1713" y="0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12"/>
              <p:cNvSpPr/>
              <p:nvPr/>
            </p:nvSpPr>
            <p:spPr>
              <a:xfrm>
                <a:off x="8713080" y="5215680"/>
                <a:ext cx="230400" cy="345960"/>
              </a:xfrm>
              <a:custGeom>
                <a:avLst/>
                <a:gdLst/>
                <a:ahLst/>
                <a:rect l="l" t="t" r="r" b="b"/>
                <a:pathLst>
                  <a:path w="1980" h="2971">
                    <a:moveTo>
                      <a:pt x="1713" y="0"/>
                    </a:moveTo>
                    <a:lnTo>
                      <a:pt x="1594" y="17"/>
                    </a:lnTo>
                    <a:lnTo>
                      <a:pt x="1479" y="37"/>
                    </a:lnTo>
                    <a:lnTo>
                      <a:pt x="1369" y="71"/>
                    </a:lnTo>
                    <a:lnTo>
                      <a:pt x="1259" y="109"/>
                    </a:lnTo>
                    <a:lnTo>
                      <a:pt x="1155" y="150"/>
                    </a:lnTo>
                    <a:lnTo>
                      <a:pt x="1058" y="201"/>
                    </a:lnTo>
                    <a:lnTo>
                      <a:pt x="964" y="257"/>
                    </a:lnTo>
                    <a:lnTo>
                      <a:pt x="870" y="319"/>
                    </a:lnTo>
                    <a:lnTo>
                      <a:pt x="785" y="385"/>
                    </a:lnTo>
                    <a:lnTo>
                      <a:pt x="704" y="459"/>
                    </a:lnTo>
                    <a:lnTo>
                      <a:pt x="629" y="535"/>
                    </a:lnTo>
                    <a:lnTo>
                      <a:pt x="558" y="617"/>
                    </a:lnTo>
                    <a:lnTo>
                      <a:pt x="492" y="702"/>
                    </a:lnTo>
                    <a:lnTo>
                      <a:pt x="430" y="795"/>
                    </a:lnTo>
                    <a:lnTo>
                      <a:pt x="373" y="888"/>
                    </a:lnTo>
                    <a:lnTo>
                      <a:pt x="322" y="987"/>
                    </a:lnTo>
                    <a:lnTo>
                      <a:pt x="253" y="1115"/>
                    </a:lnTo>
                    <a:lnTo>
                      <a:pt x="195" y="1244"/>
                    </a:lnTo>
                    <a:lnTo>
                      <a:pt x="146" y="1369"/>
                    </a:lnTo>
                    <a:lnTo>
                      <a:pt x="102" y="1494"/>
                    </a:lnTo>
                    <a:lnTo>
                      <a:pt x="69" y="1612"/>
                    </a:lnTo>
                    <a:lnTo>
                      <a:pt x="43" y="1728"/>
                    </a:lnTo>
                    <a:lnTo>
                      <a:pt x="23" y="1844"/>
                    </a:lnTo>
                    <a:lnTo>
                      <a:pt x="8" y="1951"/>
                    </a:lnTo>
                    <a:lnTo>
                      <a:pt x="2" y="2057"/>
                    </a:lnTo>
                    <a:lnTo>
                      <a:pt x="0" y="2158"/>
                    </a:lnTo>
                    <a:lnTo>
                      <a:pt x="2" y="2255"/>
                    </a:lnTo>
                    <a:lnTo>
                      <a:pt x="8" y="2351"/>
                    </a:lnTo>
                    <a:lnTo>
                      <a:pt x="23" y="2438"/>
                    </a:lnTo>
                    <a:lnTo>
                      <a:pt x="32" y="2555"/>
                    </a:lnTo>
                    <a:lnTo>
                      <a:pt x="64" y="2653"/>
                    </a:lnTo>
                    <a:lnTo>
                      <a:pt x="123" y="2736"/>
                    </a:lnTo>
                    <a:lnTo>
                      <a:pt x="190" y="2809"/>
                    </a:lnTo>
                    <a:lnTo>
                      <a:pt x="271" y="2872"/>
                    </a:lnTo>
                    <a:lnTo>
                      <a:pt x="376" y="2929"/>
                    </a:lnTo>
                    <a:lnTo>
                      <a:pt x="478" y="2962"/>
                    </a:lnTo>
                    <a:lnTo>
                      <a:pt x="582" y="2971"/>
                    </a:lnTo>
                    <a:lnTo>
                      <a:pt x="683" y="2964"/>
                    </a:lnTo>
                    <a:lnTo>
                      <a:pt x="787" y="2935"/>
                    </a:lnTo>
                    <a:lnTo>
                      <a:pt x="890" y="2900"/>
                    </a:lnTo>
                    <a:lnTo>
                      <a:pt x="1006" y="2844"/>
                    </a:lnTo>
                    <a:lnTo>
                      <a:pt x="1115" y="2797"/>
                    </a:lnTo>
                    <a:lnTo>
                      <a:pt x="1227" y="2750"/>
                    </a:lnTo>
                    <a:lnTo>
                      <a:pt x="1335" y="2701"/>
                    </a:lnTo>
                    <a:lnTo>
                      <a:pt x="1434" y="2641"/>
                    </a:lnTo>
                    <a:lnTo>
                      <a:pt x="1520" y="2569"/>
                    </a:lnTo>
                    <a:lnTo>
                      <a:pt x="1594" y="2476"/>
                    </a:lnTo>
                    <a:lnTo>
                      <a:pt x="1645" y="2367"/>
                    </a:lnTo>
                    <a:lnTo>
                      <a:pt x="1969" y="315"/>
                    </a:lnTo>
                    <a:lnTo>
                      <a:pt x="1980" y="214"/>
                    </a:lnTo>
                    <a:lnTo>
                      <a:pt x="1971" y="138"/>
                    </a:lnTo>
                    <a:lnTo>
                      <a:pt x="1906" y="45"/>
                    </a:lnTo>
                    <a:lnTo>
                      <a:pt x="1811" y="8"/>
                    </a:lnTo>
                    <a:lnTo>
                      <a:pt x="1713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13"/>
              <p:cNvSpPr/>
              <p:nvPr/>
            </p:nvSpPr>
            <p:spPr>
              <a:xfrm>
                <a:off x="8713080" y="5235480"/>
                <a:ext cx="163440" cy="314640"/>
              </a:xfrm>
              <a:custGeom>
                <a:avLst/>
                <a:gdLst/>
                <a:ahLst/>
                <a:rect l="l" t="t" r="r" b="b"/>
                <a:pathLst>
                  <a:path w="1400" h="2702">
                    <a:moveTo>
                      <a:pt x="627" y="759"/>
                    </a:moveTo>
                    <a:lnTo>
                      <a:pt x="688" y="656"/>
                    </a:lnTo>
                    <a:lnTo>
                      <a:pt x="763" y="552"/>
                    </a:lnTo>
                    <a:lnTo>
                      <a:pt x="836" y="458"/>
                    </a:lnTo>
                    <a:lnTo>
                      <a:pt x="934" y="335"/>
                    </a:lnTo>
                    <a:lnTo>
                      <a:pt x="1028" y="244"/>
                    </a:lnTo>
                    <a:lnTo>
                      <a:pt x="1132" y="171"/>
                    </a:lnTo>
                    <a:lnTo>
                      <a:pt x="1400" y="22"/>
                    </a:lnTo>
                    <a:lnTo>
                      <a:pt x="1231" y="22"/>
                    </a:lnTo>
                    <a:lnTo>
                      <a:pt x="1115" y="0"/>
                    </a:lnTo>
                    <a:lnTo>
                      <a:pt x="985" y="63"/>
                    </a:lnTo>
                    <a:lnTo>
                      <a:pt x="870" y="149"/>
                    </a:lnTo>
                    <a:lnTo>
                      <a:pt x="785" y="215"/>
                    </a:lnTo>
                    <a:lnTo>
                      <a:pt x="704" y="289"/>
                    </a:lnTo>
                    <a:lnTo>
                      <a:pt x="629" y="365"/>
                    </a:lnTo>
                    <a:lnTo>
                      <a:pt x="558" y="447"/>
                    </a:lnTo>
                    <a:lnTo>
                      <a:pt x="492" y="532"/>
                    </a:lnTo>
                    <a:lnTo>
                      <a:pt x="430" y="625"/>
                    </a:lnTo>
                    <a:lnTo>
                      <a:pt x="373" y="718"/>
                    </a:lnTo>
                    <a:lnTo>
                      <a:pt x="322" y="815"/>
                    </a:lnTo>
                    <a:lnTo>
                      <a:pt x="253" y="945"/>
                    </a:lnTo>
                    <a:lnTo>
                      <a:pt x="195" y="1074"/>
                    </a:lnTo>
                    <a:lnTo>
                      <a:pt x="146" y="1199"/>
                    </a:lnTo>
                    <a:lnTo>
                      <a:pt x="102" y="1324"/>
                    </a:lnTo>
                    <a:lnTo>
                      <a:pt x="69" y="1442"/>
                    </a:lnTo>
                    <a:lnTo>
                      <a:pt x="43" y="1558"/>
                    </a:lnTo>
                    <a:lnTo>
                      <a:pt x="23" y="1674"/>
                    </a:lnTo>
                    <a:lnTo>
                      <a:pt x="8" y="1781"/>
                    </a:lnTo>
                    <a:lnTo>
                      <a:pt x="2" y="1887"/>
                    </a:lnTo>
                    <a:lnTo>
                      <a:pt x="0" y="1988"/>
                    </a:lnTo>
                    <a:lnTo>
                      <a:pt x="2" y="2085"/>
                    </a:lnTo>
                    <a:lnTo>
                      <a:pt x="8" y="2181"/>
                    </a:lnTo>
                    <a:lnTo>
                      <a:pt x="23" y="2268"/>
                    </a:lnTo>
                    <a:lnTo>
                      <a:pt x="32" y="2385"/>
                    </a:lnTo>
                    <a:lnTo>
                      <a:pt x="64" y="2483"/>
                    </a:lnTo>
                    <a:lnTo>
                      <a:pt x="123" y="2566"/>
                    </a:lnTo>
                    <a:lnTo>
                      <a:pt x="190" y="2639"/>
                    </a:lnTo>
                    <a:lnTo>
                      <a:pt x="271" y="2702"/>
                    </a:lnTo>
                    <a:lnTo>
                      <a:pt x="390" y="2696"/>
                    </a:lnTo>
                    <a:lnTo>
                      <a:pt x="445" y="2689"/>
                    </a:lnTo>
                    <a:lnTo>
                      <a:pt x="380" y="2592"/>
                    </a:lnTo>
                    <a:lnTo>
                      <a:pt x="336" y="2479"/>
                    </a:lnTo>
                    <a:lnTo>
                      <a:pt x="294" y="2330"/>
                    </a:lnTo>
                    <a:lnTo>
                      <a:pt x="286" y="2181"/>
                    </a:lnTo>
                    <a:lnTo>
                      <a:pt x="271" y="2018"/>
                    </a:lnTo>
                    <a:lnTo>
                      <a:pt x="286" y="1799"/>
                    </a:lnTo>
                    <a:lnTo>
                      <a:pt x="315" y="1615"/>
                    </a:lnTo>
                    <a:lnTo>
                      <a:pt x="360" y="1428"/>
                    </a:lnTo>
                    <a:lnTo>
                      <a:pt x="422" y="1211"/>
                    </a:lnTo>
                    <a:lnTo>
                      <a:pt x="463" y="1083"/>
                    </a:lnTo>
                    <a:lnTo>
                      <a:pt x="524" y="941"/>
                    </a:lnTo>
                    <a:lnTo>
                      <a:pt x="582" y="839"/>
                    </a:lnTo>
                    <a:lnTo>
                      <a:pt x="627" y="759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14"/>
              <p:cNvSpPr/>
              <p:nvPr/>
            </p:nvSpPr>
            <p:spPr>
              <a:xfrm>
                <a:off x="8713080" y="5235480"/>
                <a:ext cx="163440" cy="314640"/>
              </a:xfrm>
              <a:custGeom>
                <a:avLst/>
                <a:gdLst/>
                <a:ahLst/>
                <a:rect l="l" t="t" r="r" b="b"/>
                <a:pathLst>
                  <a:path w="1400" h="2702">
                    <a:moveTo>
                      <a:pt x="627" y="759"/>
                    </a:moveTo>
                    <a:lnTo>
                      <a:pt x="688" y="656"/>
                    </a:lnTo>
                    <a:lnTo>
                      <a:pt x="763" y="552"/>
                    </a:lnTo>
                    <a:lnTo>
                      <a:pt x="836" y="458"/>
                    </a:lnTo>
                    <a:lnTo>
                      <a:pt x="934" y="335"/>
                    </a:lnTo>
                    <a:lnTo>
                      <a:pt x="1028" y="244"/>
                    </a:lnTo>
                    <a:lnTo>
                      <a:pt x="1132" y="171"/>
                    </a:lnTo>
                    <a:lnTo>
                      <a:pt x="1400" y="22"/>
                    </a:lnTo>
                    <a:lnTo>
                      <a:pt x="1231" y="22"/>
                    </a:lnTo>
                    <a:lnTo>
                      <a:pt x="1115" y="0"/>
                    </a:lnTo>
                    <a:lnTo>
                      <a:pt x="985" y="63"/>
                    </a:lnTo>
                    <a:lnTo>
                      <a:pt x="870" y="149"/>
                    </a:lnTo>
                    <a:lnTo>
                      <a:pt x="785" y="215"/>
                    </a:lnTo>
                    <a:lnTo>
                      <a:pt x="704" y="289"/>
                    </a:lnTo>
                    <a:lnTo>
                      <a:pt x="629" y="365"/>
                    </a:lnTo>
                    <a:lnTo>
                      <a:pt x="558" y="447"/>
                    </a:lnTo>
                    <a:lnTo>
                      <a:pt x="492" y="532"/>
                    </a:lnTo>
                    <a:lnTo>
                      <a:pt x="430" y="625"/>
                    </a:lnTo>
                    <a:lnTo>
                      <a:pt x="373" y="718"/>
                    </a:lnTo>
                    <a:lnTo>
                      <a:pt x="322" y="815"/>
                    </a:lnTo>
                    <a:lnTo>
                      <a:pt x="253" y="945"/>
                    </a:lnTo>
                    <a:lnTo>
                      <a:pt x="195" y="1074"/>
                    </a:lnTo>
                    <a:lnTo>
                      <a:pt x="146" y="1199"/>
                    </a:lnTo>
                    <a:lnTo>
                      <a:pt x="102" y="1324"/>
                    </a:lnTo>
                    <a:lnTo>
                      <a:pt x="69" y="1442"/>
                    </a:lnTo>
                    <a:lnTo>
                      <a:pt x="43" y="1558"/>
                    </a:lnTo>
                    <a:lnTo>
                      <a:pt x="23" y="1674"/>
                    </a:lnTo>
                    <a:lnTo>
                      <a:pt x="8" y="1781"/>
                    </a:lnTo>
                    <a:lnTo>
                      <a:pt x="2" y="1887"/>
                    </a:lnTo>
                    <a:lnTo>
                      <a:pt x="0" y="1988"/>
                    </a:lnTo>
                    <a:lnTo>
                      <a:pt x="2" y="2085"/>
                    </a:lnTo>
                    <a:lnTo>
                      <a:pt x="8" y="2181"/>
                    </a:lnTo>
                    <a:lnTo>
                      <a:pt x="23" y="2268"/>
                    </a:lnTo>
                    <a:lnTo>
                      <a:pt x="32" y="2385"/>
                    </a:lnTo>
                    <a:lnTo>
                      <a:pt x="64" y="2483"/>
                    </a:lnTo>
                    <a:lnTo>
                      <a:pt x="123" y="2566"/>
                    </a:lnTo>
                    <a:lnTo>
                      <a:pt x="190" y="2639"/>
                    </a:lnTo>
                    <a:lnTo>
                      <a:pt x="271" y="2702"/>
                    </a:lnTo>
                    <a:lnTo>
                      <a:pt x="390" y="2696"/>
                    </a:lnTo>
                    <a:lnTo>
                      <a:pt x="445" y="2689"/>
                    </a:lnTo>
                    <a:lnTo>
                      <a:pt x="380" y="2592"/>
                    </a:lnTo>
                    <a:lnTo>
                      <a:pt x="336" y="2479"/>
                    </a:lnTo>
                    <a:lnTo>
                      <a:pt x="294" y="2330"/>
                    </a:lnTo>
                    <a:lnTo>
                      <a:pt x="286" y="2181"/>
                    </a:lnTo>
                    <a:lnTo>
                      <a:pt x="271" y="2018"/>
                    </a:lnTo>
                    <a:lnTo>
                      <a:pt x="286" y="1799"/>
                    </a:lnTo>
                    <a:lnTo>
                      <a:pt x="315" y="1615"/>
                    </a:lnTo>
                    <a:lnTo>
                      <a:pt x="360" y="1428"/>
                    </a:lnTo>
                    <a:lnTo>
                      <a:pt x="422" y="1211"/>
                    </a:lnTo>
                    <a:lnTo>
                      <a:pt x="463" y="1083"/>
                    </a:lnTo>
                    <a:lnTo>
                      <a:pt x="524" y="941"/>
                    </a:lnTo>
                    <a:lnTo>
                      <a:pt x="582" y="839"/>
                    </a:lnTo>
                    <a:lnTo>
                      <a:pt x="627" y="75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15"/>
              <p:cNvSpPr/>
              <p:nvPr/>
            </p:nvSpPr>
            <p:spPr>
              <a:xfrm>
                <a:off x="8518680" y="5567040"/>
                <a:ext cx="255960" cy="386280"/>
              </a:xfrm>
              <a:custGeom>
                <a:avLst/>
                <a:gdLst/>
                <a:ahLst/>
                <a:rect l="l" t="t" r="r" b="b"/>
                <a:pathLst>
                  <a:path w="2196" h="3317">
                    <a:moveTo>
                      <a:pt x="2036" y="0"/>
                    </a:moveTo>
                    <a:lnTo>
                      <a:pt x="1897" y="11"/>
                    </a:lnTo>
                    <a:lnTo>
                      <a:pt x="1640" y="138"/>
                    </a:lnTo>
                    <a:lnTo>
                      <a:pt x="1476" y="246"/>
                    </a:lnTo>
                    <a:lnTo>
                      <a:pt x="1394" y="322"/>
                    </a:lnTo>
                    <a:lnTo>
                      <a:pt x="1324" y="395"/>
                    </a:lnTo>
                    <a:lnTo>
                      <a:pt x="1269" y="468"/>
                    </a:lnTo>
                    <a:lnTo>
                      <a:pt x="1216" y="547"/>
                    </a:lnTo>
                    <a:lnTo>
                      <a:pt x="1159" y="641"/>
                    </a:lnTo>
                    <a:lnTo>
                      <a:pt x="1071" y="788"/>
                    </a:lnTo>
                    <a:lnTo>
                      <a:pt x="981" y="958"/>
                    </a:lnTo>
                    <a:lnTo>
                      <a:pt x="890" y="1152"/>
                    </a:lnTo>
                    <a:lnTo>
                      <a:pt x="710" y="1560"/>
                    </a:lnTo>
                    <a:lnTo>
                      <a:pt x="503" y="2059"/>
                    </a:lnTo>
                    <a:lnTo>
                      <a:pt x="363" y="2433"/>
                    </a:lnTo>
                    <a:lnTo>
                      <a:pt x="246" y="2700"/>
                    </a:lnTo>
                    <a:lnTo>
                      <a:pt x="184" y="2825"/>
                    </a:lnTo>
                    <a:lnTo>
                      <a:pt x="152" y="2962"/>
                    </a:lnTo>
                    <a:lnTo>
                      <a:pt x="133" y="3067"/>
                    </a:lnTo>
                    <a:lnTo>
                      <a:pt x="78" y="3173"/>
                    </a:lnTo>
                    <a:lnTo>
                      <a:pt x="44" y="3228"/>
                    </a:lnTo>
                    <a:lnTo>
                      <a:pt x="15" y="3277"/>
                    </a:lnTo>
                    <a:lnTo>
                      <a:pt x="0" y="3317"/>
                    </a:lnTo>
                    <a:lnTo>
                      <a:pt x="89" y="3287"/>
                    </a:lnTo>
                    <a:lnTo>
                      <a:pt x="215" y="3196"/>
                    </a:lnTo>
                    <a:lnTo>
                      <a:pt x="332" y="3047"/>
                    </a:lnTo>
                    <a:lnTo>
                      <a:pt x="440" y="2861"/>
                    </a:lnTo>
                    <a:lnTo>
                      <a:pt x="629" y="2413"/>
                    </a:lnTo>
                    <a:lnTo>
                      <a:pt x="768" y="2108"/>
                    </a:lnTo>
                    <a:lnTo>
                      <a:pt x="990" y="1571"/>
                    </a:lnTo>
                    <a:lnTo>
                      <a:pt x="1195" y="1049"/>
                    </a:lnTo>
                    <a:lnTo>
                      <a:pt x="1304" y="821"/>
                    </a:lnTo>
                    <a:lnTo>
                      <a:pt x="1406" y="622"/>
                    </a:lnTo>
                    <a:lnTo>
                      <a:pt x="1503" y="488"/>
                    </a:lnTo>
                    <a:lnTo>
                      <a:pt x="1611" y="395"/>
                    </a:lnTo>
                    <a:lnTo>
                      <a:pt x="1730" y="310"/>
                    </a:lnTo>
                    <a:lnTo>
                      <a:pt x="1909" y="198"/>
                    </a:lnTo>
                    <a:lnTo>
                      <a:pt x="2196" y="52"/>
                    </a:lnTo>
                    <a:lnTo>
                      <a:pt x="2036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16"/>
              <p:cNvSpPr/>
              <p:nvPr/>
            </p:nvSpPr>
            <p:spPr>
              <a:xfrm>
                <a:off x="8518680" y="5567040"/>
                <a:ext cx="255960" cy="386280"/>
              </a:xfrm>
              <a:custGeom>
                <a:avLst/>
                <a:gdLst/>
                <a:ahLst/>
                <a:rect l="l" t="t" r="r" b="b"/>
                <a:pathLst>
                  <a:path w="2196" h="3317">
                    <a:moveTo>
                      <a:pt x="2036" y="0"/>
                    </a:moveTo>
                    <a:lnTo>
                      <a:pt x="1897" y="11"/>
                    </a:lnTo>
                    <a:lnTo>
                      <a:pt x="1640" y="138"/>
                    </a:lnTo>
                    <a:lnTo>
                      <a:pt x="1476" y="246"/>
                    </a:lnTo>
                    <a:lnTo>
                      <a:pt x="1394" y="322"/>
                    </a:lnTo>
                    <a:lnTo>
                      <a:pt x="1324" y="395"/>
                    </a:lnTo>
                    <a:lnTo>
                      <a:pt x="1269" y="468"/>
                    </a:lnTo>
                    <a:lnTo>
                      <a:pt x="1216" y="547"/>
                    </a:lnTo>
                    <a:lnTo>
                      <a:pt x="1159" y="641"/>
                    </a:lnTo>
                    <a:lnTo>
                      <a:pt x="1071" y="788"/>
                    </a:lnTo>
                    <a:lnTo>
                      <a:pt x="981" y="958"/>
                    </a:lnTo>
                    <a:lnTo>
                      <a:pt x="890" y="1152"/>
                    </a:lnTo>
                    <a:lnTo>
                      <a:pt x="710" y="1560"/>
                    </a:lnTo>
                    <a:lnTo>
                      <a:pt x="503" y="2059"/>
                    </a:lnTo>
                    <a:lnTo>
                      <a:pt x="363" y="2433"/>
                    </a:lnTo>
                    <a:lnTo>
                      <a:pt x="246" y="2700"/>
                    </a:lnTo>
                    <a:lnTo>
                      <a:pt x="184" y="2825"/>
                    </a:lnTo>
                    <a:lnTo>
                      <a:pt x="152" y="2962"/>
                    </a:lnTo>
                    <a:lnTo>
                      <a:pt x="133" y="3067"/>
                    </a:lnTo>
                    <a:lnTo>
                      <a:pt x="78" y="3173"/>
                    </a:lnTo>
                    <a:lnTo>
                      <a:pt x="44" y="3228"/>
                    </a:lnTo>
                    <a:lnTo>
                      <a:pt x="15" y="3277"/>
                    </a:lnTo>
                    <a:lnTo>
                      <a:pt x="0" y="3317"/>
                    </a:lnTo>
                    <a:lnTo>
                      <a:pt x="89" y="3287"/>
                    </a:lnTo>
                    <a:lnTo>
                      <a:pt x="215" y="3196"/>
                    </a:lnTo>
                    <a:lnTo>
                      <a:pt x="332" y="3047"/>
                    </a:lnTo>
                    <a:lnTo>
                      <a:pt x="440" y="2861"/>
                    </a:lnTo>
                    <a:lnTo>
                      <a:pt x="629" y="2413"/>
                    </a:lnTo>
                    <a:lnTo>
                      <a:pt x="768" y="2108"/>
                    </a:lnTo>
                    <a:lnTo>
                      <a:pt x="990" y="1571"/>
                    </a:lnTo>
                    <a:lnTo>
                      <a:pt x="1195" y="1049"/>
                    </a:lnTo>
                    <a:lnTo>
                      <a:pt x="1304" y="821"/>
                    </a:lnTo>
                    <a:lnTo>
                      <a:pt x="1406" y="622"/>
                    </a:lnTo>
                    <a:lnTo>
                      <a:pt x="1503" y="488"/>
                    </a:lnTo>
                    <a:lnTo>
                      <a:pt x="1611" y="395"/>
                    </a:lnTo>
                    <a:lnTo>
                      <a:pt x="1730" y="310"/>
                    </a:lnTo>
                    <a:lnTo>
                      <a:pt x="1909" y="198"/>
                    </a:lnTo>
                    <a:lnTo>
                      <a:pt x="2196" y="52"/>
                    </a:lnTo>
                    <a:lnTo>
                      <a:pt x="203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17"/>
              <p:cNvSpPr/>
              <p:nvPr/>
            </p:nvSpPr>
            <p:spPr>
              <a:xfrm>
                <a:off x="8000640" y="5946480"/>
                <a:ext cx="166320" cy="30600"/>
              </a:xfrm>
              <a:custGeom>
                <a:avLst/>
                <a:gdLst/>
                <a:ahLst/>
                <a:rect l="l" t="t" r="r" b="b"/>
                <a:pathLst>
                  <a:path w="1426" h="270">
                    <a:moveTo>
                      <a:pt x="1279" y="0"/>
                    </a:moveTo>
                    <a:lnTo>
                      <a:pt x="791" y="0"/>
                    </a:lnTo>
                    <a:lnTo>
                      <a:pt x="287" y="6"/>
                    </a:lnTo>
                    <a:lnTo>
                      <a:pt x="138" y="30"/>
                    </a:lnTo>
                    <a:lnTo>
                      <a:pt x="65" y="50"/>
                    </a:lnTo>
                    <a:lnTo>
                      <a:pt x="23" y="89"/>
                    </a:lnTo>
                    <a:lnTo>
                      <a:pt x="0" y="138"/>
                    </a:lnTo>
                    <a:lnTo>
                      <a:pt x="1" y="185"/>
                    </a:lnTo>
                    <a:lnTo>
                      <a:pt x="28" y="208"/>
                    </a:lnTo>
                    <a:lnTo>
                      <a:pt x="65" y="232"/>
                    </a:lnTo>
                    <a:lnTo>
                      <a:pt x="142" y="246"/>
                    </a:lnTo>
                    <a:lnTo>
                      <a:pt x="276" y="262"/>
                    </a:lnTo>
                    <a:lnTo>
                      <a:pt x="500" y="262"/>
                    </a:lnTo>
                    <a:lnTo>
                      <a:pt x="830" y="262"/>
                    </a:lnTo>
                    <a:lnTo>
                      <a:pt x="1426" y="270"/>
                    </a:lnTo>
                    <a:lnTo>
                      <a:pt x="1279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18"/>
              <p:cNvSpPr/>
              <p:nvPr/>
            </p:nvSpPr>
            <p:spPr>
              <a:xfrm>
                <a:off x="8000640" y="5946480"/>
                <a:ext cx="166320" cy="30600"/>
              </a:xfrm>
              <a:custGeom>
                <a:avLst/>
                <a:gdLst/>
                <a:ahLst/>
                <a:rect l="l" t="t" r="r" b="b"/>
                <a:pathLst>
                  <a:path w="1426" h="270">
                    <a:moveTo>
                      <a:pt x="1279" y="0"/>
                    </a:moveTo>
                    <a:lnTo>
                      <a:pt x="791" y="0"/>
                    </a:lnTo>
                    <a:lnTo>
                      <a:pt x="287" y="6"/>
                    </a:lnTo>
                    <a:lnTo>
                      <a:pt x="138" y="30"/>
                    </a:lnTo>
                    <a:lnTo>
                      <a:pt x="65" y="50"/>
                    </a:lnTo>
                    <a:lnTo>
                      <a:pt x="23" y="89"/>
                    </a:lnTo>
                    <a:lnTo>
                      <a:pt x="0" y="138"/>
                    </a:lnTo>
                    <a:lnTo>
                      <a:pt x="1" y="185"/>
                    </a:lnTo>
                    <a:lnTo>
                      <a:pt x="28" y="208"/>
                    </a:lnTo>
                    <a:lnTo>
                      <a:pt x="65" y="232"/>
                    </a:lnTo>
                    <a:lnTo>
                      <a:pt x="142" y="246"/>
                    </a:lnTo>
                    <a:lnTo>
                      <a:pt x="276" y="262"/>
                    </a:lnTo>
                    <a:lnTo>
                      <a:pt x="500" y="262"/>
                    </a:lnTo>
                    <a:lnTo>
                      <a:pt x="830" y="262"/>
                    </a:lnTo>
                    <a:lnTo>
                      <a:pt x="1426" y="270"/>
                    </a:lnTo>
                    <a:lnTo>
                      <a:pt x="1279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19"/>
              <p:cNvSpPr/>
              <p:nvPr/>
            </p:nvSpPr>
            <p:spPr>
              <a:xfrm>
                <a:off x="8816760" y="5516640"/>
                <a:ext cx="37440" cy="63000"/>
              </a:xfrm>
              <a:custGeom>
                <a:avLst/>
                <a:gdLst/>
                <a:ahLst/>
                <a:rect l="l" t="t" r="r" b="b"/>
                <a:pathLst>
                  <a:path w="321" h="538">
                    <a:moveTo>
                      <a:pt x="157" y="38"/>
                    </a:moveTo>
                    <a:lnTo>
                      <a:pt x="0" y="529"/>
                    </a:lnTo>
                    <a:lnTo>
                      <a:pt x="44" y="538"/>
                    </a:lnTo>
                    <a:lnTo>
                      <a:pt x="203" y="32"/>
                    </a:lnTo>
                    <a:lnTo>
                      <a:pt x="44" y="538"/>
                    </a:lnTo>
                    <a:lnTo>
                      <a:pt x="142" y="499"/>
                    </a:lnTo>
                    <a:lnTo>
                      <a:pt x="203" y="454"/>
                    </a:lnTo>
                    <a:lnTo>
                      <a:pt x="321" y="0"/>
                    </a:lnTo>
                    <a:lnTo>
                      <a:pt x="157" y="38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20"/>
              <p:cNvSpPr/>
              <p:nvPr/>
            </p:nvSpPr>
            <p:spPr>
              <a:xfrm>
                <a:off x="8816760" y="5516640"/>
                <a:ext cx="37440" cy="63000"/>
              </a:xfrm>
              <a:custGeom>
                <a:avLst/>
                <a:gdLst/>
                <a:ahLst/>
                <a:rect l="l" t="t" r="r" b="b"/>
                <a:pathLst>
                  <a:path w="321" h="538">
                    <a:moveTo>
                      <a:pt x="157" y="38"/>
                    </a:moveTo>
                    <a:lnTo>
                      <a:pt x="0" y="529"/>
                    </a:lnTo>
                    <a:lnTo>
                      <a:pt x="44" y="538"/>
                    </a:lnTo>
                    <a:lnTo>
                      <a:pt x="203" y="32"/>
                    </a:lnTo>
                    <a:lnTo>
                      <a:pt x="44" y="538"/>
                    </a:lnTo>
                    <a:lnTo>
                      <a:pt x="142" y="499"/>
                    </a:lnTo>
                    <a:lnTo>
                      <a:pt x="203" y="454"/>
                    </a:lnTo>
                    <a:lnTo>
                      <a:pt x="321" y="0"/>
                    </a:lnTo>
                    <a:lnTo>
                      <a:pt x="157" y="38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21"/>
              <p:cNvSpPr/>
              <p:nvPr/>
            </p:nvSpPr>
            <p:spPr>
              <a:xfrm>
                <a:off x="8805600" y="5571360"/>
                <a:ext cx="27720" cy="15480"/>
              </a:xfrm>
              <a:custGeom>
                <a:avLst/>
                <a:gdLst/>
                <a:ahLst/>
                <a:rect l="l" t="t" r="r" b="b"/>
                <a:pathLst>
                  <a:path w="235" h="139">
                    <a:moveTo>
                      <a:pt x="111" y="0"/>
                    </a:moveTo>
                    <a:lnTo>
                      <a:pt x="34" y="45"/>
                    </a:lnTo>
                    <a:lnTo>
                      <a:pt x="0" y="98"/>
                    </a:lnTo>
                    <a:lnTo>
                      <a:pt x="63" y="139"/>
                    </a:lnTo>
                    <a:lnTo>
                      <a:pt x="150" y="134"/>
                    </a:lnTo>
                    <a:lnTo>
                      <a:pt x="235" y="12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22"/>
              <p:cNvSpPr/>
              <p:nvPr/>
            </p:nvSpPr>
            <p:spPr>
              <a:xfrm>
                <a:off x="8844480" y="556308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30" h="114">
                    <a:moveTo>
                      <a:pt x="4" y="0"/>
                    </a:moveTo>
                    <a:lnTo>
                      <a:pt x="30" y="49"/>
                    </a:lnTo>
                    <a:lnTo>
                      <a:pt x="0" y="11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23"/>
              <p:cNvSpPr/>
              <p:nvPr/>
            </p:nvSpPr>
            <p:spPr>
              <a:xfrm>
                <a:off x="8759160" y="5246640"/>
                <a:ext cx="186120" cy="281520"/>
              </a:xfrm>
              <a:custGeom>
                <a:avLst/>
                <a:gdLst/>
                <a:ahLst/>
                <a:rect l="l" t="t" r="r" b="b"/>
                <a:pathLst>
                  <a:path w="1593" h="2410">
                    <a:moveTo>
                      <a:pt x="480" y="580"/>
                    </a:moveTo>
                    <a:lnTo>
                      <a:pt x="368" y="735"/>
                    </a:lnTo>
                    <a:lnTo>
                      <a:pt x="269" y="892"/>
                    </a:lnTo>
                    <a:lnTo>
                      <a:pt x="183" y="1054"/>
                    </a:lnTo>
                    <a:lnTo>
                      <a:pt x="128" y="1214"/>
                    </a:lnTo>
                    <a:lnTo>
                      <a:pt x="73" y="1386"/>
                    </a:lnTo>
                    <a:lnTo>
                      <a:pt x="38" y="1563"/>
                    </a:lnTo>
                    <a:lnTo>
                      <a:pt x="8" y="1760"/>
                    </a:lnTo>
                    <a:lnTo>
                      <a:pt x="0" y="1965"/>
                    </a:lnTo>
                    <a:lnTo>
                      <a:pt x="5" y="2136"/>
                    </a:lnTo>
                    <a:lnTo>
                      <a:pt x="31" y="2240"/>
                    </a:lnTo>
                    <a:lnTo>
                      <a:pt x="86" y="2324"/>
                    </a:lnTo>
                    <a:lnTo>
                      <a:pt x="147" y="2375"/>
                    </a:lnTo>
                    <a:lnTo>
                      <a:pt x="265" y="2409"/>
                    </a:lnTo>
                    <a:lnTo>
                      <a:pt x="370" y="2410"/>
                    </a:lnTo>
                    <a:lnTo>
                      <a:pt x="469" y="2395"/>
                    </a:lnTo>
                    <a:lnTo>
                      <a:pt x="701" y="2350"/>
                    </a:lnTo>
                    <a:lnTo>
                      <a:pt x="891" y="2304"/>
                    </a:lnTo>
                    <a:lnTo>
                      <a:pt x="1079" y="2232"/>
                    </a:lnTo>
                    <a:lnTo>
                      <a:pt x="1253" y="2099"/>
                    </a:lnTo>
                    <a:lnTo>
                      <a:pt x="1370" y="1792"/>
                    </a:lnTo>
                    <a:lnTo>
                      <a:pt x="1453" y="1528"/>
                    </a:lnTo>
                    <a:lnTo>
                      <a:pt x="1513" y="1287"/>
                    </a:lnTo>
                    <a:lnTo>
                      <a:pt x="1555" y="1063"/>
                    </a:lnTo>
                    <a:lnTo>
                      <a:pt x="1579" y="835"/>
                    </a:lnTo>
                    <a:lnTo>
                      <a:pt x="1591" y="601"/>
                    </a:lnTo>
                    <a:lnTo>
                      <a:pt x="1593" y="344"/>
                    </a:lnTo>
                    <a:lnTo>
                      <a:pt x="1593" y="53"/>
                    </a:lnTo>
                    <a:lnTo>
                      <a:pt x="1431" y="6"/>
                    </a:lnTo>
                    <a:lnTo>
                      <a:pt x="1282" y="0"/>
                    </a:lnTo>
                    <a:lnTo>
                      <a:pt x="1137" y="32"/>
                    </a:lnTo>
                    <a:lnTo>
                      <a:pt x="995" y="97"/>
                    </a:lnTo>
                    <a:lnTo>
                      <a:pt x="860" y="185"/>
                    </a:lnTo>
                    <a:lnTo>
                      <a:pt x="728" y="298"/>
                    </a:lnTo>
                    <a:lnTo>
                      <a:pt x="604" y="433"/>
                    </a:lnTo>
                    <a:lnTo>
                      <a:pt x="480" y="5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24"/>
              <p:cNvSpPr/>
              <p:nvPr/>
            </p:nvSpPr>
            <p:spPr>
              <a:xfrm>
                <a:off x="8759160" y="5246640"/>
                <a:ext cx="186120" cy="281520"/>
              </a:xfrm>
              <a:custGeom>
                <a:avLst/>
                <a:gdLst/>
                <a:ahLst/>
                <a:rect l="l" t="t" r="r" b="b"/>
                <a:pathLst>
                  <a:path w="1593" h="2410">
                    <a:moveTo>
                      <a:pt x="480" y="580"/>
                    </a:moveTo>
                    <a:lnTo>
                      <a:pt x="368" y="735"/>
                    </a:lnTo>
                    <a:lnTo>
                      <a:pt x="269" y="892"/>
                    </a:lnTo>
                    <a:lnTo>
                      <a:pt x="183" y="1054"/>
                    </a:lnTo>
                    <a:lnTo>
                      <a:pt x="128" y="1214"/>
                    </a:lnTo>
                    <a:lnTo>
                      <a:pt x="73" y="1386"/>
                    </a:lnTo>
                    <a:lnTo>
                      <a:pt x="38" y="1563"/>
                    </a:lnTo>
                    <a:lnTo>
                      <a:pt x="8" y="1760"/>
                    </a:lnTo>
                    <a:lnTo>
                      <a:pt x="0" y="1965"/>
                    </a:lnTo>
                    <a:lnTo>
                      <a:pt x="5" y="2136"/>
                    </a:lnTo>
                    <a:lnTo>
                      <a:pt x="31" y="2240"/>
                    </a:lnTo>
                    <a:lnTo>
                      <a:pt x="86" y="2324"/>
                    </a:lnTo>
                    <a:lnTo>
                      <a:pt x="147" y="2375"/>
                    </a:lnTo>
                    <a:lnTo>
                      <a:pt x="265" y="2409"/>
                    </a:lnTo>
                    <a:lnTo>
                      <a:pt x="370" y="2410"/>
                    </a:lnTo>
                    <a:lnTo>
                      <a:pt x="469" y="2395"/>
                    </a:lnTo>
                    <a:lnTo>
                      <a:pt x="701" y="2350"/>
                    </a:lnTo>
                    <a:lnTo>
                      <a:pt x="891" y="2304"/>
                    </a:lnTo>
                    <a:lnTo>
                      <a:pt x="1079" y="2232"/>
                    </a:lnTo>
                    <a:lnTo>
                      <a:pt x="1253" y="2099"/>
                    </a:lnTo>
                    <a:lnTo>
                      <a:pt x="1370" y="1792"/>
                    </a:lnTo>
                    <a:lnTo>
                      <a:pt x="1453" y="1528"/>
                    </a:lnTo>
                    <a:lnTo>
                      <a:pt x="1513" y="1287"/>
                    </a:lnTo>
                    <a:lnTo>
                      <a:pt x="1555" y="1063"/>
                    </a:lnTo>
                    <a:lnTo>
                      <a:pt x="1579" y="835"/>
                    </a:lnTo>
                    <a:lnTo>
                      <a:pt x="1591" y="601"/>
                    </a:lnTo>
                    <a:lnTo>
                      <a:pt x="1593" y="344"/>
                    </a:lnTo>
                    <a:lnTo>
                      <a:pt x="1593" y="53"/>
                    </a:lnTo>
                    <a:lnTo>
                      <a:pt x="1431" y="6"/>
                    </a:lnTo>
                    <a:lnTo>
                      <a:pt x="1282" y="0"/>
                    </a:lnTo>
                    <a:lnTo>
                      <a:pt x="1137" y="32"/>
                    </a:lnTo>
                    <a:lnTo>
                      <a:pt x="995" y="97"/>
                    </a:lnTo>
                    <a:lnTo>
                      <a:pt x="860" y="185"/>
                    </a:lnTo>
                    <a:lnTo>
                      <a:pt x="728" y="298"/>
                    </a:lnTo>
                    <a:lnTo>
                      <a:pt x="604" y="433"/>
                    </a:lnTo>
                    <a:lnTo>
                      <a:pt x="480" y="58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25"/>
              <p:cNvSpPr/>
              <p:nvPr/>
            </p:nvSpPr>
            <p:spPr>
              <a:xfrm>
                <a:off x="8003520" y="5388120"/>
                <a:ext cx="650880" cy="758520"/>
              </a:xfrm>
              <a:custGeom>
                <a:avLst/>
                <a:gdLst/>
                <a:ahLst/>
                <a:rect l="l" t="t" r="r" b="b"/>
                <a:pathLst>
                  <a:path w="5582" h="6499">
                    <a:moveTo>
                      <a:pt x="5219" y="46"/>
                    </a:moveTo>
                    <a:lnTo>
                      <a:pt x="5038" y="0"/>
                    </a:lnTo>
                    <a:lnTo>
                      <a:pt x="4870" y="12"/>
                    </a:lnTo>
                    <a:lnTo>
                      <a:pt x="4724" y="57"/>
                    </a:lnTo>
                    <a:lnTo>
                      <a:pt x="4618" y="110"/>
                    </a:lnTo>
                    <a:lnTo>
                      <a:pt x="4503" y="183"/>
                    </a:lnTo>
                    <a:lnTo>
                      <a:pt x="4388" y="269"/>
                    </a:lnTo>
                    <a:lnTo>
                      <a:pt x="4195" y="452"/>
                    </a:lnTo>
                    <a:lnTo>
                      <a:pt x="4033" y="648"/>
                    </a:lnTo>
                    <a:lnTo>
                      <a:pt x="3961" y="746"/>
                    </a:lnTo>
                    <a:lnTo>
                      <a:pt x="3862" y="900"/>
                    </a:lnTo>
                    <a:lnTo>
                      <a:pt x="3775" y="1045"/>
                    </a:lnTo>
                    <a:lnTo>
                      <a:pt x="3669" y="1232"/>
                    </a:lnTo>
                    <a:lnTo>
                      <a:pt x="3574" y="1394"/>
                    </a:lnTo>
                    <a:lnTo>
                      <a:pt x="3478" y="1528"/>
                    </a:lnTo>
                    <a:lnTo>
                      <a:pt x="3380" y="1663"/>
                    </a:lnTo>
                    <a:lnTo>
                      <a:pt x="3285" y="1826"/>
                    </a:lnTo>
                    <a:lnTo>
                      <a:pt x="3191" y="2006"/>
                    </a:lnTo>
                    <a:lnTo>
                      <a:pt x="3096" y="2196"/>
                    </a:lnTo>
                    <a:lnTo>
                      <a:pt x="3014" y="2381"/>
                    </a:lnTo>
                    <a:lnTo>
                      <a:pt x="2938" y="2556"/>
                    </a:lnTo>
                    <a:lnTo>
                      <a:pt x="2873" y="2706"/>
                    </a:lnTo>
                    <a:lnTo>
                      <a:pt x="2820" y="2824"/>
                    </a:lnTo>
                    <a:lnTo>
                      <a:pt x="2745" y="2989"/>
                    </a:lnTo>
                    <a:lnTo>
                      <a:pt x="2689" y="3120"/>
                    </a:lnTo>
                    <a:lnTo>
                      <a:pt x="2606" y="3298"/>
                    </a:lnTo>
                    <a:lnTo>
                      <a:pt x="2491" y="3436"/>
                    </a:lnTo>
                    <a:lnTo>
                      <a:pt x="2267" y="3609"/>
                    </a:lnTo>
                    <a:lnTo>
                      <a:pt x="2158" y="3685"/>
                    </a:lnTo>
                    <a:lnTo>
                      <a:pt x="2056" y="3765"/>
                    </a:lnTo>
                    <a:lnTo>
                      <a:pt x="1951" y="3837"/>
                    </a:lnTo>
                    <a:lnTo>
                      <a:pt x="1859" y="3926"/>
                    </a:lnTo>
                    <a:lnTo>
                      <a:pt x="1764" y="4003"/>
                    </a:lnTo>
                    <a:lnTo>
                      <a:pt x="1657" y="4109"/>
                    </a:lnTo>
                    <a:lnTo>
                      <a:pt x="1543" y="4224"/>
                    </a:lnTo>
                    <a:lnTo>
                      <a:pt x="1425" y="4327"/>
                    </a:lnTo>
                    <a:lnTo>
                      <a:pt x="1286" y="4464"/>
                    </a:lnTo>
                    <a:lnTo>
                      <a:pt x="1150" y="4590"/>
                    </a:lnTo>
                    <a:lnTo>
                      <a:pt x="1041" y="4698"/>
                    </a:lnTo>
                    <a:lnTo>
                      <a:pt x="989" y="4749"/>
                    </a:lnTo>
                    <a:lnTo>
                      <a:pt x="896" y="4835"/>
                    </a:lnTo>
                    <a:lnTo>
                      <a:pt x="782" y="4940"/>
                    </a:lnTo>
                    <a:lnTo>
                      <a:pt x="663" y="5068"/>
                    </a:lnTo>
                    <a:lnTo>
                      <a:pt x="548" y="5203"/>
                    </a:lnTo>
                    <a:lnTo>
                      <a:pt x="454" y="5341"/>
                    </a:lnTo>
                    <a:lnTo>
                      <a:pt x="394" y="5471"/>
                    </a:lnTo>
                    <a:lnTo>
                      <a:pt x="383" y="5586"/>
                    </a:lnTo>
                    <a:lnTo>
                      <a:pt x="241" y="5760"/>
                    </a:lnTo>
                    <a:lnTo>
                      <a:pt x="94" y="5939"/>
                    </a:lnTo>
                    <a:lnTo>
                      <a:pt x="0" y="6095"/>
                    </a:lnTo>
                    <a:lnTo>
                      <a:pt x="13" y="6199"/>
                    </a:lnTo>
                    <a:lnTo>
                      <a:pt x="612" y="6499"/>
                    </a:lnTo>
                    <a:lnTo>
                      <a:pt x="696" y="6424"/>
                    </a:lnTo>
                    <a:lnTo>
                      <a:pt x="1089" y="5932"/>
                    </a:lnTo>
                    <a:lnTo>
                      <a:pt x="1554" y="5633"/>
                    </a:lnTo>
                    <a:lnTo>
                      <a:pt x="2508" y="5062"/>
                    </a:lnTo>
                    <a:lnTo>
                      <a:pt x="3018" y="4625"/>
                    </a:lnTo>
                    <a:lnTo>
                      <a:pt x="3422" y="4257"/>
                    </a:lnTo>
                    <a:lnTo>
                      <a:pt x="4417" y="2788"/>
                    </a:lnTo>
                    <a:lnTo>
                      <a:pt x="5582" y="428"/>
                    </a:lnTo>
                    <a:lnTo>
                      <a:pt x="5505" y="287"/>
                    </a:lnTo>
                    <a:lnTo>
                      <a:pt x="5429" y="197"/>
                    </a:lnTo>
                    <a:lnTo>
                      <a:pt x="5341" y="127"/>
                    </a:lnTo>
                    <a:lnTo>
                      <a:pt x="521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26"/>
              <p:cNvSpPr/>
              <p:nvPr/>
            </p:nvSpPr>
            <p:spPr>
              <a:xfrm>
                <a:off x="8003520" y="5388120"/>
                <a:ext cx="650880" cy="758520"/>
              </a:xfrm>
              <a:custGeom>
                <a:avLst/>
                <a:gdLst/>
                <a:ahLst/>
                <a:rect l="l" t="t" r="r" b="b"/>
                <a:pathLst>
                  <a:path w="5582" h="6499">
                    <a:moveTo>
                      <a:pt x="5219" y="46"/>
                    </a:moveTo>
                    <a:lnTo>
                      <a:pt x="5038" y="0"/>
                    </a:lnTo>
                    <a:lnTo>
                      <a:pt x="4870" y="12"/>
                    </a:lnTo>
                    <a:lnTo>
                      <a:pt x="4724" y="57"/>
                    </a:lnTo>
                    <a:lnTo>
                      <a:pt x="4618" y="110"/>
                    </a:lnTo>
                    <a:lnTo>
                      <a:pt x="4503" y="183"/>
                    </a:lnTo>
                    <a:lnTo>
                      <a:pt x="4388" y="269"/>
                    </a:lnTo>
                    <a:lnTo>
                      <a:pt x="4195" y="452"/>
                    </a:lnTo>
                    <a:lnTo>
                      <a:pt x="4033" y="648"/>
                    </a:lnTo>
                    <a:lnTo>
                      <a:pt x="3961" y="746"/>
                    </a:lnTo>
                    <a:lnTo>
                      <a:pt x="3862" y="900"/>
                    </a:lnTo>
                    <a:lnTo>
                      <a:pt x="3775" y="1045"/>
                    </a:lnTo>
                    <a:lnTo>
                      <a:pt x="3669" y="1232"/>
                    </a:lnTo>
                    <a:lnTo>
                      <a:pt x="3574" y="1394"/>
                    </a:lnTo>
                    <a:lnTo>
                      <a:pt x="3478" y="1528"/>
                    </a:lnTo>
                    <a:lnTo>
                      <a:pt x="3380" y="1663"/>
                    </a:lnTo>
                    <a:lnTo>
                      <a:pt x="3285" y="1826"/>
                    </a:lnTo>
                    <a:lnTo>
                      <a:pt x="3191" y="2006"/>
                    </a:lnTo>
                    <a:lnTo>
                      <a:pt x="3096" y="2196"/>
                    </a:lnTo>
                    <a:lnTo>
                      <a:pt x="3014" y="2381"/>
                    </a:lnTo>
                    <a:lnTo>
                      <a:pt x="2938" y="2556"/>
                    </a:lnTo>
                    <a:lnTo>
                      <a:pt x="2873" y="2706"/>
                    </a:lnTo>
                    <a:lnTo>
                      <a:pt x="2820" y="2824"/>
                    </a:lnTo>
                    <a:lnTo>
                      <a:pt x="2745" y="2989"/>
                    </a:lnTo>
                    <a:lnTo>
                      <a:pt x="2689" y="3120"/>
                    </a:lnTo>
                    <a:lnTo>
                      <a:pt x="2606" y="3298"/>
                    </a:lnTo>
                    <a:lnTo>
                      <a:pt x="2491" y="3436"/>
                    </a:lnTo>
                    <a:lnTo>
                      <a:pt x="2267" y="3609"/>
                    </a:lnTo>
                    <a:lnTo>
                      <a:pt x="2158" y="3685"/>
                    </a:lnTo>
                    <a:lnTo>
                      <a:pt x="2056" y="3765"/>
                    </a:lnTo>
                    <a:lnTo>
                      <a:pt x="1951" y="3837"/>
                    </a:lnTo>
                    <a:lnTo>
                      <a:pt x="1859" y="3926"/>
                    </a:lnTo>
                    <a:lnTo>
                      <a:pt x="1764" y="4003"/>
                    </a:lnTo>
                    <a:lnTo>
                      <a:pt x="1657" y="4109"/>
                    </a:lnTo>
                    <a:lnTo>
                      <a:pt x="1543" y="4224"/>
                    </a:lnTo>
                    <a:lnTo>
                      <a:pt x="1425" y="4327"/>
                    </a:lnTo>
                    <a:lnTo>
                      <a:pt x="1286" y="4464"/>
                    </a:lnTo>
                    <a:lnTo>
                      <a:pt x="1150" y="4590"/>
                    </a:lnTo>
                    <a:lnTo>
                      <a:pt x="1041" y="4698"/>
                    </a:lnTo>
                    <a:lnTo>
                      <a:pt x="989" y="4749"/>
                    </a:lnTo>
                    <a:lnTo>
                      <a:pt x="896" y="4835"/>
                    </a:lnTo>
                    <a:lnTo>
                      <a:pt x="782" y="4940"/>
                    </a:lnTo>
                    <a:lnTo>
                      <a:pt x="663" y="5068"/>
                    </a:lnTo>
                    <a:lnTo>
                      <a:pt x="548" y="5203"/>
                    </a:lnTo>
                    <a:lnTo>
                      <a:pt x="454" y="5341"/>
                    </a:lnTo>
                    <a:lnTo>
                      <a:pt x="394" y="5471"/>
                    </a:lnTo>
                    <a:lnTo>
                      <a:pt x="383" y="5586"/>
                    </a:lnTo>
                    <a:lnTo>
                      <a:pt x="241" y="5760"/>
                    </a:lnTo>
                    <a:lnTo>
                      <a:pt x="94" y="5939"/>
                    </a:lnTo>
                    <a:lnTo>
                      <a:pt x="0" y="6095"/>
                    </a:lnTo>
                    <a:lnTo>
                      <a:pt x="13" y="6199"/>
                    </a:lnTo>
                    <a:lnTo>
                      <a:pt x="612" y="6499"/>
                    </a:lnTo>
                    <a:lnTo>
                      <a:pt x="696" y="6424"/>
                    </a:lnTo>
                    <a:lnTo>
                      <a:pt x="1089" y="5932"/>
                    </a:lnTo>
                    <a:lnTo>
                      <a:pt x="1554" y="5633"/>
                    </a:lnTo>
                    <a:lnTo>
                      <a:pt x="2508" y="5062"/>
                    </a:lnTo>
                    <a:lnTo>
                      <a:pt x="3018" y="4625"/>
                    </a:lnTo>
                    <a:lnTo>
                      <a:pt x="3422" y="4257"/>
                    </a:lnTo>
                    <a:lnTo>
                      <a:pt x="4417" y="2788"/>
                    </a:lnTo>
                    <a:lnTo>
                      <a:pt x="5582" y="428"/>
                    </a:lnTo>
                    <a:lnTo>
                      <a:pt x="5505" y="287"/>
                    </a:lnTo>
                    <a:lnTo>
                      <a:pt x="5429" y="197"/>
                    </a:lnTo>
                    <a:lnTo>
                      <a:pt x="5341" y="127"/>
                    </a:lnTo>
                    <a:lnTo>
                      <a:pt x="5219" y="4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27"/>
              <p:cNvSpPr/>
              <p:nvPr/>
            </p:nvSpPr>
            <p:spPr>
              <a:xfrm>
                <a:off x="8075160" y="5421600"/>
                <a:ext cx="591840" cy="727920"/>
              </a:xfrm>
              <a:custGeom>
                <a:avLst/>
                <a:gdLst/>
                <a:ahLst/>
                <a:rect l="l" t="t" r="r" b="b"/>
                <a:pathLst>
                  <a:path w="5078" h="6238">
                    <a:moveTo>
                      <a:pt x="4759" y="227"/>
                    </a:moveTo>
                    <a:lnTo>
                      <a:pt x="4681" y="465"/>
                    </a:lnTo>
                    <a:lnTo>
                      <a:pt x="4527" y="687"/>
                    </a:lnTo>
                    <a:lnTo>
                      <a:pt x="4459" y="853"/>
                    </a:lnTo>
                    <a:lnTo>
                      <a:pt x="4409" y="1056"/>
                    </a:lnTo>
                    <a:lnTo>
                      <a:pt x="4322" y="1297"/>
                    </a:lnTo>
                    <a:lnTo>
                      <a:pt x="4271" y="1424"/>
                    </a:lnTo>
                    <a:lnTo>
                      <a:pt x="4134" y="1499"/>
                    </a:lnTo>
                    <a:lnTo>
                      <a:pt x="4033" y="1650"/>
                    </a:lnTo>
                    <a:lnTo>
                      <a:pt x="3998" y="1760"/>
                    </a:lnTo>
                    <a:lnTo>
                      <a:pt x="3911" y="1888"/>
                    </a:lnTo>
                    <a:lnTo>
                      <a:pt x="3775" y="1983"/>
                    </a:lnTo>
                    <a:lnTo>
                      <a:pt x="3621" y="2107"/>
                    </a:lnTo>
                    <a:lnTo>
                      <a:pt x="3452" y="2237"/>
                    </a:lnTo>
                    <a:lnTo>
                      <a:pt x="3280" y="2347"/>
                    </a:lnTo>
                    <a:lnTo>
                      <a:pt x="3108" y="2425"/>
                    </a:lnTo>
                    <a:lnTo>
                      <a:pt x="3092" y="2551"/>
                    </a:lnTo>
                    <a:lnTo>
                      <a:pt x="3230" y="2570"/>
                    </a:lnTo>
                    <a:lnTo>
                      <a:pt x="3435" y="2461"/>
                    </a:lnTo>
                    <a:lnTo>
                      <a:pt x="3587" y="2347"/>
                    </a:lnTo>
                    <a:lnTo>
                      <a:pt x="3587" y="2474"/>
                    </a:lnTo>
                    <a:lnTo>
                      <a:pt x="3471" y="2662"/>
                    </a:lnTo>
                    <a:lnTo>
                      <a:pt x="3301" y="2793"/>
                    </a:lnTo>
                    <a:lnTo>
                      <a:pt x="3126" y="2920"/>
                    </a:lnTo>
                    <a:lnTo>
                      <a:pt x="2990" y="3069"/>
                    </a:lnTo>
                    <a:lnTo>
                      <a:pt x="2940" y="3252"/>
                    </a:lnTo>
                    <a:lnTo>
                      <a:pt x="3009" y="3344"/>
                    </a:lnTo>
                    <a:lnTo>
                      <a:pt x="2990" y="3478"/>
                    </a:lnTo>
                    <a:lnTo>
                      <a:pt x="2905" y="3604"/>
                    </a:lnTo>
                    <a:lnTo>
                      <a:pt x="2836" y="3755"/>
                    </a:lnTo>
                    <a:lnTo>
                      <a:pt x="2752" y="3918"/>
                    </a:lnTo>
                    <a:lnTo>
                      <a:pt x="2616" y="4049"/>
                    </a:lnTo>
                    <a:lnTo>
                      <a:pt x="2409" y="4123"/>
                    </a:lnTo>
                    <a:lnTo>
                      <a:pt x="2254" y="4088"/>
                    </a:lnTo>
                    <a:lnTo>
                      <a:pt x="2254" y="4159"/>
                    </a:lnTo>
                    <a:lnTo>
                      <a:pt x="2309" y="4270"/>
                    </a:lnTo>
                    <a:lnTo>
                      <a:pt x="2204" y="4346"/>
                    </a:lnTo>
                    <a:lnTo>
                      <a:pt x="2066" y="4491"/>
                    </a:lnTo>
                    <a:lnTo>
                      <a:pt x="1964" y="4639"/>
                    </a:lnTo>
                    <a:lnTo>
                      <a:pt x="1709" y="4806"/>
                    </a:lnTo>
                    <a:lnTo>
                      <a:pt x="1555" y="4900"/>
                    </a:lnTo>
                    <a:lnTo>
                      <a:pt x="1334" y="5007"/>
                    </a:lnTo>
                    <a:lnTo>
                      <a:pt x="1125" y="5119"/>
                    </a:lnTo>
                    <a:lnTo>
                      <a:pt x="886" y="5284"/>
                    </a:lnTo>
                    <a:lnTo>
                      <a:pt x="648" y="5434"/>
                    </a:lnTo>
                    <a:lnTo>
                      <a:pt x="551" y="5531"/>
                    </a:lnTo>
                    <a:lnTo>
                      <a:pt x="484" y="5552"/>
                    </a:lnTo>
                    <a:lnTo>
                      <a:pt x="396" y="5568"/>
                    </a:lnTo>
                    <a:lnTo>
                      <a:pt x="239" y="5768"/>
                    </a:lnTo>
                    <a:lnTo>
                      <a:pt x="102" y="6008"/>
                    </a:lnTo>
                    <a:lnTo>
                      <a:pt x="0" y="6136"/>
                    </a:lnTo>
                    <a:lnTo>
                      <a:pt x="7" y="6212"/>
                    </a:lnTo>
                    <a:lnTo>
                      <a:pt x="58" y="6238"/>
                    </a:lnTo>
                    <a:lnTo>
                      <a:pt x="113" y="6217"/>
                    </a:lnTo>
                    <a:lnTo>
                      <a:pt x="182" y="6156"/>
                    </a:lnTo>
                    <a:lnTo>
                      <a:pt x="251" y="6071"/>
                    </a:lnTo>
                    <a:lnTo>
                      <a:pt x="319" y="5963"/>
                    </a:lnTo>
                    <a:lnTo>
                      <a:pt x="385" y="5864"/>
                    </a:lnTo>
                    <a:lnTo>
                      <a:pt x="443" y="5773"/>
                    </a:lnTo>
                    <a:lnTo>
                      <a:pt x="488" y="5708"/>
                    </a:lnTo>
                    <a:lnTo>
                      <a:pt x="544" y="5702"/>
                    </a:lnTo>
                    <a:lnTo>
                      <a:pt x="614" y="5669"/>
                    </a:lnTo>
                    <a:lnTo>
                      <a:pt x="698" y="5617"/>
                    </a:lnTo>
                    <a:lnTo>
                      <a:pt x="792" y="5552"/>
                    </a:lnTo>
                    <a:lnTo>
                      <a:pt x="900" y="5469"/>
                    </a:lnTo>
                    <a:lnTo>
                      <a:pt x="1013" y="5388"/>
                    </a:lnTo>
                    <a:lnTo>
                      <a:pt x="1135" y="5299"/>
                    </a:lnTo>
                    <a:lnTo>
                      <a:pt x="1255" y="5214"/>
                    </a:lnTo>
                    <a:lnTo>
                      <a:pt x="1513" y="5054"/>
                    </a:lnTo>
                    <a:lnTo>
                      <a:pt x="1775" y="4934"/>
                    </a:lnTo>
                    <a:lnTo>
                      <a:pt x="1997" y="4830"/>
                    </a:lnTo>
                    <a:lnTo>
                      <a:pt x="2115" y="4685"/>
                    </a:lnTo>
                    <a:lnTo>
                      <a:pt x="2262" y="4521"/>
                    </a:lnTo>
                    <a:lnTo>
                      <a:pt x="2341" y="4471"/>
                    </a:lnTo>
                    <a:lnTo>
                      <a:pt x="2428" y="4464"/>
                    </a:lnTo>
                    <a:lnTo>
                      <a:pt x="2536" y="4462"/>
                    </a:lnTo>
                    <a:lnTo>
                      <a:pt x="2691" y="4339"/>
                    </a:lnTo>
                    <a:lnTo>
                      <a:pt x="2797" y="4219"/>
                    </a:lnTo>
                    <a:lnTo>
                      <a:pt x="2969" y="4053"/>
                    </a:lnTo>
                    <a:lnTo>
                      <a:pt x="3102" y="3897"/>
                    </a:lnTo>
                    <a:lnTo>
                      <a:pt x="3237" y="3716"/>
                    </a:lnTo>
                    <a:lnTo>
                      <a:pt x="3368" y="3536"/>
                    </a:lnTo>
                    <a:lnTo>
                      <a:pt x="3491" y="3380"/>
                    </a:lnTo>
                    <a:lnTo>
                      <a:pt x="3641" y="3191"/>
                    </a:lnTo>
                    <a:lnTo>
                      <a:pt x="3854" y="2946"/>
                    </a:lnTo>
                    <a:lnTo>
                      <a:pt x="4014" y="2770"/>
                    </a:lnTo>
                    <a:lnTo>
                      <a:pt x="4152" y="2587"/>
                    </a:lnTo>
                    <a:lnTo>
                      <a:pt x="4208" y="2501"/>
                    </a:lnTo>
                    <a:lnTo>
                      <a:pt x="4322" y="2323"/>
                    </a:lnTo>
                    <a:lnTo>
                      <a:pt x="4445" y="2162"/>
                    </a:lnTo>
                    <a:lnTo>
                      <a:pt x="4568" y="2011"/>
                    </a:lnTo>
                    <a:lnTo>
                      <a:pt x="4684" y="1857"/>
                    </a:lnTo>
                    <a:lnTo>
                      <a:pt x="4785" y="1679"/>
                    </a:lnTo>
                    <a:lnTo>
                      <a:pt x="4868" y="1484"/>
                    </a:lnTo>
                    <a:lnTo>
                      <a:pt x="4938" y="1277"/>
                    </a:lnTo>
                    <a:lnTo>
                      <a:pt x="5012" y="1023"/>
                    </a:lnTo>
                    <a:lnTo>
                      <a:pt x="5078" y="765"/>
                    </a:lnTo>
                    <a:lnTo>
                      <a:pt x="5078" y="409"/>
                    </a:lnTo>
                    <a:lnTo>
                      <a:pt x="5062" y="240"/>
                    </a:lnTo>
                    <a:lnTo>
                      <a:pt x="4977" y="141"/>
                    </a:lnTo>
                    <a:lnTo>
                      <a:pt x="4900" y="0"/>
                    </a:lnTo>
                    <a:lnTo>
                      <a:pt x="4821" y="111"/>
                    </a:lnTo>
                    <a:lnTo>
                      <a:pt x="4759" y="227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28"/>
              <p:cNvSpPr/>
              <p:nvPr/>
            </p:nvSpPr>
            <p:spPr>
              <a:xfrm>
                <a:off x="8075160" y="5421600"/>
                <a:ext cx="591840" cy="727920"/>
              </a:xfrm>
              <a:custGeom>
                <a:avLst/>
                <a:gdLst/>
                <a:ahLst/>
                <a:rect l="l" t="t" r="r" b="b"/>
                <a:pathLst>
                  <a:path w="5078" h="6238">
                    <a:moveTo>
                      <a:pt x="4759" y="227"/>
                    </a:moveTo>
                    <a:lnTo>
                      <a:pt x="4681" y="465"/>
                    </a:lnTo>
                    <a:lnTo>
                      <a:pt x="4527" y="687"/>
                    </a:lnTo>
                    <a:lnTo>
                      <a:pt x="4459" y="853"/>
                    </a:lnTo>
                    <a:lnTo>
                      <a:pt x="4409" y="1056"/>
                    </a:lnTo>
                    <a:lnTo>
                      <a:pt x="4322" y="1297"/>
                    </a:lnTo>
                    <a:lnTo>
                      <a:pt x="4271" y="1424"/>
                    </a:lnTo>
                    <a:lnTo>
                      <a:pt x="4134" y="1499"/>
                    </a:lnTo>
                    <a:lnTo>
                      <a:pt x="4033" y="1650"/>
                    </a:lnTo>
                    <a:lnTo>
                      <a:pt x="3998" y="1760"/>
                    </a:lnTo>
                    <a:lnTo>
                      <a:pt x="3911" y="1888"/>
                    </a:lnTo>
                    <a:lnTo>
                      <a:pt x="3775" y="1983"/>
                    </a:lnTo>
                    <a:lnTo>
                      <a:pt x="3621" y="2107"/>
                    </a:lnTo>
                    <a:lnTo>
                      <a:pt x="3452" y="2237"/>
                    </a:lnTo>
                    <a:lnTo>
                      <a:pt x="3280" y="2347"/>
                    </a:lnTo>
                    <a:lnTo>
                      <a:pt x="3108" y="2425"/>
                    </a:lnTo>
                    <a:lnTo>
                      <a:pt x="3092" y="2551"/>
                    </a:lnTo>
                    <a:lnTo>
                      <a:pt x="3230" y="2570"/>
                    </a:lnTo>
                    <a:lnTo>
                      <a:pt x="3435" y="2461"/>
                    </a:lnTo>
                    <a:lnTo>
                      <a:pt x="3587" y="2347"/>
                    </a:lnTo>
                    <a:lnTo>
                      <a:pt x="3587" y="2474"/>
                    </a:lnTo>
                    <a:lnTo>
                      <a:pt x="3471" y="2662"/>
                    </a:lnTo>
                    <a:lnTo>
                      <a:pt x="3301" y="2793"/>
                    </a:lnTo>
                    <a:lnTo>
                      <a:pt x="3126" y="2920"/>
                    </a:lnTo>
                    <a:lnTo>
                      <a:pt x="2990" y="3069"/>
                    </a:lnTo>
                    <a:lnTo>
                      <a:pt x="2940" y="3252"/>
                    </a:lnTo>
                    <a:lnTo>
                      <a:pt x="3009" y="3344"/>
                    </a:lnTo>
                    <a:lnTo>
                      <a:pt x="2990" y="3478"/>
                    </a:lnTo>
                    <a:lnTo>
                      <a:pt x="2905" y="3604"/>
                    </a:lnTo>
                    <a:lnTo>
                      <a:pt x="2836" y="3755"/>
                    </a:lnTo>
                    <a:lnTo>
                      <a:pt x="2752" y="3918"/>
                    </a:lnTo>
                    <a:lnTo>
                      <a:pt x="2616" y="4049"/>
                    </a:lnTo>
                    <a:lnTo>
                      <a:pt x="2409" y="4123"/>
                    </a:lnTo>
                    <a:lnTo>
                      <a:pt x="2254" y="4088"/>
                    </a:lnTo>
                    <a:lnTo>
                      <a:pt x="2254" y="4159"/>
                    </a:lnTo>
                    <a:lnTo>
                      <a:pt x="2309" y="4270"/>
                    </a:lnTo>
                    <a:lnTo>
                      <a:pt x="2204" y="4346"/>
                    </a:lnTo>
                    <a:lnTo>
                      <a:pt x="2066" y="4491"/>
                    </a:lnTo>
                    <a:lnTo>
                      <a:pt x="1964" y="4639"/>
                    </a:lnTo>
                    <a:lnTo>
                      <a:pt x="1709" y="4806"/>
                    </a:lnTo>
                    <a:lnTo>
                      <a:pt x="1555" y="4900"/>
                    </a:lnTo>
                    <a:lnTo>
                      <a:pt x="1334" y="5007"/>
                    </a:lnTo>
                    <a:lnTo>
                      <a:pt x="1125" y="5119"/>
                    </a:lnTo>
                    <a:lnTo>
                      <a:pt x="886" y="5284"/>
                    </a:lnTo>
                    <a:lnTo>
                      <a:pt x="648" y="5434"/>
                    </a:lnTo>
                    <a:lnTo>
                      <a:pt x="551" y="5531"/>
                    </a:lnTo>
                    <a:lnTo>
                      <a:pt x="484" y="5552"/>
                    </a:lnTo>
                    <a:lnTo>
                      <a:pt x="396" y="5568"/>
                    </a:lnTo>
                    <a:lnTo>
                      <a:pt x="239" y="5768"/>
                    </a:lnTo>
                    <a:lnTo>
                      <a:pt x="102" y="6008"/>
                    </a:lnTo>
                    <a:lnTo>
                      <a:pt x="0" y="6136"/>
                    </a:lnTo>
                    <a:lnTo>
                      <a:pt x="7" y="6212"/>
                    </a:lnTo>
                    <a:lnTo>
                      <a:pt x="58" y="6238"/>
                    </a:lnTo>
                    <a:lnTo>
                      <a:pt x="113" y="6217"/>
                    </a:lnTo>
                    <a:lnTo>
                      <a:pt x="182" y="6156"/>
                    </a:lnTo>
                    <a:lnTo>
                      <a:pt x="251" y="6071"/>
                    </a:lnTo>
                    <a:lnTo>
                      <a:pt x="319" y="5963"/>
                    </a:lnTo>
                    <a:lnTo>
                      <a:pt x="385" y="5864"/>
                    </a:lnTo>
                    <a:lnTo>
                      <a:pt x="443" y="5773"/>
                    </a:lnTo>
                    <a:lnTo>
                      <a:pt x="488" y="5708"/>
                    </a:lnTo>
                    <a:lnTo>
                      <a:pt x="544" y="5702"/>
                    </a:lnTo>
                    <a:lnTo>
                      <a:pt x="614" y="5669"/>
                    </a:lnTo>
                    <a:lnTo>
                      <a:pt x="698" y="5617"/>
                    </a:lnTo>
                    <a:lnTo>
                      <a:pt x="792" y="5552"/>
                    </a:lnTo>
                    <a:lnTo>
                      <a:pt x="900" y="5469"/>
                    </a:lnTo>
                    <a:lnTo>
                      <a:pt x="1013" y="5388"/>
                    </a:lnTo>
                    <a:lnTo>
                      <a:pt x="1135" y="5299"/>
                    </a:lnTo>
                    <a:lnTo>
                      <a:pt x="1255" y="5214"/>
                    </a:lnTo>
                    <a:lnTo>
                      <a:pt x="1513" y="5054"/>
                    </a:lnTo>
                    <a:lnTo>
                      <a:pt x="1775" y="4934"/>
                    </a:lnTo>
                    <a:lnTo>
                      <a:pt x="1997" y="4830"/>
                    </a:lnTo>
                    <a:lnTo>
                      <a:pt x="2115" y="4685"/>
                    </a:lnTo>
                    <a:lnTo>
                      <a:pt x="2262" y="4521"/>
                    </a:lnTo>
                    <a:lnTo>
                      <a:pt x="2341" y="4471"/>
                    </a:lnTo>
                    <a:lnTo>
                      <a:pt x="2428" y="4464"/>
                    </a:lnTo>
                    <a:lnTo>
                      <a:pt x="2536" y="4462"/>
                    </a:lnTo>
                    <a:lnTo>
                      <a:pt x="2691" y="4339"/>
                    </a:lnTo>
                    <a:lnTo>
                      <a:pt x="2797" y="4219"/>
                    </a:lnTo>
                    <a:lnTo>
                      <a:pt x="2969" y="4053"/>
                    </a:lnTo>
                    <a:lnTo>
                      <a:pt x="3102" y="3897"/>
                    </a:lnTo>
                    <a:lnTo>
                      <a:pt x="3237" y="3716"/>
                    </a:lnTo>
                    <a:lnTo>
                      <a:pt x="3368" y="3536"/>
                    </a:lnTo>
                    <a:lnTo>
                      <a:pt x="3491" y="3380"/>
                    </a:lnTo>
                    <a:lnTo>
                      <a:pt x="3641" y="3191"/>
                    </a:lnTo>
                    <a:lnTo>
                      <a:pt x="3854" y="2946"/>
                    </a:lnTo>
                    <a:lnTo>
                      <a:pt x="4014" y="2770"/>
                    </a:lnTo>
                    <a:lnTo>
                      <a:pt x="4152" y="2587"/>
                    </a:lnTo>
                    <a:lnTo>
                      <a:pt x="4208" y="2501"/>
                    </a:lnTo>
                    <a:lnTo>
                      <a:pt x="4322" y="2323"/>
                    </a:lnTo>
                    <a:lnTo>
                      <a:pt x="4445" y="2162"/>
                    </a:lnTo>
                    <a:lnTo>
                      <a:pt x="4568" y="2011"/>
                    </a:lnTo>
                    <a:lnTo>
                      <a:pt x="4684" y="1857"/>
                    </a:lnTo>
                    <a:lnTo>
                      <a:pt x="4785" y="1679"/>
                    </a:lnTo>
                    <a:lnTo>
                      <a:pt x="4868" y="1484"/>
                    </a:lnTo>
                    <a:lnTo>
                      <a:pt x="4938" y="1277"/>
                    </a:lnTo>
                    <a:lnTo>
                      <a:pt x="5012" y="1023"/>
                    </a:lnTo>
                    <a:lnTo>
                      <a:pt x="5078" y="765"/>
                    </a:lnTo>
                    <a:lnTo>
                      <a:pt x="5078" y="409"/>
                    </a:lnTo>
                    <a:lnTo>
                      <a:pt x="5062" y="240"/>
                    </a:lnTo>
                    <a:lnTo>
                      <a:pt x="4977" y="141"/>
                    </a:lnTo>
                    <a:lnTo>
                      <a:pt x="4900" y="0"/>
                    </a:lnTo>
                    <a:lnTo>
                      <a:pt x="4821" y="111"/>
                    </a:lnTo>
                    <a:lnTo>
                      <a:pt x="4759" y="2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29"/>
              <p:cNvSpPr/>
              <p:nvPr/>
            </p:nvSpPr>
            <p:spPr>
              <a:xfrm>
                <a:off x="8573400" y="5378400"/>
                <a:ext cx="155160" cy="6840"/>
              </a:xfrm>
              <a:custGeom>
                <a:avLst/>
                <a:gdLst/>
                <a:ahLst/>
                <a:rect l="l" t="t" r="r" b="b"/>
                <a:pathLst>
                  <a:path w="1327" h="68">
                    <a:moveTo>
                      <a:pt x="0" y="68"/>
                    </a:moveTo>
                    <a:lnTo>
                      <a:pt x="160" y="51"/>
                    </a:lnTo>
                    <a:lnTo>
                      <a:pt x="326" y="39"/>
                    </a:lnTo>
                    <a:lnTo>
                      <a:pt x="493" y="37"/>
                    </a:lnTo>
                    <a:lnTo>
                      <a:pt x="663" y="37"/>
                    </a:lnTo>
                    <a:lnTo>
                      <a:pt x="832" y="37"/>
                    </a:lnTo>
                    <a:lnTo>
                      <a:pt x="1000" y="32"/>
                    </a:lnTo>
                    <a:lnTo>
                      <a:pt x="1164" y="22"/>
                    </a:lnTo>
                    <a:lnTo>
                      <a:pt x="1327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30"/>
              <p:cNvSpPr/>
              <p:nvPr/>
            </p:nvSpPr>
            <p:spPr>
              <a:xfrm>
                <a:off x="8618040" y="5381280"/>
                <a:ext cx="55800" cy="15120"/>
              </a:xfrm>
              <a:custGeom>
                <a:avLst/>
                <a:gdLst/>
                <a:ahLst/>
                <a:rect l="l" t="t" r="r" b="b"/>
                <a:pathLst>
                  <a:path w="476" h="132">
                    <a:moveTo>
                      <a:pt x="476" y="0"/>
                    </a:moveTo>
                    <a:lnTo>
                      <a:pt x="346" y="37"/>
                    </a:lnTo>
                    <a:lnTo>
                      <a:pt x="160" y="87"/>
                    </a:lnTo>
                    <a:lnTo>
                      <a:pt x="0" y="13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431"/>
              <p:cNvSpPr/>
              <p:nvPr/>
            </p:nvSpPr>
            <p:spPr>
              <a:xfrm>
                <a:off x="8676720" y="5407560"/>
                <a:ext cx="32040" cy="64440"/>
              </a:xfrm>
              <a:custGeom>
                <a:avLst/>
                <a:gdLst/>
                <a:ahLst/>
                <a:rect l="l" t="t" r="r" b="b"/>
                <a:pathLst>
                  <a:path w="271" h="554">
                    <a:moveTo>
                      <a:pt x="0" y="0"/>
                    </a:moveTo>
                    <a:lnTo>
                      <a:pt x="94" y="58"/>
                    </a:lnTo>
                    <a:lnTo>
                      <a:pt x="169" y="155"/>
                    </a:lnTo>
                    <a:lnTo>
                      <a:pt x="219" y="265"/>
                    </a:lnTo>
                    <a:lnTo>
                      <a:pt x="249" y="381"/>
                    </a:lnTo>
                    <a:lnTo>
                      <a:pt x="271" y="55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32"/>
              <p:cNvSpPr/>
              <p:nvPr/>
            </p:nvSpPr>
            <p:spPr>
              <a:xfrm>
                <a:off x="8448480" y="5428800"/>
                <a:ext cx="111960" cy="76680"/>
              </a:xfrm>
              <a:custGeom>
                <a:avLst/>
                <a:gdLst/>
                <a:ahLst/>
                <a:rect l="l" t="t" r="r" b="b"/>
                <a:pathLst>
                  <a:path w="962" h="658">
                    <a:moveTo>
                      <a:pt x="962" y="0"/>
                    </a:moveTo>
                    <a:lnTo>
                      <a:pt x="852" y="144"/>
                    </a:lnTo>
                    <a:lnTo>
                      <a:pt x="704" y="257"/>
                    </a:lnTo>
                    <a:lnTo>
                      <a:pt x="542" y="354"/>
                    </a:lnTo>
                    <a:lnTo>
                      <a:pt x="386" y="450"/>
                    </a:lnTo>
                    <a:lnTo>
                      <a:pt x="300" y="512"/>
                    </a:lnTo>
                    <a:lnTo>
                      <a:pt x="205" y="576"/>
                    </a:lnTo>
                    <a:lnTo>
                      <a:pt x="109" y="630"/>
                    </a:lnTo>
                    <a:lnTo>
                      <a:pt x="0" y="65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33"/>
              <p:cNvSpPr/>
              <p:nvPr/>
            </p:nvSpPr>
            <p:spPr>
              <a:xfrm>
                <a:off x="8460000" y="5533560"/>
                <a:ext cx="86400" cy="83880"/>
              </a:xfrm>
              <a:custGeom>
                <a:avLst/>
                <a:gdLst/>
                <a:ahLst/>
                <a:rect l="l" t="t" r="r" b="b"/>
                <a:pathLst>
                  <a:path w="739" h="726">
                    <a:moveTo>
                      <a:pt x="739" y="0"/>
                    </a:moveTo>
                    <a:lnTo>
                      <a:pt x="732" y="171"/>
                    </a:lnTo>
                    <a:lnTo>
                      <a:pt x="666" y="346"/>
                    </a:lnTo>
                    <a:lnTo>
                      <a:pt x="561" y="491"/>
                    </a:lnTo>
                    <a:lnTo>
                      <a:pt x="418" y="589"/>
                    </a:lnTo>
                    <a:lnTo>
                      <a:pt x="318" y="632"/>
                    </a:lnTo>
                    <a:lnTo>
                      <a:pt x="217" y="679"/>
                    </a:lnTo>
                    <a:lnTo>
                      <a:pt x="116" y="712"/>
                    </a:lnTo>
                    <a:lnTo>
                      <a:pt x="0" y="72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34"/>
              <p:cNvSpPr/>
              <p:nvPr/>
            </p:nvSpPr>
            <p:spPr>
              <a:xfrm>
                <a:off x="8577360" y="5501520"/>
                <a:ext cx="65520" cy="192960"/>
              </a:xfrm>
              <a:custGeom>
                <a:avLst/>
                <a:gdLst/>
                <a:ahLst/>
                <a:rect l="l" t="t" r="r" b="b"/>
                <a:pathLst>
                  <a:path w="556" h="1662">
                    <a:moveTo>
                      <a:pt x="556" y="0"/>
                    </a:moveTo>
                    <a:lnTo>
                      <a:pt x="550" y="195"/>
                    </a:lnTo>
                    <a:lnTo>
                      <a:pt x="502" y="406"/>
                    </a:lnTo>
                    <a:lnTo>
                      <a:pt x="418" y="620"/>
                    </a:lnTo>
                    <a:lnTo>
                      <a:pt x="318" y="841"/>
                    </a:lnTo>
                    <a:lnTo>
                      <a:pt x="212" y="1060"/>
                    </a:lnTo>
                    <a:lnTo>
                      <a:pt x="114" y="1269"/>
                    </a:lnTo>
                    <a:lnTo>
                      <a:pt x="39" y="1471"/>
                    </a:lnTo>
                    <a:lnTo>
                      <a:pt x="0" y="166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35"/>
              <p:cNvSpPr/>
              <p:nvPr/>
            </p:nvSpPr>
            <p:spPr>
              <a:xfrm>
                <a:off x="8492040" y="565668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374" h="345">
                    <a:moveTo>
                      <a:pt x="374" y="0"/>
                    </a:moveTo>
                    <a:lnTo>
                      <a:pt x="348" y="13"/>
                    </a:lnTo>
                    <a:lnTo>
                      <a:pt x="333" y="21"/>
                    </a:lnTo>
                    <a:lnTo>
                      <a:pt x="325" y="32"/>
                    </a:lnTo>
                    <a:lnTo>
                      <a:pt x="310" y="37"/>
                    </a:lnTo>
                    <a:lnTo>
                      <a:pt x="297" y="49"/>
                    </a:lnTo>
                    <a:lnTo>
                      <a:pt x="288" y="61"/>
                    </a:lnTo>
                    <a:lnTo>
                      <a:pt x="274" y="73"/>
                    </a:lnTo>
                    <a:lnTo>
                      <a:pt x="262" y="87"/>
                    </a:lnTo>
                    <a:lnTo>
                      <a:pt x="253" y="98"/>
                    </a:lnTo>
                    <a:lnTo>
                      <a:pt x="241" y="111"/>
                    </a:lnTo>
                    <a:lnTo>
                      <a:pt x="230" y="123"/>
                    </a:lnTo>
                    <a:lnTo>
                      <a:pt x="219" y="138"/>
                    </a:lnTo>
                    <a:lnTo>
                      <a:pt x="208" y="152"/>
                    </a:lnTo>
                    <a:lnTo>
                      <a:pt x="197" y="167"/>
                    </a:lnTo>
                    <a:lnTo>
                      <a:pt x="188" y="184"/>
                    </a:lnTo>
                    <a:lnTo>
                      <a:pt x="175" y="194"/>
                    </a:lnTo>
                    <a:lnTo>
                      <a:pt x="165" y="210"/>
                    </a:lnTo>
                    <a:lnTo>
                      <a:pt x="151" y="225"/>
                    </a:lnTo>
                    <a:lnTo>
                      <a:pt x="143" y="238"/>
                    </a:lnTo>
                    <a:lnTo>
                      <a:pt x="129" y="253"/>
                    </a:lnTo>
                    <a:lnTo>
                      <a:pt x="118" y="262"/>
                    </a:lnTo>
                    <a:lnTo>
                      <a:pt x="106" y="273"/>
                    </a:lnTo>
                    <a:lnTo>
                      <a:pt x="96" y="288"/>
                    </a:lnTo>
                    <a:lnTo>
                      <a:pt x="85" y="297"/>
                    </a:lnTo>
                    <a:lnTo>
                      <a:pt x="69" y="311"/>
                    </a:lnTo>
                    <a:lnTo>
                      <a:pt x="57" y="318"/>
                    </a:lnTo>
                    <a:lnTo>
                      <a:pt x="43" y="326"/>
                    </a:lnTo>
                    <a:lnTo>
                      <a:pt x="31" y="333"/>
                    </a:lnTo>
                    <a:lnTo>
                      <a:pt x="16" y="337"/>
                    </a:lnTo>
                    <a:lnTo>
                      <a:pt x="0" y="34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36"/>
              <p:cNvSpPr/>
              <p:nvPr/>
            </p:nvSpPr>
            <p:spPr>
              <a:xfrm>
                <a:off x="8386920" y="5708880"/>
                <a:ext cx="47520" cy="15120"/>
              </a:xfrm>
              <a:custGeom>
                <a:avLst/>
                <a:gdLst/>
                <a:ahLst/>
                <a:rect l="l" t="t" r="r" b="b"/>
                <a:pathLst>
                  <a:path w="401" h="132">
                    <a:moveTo>
                      <a:pt x="401" y="0"/>
                    </a:moveTo>
                    <a:lnTo>
                      <a:pt x="292" y="35"/>
                    </a:lnTo>
                    <a:lnTo>
                      <a:pt x="202" y="59"/>
                    </a:lnTo>
                    <a:lnTo>
                      <a:pt x="107" y="84"/>
                    </a:lnTo>
                    <a:lnTo>
                      <a:pt x="0" y="13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437"/>
              <p:cNvSpPr/>
              <p:nvPr/>
            </p:nvSpPr>
            <p:spPr>
              <a:xfrm>
                <a:off x="8343720" y="568476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32" h="543">
                    <a:moveTo>
                      <a:pt x="24" y="0"/>
                    </a:moveTo>
                    <a:lnTo>
                      <a:pt x="12" y="123"/>
                    </a:lnTo>
                    <a:lnTo>
                      <a:pt x="0" y="270"/>
                    </a:lnTo>
                    <a:lnTo>
                      <a:pt x="5" y="416"/>
                    </a:lnTo>
                    <a:lnTo>
                      <a:pt x="32" y="54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438"/>
              <p:cNvSpPr/>
              <p:nvPr/>
            </p:nvSpPr>
            <p:spPr>
              <a:xfrm>
                <a:off x="8301600" y="5784480"/>
                <a:ext cx="39240" cy="24840"/>
              </a:xfrm>
              <a:custGeom>
                <a:avLst/>
                <a:gdLst/>
                <a:ahLst/>
                <a:rect l="l" t="t" r="r" b="b"/>
                <a:pathLst>
                  <a:path w="334" h="211">
                    <a:moveTo>
                      <a:pt x="0" y="0"/>
                    </a:moveTo>
                    <a:lnTo>
                      <a:pt x="51" y="72"/>
                    </a:lnTo>
                    <a:lnTo>
                      <a:pt x="138" y="141"/>
                    </a:lnTo>
                    <a:lnTo>
                      <a:pt x="236" y="190"/>
                    </a:lnTo>
                    <a:lnTo>
                      <a:pt x="334" y="21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39"/>
              <p:cNvSpPr/>
              <p:nvPr/>
            </p:nvSpPr>
            <p:spPr>
              <a:xfrm>
                <a:off x="8317080" y="5752080"/>
                <a:ext cx="9720" cy="29520"/>
              </a:xfrm>
              <a:custGeom>
                <a:avLst/>
                <a:gdLst/>
                <a:ahLst/>
                <a:rect l="l" t="t" r="r" b="b"/>
                <a:pathLst>
                  <a:path w="81" h="241">
                    <a:moveTo>
                      <a:pt x="0" y="0"/>
                    </a:moveTo>
                    <a:lnTo>
                      <a:pt x="28" y="125"/>
                    </a:lnTo>
                    <a:lnTo>
                      <a:pt x="81" y="24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440"/>
              <p:cNvSpPr/>
              <p:nvPr/>
            </p:nvSpPr>
            <p:spPr>
              <a:xfrm>
                <a:off x="8375760" y="5729760"/>
                <a:ext cx="127080" cy="93600"/>
              </a:xfrm>
              <a:custGeom>
                <a:avLst/>
                <a:gdLst/>
                <a:ahLst/>
                <a:rect l="l" t="t" r="r" b="b"/>
                <a:pathLst>
                  <a:path w="1094" h="800">
                    <a:moveTo>
                      <a:pt x="1094" y="0"/>
                    </a:moveTo>
                    <a:lnTo>
                      <a:pt x="934" y="226"/>
                    </a:lnTo>
                    <a:lnTo>
                      <a:pt x="758" y="455"/>
                    </a:lnTo>
                    <a:lnTo>
                      <a:pt x="674" y="574"/>
                    </a:lnTo>
                    <a:lnTo>
                      <a:pt x="580" y="664"/>
                    </a:lnTo>
                    <a:lnTo>
                      <a:pt x="408" y="705"/>
                    </a:lnTo>
                    <a:lnTo>
                      <a:pt x="226" y="736"/>
                    </a:lnTo>
                    <a:lnTo>
                      <a:pt x="110" y="774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41"/>
              <p:cNvSpPr/>
              <p:nvPr/>
            </p:nvSpPr>
            <p:spPr>
              <a:xfrm>
                <a:off x="8514360" y="5722560"/>
                <a:ext cx="62640" cy="54360"/>
              </a:xfrm>
              <a:custGeom>
                <a:avLst/>
                <a:gdLst/>
                <a:ahLst/>
                <a:rect l="l" t="t" r="r" b="b"/>
                <a:pathLst>
                  <a:path w="540" h="471">
                    <a:moveTo>
                      <a:pt x="0" y="471"/>
                    </a:moveTo>
                    <a:lnTo>
                      <a:pt x="118" y="465"/>
                    </a:lnTo>
                    <a:lnTo>
                      <a:pt x="228" y="433"/>
                    </a:lnTo>
                    <a:lnTo>
                      <a:pt x="325" y="354"/>
                    </a:lnTo>
                    <a:lnTo>
                      <a:pt x="398" y="238"/>
                    </a:lnTo>
                    <a:lnTo>
                      <a:pt x="463" y="116"/>
                    </a:lnTo>
                    <a:lnTo>
                      <a:pt x="540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42"/>
              <p:cNvSpPr/>
              <p:nvPr/>
            </p:nvSpPr>
            <p:spPr>
              <a:xfrm>
                <a:off x="8468280" y="5803560"/>
                <a:ext cx="82440" cy="33480"/>
              </a:xfrm>
              <a:custGeom>
                <a:avLst/>
                <a:gdLst/>
                <a:ahLst/>
                <a:rect l="l" t="t" r="r" b="b"/>
                <a:pathLst>
                  <a:path w="713" h="296">
                    <a:moveTo>
                      <a:pt x="0" y="296"/>
                    </a:moveTo>
                    <a:lnTo>
                      <a:pt x="188" y="249"/>
                    </a:lnTo>
                    <a:lnTo>
                      <a:pt x="358" y="153"/>
                    </a:lnTo>
                    <a:lnTo>
                      <a:pt x="533" y="84"/>
                    </a:lnTo>
                    <a:lnTo>
                      <a:pt x="713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443"/>
              <p:cNvSpPr/>
              <p:nvPr/>
            </p:nvSpPr>
            <p:spPr>
              <a:xfrm>
                <a:off x="8483760" y="585972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630" h="617">
                    <a:moveTo>
                      <a:pt x="630" y="0"/>
                    </a:moveTo>
                    <a:lnTo>
                      <a:pt x="563" y="116"/>
                    </a:lnTo>
                    <a:lnTo>
                      <a:pt x="448" y="236"/>
                    </a:lnTo>
                    <a:lnTo>
                      <a:pt x="322" y="337"/>
                    </a:lnTo>
                    <a:lnTo>
                      <a:pt x="209" y="403"/>
                    </a:lnTo>
                    <a:lnTo>
                      <a:pt x="155" y="439"/>
                    </a:lnTo>
                    <a:lnTo>
                      <a:pt x="99" y="500"/>
                    </a:lnTo>
                    <a:lnTo>
                      <a:pt x="44" y="565"/>
                    </a:lnTo>
                    <a:lnTo>
                      <a:pt x="0" y="61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444"/>
              <p:cNvSpPr/>
              <p:nvPr/>
            </p:nvSpPr>
            <p:spPr>
              <a:xfrm>
                <a:off x="8171640" y="5879520"/>
                <a:ext cx="89280" cy="15120"/>
              </a:xfrm>
              <a:custGeom>
                <a:avLst/>
                <a:gdLst/>
                <a:ahLst/>
                <a:rect l="l" t="t" r="r" b="b"/>
                <a:pathLst>
                  <a:path w="774" h="135">
                    <a:moveTo>
                      <a:pt x="0" y="135"/>
                    </a:moveTo>
                    <a:lnTo>
                      <a:pt x="179" y="74"/>
                    </a:lnTo>
                    <a:lnTo>
                      <a:pt x="381" y="20"/>
                    </a:lnTo>
                    <a:lnTo>
                      <a:pt x="583" y="0"/>
                    </a:lnTo>
                    <a:lnTo>
                      <a:pt x="774" y="4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445"/>
              <p:cNvSpPr/>
              <p:nvPr/>
            </p:nvSpPr>
            <p:spPr>
              <a:xfrm>
                <a:off x="8173080" y="5917320"/>
                <a:ext cx="115920" cy="23760"/>
              </a:xfrm>
              <a:custGeom>
                <a:avLst/>
                <a:gdLst/>
                <a:ahLst/>
                <a:rect l="l" t="t" r="r" b="b"/>
                <a:pathLst>
                  <a:path w="995" h="214">
                    <a:moveTo>
                      <a:pt x="0" y="195"/>
                    </a:moveTo>
                    <a:lnTo>
                      <a:pt x="268" y="214"/>
                    </a:lnTo>
                    <a:lnTo>
                      <a:pt x="530" y="195"/>
                    </a:lnTo>
                    <a:lnTo>
                      <a:pt x="761" y="104"/>
                    </a:lnTo>
                    <a:lnTo>
                      <a:pt x="995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446"/>
              <p:cNvSpPr/>
              <p:nvPr/>
            </p:nvSpPr>
            <p:spPr>
              <a:xfrm>
                <a:off x="8049960" y="6036120"/>
                <a:ext cx="80640" cy="53280"/>
              </a:xfrm>
              <a:custGeom>
                <a:avLst/>
                <a:gdLst/>
                <a:ahLst/>
                <a:rect l="l" t="t" r="r" b="b"/>
                <a:pathLst>
                  <a:path w="693" h="448">
                    <a:moveTo>
                      <a:pt x="0" y="25"/>
                    </a:moveTo>
                    <a:lnTo>
                      <a:pt x="77" y="0"/>
                    </a:lnTo>
                    <a:lnTo>
                      <a:pt x="174" y="2"/>
                    </a:lnTo>
                    <a:lnTo>
                      <a:pt x="270" y="30"/>
                    </a:lnTo>
                    <a:lnTo>
                      <a:pt x="377" y="79"/>
                    </a:lnTo>
                    <a:lnTo>
                      <a:pt x="476" y="150"/>
                    </a:lnTo>
                    <a:lnTo>
                      <a:pt x="567" y="234"/>
                    </a:lnTo>
                    <a:lnTo>
                      <a:pt x="642" y="334"/>
                    </a:lnTo>
                    <a:lnTo>
                      <a:pt x="693" y="44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447"/>
              <p:cNvSpPr/>
              <p:nvPr/>
            </p:nvSpPr>
            <p:spPr>
              <a:xfrm>
                <a:off x="8217720" y="5988600"/>
                <a:ext cx="36000" cy="33120"/>
              </a:xfrm>
              <a:custGeom>
                <a:avLst/>
                <a:gdLst/>
                <a:ahLst/>
                <a:rect l="l" t="t" r="r" b="b"/>
                <a:pathLst>
                  <a:path w="316" h="292">
                    <a:moveTo>
                      <a:pt x="316" y="0"/>
                    </a:moveTo>
                    <a:lnTo>
                      <a:pt x="220" y="99"/>
                    </a:lnTo>
                    <a:lnTo>
                      <a:pt x="113" y="194"/>
                    </a:lnTo>
                    <a:lnTo>
                      <a:pt x="60" y="248"/>
                    </a:lnTo>
                    <a:lnTo>
                      <a:pt x="0" y="29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448"/>
              <p:cNvSpPr/>
              <p:nvPr/>
            </p:nvSpPr>
            <p:spPr>
              <a:xfrm>
                <a:off x="8287560" y="5939640"/>
                <a:ext cx="61560" cy="10800"/>
              </a:xfrm>
              <a:custGeom>
                <a:avLst/>
                <a:gdLst/>
                <a:ahLst/>
                <a:rect l="l" t="t" r="r" b="b"/>
                <a:pathLst>
                  <a:path w="521" h="93">
                    <a:moveTo>
                      <a:pt x="521" y="18"/>
                    </a:moveTo>
                    <a:lnTo>
                      <a:pt x="400" y="0"/>
                    </a:lnTo>
                    <a:lnTo>
                      <a:pt x="280" y="5"/>
                    </a:lnTo>
                    <a:lnTo>
                      <a:pt x="141" y="74"/>
                    </a:lnTo>
                    <a:lnTo>
                      <a:pt x="0" y="9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449"/>
              <p:cNvSpPr/>
              <p:nvPr/>
            </p:nvSpPr>
            <p:spPr>
              <a:xfrm>
                <a:off x="8325360" y="5889240"/>
                <a:ext cx="42120" cy="18360"/>
              </a:xfrm>
              <a:custGeom>
                <a:avLst/>
                <a:gdLst/>
                <a:ahLst/>
                <a:rect l="l" t="t" r="r" b="b"/>
                <a:pathLst>
                  <a:path w="361" h="153">
                    <a:moveTo>
                      <a:pt x="0" y="0"/>
                    </a:moveTo>
                    <a:lnTo>
                      <a:pt x="72" y="69"/>
                    </a:lnTo>
                    <a:lnTo>
                      <a:pt x="163" y="115"/>
                    </a:lnTo>
                    <a:lnTo>
                      <a:pt x="264" y="142"/>
                    </a:lnTo>
                    <a:lnTo>
                      <a:pt x="361" y="15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50"/>
              <p:cNvSpPr/>
              <p:nvPr/>
            </p:nvSpPr>
            <p:spPr>
              <a:xfrm>
                <a:off x="7947720" y="6099120"/>
                <a:ext cx="136800" cy="268560"/>
              </a:xfrm>
              <a:custGeom>
                <a:avLst/>
                <a:gdLst/>
                <a:ahLst/>
                <a:rect l="l" t="t" r="r" b="b"/>
                <a:pathLst>
                  <a:path w="1173" h="2305">
                    <a:moveTo>
                      <a:pt x="547" y="16"/>
                    </a:moveTo>
                    <a:lnTo>
                      <a:pt x="500" y="94"/>
                    </a:lnTo>
                    <a:lnTo>
                      <a:pt x="454" y="170"/>
                    </a:lnTo>
                    <a:lnTo>
                      <a:pt x="362" y="328"/>
                    </a:lnTo>
                    <a:lnTo>
                      <a:pt x="276" y="499"/>
                    </a:lnTo>
                    <a:lnTo>
                      <a:pt x="195" y="701"/>
                    </a:lnTo>
                    <a:lnTo>
                      <a:pt x="37" y="1151"/>
                    </a:lnTo>
                    <a:lnTo>
                      <a:pt x="14" y="1228"/>
                    </a:lnTo>
                    <a:lnTo>
                      <a:pt x="5" y="1294"/>
                    </a:lnTo>
                    <a:lnTo>
                      <a:pt x="0" y="1366"/>
                    </a:lnTo>
                    <a:lnTo>
                      <a:pt x="2" y="1435"/>
                    </a:lnTo>
                    <a:lnTo>
                      <a:pt x="24" y="1612"/>
                    </a:lnTo>
                    <a:lnTo>
                      <a:pt x="39" y="1728"/>
                    </a:lnTo>
                    <a:lnTo>
                      <a:pt x="52" y="1876"/>
                    </a:lnTo>
                    <a:lnTo>
                      <a:pt x="63" y="1998"/>
                    </a:lnTo>
                    <a:lnTo>
                      <a:pt x="73" y="2118"/>
                    </a:lnTo>
                    <a:lnTo>
                      <a:pt x="175" y="2305"/>
                    </a:lnTo>
                    <a:lnTo>
                      <a:pt x="251" y="2222"/>
                    </a:lnTo>
                    <a:lnTo>
                      <a:pt x="744" y="2186"/>
                    </a:lnTo>
                    <a:lnTo>
                      <a:pt x="953" y="2129"/>
                    </a:lnTo>
                    <a:lnTo>
                      <a:pt x="993" y="1695"/>
                    </a:lnTo>
                    <a:lnTo>
                      <a:pt x="1031" y="1403"/>
                    </a:lnTo>
                    <a:lnTo>
                      <a:pt x="1158" y="950"/>
                    </a:lnTo>
                    <a:lnTo>
                      <a:pt x="1173" y="322"/>
                    </a:lnTo>
                    <a:lnTo>
                      <a:pt x="1122" y="252"/>
                    </a:lnTo>
                    <a:lnTo>
                      <a:pt x="1064" y="192"/>
                    </a:lnTo>
                    <a:lnTo>
                      <a:pt x="1014" y="154"/>
                    </a:lnTo>
                    <a:lnTo>
                      <a:pt x="960" y="121"/>
                    </a:lnTo>
                    <a:lnTo>
                      <a:pt x="903" y="88"/>
                    </a:lnTo>
                    <a:lnTo>
                      <a:pt x="839" y="57"/>
                    </a:lnTo>
                    <a:lnTo>
                      <a:pt x="778" y="30"/>
                    </a:lnTo>
                    <a:lnTo>
                      <a:pt x="715" y="12"/>
                    </a:lnTo>
                    <a:lnTo>
                      <a:pt x="654" y="0"/>
                    </a:lnTo>
                    <a:lnTo>
                      <a:pt x="595" y="2"/>
                    </a:lnTo>
                    <a:lnTo>
                      <a:pt x="547" y="16"/>
                    </a:lnTo>
                    <a:close/>
                  </a:path>
                </a:pathLst>
              </a:custGeom>
              <a:solidFill>
                <a:srgbClr val="f1b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451"/>
              <p:cNvSpPr/>
              <p:nvPr/>
            </p:nvSpPr>
            <p:spPr>
              <a:xfrm>
                <a:off x="7947720" y="6099120"/>
                <a:ext cx="136800" cy="268560"/>
              </a:xfrm>
              <a:custGeom>
                <a:avLst/>
                <a:gdLst/>
                <a:ahLst/>
                <a:rect l="l" t="t" r="r" b="b"/>
                <a:pathLst>
                  <a:path w="1173" h="2305">
                    <a:moveTo>
                      <a:pt x="547" y="16"/>
                    </a:moveTo>
                    <a:lnTo>
                      <a:pt x="500" y="94"/>
                    </a:lnTo>
                    <a:lnTo>
                      <a:pt x="454" y="170"/>
                    </a:lnTo>
                    <a:lnTo>
                      <a:pt x="362" y="328"/>
                    </a:lnTo>
                    <a:lnTo>
                      <a:pt x="276" y="499"/>
                    </a:lnTo>
                    <a:lnTo>
                      <a:pt x="195" y="701"/>
                    </a:lnTo>
                    <a:lnTo>
                      <a:pt x="37" y="1151"/>
                    </a:lnTo>
                    <a:lnTo>
                      <a:pt x="14" y="1228"/>
                    </a:lnTo>
                    <a:lnTo>
                      <a:pt x="5" y="1294"/>
                    </a:lnTo>
                    <a:lnTo>
                      <a:pt x="0" y="1366"/>
                    </a:lnTo>
                    <a:lnTo>
                      <a:pt x="2" y="1435"/>
                    </a:lnTo>
                    <a:lnTo>
                      <a:pt x="24" y="1612"/>
                    </a:lnTo>
                    <a:lnTo>
                      <a:pt x="39" y="1728"/>
                    </a:lnTo>
                    <a:lnTo>
                      <a:pt x="52" y="1876"/>
                    </a:lnTo>
                    <a:lnTo>
                      <a:pt x="63" y="1998"/>
                    </a:lnTo>
                    <a:lnTo>
                      <a:pt x="73" y="2118"/>
                    </a:lnTo>
                    <a:lnTo>
                      <a:pt x="175" y="2305"/>
                    </a:lnTo>
                    <a:lnTo>
                      <a:pt x="251" y="2222"/>
                    </a:lnTo>
                    <a:lnTo>
                      <a:pt x="744" y="2186"/>
                    </a:lnTo>
                    <a:lnTo>
                      <a:pt x="953" y="2129"/>
                    </a:lnTo>
                    <a:lnTo>
                      <a:pt x="993" y="1695"/>
                    </a:lnTo>
                    <a:lnTo>
                      <a:pt x="1031" y="1403"/>
                    </a:lnTo>
                    <a:lnTo>
                      <a:pt x="1158" y="950"/>
                    </a:lnTo>
                    <a:lnTo>
                      <a:pt x="1173" y="322"/>
                    </a:lnTo>
                    <a:lnTo>
                      <a:pt x="1122" y="252"/>
                    </a:lnTo>
                    <a:lnTo>
                      <a:pt x="1064" y="192"/>
                    </a:lnTo>
                    <a:lnTo>
                      <a:pt x="1014" y="154"/>
                    </a:lnTo>
                    <a:lnTo>
                      <a:pt x="960" y="121"/>
                    </a:lnTo>
                    <a:lnTo>
                      <a:pt x="903" y="88"/>
                    </a:lnTo>
                    <a:lnTo>
                      <a:pt x="839" y="57"/>
                    </a:lnTo>
                    <a:lnTo>
                      <a:pt x="778" y="30"/>
                    </a:lnTo>
                    <a:lnTo>
                      <a:pt x="715" y="12"/>
                    </a:lnTo>
                    <a:lnTo>
                      <a:pt x="654" y="0"/>
                    </a:lnTo>
                    <a:lnTo>
                      <a:pt x="595" y="2"/>
                    </a:lnTo>
                    <a:lnTo>
                      <a:pt x="547" y="1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452"/>
              <p:cNvSpPr/>
              <p:nvPr/>
            </p:nvSpPr>
            <p:spPr>
              <a:xfrm>
                <a:off x="7956000" y="6128640"/>
                <a:ext cx="141120" cy="271080"/>
              </a:xfrm>
              <a:custGeom>
                <a:avLst/>
                <a:gdLst/>
                <a:ahLst/>
                <a:rect l="l" t="t" r="r" b="b"/>
                <a:pathLst>
                  <a:path w="1214" h="2332">
                    <a:moveTo>
                      <a:pt x="471" y="1884"/>
                    </a:moveTo>
                    <a:lnTo>
                      <a:pt x="455" y="1746"/>
                    </a:lnTo>
                    <a:lnTo>
                      <a:pt x="449" y="1591"/>
                    </a:lnTo>
                    <a:lnTo>
                      <a:pt x="425" y="1703"/>
                    </a:lnTo>
                    <a:lnTo>
                      <a:pt x="392" y="1832"/>
                    </a:lnTo>
                    <a:lnTo>
                      <a:pt x="352" y="1891"/>
                    </a:lnTo>
                    <a:lnTo>
                      <a:pt x="265" y="1901"/>
                    </a:lnTo>
                    <a:lnTo>
                      <a:pt x="209" y="1891"/>
                    </a:lnTo>
                    <a:lnTo>
                      <a:pt x="209" y="1648"/>
                    </a:lnTo>
                    <a:lnTo>
                      <a:pt x="194" y="1457"/>
                    </a:lnTo>
                    <a:lnTo>
                      <a:pt x="178" y="1634"/>
                    </a:lnTo>
                    <a:lnTo>
                      <a:pt x="164" y="1797"/>
                    </a:lnTo>
                    <a:lnTo>
                      <a:pt x="144" y="1866"/>
                    </a:lnTo>
                    <a:lnTo>
                      <a:pt x="0" y="1866"/>
                    </a:lnTo>
                    <a:lnTo>
                      <a:pt x="102" y="2053"/>
                    </a:lnTo>
                    <a:lnTo>
                      <a:pt x="265" y="2240"/>
                    </a:lnTo>
                    <a:lnTo>
                      <a:pt x="336" y="2316"/>
                    </a:lnTo>
                    <a:lnTo>
                      <a:pt x="416" y="2332"/>
                    </a:lnTo>
                    <a:lnTo>
                      <a:pt x="445" y="2267"/>
                    </a:lnTo>
                    <a:lnTo>
                      <a:pt x="445" y="2203"/>
                    </a:lnTo>
                    <a:lnTo>
                      <a:pt x="425" y="2140"/>
                    </a:lnTo>
                    <a:lnTo>
                      <a:pt x="506" y="2184"/>
                    </a:lnTo>
                    <a:lnTo>
                      <a:pt x="596" y="2224"/>
                    </a:lnTo>
                    <a:lnTo>
                      <a:pt x="694" y="2258"/>
                    </a:lnTo>
                    <a:lnTo>
                      <a:pt x="801" y="2293"/>
                    </a:lnTo>
                    <a:lnTo>
                      <a:pt x="851" y="2271"/>
                    </a:lnTo>
                    <a:lnTo>
                      <a:pt x="857" y="2224"/>
                    </a:lnTo>
                    <a:lnTo>
                      <a:pt x="830" y="2127"/>
                    </a:lnTo>
                    <a:lnTo>
                      <a:pt x="712" y="2038"/>
                    </a:lnTo>
                    <a:lnTo>
                      <a:pt x="817" y="2066"/>
                    </a:lnTo>
                    <a:lnTo>
                      <a:pt x="887" y="2066"/>
                    </a:lnTo>
                    <a:lnTo>
                      <a:pt x="943" y="2050"/>
                    </a:lnTo>
                    <a:lnTo>
                      <a:pt x="982" y="2004"/>
                    </a:lnTo>
                    <a:lnTo>
                      <a:pt x="1060" y="1989"/>
                    </a:lnTo>
                    <a:lnTo>
                      <a:pt x="1147" y="1886"/>
                    </a:lnTo>
                    <a:lnTo>
                      <a:pt x="1214" y="1804"/>
                    </a:lnTo>
                    <a:lnTo>
                      <a:pt x="1214" y="1756"/>
                    </a:lnTo>
                    <a:lnTo>
                      <a:pt x="1185" y="1727"/>
                    </a:lnTo>
                    <a:lnTo>
                      <a:pt x="1155" y="1706"/>
                    </a:lnTo>
                    <a:lnTo>
                      <a:pt x="1112" y="1712"/>
                    </a:lnTo>
                    <a:lnTo>
                      <a:pt x="1047" y="1774"/>
                    </a:lnTo>
                    <a:lnTo>
                      <a:pt x="984" y="1769"/>
                    </a:lnTo>
                    <a:lnTo>
                      <a:pt x="927" y="1762"/>
                    </a:lnTo>
                    <a:lnTo>
                      <a:pt x="943" y="1660"/>
                    </a:lnTo>
                    <a:lnTo>
                      <a:pt x="952" y="1591"/>
                    </a:lnTo>
                    <a:lnTo>
                      <a:pt x="967" y="1461"/>
                    </a:lnTo>
                    <a:lnTo>
                      <a:pt x="974" y="1344"/>
                    </a:lnTo>
                    <a:lnTo>
                      <a:pt x="982" y="1225"/>
                    </a:lnTo>
                    <a:lnTo>
                      <a:pt x="1024" y="1131"/>
                    </a:lnTo>
                    <a:lnTo>
                      <a:pt x="1069" y="1038"/>
                    </a:lnTo>
                    <a:lnTo>
                      <a:pt x="1108" y="930"/>
                    </a:lnTo>
                    <a:lnTo>
                      <a:pt x="1134" y="804"/>
                    </a:lnTo>
                    <a:lnTo>
                      <a:pt x="1150" y="691"/>
                    </a:lnTo>
                    <a:lnTo>
                      <a:pt x="1168" y="587"/>
                    </a:lnTo>
                    <a:lnTo>
                      <a:pt x="1171" y="492"/>
                    </a:lnTo>
                    <a:lnTo>
                      <a:pt x="1168" y="422"/>
                    </a:lnTo>
                    <a:lnTo>
                      <a:pt x="1150" y="352"/>
                    </a:lnTo>
                    <a:lnTo>
                      <a:pt x="1128" y="284"/>
                    </a:lnTo>
                    <a:lnTo>
                      <a:pt x="1115" y="215"/>
                    </a:lnTo>
                    <a:lnTo>
                      <a:pt x="1134" y="134"/>
                    </a:lnTo>
                    <a:lnTo>
                      <a:pt x="1100" y="70"/>
                    </a:lnTo>
                    <a:lnTo>
                      <a:pt x="1049" y="0"/>
                    </a:lnTo>
                    <a:lnTo>
                      <a:pt x="1039" y="90"/>
                    </a:lnTo>
                    <a:lnTo>
                      <a:pt x="1034" y="186"/>
                    </a:lnTo>
                    <a:lnTo>
                      <a:pt x="1060" y="323"/>
                    </a:lnTo>
                    <a:lnTo>
                      <a:pt x="1069" y="489"/>
                    </a:lnTo>
                    <a:lnTo>
                      <a:pt x="1039" y="691"/>
                    </a:lnTo>
                    <a:lnTo>
                      <a:pt x="974" y="909"/>
                    </a:lnTo>
                    <a:lnTo>
                      <a:pt x="916" y="1042"/>
                    </a:lnTo>
                    <a:lnTo>
                      <a:pt x="873" y="1131"/>
                    </a:lnTo>
                    <a:lnTo>
                      <a:pt x="863" y="1218"/>
                    </a:lnTo>
                    <a:lnTo>
                      <a:pt x="853" y="1338"/>
                    </a:lnTo>
                    <a:lnTo>
                      <a:pt x="866" y="1477"/>
                    </a:lnTo>
                    <a:lnTo>
                      <a:pt x="873" y="1630"/>
                    </a:lnTo>
                    <a:lnTo>
                      <a:pt x="863" y="1787"/>
                    </a:lnTo>
                    <a:lnTo>
                      <a:pt x="843" y="1851"/>
                    </a:lnTo>
                    <a:lnTo>
                      <a:pt x="796" y="1879"/>
                    </a:lnTo>
                    <a:lnTo>
                      <a:pt x="705" y="1884"/>
                    </a:lnTo>
                    <a:lnTo>
                      <a:pt x="687" y="1813"/>
                    </a:lnTo>
                    <a:lnTo>
                      <a:pt x="663" y="1634"/>
                    </a:lnTo>
                    <a:lnTo>
                      <a:pt x="653" y="1520"/>
                    </a:lnTo>
                    <a:lnTo>
                      <a:pt x="640" y="1676"/>
                    </a:lnTo>
                    <a:lnTo>
                      <a:pt x="620" y="1780"/>
                    </a:lnTo>
                    <a:lnTo>
                      <a:pt x="606" y="1859"/>
                    </a:lnTo>
                    <a:lnTo>
                      <a:pt x="552" y="1884"/>
                    </a:lnTo>
                    <a:lnTo>
                      <a:pt x="471" y="1884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453"/>
              <p:cNvSpPr/>
              <p:nvPr/>
            </p:nvSpPr>
            <p:spPr>
              <a:xfrm>
                <a:off x="7974000" y="6276960"/>
                <a:ext cx="30600" cy="100440"/>
              </a:xfrm>
              <a:custGeom>
                <a:avLst/>
                <a:gdLst/>
                <a:ahLst/>
                <a:rect l="l" t="t" r="r" b="b"/>
                <a:pathLst>
                  <a:path w="273" h="860">
                    <a:moveTo>
                      <a:pt x="0" y="0"/>
                    </a:moveTo>
                    <a:lnTo>
                      <a:pt x="32" y="90"/>
                    </a:lnTo>
                    <a:lnTo>
                      <a:pt x="49" y="230"/>
                    </a:lnTo>
                    <a:lnTo>
                      <a:pt x="53" y="402"/>
                    </a:lnTo>
                    <a:lnTo>
                      <a:pt x="61" y="609"/>
                    </a:lnTo>
                    <a:lnTo>
                      <a:pt x="126" y="719"/>
                    </a:lnTo>
                    <a:lnTo>
                      <a:pt x="206" y="797"/>
                    </a:lnTo>
                    <a:lnTo>
                      <a:pt x="273" y="86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454"/>
              <p:cNvSpPr/>
              <p:nvPr/>
            </p:nvSpPr>
            <p:spPr>
              <a:xfrm>
                <a:off x="8007840" y="6293880"/>
                <a:ext cx="32040" cy="72360"/>
              </a:xfrm>
              <a:custGeom>
                <a:avLst/>
                <a:gdLst/>
                <a:ahLst/>
                <a:rect l="l" t="t" r="r" b="b"/>
                <a:pathLst>
                  <a:path w="278" h="619">
                    <a:moveTo>
                      <a:pt x="0" y="0"/>
                    </a:moveTo>
                    <a:lnTo>
                      <a:pt x="6" y="238"/>
                    </a:lnTo>
                    <a:lnTo>
                      <a:pt x="41" y="466"/>
                    </a:lnTo>
                    <a:lnTo>
                      <a:pt x="139" y="550"/>
                    </a:lnTo>
                    <a:lnTo>
                      <a:pt x="278" y="61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455"/>
              <p:cNvSpPr/>
              <p:nvPr/>
            </p:nvSpPr>
            <p:spPr>
              <a:xfrm>
                <a:off x="8030160" y="6297840"/>
                <a:ext cx="41760" cy="63000"/>
              </a:xfrm>
              <a:custGeom>
                <a:avLst/>
                <a:gdLst/>
                <a:ahLst/>
                <a:rect l="l" t="t" r="r" b="b"/>
                <a:pathLst>
                  <a:path w="357" h="534">
                    <a:moveTo>
                      <a:pt x="0" y="0"/>
                    </a:moveTo>
                    <a:lnTo>
                      <a:pt x="23" y="130"/>
                    </a:lnTo>
                    <a:lnTo>
                      <a:pt x="47" y="405"/>
                    </a:lnTo>
                    <a:lnTo>
                      <a:pt x="87" y="486"/>
                    </a:lnTo>
                    <a:lnTo>
                      <a:pt x="166" y="522"/>
                    </a:lnTo>
                    <a:lnTo>
                      <a:pt x="357" y="53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56"/>
              <p:cNvSpPr/>
              <p:nvPr/>
            </p:nvSpPr>
            <p:spPr>
              <a:xfrm>
                <a:off x="8038440" y="6387480"/>
                <a:ext cx="15480" cy="4320"/>
              </a:xfrm>
              <a:custGeom>
                <a:avLst/>
                <a:gdLst/>
                <a:ahLst/>
                <a:rect l="l" t="t" r="r" b="b"/>
                <a:pathLst>
                  <a:path w="125" h="37">
                    <a:moveTo>
                      <a:pt x="125" y="32"/>
                    </a:moveTo>
                    <a:lnTo>
                      <a:pt x="60" y="0"/>
                    </a:lnTo>
                    <a:lnTo>
                      <a:pt x="0" y="3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457"/>
              <p:cNvSpPr/>
              <p:nvPr/>
            </p:nvSpPr>
            <p:spPr>
              <a:xfrm>
                <a:off x="7986960" y="638748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141" h="89">
                    <a:moveTo>
                      <a:pt x="141" y="89"/>
                    </a:moveTo>
                    <a:lnTo>
                      <a:pt x="78" y="0"/>
                    </a:lnTo>
                    <a:lnTo>
                      <a:pt x="0" y="1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458"/>
              <p:cNvSpPr/>
              <p:nvPr/>
            </p:nvSpPr>
            <p:spPr>
              <a:xfrm flipV="1">
                <a:off x="7957440" y="6335640"/>
                <a:ext cx="5400" cy="14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459"/>
              <p:cNvSpPr/>
              <p:nvPr/>
            </p:nvSpPr>
            <p:spPr>
              <a:xfrm flipV="1">
                <a:off x="7959960" y="6349680"/>
                <a:ext cx="6840" cy="14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460"/>
              <p:cNvSpPr/>
              <p:nvPr/>
            </p:nvSpPr>
            <p:spPr>
              <a:xfrm flipH="1">
                <a:off x="7976520" y="6370560"/>
                <a:ext cx="684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Line 461"/>
            <p:cNvSpPr/>
            <p:nvPr/>
          </p:nvSpPr>
          <p:spPr>
            <a:xfrm flipV="1">
              <a:off x="7988040" y="6356520"/>
              <a:ext cx="972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462"/>
            <p:cNvSpPr/>
            <p:nvPr/>
          </p:nvSpPr>
          <p:spPr>
            <a:xfrm flipV="1">
              <a:off x="7984080" y="6343920"/>
              <a:ext cx="9720" cy="396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463"/>
            <p:cNvSpPr/>
            <p:nvPr/>
          </p:nvSpPr>
          <p:spPr>
            <a:xfrm flipH="1">
              <a:off x="8016120" y="6379200"/>
              <a:ext cx="7920" cy="396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64"/>
            <p:cNvSpPr/>
            <p:nvPr/>
          </p:nvSpPr>
          <p:spPr>
            <a:xfrm flipH="1">
              <a:off x="8015760" y="6351480"/>
              <a:ext cx="972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65"/>
            <p:cNvSpPr/>
            <p:nvPr/>
          </p:nvSpPr>
          <p:spPr>
            <a:xfrm>
              <a:off x="7997760" y="6174720"/>
              <a:ext cx="20880" cy="61560"/>
            </a:xfrm>
            <a:custGeom>
              <a:avLst/>
              <a:gdLst/>
              <a:ahLst/>
              <a:rect l="l" t="t" r="r" b="b"/>
              <a:pathLst>
                <a:path w="186" h="527">
                  <a:moveTo>
                    <a:pt x="186" y="0"/>
                  </a:moveTo>
                  <a:lnTo>
                    <a:pt x="159" y="28"/>
                  </a:lnTo>
                  <a:lnTo>
                    <a:pt x="0" y="527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6"/>
            <p:cNvSpPr/>
            <p:nvPr/>
          </p:nvSpPr>
          <p:spPr>
            <a:xfrm>
              <a:off x="7967160" y="6195600"/>
              <a:ext cx="25200" cy="37440"/>
            </a:xfrm>
            <a:custGeom>
              <a:avLst/>
              <a:gdLst/>
              <a:ahLst/>
              <a:rect l="l" t="t" r="r" b="b"/>
              <a:pathLst>
                <a:path w="214" h="320">
                  <a:moveTo>
                    <a:pt x="214" y="0"/>
                  </a:moveTo>
                  <a:lnTo>
                    <a:pt x="188" y="11"/>
                  </a:lnTo>
                  <a:lnTo>
                    <a:pt x="173" y="44"/>
                  </a:lnTo>
                  <a:lnTo>
                    <a:pt x="0" y="320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67"/>
            <p:cNvSpPr/>
            <p:nvPr/>
          </p:nvSpPr>
          <p:spPr>
            <a:xfrm>
              <a:off x="7975800" y="6247440"/>
              <a:ext cx="50400" cy="15480"/>
            </a:xfrm>
            <a:custGeom>
              <a:avLst/>
              <a:gdLst/>
              <a:ahLst/>
              <a:rect l="l" t="t" r="r" b="b"/>
              <a:pathLst>
                <a:path w="437" h="132">
                  <a:moveTo>
                    <a:pt x="437" y="132"/>
                  </a:moveTo>
                  <a:lnTo>
                    <a:pt x="252" y="93"/>
                  </a:lnTo>
                  <a:lnTo>
                    <a:pt x="125" y="8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468"/>
            <p:cNvSpPr/>
            <p:nvPr/>
          </p:nvSpPr>
          <p:spPr>
            <a:xfrm>
              <a:off x="8079120" y="6334560"/>
              <a:ext cx="6840" cy="108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469"/>
            <p:cNvSpPr/>
            <p:nvPr/>
          </p:nvSpPr>
          <p:spPr>
            <a:xfrm>
              <a:off x="8064000" y="6334560"/>
              <a:ext cx="1080" cy="504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470"/>
            <p:cNvSpPr/>
            <p:nvPr/>
          </p:nvSpPr>
          <p:spPr>
            <a:xfrm flipV="1">
              <a:off x="8052480" y="6366240"/>
              <a:ext cx="684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471"/>
          <p:cNvGrpSpPr/>
          <p:nvPr/>
        </p:nvGrpSpPr>
        <p:grpSpPr>
          <a:xfrm>
            <a:off x="3418560" y="1341360"/>
            <a:ext cx="1506960" cy="1098360"/>
            <a:chOff x="3418560" y="1341360"/>
            <a:chExt cx="1506960" cy="1098360"/>
          </a:xfrm>
        </p:grpSpPr>
        <p:sp>
          <p:nvSpPr>
            <p:cNvPr id="958" name="Freeform 472"/>
            <p:cNvSpPr/>
            <p:nvPr/>
          </p:nvSpPr>
          <p:spPr>
            <a:xfrm>
              <a:off x="3528720" y="1944360"/>
              <a:ext cx="955440" cy="495360"/>
            </a:xfrm>
            <a:custGeom>
              <a:avLst/>
              <a:gdLst/>
              <a:ahLst/>
              <a:rect l="l" t="t" r="r" b="b"/>
              <a:pathLst>
                <a:path w="542" h="312">
                  <a:moveTo>
                    <a:pt x="542" y="130"/>
                  </a:moveTo>
                  <a:cubicBezTo>
                    <a:pt x="505" y="122"/>
                    <a:pt x="469" y="114"/>
                    <a:pt x="424" y="94"/>
                  </a:cubicBezTo>
                  <a:cubicBezTo>
                    <a:pt x="379" y="74"/>
                    <a:pt x="325" y="24"/>
                    <a:pt x="274" y="12"/>
                  </a:cubicBezTo>
                  <a:cubicBezTo>
                    <a:pt x="223" y="0"/>
                    <a:pt x="157" y="10"/>
                    <a:pt x="116" y="22"/>
                  </a:cubicBezTo>
                  <a:cubicBezTo>
                    <a:pt x="75" y="34"/>
                    <a:pt x="47" y="57"/>
                    <a:pt x="28" y="84"/>
                  </a:cubicBezTo>
                  <a:cubicBezTo>
                    <a:pt x="9" y="111"/>
                    <a:pt x="8" y="146"/>
                    <a:pt x="4" y="184"/>
                  </a:cubicBezTo>
                  <a:cubicBezTo>
                    <a:pt x="0" y="222"/>
                    <a:pt x="2" y="267"/>
                    <a:pt x="4" y="31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9" name="Picture 473" descr="Корпус-3"/>
            <p:cNvPicPr/>
            <p:nvPr/>
          </p:nvPicPr>
          <p:blipFill>
            <a:blip r:embed="rId8"/>
            <a:stretch/>
          </p:blipFill>
          <p:spPr>
            <a:xfrm>
              <a:off x="4392360" y="1341360"/>
              <a:ext cx="5331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Rectangle 474"/>
            <p:cNvSpPr/>
            <p:nvPr/>
          </p:nvSpPr>
          <p:spPr>
            <a:xfrm>
              <a:off x="3418560" y="134460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оуте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Freeform 476"/>
          <p:cNvSpPr/>
          <p:nvPr/>
        </p:nvSpPr>
        <p:spPr>
          <a:xfrm>
            <a:off x="3170160" y="2265480"/>
            <a:ext cx="480960" cy="538200"/>
          </a:xfrm>
          <a:custGeom>
            <a:avLst/>
            <a:gdLst/>
            <a:ahLst/>
            <a:rect l="l" t="t" r="r" b="b"/>
            <a:pathLst>
              <a:path w="303" h="376">
                <a:moveTo>
                  <a:pt x="303" y="363"/>
                </a:moveTo>
                <a:cubicBezTo>
                  <a:pt x="250" y="369"/>
                  <a:pt x="198" y="376"/>
                  <a:pt x="153" y="366"/>
                </a:cubicBezTo>
                <a:cubicBezTo>
                  <a:pt x="108" y="356"/>
                  <a:pt x="58" y="361"/>
                  <a:pt x="33" y="300"/>
                </a:cubicBezTo>
                <a:cubicBezTo>
                  <a:pt x="8" y="239"/>
                  <a:pt x="4" y="119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477"/>
          <p:cNvSpPr/>
          <p:nvPr/>
        </p:nvSpPr>
        <p:spPr>
          <a:xfrm>
            <a:off x="3027240" y="1476360"/>
            <a:ext cx="370080" cy="601560"/>
          </a:xfrm>
          <a:custGeom>
            <a:avLst/>
            <a:gdLst/>
            <a:ahLst/>
            <a:rect l="l" t="t" r="r" b="b"/>
            <a:pathLst>
              <a:path w="233" h="379">
                <a:moveTo>
                  <a:pt x="0" y="61"/>
                </a:moveTo>
                <a:cubicBezTo>
                  <a:pt x="21" y="30"/>
                  <a:pt x="42" y="0"/>
                  <a:pt x="80" y="5"/>
                </a:cubicBezTo>
                <a:cubicBezTo>
                  <a:pt x="118" y="10"/>
                  <a:pt x="223" y="54"/>
                  <a:pt x="228" y="91"/>
                </a:cubicBezTo>
                <a:cubicBezTo>
                  <a:pt x="233" y="128"/>
                  <a:pt x="132" y="181"/>
                  <a:pt x="112" y="229"/>
                </a:cubicBezTo>
                <a:cubicBezTo>
                  <a:pt x="92" y="277"/>
                  <a:pt x="99" y="328"/>
                  <a:pt x="106" y="37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478"/>
          <p:cNvSpPr/>
          <p:nvPr/>
        </p:nvSpPr>
        <p:spPr>
          <a:xfrm>
            <a:off x="1968480" y="2271600"/>
            <a:ext cx="1087560" cy="335160"/>
          </a:xfrm>
          <a:custGeom>
            <a:avLst/>
            <a:gdLst/>
            <a:ahLst/>
            <a:rect l="l" t="t" r="r" b="b"/>
            <a:pathLst>
              <a:path w="685" h="211">
                <a:moveTo>
                  <a:pt x="0" y="45"/>
                </a:moveTo>
                <a:cubicBezTo>
                  <a:pt x="24" y="39"/>
                  <a:pt x="84" y="0"/>
                  <a:pt x="141" y="12"/>
                </a:cubicBezTo>
                <a:cubicBezTo>
                  <a:pt x="198" y="24"/>
                  <a:pt x="262" y="90"/>
                  <a:pt x="343" y="120"/>
                </a:cubicBezTo>
                <a:cubicBezTo>
                  <a:pt x="424" y="150"/>
                  <a:pt x="573" y="211"/>
                  <a:pt x="629" y="192"/>
                </a:cubicBezTo>
                <a:cubicBezTo>
                  <a:pt x="685" y="173"/>
                  <a:pt x="683" y="89"/>
                  <a:pt x="681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480"/>
          <p:cNvSpPr/>
          <p:nvPr/>
        </p:nvSpPr>
        <p:spPr>
          <a:xfrm>
            <a:off x="3165120" y="17208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484"/>
          <p:cNvSpPr/>
          <p:nvPr/>
        </p:nvSpPr>
        <p:spPr>
          <a:xfrm>
            <a:off x="2046240" y="1555920"/>
            <a:ext cx="1017720" cy="515880"/>
          </a:xfrm>
          <a:custGeom>
            <a:avLst/>
            <a:gdLst/>
            <a:ahLst/>
            <a:rect l="l" t="t" r="r" b="b"/>
            <a:pathLst>
              <a:path w="641" h="325">
                <a:moveTo>
                  <a:pt x="0" y="17"/>
                </a:moveTo>
                <a:cubicBezTo>
                  <a:pt x="60" y="8"/>
                  <a:pt x="121" y="0"/>
                  <a:pt x="154" y="43"/>
                </a:cubicBezTo>
                <a:cubicBezTo>
                  <a:pt x="187" y="86"/>
                  <a:pt x="146" y="243"/>
                  <a:pt x="200" y="275"/>
                </a:cubicBezTo>
                <a:cubicBezTo>
                  <a:pt x="254" y="307"/>
                  <a:pt x="409" y="244"/>
                  <a:pt x="478" y="237"/>
                </a:cubicBezTo>
                <a:cubicBezTo>
                  <a:pt x="547" y="230"/>
                  <a:pt x="587" y="220"/>
                  <a:pt x="614" y="235"/>
                </a:cubicBezTo>
                <a:cubicBezTo>
                  <a:pt x="641" y="250"/>
                  <a:pt x="639" y="287"/>
                  <a:pt x="638" y="3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86"/>
          <p:cNvSpPr/>
          <p:nvPr/>
        </p:nvSpPr>
        <p:spPr>
          <a:xfrm>
            <a:off x="5178960" y="47433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487"/>
          <p:cNvSpPr/>
          <p:nvPr/>
        </p:nvSpPr>
        <p:spPr>
          <a:xfrm>
            <a:off x="4321080" y="2841480"/>
            <a:ext cx="1498680" cy="993960"/>
          </a:xfrm>
          <a:custGeom>
            <a:avLst/>
            <a:gdLst/>
            <a:ahLst/>
            <a:rect l="l" t="t" r="r" b="b"/>
            <a:pathLst>
              <a:path w="944" h="512">
                <a:moveTo>
                  <a:pt x="0" y="502"/>
                </a:moveTo>
                <a:cubicBezTo>
                  <a:pt x="54" y="502"/>
                  <a:pt x="184" y="512"/>
                  <a:pt x="325" y="500"/>
                </a:cubicBezTo>
                <a:cubicBezTo>
                  <a:pt x="466" y="488"/>
                  <a:pt x="746" y="499"/>
                  <a:pt x="845" y="431"/>
                </a:cubicBezTo>
                <a:cubicBezTo>
                  <a:pt x="944" y="363"/>
                  <a:pt x="907" y="163"/>
                  <a:pt x="921" y="91"/>
                </a:cubicBezTo>
                <a:cubicBezTo>
                  <a:pt x="935" y="19"/>
                  <a:pt x="927" y="19"/>
                  <a:pt x="928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488"/>
          <p:cNvSpPr/>
          <p:nvPr/>
        </p:nvSpPr>
        <p:spPr>
          <a:xfrm>
            <a:off x="3998880" y="3691080"/>
            <a:ext cx="46368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89"/>
          <p:cNvGrpSpPr/>
          <p:nvPr/>
        </p:nvGrpSpPr>
        <p:grpSpPr>
          <a:xfrm>
            <a:off x="5513400" y="2430360"/>
            <a:ext cx="576360" cy="422280"/>
            <a:chOff x="5513400" y="2430360"/>
            <a:chExt cx="576360" cy="422280"/>
          </a:xfrm>
        </p:grpSpPr>
        <p:sp>
          <p:nvSpPr>
            <p:cNvPr id="970" name="Freeform 490"/>
            <p:cNvSpPr/>
            <p:nvPr/>
          </p:nvSpPr>
          <p:spPr>
            <a:xfrm>
              <a:off x="5513400" y="2430360"/>
              <a:ext cx="57636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491"/>
            <p:cNvSpPr/>
            <p:nvPr/>
          </p:nvSpPr>
          <p:spPr>
            <a:xfrm>
              <a:off x="5729400" y="261144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492"/>
            <p:cNvSpPr/>
            <p:nvPr/>
          </p:nvSpPr>
          <p:spPr>
            <a:xfrm>
              <a:off x="5783760" y="261144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493"/>
            <p:cNvSpPr/>
            <p:nvPr/>
          </p:nvSpPr>
          <p:spPr>
            <a:xfrm>
              <a:off x="5838480" y="261144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494"/>
            <p:cNvSpPr/>
            <p:nvPr/>
          </p:nvSpPr>
          <p:spPr>
            <a:xfrm>
              <a:off x="5729400" y="265356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495"/>
            <p:cNvSpPr/>
            <p:nvPr/>
          </p:nvSpPr>
          <p:spPr>
            <a:xfrm>
              <a:off x="5783760" y="265356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96"/>
            <p:cNvSpPr/>
            <p:nvPr/>
          </p:nvSpPr>
          <p:spPr>
            <a:xfrm>
              <a:off x="5838480" y="265356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97"/>
            <p:cNvSpPr/>
            <p:nvPr/>
          </p:nvSpPr>
          <p:spPr>
            <a:xfrm>
              <a:off x="5729400" y="269244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98"/>
            <p:cNvSpPr/>
            <p:nvPr/>
          </p:nvSpPr>
          <p:spPr>
            <a:xfrm>
              <a:off x="5783760" y="269244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99"/>
            <p:cNvSpPr/>
            <p:nvPr/>
          </p:nvSpPr>
          <p:spPr>
            <a:xfrm>
              <a:off x="5838480" y="269244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00"/>
            <p:cNvSpPr/>
            <p:nvPr/>
          </p:nvSpPr>
          <p:spPr>
            <a:xfrm>
              <a:off x="5585760" y="2519280"/>
              <a:ext cx="43200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501"/>
          <p:cNvGrpSpPr/>
          <p:nvPr/>
        </p:nvGrpSpPr>
        <p:grpSpPr>
          <a:xfrm>
            <a:off x="176760" y="866880"/>
            <a:ext cx="5155560" cy="2130480"/>
            <a:chOff x="176760" y="866880"/>
            <a:chExt cx="5155560" cy="2130480"/>
          </a:xfrm>
        </p:grpSpPr>
        <p:sp>
          <p:nvSpPr>
            <p:cNvPr id="982" name="Rectangle 502"/>
            <p:cNvSpPr/>
            <p:nvPr/>
          </p:nvSpPr>
          <p:spPr>
            <a:xfrm>
              <a:off x="617400" y="903240"/>
              <a:ext cx="4714920" cy="20941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503"/>
            <p:cNvSpPr/>
            <p:nvPr/>
          </p:nvSpPr>
          <p:spPr>
            <a:xfrm>
              <a:off x="176760" y="866880"/>
              <a:ext cx="1384920" cy="368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провайде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Freeform 504"/>
          <p:cNvSpPr/>
          <p:nvPr/>
        </p:nvSpPr>
        <p:spPr>
          <a:xfrm>
            <a:off x="1019160" y="4205160"/>
            <a:ext cx="993960" cy="662040"/>
          </a:xfrm>
          <a:custGeom>
            <a:avLst/>
            <a:gdLst/>
            <a:ahLst/>
            <a:rect l="l" t="t" r="r" b="b"/>
            <a:pathLst>
              <a:path w="626" h="417">
                <a:moveTo>
                  <a:pt x="0" y="399"/>
                </a:moveTo>
                <a:cubicBezTo>
                  <a:pt x="50" y="395"/>
                  <a:pt x="240" y="417"/>
                  <a:pt x="300" y="375"/>
                </a:cubicBezTo>
                <a:cubicBezTo>
                  <a:pt x="360" y="333"/>
                  <a:pt x="313" y="190"/>
                  <a:pt x="360" y="144"/>
                </a:cubicBezTo>
                <a:cubicBezTo>
                  <a:pt x="407" y="98"/>
                  <a:pt x="544" y="123"/>
                  <a:pt x="585" y="99"/>
                </a:cubicBezTo>
                <a:cubicBezTo>
                  <a:pt x="626" y="75"/>
                  <a:pt x="604" y="21"/>
                  <a:pt x="60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505"/>
          <p:cNvSpPr/>
          <p:nvPr/>
        </p:nvSpPr>
        <p:spPr>
          <a:xfrm>
            <a:off x="330120" y="5013360"/>
            <a:ext cx="1146240" cy="384120"/>
          </a:xfrm>
          <a:prstGeom prst="wedgeRoundRectCallout">
            <a:avLst>
              <a:gd name="adj1" fmla="val 109004"/>
              <a:gd name="adj2" fmla="val 2355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l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506"/>
          <p:cNvSpPr/>
          <p:nvPr/>
        </p:nvSpPr>
        <p:spPr>
          <a:xfrm>
            <a:off x="5564160" y="6192720"/>
            <a:ext cx="1146240" cy="384120"/>
          </a:xfrm>
          <a:prstGeom prst="wedgeRoundRectCallout">
            <a:avLst>
              <a:gd name="adj1" fmla="val -55263"/>
              <a:gd name="adj2" fmla="val -200412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507"/>
          <p:cNvSpPr/>
          <p:nvPr/>
        </p:nvSpPr>
        <p:spPr>
          <a:xfrm>
            <a:off x="7250040" y="3338640"/>
            <a:ext cx="1652760" cy="726840"/>
          </a:xfrm>
          <a:prstGeom prst="wedgeRoundRectCallout">
            <a:avLst>
              <a:gd name="adj1" fmla="val -58837"/>
              <a:gd name="adj2" fmla="val 135587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енн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508"/>
          <p:cNvSpPr/>
          <p:nvPr/>
        </p:nvSpPr>
        <p:spPr>
          <a:xfrm>
            <a:off x="320760" y="250920"/>
            <a:ext cx="587520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ип подключений к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509" descr="K013"/>
          <p:cNvPicPr/>
          <p:nvPr/>
        </p:nvPicPr>
        <p:blipFill>
          <a:blip r:embed="rId9"/>
          <a:stretch/>
        </p:blipFill>
        <p:spPr>
          <a:xfrm>
            <a:off x="1650960" y="215280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510" descr="K013"/>
          <p:cNvPicPr/>
          <p:nvPr/>
        </p:nvPicPr>
        <p:blipFill>
          <a:blip r:embed="rId10"/>
          <a:stretch/>
        </p:blipFill>
        <p:spPr>
          <a:xfrm>
            <a:off x="1701720" y="120024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11" descr="K013"/>
          <p:cNvPicPr/>
          <p:nvPr/>
        </p:nvPicPr>
        <p:blipFill>
          <a:blip r:embed="rId11"/>
          <a:stretch/>
        </p:blipFill>
        <p:spPr>
          <a:xfrm>
            <a:off x="2717640" y="116208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512" descr="hd4"/>
          <p:cNvPicPr/>
          <p:nvPr/>
        </p:nvPicPr>
        <p:blipFill>
          <a:blip r:embed="rId12"/>
          <a:stretch/>
        </p:blipFill>
        <p:spPr>
          <a:xfrm>
            <a:off x="2793960" y="203508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9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15"/>
          <p:cNvGrpSpPr/>
          <p:nvPr/>
        </p:nvGrpSpPr>
        <p:grpSpPr>
          <a:xfrm>
            <a:off x="458640" y="1839960"/>
            <a:ext cx="8158320" cy="3892680"/>
            <a:chOff x="458640" y="1839960"/>
            <a:chExt cx="8158320" cy="3892680"/>
          </a:xfrm>
        </p:grpSpPr>
        <p:sp>
          <p:nvSpPr>
            <p:cNvPr id="995" name="AutoShape 14"/>
            <p:cNvSpPr/>
            <p:nvPr/>
          </p:nvSpPr>
          <p:spPr>
            <a:xfrm>
              <a:off x="776160" y="1839960"/>
              <a:ext cx="7840800" cy="3892680"/>
            </a:xfrm>
            <a:prstGeom prst="roundRect">
              <a:avLst>
                <a:gd name="adj" fmla="val 646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HyperText Transfer Protocol)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служба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File Transfer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служба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Simple Mail Transfer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отправка сообщений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электронной поч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Post Office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прием сообщен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электронной почты (требуется парол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6"/>
            <p:cNvSpPr/>
            <p:nvPr/>
          </p:nvSpPr>
          <p:spPr>
            <a:xfrm>
              <a:off x="458640" y="2092320"/>
              <a:ext cx="152748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7"/>
            <p:cNvSpPr/>
            <p:nvPr/>
          </p:nvSpPr>
          <p:spPr>
            <a:xfrm>
              <a:off x="469800" y="285444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8"/>
            <p:cNvSpPr/>
            <p:nvPr/>
          </p:nvSpPr>
          <p:spPr>
            <a:xfrm>
              <a:off x="474840" y="374328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9"/>
            <p:cNvSpPr/>
            <p:nvPr/>
          </p:nvSpPr>
          <p:spPr>
            <a:xfrm>
              <a:off x="469800" y="475920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AutoShape 13"/>
          <p:cNvSpPr/>
          <p:nvPr/>
        </p:nvSpPr>
        <p:spPr>
          <a:xfrm>
            <a:off x="523800" y="631800"/>
            <a:ext cx="587556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околы служб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16" descr="N001"/>
          <p:cNvPicPr/>
          <p:nvPr/>
        </p:nvPicPr>
        <p:blipFill>
          <a:blip r:embed="rId1"/>
          <a:stretch/>
        </p:blipFill>
        <p:spPr>
          <a:xfrm>
            <a:off x="6327720" y="216000"/>
            <a:ext cx="2127240" cy="212724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5"/>
          <p:cNvSpPr/>
          <p:nvPr/>
        </p:nvSpPr>
        <p:spPr>
          <a:xfrm>
            <a:off x="2385360" y="1409760"/>
            <a:ext cx="4028760" cy="520560"/>
          </a:xfrm>
          <a:prstGeom prst="rect">
            <a:avLst/>
          </a:prstGeom>
          <a:solidFill>
            <a:srgbClr val="ff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qqq.microsoft.r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6"/>
          <p:cNvSpPr/>
          <p:nvPr/>
        </p:nvSpPr>
        <p:spPr>
          <a:xfrm>
            <a:off x="6496200" y="2224080"/>
            <a:ext cx="1576080" cy="626760"/>
          </a:xfrm>
          <a:prstGeom prst="wedgeRoundRectCallout">
            <a:avLst>
              <a:gd name="adj1" fmla="val -77379"/>
              <a:gd name="adj2" fmla="val -109930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1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7"/>
          <p:cNvSpPr/>
          <p:nvPr/>
        </p:nvSpPr>
        <p:spPr>
          <a:xfrm>
            <a:off x="4622760" y="2224080"/>
            <a:ext cx="1576440" cy="626760"/>
          </a:xfrm>
          <a:prstGeom prst="wedgeRoundRectCallout">
            <a:avLst>
              <a:gd name="adj1" fmla="val -36212"/>
              <a:gd name="adj2" fmla="val -105393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2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8"/>
          <p:cNvSpPr/>
          <p:nvPr/>
        </p:nvSpPr>
        <p:spPr>
          <a:xfrm>
            <a:off x="2749680" y="2224080"/>
            <a:ext cx="1576080" cy="626760"/>
          </a:xfrm>
          <a:prstGeom prst="wedgeRoundRectCallout">
            <a:avLst>
              <a:gd name="adj1" fmla="val 3569"/>
              <a:gd name="adj2" fmla="val -102120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3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9"/>
          <p:cNvSpPr/>
          <p:nvPr/>
        </p:nvSpPr>
        <p:spPr>
          <a:xfrm>
            <a:off x="876240" y="2224080"/>
            <a:ext cx="1576440" cy="626760"/>
          </a:xfrm>
          <a:prstGeom prst="wedgeRoundRectCallout">
            <a:avLst>
              <a:gd name="adj1" fmla="val 69314"/>
              <a:gd name="adj2" fmla="val -10941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4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55480" y="3508200"/>
          <a:ext cx="8244000" cy="2926080"/>
        </p:xfrm>
        <a:graphic>
          <a:graphicData uri="http://schemas.openxmlformats.org/drawingml/2006/table">
            <a:tbl>
              <a:tblPr/>
              <a:tblGrid>
                <a:gridCol w="4122720"/>
                <a:gridCol w="4121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рче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ru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ed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g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тельство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y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р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il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ые ведомства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or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nfo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iz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зн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09" name="AutoShape 44"/>
          <p:cNvSpPr/>
          <p:nvPr/>
        </p:nvSpPr>
        <p:spPr>
          <a:xfrm>
            <a:off x="523800" y="276120"/>
            <a:ext cx="8123400" cy="10130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Доменные ад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45"/>
          <p:cNvSpPr/>
          <p:nvPr/>
        </p:nvSpPr>
        <p:spPr>
          <a:xfrm>
            <a:off x="574560" y="3044880"/>
            <a:ext cx="8199720" cy="47952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мены 1-ого уровня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менные зоны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2"/>
          <p:cNvSpPr/>
          <p:nvPr/>
        </p:nvSpPr>
        <p:spPr>
          <a:xfrm>
            <a:off x="1193760" y="1436760"/>
            <a:ext cx="5946840" cy="201132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ычислительная сеть (ВС)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вокупность ЭВ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ъединённы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ред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передачи данных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3"/>
          <p:cNvSpPr/>
          <p:nvPr/>
        </p:nvSpPr>
        <p:spPr>
          <a:xfrm>
            <a:off x="458640" y="517680"/>
            <a:ext cx="751680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Что такое вычислительная се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/>
          <p:cNvSpPr/>
          <p:nvPr/>
        </p:nvSpPr>
        <p:spPr>
          <a:xfrm>
            <a:off x="2023920" y="3611520"/>
            <a:ext cx="6357960" cy="24750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редства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лектрические каб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лефонные ли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 кабеля (оптическое волок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 (беспроводные сети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Fi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6" descr="N002"/>
          <p:cNvPicPr/>
          <p:nvPr/>
        </p:nvPicPr>
        <p:blipFill>
          <a:blip r:embed="rId1"/>
          <a:stretch/>
        </p:blipFill>
        <p:spPr>
          <a:xfrm>
            <a:off x="5861160" y="725400"/>
            <a:ext cx="2705040" cy="23338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AutoShape 5"/>
          <p:cNvSpPr/>
          <p:nvPr/>
        </p:nvSpPr>
        <p:spPr>
          <a:xfrm>
            <a:off x="1233360" y="1998720"/>
            <a:ext cx="6496200" cy="641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/new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q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6"/>
          <p:cNvSpPr/>
          <p:nvPr/>
        </p:nvSpPr>
        <p:spPr>
          <a:xfrm>
            <a:off x="1357200" y="2036880"/>
            <a:ext cx="77328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7"/>
          <p:cNvSpPr/>
          <p:nvPr/>
        </p:nvSpPr>
        <p:spPr>
          <a:xfrm>
            <a:off x="2386080" y="2027160"/>
            <a:ext cx="2120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8"/>
          <p:cNvSpPr/>
          <p:nvPr/>
        </p:nvSpPr>
        <p:spPr>
          <a:xfrm>
            <a:off x="4678200" y="2019240"/>
            <a:ext cx="1895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9"/>
          <p:cNvSpPr/>
          <p:nvPr/>
        </p:nvSpPr>
        <p:spPr>
          <a:xfrm>
            <a:off x="6620040" y="2028960"/>
            <a:ext cx="971280" cy="56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10"/>
          <p:cNvSpPr/>
          <p:nvPr/>
        </p:nvSpPr>
        <p:spPr>
          <a:xfrm>
            <a:off x="2416320" y="2897280"/>
            <a:ext cx="1942920" cy="397080"/>
          </a:xfrm>
          <a:prstGeom prst="wedgeRoundRectCallout">
            <a:avLst>
              <a:gd name="adj1" fmla="val 12240"/>
              <a:gd name="adj2" fmla="val -15217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1"/>
          <p:cNvSpPr/>
          <p:nvPr/>
        </p:nvSpPr>
        <p:spPr>
          <a:xfrm>
            <a:off x="4630680" y="2887560"/>
            <a:ext cx="1943280" cy="397080"/>
          </a:xfrm>
          <a:prstGeom prst="wedgeRoundRectCallout">
            <a:avLst>
              <a:gd name="adj1" fmla="val 12250"/>
              <a:gd name="adj2" fmla="val -15235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(пап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2"/>
          <p:cNvSpPr/>
          <p:nvPr/>
        </p:nvSpPr>
        <p:spPr>
          <a:xfrm>
            <a:off x="6789600" y="2897280"/>
            <a:ext cx="1809720" cy="397080"/>
          </a:xfrm>
          <a:prstGeom prst="wedgeRoundRectCallout">
            <a:avLst>
              <a:gd name="adj1" fmla="val -18083"/>
              <a:gd name="adj2" fmla="val -15217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3"/>
          <p:cNvSpPr/>
          <p:nvPr/>
        </p:nvSpPr>
        <p:spPr>
          <a:xfrm>
            <a:off x="714240" y="3676680"/>
            <a:ext cx="3279960" cy="641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14"/>
          <p:cNvSpPr/>
          <p:nvPr/>
        </p:nvSpPr>
        <p:spPr>
          <a:xfrm>
            <a:off x="5405400" y="3486240"/>
            <a:ext cx="2781360" cy="989640"/>
          </a:xfrm>
          <a:prstGeom prst="wedgeRoundRectCallout">
            <a:avLst>
              <a:gd name="adj1" fmla="val -97699"/>
              <a:gd name="adj2" fmla="val 224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страница сайта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.html, 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15"/>
          <p:cNvSpPr/>
          <p:nvPr/>
        </p:nvSpPr>
        <p:spPr>
          <a:xfrm>
            <a:off x="687240" y="4921200"/>
            <a:ext cx="6788160" cy="641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files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 / download / qq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16"/>
          <p:cNvSpPr/>
          <p:nvPr/>
        </p:nvSpPr>
        <p:spPr>
          <a:xfrm>
            <a:off x="5643720" y="5881680"/>
            <a:ext cx="2781000" cy="397080"/>
          </a:xfrm>
          <a:prstGeom prst="wedgeRoundRectCallout">
            <a:avLst>
              <a:gd name="adj1" fmla="val -11537"/>
              <a:gd name="adj2" fmla="val -161773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17"/>
          <p:cNvSpPr/>
          <p:nvPr/>
        </p:nvSpPr>
        <p:spPr>
          <a:xfrm>
            <a:off x="606600" y="2870280"/>
            <a:ext cx="1463400" cy="397080"/>
          </a:xfrm>
          <a:prstGeom prst="wedgeRoundRectCallout">
            <a:avLst>
              <a:gd name="adj1" fmla="val 26240"/>
              <a:gd name="adj2" fmla="val -16412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8"/>
          <p:cNvSpPr/>
          <p:nvPr/>
        </p:nvSpPr>
        <p:spPr>
          <a:xfrm>
            <a:off x="307800" y="415800"/>
            <a:ext cx="8199720" cy="140652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Адрес документа в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й адр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AutoShape 6"/>
          <p:cNvSpPr/>
          <p:nvPr/>
        </p:nvSpPr>
        <p:spPr>
          <a:xfrm>
            <a:off x="1743120" y="250920"/>
            <a:ext cx="6078600" cy="5936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7"/>
          <p:cNvSpPr/>
          <p:nvPr/>
        </p:nvSpPr>
        <p:spPr>
          <a:xfrm>
            <a:off x="485640" y="1127160"/>
            <a:ext cx="8021880" cy="5140440"/>
          </a:xfrm>
          <a:prstGeom prst="roundRect">
            <a:avLst>
              <a:gd name="adj" fmla="val 4662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WW (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World Wide Web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жба для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ормацией в виде гипер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текс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текст, содержащий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мед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документ, который включае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сунки, звуки, видео и содержит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раузер (броузер,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rowser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программа для про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ниц на экране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сии 8.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ozilla FireFo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Oper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1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8" descr="LaST (Cobalt) Favorites"/>
          <p:cNvPicPr/>
          <p:nvPr/>
        </p:nvPicPr>
        <p:blipFill>
          <a:blip r:embed="rId1"/>
          <a:stretch/>
        </p:blipFill>
        <p:spPr>
          <a:xfrm>
            <a:off x="7315200" y="685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лассификация 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2022120" y="2576520"/>
            <a:ext cx="194292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509760" y="3662280"/>
            <a:ext cx="312552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ок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4968720" y="2560680"/>
            <a:ext cx="194328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42960" y="1657440"/>
            <a:ext cx="5946840" cy="9525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ычислительные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5270400" y="3657600"/>
            <a:ext cx="312588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ло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Home"/>
          <p:cNvPicPr/>
          <p:nvPr/>
        </p:nvPicPr>
        <p:blipFill>
          <a:blip r:embed="rId1"/>
          <a:stretch/>
        </p:blipFill>
        <p:spPr>
          <a:xfrm>
            <a:off x="0" y="2517840"/>
            <a:ext cx="1498680" cy="14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Globe"/>
          <p:cNvPicPr/>
          <p:nvPr/>
        </p:nvPicPr>
        <p:blipFill>
          <a:blip r:embed="rId2"/>
          <a:stretch/>
        </p:blipFill>
        <p:spPr>
          <a:xfrm>
            <a:off x="6699240" y="4307040"/>
            <a:ext cx="1743120" cy="1742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625320" y="530280"/>
            <a:ext cx="729792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Локальные вычислительные сети (ЛВ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051440" y="4978440"/>
            <a:ext cx="4387680" cy="61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463760" y="1747800"/>
            <a:ext cx="5946840" cy="9525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рхитектура лок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92120" y="3892680"/>
            <a:ext cx="4387680" cy="61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изическая топ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Finder"/>
          <p:cNvPicPr/>
          <p:nvPr/>
        </p:nvPicPr>
        <p:blipFill>
          <a:blip r:embed="rId1"/>
          <a:stretch/>
        </p:blipFill>
        <p:spPr>
          <a:xfrm>
            <a:off x="3816360" y="28940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80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Шинная топология – толст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93"/>
          <p:cNvGrpSpPr/>
          <p:nvPr/>
        </p:nvGrpSpPr>
        <p:grpSpPr>
          <a:xfrm>
            <a:off x="428760" y="1608120"/>
            <a:ext cx="8045280" cy="3737160"/>
            <a:chOff x="428760" y="1608120"/>
            <a:chExt cx="8045280" cy="3737160"/>
          </a:xfrm>
        </p:grpSpPr>
        <p:sp>
          <p:nvSpPr>
            <p:cNvPr id="75" name="AutoShape 81"/>
            <p:cNvSpPr/>
            <p:nvPr/>
          </p:nvSpPr>
          <p:spPr>
            <a:xfrm>
              <a:off x="428760" y="160812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5906160" y="22194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6"/>
            <p:cNvSpPr/>
            <p:nvPr/>
          </p:nvSpPr>
          <p:spPr>
            <a:xfrm>
              <a:off x="1411200" y="4178160"/>
              <a:ext cx="5762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41"/>
            <p:cNvGrpSpPr/>
            <p:nvPr/>
          </p:nvGrpSpPr>
          <p:grpSpPr>
            <a:xfrm>
              <a:off x="2914560" y="3687480"/>
              <a:ext cx="214200" cy="538560"/>
              <a:chOff x="2914560" y="3687480"/>
              <a:chExt cx="214200" cy="538560"/>
            </a:xfrm>
          </p:grpSpPr>
          <p:sp>
            <p:nvSpPr>
              <p:cNvPr id="79" name="Rectangle 37"/>
              <p:cNvSpPr/>
              <p:nvPr/>
            </p:nvSpPr>
            <p:spPr>
              <a:xfrm>
                <a:off x="291456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38"/>
              <p:cNvSpPr/>
              <p:nvPr/>
            </p:nvSpPr>
            <p:spPr>
              <a:xfrm>
                <a:off x="297792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40"/>
              <p:cNvSpPr/>
              <p:nvPr/>
            </p:nvSpPr>
            <p:spPr>
              <a:xfrm flipV="1">
                <a:off x="302256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42"/>
            <p:cNvGrpSpPr/>
            <p:nvPr/>
          </p:nvGrpSpPr>
          <p:grpSpPr>
            <a:xfrm>
              <a:off x="4010040" y="3687480"/>
              <a:ext cx="214200" cy="538560"/>
              <a:chOff x="4010040" y="3687480"/>
              <a:chExt cx="214200" cy="538560"/>
            </a:xfrm>
          </p:grpSpPr>
          <p:sp>
            <p:nvSpPr>
              <p:cNvPr id="83" name="Rectangle 43"/>
              <p:cNvSpPr/>
              <p:nvPr/>
            </p:nvSpPr>
            <p:spPr>
              <a:xfrm>
                <a:off x="401004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44"/>
              <p:cNvSpPr/>
              <p:nvPr/>
            </p:nvSpPr>
            <p:spPr>
              <a:xfrm>
                <a:off x="407340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5"/>
              <p:cNvSpPr/>
              <p:nvPr/>
            </p:nvSpPr>
            <p:spPr>
              <a:xfrm flipV="1">
                <a:off x="411804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46"/>
            <p:cNvGrpSpPr/>
            <p:nvPr/>
          </p:nvGrpSpPr>
          <p:grpSpPr>
            <a:xfrm>
              <a:off x="5040360" y="3687480"/>
              <a:ext cx="214200" cy="538560"/>
              <a:chOff x="5040360" y="3687480"/>
              <a:chExt cx="214200" cy="538560"/>
            </a:xfrm>
          </p:grpSpPr>
          <p:sp>
            <p:nvSpPr>
              <p:cNvPr id="87" name="Rectangle 47"/>
              <p:cNvSpPr/>
              <p:nvPr/>
            </p:nvSpPr>
            <p:spPr>
              <a:xfrm>
                <a:off x="504036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8"/>
              <p:cNvSpPr/>
              <p:nvPr/>
            </p:nvSpPr>
            <p:spPr>
              <a:xfrm>
                <a:off x="510372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49"/>
              <p:cNvSpPr/>
              <p:nvPr/>
            </p:nvSpPr>
            <p:spPr>
              <a:xfrm flipV="1">
                <a:off x="514836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50"/>
            <p:cNvGrpSpPr/>
            <p:nvPr/>
          </p:nvGrpSpPr>
          <p:grpSpPr>
            <a:xfrm>
              <a:off x="6216480" y="3677760"/>
              <a:ext cx="214200" cy="538560"/>
              <a:chOff x="6216480" y="3677760"/>
              <a:chExt cx="214200" cy="538560"/>
            </a:xfrm>
          </p:grpSpPr>
          <p:sp>
            <p:nvSpPr>
              <p:cNvPr id="91" name="Rectangle 51"/>
              <p:cNvSpPr/>
              <p:nvPr/>
            </p:nvSpPr>
            <p:spPr>
              <a:xfrm>
                <a:off x="6216480" y="412740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2"/>
              <p:cNvSpPr/>
              <p:nvPr/>
            </p:nvSpPr>
            <p:spPr>
              <a:xfrm>
                <a:off x="6279840" y="406080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3"/>
              <p:cNvSpPr/>
              <p:nvPr/>
            </p:nvSpPr>
            <p:spPr>
              <a:xfrm flipV="1">
                <a:off x="6324480" y="367776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54"/>
            <p:cNvGrpSpPr/>
            <p:nvPr/>
          </p:nvGrpSpPr>
          <p:grpSpPr>
            <a:xfrm>
              <a:off x="1895400" y="3683160"/>
              <a:ext cx="214200" cy="537480"/>
              <a:chOff x="1895400" y="3683160"/>
              <a:chExt cx="214200" cy="537480"/>
            </a:xfrm>
          </p:grpSpPr>
          <p:sp>
            <p:nvSpPr>
              <p:cNvPr id="95" name="Rectangle 55"/>
              <p:cNvSpPr/>
              <p:nvPr/>
            </p:nvSpPr>
            <p:spPr>
              <a:xfrm>
                <a:off x="1895400" y="4132080"/>
                <a:ext cx="214200" cy="88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6"/>
              <p:cNvSpPr/>
              <p:nvPr/>
            </p:nvSpPr>
            <p:spPr>
              <a:xfrm>
                <a:off x="1958760" y="4065480"/>
                <a:ext cx="88920" cy="15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7"/>
              <p:cNvSpPr/>
              <p:nvPr/>
            </p:nvSpPr>
            <p:spPr>
              <a:xfrm flipV="1">
                <a:off x="2003400" y="3683160"/>
                <a:ext cx="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62"/>
            <p:cNvGrpSpPr/>
            <p:nvPr/>
          </p:nvGrpSpPr>
          <p:grpSpPr>
            <a:xfrm>
              <a:off x="1244520" y="4113360"/>
              <a:ext cx="168120" cy="133200"/>
              <a:chOff x="1244520" y="4113360"/>
              <a:chExt cx="168120" cy="133200"/>
            </a:xfrm>
          </p:grpSpPr>
          <p:sp>
            <p:nvSpPr>
              <p:cNvPr id="99" name="AutoShape 61"/>
              <p:cNvSpPr/>
              <p:nvPr/>
            </p:nvSpPr>
            <p:spPr>
              <a:xfrm>
                <a:off x="1244520" y="4135320"/>
                <a:ext cx="141120" cy="88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59"/>
              <p:cNvSpPr/>
              <p:nvPr/>
            </p:nvSpPr>
            <p:spPr>
              <a:xfrm>
                <a:off x="1323720" y="4113360"/>
                <a:ext cx="88920" cy="1332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63"/>
            <p:cNvGrpSpPr/>
            <p:nvPr/>
          </p:nvGrpSpPr>
          <p:grpSpPr>
            <a:xfrm>
              <a:off x="7137720" y="4103640"/>
              <a:ext cx="168120" cy="133560"/>
              <a:chOff x="7137720" y="4103640"/>
              <a:chExt cx="168120" cy="133560"/>
            </a:xfrm>
          </p:grpSpPr>
          <p:sp>
            <p:nvSpPr>
              <p:cNvPr id="102" name="AutoShape 64"/>
              <p:cNvSpPr/>
              <p:nvPr/>
            </p:nvSpPr>
            <p:spPr>
              <a:xfrm flipH="1">
                <a:off x="7164720" y="4125960"/>
                <a:ext cx="141120" cy="8892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5"/>
              <p:cNvSpPr/>
              <p:nvPr/>
            </p:nvSpPr>
            <p:spPr>
              <a:xfrm flipH="1">
                <a:off x="7137360" y="4103640"/>
                <a:ext cx="88920" cy="1335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AutoShape 78"/>
            <p:cNvSpPr/>
            <p:nvPr/>
          </p:nvSpPr>
          <p:spPr>
            <a:xfrm>
              <a:off x="1073160" y="4633920"/>
              <a:ext cx="1285920" cy="301680"/>
            </a:xfrm>
            <a:prstGeom prst="wedgeRoundRectCallout">
              <a:avLst>
                <a:gd name="adj1" fmla="val -2222"/>
                <a:gd name="adj2" fmla="val -195263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84" descr="K013"/>
            <p:cNvPicPr/>
            <p:nvPr/>
          </p:nvPicPr>
          <p:blipFill>
            <a:blip r:embed="rId2"/>
            <a:stretch/>
          </p:blipFill>
          <p:spPr>
            <a:xfrm>
              <a:off x="2583000" y="30002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5" descr="K013"/>
            <p:cNvPicPr/>
            <p:nvPr/>
          </p:nvPicPr>
          <p:blipFill>
            <a:blip r:embed="rId3"/>
            <a:stretch/>
          </p:blipFill>
          <p:spPr>
            <a:xfrm>
              <a:off x="3676680" y="30002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6" descr="K013"/>
            <p:cNvPicPr/>
            <p:nvPr/>
          </p:nvPicPr>
          <p:blipFill>
            <a:blip r:embed="rId4"/>
            <a:stretch/>
          </p:blipFill>
          <p:spPr>
            <a:xfrm>
              <a:off x="4721400" y="301140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87" descr="K005"/>
            <p:cNvPicPr/>
            <p:nvPr/>
          </p:nvPicPr>
          <p:blipFill>
            <a:blip r:embed="rId5"/>
            <a:stretch/>
          </p:blipFill>
          <p:spPr>
            <a:xfrm>
              <a:off x="5762520" y="2585880"/>
              <a:ext cx="145116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88"/>
            <p:cNvSpPr/>
            <p:nvPr/>
          </p:nvSpPr>
          <p:spPr>
            <a:xfrm>
              <a:off x="1176120" y="274320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9"/>
            <p:cNvSpPr/>
            <p:nvPr/>
          </p:nvSpPr>
          <p:spPr>
            <a:xfrm>
              <a:off x="2781360" y="26607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0"/>
            <p:cNvSpPr/>
            <p:nvPr/>
          </p:nvSpPr>
          <p:spPr>
            <a:xfrm>
              <a:off x="3876840" y="26733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1"/>
            <p:cNvSpPr/>
            <p:nvPr/>
          </p:nvSpPr>
          <p:spPr>
            <a:xfrm>
              <a:off x="4867560" y="2698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92" descr="Printer"/>
            <p:cNvPicPr/>
            <p:nvPr/>
          </p:nvPicPr>
          <p:blipFill>
            <a:blip r:embed="rId6"/>
            <a:stretch/>
          </p:blipFill>
          <p:spPr>
            <a:xfrm>
              <a:off x="1338120" y="2887560"/>
              <a:ext cx="993960" cy="9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6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Шинная топология – тонк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28760" y="1593720"/>
            <a:ext cx="8045280" cy="37371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158440" y="3005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47"/>
          <p:cNvCxnSpPr/>
          <p:nvPr/>
        </p:nvCxnSpPr>
        <p:spPr>
          <a:xfrm flipV="1">
            <a:off x="6002280" y="3195000"/>
            <a:ext cx="829440" cy="781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9" name="AutoShape 48"/>
          <p:cNvCxnSpPr/>
          <p:nvPr/>
        </p:nvCxnSpPr>
        <p:spPr>
          <a:xfrm rot="10800000">
            <a:off x="4642560" y="2477520"/>
            <a:ext cx="613440" cy="1499040"/>
          </a:xfrm>
          <a:prstGeom prst="bentConnector3">
            <a:avLst>
              <a:gd name="adj1" fmla="val 4997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0" name="AutoShape 49"/>
          <p:cNvCxnSpPr/>
          <p:nvPr/>
        </p:nvCxnSpPr>
        <p:spPr>
          <a:xfrm flipV="1" rot="10800000">
            <a:off x="3382200" y="2477160"/>
            <a:ext cx="488160" cy="1418040"/>
          </a:xfrm>
          <a:prstGeom prst="bentConnector3">
            <a:avLst>
              <a:gd name="adj1" fmla="val 5011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1" name="AutoShape 50"/>
          <p:cNvCxnSpPr/>
          <p:nvPr/>
        </p:nvCxnSpPr>
        <p:spPr>
          <a:xfrm rot="10800000">
            <a:off x="2032920" y="2862360"/>
            <a:ext cx="577080" cy="1033560"/>
          </a:xfrm>
          <a:prstGeom prst="bentConnector3">
            <a:avLst>
              <a:gd name="adj1" fmla="val 50124"/>
            </a:avLst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2" name="Picture 53" descr="K013"/>
          <p:cNvPicPr/>
          <p:nvPr/>
        </p:nvPicPr>
        <p:blipFill>
          <a:blip r:embed="rId1"/>
          <a:stretch/>
        </p:blipFill>
        <p:spPr>
          <a:xfrm>
            <a:off x="2603520" y="343548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4" descr="K013"/>
          <p:cNvPicPr/>
          <p:nvPr/>
        </p:nvPicPr>
        <p:blipFill>
          <a:blip r:embed="rId2"/>
          <a:stretch/>
        </p:blipFill>
        <p:spPr>
          <a:xfrm>
            <a:off x="3867120" y="197964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5" descr="K013"/>
          <p:cNvPicPr/>
          <p:nvPr/>
        </p:nvPicPr>
        <p:blipFill>
          <a:blip r:embed="rId3"/>
          <a:stretch/>
        </p:blipFill>
        <p:spPr>
          <a:xfrm>
            <a:off x="6454800" y="23796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7" descr="K005"/>
          <p:cNvPicPr/>
          <p:nvPr/>
        </p:nvPicPr>
        <p:blipFill>
          <a:blip r:embed="rId4"/>
          <a:stretch/>
        </p:blipFill>
        <p:spPr>
          <a:xfrm>
            <a:off x="5065560" y="3346560"/>
            <a:ext cx="1451160" cy="1395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8"/>
          <p:cNvSpPr/>
          <p:nvPr/>
        </p:nvSpPr>
        <p:spPr>
          <a:xfrm>
            <a:off x="1125360" y="21495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2770560" y="31399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0"/>
          <p:cNvSpPr/>
          <p:nvPr/>
        </p:nvSpPr>
        <p:spPr>
          <a:xfrm>
            <a:off x="4072320" y="1698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6661440" y="20588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2" descr="Printer"/>
          <p:cNvPicPr/>
          <p:nvPr/>
        </p:nvPicPr>
        <p:blipFill>
          <a:blip r:embed="rId5"/>
          <a:stretch/>
        </p:blipFill>
        <p:spPr>
          <a:xfrm>
            <a:off x="1198440" y="2282760"/>
            <a:ext cx="993960" cy="99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4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вездообраз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1"/>
          <p:cNvGrpSpPr/>
          <p:nvPr/>
        </p:nvGrpSpPr>
        <p:grpSpPr>
          <a:xfrm>
            <a:off x="441360" y="1596960"/>
            <a:ext cx="8045280" cy="3737160"/>
            <a:chOff x="441360" y="1596960"/>
            <a:chExt cx="8045280" cy="3737160"/>
          </a:xfrm>
        </p:grpSpPr>
        <p:sp>
          <p:nvSpPr>
            <p:cNvPr id="134" name="AutoShape 53"/>
            <p:cNvSpPr/>
            <p:nvPr/>
          </p:nvSpPr>
          <p:spPr>
            <a:xfrm>
              <a:off x="441360" y="159696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5900040" y="306072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3197160" y="3379680"/>
              <a:ext cx="1098720" cy="91440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5"/>
            <p:cNvSpPr/>
            <p:nvPr/>
          </p:nvSpPr>
          <p:spPr>
            <a:xfrm>
              <a:off x="2585880" y="3014640"/>
              <a:ext cx="2052720" cy="42696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6"/>
            <p:cNvSpPr/>
            <p:nvPr/>
          </p:nvSpPr>
          <p:spPr>
            <a:xfrm>
              <a:off x="4516560" y="2463840"/>
              <a:ext cx="941400" cy="99864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4564080" y="3554280"/>
              <a:ext cx="792000" cy="88272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4645080" y="3427560"/>
              <a:ext cx="1278000" cy="23940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55" descr="K005"/>
            <p:cNvPicPr/>
            <p:nvPr/>
          </p:nvPicPr>
          <p:blipFill>
            <a:blip r:embed="rId1"/>
            <a:stretch/>
          </p:blipFill>
          <p:spPr>
            <a:xfrm>
              <a:off x="5786280" y="3386160"/>
              <a:ext cx="1451160" cy="13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6" descr="K013"/>
            <p:cNvPicPr/>
            <p:nvPr/>
          </p:nvPicPr>
          <p:blipFill>
            <a:blip r:embed="rId2"/>
            <a:stretch/>
          </p:blipFill>
          <p:spPr>
            <a:xfrm>
              <a:off x="5424480" y="20336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8" descr="K013"/>
            <p:cNvPicPr/>
            <p:nvPr/>
          </p:nvPicPr>
          <p:blipFill>
            <a:blip r:embed="rId3"/>
            <a:stretch/>
          </p:blipFill>
          <p:spPr>
            <a:xfrm>
              <a:off x="2425680" y="414648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9" descr="K013"/>
            <p:cNvPicPr/>
            <p:nvPr/>
          </p:nvPicPr>
          <p:blipFill>
            <a:blip r:embed="rId4"/>
            <a:stretch/>
          </p:blipFill>
          <p:spPr>
            <a:xfrm>
              <a:off x="4317840" y="430056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60"/>
            <p:cNvSpPr/>
            <p:nvPr/>
          </p:nvSpPr>
          <p:spPr>
            <a:xfrm>
              <a:off x="2590920" y="381168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1"/>
            <p:cNvSpPr/>
            <p:nvPr/>
          </p:nvSpPr>
          <p:spPr>
            <a:xfrm>
              <a:off x="4510440" y="400680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3"/>
            <p:cNvSpPr/>
            <p:nvPr/>
          </p:nvSpPr>
          <p:spPr>
            <a:xfrm>
              <a:off x="5591520" y="17780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64" descr="Printer"/>
            <p:cNvPicPr/>
            <p:nvPr/>
          </p:nvPicPr>
          <p:blipFill>
            <a:blip r:embed="rId5"/>
            <a:stretch/>
          </p:blipFill>
          <p:spPr>
            <a:xfrm>
              <a:off x="1805040" y="2387520"/>
              <a:ext cx="9936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65"/>
            <p:cNvSpPr/>
            <p:nvPr/>
          </p:nvSpPr>
          <p:spPr>
            <a:xfrm>
              <a:off x="1680840" y="227952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67" descr="hd4"/>
            <p:cNvPicPr/>
            <p:nvPr/>
          </p:nvPicPr>
          <p:blipFill>
            <a:blip r:embed="rId6"/>
            <a:stretch/>
          </p:blipFill>
          <p:spPr>
            <a:xfrm>
              <a:off x="4025880" y="29876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8"/>
            <p:cNvSpPr/>
            <p:nvPr/>
          </p:nvSpPr>
          <p:spPr>
            <a:xfrm>
              <a:off x="3766680" y="2664000"/>
              <a:ext cx="114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(хаб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аспределённая звёзд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4867200" y="1365120"/>
            <a:ext cx="3846600" cy="1922760"/>
            <a:chOff x="4867200" y="1365120"/>
            <a:chExt cx="3846600" cy="1922760"/>
          </a:xfrm>
        </p:grpSpPr>
        <p:sp>
          <p:nvSpPr>
            <p:cNvPr id="155" name="AutoShape 4"/>
            <p:cNvSpPr/>
            <p:nvPr/>
          </p:nvSpPr>
          <p:spPr>
            <a:xfrm>
              <a:off x="4867200" y="1365120"/>
              <a:ext cx="3846600" cy="19227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7476480" y="219060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6184800" y="228240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5892480" y="209448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15520" y="181116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38200" y="237204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877080" y="230688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11" descr="K005"/>
            <p:cNvPicPr/>
            <p:nvPr/>
          </p:nvPicPr>
          <p:blipFill>
            <a:blip r:embed="rId1"/>
            <a:stretch/>
          </p:blipFill>
          <p:spPr>
            <a:xfrm>
              <a:off x="7422480" y="228564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2" descr="K013"/>
            <p:cNvPicPr/>
            <p:nvPr/>
          </p:nvPicPr>
          <p:blipFill>
            <a:blip r:embed="rId2"/>
            <a:stretch/>
          </p:blipFill>
          <p:spPr>
            <a:xfrm>
              <a:off x="7249680" y="15897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3" descr="K013"/>
            <p:cNvPicPr/>
            <p:nvPr/>
          </p:nvPicPr>
          <p:blipFill>
            <a:blip r:embed="rId3"/>
            <a:stretch/>
          </p:blipFill>
          <p:spPr>
            <a:xfrm>
              <a:off x="5815800" y="26769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4" descr="K013"/>
            <p:cNvPicPr/>
            <p:nvPr/>
          </p:nvPicPr>
          <p:blipFill>
            <a:blip r:embed="rId4"/>
            <a:stretch/>
          </p:blipFill>
          <p:spPr>
            <a:xfrm>
              <a:off x="6720480" y="27561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5"/>
            <p:cNvSpPr/>
            <p:nvPr/>
          </p:nvSpPr>
          <p:spPr>
            <a:xfrm>
              <a:off x="5896080" y="25527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6814080" y="26539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7329600" y="1508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8" descr="Printer"/>
            <p:cNvPicPr/>
            <p:nvPr/>
          </p:nvPicPr>
          <p:blipFill>
            <a:blip r:embed="rId5"/>
            <a:stretch/>
          </p:blipFill>
          <p:spPr>
            <a:xfrm>
              <a:off x="5519160" y="177156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19"/>
            <p:cNvSpPr/>
            <p:nvPr/>
          </p:nvSpPr>
          <p:spPr>
            <a:xfrm>
              <a:off x="5460480" y="176508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0" descr="hd4"/>
            <p:cNvPicPr/>
            <p:nvPr/>
          </p:nvPicPr>
          <p:blipFill>
            <a:blip r:embed="rId6"/>
            <a:stretch/>
          </p:blipFill>
          <p:spPr>
            <a:xfrm>
              <a:off x="6580800" y="208044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1"/>
            <p:cNvSpPr/>
            <p:nvPr/>
          </p:nvSpPr>
          <p:spPr>
            <a:xfrm>
              <a:off x="6456960" y="196380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3205080" y="4411800"/>
            <a:ext cx="3846600" cy="1922400"/>
            <a:chOff x="3205080" y="4411800"/>
            <a:chExt cx="3846600" cy="1922400"/>
          </a:xfrm>
        </p:grpSpPr>
        <p:sp>
          <p:nvSpPr>
            <p:cNvPr id="174" name="AutoShape 42"/>
            <p:cNvSpPr/>
            <p:nvPr/>
          </p:nvSpPr>
          <p:spPr>
            <a:xfrm>
              <a:off x="3205080" y="4411800"/>
              <a:ext cx="3846600" cy="192240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3"/>
            <p:cNvSpPr/>
            <p:nvPr/>
          </p:nvSpPr>
          <p:spPr>
            <a:xfrm>
              <a:off x="5814360" y="523728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4"/>
            <p:cNvSpPr/>
            <p:nvPr/>
          </p:nvSpPr>
          <p:spPr>
            <a:xfrm>
              <a:off x="4522680" y="532872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5"/>
            <p:cNvSpPr/>
            <p:nvPr/>
          </p:nvSpPr>
          <p:spPr>
            <a:xfrm>
              <a:off x="4230360" y="514080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6"/>
            <p:cNvSpPr/>
            <p:nvPr/>
          </p:nvSpPr>
          <p:spPr>
            <a:xfrm>
              <a:off x="5153400" y="485748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7"/>
            <p:cNvSpPr/>
            <p:nvPr/>
          </p:nvSpPr>
          <p:spPr>
            <a:xfrm>
              <a:off x="5176080" y="541872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8"/>
            <p:cNvSpPr/>
            <p:nvPr/>
          </p:nvSpPr>
          <p:spPr>
            <a:xfrm>
              <a:off x="5214960" y="535320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9" descr="K005"/>
            <p:cNvPicPr/>
            <p:nvPr/>
          </p:nvPicPr>
          <p:blipFill>
            <a:blip r:embed="rId7"/>
            <a:stretch/>
          </p:blipFill>
          <p:spPr>
            <a:xfrm>
              <a:off x="5760360" y="533196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0" descr="K013"/>
            <p:cNvPicPr/>
            <p:nvPr/>
          </p:nvPicPr>
          <p:blipFill>
            <a:blip r:embed="rId8"/>
            <a:stretch/>
          </p:blipFill>
          <p:spPr>
            <a:xfrm>
              <a:off x="5587560" y="46364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1" descr="K013"/>
            <p:cNvPicPr/>
            <p:nvPr/>
          </p:nvPicPr>
          <p:blipFill>
            <a:blip r:embed="rId9"/>
            <a:stretch/>
          </p:blipFill>
          <p:spPr>
            <a:xfrm>
              <a:off x="4153680" y="57232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52" descr="K013"/>
            <p:cNvPicPr/>
            <p:nvPr/>
          </p:nvPicPr>
          <p:blipFill>
            <a:blip r:embed="rId10"/>
            <a:stretch/>
          </p:blipFill>
          <p:spPr>
            <a:xfrm>
              <a:off x="5058360" y="58024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53"/>
            <p:cNvSpPr/>
            <p:nvPr/>
          </p:nvSpPr>
          <p:spPr>
            <a:xfrm>
              <a:off x="4233960" y="55990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4"/>
            <p:cNvSpPr/>
            <p:nvPr/>
          </p:nvSpPr>
          <p:spPr>
            <a:xfrm>
              <a:off x="5151960" y="57006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5"/>
            <p:cNvSpPr/>
            <p:nvPr/>
          </p:nvSpPr>
          <p:spPr>
            <a:xfrm>
              <a:off x="5667480" y="45547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56" descr="Printer"/>
            <p:cNvPicPr/>
            <p:nvPr/>
          </p:nvPicPr>
          <p:blipFill>
            <a:blip r:embed="rId11"/>
            <a:stretch/>
          </p:blipFill>
          <p:spPr>
            <a:xfrm>
              <a:off x="3857040" y="481824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57"/>
            <p:cNvSpPr/>
            <p:nvPr/>
          </p:nvSpPr>
          <p:spPr>
            <a:xfrm>
              <a:off x="3798360" y="481176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58" descr="hd4"/>
            <p:cNvPicPr/>
            <p:nvPr/>
          </p:nvPicPr>
          <p:blipFill>
            <a:blip r:embed="rId12"/>
            <a:stretch/>
          </p:blipFill>
          <p:spPr>
            <a:xfrm>
              <a:off x="4918680" y="512712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59"/>
            <p:cNvSpPr/>
            <p:nvPr/>
          </p:nvSpPr>
          <p:spPr>
            <a:xfrm>
              <a:off x="4794840" y="501048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60"/>
          <p:cNvGrpSpPr/>
          <p:nvPr/>
        </p:nvGrpSpPr>
        <p:grpSpPr>
          <a:xfrm>
            <a:off x="488880" y="1881360"/>
            <a:ext cx="3846600" cy="1922400"/>
            <a:chOff x="488880" y="1881360"/>
            <a:chExt cx="3846600" cy="1922400"/>
          </a:xfrm>
        </p:grpSpPr>
        <p:sp>
          <p:nvSpPr>
            <p:cNvPr id="193" name="AutoShape 61"/>
            <p:cNvSpPr/>
            <p:nvPr/>
          </p:nvSpPr>
          <p:spPr>
            <a:xfrm>
              <a:off x="488880" y="1881360"/>
              <a:ext cx="3846600" cy="192240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2"/>
            <p:cNvSpPr/>
            <p:nvPr/>
          </p:nvSpPr>
          <p:spPr>
            <a:xfrm>
              <a:off x="3098160" y="270684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3"/>
            <p:cNvSpPr/>
            <p:nvPr/>
          </p:nvSpPr>
          <p:spPr>
            <a:xfrm>
              <a:off x="1806480" y="279828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4"/>
            <p:cNvSpPr/>
            <p:nvPr/>
          </p:nvSpPr>
          <p:spPr>
            <a:xfrm>
              <a:off x="1514160" y="261036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5"/>
            <p:cNvSpPr/>
            <p:nvPr/>
          </p:nvSpPr>
          <p:spPr>
            <a:xfrm>
              <a:off x="2437200" y="232704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6"/>
            <p:cNvSpPr/>
            <p:nvPr/>
          </p:nvSpPr>
          <p:spPr>
            <a:xfrm>
              <a:off x="2459880" y="288828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7"/>
            <p:cNvSpPr/>
            <p:nvPr/>
          </p:nvSpPr>
          <p:spPr>
            <a:xfrm>
              <a:off x="2498760" y="282276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68" descr="K005"/>
            <p:cNvPicPr/>
            <p:nvPr/>
          </p:nvPicPr>
          <p:blipFill>
            <a:blip r:embed="rId13"/>
            <a:stretch/>
          </p:blipFill>
          <p:spPr>
            <a:xfrm>
              <a:off x="3044160" y="280152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69" descr="K013"/>
            <p:cNvPicPr/>
            <p:nvPr/>
          </p:nvPicPr>
          <p:blipFill>
            <a:blip r:embed="rId14"/>
            <a:stretch/>
          </p:blipFill>
          <p:spPr>
            <a:xfrm>
              <a:off x="2871360" y="210600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70" descr="K013"/>
            <p:cNvPicPr/>
            <p:nvPr/>
          </p:nvPicPr>
          <p:blipFill>
            <a:blip r:embed="rId15"/>
            <a:stretch/>
          </p:blipFill>
          <p:spPr>
            <a:xfrm>
              <a:off x="1437480" y="31928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1" descr="K013"/>
            <p:cNvPicPr/>
            <p:nvPr/>
          </p:nvPicPr>
          <p:blipFill>
            <a:blip r:embed="rId16"/>
            <a:stretch/>
          </p:blipFill>
          <p:spPr>
            <a:xfrm>
              <a:off x="2342160" y="32720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72"/>
            <p:cNvSpPr/>
            <p:nvPr/>
          </p:nvSpPr>
          <p:spPr>
            <a:xfrm>
              <a:off x="1517760" y="30686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3"/>
            <p:cNvSpPr/>
            <p:nvPr/>
          </p:nvSpPr>
          <p:spPr>
            <a:xfrm>
              <a:off x="2435760" y="31701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4"/>
            <p:cNvSpPr/>
            <p:nvPr/>
          </p:nvSpPr>
          <p:spPr>
            <a:xfrm>
              <a:off x="2951280" y="20242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75" descr="Printer"/>
            <p:cNvPicPr/>
            <p:nvPr/>
          </p:nvPicPr>
          <p:blipFill>
            <a:blip r:embed="rId17"/>
            <a:stretch/>
          </p:blipFill>
          <p:spPr>
            <a:xfrm>
              <a:off x="1140840" y="228780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76"/>
            <p:cNvSpPr/>
            <p:nvPr/>
          </p:nvSpPr>
          <p:spPr>
            <a:xfrm>
              <a:off x="1082160" y="228132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77" descr="hd4"/>
            <p:cNvPicPr/>
            <p:nvPr/>
          </p:nvPicPr>
          <p:blipFill>
            <a:blip r:embed="rId18"/>
            <a:stretch/>
          </p:blipFill>
          <p:spPr>
            <a:xfrm>
              <a:off x="2202480" y="259668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78"/>
            <p:cNvSpPr/>
            <p:nvPr/>
          </p:nvSpPr>
          <p:spPr>
            <a:xfrm>
              <a:off x="2078640" y="248004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79"/>
          <p:cNvSpPr/>
          <p:nvPr/>
        </p:nvSpPr>
        <p:spPr>
          <a:xfrm flipH="1">
            <a:off x="5138280" y="2357280"/>
            <a:ext cx="1660680" cy="2872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0"/>
          <p:cNvSpPr/>
          <p:nvPr/>
        </p:nvSpPr>
        <p:spPr>
          <a:xfrm flipV="1">
            <a:off x="2498760" y="2304720"/>
            <a:ext cx="4327560" cy="515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2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льцеобраз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4"/>
          <p:cNvGrpSpPr/>
          <p:nvPr/>
        </p:nvGrpSpPr>
        <p:grpSpPr>
          <a:xfrm>
            <a:off x="428760" y="1593720"/>
            <a:ext cx="8045280" cy="3737160"/>
            <a:chOff x="428760" y="1593720"/>
            <a:chExt cx="8045280" cy="3737160"/>
          </a:xfrm>
        </p:grpSpPr>
        <p:sp>
          <p:nvSpPr>
            <p:cNvPr id="216" name="AutoShape 73"/>
            <p:cNvSpPr/>
            <p:nvPr/>
          </p:nvSpPr>
          <p:spPr>
            <a:xfrm>
              <a:off x="428760" y="159372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>
              <a:off x="6517440" y="23781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1539720" y="2813040"/>
              <a:ext cx="5459400" cy="132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>
              <a:off x="3986280" y="4130640"/>
              <a:ext cx="1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6"/>
            <p:cNvSpPr/>
            <p:nvPr/>
          </p:nvSpPr>
          <p:spPr>
            <a:xfrm flipV="1">
              <a:off x="5954040" y="3960720"/>
              <a:ext cx="155160" cy="2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7"/>
            <p:cNvSpPr/>
            <p:nvPr/>
          </p:nvSpPr>
          <p:spPr>
            <a:xfrm flipH="1" flipV="1">
              <a:off x="5862600" y="2923920"/>
              <a:ext cx="154080" cy="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8"/>
            <p:cNvSpPr/>
            <p:nvPr/>
          </p:nvSpPr>
          <p:spPr>
            <a:xfrm flipH="1">
              <a:off x="3755520" y="2825640"/>
              <a:ext cx="15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9"/>
            <p:cNvSpPr/>
            <p:nvPr/>
          </p:nvSpPr>
          <p:spPr>
            <a:xfrm flipH="1">
              <a:off x="1988280" y="3048120"/>
              <a:ext cx="146160" cy="5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0"/>
            <p:cNvSpPr/>
            <p:nvPr/>
          </p:nvSpPr>
          <p:spPr>
            <a:xfrm>
              <a:off x="2032920" y="3855240"/>
              <a:ext cx="149040" cy="4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43" descr="K013"/>
            <p:cNvPicPr/>
            <p:nvPr/>
          </p:nvPicPr>
          <p:blipFill>
            <a:blip r:embed="rId1"/>
            <a:stretch/>
          </p:blipFill>
          <p:spPr>
            <a:xfrm>
              <a:off x="2616120" y="37069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4" descr="K013"/>
            <p:cNvPicPr/>
            <p:nvPr/>
          </p:nvPicPr>
          <p:blipFill>
            <a:blip r:embed="rId2"/>
            <a:stretch/>
          </p:blipFill>
          <p:spPr>
            <a:xfrm>
              <a:off x="4573440" y="37321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5" descr="K013"/>
            <p:cNvPicPr/>
            <p:nvPr/>
          </p:nvPicPr>
          <p:blipFill>
            <a:blip r:embed="rId3"/>
            <a:stretch/>
          </p:blipFill>
          <p:spPr>
            <a:xfrm>
              <a:off x="915840" y="303696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6" descr="K013"/>
            <p:cNvPicPr/>
            <p:nvPr/>
          </p:nvPicPr>
          <p:blipFill>
            <a:blip r:embed="rId4"/>
            <a:stretch/>
          </p:blipFill>
          <p:spPr>
            <a:xfrm>
              <a:off x="2604960" y="21733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7" descr="K013"/>
            <p:cNvPicPr/>
            <p:nvPr/>
          </p:nvPicPr>
          <p:blipFill>
            <a:blip r:embed="rId5"/>
            <a:stretch/>
          </p:blipFill>
          <p:spPr>
            <a:xfrm>
              <a:off x="4446720" y="207000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K005"/>
            <p:cNvPicPr/>
            <p:nvPr/>
          </p:nvPicPr>
          <p:blipFill>
            <a:blip r:embed="rId6"/>
            <a:stretch/>
          </p:blipFill>
          <p:spPr>
            <a:xfrm>
              <a:off x="6365880" y="2792520"/>
              <a:ext cx="1450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49"/>
            <p:cNvSpPr/>
            <p:nvPr/>
          </p:nvSpPr>
          <p:spPr>
            <a:xfrm>
              <a:off x="2795760" y="3422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0"/>
            <p:cNvSpPr/>
            <p:nvPr/>
          </p:nvSpPr>
          <p:spPr>
            <a:xfrm>
              <a:off x="1097280" y="2690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1"/>
            <p:cNvSpPr/>
            <p:nvPr/>
          </p:nvSpPr>
          <p:spPr>
            <a:xfrm>
              <a:off x="2795760" y="18525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2"/>
            <p:cNvSpPr/>
            <p:nvPr/>
          </p:nvSpPr>
          <p:spPr>
            <a:xfrm>
              <a:off x="4624560" y="17240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3"/>
            <p:cNvSpPr/>
            <p:nvPr/>
          </p:nvSpPr>
          <p:spPr>
            <a:xfrm>
              <a:off x="4778640" y="3397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LEGION</cp:lastModifiedBy>
  <dcterms:modified xsi:type="dcterms:W3CDTF">2015-04-01T07:15:39Z</dcterms:modified>
  <cp:revision>566</cp:revision>
  <dc:subject/>
  <dc:title>Программное обеспечение (ПО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e000000000001024140</vt:lpwstr>
  </property>
</Properties>
</file>