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2122-8DE5-474B-93CD-E240410645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" Target="../slides/slide10.xml"/><Relationship Id="rId5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" Target="../slides/slide11.xml"/><Relationship Id="rId5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" Target="../slides/slide9.xml"/><Relationship Id="rId8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3345-7785-40FD-86E3-B411B345B2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хитектура компьют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Слайд-ш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ая структура 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истемного бл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истрально-модульное устройство 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нская(системная) п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долговременной памяти (П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ввод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вывод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ые устро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вывод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а для вывода зву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9658-79C2-4165-B832-7D0417A6FA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ые устро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3C2E-8F98-42B7-B4B9-C03C0D1600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72A4-E21F-4347-ABFD-8A691F19BE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F374-F524-48CE-B442-2B6064B6AF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структура 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ни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лонки, науш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ан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3366-A19F-4E9A-99DA-9D73545A97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ног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9260-DCED-4B6D-B477-C0455E504B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истрально-модульное устройство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991E-30DD-4F8C-AD28-466B3E1D0B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личество тактов в секун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42FD-9E09-47B4-A933-7CD5D10F52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нская(системная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8757-8A59-451F-A847-CDA5195902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долговременной памяти (П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2E1F-6D63-434C-A6DB-87AEE0D62B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ройства ввода 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нипуля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7EAE-9FA3-44AA-808C-F9949C5A3B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52B5-10E4-46AE-8F27-456A8229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8C29-6114-4AF4-80AB-99B7F1ED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90B-E80B-4969-BF5A-EB4B9DF5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897-BACA-4A2D-B9CB-AA435835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9E0B-E1C8-470F-9683-6C8C742C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0448-60B5-450B-A459-36E8687C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4768-5403-4913-A6B9-920380E4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243A-B5EB-4BC0-87A1-A00B0E26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58D1-5D39-47CD-85E5-2A5AA5ED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E2A4-FE64-4DAF-A694-BAFAA49F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AAEA-F436-485D-B1F0-A949796E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68E4-7AAC-47FE-819E-3D1CF5E5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E7A9-6550-4118-A2D3-04BE270A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A1E4-ACBB-4ECE-AAB4-94729AE6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C205-FF9C-4116-A82D-612ABDC5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0701-A5BB-4873-9AC9-7097E91E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0106-7CED-4F5B-9F4E-06445960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3194-F160-48A6-A699-50D6199C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374-30A0-4BD8-8263-F2CA89B6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01B-D3EC-4A81-BE25-2F49F8A8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1DA-9BF6-4B64-A408-51EEFCA6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129-1F18-46AB-B1C0-FB507459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A737-3D30-4CA9-B66F-047132AB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C347-270D-4182-B44A-25E82D72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9EB0-CDE5-4809-8C27-F91423B72D9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4DC3-732A-4586-8695-B24A7FAA08E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7.xml"/><Relationship Id="rId12" Type="http://schemas.openxmlformats.org/officeDocument/2006/relationships/image" Target="../media/image2.png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8.xml"/><Relationship Id="rId8" Type="http://schemas.openxmlformats.org/officeDocument/2006/relationships/image" Target="../media/image4.png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Архитектура компьюте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Слайд-ш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Основная структура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Структура системного бл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Магистрально-модульное устройство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Материнская(системная) п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Устройства долговременной памяти (ПЗ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Устройства в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Устройства вы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Сетевые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6" descr="BD21377_"/>
          <p:cNvPicPr/>
          <p:nvPr/>
        </p:nvPicPr>
        <p:blipFill>
          <a:blip r:embed="rId12"/>
          <a:stretch/>
        </p:blipFill>
        <p:spPr>
          <a:xfrm>
            <a:off x="7867800" y="49179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BD21377_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9029880" y="674388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BD21298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BD21298_"/>
          <p:cNvPicPr/>
          <p:nvPr/>
        </p:nvPicPr>
        <p:blipFill>
          <a:blip r:embed="rId6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BD21298_"/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BD21298_"/>
          <p:cNvPicPr/>
          <p:nvPr/>
        </p:nvPicPr>
        <p:blipFill>
          <a:blip r:embed="rId5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j0195384"/>
          <p:cNvPicPr/>
          <p:nvPr/>
        </p:nvPicPr>
        <p:blipFill>
          <a:blip r:embed="rId1"/>
          <a:stretch/>
        </p:blipFill>
        <p:spPr>
          <a:xfrm>
            <a:off x="1403280" y="189000"/>
            <a:ext cx="6531120" cy="6669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j0292982"/>
          <p:cNvPicPr/>
          <p:nvPr/>
        </p:nvPicPr>
        <p:blipFill>
          <a:blip r:embed="rId1"/>
          <a:stretch/>
        </p:blipFill>
        <p:spPr>
          <a:xfrm>
            <a:off x="755640" y="333360"/>
            <a:ext cx="3745080" cy="36972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5"/>
          <p:cNvSpPr txBox="1"/>
          <p:nvPr/>
        </p:nvSpPr>
        <p:spPr>
          <a:xfrm>
            <a:off x="3924360" y="2997360"/>
            <a:ext cx="482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END</a:t>
            </a:r>
            <a:endParaRPr b="0" lang="en-US" sz="7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6"/>
          <p:cNvSpPr txBox="1"/>
          <p:nvPr/>
        </p:nvSpPr>
        <p:spPr>
          <a:xfrm>
            <a:off x="826920" y="1413000"/>
            <a:ext cx="761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ю выполнил :</a:t>
            </a:r>
            <a:endParaRPr b="0" i="1" lang="en-US" sz="7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WordArt 7"/>
          <p:cNvSpPr txBox="1"/>
          <p:nvPr/>
        </p:nvSpPr>
        <p:spPr>
          <a:xfrm>
            <a:off x="2050920" y="3068640"/>
            <a:ext cx="4913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ажкин А. В.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395280" y="333360"/>
            <a:ext cx="446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Слайд-шоу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1835280" y="2060640"/>
            <a:ext cx="4825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разработано  в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2411280" y="3933720"/>
            <a:ext cx="660744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rosoft  PowerPoint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Рисунок1"/>
          <p:cNvPicPr/>
          <p:nvPr/>
        </p:nvPicPr>
        <p:blipFill>
          <a:blip r:embed="rId1"/>
          <a:stretch/>
        </p:blipFill>
        <p:spPr>
          <a:xfrm>
            <a:off x="4284720" y="3554280"/>
            <a:ext cx="4572000" cy="3303720"/>
          </a:xfrm>
          <a:prstGeom prst="rect">
            <a:avLst/>
          </a:prstGeom>
          <a:ln w="0">
            <a:noFill/>
          </a:ln>
        </p:spPr>
      </p:pic>
      <p:sp>
        <p:nvSpPr>
          <p:cNvPr id="179" name="WordArt 4"/>
          <p:cNvSpPr txBox="1"/>
          <p:nvPr/>
        </p:nvSpPr>
        <p:spPr>
          <a:xfrm>
            <a:off x="755640" y="620640"/>
            <a:ext cx="7704000" cy="288144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п а с и б о  з а  п р о с м о т р  !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16" descr="j0293240"/>
          <p:cNvPicPr/>
          <p:nvPr/>
        </p:nvPicPr>
        <p:blipFill>
          <a:blip r:embed="rId2"/>
          <a:stretch/>
        </p:blipFill>
        <p:spPr>
          <a:xfrm>
            <a:off x="395280" y="6381720"/>
            <a:ext cx="504720" cy="3729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7"/>
          <p:cNvSpPr/>
          <p:nvPr/>
        </p:nvSpPr>
        <p:spPr>
          <a:xfrm>
            <a:off x="179280" y="664380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66"/>
                </a:solidFill>
                <a:latin typeface="Arial"/>
              </a:rPr>
              <a:t>Смотреть снов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1" descr="BD14579_"/>
          <p:cNvPicPr/>
          <p:nvPr/>
        </p:nvPicPr>
        <p:blipFill>
          <a:blip r:embed="rId3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2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9600"/>
            </a:br>
            <a:r>
              <a:rPr b="0" lang="ru-RU" sz="96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0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j0205582"/>
          <p:cNvPicPr/>
          <p:nvPr/>
        </p:nvPicPr>
        <p:blipFill>
          <a:blip r:embed="rId5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5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19" name="Gear"/>
            <p:cNvSpPr/>
            <p:nvPr/>
          </p:nvSpPr>
          <p:spPr>
            <a:xfrm>
              <a:off x="6572160" y="2349360"/>
              <a:ext cx="1897200" cy="1663920"/>
            </a:xfrm>
            <a:custGeom>
              <a:avLst/>
              <a:gdLst>
                <a:gd name="textAreaLeft" fmla="*/ 384120 w 1897200"/>
                <a:gd name="textAreaRight" fmla="*/ 1567080 w 1897200"/>
                <a:gd name="textAreaTop" fmla="*/ 304560 h 1663920"/>
                <a:gd name="textAreaBottom" fmla="*/ 1359360 h 166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>
              <a:off x="4211640" y="3035160"/>
              <a:ext cx="2268360" cy="1989360"/>
            </a:xfrm>
            <a:custGeom>
              <a:avLst/>
              <a:gdLst>
                <a:gd name="textAreaLeft" fmla="*/ 458640 w 2268360"/>
                <a:gd name="textAreaRight" fmla="*/ 1873080 w 2268360"/>
                <a:gd name="textAreaTop" fmla="*/ 365040 h 1989360"/>
                <a:gd name="textAreaBottom" fmla="*/ 1624320 h 198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8"/>
            <p:cNvSpPr/>
            <p:nvPr/>
          </p:nvSpPr>
          <p:spPr>
            <a:xfrm>
              <a:off x="5682960" y="3768840"/>
              <a:ext cx="2521080" cy="2209680"/>
            </a:xfrm>
            <a:custGeom>
              <a:avLst/>
              <a:gdLst>
                <a:gd name="textAreaLeft" fmla="*/ 511200 w 2521080"/>
                <a:gd name="textAreaRight" fmla="*/ 2082960 w 2521080"/>
                <a:gd name="textAreaTop" fmla="*/ 404640 h 2209680"/>
                <a:gd name="textAreaBottom" fmla="*/ 180360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1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2000"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32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9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Безымянный"/>
          <p:cNvPicPr/>
          <p:nvPr/>
        </p:nvPicPr>
        <p:blipFill>
          <a:blip r:embed="rId5"/>
          <a:stretch/>
        </p:blipFill>
        <p:spPr>
          <a:xfrm>
            <a:off x="1116000" y="692280"/>
            <a:ext cx="6993000" cy="31622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3000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45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982" descr="Безымянный456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83" descr="BD21298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84" descr="BD21298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0">
    <p:pull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54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740"/>
                            </p:stCondLst>
                            <p:childTnLst>
                              <p:par>
                                <p:cTn id="1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774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904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Материнская(системная)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лат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3" descr="БезымянныйРПСОЛПОПН"/>
          <p:cNvPicPr/>
          <p:nvPr/>
        </p:nvPicPr>
        <p:blipFill>
          <a:blip r:embed="rId1"/>
          <a:stretch/>
        </p:blipFill>
        <p:spPr>
          <a:xfrm>
            <a:off x="1116000" y="2637000"/>
            <a:ext cx="6551640" cy="401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BD21298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BD21298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6" name="Picture 154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5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468360" y="1557360"/>
          <a:ext cx="8229600" cy="4173480"/>
        </p:xfrm>
        <a:graphic>
          <a:graphicData uri="http://schemas.openxmlformats.org/drawingml/2006/table">
            <a:tbl>
              <a:tblPr/>
              <a:tblGrid>
                <a:gridCol w="2301840"/>
                <a:gridCol w="2317680"/>
                <a:gridCol w="3610080"/>
              </a:tblGrid>
              <a:tr h="7174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аименование 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нформационная 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Магнитные пол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0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H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Удары при установ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        </a:t>
                      </a: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C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58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DV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0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lash-пам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9" descr="BD21298_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BD21298_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1:03:31Z</dcterms:created>
  <dc:creator>Александр</dc:creator>
  <dc:description/>
  <dc:language>en-US</dc:language>
  <cp:lastModifiedBy>LEGION</cp:lastModifiedBy>
  <dcterms:modified xsi:type="dcterms:W3CDTF">2015-04-01T07:19:53Z</dcterms:modified>
  <cp:revision>8</cp:revision>
  <dc:subject/>
  <dc:title>Архитектура компьютера</dc:title>
</cp:coreProperties>
</file>