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C3BF-11FC-4021-A693-2A6F4E1D59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" Target="../slides/slide10.xml"/><Relationship Id="rId5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" Target="../slides/slide11.xml"/><Relationship Id="rId5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" Target="../slides/slide9.xml"/><Relationship Id="rId8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9662-882B-4443-9528-696693F7B1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хитектура компью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Слайд-ш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структура 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истемного бл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истрально-модульное устройство 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нская(системная)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долговременной памяти (П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ввод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вывод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ые устро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вывод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а для вывода зву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32D9-AF62-4F8D-B1A6-E352B4815D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ые устро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DBFE-1701-4BED-9845-62CB53F834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529B-F68E-4CF6-A514-DA9DF70A4D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FFA4-3301-4A65-93B9-08EA9721D5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структура 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лонки, науш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ан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772E-5C01-4939-A467-CD6EE2FDF1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ног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DC62-9D28-4D7F-982B-FED42EFF02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истрально-модульное устройство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89B6-CBC1-4E85-8B73-8CADCD766F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личество тактов в секун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AE20-9CF9-4B76-9E25-771C58AC08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нская(системная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A795-C943-488D-A26C-EC1244182C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долговременной памяти (П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844D-F176-4AEE-BA47-FD0453ACC2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ройства ввода 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нипуля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7237-88E8-4BB1-A1F8-4688610D1D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061-584D-4D64-B4FB-990F851E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BA3D-7B27-4FF0-B29A-DB1AF45E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5E12-6C0F-4E98-AEC5-98617B18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D60-A121-45DD-B5CF-098753BE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3885-3629-4807-81B9-45B25939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598A-8058-4CEF-8C54-A26C2152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28DA-25B8-4142-B999-86C93223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F26C-FE92-496A-A7B2-3FAA9662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1BAE-048B-4192-9ABC-61A1131C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1E9F-4280-4333-BCCB-B7722E98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A65D-3792-4FBE-886E-F6A377FD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E16-5A0D-453A-AEDE-16A7EACC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E732-9696-4B3C-B7ED-B8135D60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1678-69CC-47A0-A25F-53CD5C41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07BB-0797-4B73-AE00-760D88EB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8CE3-259B-4D92-A630-198E1607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998D-CE18-40A1-AA5A-03BE3FD0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EABE-451C-4588-A0A6-87F6D3A1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A3BF-634F-40EF-A44B-8195388F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0A1-B152-4A3A-B695-387C9AB3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A77D-8CA7-4860-99B9-BEE5EC44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13A-8E6B-40B1-AE43-44AB5C56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B7E-422E-4520-B7DE-E2D70424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951A-C606-4FDA-BA30-2EC4EF40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1CDE-A358-47A4-91AE-A970F15CCF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7EFB-3656-4B82-8885-55588B90225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image" Target="../media/image2.png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8.xml"/><Relationship Id="rId8" Type="http://schemas.openxmlformats.org/officeDocument/2006/relationships/image" Target="../media/image4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Архитектура компьюте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лайд-ш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Основная структура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Структура системного бл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Магистрально-модульное устройство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Материнская(системная) п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Устройства долговременной памяти (ПЗ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Устройства в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Устройства вы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Сетевые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6" descr="BD21377_"/>
          <p:cNvPicPr/>
          <p:nvPr/>
        </p:nvPicPr>
        <p:blipFill>
          <a:blip r:embed="rId12"/>
          <a:stretch/>
        </p:blipFill>
        <p:spPr>
          <a:xfrm>
            <a:off x="7867800" y="49179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BD21377_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9029880" y="674388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BD21298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BD21298_"/>
          <p:cNvPicPr/>
          <p:nvPr/>
        </p:nvPicPr>
        <p:blipFill>
          <a:blip r:embed="rId6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BD21298_"/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BD21298_"/>
          <p:cNvPicPr/>
          <p:nvPr/>
        </p:nvPicPr>
        <p:blipFill>
          <a:blip r:embed="rId5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j0195384"/>
          <p:cNvPicPr/>
          <p:nvPr/>
        </p:nvPicPr>
        <p:blipFill>
          <a:blip r:embed="rId1"/>
          <a:stretch/>
        </p:blipFill>
        <p:spPr>
          <a:xfrm>
            <a:off x="1403280" y="189000"/>
            <a:ext cx="6531120" cy="6669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j0292982"/>
          <p:cNvPicPr/>
          <p:nvPr/>
        </p:nvPicPr>
        <p:blipFill>
          <a:blip r:embed="rId1"/>
          <a:stretch/>
        </p:blipFill>
        <p:spPr>
          <a:xfrm>
            <a:off x="755640" y="333360"/>
            <a:ext cx="3745080" cy="36972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5"/>
          <p:cNvSpPr txBox="1"/>
          <p:nvPr/>
        </p:nvSpPr>
        <p:spPr>
          <a:xfrm>
            <a:off x="3924360" y="2997360"/>
            <a:ext cx="482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END</a:t>
            </a:r>
            <a:endParaRPr b="0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6"/>
          <p:cNvSpPr txBox="1"/>
          <p:nvPr/>
        </p:nvSpPr>
        <p:spPr>
          <a:xfrm>
            <a:off x="826920" y="1413000"/>
            <a:ext cx="761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ю выполнил :</a:t>
            </a:r>
            <a:endParaRPr b="0" i="1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7"/>
          <p:cNvSpPr txBox="1"/>
          <p:nvPr/>
        </p:nvSpPr>
        <p:spPr>
          <a:xfrm>
            <a:off x="2050920" y="3068640"/>
            <a:ext cx="4913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ажкин А. В.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395280" y="333360"/>
            <a:ext cx="44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Слайд-шоу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1835280" y="2060640"/>
            <a:ext cx="4825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разработано  в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2411280" y="3933720"/>
            <a:ext cx="660744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rosoft  PowerPoint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Рисунок1"/>
          <p:cNvPicPr/>
          <p:nvPr/>
        </p:nvPicPr>
        <p:blipFill>
          <a:blip r:embed="rId1"/>
          <a:stretch/>
        </p:blipFill>
        <p:spPr>
          <a:xfrm>
            <a:off x="4284720" y="3554280"/>
            <a:ext cx="4572000" cy="3303720"/>
          </a:xfrm>
          <a:prstGeom prst="rect">
            <a:avLst/>
          </a:prstGeom>
          <a:ln w="0">
            <a:noFill/>
          </a:ln>
        </p:spPr>
      </p:pic>
      <p:sp>
        <p:nvSpPr>
          <p:cNvPr id="179" name="WordArt 4"/>
          <p:cNvSpPr txBox="1"/>
          <p:nvPr/>
        </p:nvSpPr>
        <p:spPr>
          <a:xfrm>
            <a:off x="755640" y="620640"/>
            <a:ext cx="7704000" cy="288144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п а с и б о  з а  п р о с м о т р  !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16" descr="j0293240"/>
          <p:cNvPicPr/>
          <p:nvPr/>
        </p:nvPicPr>
        <p:blipFill>
          <a:blip r:embed="rId2"/>
          <a:stretch/>
        </p:blipFill>
        <p:spPr>
          <a:xfrm>
            <a:off x="395280" y="6381720"/>
            <a:ext cx="504720" cy="3729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7"/>
          <p:cNvSpPr/>
          <p:nvPr/>
        </p:nvSpPr>
        <p:spPr>
          <a:xfrm>
            <a:off x="179280" y="664380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66"/>
                </a:solidFill>
                <a:latin typeface="Arial"/>
              </a:rPr>
              <a:t>Смотреть снов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1" descr="BD14579_"/>
          <p:cNvPicPr/>
          <p:nvPr/>
        </p:nvPicPr>
        <p:blipFill>
          <a:blip r:embed="rId3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2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9600"/>
            </a:br>
            <a:r>
              <a:rPr b="0" lang="ru-RU" sz="96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0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j0205582"/>
          <p:cNvPicPr/>
          <p:nvPr/>
        </p:nvPicPr>
        <p:blipFill>
          <a:blip r:embed="rId5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5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19" name="Gear"/>
            <p:cNvSpPr/>
            <p:nvPr/>
          </p:nvSpPr>
          <p:spPr>
            <a:xfrm>
              <a:off x="6572160" y="2349360"/>
              <a:ext cx="1897200" cy="1663920"/>
            </a:xfrm>
            <a:custGeom>
              <a:avLst/>
              <a:gdLst>
                <a:gd name="textAreaLeft" fmla="*/ 384120 w 1897200"/>
                <a:gd name="textAreaRight" fmla="*/ 1567080 w 1897200"/>
                <a:gd name="textAreaTop" fmla="*/ 304560 h 1663920"/>
                <a:gd name="textAreaBottom" fmla="*/ 1359360 h 166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>
              <a:off x="4211640" y="3035160"/>
              <a:ext cx="2268360" cy="1989360"/>
            </a:xfrm>
            <a:custGeom>
              <a:avLst/>
              <a:gdLst>
                <a:gd name="textAreaLeft" fmla="*/ 458640 w 2268360"/>
                <a:gd name="textAreaRight" fmla="*/ 1873080 w 2268360"/>
                <a:gd name="textAreaTop" fmla="*/ 365040 h 1989360"/>
                <a:gd name="textAreaBottom" fmla="*/ 1624320 h 198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8"/>
            <p:cNvSpPr/>
            <p:nvPr/>
          </p:nvSpPr>
          <p:spPr>
            <a:xfrm>
              <a:off x="5682960" y="3768840"/>
              <a:ext cx="2521080" cy="2209680"/>
            </a:xfrm>
            <a:custGeom>
              <a:avLst/>
              <a:gdLst>
                <a:gd name="textAreaLeft" fmla="*/ 511200 w 2521080"/>
                <a:gd name="textAreaRight" fmla="*/ 2082960 w 2521080"/>
                <a:gd name="textAreaTop" fmla="*/ 404640 h 2209680"/>
                <a:gd name="textAreaBottom" fmla="*/ 180360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1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2000"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32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9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Безымянный"/>
          <p:cNvPicPr/>
          <p:nvPr/>
        </p:nvPicPr>
        <p:blipFill>
          <a:blip r:embed="rId5"/>
          <a:stretch/>
        </p:blipFill>
        <p:spPr>
          <a:xfrm>
            <a:off x="1116000" y="692280"/>
            <a:ext cx="6993000" cy="31622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3000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4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982" descr="Безымянный456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83" descr="BD21298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84" descr="BD21298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0">
    <p:pull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54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740"/>
                            </p:stCondLst>
                            <p:childTnLst>
                              <p:par>
                                <p:cTn id="1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774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904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Материнская(системная)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лат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3" descr="БезымянныйРПСОЛПОПН"/>
          <p:cNvPicPr/>
          <p:nvPr/>
        </p:nvPicPr>
        <p:blipFill>
          <a:blip r:embed="rId1"/>
          <a:stretch/>
        </p:blipFill>
        <p:spPr>
          <a:xfrm>
            <a:off x="1116000" y="2637000"/>
            <a:ext cx="6551640" cy="401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BD21298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BD21298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6" name="Picture 154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5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468360" y="1557360"/>
          <a:ext cx="8229600" cy="4173480"/>
        </p:xfrm>
        <a:graphic>
          <a:graphicData uri="http://schemas.openxmlformats.org/drawingml/2006/table">
            <a:tbl>
              <a:tblPr/>
              <a:tblGrid>
                <a:gridCol w="2301840"/>
                <a:gridCol w="2317680"/>
                <a:gridCol w="3610080"/>
              </a:tblGrid>
              <a:tr h="7174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именование 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нформационная 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Магнитные пол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0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H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Удары при установ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        </a:t>
                      </a: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C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58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V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0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lash-пам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9" descr="BD21298_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BD21298_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03:31Z</dcterms:created>
  <dc:creator>Александр</dc:creator>
  <dc:description/>
  <dc:language>en-US</dc:language>
  <cp:lastModifiedBy>LEGION</cp:lastModifiedBy>
  <dcterms:modified xsi:type="dcterms:W3CDTF">2015-04-01T07:19:53Z</dcterms:modified>
  <cp:revision>8</cp:revision>
  <dc:subject/>
  <dc:title>Архитектура компьютера</dc:title>
</cp:coreProperties>
</file>