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2723-B364-46AA-9B28-C2DC071AC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23C5-57E4-49B4-8F2E-A52FFA372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ерская программа «Бизнес-информа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DDC1-8569-49B3-9FCA-6F75CF214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правление жизненным циклом информационных сист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6380-71CF-48C8-B7FA-DF914A8A2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CF78-DF35-4FE7-B061-351C56E47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рхитектура предприя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FDB2-5F42-4C68-B373-815F0F579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2062-A9D2-487C-8C49-CF1423613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ю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ов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должны создавать архитектуру предприятий, непрерывно совершенств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ддерживать ее в состоянии развития, предопределять риски деятель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изировать их и управлять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E165-5E2A-4C3C-9617-83174A6485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да чаще всего идут работать выпуск-ники магистерской програм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магистерской программы работаю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рпоративных структурах, в департаментах компаний, курирующих бизнес-аналит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CB4F-2133-43B5-857A-CC32D3645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ким базовым образованием стоит поступать на программу «Бизнес-информатик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92DB-1422-4B82-86E0-BEBC84497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экзамены нужно сд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тупл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ены конкурсом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4183-4EE9-450C-84E5-6156DD6AC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рганизован конкурс портфолио на факульт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75D-069E-49A2-A7A2-CA05C1A0A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431-D55B-4093-B374-3B953EA35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магистерской программы «Бизнес-информ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тимизацией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EBEF-D495-45E1-AE9B-2500D36DF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с какими оценками студент окончил бакалаври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диплом — это значительное пре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F63-4439-447B-A5A2-7481B08A4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еще, кроме диплома, абитуриент может включить в портфоли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F34F-60C6-4BB8-BFBF-6D2B72E54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ще учитыв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оли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имней школе ГУ-ВШЭ — это тоже плю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0249-C271-49D2-9DD3-64D7859F7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ли альтернатива для выпускников бакалавриата, которые не имеют научные публика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B5AF-C7D5-4B58-A7A7-965AC002F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абитуриентом рекомендаций для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0D8C-0E57-41A7-B511-C4257F7555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ктико-ориентированная программа с большой исследовательской составляю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9689-D7E8-42DF-B305-F2D08D871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и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3CDD-3A40-4AD4-93DC-F4D39EEAE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 «Информационная бизнес-анали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бизнес-аналитика — это комплекс методологических, техн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инструментальных средств, направлен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ддержку принятия решений в сфере управления эффективностью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EF85-153E-4EFB-969F-33BC530B1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базовых кафе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D95E-511A-4309-900A-CE6D52216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качества абитуриентов магистратуры особенно важ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7FF7-DDB1-4FF7-A462-DC8ED7233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 — основная должност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14CE-FA2E-4805-95E4-2BC900916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бизнес-ана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72FC-DBA4-4BAA-BA5A-6520B0A4F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240D-9E9A-4566-8246-21FA0A5EC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36EF-7D39-4B63-88AE-6127C7E37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0CC4-6460-4AE9-9FB6-47D25575D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DAC3-6A9C-4056-9415-D668B192D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7571-7046-4863-A553-5484FBB09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2BBE-6DC8-4172-B2FE-2AE802323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6989-34D8-441D-8E1B-550808F05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08E0-C141-42C7-9E6C-05FB4975D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0572-80E3-4802-BE92-1085640AB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DE45-FE03-4F5C-994B-827F20D4F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BB5E-D233-4856-8575-EFB4DC2CC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44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7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лайд </a:t>
            </a:r>
            <a:fld id="{23D0DDCF-B650-4A3D-924B-50D8F5810863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362800" cy="3636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1"/>
          <p:cNvSpPr/>
          <p:nvPr/>
        </p:nvSpPr>
        <p:spPr>
          <a:xfrm>
            <a:off x="457200" y="6308640"/>
            <a:ext cx="8362800" cy="0"/>
          </a:xfrm>
          <a:prstGeom prst="line">
            <a:avLst/>
          </a:prstGeom>
          <a:ln w="381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388800" y="6029280"/>
            <a:ext cx="6488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255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агистерская программа «Бизнес-информатика»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правление жизненным циклом информационных систем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собенность специализации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Архитектура предприятия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называют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ыпускников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менно они должны создавать архитектуру предприятий, непрерывно совершенствов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оддерживать ее в состоянии развития, предопределять риски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инимизировать их и управлять и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уда чаще всего идут работать выпуск-ники магистерской программы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магистерской программы работ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корпоративных структурах, в департаментах компаний, курирующих бизнес-аналити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 помощью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С каким базовым образованием стоит поступать на программу «Бизнес-информатика»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экзамены нужно сдать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и поступлен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менены конкурсом портфоли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организован конкурс портфолио на факультете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сновная задача магистерской программы «Бизнес-информатика»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оптимизацией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с какими оценками студент окончил бакалавриа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расный диплом — это значительное преимуществ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еще, кроме диплома, абитуриент может включить в портфолио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еще учитываетс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портфолио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стие в Зимней школе ГУ-ВШЭ — это тоже плю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849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Есть ли альтернатива для выпускников бакалавриата, которые не имеют научные публикации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олучение абитуриентом рекомендаций для портфолио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актико-ориентированная программа с большой исследовательской составляющ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и магистерской программы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 «Информационная бизнес-аналитика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онная бизнес-аналитика — это комплекс методологических, технологичес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инструментальных средств, направл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поддержку принятия решений в сфере управления эффективностью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оль базовых кафедр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качества абитуриентов магистратуры особенно важны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для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Бизнес-аналитик — основная должность выпускника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Специфика бизнес-аналитика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04:00Z</dcterms:created>
  <dc:creator>Igoresqu</dc:creator>
  <dc:description/>
  <dc:language>en-US</dc:language>
  <cp:lastModifiedBy>LEGION</cp:lastModifiedBy>
  <dcterms:modified xsi:type="dcterms:W3CDTF">2015-04-01T07:20:43Z</dcterms:modified>
  <cp:revision>47</cp:revision>
  <dc:subject/>
  <dc:title>Слайд 1</dc:title>
</cp:coreProperties>
</file>