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1606-1142-4B78-A479-548550F77D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201D-B286-401F-B8B1-7988F70311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истерская программа «Бизнес-информат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C011-0305-40DD-9591-8CB6DA7269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правление жизненным циклом информационных систе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в основном связана с организацией и управлением использования информационных технологий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F2AD-E2E5-4B89-9C26-D29BD7F6EF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еци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пециализации — менеджеры, способные организовать разработку и эксплуатацию информацион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445B-775F-4CE8-A061-FAB0AA63C3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значает ли это, что студенты специа-лизации в большей степени должны получать технологические зна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пециализации должны быть способны руководить бригадами, группами, выполняющими комплексные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ть проектированием и внедрением инфор-мационных систем, обладая только технологичес-кими знаниями, практически невозможно — необходимы знания проектного менеджмента, тео-рии управления организационными измен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рхитектура предприят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«Архитектура предприятия» имеет отношение не только к сфере ИТ. Речь идет об архитектуре бизнеса, но термин «архитектура предприятия» сейчас является общепринят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е время его действительно использовали только в связи с ИТ, но постепенно в него стали включать другие компоненты: архитектуру бизнес-процессов, вопросы, связанные с их анализом и оптимиза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055E-308C-4445-B0AC-AC37CBA1EE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8B28-FAD2-424E-B825-422935B7AC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называю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ников специализ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сегодня, в зависимости от преференций руководства, их называют «системными архитекторами», «структурными архитекторами предприятий» и даже «архитекторами стратегического развит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но они должны создавать архитектуру предприятий, непрерывно совершенствова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ддерживать ее в состоянии развития, предопределять риски деятельност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изировать их и управлять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8D8C-5D48-4646-99A4-C4555C7840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да чаще всего идут работать выпуск-ники магистерской программ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магистерской программы работаю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рпоративных структурах, в департаментах компаний, курирующих бизнес-аналитик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инятие решений, ИТ-консалтинг и бизнес-консалтинг, связанный с реорганизацией бизне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CD6D-3813-4A51-87BB-98E19D493D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каким базовым образованием стоит поступать на программу «Бизнес-информатика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факультет могут поступать выпускники бакалавриатов с экономико-управленческим, физико-математическим и инженерным образованием и прежде всего студенты, получившие образование по бизнес-информа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42E4-B7C2-4015-A3E3-3485AE7B5A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экзамены нужно сда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ступле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году впервые на факультете бизнес-информатики при наборе в магистратуру традиционные вступительные испыт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ены конкурсом портфоли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62F5-F571-45CE-8861-C3C3BE1890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организован конкурс портфолио на факульт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итуриент должен предоставить необходимый пакет документов, содержащийся в Правилах при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итуриент включает в портфолио сертификат, подтверждающий высокий уровень знаний по иностранному языку, или сдает квалификационный экзамен по язы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0E47-B143-4206-AB40-9F35A8764E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достижения абитуриента учи-тываются при отборе на факульте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е требование — это степень соответствия базового образования, полученного в бакалавриате, образовательному стандарту по направлению бизнес-информатика по трем образовательным блокам: математическому, информационно-технологическому и экономико-менеджериальн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C217-8635-4DE5-9AC2-B5F9CFAEC1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ая задача магистерской программы «Бизнес-информати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задача программы — подготовка специалистов, способных управлять бизнесом с помощью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выпускников связана с поддержкой принятия решений, проектированием и внедрением корпоративных систем, реорганизаци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птимизацией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8A49-27C6-4364-9651-8F53BF175A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достижения абитуриента учи-тываются при отборе на факульте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ся, с какими оценками студент окончил бакалаври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й диплом — это значительное пре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5315-339A-4EC5-8705-314053B726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еще, кроме диплома, абитуриент может включить в портфоли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е публикации, сертификаты о повышении квалификации, сертификаты, выданные по результатам обучения в компаниях, которые работают в сфере 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02D5-F912-4935-A6F7-04E1C4E5CB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еще учитываетс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ртфоли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ся, был ли абитуриент победителем или призером конкурсов и олимпиад — вузовских, межвузовских, национальных, международ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Зимней школе ГУ-ВШЭ — это тоже плю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A051-806A-4C48-A7DF-E991241BA0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ли альтернатива для выпускников бакалавриата, которые не имеют научные публикац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авне с публикациями рассматриваются рукописи ограниченного объема (10 печатных страниц), которые студент готов предоста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5F1E-10F9-4D16-827C-C36BF8A90F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ие абитуриентом рекомендаций для портфол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ю для поступления в магистратуру может дать не только преподаватель, но и любой значимый специал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FF9D-8D42-4759-9C22-BB342BAAEF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Бизнес-информатика» — это в большей мере исследовательская или прикладная магистерская программ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актико-ориентированная программа с большой исследовательской составляю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проект — это в определенной мере исследование, и его участник должен иметь навык исследовательск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403D-18A4-43E5-A57E-DAC76AFDA2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и магистерско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программы предусмотрены три специализации — «Информационная бизнес-аналитика», «Управление жизненным циклом информационных систем» и «Архитектура предприятия», — одну из которых будущие магистры выбирают на первом году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B06D-2428-44AF-BBD3-6DB16D56F1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 «Информационная бизнес-аналит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бизнес-аналитика — это комплекс методологических, технологи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инструментальных средств, направлен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оддержку принятия решений в сфере управления эффективностью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C4F3-9028-4D17-9F6E-501D6005C7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базовых кафед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эффективностью бизнеса и поддержка принятия решений осуществляется с помощью современных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ую помощь в организации учебного процесса оказывают базовые кафедры, открытые крупными ИТ — компаниями ЛАНИТ, 1-С, SAP, I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CCBD-396F-43C8-80FF-70A0942D57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качества абитуриентов магистратуры особенно важн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пециализ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подготовка, в частности, в области теории принятия решений, а также экономическая подготовка, особенно, в части управленческого учета и финансового 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3029-847C-4EFC-B1A2-41A5CD5690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знес-аналитик — основная должность выпуск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-аналити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ит посредником между организаторами проекта с целью выявления, анализа, согласования и утверждения требований к изменениям, вносимым в бизнес-процессы, политики и информационные системы; владеет проблемами бизнеса и предлагает решения, позволяющие организации достичь поставленных ц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377D-DE16-4B84-B90E-97BFD3CA28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бизнес-ана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-аналитики в основном отвечают за определение и управление областью поиска решения в противоположность менеджерам проектов, которые ответственны за область работ, необходимых для исполнения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0E97F-E83A-43FC-8ECF-112A9D893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EBAEB-268A-4C82-9F77-38DF07D41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F1DCE-0B5C-491A-A271-3799017BA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A49AE-FF49-48B7-8B7E-0A483FB0FE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01E1F-6962-4A61-B27F-A6553C8EA8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EC6E9-C237-4FB2-931D-10EE92908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383AB-7802-40C1-B972-687933726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5A6FE-49C5-4BC8-B765-536A8DA7C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8ABD-74D7-499E-B790-8E9597117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182A-1EF8-430B-8AF6-35AF99AF9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AC2DB-E5B0-4921-A0C5-F3C7620D5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D20A4-2D97-4CF2-9DFF-35AF097F9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844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87640" y="6327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лайд </a:t>
            </a:r>
            <a:fld id="{D067226A-F73C-4825-8CBE-25E95D979CD2}" type="slidenum">
              <a:rPr b="0" lang="ru-RU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1447920"/>
            <a:ext cx="8362800" cy="3636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1"/>
          <p:cNvSpPr/>
          <p:nvPr/>
        </p:nvSpPr>
        <p:spPr>
          <a:xfrm>
            <a:off x="457200" y="6308640"/>
            <a:ext cx="8362800" cy="0"/>
          </a:xfrm>
          <a:prstGeom prst="line">
            <a:avLst/>
          </a:prstGeom>
          <a:ln w="3816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3"/>
          <p:cNvSpPr/>
          <p:nvPr/>
        </p:nvSpPr>
        <p:spPr>
          <a:xfrm>
            <a:off x="388800" y="6029280"/>
            <a:ext cx="64882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2556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Магистерская программа «Бизнес-информатика»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20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«Управление жизненным циклом информационных систем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пециализация в основном связана с организацией и управлением использования информационных технологий в бизнес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Особенность специализации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специализации — менеджеры, способные организовать разработку и эксплуатацию информационной систем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5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Означает ли это, что студенты специа-лизации в большей степени должны получать технологические знания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специализации должны быть способны руководить бригадами, группами, выполняющими комплексные задач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правлять проектированием и внедрением инфор-мационных систем, обладая только технологичес-кими знаниями, практически невозможно — необходимы знания проектного менеджмента, тео-рии управления организационными изменениям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«Архитектура предприятия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Термин «Архитектура предприятия» имеет отношение не только к сфере ИТ. Речь идет об архитектуре бизнеса, но термин «архитектура предприятия» сейчас является общеприняты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олгое время его действительно использовали только в связи с ИТ, но постепенно в него стали включать другие компоненты: архитектуру бизнес-процессов, вопросы, связанные с их анализом и оптимизацие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 называют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выпускников специализац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же сегодня, в зависимости от преференций руководства, их называют «системными архитекторами», «структурными архитекторами предприятий» и даже «архитекторами стратегического развития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менно они должны создавать архитектуру предприятий, непрерывно совершенствова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поддерживать ее в состоянии развития, предопределять риски деятельност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инимизировать их и управлять им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уда чаще всего идут работать выпуск-ники магистерской программы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магистерской программы работаю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корпоративных структурах, в департаментах компаний, курирующих бизнес-аналитик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принятие решений, ИТ-консалтинг и бизнес-консалтинг, связанный с реорганизацией бизнес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 помощью информационных технологи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849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С каким базовым образованием стоит поступать на программу «Бизнес-информатика»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 факультет могут поступать выпускники бакалавриатов с экономико-управленческим, физико-математическим и инженерным образованием и прежде всего студенты, получившие образование по бизнес-информатик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ие экзамены нужно сдать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и поступлен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этом году впервые на факультете бизнес-информатики при наборе в магистратуру традиционные вступительные испыт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заменены конкурсом портфоли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 организован конкурс портфолио на факультете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битуриент должен предоставить необходимый пакет документов, содержащийся в Правилах прием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битуриент включает в портфолио сертификат, подтверждающий высокий уровень знаний по иностранному языку, или сдает квалификационный экзамен по язык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акие достижения абитуриента учи-тываются при отборе на факультете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сновное требование — это степень соответствия базового образования, полученного в бакалавриате, образовательному стандарту по направлению бизнес-информатика по трем образовательным блокам: математическому, информационно-технологическому и экономико-менеджериальном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Основная задача магистерской программы «Бизнес-информатика»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сновная задача программы — подготовка специалистов, способных управлять бизнесом с помощью 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еятельность выпускников связана с поддержкой принятия решений, проектированием и внедрением корпоративных систем, реорганизацие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оптимизацией бизнес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акие достижения абитуриента учи-тываются при отборе на факультете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итывается, с какими оценками студент окончил бакалавриа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Красный диплом — это значительное преимуществ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Что еще, кроме диплома, абитуриент может включить в портфолио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учные публикации, сертификаты о повышении квалификации, сертификаты, выданные по результатам обучения в компаниях, которые работают в сфере И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Что еще учитываетс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в портфолио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итывается, был ли абитуриент победителем или призером конкурсов и олимпиад — вузовских, межвузовских, национальных, международны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астие в Зимней школе ГУ-ВШЭ — это тоже плюс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84924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Есть ли альтернатива для выпускников бакалавриата, которые не имеют научные публикации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равне с публикациями рассматриваются рукописи ограниченного объема (10 печатных страниц), которые студент готов предоставить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олучение абитуриентом рекомендаций для портфолио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Рекомендацию для поступления в магистратуру может дать не только преподаватель, но и любой значимый специалис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849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«Бизнес-информатика» — это в большей мере исследовательская или прикладная магистерская программа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Это практико-ориентированная программа с большой исследовательской составляюще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Любой проект — это в определенной мере исследование, и его участник должен иметь навык исследовательской работ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и магистерской программы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рамках программы предусмотрены три специализации — «Информационная бизнес-аналитика», «Управление жизненным циклом информационных систем» и «Архитектура предприятия», — одну из которых будущие магистры выбирают на первом году обучени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6520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 «Информационная бизнес-аналитика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нформационная бизнес-аналитика — это комплекс методологических, технологически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инструментальных средств, направленны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 поддержку принятия решений в сфере управления эффективностью бизнес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Роль базовых кафедр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правление эффективностью бизнеса и поддержка принятия решений осуществляется с помощью современных 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ольшую помощь в организации учебного процесса оказывают базовые кафедры, открытые крупными ИТ — компаниями ЛАНИТ, 1-С, SAP, IB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ие качества абитуриентов магистратуры особенно важны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для специализац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атематическая подготовка, в частности, в области теории принятия решений, а также экономическая подготовка, особенно, в части управленческого учета и финансового анализ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Бизнес-аналитик — основная должность выпускника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изнес-аналитик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лужит посредником между организаторами проекта с целью выявления, анализа, согласования и утверждения требований к изменениям, вносимым в бизнес-процессы, политики и информационные системы; владеет проблемами бизнеса и предлагает решения, позволяющие организации достичь поставленных целе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Специфика бизнес-аналитика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изнес-аналитики в основном отвечают за определение и управление областью поиска решения в противоположность менеджерам проектов, которые ответственны за область работ, необходимых для исполнения решени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1:04:00Z</dcterms:created>
  <dc:creator>Igoresqu</dc:creator>
  <dc:description/>
  <dc:language>en-US</dc:language>
  <cp:lastModifiedBy>LEGION</cp:lastModifiedBy>
  <dcterms:modified xsi:type="dcterms:W3CDTF">2015-04-01T07:20:43Z</dcterms:modified>
  <cp:revision>47</cp:revision>
  <dc:subject/>
  <dc:title>Слайд 1</dc:title>
</cp:coreProperties>
</file>