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A0E9-D0C5-4A37-A2B3-DA999D5767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0B4-EF88-412D-8F01-CE35EE6EF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ерская программа «Бизнес-информа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4275-5C0F-460F-A61B-C315B8D6F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правление жизненным циклом информационных систе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47C6-ECBB-47E8-8E03-65D06A2D3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5C1-0629-4837-841E-D48C34262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рхитектура предприят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5CB3-E588-43A7-B4F3-5ECEFB318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4F5A-5C2B-45D2-B23F-2337A0381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называю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ников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должны создавать архитектуру предприятий, непрерывно совершенствова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оддерживать ее в состоянии развития, предопределять риски деятель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изировать их и управлять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52F8-9014-45D8-8DF1-D7FC56E4FD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да чаще всего идут работать выпуск-ники магистерской программ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магистерской программы работаю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рпоративных структурах, в департаментах компаний, курирующих бизнес-аналит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E16-2FFF-4E41-9C43-A0B30778F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аким базовым образованием стоит поступать на программу «Бизнес-информатик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E758-0888-42EC-BAE5-53105EEFD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экзамены нужно сд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тупл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ены конкурсом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1490-B5FE-4621-AD4A-7F205EEE1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рганизован конкурс портфолио на факульт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A89A-E135-4B27-BCA9-E646A23CB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8C2F-5CBF-4588-9DF7-6D63A6F54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задача магистерской программы «Бизнес-информати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птимизацией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749-92F3-4290-940D-B58E57E27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достижения абитуриента учи-тываются при отборе на факульт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с какими оценками студент окончил бакалаври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диплом — это значительное пре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A714-6AC3-4B29-B754-F9D22D08E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еще, кроме диплома, абитуриент может включить в портфоли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2652-E707-495C-AC6C-27C22B9EDE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ще учитыв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ртфоли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Зимней школе ГУ-ВШЭ — это тоже плю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4366-003B-435C-9CB6-532404044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ли альтернатива для выпускников бакалавриата, которые не имеют научные публикац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008B-A835-49BB-AB86-2EB409626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абитуриентом рекомендаций для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03A3-4386-4737-9465-183192033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актико-ориентированная программа с большой исследовательской составляю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7A2-3081-4F7B-AFF8-4708B7653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и магистерск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D65-AE0A-42B8-8202-58B9C4B0E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зация «Информационная бизнес-анали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бизнес-аналитика — это комплекс методологических, техн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инструментальных средств, направлен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ддержку принятия решений в сфере управления эффективностью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F9DE-9CC4-4F5C-B9AB-FED4FE462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базовых кафе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747-76EB-4C40-A45D-98AB12321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качества абитуриентов магистратуры особенно важ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пециализ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C6B8-FC17-4AD8-AB61-320C1722F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нес-аналитик — основная должност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097B-4BC9-4301-9949-F1C397264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бизнес-ана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1813-B5F7-475E-B652-844420A09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E5E3-4DAD-415B-BD15-DCC4D4028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DEA8-D7BE-4007-9498-E7FEBA727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8528-A795-47B1-9819-B140DAA15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6B8E-BC6A-4924-B614-8578711081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3D28-D746-4B73-8517-9AB2E7C17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23B0-E3DB-4087-84BC-A008AFD44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25EA-03B0-4348-9D18-12C7073E3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A29D2-0049-4D9E-A153-BB201E387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BFB7-7AAB-4A97-A226-A1B0A8ADF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6743-6980-404A-AA3C-D45F0A6B2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3AE8-0D54-4BCA-8118-F3B3A7B20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844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277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лайд </a:t>
            </a:r>
            <a:fld id="{9D2F6866-911C-4718-A229-597E8F8E7A18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1447920"/>
            <a:ext cx="8362800" cy="3636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Line 11"/>
          <p:cNvSpPr/>
          <p:nvPr/>
        </p:nvSpPr>
        <p:spPr>
          <a:xfrm>
            <a:off x="457200" y="6308640"/>
            <a:ext cx="8362800" cy="0"/>
          </a:xfrm>
          <a:prstGeom prst="line">
            <a:avLst/>
          </a:prstGeom>
          <a:ln w="381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388800" y="6029280"/>
            <a:ext cx="6488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2556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агистерская программа «Бизнес-информатика»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20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Управление жизненным циклом информационных систем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пециализация в основном связана с организацией и управлением использования информационных технологий в бизнес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собенность специализации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— менеджеры, способные организовать разработку и эксплуатацию информационной систем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значает ли это, что студенты специа-лизации в большей степени должны получать технологические знания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специализации должны быть способны руководить бригадами, группами, выполняющими комплексные задач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ять проектированием и внедрением инфор-мационных систем, обладая только технологичес-кими знаниями, практически невозможно — необходимы знания проектного менеджмента, тео-рии управления организационными изменения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«Архитектура предприятия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Термин «Архитектура предприятия» имеет отношение не только к сфере ИТ. Речь идет об архитектуре бизнеса, но термин «архитектура предприятия» сейчас является общеприняты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олгое время его действительно использовали только в связи с ИТ, но постепенно в него стали включать другие компоненты: архитектуру бизнес-процессов, вопросы, связанные с их анализом и оптимизаци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называют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ыпускников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же сегодня, в зависимости от преференций руководства, их называют «системными архитекторами», «структурными архитекторами предприятий» и даже «архитекторами стратегического развития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менно они должны создавать архитектуру предприятий, непрерывно совершенствов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оддерживать ее в состоянии развития, предопределять риски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инимизировать их и управлять им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уда чаще всего идут работать выпуск-ники магистерской программы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пускники магистерской программы работаю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корпоративных структурах, в департаментах компаний, курирующих бизнес-аналити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принятие решений, ИТ-консалтинг и бизнес-консалтинг, связанный с реорганизацией бизне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 помощью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С каким базовым образованием стоит поступать на программу «Бизнес-информатика»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факультет могут поступать выпускники бакалавриатов с экономико-управленческим, физико-математическим и инженерным образованием и прежде всего студенты, получившие образование по бизнес-информатик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экзамены нужно сдать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ри поступлен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этом году впервые на факультете бизнес-информатики при наборе в магистратуру традиционные вступительные испыт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аменены конкурсом портфоли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 организован конкурс портфолио на факультете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должен предоставить необходимый пакет документов, содержащийся в Правилах прием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битуриент включает в портфолио сертификат, подтверждающий высокий уровень знаний по иностранному языку, или сдает квалификационный экзамен по язык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ое требование — это степень соответствия базового образования, полученного в бакалавриате, образовательному стандарту по направлению бизнес-информатика по трем образовательным блокам: математическому, информационно-технологическому и экономико-менеджериальном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Основная задача магистерской программы «Бизнес-информатика»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сновная задача программы — подготовка специалистов, способных управлять бизнесом с помощью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Деятельность выпускников связана с поддержкой принятия решений, проектированием и внедрением корпоративных систем, реорганизаци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оптимизацией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акие достижения абитуриента учи-тываются при отборе на факультете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с какими оценками студент окончил бакалавриа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расный диплом — это значительное преимущество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Что еще, кроме диплома, абитуриент может включить в портфолио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учные публикации, сертификаты о повышении квалификации, сертификаты, выданные по результатам обучения в компаниях, которые работают в сфере И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Что еще учитывается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портфолио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итывается, был ли абитуриент победителем или призером конкурсов и олимпиад — вузовских, межвузовских, национальных, международны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частие в Зимней школе ГУ-ВШЭ — это тоже плюс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84924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Есть ли альтернатива для выпускников бакалавриата, которые не имеют научные публикации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равне с публикациями рассматриваются рукописи ограниченного объема (10 печатных страниц), которые студент готов предоставить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Получение абитуриентом рекомендаций для портфолио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Рекомендацию для поступления в магистратуру может дать не только преподаватель, но и любой значимый специалист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8492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«Бизнес-информатика» — это в большей мере исследовательская или прикладная магистерская программа?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Это практико-ориентированная программа с большой исследовательской составляюще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Любой проект — это в определенной мере исследование, и его участник должен иметь навык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и магистерской программы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 рамках программы предусмотрены три специализации — «Информационная бизнес-аналитика», «Управление жизненным циклом информационных систем» и «Архитектура предприятия», — одну из которых будущие магистры выбирают на первом году обуч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6520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Специализация «Информационная бизнес-аналитика»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онная бизнес-аналитика — это комплекс методологических, технологическ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 инструментальных средств, направленны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а поддержку принятия решений в сфере управления эффективностью бизнес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Роль базовых кафедр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Управление эффективностью бизнеса и поддержка принятия решений осуществляется с помощью современных информационных технолог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ольшую помощь в организации учебного процесса оказывают базовые кафедры, открытые крупными ИТ — компаниями ЛАНИТ, 1-С, SAP, IB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акие качества абитуриентов магистратуры особенно важны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для специализации?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Математическая подготовка, в частности, в области теории принятия решений, а также экономическая подготовка, особенно, в части управленческого учета и финансового анализ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Бизнес-аналитик — основная должность выпускника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служит посредником между организаторами проекта с целью выявления, анализа, согласования и утверждения требований к изменениям, вносимым в бизнес-процессы, политики и информационные системы; владеет проблемами бизнеса и предлагает решения, позволяющие организации достичь поставленных целе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388800" y="6327720"/>
            <a:ext cx="648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Специфика бизнес-аналитика</a:t>
            </a:r>
            <a:endParaRPr b="1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Бизнес-аналитики в основном отвечают за определение и управление областью поиска решения в противоположность менеджерам проектов, которые ответственны за область работ, необходимых для исполнения реше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1:04:00Z</dcterms:created>
  <dc:creator>Igoresqu</dc:creator>
  <dc:description/>
  <dc:language>en-US</dc:language>
  <cp:lastModifiedBy>LEGION</cp:lastModifiedBy>
  <dcterms:modified xsi:type="dcterms:W3CDTF">2015-04-01T07:20:43Z</dcterms:modified>
  <cp:revision>47</cp:revision>
  <dc:subject/>
  <dc:title>Слайд 1</dc:title>
</cp:coreProperties>
</file>