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0B14-68DF-4F57-A5B8-B79CBBF746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F7EC-DAC6-4073-87E0-0E7AF88FB3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ы для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нятие об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.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. Предмет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. Виды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. Хранение цифр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. 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7. 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9ADD-6CB1-42CB-AAB2-BEB087EBE0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Что такое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B691-3E6C-46CE-860A-AC534ADF9F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ойств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F121-CF5F-4F9F-9147-C5DDE166CE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мет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5B42-229F-431A-9E7C-55D0B5E7CF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1072-DE77-4EDA-BDCB-708265EA60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Хранение цифров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ифров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ранится в виде числового кода, который называется дво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5A37-5E45-4D21-8A13-F1A987D986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группа из </a:t>
            </a: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осьм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жно выразит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56 разных знач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Байт принимает значения от 0 до 2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9C94-1A4E-48B8-9D6A-91475C445B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ай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38B0-BEEE-4FE6-A183-02D78A85DE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E05-5242-4D23-8E94-0D2B9C8E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C7B-476D-4721-804C-A263452B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2EC-6ABA-4CC9-9AED-473C6356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AA6-EE66-4A4E-A792-6652D3DD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C3B-2A28-4DB5-B5C4-7D4EF48B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A91-47C8-404B-A306-CCA99709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862-B054-4095-A3E9-7DDC3FA4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C00-E09C-4856-9843-2D2B54F7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F46-77F0-47DB-B7D3-BF09E0B0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8B1-B4E1-4C69-AA28-12E8FB9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C11-67E0-475B-B82B-38B73C7E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71B-CA55-43C5-B91D-AA8CCB0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D536-7686-43EF-A9DD-BD0666922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85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ведение в информати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aptop"/>
          <p:cNvSpPr/>
          <p:nvPr/>
        </p:nvSpPr>
        <p:spPr>
          <a:xfrm>
            <a:off x="2556000" y="3219480"/>
            <a:ext cx="4321080" cy="3249720"/>
          </a:xfrm>
          <a:custGeom>
            <a:avLst/>
            <a:gdLst>
              <a:gd name="textAreaLeft" fmla="*/ 889200 w 4321080"/>
              <a:gd name="textAreaRight" fmla="*/ 3463200 w 4321080"/>
              <a:gd name="textAreaTop" fmla="*/ 279360 h 3249720"/>
              <a:gd name="textAreaBottom" fmla="*/ 1854000 h 32497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опросы для рассмо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об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войства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едмет инфор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иды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Хранение цифров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т битов к бай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От байтов к фай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такое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войства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92360" y="1628640"/>
            <a:ext cx="597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формацию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324000" y="3357720"/>
            <a:ext cx="309564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з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258920" y="5157720"/>
            <a:ext cx="30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4643280" y="5157720"/>
            <a:ext cx="3167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292720" y="3284640"/>
            <a:ext cx="35640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рабат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3635280" y="2565360"/>
            <a:ext cx="93672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4572000" y="2565360"/>
            <a:ext cx="79200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2843280" y="2565360"/>
            <a:ext cx="1728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572000" y="256536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" action="ppaction://hlinkshowjump?jump=nextslide"/>
          </p:cNvPr>
          <p:cNvSpPr/>
          <p:nvPr/>
        </p:nvSpPr>
        <p:spPr>
          <a:xfrm>
            <a:off x="738036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6899" y="3794"/>
                </a:moveTo>
                <a:lnTo>
                  <a:pt x="20912" y="10800"/>
                </a:lnTo>
                <a:lnTo>
                  <a:pt x="689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>
            <a:hlinkClick r:id="rId1" action="ppaction://hlinksldjump"/>
          </p:cNvPr>
          <p:cNvSpPr/>
          <p:nvPr/>
        </p:nvSpPr>
        <p:spPr>
          <a:xfrm>
            <a:off x="8101080" y="6093000"/>
            <a:ext cx="576360" cy="5029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52" h="21600">
                <a:moveTo>
                  <a:pt x="0" y="0"/>
                </a:moveTo>
                <a:lnTo>
                  <a:pt x="24752" y="0"/>
                </a:lnTo>
                <a:lnTo>
                  <a:pt x="24752" y="21600"/>
                </a:lnTo>
                <a:lnTo>
                  <a:pt x="0" y="21600"/>
                </a:lnTo>
                <a:close/>
              </a:path>
              <a:path fill="lightenLess" w="24752" h="21600">
                <a:moveTo>
                  <a:pt x="0" y="0"/>
                </a:moveTo>
                <a:lnTo>
                  <a:pt x="24752" y="0"/>
                </a:lnTo>
                <a:lnTo>
                  <a:pt x="23352" y="1400"/>
                </a:lnTo>
                <a:lnTo>
                  <a:pt x="1400" y="1400"/>
                </a:lnTo>
                <a:close/>
              </a:path>
              <a:path fill="darken" w="24752" h="21600">
                <a:moveTo>
                  <a:pt x="24752" y="0"/>
                </a:moveTo>
                <a:lnTo>
                  <a:pt x="24752" y="21600"/>
                </a:lnTo>
                <a:lnTo>
                  <a:pt x="23352" y="20200"/>
                </a:lnTo>
                <a:lnTo>
                  <a:pt x="23352" y="1400"/>
                </a:lnTo>
                <a:close/>
              </a:path>
              <a:path fill="darkenLess" w="24752" h="21600">
                <a:moveTo>
                  <a:pt x="24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2" y="20200"/>
                </a:lnTo>
                <a:close/>
              </a:path>
              <a:path fill="lighten" w="24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2" h="21600">
                <a:moveTo>
                  <a:pt x="12376" y="3837"/>
                </a:moveTo>
                <a:lnTo>
                  <a:pt x="14952" y="6448"/>
                </a:ln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lnTo>
                  <a:pt x="19339" y="10800"/>
                </a:lnTo>
                <a:lnTo>
                  <a:pt x="17685" y="10800"/>
                </a:lnTo>
                <a:lnTo>
                  <a:pt x="17685" y="17989"/>
                </a:lnTo>
                <a:lnTo>
                  <a:pt x="7067" y="17989"/>
                </a:lnTo>
                <a:lnTo>
                  <a:pt x="7067" y="10800"/>
                </a:lnTo>
                <a:lnTo>
                  <a:pt x="5413" y="10800"/>
                </a:lnTo>
                <a:close/>
              </a:path>
              <a:path fill="darkenLess" w="24752" h="21600">
                <a:moveTo>
                  <a:pt x="14952" y="6448"/>
                </a:move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close/>
              </a:path>
              <a:path fill="darkenLess" w="24752" h="21600">
                <a:moveTo>
                  <a:pt x="11453" y="14299"/>
                </a:moveTo>
                <a:lnTo>
                  <a:pt x="13299" y="14299"/>
                </a:lnTo>
                <a:lnTo>
                  <a:pt x="13299" y="17989"/>
                </a:lnTo>
                <a:lnTo>
                  <a:pt x="17685" y="17989"/>
                </a:lnTo>
                <a:lnTo>
                  <a:pt x="17685" y="10800"/>
                </a:lnTo>
                <a:lnTo>
                  <a:pt x="7067" y="10800"/>
                </a:lnTo>
                <a:lnTo>
                  <a:pt x="7067" y="17989"/>
                </a:lnTo>
                <a:lnTo>
                  <a:pt x="11453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дмет 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т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ды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700360" y="1413000"/>
            <a:ext cx="4103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826920" y="2924280"/>
            <a:ext cx="338472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налог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076720" y="2852640"/>
            <a:ext cx="3456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ифр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3779640" y="2349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471636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0920" y="4005360"/>
            <a:ext cx="871380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алогово-цифровое преобразование (АЦП)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бразование аналог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формации в цифр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211640" y="3284640"/>
            <a:ext cx="865080" cy="360360"/>
          </a:xfrm>
          <a:prstGeom prst="rightArrow">
            <a:avLst>
              <a:gd name="adj1" fmla="val 50000"/>
              <a:gd name="adj2" fmla="val 6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nextslide"/>
          </p:cNvPr>
          <p:cNvSpPr/>
          <p:nvPr/>
        </p:nvSpPr>
        <p:spPr>
          <a:xfrm>
            <a:off x="7308720" y="616572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6897" y="3794"/>
                </a:moveTo>
                <a:lnTo>
                  <a:pt x="20910" y="10800"/>
                </a:lnTo>
                <a:lnTo>
                  <a:pt x="689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>
            <a:hlinkClick r:id="rId1" action="ppaction://hlinksldjump"/>
          </p:cNvPr>
          <p:cNvSpPr/>
          <p:nvPr/>
        </p:nvSpPr>
        <p:spPr>
          <a:xfrm>
            <a:off x="802800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Хранение цифров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фров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ранится в виде числового кода, который называется дво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итов к байт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группа из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сьми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выраз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56 разн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айт принимает значения от 0 до 2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752472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rId1" action="ppaction://hlinksldjump"/>
          </p:cNvPr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айтов к фай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й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437000"/>
            <a:ext cx="26636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780000" y="4437000"/>
            <a:ext cx="2663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32720" y="4292640"/>
            <a:ext cx="2160360" cy="1441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132000" y="501336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443640" y="5013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9:28:58Z</dcterms:created>
  <dc:creator>Дима</dc:creator>
  <dc:description/>
  <dc:language>en-US</dc:language>
  <cp:lastModifiedBy>LEGION</cp:lastModifiedBy>
  <dcterms:modified xsi:type="dcterms:W3CDTF">2015-04-01T07:21:04Z</dcterms:modified>
  <cp:revision>5</cp:revision>
  <dc:subject/>
  <dc:title>Введение в информатику</dc:title>
</cp:coreProperties>
</file>