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186-50F8-4FB9-94A7-68DAB5832E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F693-54B5-47D5-BB18-46269369F2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ы для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нятие об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.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. Предмет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. Виды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. Хранение цифр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. 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7. 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A2A9-FCA3-4A20-A784-1CDDF23111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Что такое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BF59-F660-4107-BD6F-634000C507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ойств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4B21-D3C1-4AF2-94FB-37DA95B76C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мет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6A5E-861E-4C4C-9F5D-BEE5DB9EE6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B027-50FC-4ACF-B84A-3B2E1E4D15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Хранение цифров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ифров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ранится в виде числового кода, который называется дво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B212-8ADC-41AC-ADF5-A59793500A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группа из </a:t>
            </a: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осьм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жно выразит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56 разных знач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Байт принимает значения от 0 до 2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87FA-F101-44B1-949E-919F0F3146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ай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7FE7-EA9E-4077-A4BA-F50E26CA7F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11D-BA46-4558-8CF5-1A23BC57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30E-CD56-4E32-A114-C878B6AA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445-0FF2-442E-BE71-0B55D482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7DA-6415-4528-AA4C-E58107CD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C24-EE27-4136-8F9B-D70D45CC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561-DDE5-4D6E-B208-D1C17D9E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08C-8357-46A1-9E98-106CF0C7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294-7412-4814-A03B-7C9D8C9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54A-8DE7-48E6-97B1-6A99BCB9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8E1-36C0-4FD7-AE4D-5BEF02EF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4C3-6142-4E76-A3BC-E8D19125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5C7-E81A-40C0-8D88-6A05A6E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2822-FAFC-49B1-97E4-4B00168C85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85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ведение в информати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aptop"/>
          <p:cNvSpPr/>
          <p:nvPr/>
        </p:nvSpPr>
        <p:spPr>
          <a:xfrm>
            <a:off x="2556000" y="3219480"/>
            <a:ext cx="4321080" cy="3249720"/>
          </a:xfrm>
          <a:custGeom>
            <a:avLst/>
            <a:gdLst>
              <a:gd name="textAreaLeft" fmla="*/ 889200 w 4321080"/>
              <a:gd name="textAreaRight" fmla="*/ 3463200 w 4321080"/>
              <a:gd name="textAreaTop" fmla="*/ 279360 h 3249720"/>
              <a:gd name="textAreaBottom" fmla="*/ 1854000 h 3249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опросы для рассмо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об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войства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едмет инфор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Хранение цифр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т битов к бай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т байтов к фай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войства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92360" y="1628640"/>
            <a:ext cx="597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формацию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24000" y="3357720"/>
            <a:ext cx="309564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з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258920" y="5157720"/>
            <a:ext cx="30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4643280" y="5157720"/>
            <a:ext cx="316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292720" y="3284640"/>
            <a:ext cx="35640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рабат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3635280" y="2565360"/>
            <a:ext cx="9367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572000" y="2565360"/>
            <a:ext cx="79200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2843280" y="2565360"/>
            <a:ext cx="1728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572000" y="256536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" action="ppaction://hlinkshowjump?jump=nextslide"/>
          </p:cNvPr>
          <p:cNvSpPr/>
          <p:nvPr/>
        </p:nvSpPr>
        <p:spPr>
          <a:xfrm>
            <a:off x="738036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6899" y="3794"/>
                </a:moveTo>
                <a:lnTo>
                  <a:pt x="20912" y="10800"/>
                </a:lnTo>
                <a:lnTo>
                  <a:pt x="689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>
            <a:hlinkClick r:id="rId1" action="ppaction://hlinksldjump"/>
          </p:cNvPr>
          <p:cNvSpPr/>
          <p:nvPr/>
        </p:nvSpPr>
        <p:spPr>
          <a:xfrm>
            <a:off x="8101080" y="6093000"/>
            <a:ext cx="576360" cy="5029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52" h="21600">
                <a:moveTo>
                  <a:pt x="0" y="0"/>
                </a:moveTo>
                <a:lnTo>
                  <a:pt x="24752" y="0"/>
                </a:lnTo>
                <a:lnTo>
                  <a:pt x="24752" y="21600"/>
                </a:lnTo>
                <a:lnTo>
                  <a:pt x="0" y="21600"/>
                </a:lnTo>
                <a:close/>
              </a:path>
              <a:path fill="lightenLess" w="24752" h="21600">
                <a:moveTo>
                  <a:pt x="0" y="0"/>
                </a:moveTo>
                <a:lnTo>
                  <a:pt x="24752" y="0"/>
                </a:lnTo>
                <a:lnTo>
                  <a:pt x="23352" y="1400"/>
                </a:lnTo>
                <a:lnTo>
                  <a:pt x="1400" y="1400"/>
                </a:lnTo>
                <a:close/>
              </a:path>
              <a:path fill="darken" w="24752" h="21600">
                <a:moveTo>
                  <a:pt x="24752" y="0"/>
                </a:moveTo>
                <a:lnTo>
                  <a:pt x="24752" y="21600"/>
                </a:lnTo>
                <a:lnTo>
                  <a:pt x="23352" y="20200"/>
                </a:lnTo>
                <a:lnTo>
                  <a:pt x="23352" y="1400"/>
                </a:lnTo>
                <a:close/>
              </a:path>
              <a:path fill="darkenLess" w="24752" h="21600">
                <a:moveTo>
                  <a:pt x="24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2" y="20200"/>
                </a:lnTo>
                <a:close/>
              </a:path>
              <a:path fill="lighten" w="24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2" h="21600">
                <a:moveTo>
                  <a:pt x="12376" y="3837"/>
                </a:moveTo>
                <a:lnTo>
                  <a:pt x="14952" y="6448"/>
                </a:ln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lnTo>
                  <a:pt x="19339" y="10800"/>
                </a:lnTo>
                <a:lnTo>
                  <a:pt x="17685" y="10800"/>
                </a:lnTo>
                <a:lnTo>
                  <a:pt x="17685" y="17989"/>
                </a:lnTo>
                <a:lnTo>
                  <a:pt x="7067" y="17989"/>
                </a:lnTo>
                <a:lnTo>
                  <a:pt x="7067" y="10800"/>
                </a:lnTo>
                <a:lnTo>
                  <a:pt x="5413" y="10800"/>
                </a:lnTo>
                <a:close/>
              </a:path>
              <a:path fill="darkenLess" w="24752" h="21600">
                <a:moveTo>
                  <a:pt x="14952" y="6448"/>
                </a:move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close/>
              </a:path>
              <a:path fill="darkenLess" w="24752" h="21600">
                <a:moveTo>
                  <a:pt x="11453" y="14299"/>
                </a:moveTo>
                <a:lnTo>
                  <a:pt x="13299" y="14299"/>
                </a:lnTo>
                <a:lnTo>
                  <a:pt x="13299" y="17989"/>
                </a:lnTo>
                <a:lnTo>
                  <a:pt x="17685" y="17989"/>
                </a:lnTo>
                <a:lnTo>
                  <a:pt x="17685" y="10800"/>
                </a:lnTo>
                <a:lnTo>
                  <a:pt x="7067" y="10800"/>
                </a:lnTo>
                <a:lnTo>
                  <a:pt x="7067" y="17989"/>
                </a:lnTo>
                <a:lnTo>
                  <a:pt x="11453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дмет 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700360" y="1413000"/>
            <a:ext cx="4103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826920" y="2924280"/>
            <a:ext cx="338472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налог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076720" y="2852640"/>
            <a:ext cx="34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ифр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3779640" y="2349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471636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0920" y="4005360"/>
            <a:ext cx="8713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алогово-цифровое преобразование (АЦП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ние аналог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формации в цифр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11640" y="3284640"/>
            <a:ext cx="865080" cy="360360"/>
          </a:xfrm>
          <a:prstGeom prst="rightArrow">
            <a:avLst>
              <a:gd name="adj1" fmla="val 50000"/>
              <a:gd name="adj2" fmla="val 6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nextslide"/>
          </p:cNvPr>
          <p:cNvSpPr/>
          <p:nvPr/>
        </p:nvSpPr>
        <p:spPr>
          <a:xfrm>
            <a:off x="7308720" y="6165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3794"/>
                </a:moveTo>
                <a:lnTo>
                  <a:pt x="20910" y="10800"/>
                </a:lnTo>
                <a:lnTo>
                  <a:pt x="689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>
            <a:hlinkClick r:id="rId1" action="ppaction://hlinksldjump"/>
          </p:cNvPr>
          <p:cNvSpPr/>
          <p:nvPr/>
        </p:nvSpPr>
        <p:spPr>
          <a:xfrm>
            <a:off x="802800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ранение цифр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фров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ранится в виде числового кода, который называется дво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итов к байт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группа из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сьми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выраз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56 разн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айт принимает значения от 0 до 2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752472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айтов к фай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й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437000"/>
            <a:ext cx="2663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780000" y="4437000"/>
            <a:ext cx="2663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4292640"/>
            <a:ext cx="2160360" cy="144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132000" y="501336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443640" y="5013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9:28:58Z</dcterms:created>
  <dc:creator>Дима</dc:creator>
  <dc:description/>
  <dc:language>en-US</dc:language>
  <cp:lastModifiedBy>LEGION</cp:lastModifiedBy>
  <dcterms:modified xsi:type="dcterms:W3CDTF">2015-04-01T07:21:04Z</dcterms:modified>
  <cp:revision>5</cp:revision>
  <dc:subject/>
  <dc:title>Введение в информатику</dc:title>
</cp:coreProperties>
</file>