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0238-765C-4671-A45F-6F86D586DC2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использования компьютерной техники в офиса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0956-C182-49CA-9188-99147668125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мостоятельная рабо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494B-EF84-498E-A19D-C314A9317B3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ROSOFT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FI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2B68-271E-413E-8FAB-CD7FC4F043A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зываются документами): писем, отчётов, книг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C1E3-1B0B-4720-AF7C-088D98997B8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зываются рабочими кни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54A9-F2E1-440F-A9DD-76E3637C5AC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создания презентаций, которая во многом напоминае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41AB-276C-434C-B4FB-97163CFC544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личный электронный секретарь, незаменимый в любом офисе.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lock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C65F-21E8-4457-A301-71423ABCC8C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управления реляционными базами данных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сто позволяет создавать таблицы данных и оперировать 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C011-D86F-456A-9A46-64EE52AE5E7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F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E616-1C8E-4B9E-97E7-E01EC6C6BDF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прикладных про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кстовый процесс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грамма электронных табл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создания презент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й электронный секретар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управления реляционными да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1641-54A7-421B-AC18-088A54158F5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FFF-B6AB-475E-8487-D22FE243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0A4-C6B3-4D83-91B4-CA4FE08D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83CF-EE69-4934-BB90-9C283361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FE74-BEE9-4791-A618-29AC4A73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04E9-A739-4FDB-A127-9229A8E1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6A2F-B276-4E60-A7EB-3376AAF9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C98D-200D-45A3-B654-F0AD1429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09BD-A63C-4503-B36E-E3670D58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76F2-DCD6-4171-824E-67422E92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7A22-5B78-49C7-8BAA-E4639628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A5CF-C7A0-45B3-9531-6D642E6C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ABF8-48E5-4742-AAEC-71DB0022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781B-8527-4F43-8FA8-82E886F1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2666-8AE3-4BB9-923F-B49476C5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10E0-A71D-40AB-9626-A039E220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ADF5-27CF-47F8-A871-19D5A2AA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CF7B-5FEF-41D3-B3BD-C4B51267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6594-80E7-4293-9AF2-B46EC6CF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4C5-FE99-4AE8-A5F4-7F26C510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2C18-61AE-47CB-AF4A-5457C406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579-9735-40AF-B35F-19ADB37B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E08F-F0A4-4341-B805-4A9DBC8C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6375-C9CC-4B40-871D-360C9560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9C72-F41B-416F-BD51-6F32124C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1C39-F7B3-4576-BC75-6254E68A38D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BB94-4A90-43E3-84A4-2AD9B2E3410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озможности использования компьютерной техники в офисах фирм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16360" y="3573360"/>
            <a:ext cx="410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БОУ Ново-Павловская СОШ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ыполнил: Учитель технологии Пятилокотова О.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012000" y="59500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амостоятельная работа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ROSOFT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FI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Exce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Ac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Word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называются документами): писем, отчётов, книг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Excel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азываются рабочими книг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Power Point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создания презентаций, которая во многом напомин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Outlock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личный электронный секретарь, незаменимый в любом офисе.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lock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ccess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базами данных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росто позволяет создавать таблицы данных и оперировать им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Fc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ffice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кет прикладных програм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Word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текстовый процессо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Excel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рограмма электронных таблиц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Power Point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создания презент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utlock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ый электронный секрет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Access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данны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3:16:25Z</dcterms:created>
  <dc:creator>www.PHILka.RU</dc:creator>
  <dc:description/>
  <dc:language>en-US</dc:language>
  <cp:lastModifiedBy>LEGION</cp:lastModifiedBy>
  <dcterms:modified xsi:type="dcterms:W3CDTF">2015-04-01T07:21:26Z</dcterms:modified>
  <cp:revision>7</cp:revision>
  <dc:subject/>
  <dc:title>Возможности использования компьютерной техники в офисах фирм.</dc:title>
</cp:coreProperties>
</file>