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2771-6016-4334-AC0F-244438560E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использования компьютерной техники в офиса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152B-757F-4A24-8FA5-521FC5E4B8C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FA84-D49A-4A17-8E91-C7197B5D6F6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ROSOFT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F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B4B3-D2FC-4C40-8D5F-5C7FBEBA90C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документами): писем, отчётов, кни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C1CE-1342-462C-8CF0-24F533EF391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рабочими кни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AECD-4494-4656-8A87-548FBC3C6AA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создания презентаций, которая во многом напомин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05AA-196C-4BB3-97F9-94EE31842A2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личный электронный секретарь, незаменимый в любом офисе.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oc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2455-157B-41DF-9A2A-FDA4B7DF970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базами данных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сто позволяет создавать таблицы данных и оперировать 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99E9-69AA-490D-9AD5-E190EB311BB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F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799C-8B4A-4B0B-A7CF-495940F4C6A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риклад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кстовый процесс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грамма электронных таб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создания презент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 электронный секрета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36F6-AF42-41EE-A9E0-A9FBA742582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DC1-219E-4A23-B44C-8A0EBBBB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31A-7591-4B3E-9D64-1B18BBA1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CB4-C318-4CC9-B4DB-A9F92D02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630-69EB-4A36-9986-6395E688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E628-87C3-4600-8176-8993CE92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AB20-FBC0-4BE3-8030-437EA11B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304A-1085-4C97-910B-BCD19563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A25D-99DA-4BE9-8DA1-4BB014FC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F0C0-872B-488A-B2C4-01AE59DC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30CA-3C88-4285-82B2-D26D29B5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1D59-69AF-4880-ACE5-CB6E652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5E4-970A-4984-BFE5-EF8A8383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DE84-1326-4245-A7B9-1332E8D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CED7-26E2-49F7-B308-8BC880C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05CD-A48C-44A0-B2D8-0A8EAE4D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285F-77F9-4F79-8BE4-4D06D3AE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DCF5-9803-40A1-854A-66F3EC55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C21-1F14-4B3B-82AE-027DD039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B99-9630-48BF-8182-0B97E1B4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CB6-AB5E-4A21-A94B-F19B58B0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65F-6399-4127-AF14-E9744597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24C-21D5-423D-8D21-26C677F5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5F0-B416-42A0-AEB2-86B55E9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5BE-ABED-4EFE-8BF3-A2B7B947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02EB-4342-4D38-82B2-95D64FEACE8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9A1C-3E2F-455C-A3C2-3CDE7805BBF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LEGION</cp:lastModifiedBy>
  <dcterms:modified xsi:type="dcterms:W3CDTF">2015-04-01T07:21:26Z</dcterms:modified>
  <cp:revision>7</cp:revision>
  <dc:subject/>
  <dc:title>Возможности использования компьютерной техники в офисах фирм.</dc:title>
</cp:coreProperties>
</file>