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5AD59-83E8-487B-BC94-EAD668577C1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и использования компьютерной техники в офисах фир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55E64-A0C7-438C-8922-87F555292AD4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амостоятельная работ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ислите, какие офисные принадлежности могут быть с успехом заменены компьютерной техни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ислите преимущества замены устаревших офисных «орудий труда» компьютерной техни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ислите, какие на ваш взгляд, недостатки имеет компьютерная техника по сравнению с традиционными методами работы в офис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овите , какие прикладные программы и как вы могли бы использовать в своей учебной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59C8A-0DF7-40B8-A154-8FE95CFE88C5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CROSOFT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FIS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Word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Excel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Power Poin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Outlock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Acce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88E42-203F-4067-AF01-9632ADDC4C32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Word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ТЕКСТОВЫЙ ПРЦЕССОР, КОТОРЫЙ ИСПОЛЬЗУЕТСЯ ДЛЯ СОЗДАНИЯ ТЕКСТОВЫХ ДОКУМЕНТОВ (ФАЙЛЫ, СОЗДАВАЕМЫЕ В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d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называются документами): писем, отчётов, книг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BA33B-BC64-49AC-843C-753372C0E83D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Excel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рограмма электронных таблиц, которая позволяет проводить числовой анализ. Это великолепный способ выполнения самых разнообразных расчётов. Файлы, создаваемые в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cel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называются рабочими книг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829AB-1EC5-4865-829C-50F2399521C6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Power Point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рограмма создания презентаций, которая во многом напоминает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d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но только вместо текстового документа в данном случае создаются цветные слайды.Эти слайды затем можно вывести на 35-мм цветную плёнку для демонстрации с помощью проектора ,для показа на экране компьютера, т.е. презент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2B5F6-CD12-49FF-9CEE-CF20DA0BA0ED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Outlock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личный электронный секретарь, незаменимый в любом офисе. В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lock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ходит удобная программа работы с электронной почтой, которую можно использовать, если компьютер, установленный в офисе, подключен к сети Интернет или любой диалоговой сервисной служб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A9C3A-0931-4118-A699-122B9FB4FDAE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Access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рограмма управления реляционными базами данных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ess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осто позволяет создавать таблицы данных и оперировать и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DF5AA-CEE9-4A9E-9499-BBDD2CB1ACC8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онят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Off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W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Power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Outlo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Fc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84D14-5790-42F1-BA72-18A923CE7056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онят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Office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кет прикладных програм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Word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екстовый процессор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Excel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ограмма электронных таблиц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Power Point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рамма создания презентац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Outlock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ый электронный секретар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Access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рограмма управления реляционными данн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C9590-C62B-4EEB-97C7-ADC51EC1817C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41DD-5408-4D31-A860-02DA83114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9835-5E17-479E-B27A-77868D7DF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B8FB-3CD3-441D-8A39-3856963F1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DB97-9E44-47AD-94E9-B5FC62BFD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88710-78D2-4095-B930-B2E55C4B6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53CDD-9908-4672-B197-6B6C4E967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D7F9F-CEDA-40C9-9BCE-DA2272D72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13AC8-6CF7-434C-9DD9-26918C812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5EA31-0DA4-48E1-AE61-C9A1DFBC7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40FEE-FCE3-42F2-B3FA-02115046B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DCFF3-C3B9-4322-A7CB-756F7CFFD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4160-1586-4382-BB13-2CC1363FC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434CB-A2A0-4842-9C3B-E2286FC38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80E94-B0A8-4BCD-AF63-1DB4142C1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8F2B8-A785-4558-8CCB-F6EEDCDB8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BE520-AFC3-413F-AF82-FDE635DDC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B0DA8-54D9-41BD-8712-DB8C0F3CF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FE00-C3A9-40D0-B00B-44D278296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8058-2FCE-4CA3-A345-B98A6F7FA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1A9E-0A27-4A55-B8D6-5E3266616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4051-AF0A-44DC-84AF-79F469707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FD23-4A61-448C-8E45-2EE0A96A3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831C-4E41-4B21-B6EF-005B585FA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51A2-0928-4A6C-B514-45C26EF34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7C86D-F037-464D-9B53-1DE677F3361D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C2087-3139-4C8C-AB63-67686ABE976B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Возможности использования компьютерной техники в офисах фирм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4716360" y="3573360"/>
            <a:ext cx="41054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МБОУ Ново-Павловская СОШ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Выполнил: Учитель технологии Пятилокотова О.П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6012000" y="595008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10 класс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Самостоятельная работа.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еречислите, какие офисные принадлежности могут быть с успехом заменены компьютерной техникой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еречислите преимущества замены устаревших офисных «орудий труда» компьютерной техникой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еречислите, какие на ваш взгляд, недостатки имеет компьютерная техника по сравнению с традиционными методами работы в офисах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Назовите , какие прикладные программы и как вы могли бы использовать в своей учебной деятельност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CROSOFT 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FFIS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Word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Excel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Power Point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Outlock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Acces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crosoft Word-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ЭТО ТЕКСТОВЫЙ ПРЦЕССОР, КОТОРЫЙ ИСПОЛЬЗУЕТСЯ ДЛЯ СОЗДАНИЯ ТЕКСТОВЫХ ДОКУМЕНТОВ (ФАЙЛЫ, СОЗДАВАЕМЫЕ В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ord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, называются документами): писем, отчётов, книг и т.д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crosoft Excel-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Это программа электронных таблиц, которая позволяет проводить числовой анализ. Это великолепный способ выполнения самых разнообразных расчётов. Файлы, создаваемые в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cel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, называются рабочими книгам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crosoft Power Point-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это программа создания презентаций, которая во многом напоминает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ord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, но только вместо текстового документа в данном случае создаются цветные слайды.Эти слайды затем можно вывести на 35-мм цветную плёнку для демонстрации с помощью проектора ,для показа на экране компьютера, т.е. презентации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crosoft Outlock-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Это личный электронный секретарь, незаменимый в любом офисе. В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utlock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ходит удобная программа работы с электронной почтой, которую можно использовать, если компьютер, установленный в офисе, подключен к сети Интернет или любой диалоговой сервисной служб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crosoft Access-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Это программа управления реляционными базами данных.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ccess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просто позволяет создавать таблицы данных и оперировать ими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сновные понятия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Offi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Wor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Power Poi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Outloc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Fcce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сновные понятия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crosoft Office-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акет прикладных программ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crosoft Word-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текстовый процессор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crosoft Excel-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программа электронных таблиц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crosoft Power Point-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ограмма создания презентаций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crosoft Outlock-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личный электронный секретарь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crosoft Access-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это программа управления реляционными данным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9T13:16:25Z</dcterms:created>
  <dc:creator>www.PHILka.RU</dc:creator>
  <dc:description/>
  <dc:language>en-US</dc:language>
  <cp:lastModifiedBy>LEGION</cp:lastModifiedBy>
  <dcterms:modified xsi:type="dcterms:W3CDTF">2015-04-01T07:21:26Z</dcterms:modified>
  <cp:revision>7</cp:revision>
  <dc:subject/>
  <dc:title>Возможности использования компьютерной техники в офисах фирм.</dc:title>
</cp:coreProperties>
</file>