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C5D4-6C2D-4322-8F08-9EAE6356F16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использования компьютерной техники в офиса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1572-827C-493B-8C9B-074F04EEB61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мостоятельная рабо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28E0-7BBB-49F6-A964-78A74418E77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ROSOFT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FI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DAD8-F7BF-4D9E-A7B3-0BD4B6CA2E4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зываются документами): писем, отчётов, книг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3F19-156A-467A-BA12-D845698E545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зываются рабочими кни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4895-90B4-45D8-8C15-DFEE7C506AC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создания презентаций, которая во многом напоминае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4C08-5E08-4436-897C-8EDF08E6EDD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личный электронный секретарь, незаменимый в любом офисе.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lock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8AEE-3F43-4D02-850B-A7A730F4AB1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управления реляционными базами данных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сто позволяет создавать таблицы данных и оперировать 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1FE5-FDF2-4AB2-86C9-2A68796A3D2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F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605E-F1CA-41C0-9308-C9460229A52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прикладных про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кстовый процесс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грамма электронных табл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создания презент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й электронный секретар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управления реляционными да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D5E5-33D1-4BC3-A24C-156B27505E2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84C9-69BE-4B71-958B-444D1BF3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456-56CE-4DC6-A2CF-2DB80CA1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D8B6-226F-42D1-BFA1-9AAE28A2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677-C8A3-4A97-97F1-8244A254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07E5-FEB1-4780-A122-6035D05A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7DCB-3E75-47F8-AEC4-F401FECB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EB88-E48D-48A8-9CC0-2BF19BDE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CA94-5512-497B-8FE6-98E014CD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A574-A668-4D9E-9DFC-39FF26E5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D962-6ED9-4AEB-AFC2-02577943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75A8-A1B1-4FEC-8DDA-CFBC0D0E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EEB-311F-4233-8B71-B735B972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0454-EDA3-416A-8F94-58266870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6D9C-89B9-48B6-A2E2-6851EF6C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F719-E55F-4B19-922D-9E07A3B7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7EF6-0F0F-423D-A60F-3DE1D478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0985-60F7-480C-9F9F-E23FD51B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FBA8-D88B-43A4-89F1-2371C390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625-910D-4C50-A160-DA6E0CD6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9283-8134-487F-9EA3-1E7EE729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834-71A7-40B2-98A5-B3C917B8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CB2E-B6A6-47C2-9046-2822E287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ADBA-C66E-4675-838B-BB067647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B206-AB1C-4786-8568-6FE9CF37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EFF2-9B2D-4FD9-8A38-810F91B7637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5863-73F2-4ADD-83C0-2BC351399F0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озможности использования компьютерной техники в офисах фирм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16360" y="3573360"/>
            <a:ext cx="410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БОУ Ново-Павловская СОШ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ыполнил: Учитель технологии Пятилокотова О.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012000" y="59500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амостоятельная работа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ROSOFT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FI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Exce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Ac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Word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называются документами): писем, отчётов, книг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Excel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азываются рабочими книг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Power Point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создания презентаций, которая во многом напомин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Outlock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личный электронный секретарь, незаменимый в любом офисе.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lock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ccess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базами данных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росто позволяет создавать таблицы данных и оперировать им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Fc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ffice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кет прикладных програм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Word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текстовый процессо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Excel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рограмма электронных таблиц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Power Point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создания презент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utlock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ый электронный секрет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Access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данны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3:16:25Z</dcterms:created>
  <dc:creator>www.PHILka.RU</dc:creator>
  <dc:description/>
  <dc:language>en-US</dc:language>
  <cp:lastModifiedBy>LEGION</cp:lastModifiedBy>
  <dcterms:modified xsi:type="dcterms:W3CDTF">2015-04-01T07:21:26Z</dcterms:modified>
  <cp:revision>7</cp:revision>
  <dc:subject/>
  <dc:title>Возможности использования компьютерной техники в офисах фирм.</dc:title>
</cp:coreProperties>
</file>