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1989-E27E-404E-8952-F885290E10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7c80"/>
                </a:solidFill>
                <a:latin typeface="Calibri"/>
              </a:rPr>
              <a:t>PageMak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15D9-CF3B-45B0-8D00-FDF43E29F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а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ы ее не видите, то включите ее отображение команд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Tool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инструменты) 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1AA9-6384-45E7-B7C4-242052749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нструменты палитры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Стрелка). Используется при размещении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Text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Текст). Используется для локального форматирования текс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otat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оворот). Предназначен для поворота элементов макета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ropping Tool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амка). Позволяет производить обрезку имеющихся в публикации изображений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. Используется для рисования линий с произвольным углом наклона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Constrained 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ерпендикуляр). То же, что и </a:t>
            </a: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Lin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Линия), но для создания вертикальных и горизонтальных линий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ик). Предназначен для рисования прям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Эллипс). Служит для рисования эллипс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ик). Предназначен для рисования многоугольников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Rectangl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Прямоугольный фрейм). Создает прямоугольный фрейм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Ellipse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Овальный фрейм). Предназначен для создания овального фрейма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Polygon Frame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ногоугольный фрейм). Создает многоугольный фрейм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Hand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(Масштаб). Изменяет масштаб отображения страниц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CA52-15E4-4227-8F76-37E48BDC3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штаб отображения страниц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смотр), с помощью контекстного меню или инстру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асштаб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иболее необходимы следующие комбинации клавиш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5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5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7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75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1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1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2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2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4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масштаба 400%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+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I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величить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&lt;Ctrl&gt;+&lt;- 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для команд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Zoom Out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Уменьш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FF09-7310-48D2-BE8B-49A186A03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стольная издательская систем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ageMa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7c80"/>
                </a:solidFill>
                <a:latin typeface="Calibri"/>
              </a:rPr>
              <a:t>Возмож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е позиционирование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ка межсловных и межбуквенных интерв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размещение , поворот и отражение отдельных текстовых бло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рот, отражение, масштабирование, наклон графически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ое обтекание графики тек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ение текста и граф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303A-D8A5-4D69-BF0F-90648FD8D3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овой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чала работы нужно либо открыть существующую публикацию, либо создать новую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рав команд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Op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крыть)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айл) вы откроете стандартное диалоговое окно выбора файл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228-39A1-432C-974D-539A3C6CAB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2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Чтобы создать новую, пустую публикацию, выберит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команду New (Новый) меню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(Файл)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диалоговом окне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Document Setup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араметры документа) укажите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ормат публикации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риентацию листов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оличество страниц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омер первой страницы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ры полей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едполагаемое устройство вывода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решающую способность устройства выво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ИМЕЧАНИЕ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A84B-D3D2-4ACF-9897-C4F9957EF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на документов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6EF-2020-474F-B904-46E09FAF5A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3415-34A1-45FA-A062-D4A111E0B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лит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ды палитр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инструмен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тип выполняемой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правляющая палитра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быстрый доступ к функциям форматирования абзацев и симво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цвето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назначать цвет элементам макета и определять цве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тилей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яет доступ к функциям форматирования абзацев с помощью сти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слоев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многослойные макеты и управлять сло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7c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шаблон-страниц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а для создания шаблон-страниц и назначения их страницам публик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7c80"/>
                </a:solidFill>
                <a:latin typeface="Calibri"/>
              </a:rPr>
              <a:t>палитра гиперссыло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создавать перекрестные ссылки внутри и между элементами публик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137-3DDD-4046-8DD5-D514618CE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мещение пали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ение палитр включается соответствующими команд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Show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каза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&lt;имя палитры&gt;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мен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к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алитра уже отображается на экране, то имени палитры предшествует 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Hide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прятать). Выбрав этот пункт, вы уберете соответствующую палитру с экр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трелка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ция клавиш &lt;Shift&gt;+&lt;Tab&gt; также убирает все палитры, кроме палитры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C6D-7AC0-43C6-8F42-38A5B4E1E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261-715B-4616-86B2-72574295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855-FF3A-45BF-BBC5-F2ECA1D9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F26-C809-4D8F-AF7C-1F97D597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F7A-98DD-40F0-B317-A8C3AE3B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837D-52F9-4890-A42E-1DA0E5F1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0A75-A158-4578-B5FA-AB357B7B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DFB2-1513-4915-B66C-8329838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51BE-166B-46C4-AF19-8DF2880C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4094-B233-419D-B8DF-1829DBF2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C517-01D9-45D6-A5B1-4AAC749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FD8-0039-4689-B12C-38300AA3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753-435D-4490-992E-D16B2424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2965-F513-443C-833F-C6B8BBFD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F766-F3B2-4C73-A597-B5E7C859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8FA6-5985-4F24-8050-CAAAEF50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95E8-4A98-4360-B988-5C3AC31A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0B6D5-3D22-4644-82F2-611FC466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D40E-FA68-4898-9F45-8054AAC1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E01E-DAFC-49F3-AF6D-02FE44D8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5926-525C-4D2C-8E7B-E8F5570B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2498-4911-4489-8B59-FFA3B6D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59A-06BE-46B2-B8C5-CAF5F61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2B10-85DA-4338-A292-4FF39FBD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AA9-D8E4-4A2C-AB94-F48C593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E0A4-FB4E-4D23-AF93-08480E021F7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7DFA-3476-4352-8864-78D31DFB532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5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7.png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8.png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33"/>
                </a:solidFill>
                <a:latin typeface="Arial"/>
              </a:rPr>
              <a:t>Издательская система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640" y="306864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7c80"/>
                </a:solidFill>
                <a:latin typeface="Arial"/>
              </a:rPr>
              <a:t>PageMak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000840"/>
            <a:ext cx="2895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брамкина Татьяна Николаев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читель информатики сш №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г. Петропавловск, Казахст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литра инструмент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8355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ерстке макета необходимо сообщать PageMaker о том, какого рода операции вы собираетесь делать: размещать элементы макета, редактировать текст, рисовать линии и фигуры и т. п. Сообщить это вы можете, выбрав соответствующий инструмент в палитре инстру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ы ее не видите, то включите ее отображение команд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how Tool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казать инструменты) из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но)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9"/>
          <p:cNvPicPr/>
          <p:nvPr/>
        </p:nvPicPr>
        <p:blipFill>
          <a:blip r:embed="rId1"/>
          <a:stretch/>
        </p:blipFill>
        <p:spPr>
          <a:xfrm>
            <a:off x="6516720" y="1052640"/>
            <a:ext cx="1244520" cy="4465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1"/>
          <p:cNvSpPr/>
          <p:nvPr/>
        </p:nvSpPr>
        <p:spPr>
          <a:xfrm>
            <a:off x="1403280" y="966600"/>
            <a:ext cx="7416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релка). Используется при размещении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Text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екст). Используется для локального форматирования текс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otat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ворот). Предназначен для поворота элементов макет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ropping Tool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мка). Позволяет производить обрезку имеющихся в публикации изоб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. Используется для рисования линий с произвольным углом наклон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onstrained 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пендикуляр). То же, что 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Lin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иния), но для создания вертикальных и горизонтальных ли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ик). Предназначен для рисования прям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Эллипс). Служит для рисования эллип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ик). Предназначен для рисования многоугольник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Rectangl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ямоугольный фрейм). Создает прямоугольный фрейм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Ellipse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вальный фрейм). Предназначен для создания овального фрейм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Polygon Fram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ногоугольный фрейм). Создает многоугольный фрей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Han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а). Позволяет перемещать изображение страницы внутри окна документа при работе в крупном масштаб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сштаб). Изменяет масштаб отображения ст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нструменты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42" name="Object 27"/>
          <p:cNvGraphicFramePr/>
          <p:nvPr/>
        </p:nvGraphicFramePr>
        <p:xfrm>
          <a:off x="1042920" y="1730520"/>
          <a:ext cx="390600" cy="3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30520"/>
                    <a:ext cx="39060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22"/>
          <p:cNvGraphicFramePr/>
          <p:nvPr/>
        </p:nvGraphicFramePr>
        <p:xfrm>
          <a:off x="1042920" y="907920"/>
          <a:ext cx="3999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907920"/>
                    <a:ext cx="3999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24"/>
          <p:cNvGraphicFramePr/>
          <p:nvPr/>
        </p:nvGraphicFramePr>
        <p:xfrm>
          <a:off x="1073160" y="1341360"/>
          <a:ext cx="352440" cy="33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73160" y="1341360"/>
                    <a:ext cx="3524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29"/>
          <p:cNvGraphicFramePr/>
          <p:nvPr/>
        </p:nvGraphicFramePr>
        <p:xfrm>
          <a:off x="1042920" y="2090880"/>
          <a:ext cx="40968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2090880"/>
                    <a:ext cx="409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1"/>
          <p:cNvGraphicFramePr/>
          <p:nvPr/>
        </p:nvGraphicFramePr>
        <p:xfrm>
          <a:off x="1042920" y="2492280"/>
          <a:ext cx="39060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2492280"/>
                    <a:ext cx="390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2"/>
          <p:cNvGraphicFramePr/>
          <p:nvPr/>
        </p:nvGraphicFramePr>
        <p:xfrm>
          <a:off x="1042920" y="2852640"/>
          <a:ext cx="40968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42920" y="2852640"/>
                    <a:ext cx="409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3"/>
          <p:cNvGraphicFramePr/>
          <p:nvPr/>
        </p:nvGraphicFramePr>
        <p:xfrm>
          <a:off x="1042920" y="3286080"/>
          <a:ext cx="343080" cy="304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5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3286080"/>
                    <a:ext cx="3430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34"/>
          <p:cNvGraphicFramePr/>
          <p:nvPr/>
        </p:nvGraphicFramePr>
        <p:xfrm>
          <a:off x="1042920" y="4351320"/>
          <a:ext cx="362160" cy="36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" name="Object 3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4351320"/>
                    <a:ext cx="362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5"/>
          <p:cNvGraphicFramePr/>
          <p:nvPr/>
        </p:nvGraphicFramePr>
        <p:xfrm>
          <a:off x="1042920" y="3645000"/>
          <a:ext cx="352440" cy="314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9" name="Object 3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42920" y="3645000"/>
                    <a:ext cx="3524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36"/>
          <p:cNvGraphicFramePr/>
          <p:nvPr/>
        </p:nvGraphicFramePr>
        <p:xfrm>
          <a:off x="1042920" y="4740120"/>
          <a:ext cx="352440" cy="2955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1" name="Object 3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42920" y="4740120"/>
                    <a:ext cx="352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7"/>
          <p:cNvGraphicFramePr/>
          <p:nvPr/>
        </p:nvGraphicFramePr>
        <p:xfrm>
          <a:off x="1116000" y="4019400"/>
          <a:ext cx="324000" cy="324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3" name="Object 3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116000" y="4019400"/>
                    <a:ext cx="32400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38"/>
          <p:cNvGraphicFramePr/>
          <p:nvPr/>
        </p:nvGraphicFramePr>
        <p:xfrm>
          <a:off x="1042920" y="5113440"/>
          <a:ext cx="343080" cy="3045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5" name="Object 3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42920" y="5113440"/>
                    <a:ext cx="3430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9"/>
          <p:cNvGraphicFramePr/>
          <p:nvPr/>
        </p:nvGraphicFramePr>
        <p:xfrm>
          <a:off x="1042920" y="5516640"/>
          <a:ext cx="36216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7" name="Object 3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042920" y="5516640"/>
                    <a:ext cx="3621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0"/>
          <p:cNvGraphicFramePr/>
          <p:nvPr/>
        </p:nvGraphicFramePr>
        <p:xfrm>
          <a:off x="1042920" y="5950080"/>
          <a:ext cx="371520" cy="295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9" name="Object 4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042920" y="5950080"/>
                    <a:ext cx="371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Масштаб отображения страницы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68360" y="105264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кончательного позиционирования, редактирования и форматирования текста, рисования мелких элементов и т. п. требуется увеличение масштаба. Масштабирование проводят командами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смотр), с помощью контекстного меню или инструмент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асштаб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4360" y="2924280"/>
            <a:ext cx="72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необходимы следующие комбинации клави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5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5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7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75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1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1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2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2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4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масштаба 400%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+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In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величить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Ctrl&gt;+&lt;- 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для команд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Zoom Ou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Уменьш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95280" y="54936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стольная издательская систем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geMa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то программа для создания различной типографской продукции: книг, журналов, газет, буклетов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8640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7c80"/>
                </a:solidFill>
                <a:latin typeface="Arial"/>
              </a:rPr>
              <a:t>Возмож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е позиционирование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межсловных и межбуквенных интерв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размещение , поворот и отражение отдельных текстовых бл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орот, отражение, масштабирование, наклон графически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вольное обтекание графики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ожение текста и граф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333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c80"/>
                </a:solidFill>
                <a:latin typeface="Arial"/>
              </a:rPr>
              <a:t>Интерфейс пользов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33880" y="1348200"/>
            <a:ext cx="102135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3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"/>
          <p:cNvPicPr/>
          <p:nvPr/>
        </p:nvPicPr>
        <p:blipFill>
          <a:blip r:embed="rId1"/>
          <a:stretch/>
        </p:blipFill>
        <p:spPr>
          <a:xfrm>
            <a:off x="971640" y="1125360"/>
            <a:ext cx="7273800" cy="5227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2627280" y="3933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литра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 flipV="1">
            <a:off x="2268360" y="2997000"/>
            <a:ext cx="5032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2492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ока мен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 flipH="1" flipV="1">
            <a:off x="5148000" y="1628280"/>
            <a:ext cx="43164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479840" y="18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843280" y="3068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равляющая пан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4356000" y="2060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оздание новой публикаци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14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ля начала работы нужно либо открыть существующую публикацию, либо создать новую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брав команду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Открыть) меню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Файл) вы откроете стандартное диалоговое окно выбора файлов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3"/>
          <p:cNvPicPr/>
          <p:nvPr/>
        </p:nvPicPr>
        <p:blipFill>
          <a:blip r:embed="rId1"/>
          <a:stretch/>
        </p:blipFill>
        <p:spPr>
          <a:xfrm>
            <a:off x="1547640" y="2637000"/>
            <a:ext cx="6480360" cy="36208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создать новую, пустую публикацию, выбери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у New (Новый) мен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Файл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иалоговом окне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ocument Setup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араметры документа) укажит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т публик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ентацию лист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двусторонней печати, отображение на экране разворота публикации или одиночных страниц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страниц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мер первой страниц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ы поле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полагаемое устройство вывод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ешающую способность устройства выв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ЧА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: эта информация абсолютно необходима PageMaker, и если вы не ввели какое-либо значение из приведенного списка, будут приняты значения по умолчанию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186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кна документов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Picture 6" descr="5"/>
          <p:cNvPicPr/>
          <p:nvPr/>
        </p:nvPicPr>
        <p:blipFill>
          <a:blip r:embed="rId1"/>
          <a:stretch/>
        </p:blipFill>
        <p:spPr>
          <a:xfrm>
            <a:off x="324000" y="981000"/>
            <a:ext cx="7488000" cy="568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419640" y="3429000"/>
            <a:ext cx="17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ая страница публик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516720" y="350028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187280" y="5661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ительные линей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 flipH="1" flipV="1">
            <a:off x="684360" y="5805000"/>
            <a:ext cx="5745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V="1">
            <a:off x="1835280" y="2276280"/>
            <a:ext cx="36036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ерехода от одной страницы к другой служат пиктограммы с номерами страниц, в нижней левой части окна документа (слева от полосы прокрутки)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лкните мышью на пиктограмме с номером страницы, и она будет открыта. Если пиктограмма нужной страницы не видна на экране, до нее можно добраться с помощью полос прокрутки, расположенных слева и справа от списка.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6"/>
          <p:cNvPicPr/>
          <p:nvPr/>
        </p:nvPicPr>
        <p:blipFill>
          <a:blip r:embed="rId1"/>
          <a:stretch/>
        </p:blipFill>
        <p:spPr>
          <a:xfrm>
            <a:off x="3132000" y="4292640"/>
            <a:ext cx="2880000" cy="1530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b812f"/>
                </a:solidFill>
                <a:latin typeface="Garamond"/>
              </a:rPr>
              <a:t>Палитр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981000"/>
            <a:ext cx="8459640" cy="58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итр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это небольшие немодальные окна, в которых собраны элементы управления программой или отображается какая-либо текущая информация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ды палит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инструмен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 тип выполняемой рабо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равляющая палитр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ет быстрый доступ к функциям форматирования абзацев и символ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цве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назначать цвет элементам макета и определять цве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тил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ет доступ к функциям форматирования абзацев с помощью стиле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слое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многослойные макеты и управлять сло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шаблон-страниц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а для создания шаблон-страниц и назначения их страницам публ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7c80"/>
                </a:solidFill>
                <a:latin typeface="Arial"/>
              </a:rPr>
              <a:t>палитра гиперссылок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создавать перекрестные ссылки внутри и между элементами публикаци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азмещение палит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итры можно размещать произвольным образом и в любой момент можно убрать любую из них с экрана и вернуть обр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ображение палитр включается соответствующими команда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Show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&lt;имя палитры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каза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&lt;имя палитры&gt;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ен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indow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н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алитра уже отображается на экране, то имени палитры предшествует слов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id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прятать). Выбрав этот пункт, вы уберете соответствующую палитру с экр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ЧАНИЕ: PageMaker запоминает положение палитр на экране, и палитры в момент открытия программы появляются в тех местах, в которых они находились в момент закрыт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убрать все палитры с экрана можно клавишей табуляции при активном инструмен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oint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релка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бинация клавиш &lt;Shift&gt;+&lt;Tab&gt; также убирает все палитры, кроме палитры инструмент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7:34:51Z</dcterms:created>
  <dc:creator>Абрамкина</dc:creator>
  <dc:description/>
  <dc:language>en-US</dc:language>
  <cp:lastModifiedBy>LEGION</cp:lastModifiedBy>
  <dcterms:modified xsi:type="dcterms:W3CDTF">2015-04-01T07:22:10Z</dcterms:modified>
  <cp:revision>7</cp:revision>
  <dc:subject/>
  <dc:title>Издательская система</dc:title>
</cp:coreProperties>
</file>