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E4A4-085A-4912-B4C9-698E46A34F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7c80"/>
                </a:solidFill>
                <a:latin typeface="Calibri"/>
              </a:rPr>
              <a:t>PageMak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D00E-6A87-450F-99D8-818C5972E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а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ы ее не видите, то включите ее отображение команд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Tool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инструменты) 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4314-1393-4B64-845B-0747ACED5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нструменты палит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Стрелка). Используется при размещении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Text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Текст). Используется для локального форматирования текс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otat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оворот). Предназначен для поворота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ropp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амка). Позволяет производить обрезку имеющихся в публикации изображени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. Используется для рисования линий с произвольным углом наклона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onstrained 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ерпендикуляр). То же, что и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, но для создания вертикальных и горизонтальных линий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ик). Предназначен для рисования прям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Эллипс). Служит для рисования эллипс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ик). Предназначен для рисования мног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ый фрейм). Создает прямоугольный фрейм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Овальный фрейм). Предназначен для создания овального фрейма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ый фрейм). Создает многоугольный фрейм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Hand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асштаб). Изменяет масштаб отображения страниц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2CAF-D875-4A83-B3D1-965A3EB0B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штаб отображения страниц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мотр), с помощью контекстного меню или инстру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сштаб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необходимы следующие комбинации клави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5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5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7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75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1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1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2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2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4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4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+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I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величит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- 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Ou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меньш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C4E7-DAC2-42BE-9E86-6DEA6F13DF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ольная издательская систем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ageMa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7c80"/>
                </a:solidFill>
                <a:latin typeface="Calibri"/>
              </a:rPr>
              <a:t>Возмож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е позиционирование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ка межсловных и межбуквенных интерв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размещение , поворот и отражение отдельных текстовых бл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орот, отражение, масштабирование, наклон графически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ое обтекание графики тек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текста и граф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842B-6F21-4C48-9154-0459B96E4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чала работы нужно либо открыть существующую публикацию, либо создать новую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в команд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Ope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крыть)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йл) вы откроете стандартное диалоговое окно выбора фай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2C41-61F6-4DE7-988E-1426633AF5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тобы создать новую, пустую публикацию, выберит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манду New (Новый) меню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Файл)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диалоговом окне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Document Setup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араметры документа) укажит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ат публикаци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риентацию листов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оличество страни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омер первой страниц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ры полей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дполагаемое устройство вывод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решающую способность устройства выв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ИМЕЧАНИЕ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4513-C871-4768-97FE-2832650FD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на документов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2890-3DD6-4706-AB23-CFF8A3C68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F853-D861-4A19-8581-3865E2E032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ит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ы палит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инструмен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тип выполняемой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вляющая палит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быстрый доступ к функциям форматирования абзацев и симв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цве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назначать цвет элементам макета и определять цв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тиле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яет доступ к функциям форматирования абзацев с помощью сти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лое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многослойные макеты и управлять сло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7c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шаблон-страниц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создания шаблон-страниц и назначения их страницам публ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гиперссыло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перекрестные ссылки внутри и между элементами публик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7B1F-D8AD-4DF0-96C6-7CA3C7BFE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щение 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ение палитр включается соответствующими команд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алитра уже отображается на экране, то имени палитры предшествует 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id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прятать). Выбрав этот пункт, вы уберете соответствующую палитру с экр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релка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клавиш &lt;Shift&gt;+&lt;Tab&gt; также убирает все палитры, кроме палитры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DBC0-C927-4D05-97A9-D01A035314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EED-E786-44DC-9B41-C444C378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EC2-EDE5-4371-BEB5-94918BB3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2C5-908B-43B3-AEBB-BD564C23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3A2-5837-4A51-9256-A2A3E17A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4C5D-C7BC-4E3C-A595-2B1A67EF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1F42-A276-46FF-8A2D-C0BD01A1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A6B1-08B6-4058-8F7D-D9064B93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0D6E-EC71-453B-8C93-662964D8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5520-A4DD-49D2-829F-0E5D9F28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6CED-D6E5-4A14-9886-C827B53A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4DC3-DEA9-4052-85C6-1480E974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4AE-BAEC-4D1B-A66C-A6311836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8FCD-A31E-406F-8BF7-11957E75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2124-2AA1-4894-935C-44661751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BE14-D32F-4434-8230-FABB508E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D4DE-2554-4A02-900F-B3DDA4F5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D138-BA71-414B-8A3C-0AF6575B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7F4-E1A4-4104-A9EF-1A7C9C50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762-5515-4E2B-B415-739044C3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3F3-8E44-4962-B372-BB9D29B5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D19-191C-443E-85F3-5F1E6147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EC0-4506-409B-87A7-15EC1733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F0C-CDE7-4E0B-9AF2-63A41E0F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97D-BDD2-49B6-981B-867BF6A4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9D2A-92C2-4F9E-8A7E-098D7A571E7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D7ED-E173-44A3-A17D-881060729E2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33"/>
                </a:solidFill>
                <a:latin typeface="Arial"/>
              </a:rPr>
              <a:t>Издательская система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7c80"/>
                </a:solidFill>
                <a:latin typeface="Arial"/>
              </a:rPr>
              <a:t>PageM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000840"/>
            <a:ext cx="2895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Абрамкина Татьяна Николае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учитель информатики сш №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г. Петропавловск, Казах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литра инструмен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835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ее не видите, то включите ее отображение команд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ow Tool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казать инструменты) из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но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9"/>
          <p:cNvPicPr/>
          <p:nvPr/>
        </p:nvPicPr>
        <p:blipFill>
          <a:blip r:embed="rId1"/>
          <a:stretch/>
        </p:blipFill>
        <p:spPr>
          <a:xfrm>
            <a:off x="6516720" y="1052640"/>
            <a:ext cx="1244520" cy="4465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1403280" y="966600"/>
            <a:ext cx="7416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релка). Используется при размещении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ст). Используется для локального форматирования текс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otat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ворот). Предназначен для поворота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ropp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мка). Позволяет производить обрезку имеющихся в публикации изоб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. Используется для рисования линий с произвольным углом наклон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onstrained 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пендикуляр). То же, что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, но для создания вертикальных и горизонтальных ли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ик). Предназначен для рисования прям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ллипс). Служит для рисования эллип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ик). Предназначен для рисования мног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ый фрейм). Создает прямоугольный фрей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вальный фрейм). Предназначен для создания овального фрейм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ый фрейм). Создает многоугольный фрей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an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сштаб). Изменяет масштаб отображения ст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струменты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2" name="Object 27"/>
          <p:cNvGraphicFramePr/>
          <p:nvPr/>
        </p:nvGraphicFramePr>
        <p:xfrm>
          <a:off x="1042920" y="1730520"/>
          <a:ext cx="39060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30520"/>
                    <a:ext cx="3906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1042920" y="907920"/>
          <a:ext cx="39996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907920"/>
                    <a:ext cx="39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4"/>
          <p:cNvGraphicFramePr/>
          <p:nvPr/>
        </p:nvGraphicFramePr>
        <p:xfrm>
          <a:off x="1073160" y="1341360"/>
          <a:ext cx="3524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3160" y="1341360"/>
                    <a:ext cx="352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9"/>
          <p:cNvGraphicFramePr/>
          <p:nvPr/>
        </p:nvGraphicFramePr>
        <p:xfrm>
          <a:off x="1042920" y="2090880"/>
          <a:ext cx="40968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2090880"/>
                    <a:ext cx="409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1"/>
          <p:cNvGraphicFramePr/>
          <p:nvPr/>
        </p:nvGraphicFramePr>
        <p:xfrm>
          <a:off x="1042920" y="2492280"/>
          <a:ext cx="39060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2492280"/>
                    <a:ext cx="390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32"/>
          <p:cNvGraphicFramePr/>
          <p:nvPr/>
        </p:nvGraphicFramePr>
        <p:xfrm>
          <a:off x="1042920" y="2852640"/>
          <a:ext cx="40968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2852640"/>
                    <a:ext cx="409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3"/>
          <p:cNvGraphicFramePr/>
          <p:nvPr/>
        </p:nvGraphicFramePr>
        <p:xfrm>
          <a:off x="1042920" y="3286080"/>
          <a:ext cx="34308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2920" y="32860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4"/>
          <p:cNvGraphicFramePr/>
          <p:nvPr/>
        </p:nvGraphicFramePr>
        <p:xfrm>
          <a:off x="1042920" y="4351320"/>
          <a:ext cx="36216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4351320"/>
                    <a:ext cx="362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5"/>
          <p:cNvGraphicFramePr/>
          <p:nvPr/>
        </p:nvGraphicFramePr>
        <p:xfrm>
          <a:off x="1042920" y="3645000"/>
          <a:ext cx="352440" cy="31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3645000"/>
                    <a:ext cx="352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6"/>
          <p:cNvGraphicFramePr/>
          <p:nvPr/>
        </p:nvGraphicFramePr>
        <p:xfrm>
          <a:off x="1042920" y="4740120"/>
          <a:ext cx="352440" cy="295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2920" y="4740120"/>
                    <a:ext cx="3524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7"/>
          <p:cNvGraphicFramePr/>
          <p:nvPr/>
        </p:nvGraphicFramePr>
        <p:xfrm>
          <a:off x="1116000" y="4019400"/>
          <a:ext cx="324000" cy="32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16000" y="4019400"/>
                    <a:ext cx="324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8"/>
          <p:cNvGraphicFramePr/>
          <p:nvPr/>
        </p:nvGraphicFramePr>
        <p:xfrm>
          <a:off x="1042920" y="5113440"/>
          <a:ext cx="343080" cy="304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5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42920" y="5113440"/>
                    <a:ext cx="3430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9"/>
          <p:cNvGraphicFramePr/>
          <p:nvPr/>
        </p:nvGraphicFramePr>
        <p:xfrm>
          <a:off x="1042920" y="5516640"/>
          <a:ext cx="362160" cy="314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42920" y="5516640"/>
                    <a:ext cx="3621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0"/>
          <p:cNvGraphicFramePr/>
          <p:nvPr/>
        </p:nvGraphicFramePr>
        <p:xfrm>
          <a:off x="1042920" y="5950080"/>
          <a:ext cx="371520" cy="295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9" name="Object 4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5950080"/>
                    <a:ext cx="371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асштаб отображения страницы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10526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смотр), с помощью контекстного меню или инструмент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шта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4360" y="292428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необходимы следующие комбинации клави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5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5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7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75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1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1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2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2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4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4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+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величи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- 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Ou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мень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549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тольная издательская систем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geM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773360"/>
            <a:ext cx="8640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Возмож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е позиционирование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межсловных и межбуквенных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размещение , поворот и отражение отдельных текстовых бл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рот, отражение, масштабирование, наклон графически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обтекание графики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жение текста и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00000" y="333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7c80"/>
                </a:solidFill>
                <a:latin typeface="Arial"/>
              </a:rPr>
              <a:t>Интерфейс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533880" y="1348200"/>
            <a:ext cx="102135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"/>
          <p:cNvPicPr/>
          <p:nvPr/>
        </p:nvPicPr>
        <p:blipFill>
          <a:blip r:embed="rId1"/>
          <a:stretch/>
        </p:blipFill>
        <p:spPr>
          <a:xfrm>
            <a:off x="971640" y="1125360"/>
            <a:ext cx="7273800" cy="5227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2627280" y="39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литра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 flipV="1">
            <a:off x="2268360" y="299700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8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 flipV="1">
            <a:off x="5148000" y="1628280"/>
            <a:ext cx="43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479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843280" y="306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равляющ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356000" y="2060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здание новой публика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14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начала работы нужно либо открыть существующую публикацию, либо создать новую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брав команду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Открыть) меню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Файл) вы откроете стандартное диалоговое окно выбора файло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3"/>
          <p:cNvPicPr/>
          <p:nvPr/>
        </p:nvPicPr>
        <p:blipFill>
          <a:blip r:embed="rId1"/>
          <a:stretch/>
        </p:blipFill>
        <p:spPr>
          <a:xfrm>
            <a:off x="1547640" y="2637000"/>
            <a:ext cx="6480360" cy="36208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создать новую, пустую публикацию, выбер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у New (Новый)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айл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иалоговом окн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ocument Setup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араметры документа) укажит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ат публик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ацию лист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страниц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мер первой страниц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ы по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мое устройство выво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ешающую способность устройства вы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186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кна документов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324000" y="981000"/>
            <a:ext cx="7488000" cy="568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419640" y="3429000"/>
            <a:ext cx="17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ая страница публ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516720" y="350028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187280" y="5661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ительные линей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H="1" flipV="1">
            <a:off x="684360" y="5805000"/>
            <a:ext cx="5745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835280" y="2276280"/>
            <a:ext cx="36036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800" y="45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6"/>
          <p:cNvPicPr/>
          <p:nvPr/>
        </p:nvPicPr>
        <p:blipFill>
          <a:blip r:embed="rId1"/>
          <a:stretch/>
        </p:blipFill>
        <p:spPr>
          <a:xfrm>
            <a:off x="3132000" y="4292640"/>
            <a:ext cx="2880000" cy="153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Палит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981000"/>
            <a:ext cx="8459640" cy="58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ит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ы палит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инструмен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тип выполняемой раб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равляющая палитр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быстрый доступ к функциям форматирования абзацев и симво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цве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назначать цвет элементам макета и определять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тил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ет доступ к функциям форматирования абзацев с помощью сти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лое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многослойные макеты и управлять сло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шаблон-страниц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а для создания шаблон-страниц и назначения их страницам публ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гиперссыл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перекрестные ссылки внутри и между элементами публикац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мещение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бражение палитр включается соответствующими команд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&lt;имя палитры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каза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&lt;имя палитры&gt;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н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алитра уже отображается на экране, то имени палитры предшествует сло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id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прятать). Выбрав этот пункт, вы уберете соответствующую палитру с экр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релка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бинация клавиш &lt;Shift&gt;+&lt;Tab&gt; также убирает все палитры, кроме палитры инструмент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7:34:51Z</dcterms:created>
  <dc:creator>Абрамкина</dc:creator>
  <dc:description/>
  <dc:language>en-US</dc:language>
  <cp:lastModifiedBy>LEGION</cp:lastModifiedBy>
  <dcterms:modified xsi:type="dcterms:W3CDTF">2015-04-01T07:22:10Z</dcterms:modified>
  <cp:revision>7</cp:revision>
  <dc:subject/>
  <dc:title>Издательская система</dc:title>
</cp:coreProperties>
</file>