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9F2C-1441-4390-8C3C-515D325692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сквозного курса информатики 7-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лёв Сергей Григорьевич, учитель физики и информатики школы №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2609-79D8-43F7-A69D-846054823BC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, определяющие содержание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Э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й 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24C8-6D13-4848-8787-66CD5AC3FC1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даментальное ядро содержания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ая теория информации и модели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ретное (в том числе двоичное) представл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количества информации. Сжат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ирование и де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 по формальным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. Способы записи алгоритмов; блок-схемы. Логические зна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, выражения. Алгоритмические конструкции (имена, ветвление, цик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ение задачи на подзадачи, вспомогательные алгорит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обрабатываемых объектов. Примеры алгорит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игрышная стратегия в иг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мые функции, формализация понятия вычислим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та формализации. Сложность вычисления и сл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го объекта. Несуществование алгоритм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пере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6514-0D07-4104-8121-19E4C99353D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и рабочие программы (УМК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(8-9 кл) - И.Г. Семакин, Л.А. Залогова, С.В. Русаков, Л.В. Шест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К: учебник, задачник- практикум и электронный практикум (Ц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Информатики  и вычислительной техники (10 – 11 кл) - Угринович Н.Д.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B15F-17BD-4C97-9E77-BA63C64E827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едставление о файловой системе и фай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имедиа технологии. Диафильмы и компьютерные през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2425-02B8-4D0D-B05F-64FBFB66577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яющийся алгоритм. Усло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й алгоритм. Тело цикла и условия его выпол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AFF8-9A7C-45EF-8CC3-A454E776B94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ая операционная система WIND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ты различного назначения. Архиваторы. Антивирусны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алгоритмизации и программ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0FB7-89AC-425B-B478-2F74BD3797E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ифметические и логические основы компьютер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алгоритмизации и программ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D154-5E90-4932-8900-0D55F77A17E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граммное обесп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я. Прикладное П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ы, представление и обрабо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фисные приложения и автоматиз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лог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делирование и решение задач на компьютер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пьютерные телекоммуникационные сети Информационные се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D1E2-CA73-4041-A582-0ACA6BEAAA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8543-8A95-4A51-8153-7E92AFC5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25A4-1256-435E-9951-967B44FC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C11-014A-47D5-9BBA-49312FF1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CAA-BAA3-49C2-93F7-C2D80B5D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098E-39FA-4DB1-81EA-1C5994AD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3A63-D76E-4ED5-87D3-A201C5D1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F48F-658D-47FD-9787-AB87465E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C21C-4E34-4C02-8C09-CBFE827F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D0C1-0051-4244-827F-49EA4A99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9AEB-ECB3-4D85-8639-78057EBE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F609-A5D9-4B7A-9FA3-64B4E860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D5B-6999-40FE-9DD0-F4D9FB3E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5AD9-6C86-4332-98A4-A4769F83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5913-C80D-4313-91BD-3BAF023F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03D8-1532-4673-BAD7-9573379E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BA29-CCAA-4A1B-AEAA-AD9A8D68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B965-01D8-47A8-B459-98CD686B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FCF-CEF2-40BD-AF80-45A171FE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3C4-FD4C-494C-8E80-9D0A85BF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D1C-E12D-4E8A-8D88-14723250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EB0-BEF4-46F9-AB1D-79E3E9F3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799-8DBF-44B0-B597-161805D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E40-180E-4BF3-965B-E2FCC7AB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8EE8-60F8-4AA4-8161-8FF00E87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EF84-B382-4A43-B984-9250363888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F8D2-D28D-4C09-99CB-D9C3BDDC603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 сквозного курса информатики 7-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8000" y="4292280"/>
            <a:ext cx="5864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лёв Сергей Григорьевич, учитель физики и информатики школы № 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кументы, определяющие содержание обучения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андарт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ные и рабочие програм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ГЭ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бный пл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Фундаментальное ядро содержания образ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атематическая теория информации и модели информа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кретное (в том числе двоичное) представлен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диницы измерения количества информации. Сжатие информ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дирование и декодиров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образование информации по формальным правил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ы. Способы записи алгоритмов; блок-схемы. Логические значения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ерации, выражения. Алгоритмические конструкции (имена, ветвление, цикл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биение задачи на подзадачи, вспомогательные алгоритм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ипы обрабатываемых объектов. Примеры алгоритм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игрышная стратегия в игр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числимые функции, формализация понятия вычислимой функции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нота формализации. Сложность вычисления и слож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объекта. Несуществование алгоритм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блема перебо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ные и рабочие программы (УМК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2017440"/>
            <a:ext cx="8343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тика и ИКТ(8-9 кл) - И.Г. Семакин, Л.А. Залогова, С.В. Русаков, Л.В. Шестак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МК: учебник, задачник- практикум и электронный практикум (ЦОР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ы Информатики  и вычислительной техники (10 – 11 кл) - Угринович Н.Д. и др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7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компьютере и его возможностях. Практическое знакомство с компьютером и его основными устройствами. Техника безопасности и правила работы на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 и человек. Восприятие и представление информации. Информационные процес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ее представление о файловой системе и файл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комство с операционной системой, пользовательским интерфейсом: рабочий стол, папка, доку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 Запуск различных программ (клавиатурные тренажеры, развивающие игры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текстовой информации на компьютере. Текстовый редактор. Основные возможности по созданию и редактированию текстов. Вывод текста на принтер. Запись и считывание текстов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ботка графической информации на компьютере. Графический редактор. Система графических меню. Основные возможности по созданию и редактированию изображений. Вывод графики на принтер. Запись и считывание изображений с дис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льтимедиа технологии. Диафильмы и компьютерные презент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8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 и знания. Количество информации. Единицы информации. Виды информации. Кодиров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 как инструмент обработки информации. История чисел и счета. История развития вычислительных средств и ЭВ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работка числовой информации на компьютере. Электронные таблицы. Структура таблиц. Ввод чисел, формул и текстов в ячейки таблицы. Стандартные функции. Диаграм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правление и Исполнитель. Система команд исполнителя. Понятие об алгоритме. Примеры исполнителей и алгоритмов. Способы описания алгорит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ейный алгоритм. Непосредственный и программный способ исполнения алгоритма. Вспомогательный алгорит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етвляющийся алгоритм. Услов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иклический алгоритм. Тело цикла и условия его выполн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 как единый программно-аппаратный комплекс. Магистрально-модульный принцип построения компьютера. Внешние устройств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рафическая операционная система WINDOW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тилиты различного назначения. Архиваторы. Антивирусны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пьютерные сети. Передача информации в сетях. Сервисы и протоколы. Интернет. Поиск информаци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дели и моделирование. Виды информационных моделей. Простейшее моделирование на компьютер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управления базами данных (СУБД). Упорядоченное хранение больших объемов информации в табличной форме в памяти компьютера. Представление баз данных в форме картотеки. Структура баз данных. Заполнение баз данных и редактирование записей, сортировка и поиск информации. Запись и считывание баз данных с ди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лементы алгоритмизации и программиро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типы алгоритмов (линейный, разветвляющийся, циклический) и их реализация на языке программир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афические возможности языка программирования. Основные графические примитивы (точка, линия, прямоугольник, окружность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огательные алгоритмы. Сценарии многоэлементных изображений и их реализация с помощью вспомогательных алгоритмов. Циклические алгоритмы и программы построения изображений. Реализация движения объектов на экран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0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я, единицы измерения информации, представление различных типов информации (числовой, текстовой, графической, звуковой) в компьютер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рифметические и логические основы компьютер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рифметические основы компьютера. Позиционные системы счисления (десятичная, двоичная, шестнадцатиричная). Перевод чисел из одной системы счисления в другую. Двоичная арифметика. Машинные коды чисел: прямой, обратный, дополнительный. Действия с кодами двоичных чисел. Представление в компьютере целых и вещественных чисел. Формат числа с плавающей точкой и проблемы вычислений с плавающей точкой. Машинные единицы информации. Логические основы компьютера. Основные понятия и область применения алгебры логики. Элементарные логические операции. Логические функции. Построение таблиц истинности. Базовые логические элементы компьютера ("И", "ИЛИ", "НЕ") и логические функции. Конструирование основных логических блоков компьютера (сумматор, тригер).Структурная организация и функционирование компьютера. Функциональные узлы компьютера: регистры, сумматоры. Организация памяти и процессора. Понятие об арифметико- логическом устройстве и устройстве управления. Организация автоматического исполнения программы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алгоритмизации и программиров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нейный алгоритм. Простые вычислительные алгоритмы. Понятие переменной: имя и значение. Семантический смысл операторов Разветвляющийся алгоритм.. Циклический алгоритм. Понятие сценария. Вложенные циклы. Массивы. Понятие таблицы и массива. Различные типы массивов и их описание. Алгоритм работы с массивами. Способы заполнения и распечатки массивов. Поиск, выбор и сортировка. Разветвляющиеся алгоритмы с символьными переменными Функции работы с символьными переменными ("склеивание", "вырезка", длина и т.д.). Алгоритмы и программы работы с этими функц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1 клас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ое обеспечение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Классификация. Прикладное ПО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а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виды, представление и обработк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фисные приложения и автоматиз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ы логик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коны (аксиомы) алгебры логики. Вычисление логических выражений при заданных наборах переменных. Упрощение логических выражений (на основе законов алгебры и их следствий). Логические задачи. Выигрышная стратег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делирование и решение задач на компьютере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апы решения задачи: построение математической модели, разработка и кодирование алгоритма, отладка программы. Проведение компьютерного эксперимента. Графики функций и численные методы в математике. Построение графиков функций и их исследование. Решение уравнений графическим методом. Итерационные методы. Решение уравнений методом половинного деления и методом касательных. Вероятностные математические модели (метод Монте-Карло). Моделирование динамических процессов. Физические процессы и их моделирование. Графическое представление физических объектов и процессов. Биологические процессы и их моделирование. Исследование развития популяц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пьютерные телекоммуникационные сети Информационные сети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окальные, региональные, глобальные информационные сети. Назначение и возможности.Аппаратные и программные компоненты информационной сети. Линии связи. Протоколы связи. Сетевое программное обеспечение.Формы использования компьютерных сетей. Организация информационных потоков в сетях. Электронная почта. Электронные конференции и электронные доски объявлений. Информационно-справочные системы. Практическая работа абонента се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7:04:13Z</dcterms:created>
  <dc:creator>Сергей</dc:creator>
  <dc:description/>
  <dc:language>en-US</dc:language>
  <cp:lastModifiedBy>LEGION</cp:lastModifiedBy>
  <dcterms:modified xsi:type="dcterms:W3CDTF">2015-04-01T07:24:32Z</dcterms:modified>
  <cp:revision>5</cp:revision>
  <dc:subject/>
  <dc:title>Содержание сквозного курса информатики 7-11 класс</dc:title>
</cp:coreProperties>
</file>