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2220-D98D-46CD-9746-F28A0244D1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сквозного курса информатики 7-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лёв Сергей Григорьевич, учитель физики и информатики школы №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A146-611A-4159-A4B0-1A8303C7F80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, определяющие содержание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и рабочие програм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Э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й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D93D-C015-4398-9879-DB8FB1DC63E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даментальное ядро содержания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ческая теория информации и модели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ретное (в том числе двоичное) представлен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количества информации. Сжат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и деко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 по формальным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. Способы записи алгоритмов; блок-схемы. Логические зна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, выражения. Алгоритмические конструкции (имена, ветвление, цик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ение задачи на подзадачи, вспомогательные алгорит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обрабатываемых объектов. Примеры алгорит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ная стратегия в иг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мые функции, формализация понятия вычислимой фун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та формализации. Сложность вычисления и сл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го объекта. Несуществование алгоритм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пере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DC24-E3B0-4529-B693-AB0F3939EA8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и рабочие программы (УМК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(8-9 кл) - И.Г. Семакин, Л.А. Залогова, С.В. Русаков, Л.В. Шест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К: учебник, задачник- практикум и электронный практикум (Ц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Информатики  и вычислительной техники (10 – 11 кл) - Угринович Н.Д.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BE8B-3DB0-4032-A039-22FC224AE5A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едставление о компьютере и его возможностях. Практическое знакомство с компьютером и его основными устройствами. Техника безопасности и правила работы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и человек. Восприятие и представление информации.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едставление о файловой системе и фай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операционной системой, пользовательским интерфейсом: рабочий стол, папка, доку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. Запуск различных программ (клавиатурные тренажеры, развивающие игр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текстовой информации на компьютере. Текстовый редактор. Основные возможности по созданию и редактированию текстов. Вывод текста на принтер. Запись и считывание текстов с д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графической информации на компьютере. Графический редактор. Система графических меню. Основные возможности по созданию и редактированию изображений. Вывод графики на принтер. Запись и считывание изображений с д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медиа технологии. Диафильмы и компьютерные презен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5B1F-FFAA-4C09-A733-01509273645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и знания. Количество информации. Единицы информации. Виды информации. Ко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как инструмент обработки информации. История чисел и счета. История развития вычислительных средств и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числовой информации на компьютере. Электронные таблицы. Структура таблиц. Ввод чисел, формул и текстов в ячейки таблицы. Стандартные функции. Диа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и Исполнитель. Система команд исполнителя. Понятие об алгоритме. Примеры исполнителей и алгоритмов. Способы описания алгорит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 алгоритм. Непосредственный и программный способ исполнения алгоритма. Вспомогательный алгорит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яющийся алгоритм. Усло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й алгоритм. Тело цикла и условия его выпол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B7C1-F8A8-47DD-A8E6-D866262E601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как единый программно-аппаратный комплекс. Магистрально-модульный принцип построения компьютера. Внешние устр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ая операционная система WIND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ты различного назначения. Архиваторы. Антивирусны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ети. Передача информации в сетях. Сервисы и протоколы. Интернет. Поиск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и моделирование. Виды информационных моделей. Простейшее моделирование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базами данных (СУБД). Упорядоченное хранение больших объемов информации в табличной форме в памяти компьютера. Представление баз данных в форме картотеки. Структура баз данных. Заполнение баз данных и редактирование записей, сортировка и поиск информации. Запись и считывание баз данных с д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алгоритмизации и программ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новные типы алгоритмов (линейный, разветвляющийся, циклический) и их реализация на языке программирова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Графические возможности языка программирования. Основные графические примитивы (точка, линия, прямоугольник, окружность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спомогательные алгоритмы. Сценарии многоэлементных изображений и их реализация с помощью вспомогательных алгоритмов. Циклические алгоритмы и программы построения изображений. Реализация движения объектов на экран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8D10-A469-4DB3-97A8-181B9B753DC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формация, единицы измерения информации, представление различных типов информации (числовой, текстовой, графической, звуковой) в компьютер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ифметические и логические основы компьют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ифметические основы компьютера. Позиционные системы счисления (десятичная, двоичная, шестнадцатиричная). Перевод чисел из одной системы счисления в другую. Двоичная арифметика. Машинные коды чисел: прямой, обратный, дополнительный. Действия с кодами двоичных чисел. Представление в компьютере целых и вещественных чисел. Формат числа с плавающей точкой и проблемы вычислений с плавающей точкой. Машинные единицы информации. Логические основы компьютера. Основные понятия и область применения алгебры логики. Элементарные логические операции. Логические функции. Построение таблиц истинности. Базовые логические элементы компьютера ("И", "ИЛИ", "НЕ") и логические функции. Конструирование основных логических блоков компьютера (сумматор, тригер).Структурная организация и функционирование компьютера. Функциональные узлы компьютера: регистры, сумматоры. Организация памяти и процессора. Понятие об арифметико- логическом устройстве и устройстве управления. Организация автоматического исполнения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алгоритмизации и программир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нейный алгоритм. Простые вычислительные алгоритмы. Понятие переменной: имя и значение. Семантический смысл операторов Разветвляющийся алгоритм.. Циклический алгоритм. Понятие сценария. Вложенные циклы. Массивы. Понятие таблицы и массива. Различные типы массивов и их описание. Алгоритм работы с массивами. Способы заполнения и распечатки массивов. Поиск, выбор и сортировка. Разветвляющиеся алгоритмы с символьными переменными Функции работы с символьными переменными ("склеивание", "вырезка", длина и т.д.). Алгоритмы и программы работы с эти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1B9E-04F5-4211-BE05-CDA78DE303C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ное обесп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ификация. Прикладное П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ф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ы, представление и об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фисные приложения и автоматиз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лог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ы (аксиомы) алгебры логики. Вычисление логических выражений при заданных наборах переменных. Упрощение логических выражений (на основе законов алгебры и их следствий). Логические задачи. Выигрышная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делирование и решение задач на компьютер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ы решения задачи: построение математической модели, разработка и кодирование алгоритма, отладка программы. Проведение компьютерного эксперимента. Графики функций и численные методы в математике. Построение графиков функций и их исследование. Решение уравнений графическим методом. Итерационные методы. Решение уравнений методом половинного деления и методом касательных. Вероятностные математические модели (метод Монте-Карло). Моделирование динамических процессов. Физические процессы и их моделирование. Графическое представление физических объектов и процессов. Биологические процессы и их моделирование. Исследование развития популя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пьютерные телекоммуникационные сети Информационные се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кальные, региональные, глобальные информационные сети. Назначение и возможности.Аппаратные и программные компоненты информационной сети. Линии связи. Протоколы связи. Сетевое программное обеспечение.Формы использования компьютерных сетей. Организация информационных потоков в сетях. Электронная почта. Электронные конференции и электронные доски объявлений. Информационно-справочные системы. Практическая работа абонента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B871-3FD0-4EE3-9318-685953CC4ED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040-2CF1-4853-B53B-30612A42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025-00A7-47DB-9DD7-DF1816E6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174-DF59-452B-9AE2-0B9FAD0B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15D-0BA3-4892-81B3-4C187470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797E-3A36-44E5-91E0-17F3CF7E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A595-D1EB-474C-9233-91248051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0371-2C69-45B8-A0AC-CF44C03A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BF76-6316-4170-92C3-258AA57F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BB8D-1F56-4836-BAF7-B64CCE7D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CBC6-7395-4428-9680-C25618BD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F065-AD5B-405D-872E-B5530959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972-AB08-4261-B01B-A34600B9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7B35-260C-45E2-9472-13F01558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A290-B54B-4F67-A555-DEF1AB82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32AD-12DB-4014-A317-C2DC192F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BDF3-61C7-4E5C-9EA1-71A67A1E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35FD-44E0-47B6-870C-79EA14C6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B2D-EDF7-4194-AA2B-1B14DEE9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F8D-FC75-4E7D-A8DC-05078C83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B66-5375-41A5-A3B4-F418EFB1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C67-B0F7-4AF4-A112-5B470AEF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A8A-141F-48E1-8227-A96BDFAC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380-C4B7-4D56-842C-C40CCD57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17F-44F5-447C-8989-3BE6D8E0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B970-9F93-4D2D-9D16-0E4ECC2AFD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21D2-F8C3-4C4F-9A49-5C156B1BA7C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 сквозного курса информатики 7-11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8000" y="4292280"/>
            <a:ext cx="5864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лёв Сергей Григорьевич, учитель физики и информатики школы № 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кументы, определяющие содержание обучения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ндарт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ные и рабочие програм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Э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бный пла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«Фундаментальное ядро содержания образ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матическая теория информации и модели информа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кретное (в том числе двоичное) представление информ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диницы измерения количества информации. Сжатие информ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дирование и декодиров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образование информации по формальным правил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горитмы. Способы записи алгоритмов; блок-схемы. Логические значени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ерации, выражения. Алгоритмические конструкции (имена, ветвление, цикл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биение задачи на подзадачи, вспомогательные алгоритм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ипы обрабатываемых объектов. Примеры алгоритм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игрышная стратегия в игр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числимые функции, формализация понятия вычислимой функци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нота формализации. Сложность вычисления и слож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объекта. Несуществование алгоритмов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блема перебо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рные и рабочие программы (УМК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8343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атика и ИКТ(8-9 кл) - И.Г. Семакин, Л.А. Залогова, С.В. Русаков, Л.В. Шестак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К: учебник, задачник- практикум и электронный практикум (ЦОР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ы Информатики  и вычислительной техники (10 – 11 кл) - Угринович Н.Д. и др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7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представление о компьютере и его возможностях. Практическое знакомство с компьютером и его основными устройствами. Техника безопасности и правила работы на компьютер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 и человек. Восприятие и представление информации. Информационные процес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представление о файловой системе и файл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комство с операционной системой, пользовательским интерфейсом: рабочий стол, папка, доку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ое обеспечение. Запуск различных программ (клавиатурные тренажеры, развивающие игр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ботка текстовой информации на компьютере. Текстовый редактор. Основные возможности по созданию и редактированию текстов. Вывод текста на принтер. Запись и считывание текстов с ди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ботка графической информации на компьютере. Графический редактор. Система графических меню. Основные возможности по созданию и редактированию изображений. Вывод графики на принтер. Запись и считывание изображений с ди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льтимедиа технологии. Диафильмы и компьютерные презент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8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формация и знания. Количество информации. Единицы информации. Виды информации. Кодиров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 как инструмент обработки информации. История чисел и счета. История развития вычислительных средств и ЭВ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работка числовой информации на компьютере. Электронные таблицы. Структура таблиц. Ввод чисел, формул и текстов в ячейки таблицы. Стандартные функции. Диаграм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правление и Исполнитель. Система команд исполнителя. Понятие об алгоритме. Примеры исполнителей и алгоритмов. Способы описания алгоритм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нейный алгоритм. Непосредственный и программный способ исполнения алгоритма. Вспомогательный алгорит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етвляющийся алгоритм. Услов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иклический алгоритм. Тело цикла и условия его выполн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пьютер как единый программно-аппаратный комплекс. Магистрально-модульный принцип построения компьютера. Внешние устройств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рафическая операционная система WINDOW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тилиты различного назначения. Архиваторы. Антивирусны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пьютерные сети. Передача информации в сетях. Сервисы и протоколы. Интернет. Поиск информац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дели и моделирование. Виды информационных моделей. Простейшее моделирование на компьютер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управления базами данных (СУБД). Упорядоченное хранение больших объемов информации в табличной форме в памяти компьютера. Представление баз данных в форме картотеки. Структура баз данных. Заполнение баз данных и редактирование записей, сортировка и поиск информации. Запись и считывание баз данных с дис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лементы алгоритмизации и программиро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ые типы алгоритмов (линейный, разветвляющийся, циклический) и их реализация на языке программир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афические возможности языка программирования. Основные графические примитивы (точка, линия, прямоугольник, окружность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огательные алгоритмы. Сценарии многоэлементных изображений и их реализация с помощью вспомогательных алгоритмов. Циклические алгоритмы и программы построения изображений. Реализация движения объектов на экран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0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, единицы измерения информации, представление различных типов информации (числовой, текстовой, графической, звуковой) в компьютер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рифметические и логические основы компьютер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ифметические основы компьютера. Позиционные системы счисления (десятичная, двоичная, шестнадцатиричная). Перевод чисел из одной системы счисления в другую. Двоичная арифметика. Машинные коды чисел: прямой, обратный, дополнительный. Действия с кодами двоичных чисел. Представление в компьютере целых и вещественных чисел. Формат числа с плавающей точкой и проблемы вычислений с плавающей точкой. Машинные единицы информации. Логические основы компьютера. Основные понятия и область применения алгебры логики. Элементарные логические операции. Логические функции. Построение таблиц истинности. Базовые логические элементы компьютера ("И", "ИЛИ", "НЕ") и логические функции. Конструирование основных логических блоков компьютера (сумматор, тригер).Структурная организация и функционирование компьютера. Функциональные узлы компьютера: регистры, сумматоры. Организация памяти и процессора. Понятие об арифметико- логическом устройстве и устройстве управления. Организация автоматического исполнения программы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ы алгоритмизации и программир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нейный алгоритм. Простые вычислительные алгоритмы. Понятие переменной: имя и значение. Семантический смысл операторов Разветвляющийся алгоритм.. Циклический алгоритм. Понятие сценария. Вложенные циклы. Массивы. Понятие таблицы и массива. Различные типы массивов и их описание. Алгоритм работы с массивами. Способы заполнения и распечатки массивов. Поиск, выбор и сортировка. Разветвляющиеся алгоритмы с символьными переменными Функции работы с символьными переменными ("склеивание", "вырезка", длина и т.д.). Алгоритмы и программы работы с этими функц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1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ое обеспечение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Классификация. Прикладное ПО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а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виды, представление и обработк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фисные приложения и автоматиз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ы логики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ы (аксиомы) алгебры логики. Вычисление логических выражений при заданных наборах переменных. Упрощение логических выражений (на основе законов алгебры и их следствий). Логические задачи. Выигрышная стратег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делирование и решение задач на компьютере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апы решения задачи: построение математической модели, разработка и кодирование алгоритма, отладка программы. Проведение компьютерного эксперимента. Графики функций и численные методы в математике. Построение графиков функций и их исследование. Решение уравнений графическим методом. Итерационные методы. Решение уравнений методом половинного деления и методом касательных. Вероятностные математические модели (метод Монте-Карло). Моделирование динамических процессов. Физические процессы и их моделирование. Графическое представление физических объектов и процессов. Биологические процессы и их моделирование. Исследование развития популяц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пьютерные телекоммуникационные сети Информационные сети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окальные, региональные, глобальные информационные сети. Назначение и возможности.Аппаратные и программные компоненты информационной сети. Линии связи. Протоколы связи. Сетевое программное обеспечение.Формы использования компьютерных сетей. Организация информационных потоков в сетях. Электронная почта. Электронные конференции и электронные доски объявлений. Информационно-справочные системы. Практическая работа абонента се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4:13Z</dcterms:created>
  <dc:creator>Сергей</dc:creator>
  <dc:description/>
  <dc:language>en-US</dc:language>
  <cp:lastModifiedBy>LEGION</cp:lastModifiedBy>
  <dcterms:modified xsi:type="dcterms:W3CDTF">2015-04-01T07:24:32Z</dcterms:modified>
  <cp:revision>5</cp:revision>
  <dc:subject/>
  <dc:title>Содержание сквозного курса информатики 7-11 класс</dc:title>
</cp:coreProperties>
</file>