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AAC8-CB93-4E78-86FB-789048B6B9F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сквозного курса информатики 7-11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лёв Сергей Григорьевич, учитель физики и информатики школы № 4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FEEC-1E97-404D-BFE6-B11E4C2082A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ы, определяющие содержание обуч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ые и рабочие програм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Э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ый пл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577F-CF58-4849-B243-D9B8BAB8058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Фундаментальное ядро содержания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тематическая теория информации и модели инфор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ретное (в том числе двоичное) представление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цы измерения количества информации. Сжатие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ирование и декод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информации по формальным прави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ы. Способы записи алгоритмов; блок-схемы. Логические знач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ции, выражения. Алгоритмические конструкции (имена, ветвление, цикл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биение задачи на подзадачи, вспомогательные алгорит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обрабатываемых объектов. Примеры алгорит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игрышная стратегия в иг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числимые функции, формализация понятия вычислимой функ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та формализации. Сложность вычисления и слож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ого объекта. Несуществование алгоритм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переб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A5CA-5853-46FB-B984-5E174C1C0A8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ые и рабочие программы (УМК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и ИКТ(8-9 кл) - И.Г. Семакин, Л.А. Залогова, С.В. Русаков, Л.В. Шестак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К: учебник, задачник- практикум и электронный практикум (ЦОР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Информатики  и вычислительной техники (10 – 11 кл) - Угринович Н.Д.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466F-A813-4178-906C-36BE03C59EB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е представление о компьютере и его возможностях. Практическое знакомство с компьютером и его основными устройствами. Техника безопасности и правила работы на компьют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и человек. Восприятие и представление информации. Информацион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е представление о файловой системе и файл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комство с операционной системой, пользовательским интерфейсом: рабочий стол, папка, доку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ное обеспечение. Запуск различных программ (клавиатурные тренажеры, развивающие игр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ка текстовой информации на компьютере. Текстовый редактор. Основные возможности по созданию и редактированию текстов. Вывод текста на принтер. Запись и считывание текстов с д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ка графической информации на компьютере. Графический редактор. Система графических меню. Основные возможности по созданию и редактированию изображений. Вывод графики на принтер. Запись и считывание изображений с д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льтимедиа технологии. Диафильмы и компьютерные презент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C300-42DE-4055-B986-507D2A6B48D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и знания. Количество информации. Единицы информации. Виды информации. Код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 как инструмент обработки информации. История чисел и счета. История развития вычислительных средств и ЭВ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ка числовой информации на компьютере. Электронные таблицы. Структура таблиц. Ввод чисел, формул и текстов в ячейки таблицы. Стандартные функции. Диа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и Исполнитель. Система команд исполнителя. Понятие об алгоритме. Примеры исполнителей и алгоритмов. Способы описания алгоритм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ейный алгоритм. Непосредственный и программный способ исполнения алгоритма. Вспомогательный алгорит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етвляющийся алгоритм. Услов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клический алгоритм. Тело цикла и условия его выполн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FD10-0123-4137-A5F7-E4BB4E41516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 как единый программно-аппаратный комплекс. Магистрально-модульный принцип построения компьютера. Внешние устро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ая операционная система WINDOW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илиты различного назначения. Архиваторы. Антивирусные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сети. Передача информации в сетях. Сервисы и протоколы. Интернет. Поиск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 и моделирование. Виды информационных моделей. Простейшее моделирование на компьют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управления базами данных (СУБД). Упорядоченное хранение больших объемов информации в табличной форме в памяти компьютера. Представление баз данных в форме картотеки. Структура баз данных. Заполнение баз данных и редактирование записей, сортировка и поиск информации. Запись и считывание баз данных с д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алгоритмизации и программир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Основные типы алгоритмов (линейный, разветвляющийся, циклический) и их реализация на языке программирования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Графические возможности языка программирования. Основные графические примитивы (точка, линия, прямоугольник, окружность)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Вспомогательные алгоритмы. Сценарии многоэлементных изображений и их реализация с помощью вспомогательных алгоритмов. Циклические алгоритмы и программы построения изображений. Реализация движения объектов на экране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3D5E-C9A4-493A-AF61-6B99414BB4B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нформация, единицы измерения информации, представление различных типов информации (числовой, текстовой, графической, звуковой) в компьютер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рифметические и логические основы компьютер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рифметические основы компьютера. Позиционные системы счисления (десятичная, двоичная, шестнадцатиричная). Перевод чисел из одной системы счисления в другую. Двоичная арифметика. Машинные коды чисел: прямой, обратный, дополнительный. Действия с кодами двоичных чисел. Представление в компьютере целых и вещественных чисел. Формат числа с плавающей точкой и проблемы вычислений с плавающей точкой. Машинные единицы информации. Логические основы компьютера. Основные понятия и область применения алгебры логики. Элементарные логические операции. Логические функции. Построение таблиц истинности. Базовые логические элементы компьютера ("И", "ИЛИ", "НЕ") и логические функции. Конструирование основных логических блоков компьютера (сумматор, тригер).Структурная организация и функционирование компьютера. Функциональные узлы компьютера: регистры, сумматоры. Организация памяти и процессора. Понятие об арифметико- логическом устройстве и устройстве управления. Организация автоматического исполнения програм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ы алгоритмизации и программир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нейный алгоритм. Простые вычислительные алгоритмы. Понятие переменной: имя и значение. Семантический смысл операторов Разветвляющийся алгоритм.. Циклический алгоритм. Понятие сценария. Вложенные циклы. Массивы. Понятие таблицы и массива. Различные типы массивов и их описание. Алгоритм работы с массивами. Способы заполнения и распечатки массивов. Поиск, выбор и сортировка. Разветвляющиеся алгоритмы с символьными переменными Функции работы с символьными переменными ("склеивание", "вырезка", длина и т.д.). Алгоритмы и программы работы с этими функц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2ED6-8684-4A6B-862D-D40B356A92F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граммное обеспечени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ификация. Прикладное П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рафик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иды, представление и обработ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фисные приложения и автоматизац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ы логи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ы (аксиомы) алгебры логики. Вычисление логических выражений при заданных наборах переменных. Упрощение логических выражений (на основе законов алгебры и их следствий). Логические задачи. Выигрышная страте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оделирование и решение задач на компьютере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ы решения задачи: построение математической модели, разработка и кодирование алгоритма, отладка программы. Проведение компьютерного эксперимента. Графики функций и численные методы в математике. Построение графиков функций и их исследование. Решение уравнений графическим методом. Итерационные методы. Решение уравнений методом половинного деления и методом касательных. Вероятностные математические модели (метод Монте-Карло). Моделирование динамических процессов. Физические процессы и их моделирование. Графическое представление физических объектов и процессов. Биологические процессы и их моделирование. Исследование развития популя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мпьютерные телекоммуникационные сети Информационные се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окальные, региональные, глобальные информационные сети. Назначение и возможности.Аппаратные и программные компоненты информационной сети. Линии связи. Протоколы связи. Сетевое программное обеспечение.Формы использования компьютерных сетей. Организация информационных потоков в сетях. Электронная почта. Электронные конференции и электронные доски объявлений. Информационно-справочные системы. Практическая работа абонента се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8E25-70BD-412D-99BC-E3DFF4F7EFA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E432-0483-412A-A21E-D97BD865C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C101-8368-4138-AD6D-3534B2EC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42E4-2628-4AF7-9F89-8D8B4054C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EEC7-56CB-4BAE-924F-3382F898D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6F00-FEF8-4B7D-B1A6-EC8E38CCA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952D-0A6B-42D0-A8D5-66A2545B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B304-7962-4D6A-8DCD-3C13FA55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AB75-8858-4FCA-8097-027689DF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BAEE-B4A0-4A7B-9CD4-A922B697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BFA2-CC7D-4A9B-ADE1-4BAF474A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014F-3CBA-4401-AB68-2682417F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F999-2A82-490E-92D4-72910900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0CAF-22AA-4A02-A060-84F224F9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6B9F-9208-4161-88F1-8A7661FC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4013-1B9D-4321-8198-26E31AB5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8BD8-3A48-49EB-87A5-15D2A23CA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A557-117E-40C8-BC2E-F14EB1C0F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0C68-F525-40CA-BEA0-3B305B5B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9591-E148-487B-8E4E-EE0BDED4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1871-19A6-44D2-BBDC-F02EDFEB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5A58-361F-477A-9010-1B8A72A2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9D93-D295-4018-BCC3-26E1A9D3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CA72-FF47-4226-A49B-0515D72B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792C-2B9B-486C-9439-216BC06E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1CA2-A524-4381-991B-D65CB023E7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B1CC-020F-4832-8333-B2C73881E30A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держание сквозного курса информатики 7-11 клас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908000" y="4292280"/>
            <a:ext cx="5864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илёв Сергей Григорьевич, учитель физики и информатики школы № 4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окументы, определяющие содержание обучения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андарт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мерные и рабочие программ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ГЭ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ебный план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«Фундаментальное ядро содержания образо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920" y="2017800"/>
            <a:ext cx="81280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атематическая теория информации и модели информатик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искретное (в том числе двоичное) представление информац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диницы измерения количества информации. Сжатие информац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дирование и декодирован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еобразование информации по формальным правила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лгоритмы. Способы записи алгоритмов; блок-схемы. Логические значения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перации, выражения. Алгоритмические конструкции (имена, ветвление, циклы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збиение задачи на подзадачи, вспомогательные алгоритмы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ипы обрабатываемых объектов. Примеры алгоритм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игрышная стратегия в игр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числимые функции, формализация понятия вычислимой функции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лнота формализации. Сложность вычисления и сложность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нформационного объекта. Несуществование алгоритмов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блема перебор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имерные и рабочие программы (УМК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0920" y="2017440"/>
            <a:ext cx="834372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форматика и ИКТ(8-9 кл) - И.Г. Семакин, Л.А. Залогова, С.В. Русаков, Л.В. Шестако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МК: учебник, задачник- практикум и электронный практикум (ЦОР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новы Информатики  и вычислительной техники (10 – 11 кл) - Угринович Н.Д. и др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держание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7 клас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щее представление о компьютере и его возможностях. Практическое знакомство с компьютером и его основными устройствами. Техника безопасности и правила работы на компьютере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нформация и человек. Восприятие и представление информации. Информационные процесс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щее представление о файловой системе и файле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накомство с операционной системой, пользовательским интерфейсом: рабочий стол, папка, документ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граммное обеспечение. Запуск различных программ (клавиатурные тренажеры, развивающие игры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работка текстовой информации на компьютере. Текстовый редактор. Основные возможности по созданию и редактированию текстов. Вывод текста на принтер. Запись и считывание текстов с диск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работка графической информации на компьютере. Графический редактор. Система графических меню. Основные возможности по созданию и редактированию изображений. Вывод графики на принтер. Запись и считывание изображений с диск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ультимедиа технологии. Диафильмы и компьютерные презентац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8 клас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формация и знания. Количество информации. Единицы информации. Виды информации. Кодирова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мпьютер как инструмент обработки информации. История чисел и счета. История развития вычислительных средств и ЭВ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работка числовой информации на компьютере. Электронные таблицы. Структура таблиц. Ввод чисел, формул и текстов в ячейки таблицы. Стандартные функции. Диаграмм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правление и Исполнитель. Система команд исполнителя. Понятие об алгоритме. Примеры исполнителей и алгоритмов. Способы описания алгоритмов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инейный алгоритм. Непосредственный и программный способ исполнения алгоритма. Вспомогательный алгорит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зветвляющийся алгоритм. Услови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Циклический алгоритм. Тело цикла и условия его выполнени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3640" y="2017440"/>
            <a:ext cx="863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мпьютер как единый программно-аппаратный комплекс. Магистрально-модульный принцип построения компьютера. Внешние устройства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рафическая операционная система WINDOWS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тилиты различного назначения. Архиваторы. Антивирусные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мпьютерные сети. Передача информации в сетях. Сервисы и протоколы. Интернет. Поиск информаци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одели и моделирование. Виды информационных моделей. Простейшее моделирование на компьютере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истема управления базами данных (СУБД). Упорядоченное хранение больших объемов информации в табличной форме в памяти компьютера. Представление баз данных в форме картотеки. Структура баз данных. Заполнение баз данных и редактирование записей, сортировка и поиск информации. Запись и считывание баз данных с диск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Элементы алгоритмизации и программирован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сновные типы алгоритмов (линейный, разветвляющийся, циклический) и их реализация на языке программировани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рафические возможности языка программирования. Основные графические примитивы (точка, линия, прямоугольник, окружность)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помогательные алгоритмы. Сценарии многоэлементных изображений и их реализация с помощью вспомогательных алгоритмов. Циклические алгоритмы и программы построения изображений. Реализация движения объектов на экран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9 клас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10 клас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3640" y="2017440"/>
            <a:ext cx="863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нформация, единицы измерения информации, представление различных типов информации (числовой, текстовой, графической, звуковой) в компьютере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рифметические и логические основы компьютер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ифметические основы компьютера. Позиционные системы счисления (десятичная, двоичная, шестнадцатиричная). Перевод чисел из одной системы счисления в другую. Двоичная арифметика. Машинные коды чисел: прямой, обратный, дополнительный. Действия с кодами двоичных чисел. Представление в компьютере целых и вещественных чисел. Формат числа с плавающей точкой и проблемы вычислений с плавающей точкой. Машинные единицы информации. Логические основы компьютера. Основные понятия и область применения алгебры логики. Элементарные логические операции. Логические функции. Построение таблиц истинности. Базовые логические элементы компьютера ("И", "ИЛИ", "НЕ") и логические функции. Конструирование основных логических блоков компьютера (сумматор, тригер).Структурная организация и функционирование компьютера. Функциональные узлы компьютера: регистры, сумматоры. Организация памяти и процессора. Понятие об арифметико- логическом устройстве и устройстве управления. Организация автоматического исполнения программы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новы алгоритмизации и программирова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инейный алгоритм. Простые вычислительные алгоритмы. Понятие переменной: имя и значение. Семантический смысл операторов Разветвляющийся алгоритм.. Циклический алгоритм. Понятие сценария. Вложенные циклы. Массивы. Понятие таблицы и массива. Различные типы массивов и их описание. Алгоритм работы с массивами. Способы заполнения и распечатки массивов. Поиск, выбор и сортировка. Разветвляющиеся алгоритмы с символьными переменными Функции работы с символьными переменными ("склеивание", "вырезка", длина и т.д.). Алгоритмы и программы работы с этими функциям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9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11 клас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граммное обеспечение.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Классификация. Прикладное ПО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рафика: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виды, представление и обработк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фисные приложения и автоматиза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новы логики.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коны (аксиомы) алгебры логики. Вычисление логических выражений при заданных наборах переменных. Упрощение логических выражений (на основе законов алгебры и их следствий). Логические задачи. Выигрышная стратеги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оделирование и решение задач на компьютере: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тапы решения задачи: построение математической модели, разработка и кодирование алгоритма, отладка программы. Проведение компьютерного эксперимента. Графики функций и численные методы в математике. Построение графиков функций и их исследование. Решение уравнений графическим методом. Итерационные методы. Решение уравнений методом половинного деления и методом касательных. Вероятностные математические модели (метод Монте-Карло). Моделирование динамических процессов. Физические процессы и их моделирование. Графическое представление физических объектов и процессов. Биологические процессы и их моделирование. Исследование развития популяций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мпьютерные телекоммуникационные сети Информационные сети.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окальные, региональные, глобальные информационные сети. Назначение и возможности.Аппаратные и программные компоненты информационной сети. Линии связи. Протоколы связи. Сетевое программное обеспечение.Формы использования компьютерных сетей. Организация информационных потоков в сетях. Электронная почта. Электронные конференции и электронные доски объявлений. Информационно-справочные системы. Практическая работа абонента сет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7:04:13Z</dcterms:created>
  <dc:creator>Сергей</dc:creator>
  <dc:description/>
  <dc:language>en-US</dc:language>
  <cp:lastModifiedBy>LEGION</cp:lastModifiedBy>
  <dcterms:modified xsi:type="dcterms:W3CDTF">2015-04-01T07:24:32Z</dcterms:modified>
  <cp:revision>5</cp:revision>
  <dc:subject/>
  <dc:title>Содержание сквозного курса информатики 7-11 класс</dc:title>
</cp:coreProperties>
</file>