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0801-B2CE-4F2A-BF47-64C29F05FF5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тика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ман Елена Васильев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МОУ ОСОШ 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84DC-7897-42AF-BF98-EA1D380A485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чение информатике в начальной школе подготовит учащихся к самостоятельному использованию в учебной деятельности информационных источников, сформирует элементарные умения работы на компьютере, подготовит к работе с информацией с использованием средств коммуникаций, расширит круг понятий и кругозор учащихся в области 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жно, что практические задания и проекты, которые учащиеся выполняют в начальной школе по курсу информатики, позволят им получить опыт учебной деятельности с использованием ТСО и средств ИКТ и применить его при выполнении подобных заданий по другим предме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пособствует вхождению учащихся в информационное образовательное простр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D64D-7FE2-46F0-A43E-541DBC02295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00080"/>
                </a:solidFill>
                <a:latin typeface="Arial"/>
                <a:ea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9D67-336E-4EE4-AE3C-8832827DCFD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подавание информатики в начальных класс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данном материале рассматриваются условия, при соблюдении которых доверяется ведение информатики в начальных классах. В материале представлен опыт работы по УМК Матвеевой Н.В., его преиму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7 началось  обучение информатики в начальной школе с 3 кла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озданы условия для активного применения средств информационных и коммуникационных технологий в обучении информатики в начальной школе, так как происходит реализация программ информатизации образования: в школу поступили компьютеры, электронные учебные материалы, школа подключилась к Интерн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2B35-4A1F-44CE-9EDF-BF49CA058AC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ая задача информатики в начальной школе – заложить основы грамотной работы с информацией и сформировать у школьников понятийный аппарат и первоначальные навыки использования средств ИКТ познавательной и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ы для преподавания информатики в начальной школе отводятся за счет часов регионального компонента по 1 часу в неделю во 2,3,4 кла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CB9A-E926-4C36-939B-EE5B9677D9B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подавание информатики осуществляется по программе Н.В. Матвее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ная программа лучше других обеспечивает непрерывность изучения предмета и даёт необходимую теоретическую и практическую подготовку учащихся к изучению базового курса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ый материал подобран в соответствии с возрастными особенностями младшего школьника и уровнем его знаний, представлен в виде учебно – методического комплекта для трёхлетнего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F52A-791F-438B-9689-7E5481CCB85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УМК входят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учебники для 2,3,4 клас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рабочие тетради (по две на каждый год обучен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тетрадь для выполнения контрольных работ и тестовы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электронное пособие (на CD), содержащее учебные и игровые программы ко всему трёхлетнему курсу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AC82-818B-4C13-B6A5-67DE13D1273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можно использование для обеспечения практической составляющей и других компьютерных програм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«Азы информатики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«Роботландия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«Мир информатики» (Кирилл и Мефод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ью обучения информатики в начальной школе является постепенное наращивание компьютерной составляющей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5E99-380B-4715-808D-0480BDEED30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ретьем классе учащиеся знакомятся с видами информа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ая составляющая обучения состоит в первичном знакомстве с основными внешними устройствами компьютера, ознакомительной работой с простейшими обучающими программами игрового характ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щиеся обучаются элементам клавиатурного письма, графического интерфейса, учатся  пользоваться манипулятором «мышь», узнают о видах информационных объектов, большую часть занятий составляют задания, использующие технические средства обучения (ТС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4BB3-4A9A-4EC2-87A2-9EA3497D061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комендуется выделить следующие этапы урока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 (до 5 минут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новой темы (примерно 7 минут, с использованием технических средств обучения, в том числе телевизора, компьютер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епление материала (около 7 минут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ческое или проектное задание (примерно 10 минут с использованием технических средств обучения и инструментов исследовательской и конструкторской деятельности, с использованием одного компьютера в классе в качестве электронной доски в режиме эстафеты, выступления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суждение результатов (5 мину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ечение урока необходимо проводить      физкультминутку (1-3 мину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35B6-573A-4F61-ACF0-FAF60161658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проведения уроков информатики в компьютерном кабинете возможно привлекать дополнительное оборудов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льтимедийный проекто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т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н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онки компьютерны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ческий планшет для рис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ифровой фотоаппарат или видеока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3342-4750-4F04-B9AE-11CC14B63DC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E4B-49B5-44C0-A428-9AAD4E5C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C5B-530B-4F8F-B332-C2118854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8642-D8A0-416D-8F32-541BC7D9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63E0-032B-40B2-B4DF-888AB623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A3A6-77C7-4889-9292-7A748CC6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0FF7-ADBC-4CC6-BDE3-0C2DFB60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851B-B91D-4BC8-A04C-F6BC988E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A84A-D0D5-4199-BA4F-F8848FEE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D1FD-E22E-41A6-8D20-6168151D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C381-7D19-407F-B674-6D549328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D7B9-6F7C-426F-A751-EFCAE3BA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71C-C05E-487D-A442-E44E4FE2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1398-D968-4B33-8966-304A6ECE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4E3F-9D03-45C9-BF5F-6F886F4B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E650-2299-45B6-A439-A6A2C35B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72BA-7112-48D9-A8CD-0C0D1381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94CA-43F2-4A52-94E3-E43CFD24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347-8D59-4045-8D65-BA97DC38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B9A-31C6-475F-8904-1FA6DDAF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8CE-3EF6-457A-AD6F-FC09DA41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2C3-2115-401D-948D-7DB83A1B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5DFC-74D8-4CE8-B680-7231CC35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5D8-D1F6-443C-B4E3-07E8D994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606-98F1-4D2C-B4D6-34132337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ef66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021C-1179-4295-86CF-06CF3BC9EE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ef66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2721-C752-4372-9205-2C0043B6C8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Информатика в начальной школ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оман Елена Васильевн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итель МОУ ОСОШ №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-227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5640" y="549360"/>
            <a:ext cx="72644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учение информатике в начальной школе подготовит учащихся к самостоятельному использованию в учебной деятельности информационных источников, сформирует элементарные умения работы на компьютере, подготовит к работе с информацией с использованием средств коммуникаций, расширит круг понятий и кругозор учащихся в области ИК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ажно, что практические задания и проекты, которые учащиеся выполняют в начальной школе по курсу информатики, позволят им получить опыт учебной деятельности с использованием ТСО и средств ИКТ и применить его при выполнении подобных заданий по другим предмета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способствует вхождению учащихся в информационное образовательное пространств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600120" y="3008160"/>
            <a:ext cx="7943760" cy="847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Arial"/>
              </a:rPr>
              <a:t>Спасибо за внимание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Arial"/>
              <a:ea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-1688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7632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Преподавание информатики в начальных класса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данном материале рассматриваются условия, при соблюдении которых доверяется ведение информатики в начальных классах. В материале представлен опыт работы по УМК Матвеевой Н.В., его преимущест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2007 началось  обучение информатики в начальной школе с 3 класс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настоящее время созданы условия для активного применения средств информационных и коммуникационных технологий в обучении информатики в начальной школе, так как происходит реализация программ информатизации образования: в школу поступили компьютеры, электронные учебные материалы, школа подключилась к Интернет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новная задача информатики в начальной школе – заложить основы грамотной работы с информацией и сформировать у школьников понятийный аппарат и первоначальные навыки использования средств ИКТ познавательной и прак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асы для преподавания информатики в начальной школе отводятся за счет часов регионального компонента по 1 часу в неделю во 2,3,4 класс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-8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еподавание информатики осуществляется по программе Н.В. Матвеево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анная программа лучше других обеспечивает непрерывность изучения предмета и даёт необходимую теоретическую и практическую подготовку учащихся к изучению базового курса информати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чебный материал подобран в соответствии с возрастными особенностями младшего школьника и уровнем его знаний, представлен в виде учебно – методического комплекта для трёхлетнего обуч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В УМК входят –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учебники для 2,3,4 классов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рабочие тетради (по две на каждый год обучения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тетрадь для выполнения контрольных работ и тестовых заданий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электронное пособие (на CD), содержащее учебные и игровые программы ко всему трёхлетнему курсу обуч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15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47498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зможно использование для обеспечения практической составляющей и других компьютерных программ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«Азы информатики»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«Роботландия»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«Мир информатики» (Кирилл и Мефодий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обенностью обучения информатики в начальной школе является постепенное наращивание компьютерной составляющей кур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6176880" y="2462040"/>
          <a:ext cx="63828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6880" y="2462040"/>
                    <a:ext cx="6382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7"/>
          <p:cNvGraphicFramePr/>
          <p:nvPr/>
        </p:nvGraphicFramePr>
        <p:xfrm>
          <a:off x="6229440" y="4367160"/>
          <a:ext cx="53316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9440" y="4367160"/>
                    <a:ext cx="5331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-299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третьем классе учащиеся знакомятся с видами информационной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мпьютерная составляющая обучения состоит в первичном знакомстве с основными внешними устройствами компьютера, ознакомительной работой с простейшими обучающими программами игрового характер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чащиеся обучаются элементам клавиатурного письма, графического интерфейса, учатся  пользоваться манипулятором «мышь», узнают о видах информационных объектов, большую часть занятий составляют задания, использующие технические средства обучения (ТСО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0000" y="475920"/>
            <a:ext cx="77868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екомендуется выделить следующие этапы урока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верка домашнего задания (до 5 минут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учение новой темы (примерно 7 минут, с использованием технических средств обучения, в том числе телевизора, компьютера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репление материала (около 7 минут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ктическое или проектное задание (примерно 10 минут с использованием технических средств обучения и инструментов исследовательской и конструкторской деятельности, с использованием одного компьютера в классе в качестве электронной доски в режиме эстафеты, выступления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суждение результатов (5 минут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течение урока необходимо проводить      физкультминутку (1-3 минуты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ля проведения уроков информатики в компьютерном кабинете возможно привлекать дополнительное оборудова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ультимедийный проектор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нтер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канер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лонки компьютерные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рафический планшет для рисова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ифровой фотоаппарат или видеокаме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9:05:02Z</dcterms:created>
  <dc:creator>1</dc:creator>
  <dc:description/>
  <dc:language>en-US</dc:language>
  <cp:lastModifiedBy>LEGION</cp:lastModifiedBy>
  <dcterms:modified xsi:type="dcterms:W3CDTF">2015-04-01T07:24:58Z</dcterms:modified>
  <cp:revision>10</cp:revision>
  <dc:subject/>
  <dc:title>Информатика в начальной школе</dc:title>
</cp:coreProperties>
</file>