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7B74-9298-4BAE-8B59-2F386A757E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а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ман Елена Васи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МОУ О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C550-43A1-4514-82A6-BE3F6E35A15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пособствует вхождению учащихся в информационное образовательн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6C71-6E68-4030-88C5-94B56B00B22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00080"/>
                </a:solidFill>
                <a:latin typeface="Arial"/>
                <a:ea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0A13-F30F-49B0-96CA-2D1F377521F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подавание информатики в начальных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7 началось  обучение информатики в начальной школе с 3 кла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3F8-ED5A-46DB-B6AE-45F63014D2A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40E-4086-4B56-BBC7-BD86F6EC512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осуществляется по программе Н.В. Матве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B418-66BB-40CB-9317-AC697B2810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УМК входя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учебники для 2,3,4 клас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рабочие тетради (по две на каждый год обучен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тетрадь для выполнения контрольных работ и тестов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9CC8-0CD9-497F-A062-606DB82FA80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Азы информатик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Роботландия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Мир информатики» (Кирилл и Мефод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9F28-3074-4735-8A18-A2D0246B4A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ретьем классе учащиеся знакомятся с видами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6B9E-8E83-46E3-939F-54E5789832B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тся выделить следующие этапы урок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 (до 5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 (около 7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уждение результатов (5 мину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урока необходимо проводить      физкультминутку (1-3 мину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B337-1159-48E5-8E00-52212ACDAD5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льтимедийный проекто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н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ки компьют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планшет для рис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фровой фотоаппарат или видео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DBF4-8C44-4AEC-A75F-5C3CBFAF0E0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C3D-3A0F-4C05-A17F-175B9299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1DE-091F-4837-A476-BA72CDA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02C-25DA-42C9-A807-E6B98FF4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76E-D2EC-4463-905B-CAB9A3BE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24B6-C737-4FA1-9D9D-CA3F6DBC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83C8-D347-4B3F-AB65-1836B40C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3B19-BEB4-40A3-BA9A-5CF61A1D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69F8-63E1-42B2-A782-8F76AFBF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2A2F-A8BF-4B45-958E-FBEDCA4E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7CF2-7D63-48AD-8E0E-CF332441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A42A-046E-44CD-BD63-7F3077F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9DF-4F6A-44A6-AE39-A368E60B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F116-8DD9-4162-8EC5-CF125EA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FC33-C581-4C87-9281-6CA17FEA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6A81-6FC5-466C-A759-51A6F4D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003C-EC73-4763-B225-379E1CE1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D40-A0DE-450A-B97C-414DFDE6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37B-CB69-4DD9-9DB6-6B2F7AF2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8FE-DC7F-4F21-A089-06268C3A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C45-8096-486D-A660-83390D1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8E5-6CD5-4233-BD25-B58B699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A1A-DE45-4430-B998-689D7841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3F6-FECB-4BA5-9F99-86FDC5D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2BE-F025-4B1C-94C7-3F660264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DC16-9E3C-4EF1-A407-971AB42C84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336D-19CB-4425-9D35-DCDBF97971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форматика в начальной ш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ман Елена Васильевн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МОУ ОСОШ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227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549360"/>
            <a:ext cx="7264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способствует вхождению учащихся в информационное образовательное простран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600120" y="30081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пасибо за внимание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68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еподавание информатики в начальных класс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2007 началось  обучение информатики в начальной школе с 3 клас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8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подавание информатики осуществляется по программе Н.В. Матвеев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 УМК входят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учебники для 2,3,4 класс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рабочие тетради (по две на каждый год обучени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тетрадь для выполнения контрольных работ и тестовых зада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474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Азы информатики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Роботландия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Мир информатики» (Кирилл и Мефоди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6176880" y="2462040"/>
          <a:ext cx="6382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2462040"/>
                    <a:ext cx="638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6229440" y="4367160"/>
          <a:ext cx="5331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440" y="4367160"/>
                    <a:ext cx="533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ретьем классе учащиеся знакомятся с видами информ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475920"/>
            <a:ext cx="7786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комендуется выделить следующие этапы урока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ка домашнего задания (до 5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ение материала (около 7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суждение результатов (5 минут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ечение урока необходимо проводить      физкультминутку (1-3 минут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ультимедийный проекто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онки компьютерны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афический планшет для рис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ифровой фотоаппарат или видеокаме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9:05:02Z</dcterms:created>
  <dc:creator>1</dc:creator>
  <dc:description/>
  <dc:language>en-US</dc:language>
  <cp:lastModifiedBy>LEGION</cp:lastModifiedBy>
  <dcterms:modified xsi:type="dcterms:W3CDTF">2015-04-01T07:24:58Z</dcterms:modified>
  <cp:revision>10</cp:revision>
  <dc:subject/>
  <dc:title>Информатика в начальной школе</dc:title>
</cp:coreProperties>
</file>