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72CA-BB31-4655-B9C8-B1F3D029F79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тика в начальной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оман Елена Васильев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ель МОУ ОСОШ №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CB7A-3CDD-471A-A792-F8E5DC0023F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учение информатике в начальной школе подготовит учащихся к самостоятельному использованию в учебной деятельности информационных источников, сформирует элементарные умения работы на компьютере, подготовит к работе с информацией с использованием средств коммуникаций, расширит круг понятий и кругозор учащихся в области И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жно, что практические задания и проекты, которые учащиеся выполняют в начальной школе по курсу информатики, позволят им получить опыт учебной деятельности с использованием ТСО и средств ИКТ и применить его при выполнении подобных заданий по другим предмет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способствует вхождению учащихся в информационное образовательное простран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935D-CCE5-44DD-948F-7BFDBFB884C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00080"/>
                </a:solidFill>
                <a:latin typeface="Arial"/>
                <a:ea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B8AF-8F29-4A21-9A07-AD127F9614F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еподавание информатики в начальных класс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данном материале рассматриваются условия, при соблюдении которых доверяется ведение информатики в начальных классах. В материале представлен опыт работы по УМК Матвеевой Н.В., его преиму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2007 началось  обучение информатики в начальной школе с 3 клас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астоящее время созданы условия для активного применения средств информационных и коммуникационных технологий в обучении информатики в начальной школе, так как происходит реализация программ информатизации образования: в школу поступили компьютеры, электронные учебные материалы, школа подключилась к Интерне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9093-16B2-417B-8E93-06DEC544829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ая задача информатики в начальной школе – заложить основы грамотной работы с информацией и сформировать у школьников понятийный аппарат и первоначальные навыки использования средств ИКТ познавательной и прак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асы для преподавания информатики в начальной школе отводятся за счет часов регионального компонента по 1 часу в неделю во 2,3,4 клас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032E-D3E4-4F35-B9B6-96E2FF0410D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подавание информатики осуществляется по программе Н.В. Матвеев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нная программа лучше других обеспечивает непрерывность изучения предмета и даёт необходимую теоретическую и практическую подготовку учащихся к изучению базового курса информ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бный материал подобран в соответствии с возрастными особенностями младшего школьника и уровнем его знаний, представлен в виде учебно – методического комплекта для трёхлетнего 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F746-8E93-4788-91D4-3D0BB8620C4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УМК входят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· учебники для 2,3,4 класс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· рабочие тетради (по две на каждый год обучени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· тетрадь для выполнения контрольных работ и тестовых зад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· электронное пособие (на CD), содержащее учебные и игровые программы ко всему трёхлетнему курсу 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699A-2481-48BA-9A62-079F00C24D7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зможно использование для обеспечения практической составляющей и других компьютерных програм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· «Азы информатики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· «Роботландия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· «Мир информатики» (Кирилл и Мефоди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стью обучения информатики в начальной школе является постепенное наращивание компьютерной составляющей кур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BA1E-7741-4D4F-9994-A8884BEBC69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третьем классе учащиеся знакомятся с видами информацион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ьютерная составляющая обучения состоит в первичном знакомстве с основными внешними устройствами компьютера, ознакомительной работой с простейшими обучающими программами игрового характе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ащиеся обучаются элементам клавиатурного письма, графического интерфейса, учатся  пользоваться манипулятором «мышь», узнают о видах информационных объектов, большую часть занятий составляют задания, использующие технические средства обучения (ТС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DAE1-1B6D-4C27-A614-831714BC448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комендуется выделить следующие этапы урока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ерка домашнего задания (до 5 минут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новой темы (примерно 7 минут, с использованием технических средств обучения, в том числе телевизора, компьютера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репление материала (около 7 минут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ктическое или проектное задание (примерно 10 минут с использованием технических средств обучения и инструментов исследовательской и конструкторской деятельности, с использованием одного компьютера в классе в качестве электронной доски в режиме эстафеты, выступления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суждение результатов (5 минут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течение урока необходимо проводить      физкультминутку (1-3 минут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C4AF-EB10-45E1-8176-6B39CFAF89E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проведения уроков информатики в компьютерном кабинете возможно привлекать дополнительное оборудов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ультимедийный проектор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нтер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анер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лонки компьютерны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фический планшет для рисов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ифровой фотоаппарат или видеокам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5FA1-51EC-45C2-A59E-B1CDE4C46ED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4152-7EF0-4AD5-A56D-D9CBA575D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D0F1-8BEC-4623-A467-D99D8E2E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DABA-0B66-464C-BE21-C930724E9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0635-4350-44B9-9C93-FD7AD2DEE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7C0B-15B9-428F-8658-C0A778DBB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6197-41D0-44A9-A23C-3C537AC5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E31D-7553-42D2-B45C-57A9EFAA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EF6E-B40F-4251-909B-EF42C1EB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8FAA-0F77-4E46-B2CB-9855C7FF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23CC-FBBD-4D27-8DBB-AF0C450D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B8F2-D588-482A-B504-62E153CA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1ADB-61F5-4F0F-B425-5438570E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3462-3839-4BA7-9663-B08ED773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8560-F517-4BD3-A23D-22C319F4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9F35-A2F4-45D2-8D52-30149547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A6F7-EE8D-4F7A-A848-4548ED316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42BD-54F7-4B32-8372-3BAB22DED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DBBC-D126-4269-BF08-56E14300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39F2-EB56-45D3-B9F6-1352519B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8AFA-347C-4746-AA95-A9580264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B6BF-C95E-4586-B75B-E92800A7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6AA1-737C-4663-A18C-13B2EF2A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2284-842C-403D-9085-D0EC1A06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9600-876D-44EB-B2B6-DDB3FE76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ef66"/>
            </a:gs>
            <a:gs pos="100000">
              <a:srgbClr val="99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0C04-9829-4B4A-B1C7-CC9A9A2800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ef66"/>
            </a:gs>
            <a:gs pos="100000">
              <a:srgbClr val="99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8563-0F87-4298-BBBA-BB7EDD5C96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Информатика в начальной школ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оман Елена Васильевна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читель МОУ ОСОШ №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-227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5640" y="549360"/>
            <a:ext cx="726444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бучение информатике в начальной школе подготовит учащихся к самостоятельному использованию в учебной деятельности информационных источников, сформирует элементарные умения работы на компьютере, подготовит к работе с информацией с использованием средств коммуникаций, расширит круг понятий и кругозор учащихся в области ИК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ажно, что практические задания и проекты, которые учащиеся выполняют в начальной школе по курсу информатики, позволят им получить опыт учебной деятельности с использованием ТСО и средств ИКТ и применить его при выполнении подобных заданий по другим предметам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Это способствует вхождению учащихся в информационное образовательное пространств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94" name="WordArt 4"/>
          <p:cNvSpPr txBox="1"/>
          <p:nvPr/>
        </p:nvSpPr>
        <p:spPr>
          <a:xfrm>
            <a:off x="600120" y="3008160"/>
            <a:ext cx="7943760" cy="847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dff"/>
                </a:solidFill>
                <a:latin typeface="Arial"/>
              </a:rPr>
              <a:t>Спасибо за внимание!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703dff"/>
              </a:solidFill>
              <a:latin typeface="Arial"/>
              <a:ea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-1688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763272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Преподавание информатики в начальных класса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 данном материале рассматриваются условия, при соблюдении которых доверяется ведение информатики в начальных классах. В материале представлен опыт работы по УМК Матвеевой Н.В., его преимуществ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 2007 началось  обучение информатики в начальной школе с 3 класса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 настоящее время созданы условия для активного применения средств информационных и коммуникационных технологий в обучении информатики в начальной школе, так как происходит реализация программ информатизации образования: в школу поступили компьютеры, электронные учебные материалы, школа подключилась к Интернет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сновная задача информатики в начальной школе – заложить основы грамотной работы с информацией и сформировать у школьников понятийный аппарат и первоначальные навыки использования средств ИКТ познавательной и практической деятельн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асы для преподавания информатики в начальной школе отводятся за счет часов регионального компонента по 1 часу в неделю во 2,3,4 класса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-83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69608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еподавание информатики осуществляется по программе Н.В. Матвеевой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анная программа лучше других обеспечивает непрерывность изучения предмета и даёт необходимую теоретическую и практическую подготовку учащихся к изучению базового курса информатик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чебный материал подобран в соответствии с возрастными особенностями младшего школьника и уровнем его знаний, представлен в виде учебно – методического комплекта для трёхлетнего обуч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В УМК входят –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· учебники для 2,3,4 классов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· рабочие тетради (по две на каждый год обучения)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· тетрадь для выполнения контрольных работ и тестовых заданий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· электронное пособие (на CD), содержащее учебные и игровые программы ко всему трёхлетнему курсу обуч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615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47498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озможно использование для обеспечения практической составляющей и других компьютерных программ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· «Азы информатики»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· «Роботландия»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· «Мир информатики» (Кирилл и Мефодий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собенностью обучения информатики в начальной школе является постепенное наращивание компьютерной составляющей курс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5" name="Object 4"/>
          <p:cNvGraphicFramePr/>
          <p:nvPr/>
        </p:nvGraphicFramePr>
        <p:xfrm>
          <a:off x="6176880" y="2462040"/>
          <a:ext cx="638280" cy="4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6880" y="2462040"/>
                    <a:ext cx="63828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7"/>
          <p:cNvGraphicFramePr/>
          <p:nvPr/>
        </p:nvGraphicFramePr>
        <p:xfrm>
          <a:off x="6229440" y="4367160"/>
          <a:ext cx="53316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29440" y="4367160"/>
                    <a:ext cx="53316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-299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764640"/>
            <a:ext cx="76960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 третьем классе учащиеся знакомятся с видами информационной деятельн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омпьютерная составляющая обучения состоит в первичном знакомстве с основными внешними устройствами компьютера, ознакомительной работой с простейшими обучающими программами игрового характер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чащиеся обучаются элементам клавиатурного письма, графического интерфейса, учатся  пользоваться манипулятором «мышь», узнают о видах информационных объектов, большую часть занятий составляют задания, использующие технические средства обучения (ТСО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-3704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00000" y="475920"/>
            <a:ext cx="77868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Рекомендуется выделить следующие этапы урока: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оверка домашнего задания (до 5 минут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зучение новой темы (примерно 7 минут, с использованием технических средств обучения, в том числе телевизора, компьютера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крепление материала (около 7 минут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актическое или проектное задание (примерно 10 минут с использованием технических средств обучения и инструментов исследовательской и конструкторской деятельности, с использованием одного компьютера в классе в качестве электронной доски в режиме эстафеты, выступления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бсуждение результатов (5 минут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 течение урока необходимо проводить      физкультминутку (1-3 минуты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ля проведения уроков информатики в компьютерном кабинете возможно привлекать дополнительное оборудовани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ультимедийный проектор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интер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канер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олонки компьютерные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графический планшет для рисования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цифровой фотоаппарат или видеокамер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19:05:02Z</dcterms:created>
  <dc:creator>1</dc:creator>
  <dc:description/>
  <dc:language>en-US</dc:language>
  <cp:lastModifiedBy>LEGION</cp:lastModifiedBy>
  <dcterms:modified xsi:type="dcterms:W3CDTF">2015-04-01T07:24:58Z</dcterms:modified>
  <cp:revision>10</cp:revision>
  <dc:subject/>
  <dc:title>Информатика в начальной школе</dc:title>
</cp:coreProperties>
</file>