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B009-CD93-4A4C-AB53-CFB7EBC5AB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www.svobodainfo.org/info/?tid=&amp;nd=901817757&amp;prevDoc=901713616" TargetMode="External"/><Relationship Id="rId2" Type="http://schemas.openxmlformats.org/officeDocument/2006/relationships/hyperlink" Target="http://www.svobodainfo.org/info/?tid=&amp;nd=901790693&amp;prevDoc=901713616" TargetMode="External"/><Relationship Id="rId3" Type="http://schemas.openxmlformats.org/officeDocument/2006/relationships/hyperlink" Target="http://www.svobodainfo.org/info/?tid=&amp;nd=901910577&amp;prevDoc=901713616" TargetMode="External"/><Relationship Id="rId4" Type="http://schemas.openxmlformats.org/officeDocument/2006/relationships/slide" Target="../slides/slide13.xml"/><Relationship Id="rId5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e92611"/>
                </a:solidFill>
                <a:latin typeface="Arial"/>
              </a:rPr>
              <a:t>Регулирование рынка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39E3-2469-4E1A-8A23-2985E6B176F3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ffcc"/>
                </a:solidFill>
                <a:latin typeface="Arial"/>
              </a:rPr>
              <a:t>Правами регулирования в области государственных ценных бумаг обладает Министерство финансов России. Минфин РФ, ранее выполнявшее почти все функции по регулированию рынка ценных бумаг в настоящее время имеет полномочия только в области регулирования рынка государственных ценных бумаг. Однако,  возможны случаи, когда эмитентом ценной бумаги от правительства может выступить любое другое министерство или ведомство. В России таких случаев пока не бы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0162-65E8-4E7E-9619-7B52D1A4ECE5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ff33"/>
                </a:solidFill>
                <a:latin typeface="Arial"/>
              </a:rPr>
              <a:t>Второй орган - центральный банк. Центральный банк РФ может исполнять роль финансового  агента правительства. Центральный банк также  особенно  заинтересован  в  рынке государственных займов  из-за  неизбежной связи между денежной политикой, банковской системой и рынком государственных ценных бумаг. Вовлечение  центрального банка в роль финансового агента, а также его участие в проведении денежной политики  позволяет органам,  регулирующим  денежное обращение,  быть в курсе событий, происходящих на рынках,  реагировать на  них  должным образом и  тем самым более эффективно выполнять свою роль надзора над банковской системой и системой платеже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7F66-40CD-47D6-9250-971779C4AAD8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ffff"/>
                </a:solidFill>
                <a:latin typeface="Arial"/>
              </a:rPr>
              <a:t>Рынок государственных ценных бумаг является частью рынка ценных бумаг, поэтому законодательные нормы, регулирующие рынок ценных бумаг регулируют и рынок государственных ценных бумаг. Основными законодательными актами, которыми регулируется российский рынок ценных бумаг,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Гражданский кодекс РФ, части </a:t>
            </a:r>
            <a:r>
              <a:rPr b="0" lang="en-US" sz="1200" spc="-1" strike="noStrike">
                <a:solidFill>
                  <a:srgbClr val="ff66ff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ff66ff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 (1995—1996 г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банках и банковской деятельности» (1990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Центральном банке Российской Федерации» (1995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приватизации государственных и муниципальных предприятий в РСФСР» (1991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товарных биржах и биржевой торговле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валютном регулировании и валютном контроле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государственном внутреннем долге Российской Федерации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об акционерных обществах (199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о рынке ценных бумаг (1996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Указы Президента по развитию рынка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EA7E-0B90-495D-98D4-0304AE4D838F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cccc00"/>
                </a:solidFill>
                <a:latin typeface="Arial"/>
              </a:rPr>
              <a:t>Минфин издает множество приказов для регулирования государственных ценных бумаг. Ниже представлены некоторые из 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каз Минфина РФ от 27.04.2002 № 37н "Об утверждении Условий эмиссии и обращения  облигаций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риказ Минфина РФ от 15.06.2001 № 45н "Об утверждении условий эмиссии и обращения облигаций государственного сберегательного займа Российской Федерации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иказ Минфина России от 21.09.2004 № 86н "Об утверждении Условий эмиссии и обращения облигаций государственных нерыночных займов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FB93-A6ED-4B8E-B374-23E2D352F90C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Еще один аспект рассматриваемого вопроса связан с разработкой и установлением ответственности за правонарушение в сфере выпуска и обращения государственных ценных бумаг.</a:t>
            </a:r>
            <a:br>
              <a:rPr sz="1000"/>
            </a:b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 В связи с</a:t>
            </a:r>
            <a:r>
              <a:rPr b="0" i="1" lang="ru-RU" sz="1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этим можно выделить следующие категории субъектов нарушений и оснований ответственности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должностные лица эмитента ценных бумаг — в случаях нарушения условий выпуска и обращения, а также исполнения обязательств по ценной бум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-   владельцы ценных бумаг - при нарушении условий обращения ценных бумаг (например, вывоз за пределы Российской Федерации ценных бумаг, запрещенных к перемещению за границ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-   иные лица - при совершении противоправных деяний, препятствующих нормальному функционированию системы выпуска и обращения государственных ценных бумаг (например, уголовная ответственность физических лиц за подделку государственных ценных бумаг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317E-F692-4D0D-AC57-46862CC15423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Регулирование участия на рынке государственных ценных    бумаг может быть направлено на то,  чтобы ограничить  распространение рисков, которые принимают на себя маркетмейкеры, а также гарантировать, что дилеры и другие участники рынка имеют соответствующее финансовое  состояние для того,  чтобы покрыть потенциальные финансовые потер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5ed755"/>
                </a:solidFill>
                <a:latin typeface="Arial"/>
              </a:rPr>
              <a:t>Положения о регулировании могут быть установлены  для  отслеживания  и  ограничения  следующих классов риск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РЫНОЧНЫЙ РИСК -   риск потерь, проистекающих от колебания цен на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РИСК ЛИКВИДНОСТИ -  риск того, что ценные бумаги не могут быть куплены и проданы быстро без существенных изменений в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КРЕДИТНЫЙ РИСК - риск потерь, проистекающий от неплатежеспособности контраген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БИЗНЕС-РИСК - риск потерь, проистекающих от неадекватных систем управления и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929E-A4E0-4CD7-AEDA-18590B446D13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Одной из главной причин выпуска государственных ценных бумаг является обслуживание государственного долга. Отказ от инфляционных методов финансирования дефицита бюджета обусловил развитие рынка государственных ценных бумаг в России и рост государственного дол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D1D6-B8F2-4A5D-9574-F539F7A6D719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e7ee86"/>
                </a:solidFill>
                <a:latin typeface="Arial"/>
              </a:rPr>
              <a:t>Государственный долг- это вся сумма задолженности по обязательствам государства, проценты по ней и неисполненные финансовые обязательства государства перед субъектами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Для государства на федеральном и региональном уровнях возможно применение двух видов долговых обязательств: внутреннего или внешнего долга. Для муниципалитетов называется возможность применения только одного вида – внутреннего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Критерием разграничения долговых обязательств на внутренние и внешние вступает валюта займа. Если деньги берутся взаймы у российских или иностранных субъектов в иностранной валюте, то возникают отношения внешнего долга. Если деньги берутся в валюте России, то возникают отношения внутреннего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A202-38C7-44DB-BCE5-2D250C3C6D3F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ff00"/>
                </a:solidFill>
                <a:latin typeface="Arial"/>
              </a:rPr>
              <a:t>По структуре государственный долг РФ состоит из нескольких групп долговых обязательств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олженности Минфина перед ЦБ по кредитам на финансирование дефицита бюдж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олженности, появившейся вследствие взятого на себя государством обязательства по восстановлению сбережений граждан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ешней задолженности бывшего СССР, принятой на себя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овь возникшая задолженность РФ перед иностранными государствами, международными организациями и фирмами (Парижскому клубу, Лондонскому клубу, Международному валютному фонду (МВФ) и Всемирному или Международному банку реконструкции и развития (ВБРР или МБРР)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A807-2D9A-4972-A52F-18EA142454B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 России понятие государственного внутреннего долга определяется в Законе РФ от 13.11.1992 г. № 3877-1 «О государственном внутреннем долге» и ст.817 Гражданского кодекса (ГК) РФ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 настоящее время долг Российской Федерации в рыночной форме представлен облигациями государственных внешних заимствований (еврооблигациями) со сроками погашения с 2003 по 2030 год, а также облигациями внутреннего валютного займа со сроком погашения 2003 - 2011 годы. При этом выпуск еврооблигаций со сроками погашения до 2010 и до 2030 годов был связан с урегулированием задолженности бывшего СССР Лондонскому клубу кредиторов и коммерческой задолженности бывшего СССР, а ОВГВЗ - 3, 4, 5 и 8 серий - урегулированием внутреннего валютного долга бывшего ССС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нешний долг состоит из долга Правительства РФ (долг международным организациям, бонды, кредиты по правительственной линии, коммерческие кредиты), долга бывшего СССР (бонды, кредиты по правительственной линии, коммерческие кредиты) и бондов Минфина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3900-0D13-4164-9633-3EDD7B6443E9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Государственные ценные бумаг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это бумаги, которые выпуска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и обеспечиваются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и используются для пополнения государственного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990F-599D-465F-83B6-C6B1B357865A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Для федерального уровня долговых обязательств государства Бюджетный кодекс устанавливает верхний предел государственного внутреннего долга, верхний предел государственного внешнего долга и отдельно предел государственных внешних заимствований на очередной финансовый год. Указанные предельные показатели долговых обязательств устанавливаются для всех уровней бюджетной системы. На федеральном уровне конкретные  цифры предельных объемов государственного внутреннего  и внешнего долга, а также отдельно предельные показатели внешних заимствований устанавливаются федеральным законом о бюджете на очередной год, в котором показатели долговых обязательств подлежат конкретизации по формам обесп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1201-C925-434A-BD8F-F54333CD1E9E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ccffff"/>
                </a:solidFill>
                <a:latin typeface="Arial"/>
              </a:rPr>
              <a:t>Оперативное управление государственным долгом осуществляет исполнительная власть (Министерство финансов РФ и Центральный банк РФ, если заемщиком выступает государство как суверен, и соответствующие органы субъекта РФ, если заемщиком является субъект РФ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82DC-072D-4AF2-9468-A0207E980791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Управление государственным долгом представляет собой комплекс мер, предпринимаемых государством в лице его уполномоченных органов по определению мест и условий размещения и погашения государственных займов, а также обеспечению гармонизации интересов заемщика, инвесторов и кредитор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Одним из широко распространенных методов управления государственным долгом является рефинансирование государственного долга, то есть погашение основной задолженности и процентов за счет средств, полученных от размещения новых зай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71DA-B73A-4FAF-8A22-2C647286DB22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ледим динамику внутреннего и внешнего долга в период с 1998 по 2006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18C7-F4D9-4163-90CA-8D8A01FCE193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Из таблицы видно, что государственный внутренний долг увеличивается, а внешний уменьшается. Но так как внешний долг исчисляется в миллиардах долларов, а не рублей, то внешний долг значительно преобладает над внутрен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Многократное преобладание долга, номинированного в иностранной валюте, является серьезным фактором риска, ставящего управление долгом в жесткую зависимость от валютной политики и состояния платежного баланса, что предполагает необходимость постепенного замещения внешнего долга внутренним. При этом следует учитывать сохраняющиеся риски ограничения доступа на внешние рынки заимствований по независящим от Российской Федерации причин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В этой связи приоритет при осуществлении государственных заимствований должен быть отдан в долгосрочном плане внутренним заимствованиям. Возможность этого создает постепенное выравнивание условий привлечения внутренних и внешних заимствов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1C39-BFD2-4C43-9E44-1F7F3AB3F744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ценка изменения государственного внутреннего долга, выраженного в ценных бумагах в 2005-2010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89FD-8768-42C6-831F-FBB8F8B6E391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Arial"/>
              </a:rPr>
              <a:t>Рассмотрим основные цели политики в области государственного внешнего долга на среднесрочную перспективу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обеспечение стабильного доступа Российской Федерации на рынки внешних заимствований на выгодных условия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расширение объемов внешних заимствований на цели рефинансирования внешнего долг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активное управление внешней задолженностью с целью сокращения стоимости ее обслуживания, а также сглаживания имеющихся "пиков платежей" по государственному внешнему долгу в 2005 и 2008 год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существенное сокращение долга бывшего СССР, задолженности Российской Федерации перед правительствами иностранных государств и международными финансовыми организация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) наращивание рыночной составляющей внешнего долга Российской Федера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) проведение сбалансированной политики в области внешних заимствований с целью сохранения и дальнейшего улучшения платежной репутаци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1AF2-84C4-48AA-AA5F-536FC5851A2B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99"/>
                </a:solidFill>
                <a:latin typeface="Arial"/>
              </a:rPr>
              <a:t>Вывод: государственные ценные бума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являются самостоятельным видом ценных бумаг. Большинство из них имеют долговой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Государство, выпуская ценные бумаги, выступает в роли заемщика, принимает на себя обязанности по обслуживанию государственного долга, а владелец ценной бумаги приобретает право предъявить ее для погашения в установленном поряд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Выпуск государственных ценных (облигаций) является формой государственного кред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5E51-2FEC-4795-9BDC-46BFD0D606B9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9ff09"/>
                </a:solidFill>
                <a:latin typeface="Arial"/>
              </a:rPr>
              <a:t>В мире централизованный выпуск ценных бумаг  используется  в  качестве инструмента государственного регулирования экономики: как рычаг  воздействия на денежное обращение и управления  объемом  денежной  массы;  а  также  как средство  неэмиссионного  покрытия  дефицита  государственного  и   местного бюджетов, способ привлечения денежных средств предприятий  и  населения  для решения тех или иных конкретных задач. Накоплен богатый  опыт  моделирования и выпуска разнообразных финансовых гособязательств, отвечающих  потребностям и   запросам   различных   инвесторов   (потенциальных    вкладчиков)    в государственные ценные бумаги</a:t>
            </a:r>
            <a:r>
              <a:rPr b="1" lang="ru-RU" sz="12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ccff33"/>
                </a:solidFill>
                <a:latin typeface="Arial"/>
              </a:rPr>
              <a:t>Важно, что политика развития регулирования рынка  государственных ценных бумаг должна осуществляться в рамках более общей задачи формирования и развития единого национального финансового рынка как эффективного механизма аккумулирования и перераспределения денежных ресурсов в рыночной экономи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CA90-99F6-4548-83D7-42315C5B4C86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bed43"/>
                </a:solidFill>
                <a:latin typeface="Arial"/>
              </a:rPr>
              <a:t>Различают следующие виды государственных ценных бума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1. наличные и безналич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2. документарные и бездокументар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3. гарантированные и доход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4. рыночные и нерыночные (в зависимости от того, обращаются ли они на свободном  рынке  (первичном  и вторичном) или не  входят  во  вторичное  обращение  на  биржах  и  свободно возвращаются  эмитенту  до  истечения  срока  их  действия)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5. именные и на предъявите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681C-8EDA-44A3-9F96-44907942CED9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5f52b"/>
                </a:solidFill>
                <a:latin typeface="Arial"/>
              </a:rPr>
              <a:t>Государственные ценные бумаги могут выполнять такие функции, ка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налоговое освобожд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обслуживание государственного долг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финансирование непредвиденных государственных рас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42B2-F197-42A9-A770-27789E4C0F7F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А) Государственными долгосрочными облигациями (ГДО).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щены в 1991 году со сроком обращения 30 лет. Объем займа – 80 млрд. рублей. Номинал облигации – 100 тыс. рублей. Выпускаются в бланковом виде с набором купонов. Купонный доход – 15% от номинала, выплачивается один раз в год – 1 ию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Б) Государственными краткосрочными облигациями (ГК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Срок обращения – 3,6 и 12 месяцев. Выпускаются на безбумажной основе в виде записей на счетах «депо». Номинал – 1 млн. рублей. Распространяются на аукционах с дисконтом от номин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B6CA-DB8B-476C-BF3C-972D7842FE60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)Облигациями федеральных займов с переменным купонным доходом (ОФЗ-ПК) и постоянным купонным доходом (ОФЗ-ПК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Относятся к среднесрочным государственным ценным бумагам. Срок их обращения от 1 года до 5 лет. Выпускаются на безбумажной основе в виде записи на счетах «депо». Номинал – 1млн. рубл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Г) Облигациями государственного сберегательного займа (ОГС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Срок обращения – 1 год. Объем выпуска – 10 трлн.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Номинал – 100 и 500 тыс. рублей. Выпускаются в бланковом виде на предъявителя с набором из 4 купонов, выплачиваемых ежеквартально. Размер купона определяется по последней официально объявленной ставке купонного дохода по ОФЗ-ПК плюс премия, определяемая Минфином РФ. Предназначены для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FA08-CCF6-48A3-871D-C45A2CE03F4A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Д)Облигациями внутреннего государственного валютного займа (ОВГВ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щены в 1993 году. Валюта займа – доллары США. Номиналы – 1, 10, 100 тыс. долларов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Е)Облигациями государственного нерыночного займа (ОГН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скаются в бездокументарной форме. Объем выпуска в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году – 15 трлн. рублей. Номинал – 1 млн. рублей. Предназначены   для   страховых компаний, пенсионных и внебюджетных фон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Ж) Государственными жилищными сертификатами (ГЖ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Являются документарными именными не обращаемыми ценными бумагами. Эмитируются по решению Правительства РФ для граждан РФ, лишившихся жилья в результате чрезвычайных ситуаций и стихийных бедствий. Номинированы в квадратных метрах жилой площади. Срок предъявления к погашению – 1 год с момента вы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174C-E952-453E-9B84-9C54A730C55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Государственные ценные бумаги эмитируются как центральным правительством, так и местными органами власти. Эмитентом вышеперечисленных государственных ценных бумаг является Министерство финансов РФ. Погашает эти ценные бумаги также Минфин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Эмитентом может выступать и ЦБ РФ, соответственно различают облигации банка России (ОБР) - инструменты денежно-кредитной политики, выпускаемые ЦБ РФ с сентября 1998 г. Обслуживание и погашение выпусков осуществляет ЦБ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6B9E-EEEA-4156-8B7B-33DEE9A4367F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66"/>
                </a:solidFill>
                <a:latin typeface="Arial"/>
              </a:rPr>
              <a:t>Рынок государственных ценных бумаг подвергается жесткому контролю и регулированию со стороны органов как законодательной, так и исполнительной власт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ec9ed9"/>
                </a:solidFill>
                <a:latin typeface="Arial"/>
              </a:rPr>
              <a:t>Методами подобного регулирования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разработка и принятие законодательных мер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наделение полномочиями существующих и создание новых структур регулир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использование методов налогового воз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CA47-0408-4A3A-8459-01F5D1D32F09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BD1-C6B2-4842-A09C-BC43720C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16D3-E7FD-4C66-A684-82CCDA11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159-4682-4E6A-A342-F92722BD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EE4-8050-4089-B3EB-E20ADA1D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D929-23AE-4961-8427-BC46D4F0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E98A-DC77-4987-B646-B7219D59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DAA3-D225-4759-825B-8625A550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70CC-4429-426E-B04D-0FED0A00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C4AF-8D54-422C-B6BB-4948E67C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F066-E76E-46BA-BD1F-32FEA4A3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25A4-6D91-43AD-B005-3F9B5441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616-B404-4F26-9284-AB65B5EA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E44E-548E-48D9-AD99-FB235830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A546-2597-4E86-A476-85456F71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3633-4685-4992-A183-8903315C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8475-3A1A-4F54-9A67-A028EF7F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FD36-BE4E-4546-97B3-0C9F7C24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1CF-2F00-4031-9474-B5169CD3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A87-201A-4706-B244-90001764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FDB-B2A9-44DF-80B2-12AED9C9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71B2-148D-45B8-B9DF-0FA87E5A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6FA7-1F07-4F74-8730-5FA8DDF9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331-96D6-4131-AF47-98B89620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77F-34FE-4FA4-97B6-2DC34E51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BF7E-8A77-471D-8FE5-64805E2B617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FABE-D7B1-4A4F-B30B-4ECF16CB1842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vobodainfo.org/info/?tid=&amp;nd=901817757&amp;prevDoc=901713616" TargetMode="External"/><Relationship Id="rId2" Type="http://schemas.openxmlformats.org/officeDocument/2006/relationships/hyperlink" Target="http://www.svobodainfo.org/info/?tid=&amp;nd=901790693&amp;prevDoc=901713616" TargetMode="External"/><Relationship Id="rId3" Type="http://schemas.openxmlformats.org/officeDocument/2006/relationships/hyperlink" Target="http://www.svobodainfo.org/info/?tid=&amp;nd=901910577&amp;prevDoc=901713616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e92611"/>
                </a:solidFill>
                <a:latin typeface="Arial Black"/>
              </a:rPr>
              <a:t>Регулирование рынка государственных ценных бумаг</a:t>
            </a:r>
            <a:endParaRPr b="0" lang="en-US" sz="4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095880"/>
            <a:ext cx="289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758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99ffcc"/>
                </a:solidFill>
                <a:latin typeface="Arial"/>
              </a:rPr>
              <a:t>Правами регулирования в области государственных ценных бумаг обладает Министерство финансов России. Минфин РФ, ранее выполнявшее почти все функции по регулированию рынка ценных бумаг в настоящее время имеет полномочия только в области регулирования рынка государственных ценных бумаг. Однако,  возможны случаи, когда эмитентом ценной бумаги от правительства может выступить любое другое министерство или ведомство. В России таких случаев пока не было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3924360" y="0"/>
            <a:ext cx="1942920" cy="1125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9ff33"/>
                </a:solidFill>
                <a:latin typeface="Arial"/>
              </a:rPr>
              <a:t>Второй орган - центральный банк. Центральный банк РФ может исполнять роль финансового  агента правительства. Центральный банк также  особенно  заинтересован  в  рынке государственных займов  из-за  неизбежной связи между денежной политикой, банковской системой и рынком государственных ценных бумаг. Вовлечение  центрального банка в роль финансового агента, а также его участие в проведении денежной политики  позволяет органам,  регулирующим  денежное обращение,  быть в курсе событий, происходящих на рынках,  реагировать на  них  должным образом и  тем самым более эффективно выполнять свою роль надзора над банковской системой и системой платежей.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260280"/>
            <a:ext cx="868680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Рынок государственных ценных бумаг является частью рынка ценных бумаг, поэтому законодательные нормы, регулирующие рынок ценных бумаг регулируют и рынок государственных ценных бумаг. Основными законодательными актами, которыми регулируется российский рынок ценных бумаг, являются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Гражданский кодекс РФ, части </a:t>
            </a: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 (1995—1996 г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банках и банковской деятельности» (1990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Центральном банке Российской Федерации» (1995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приватизации государственных и муниципальных предприятий в РСФСР» (1991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товарных биржах и биржевой торговле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валютном регулировании и валютном контроле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государственном внутреннем долге Российской Федерации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об акционерных обществах (1996 г.)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о рынке ценных бумаг (1996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Указы Президента по развитию рынка ценных бумаг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cc00"/>
                </a:solidFill>
                <a:latin typeface="Arial"/>
              </a:rPr>
              <a:t>Минфин издает множество приказов для регулирования государственных ценных бумаг. Ниже представлены некоторые из ни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каз Минфина РФ от 27.04.2002 № 37н "Об утверждении Условий эмиссии и обращения  облигаций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риказ Минфина РФ от 15.06.2001 № 45н "Об утверждении условий эмиссии и обращения облигаций государственного сберегательного займа Российской Федерации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иказ Минфина России от 21.09.2004 № 86н "Об утверждении Условий эмиссии и обращения облигаций государственных нерыночных займов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Еще один аспект рассматриваемого вопроса связан с разработкой и установлением ответственности за правонарушение в сфере выпуска и обращения государственных ценных бумаг.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 В связи с</a:t>
            </a:r>
            <a:r>
              <a:rPr b="0" i="1" lang="ru-RU" sz="1800" spc="-1" strike="noStrike">
                <a:solidFill>
                  <a:srgbClr val="ff99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этим можно выделить следующие категории субъектов нарушений и оснований ответственности:</a:t>
            </a:r>
            <a:br>
              <a:rPr sz="1800"/>
            </a:b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-   </a:t>
            </a: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должностные лица эмитента ценных бумаг — в случаях нарушения условий выпуска и обращения, а также исполнения обязательств по ценной бумаге;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-   владельцы ценных бумаг - при нарушении условий обращения ценных бумаг (например, вывоз за пределы Российской Федерации ценных бумаг, запрещенных к перемещению за границу);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-   иные лица - при совершении противоправных деяний, препятствующих нормальному функционированию системы выпуска и обращения государственных ценных бумаг (например, уголовная ответственность физических лиц за подделку государственных ценных бумаг)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4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гулирование участия на рынке государственных ценных    бумаг может быть направлено на то,  чтобы ограничить  распространение рисков, которые принимают на себя маркетмейкеры, а также гарантировать, что дилеры и другие участники рынка имеют соответствующее финансовое  состояние для того,  чтобы покрыть потенциальные финансовые потери.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2421000"/>
            <a:ext cx="8686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5ed755"/>
                </a:solidFill>
                <a:latin typeface="Arial"/>
              </a:rPr>
              <a:t>Положения о регулировании могут быть установлены  для  отслеживания  и  ограничения  следующих классов риска: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РЫНОЧНЫЙ РИСК -   риск потерь, проистекающих от колебания цен на рынке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РИСК ЛИКВИДНОСТИ -  риск того, что ценные бумаги не могут быть куплены и проданы быстро без существенных изменений в цене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КРЕДИТНЫЙ РИСК - риск потерь, проистекающий от неплатежеспособности контрагента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БИЗНЕС-РИСК - риск потерь, проистекающих от неадекватных систем управления и контроля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1341000"/>
            <a:ext cx="86868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Одной из главной причин выпуска государственных ценных бумаг является обслуживание государственного долга. Отказ от инфляционных методов финансирования дефицита бюджета обусловил развитие рынка государственных ценных бумаг в России и рост государственного долга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476280"/>
            <a:ext cx="868680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e7ee86"/>
                </a:solidFill>
                <a:latin typeface="Arial"/>
              </a:rPr>
              <a:t>Государственный долг- это вся сумма задолженности по обязательствам государства, проценты по ней и неисполненные финансовые обязательства государства перед субъектами экономики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Для государства на федеральном и региональном уровнях возможно применение двух видов долговых обязательств: внутреннего или внешнего долга. Для муниципалитетов называется возможность применения только одного вида – внутреннего долг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ритерием разграничения долговых обязательств на внутренние и внешние вступает валюта займа. Если деньги берутся взаймы у российских или иностранных субъектов в иностранной валюте, то возникают отношения внешнего долга. Если деньги берутся в валюте России, то возникают отношения внутреннего долг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 Black"/>
              </a:rPr>
              <a:t>По структуре государственный долг РФ состоит из нескольких групп долговых обязательств: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олженности Минфина перед ЦБ по кредитам на финансирование дефицита бюджета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олженности, появившейся вследствие взятого на себя государством обязательства по восстановлению сбережений граждан;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шней задолженности бывшего СССР, принятой на себя РФ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овь возникшая задолженность РФ перед иностранными государствами, международными организациями и фирмами (Парижскому клубу, Лондонскому клубу, Международному валютному фонду (МВФ) и Всемирному или Международному банку реконструкции и развития (ВБРР или МБРР)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Рисунок 4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09080" cy="2872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686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 России понятие государственного внутреннего долга определяется в Законе РФ от 13.11.1992 г. № 3877-1 «О государственном внутреннем долге» и ст.817 Гражданского кодекса (ГК) РФ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 настоящее время долг Российской Федерации в рыночной форме представлен облигациями государственных внешних заимствований (еврооблигациями) со сроками погашения с 2003 по 2030 год, а также облигациями внутреннего валютного займа со сроком погашения 2003 - 2011 годы. При этом выпуск еврооблигаций со сроками погашения до 2010 и до 2030 годов был связан с урегулированием задолженности бывшего СССР Лондонскому клубу кредиторов и коммерческой задолженности бывшего СССР, а ОВГВЗ - 3, 4, 5 и 8 серий - урегулированием внутреннего валютного долга бывшего СССР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нешний долг состоит из долга Правительства РФ (долг международным организациям, бонды, кредиты по правительственной линии, коммерческие кредиты), долга бывшего СССР (бонды, кредиты по правительственной линии, коммерческие кредиты) и бондов Минфина РФ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Государственные ценные бумаги –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это бумаги, которые выпускаются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и обеспечиваются государством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и используются для пополнения государственного бюджета.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Для федерального уровня долговых обязательств государства Бюджетный кодекс устанавливает верхний предел государственного внутреннего долга, верхний предел государственного внешнего долга и отдельно предел государственных внешних заимствований на очередной финансовый год. Указанные предельные показатели долговых обязательств устанавливаются для всех уровней бюджетной системы. На федеральном уровне конкретные  цифры предельных объемов государственного внутреннего  и внешнего долга, а также отдельно предельные показатели внешних заимствований устанавливаются федеральным законом о бюджете на очередной год, в котором показатели долговых обязательств подлежат конкретизации по формам обеспечения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Оперативное управление государственным долгом осуществляет исполнительная власть (Министерство финансов РФ и Центральный банк РФ, если заемщиком выступает государство как суверен, и соответствующие органы субъекта РФ, если заемщиком является субъект РФ)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8200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9ee8"/>
                </a:solidFill>
                <a:latin typeface="Arial Black"/>
              </a:rPr>
              <a:t>Управление государственным долгом представляет собой комплекс мер, предпринимаемых государством в лице его уполномоченных органов по определению мест и условий размещения и погашения государственных займов, а также обеспечению гармонизации интересов заемщика, инвесторов и кредиторов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89ee8"/>
                </a:solidFill>
                <a:latin typeface="Arial Black"/>
              </a:rPr>
              <a:t>Одним из широко распространенных методов управления государственным долгом является рефинансирование государственного долга, то есть погашение основной задолженности и процентов за счет средств, полученных от размещения новых займов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907560"/>
            <a:ext cx="86868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eff1"/>
                </a:solidFill>
                <a:latin typeface="Arial Black"/>
              </a:rPr>
              <a:t>Проследим динамику внутреннего и внешнего долга в период с 1998 по 2006 гг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916280"/>
          <a:ext cx="9144000" cy="3309840"/>
        </p:xfrm>
        <a:graphic>
          <a:graphicData uri="http://schemas.openxmlformats.org/drawingml/2006/table">
            <a:tbl>
              <a:tblPr/>
              <a:tblGrid>
                <a:gridCol w="912960"/>
                <a:gridCol w="915840"/>
                <a:gridCol w="914400"/>
                <a:gridCol w="915840"/>
                <a:gridCol w="912960"/>
                <a:gridCol w="912960"/>
                <a:gridCol w="915840"/>
                <a:gridCol w="914400"/>
                <a:gridCol w="915840"/>
                <a:gridCol w="912960"/>
              </a:tblGrid>
              <a:tr h="13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6 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прогноз)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нутренний долг (млрд.руб.)</a:t>
                      </a:r>
                      <a:endParaRPr b="0" lang="en-US" sz="1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8,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7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0,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0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4,5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2,1 (на 1.12)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8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нешний долг (млрд.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1,5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8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2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,1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,7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,1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,8 (на 1.10)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,2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Из таблицы видно, что государственный внутренний долг увеличивается, а внешний уменьшается. Но так как внешний долг исчисляется в миллиардах долларов, а не рублей, то внешний долг значительно преобладает над внутренним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Многократное преобладание долга, номинированного в иностранной валюте, является серьезным фактором риска, ставящего управление долгом в жесткую зависимость от валютной политики и состояния платежного баланса, что предполагает необходимость постепенного замещения внешнего долга внутренним. При этом следует учитывать сохраняющиеся риски ограничения доступа на внешние рынки заимствований по независящим от Российской Федерации причинам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В этой связи приоритет при осуществлении государственных заимствований должен быть отдан в долгосрочном плане внутренним заимствованиям. Возможность этого создает постепенное выравнивание условий привлечения внутренних и внешних заимствований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eff1"/>
                </a:solidFill>
                <a:latin typeface="Arial"/>
              </a:rPr>
              <a:t>Оценка изменения государственного внутреннего долга, выраженного в ценных бумагах в 2005-2010 гг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graphicFrame>
        <p:nvGraphicFramePr>
          <p:cNvPr id="153" name="Объект 4"/>
          <p:cNvGraphicFramePr/>
          <p:nvPr/>
        </p:nvGraphicFramePr>
        <p:xfrm>
          <a:off x="0" y="990720"/>
          <a:ext cx="9144000" cy="580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907560"/>
            <a:ext cx="86868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Рассмотрим основные цели политики в области государственного внешнего долга на среднесрочную перспективу: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обеспечение стабильного доступа Российской Федерации на рынки внешних заимствований на выгодных условиях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расширение объемов внешних заимствований на цели рефинансирования внешнего долга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активное управление внешней задолженностью с целью сокращения стоимости ее обслуживания, а также сглаживания имеющихся "пиков платежей" по государственному внешнему долгу в 2005 и 2008 годах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существенное сокращение долга бывшего СССР, задолженности Российской Федерации перед правительствами иностранных государств и международными финансовыми организациями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) наращивание рыночной составляющей внешнего долга Российской Федерации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) проведение сбалансированной политики в области внешних заимствований с целью сохранения и дальнейшего улучшения платежной репутации Росси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 Black"/>
              </a:rPr>
              <a:t>Вывод: государственные ценные бумаги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являются самостоятельным видом ценных бумаг. Большинство из них имеют долговой характер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Государство, выпуская ценные бумаги, выступает в роли заемщика, принимает на себя обязанности по обслуживанию государственного долга, а владелец ценной бумаги приобретает право предъявить ее для погашения в установленном порядке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Выпуск государственных ценных (облигаций) является формой государственного кредита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907920"/>
            <a:ext cx="8686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6969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9ff09"/>
                </a:solidFill>
                <a:latin typeface="Arial"/>
              </a:rPr>
              <a:t>В мире централизованный выпуск ценных бумаг  используется  в  качестве инструмента государственного регулирования экономики: как рычаг  воздействия на денежное обращение и управления  объемом  денежной  массы;  а  также  как средство  неэмиссионного  покрытия  дефицита  государственного  и   местного бюджетов, способ привлечения денежных средств предприятий  и  населения  для решения тех или иных конкретных задач. Накоплен богатый  опыт  моделирования и выпуска разнообразных финансовых гособязательств, отвечающих  потребностям и   запросам   различных   инвесторов   (потенциальных    вкладчиков)    в государственные ценные бумаги</a:t>
            </a:r>
            <a:r>
              <a:rPr b="1" lang="ru-RU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cff33"/>
                </a:solidFill>
                <a:latin typeface="Arial"/>
              </a:rPr>
              <a:t>Важно, что политика развития регулирования рынка  государственных ценных бумаг должна осуществляться в рамках более общей задачи формирования и развития единого национального финансового рынка как эффективного механизма аккумулирования и перераспределения денежных ресурсов в рыночной экономике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686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bed43"/>
                </a:solidFill>
                <a:latin typeface="Arial Black"/>
              </a:rPr>
              <a:t>Различают следующие виды государственных ценных бумаг: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1. наличные и безналич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2. документарные и бездокументар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3. гарантированные и доход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4. рыночные и нерыночные (в зависимости от того, обращаются ли они на свободном  рынке  (первичном  и вторичном) или не  входят  во  вторичное  обращение  на  биржах  и  свободно возвращаются  эмитенту  до  истечения  срока  их  действия);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5. именные и на предъявителя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5f52b"/>
                </a:solidFill>
                <a:latin typeface="Arial Black"/>
              </a:rPr>
              <a:t>Государственные ценные бумаги могут выполнять такие функции, как: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налоговое освобождение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обслуживание государственного долга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финансирование непредвиденных государственных расходов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6868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А) Государственными долгосрочными облигациями (ГДО).                                              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Выпущены в 1991 году со сроком обращения 30 лет. Объем займа – 80 млрд. рублей. Номинал облигации – 100 тыс. рублей. Выпускаются в бланковом виде с набором купонов. Купонный доход – 15% от номинала, выплачивается один раз в год – 1 июля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Б) Государственными краткосрочными облигациями (ГКО)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Срок обращения – 3,6 и 12 месяцев. Выпускаются на безбумажной основе в виде записей на счетах «депо». Номинал – 1 млн. рублей. Распространяются на аукционах с дисконтом от номинал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61372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6868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)Облигациями федеральных займов с переменным купонным доходом (ОФЗ-ПК) и постоянным купонным доходом (ОФЗ-ПК)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Относятся к среднесрочным государственным ценным бумагам. Срок их обращения от 1 года до 5 лет. Выпускаются на безбумажной основе в виде записи на счетах «депо». Номинал – 1млн. рублей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Г) Облигациями государственного сберегательного займа (ОГС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Срок обращения – 1 год. Объем выпуска – 10 трлн. рубле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Номинал – 100 и 500 тыс. рублей. Выпускаются в бланковом виде на предъявителя с набором из 4 купонов, выплачиваемых ежеквартально. Размер купона определяется по последней официально объявленной ставке купонного дохода по ОФЗ-ПК плюс премия, определяемая Минфином РФ. Предназначены для населения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Д)Облигациями внутреннего государственного валютного займа (ОВГВ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ыпущены в 1993 году. Валюта займа – доллары США. Номиналы – 1, 10, 100 тыс. долларов СШ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Е)Облигациями государственного нерыночного займа (ОГН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ыпускаются в бездокументарной форме. Объем выпуска в 1996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году – 15 трлн. рублей. Номинал – 1 млн. рублей. Предназначены   для   страховых компаний, пенсионных и внебюджетных фондов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Ж) Государственными жилищными сертификатами (ГЖС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Являются документарными именными не обращаемыми ценными бумагами. Эмитируются по решению Правительства РФ для граждан РФ, лишившихся жилья в результате чрезвычайных ситуаций и стихийных бедствий. Номинированы в квадратных метрах жилой площади. Срок предъявления к погашению – 1 год с момента выдачи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105264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Государственные ценные бумаги эмитируются как центральным правительством, так и местными органами власти. Эмитентом вышеперечисленных государственных ценных бумаг является Министерство финансов РФ. Погашает эти ценные бумаги также Минфин РФ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Эмитентом может выступать и ЦБ РФ, соответственно различают облигации банка России (ОБР) - инструменты денежно-кредитной политики, выпускаемые ЦБ РФ с сентября 1998 г. Обслуживание и погашение выпусков осуществляет ЦБ РФ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66"/>
                </a:solidFill>
                <a:latin typeface="Arial Black"/>
              </a:rPr>
              <a:t>Рынок государственных ценных бумаг подвергается жесткому контролю и регулированию со стороны органов как законодательной, так и исполнительной власт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9eff1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ec9ed9"/>
                </a:solidFill>
                <a:latin typeface="Arial Black"/>
              </a:rPr>
              <a:t>Методами подобного регулирования являются: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349000"/>
            <a:ext cx="86868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разработка и принятие законодательных мер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наделение полномочиями существующих и создание новых структур регулирования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спользование методов налогового воздействия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6T16:28:52Z</dcterms:created>
  <dc:creator>Танюшка</dc:creator>
  <dc:description/>
  <dc:language>en-US</dc:language>
  <cp:lastModifiedBy>LEGION</cp:lastModifiedBy>
  <dcterms:modified xsi:type="dcterms:W3CDTF">2014-11-10T12:17:26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