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eff1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D2BBF-1D64-4637-9671-6043980FE08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hyperlink" Target="http://www.svobodainfo.org/info/?tid=&amp;nd=901817757&amp;prevDoc=901713616" TargetMode="External"/><Relationship Id="rId2" Type="http://schemas.openxmlformats.org/officeDocument/2006/relationships/hyperlink" Target="http://www.svobodainfo.org/info/?tid=&amp;nd=901790693&amp;prevDoc=901713616" TargetMode="External"/><Relationship Id="rId3" Type="http://schemas.openxmlformats.org/officeDocument/2006/relationships/hyperlink" Target="http://www.svobodainfo.org/info/?tid=&amp;nd=901910577&amp;prevDoc=901713616" TargetMode="External"/><Relationship Id="rId4" Type="http://schemas.openxmlformats.org/officeDocument/2006/relationships/slide" Target="../slides/slide13.xml"/><Relationship Id="rId5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r>
              <a:rPr b="0" lang="ru-RU" sz="1200" spc="-1" strike="noStrike">
                <a:solidFill>
                  <a:srgbClr val="e92611"/>
                </a:solidFill>
                <a:latin typeface="Arial"/>
              </a:rPr>
              <a:t>Регулирование рынка государственных ценных бум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5966B-E283-461C-BBA1-AAD608C8F2C3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99ffcc"/>
                </a:solidFill>
                <a:latin typeface="Arial"/>
              </a:rPr>
              <a:t>Правами регулирования в области государственных ценных бумаг обладает Министерство финансов России. Минфин РФ, ранее выполнявшее почти все функции по регулированию рынка ценных бумаг в настоящее время имеет полномочия только в области регулирования рынка государственных ценных бумаг. Однако,  возможны случаи, когда эмитентом ценной бумаги от правительства может выступить любое другое министерство или ведомство. В России таких случаев пока не был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E51F8-B5AB-441B-9B1D-A96F36A54D84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99ff33"/>
                </a:solidFill>
                <a:latin typeface="Arial"/>
              </a:rPr>
              <a:t>Второй орган - центральный банк. Центральный банк РФ может исполнять роль финансового  агента правительства. Центральный банк также  особенно  заинтересован  в  рынке государственных займов  из-за  неизбежной связи между денежной политикой, банковской системой и рынком государственных ценных бумаг. Вовлечение  центрального банка в роль финансового агента, а также его участие в проведении денежной политики  позволяет органам,  регулирующим  денежное обращение,  быть в курсе событий, происходящих на рынках,  реагировать на  них  должным образом и  тем самым более эффективно выполнять свою роль надзора над банковской системой и системой платежей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E5014-4889-42A4-8CFE-F83D33FE6AD4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ffff"/>
                </a:solidFill>
                <a:latin typeface="Arial"/>
              </a:rPr>
              <a:t>Рынок государственных ценных бумаг является частью рынка ценных бумаг, поэтому законодательные нормы, регулирующие рынок ценных бумаг регулируют и рынок государственных ценных бумаг. Основными законодательными актами, которыми регулируется российский рынок ценных бумаг, являю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Arial"/>
              </a:rPr>
              <a:t>Гражданский кодекс РФ, части </a:t>
            </a:r>
            <a:r>
              <a:rPr b="0" lang="en-US" sz="1200" spc="-1" strike="noStrike">
                <a:solidFill>
                  <a:srgbClr val="ff66ff"/>
                </a:solidFill>
                <a:latin typeface="Arial"/>
              </a:rPr>
              <a:t>I</a:t>
            </a:r>
            <a:r>
              <a:rPr b="0" lang="ru-RU" sz="1200" spc="-1" strike="noStrike">
                <a:solidFill>
                  <a:srgbClr val="ff66ff"/>
                </a:solidFill>
                <a:latin typeface="Arial"/>
              </a:rPr>
              <a:t> и </a:t>
            </a:r>
            <a:r>
              <a:rPr b="0" lang="en-US" sz="1200" spc="-1" strike="noStrike">
                <a:solidFill>
                  <a:srgbClr val="ff66ff"/>
                </a:solidFill>
                <a:latin typeface="Arial"/>
              </a:rPr>
              <a:t>II</a:t>
            </a:r>
            <a:r>
              <a:rPr b="0" lang="ru-RU" sz="1200" spc="-1" strike="noStrike">
                <a:solidFill>
                  <a:srgbClr val="ff66ff"/>
                </a:solidFill>
                <a:latin typeface="Arial"/>
              </a:rPr>
              <a:t> (1995—1996 гг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Arial"/>
              </a:rPr>
              <a:t>Закон «О банках и банковской деятельности» (1990 г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Arial"/>
              </a:rPr>
              <a:t>Закон «О Центральном банке Российской Федерации» (1995 г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Arial"/>
              </a:rPr>
              <a:t>Закон «О приватизации государственных и муниципальных предприятий в РСФСР» (1991 г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Arial"/>
              </a:rPr>
              <a:t>Закон «О товарных биржах и биржевой торговле» (1992 г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Arial"/>
              </a:rPr>
              <a:t>Закон «О валютном регулировании и валютном контроле» (1992 г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Arial"/>
              </a:rPr>
              <a:t>Закон «О государственном внутреннем долге Российской Федерации» (1992 г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Arial"/>
              </a:rPr>
              <a:t>Закон об акционерных обществах (1996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Arial"/>
              </a:rPr>
              <a:t>Закон о рынке ценных бумаг (1996 г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Arial"/>
              </a:rPr>
              <a:t>Указы Президента по развитию рынка ценных бум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56E86-EB0F-4300-B442-50DD2CC477C5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cccc00"/>
                </a:solidFill>
                <a:latin typeface="Arial"/>
              </a:rPr>
              <a:t>Минфин издает множество приказов для регулирования государственных ценных бумаг. Ниже представлены некоторые из них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приказ Минфина РФ от 27.04.2002 № 37н "Об утверждении Условий эмиссии и обращения  облигаций"</a:t>
            </a:r>
            <a:r>
              <a:rPr b="0" lang="ru-RU" sz="1200" spc="-1" strike="noStrike">
                <a:solidFill>
                  <a:srgbClr val="ff9900"/>
                </a:solidFill>
                <a:latin typeface="Arial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приказ Минфина РФ от 15.06.2001 № 45н "Об утверждении условий эмиссии и обращения облигаций государственного сберегательного займа Российской Федерации"</a:t>
            </a:r>
            <a:r>
              <a:rPr b="0" lang="ru-RU" sz="1200" spc="-1" strike="noStrike">
                <a:solidFill>
                  <a:srgbClr val="ff9900"/>
                </a:solidFill>
                <a:latin typeface="Arial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приказ Минфина России от 21.09.2004 № 86н "Об утверждении Условий эмиссии и обращения облигаций государственных нерыночных займов"</a:t>
            </a:r>
            <a:r>
              <a:rPr b="0" lang="ru-RU" sz="1200" spc="-1" strike="noStrike">
                <a:solidFill>
                  <a:srgbClr val="ff9900"/>
                </a:solidFill>
                <a:latin typeface="Arial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F10B2-A57D-421A-B5AD-975C1EE6F37B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9900"/>
                </a:solidFill>
                <a:latin typeface="Arial"/>
              </a:rPr>
              <a:t>Еще один аспект рассматриваемого вопроса связан с разработкой и установлением ответственности за правонарушение в сфере выпуска и обращения государственных ценных бумаг.</a:t>
            </a:r>
            <a:br>
              <a:rPr sz="1000"/>
            </a:br>
            <a:r>
              <a:rPr b="0" lang="ru-RU" sz="1000" spc="-1" strike="noStrike">
                <a:solidFill>
                  <a:srgbClr val="ff9900"/>
                </a:solidFill>
                <a:latin typeface="Arial"/>
              </a:rPr>
              <a:t> В связи с</a:t>
            </a:r>
            <a:r>
              <a:rPr b="0" i="1" lang="ru-RU" sz="1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ff9900"/>
                </a:solidFill>
                <a:latin typeface="Arial"/>
              </a:rPr>
              <a:t>этим можно выделить следующие категории субъектов нарушений и оснований ответственности: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 </a:t>
            </a:r>
            <a:r>
              <a:rPr b="0" lang="ru-RU" sz="1200" spc="-1" strike="noStrike">
                <a:solidFill>
                  <a:srgbClr val="ef3d39"/>
                </a:solidFill>
                <a:latin typeface="Arial"/>
              </a:rPr>
              <a:t>должностные лица эмитента ценных бумаг — в случаях нарушения условий выпуска и обращения, а также исполнения обязательств по ценной бумаг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f3d39"/>
                </a:solidFill>
                <a:latin typeface="Arial"/>
              </a:rPr>
              <a:t>-   владельцы ценных бумаг - при нарушении условий обращения ценных бумаг (например, вывоз за пределы Российской Федерации ценных бумаг, запрещенных к перемещению за границу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f3d39"/>
                </a:solidFill>
                <a:latin typeface="Arial"/>
              </a:rPr>
              <a:t>-   иные лица - при совершении противоправных деяний, препятствующих нормальному функционированию системы выпуска и обращения государственных ценных бумаг (например, уголовная ответственность физических лиц за подделку государственных ценных бумаг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38838-5D35-4F24-8C98-6BE7D28622AE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Регулирование участия на рынке государственных ценных    бумаг может быть направлено на то,  чтобы ограничить  распространение рисков, которые принимают на себя маркетмейкеры, а также гарантировать, что дилеры и другие участники рынка имеют соответствующее финансовое  состояние для того,  чтобы покрыть потенциальные финансовые потер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5ed755"/>
                </a:solidFill>
                <a:latin typeface="Arial"/>
              </a:rPr>
              <a:t>Положения о регулировании могут быть установлены  для  отслеживания  и  ограничения  следующих классов риск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66ff"/>
                </a:solidFill>
                <a:latin typeface="Arial"/>
              </a:rPr>
              <a:t>РЫНОЧНЫЙ РИСК -   риск потерь, проистекающих от колебания цен на рын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66ff"/>
                </a:solidFill>
                <a:latin typeface="Arial"/>
              </a:rPr>
              <a:t>РИСК ЛИКВИДНОСТИ -  риск того, что ценные бумаги не могут быть куплены и проданы быстро без существенных изменений в це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66ff"/>
                </a:solidFill>
                <a:latin typeface="Arial"/>
              </a:rPr>
              <a:t>КРЕДИТНЫЙ РИСК - риск потерь, проистекающий от неплатежеспособности контрагент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66ff"/>
                </a:solidFill>
                <a:latin typeface="Arial"/>
              </a:rPr>
              <a:t>БИЗНЕС-РИСК - риск потерь, проистекающих от неадекватных систем управления и контро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45BCA-2E2D-4C49-A12C-0D2290763793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ccff"/>
                </a:solidFill>
                <a:latin typeface="Arial"/>
              </a:rPr>
              <a:t>Одной из главной причин выпуска государственных ценных бумаг является обслуживание государственного долга. Отказ от инфляционных методов финансирования дефицита бюджета обусловил развитие рынка государственных ценных бумаг в России и рост государственного долг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5A237-DBBF-4F78-96AB-8843A155E9D1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e7ee86"/>
                </a:solidFill>
                <a:latin typeface="Arial"/>
              </a:rPr>
              <a:t>Государственный долг- это вся сумма задолженности по обязательствам государства, проценты по ней и неисполненные финансовые обязательства государства перед субъектами эконом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ccecff"/>
                </a:solidFill>
                <a:latin typeface="Arial"/>
              </a:rPr>
              <a:t>Для государства на федеральном и региональном уровнях возможно применение двух видов долговых обязательств: внутреннего или внешнего долга. Для муниципалитетов называется возможность применения только одного вида – внутреннего долг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ecff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ccecff"/>
                </a:solidFill>
                <a:latin typeface="Arial"/>
              </a:rPr>
              <a:t>Критерием разграничения долговых обязательств на внутренние и внешние вступает валюта займа. Если деньги берутся взаймы у российских или иностранных субъектов в иностранной валюте, то возникают отношения внешнего долга. Если деньги берутся в валюте России, то возникают отношения внутреннего долг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A79D1-9EA8-4155-A79D-EC49772768C1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ff00"/>
                </a:solidFill>
                <a:latin typeface="Arial"/>
              </a:rPr>
              <a:t>По структуре государственный долг РФ состоит из нескольких групп долговых обязательств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долженности Минфина перед ЦБ по кредитам на финансирование дефицита бюдже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долженности, появившейся вследствие взятого на себя государством обязательства по восстановлению сбережений граждан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нешней задолженности бывшего СССР, принятой на себя РФ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новь возникшая задолженность РФ перед иностранными государствами, международными организациями и фирмами (Парижскому клубу, Лондонскому клубу, Международному валютному фонду (МВФ) и Всемирному или Международному банку реконструкции и развития (ВБРР или МБРР)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FE77C-86B9-4BDE-9311-B44EFAD437EA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ccff"/>
                </a:solidFill>
                <a:latin typeface="Arial"/>
              </a:rPr>
              <a:t>В России понятие государственного внутреннего долга определяется в Законе РФ от 13.11.1992 г. № 3877-1 «О государственном внутреннем долге» и ст.817 Гражданского кодекса (ГК) РФ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ccff"/>
                </a:solidFill>
                <a:latin typeface="Arial"/>
              </a:rPr>
              <a:t>В настоящее время долг Российской Федерации в рыночной форме представлен облигациями государственных внешних заимствований (еврооблигациями) со сроками погашения с 2003 по 2030 год, а также облигациями внутреннего валютного займа со сроком погашения 2003 - 2011 годы. При этом выпуск еврооблигаций со сроками погашения до 2010 и до 2030 годов был связан с урегулированием задолженности бывшего СССР Лондонскому клубу кредиторов и коммерческой задолженности бывшего СССР, а ОВГВЗ - 3, 4, 5 и 8 серий - урегулированием внутреннего валютного долга бывшего ССС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ccff"/>
                </a:solidFill>
                <a:latin typeface="Arial"/>
              </a:rPr>
              <a:t>Внешний долг состоит из долга Правительства РФ (долг международным организациям, бонды, кредиты по правительственной линии, коммерческие кредиты), долга бывшего СССР (бонды, кредиты по правительственной линии, коммерческие кредиты) и бондов Минфина Р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7A23B-9E11-4C36-98AE-34B8A12E3F1B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99ff"/>
                </a:solidFill>
                <a:latin typeface="Arial"/>
              </a:rPr>
              <a:t>Государственные ценные бумаги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9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99ff"/>
                </a:solidFill>
                <a:latin typeface="Arial"/>
              </a:rPr>
              <a:t>это бумаги, которые выпускаютс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9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99ff"/>
                </a:solidFill>
                <a:latin typeface="Arial"/>
              </a:rPr>
              <a:t>и обеспечиваются государств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9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99ff"/>
                </a:solidFill>
                <a:latin typeface="Arial"/>
              </a:rPr>
              <a:t>и используются для пополнения государственного бюдже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3CFED-CB9E-42BC-9344-3BB1F0ECA8A9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cc66ff"/>
                </a:solidFill>
                <a:latin typeface="Arial"/>
              </a:rPr>
              <a:t>Для федерального уровня долговых обязательств государства Бюджетный кодекс устанавливает верхний предел государственного внутреннего долга, верхний предел государственного внешнего долга и отдельно предел государственных внешних заимствований на очередной финансовый год. Указанные предельные показатели долговых обязательств устанавливаются для всех уровней бюджетной системы. На федеральном уровне конкретные  цифры предельных объемов государственного внутреннего  и внешнего долга, а также отдельно предельные показатели внешних заимствований устанавливаются федеральным законом о бюджете на очередной год, в котором показатели долговых обязательств подлежат конкретизации по формам обеспеч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8E990-F3F6-4801-99DB-648378855E75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ff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ccffff"/>
                </a:solidFill>
                <a:latin typeface="Arial"/>
              </a:rPr>
              <a:t>Оперативное управление государственным долгом осуществляет исполнительная власть (Министерство финансов РФ и Центральный банк РФ, если заемщиком выступает государство как суверен, и соответствующие органы субъекта РФ, если заемщиком является субъект РФ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6193E-20BB-4F82-B923-E18B3F67018A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89ee8"/>
                </a:solidFill>
                <a:latin typeface="Arial"/>
              </a:rPr>
              <a:t>Управление государственным долгом представляет собой комплекс мер, предпринимаемых государством в лице его уполномоченных органов по определению мест и условий размещения и погашения государственных займов, а также обеспечению гармонизации интересов заемщика, инвесторов и кредиторов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989ee8"/>
                </a:solidFill>
                <a:latin typeface="Arial"/>
              </a:rPr>
              <a:t>Одним из широко распространенных методов управления государственным долгом является рефинансирование государственного долга, то есть погашение основной задолженности и процентов за счет средств, полученных от размещения новых займ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0D6CD-62D5-4CA3-AB70-DB6FD1FD622E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следим динамику внутреннего и внешнего долга в период с 1998 по 2006 г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622C9-F864-499A-87B0-2DEAB1AD0D79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00ff"/>
                </a:solidFill>
                <a:latin typeface="Arial"/>
              </a:rPr>
              <a:t>Из таблицы видно, что государственный внутренний долг увеличивается, а внешний уменьшается. Но так как внешний долг исчисляется в миллиардах долларов, а не рублей, то внешний долг значительно преобладает над внутренни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00ff"/>
                </a:solidFill>
                <a:latin typeface="Arial"/>
              </a:rPr>
              <a:t>Многократное преобладание долга, номинированного в иностранной валюте, является серьезным фактором риска, ставящего управление долгом в жесткую зависимость от валютной политики и состояния платежного баланса, что предполагает необходимость постепенного замещения внешнего долга внутренним. При этом следует учитывать сохраняющиеся риски ограничения доступа на внешние рынки заимствований по независящим от Российской Федерации причина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00ff"/>
                </a:solidFill>
                <a:latin typeface="Arial"/>
              </a:rPr>
              <a:t>В этой связи приоритет при осуществлении государственных заимствований должен быть отдан в долгосрочном плане внутренним заимствованиям. Возможность этого создает постепенное выравнивание условий привлечения внутренних и внешних заимствова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D0FEF-AE89-4E47-9720-2FCB31AF4797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Оценка изменения государственного внутреннего долга, выраженного в ценных бумагах в 2005-2010 г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E8D2C-DCC6-47F6-94AF-26AD7FAFBE7E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ffff"/>
                </a:solidFill>
                <a:latin typeface="Arial"/>
              </a:rPr>
              <a:t>Рассмотрим основные цели политики в области государственного внешнего долга на среднесрочную перспективу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) обеспечение стабильного доступа Российской Федерации на рынки внешних заимствований на выгодных условиях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) расширение объемов внешних заимствований на цели рефинансирования внешнего долг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) активное управление внешней задолженностью с целью сокращения стоимости ее обслуживания, а также сглаживания имеющихся "пиков платежей" по государственному внешнему долгу в 2005 и 2008 годах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) существенное сокращение долга бывшего СССР, задолженности Российской Федерации перед правительствами иностранных государств и международными финансовыми организациям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5) наращивание рыночной составляющей внешнего долга Российской Федераци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6) проведение сбалансированной политики в области внешних заимствований с целью сохранения и дальнейшего улучшения платежной репутации Росс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2F2E3-C03B-4583-91D8-76384C7663BE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ff99"/>
                </a:solidFill>
                <a:latin typeface="Arial"/>
              </a:rPr>
              <a:t>Вывод: государственные ценные бумаг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89ee8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989ee8"/>
                </a:solidFill>
                <a:latin typeface="Arial"/>
              </a:rPr>
              <a:t>являются самостоятельным видом ценных бумаг. Большинство из них имеют долговой характе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89ee8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989ee8"/>
                </a:solidFill>
                <a:latin typeface="Arial"/>
              </a:rPr>
              <a:t>Государство, выпуская ценные бумаги, выступает в роли заемщика, принимает на себя обязанности по обслуживанию государственного долга, а владелец ценной бумаги приобретает право предъявить ее для погашения в установленном порядк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89ee8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989ee8"/>
                </a:solidFill>
                <a:latin typeface="Arial"/>
              </a:rPr>
              <a:t>Выпуск государственных ценных (облигаций) является формой государственного креди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99D4D-D58C-4AA1-88E6-A9F454DE4171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200" spc="-1" strike="noStrike">
                <a:solidFill>
                  <a:srgbClr val="09ff09"/>
                </a:solidFill>
                <a:latin typeface="Arial"/>
              </a:rPr>
              <a:t>В мире централизованный выпуск ценных бумаг  используется  в  качестве инструмента государственного регулирования экономики: как рычаг  воздействия на денежное обращение и управления  объемом  денежной  массы;  а  также  как средство  неэмиссионного  покрытия  дефицита  государственного  и   местного бюджетов, способ привлечения денежных средств предприятий  и  населения  для решения тех или иных конкретных задач. Накоплен богатый  опыт  моделирования и выпуска разнообразных финансовых гособязательств, отвечающих  потребностям и   запросам   различных   инвесторов   (потенциальных    вкладчиков)    в государственные ценные бумаги</a:t>
            </a:r>
            <a:r>
              <a:rPr b="1" lang="ru-RU" sz="1200" spc="-1" strike="noStrike">
                <a:solidFill>
                  <a:srgbClr val="66ff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ff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200" spc="-1" strike="noStrike">
                <a:solidFill>
                  <a:srgbClr val="ccff33"/>
                </a:solidFill>
                <a:latin typeface="Arial"/>
              </a:rPr>
              <a:t>Важно, что политика развития регулирования рынка  государственных ценных бумаг должна осуществляться в рамках более общей задачи формирования и развития единого национального финансового рынка как эффективного механизма аккумулирования и перераспределения денежных ресурсов в рыночной экономик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BE7B8-0C20-4086-A44F-FAA8DD970384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bed43"/>
                </a:solidFill>
                <a:latin typeface="Arial"/>
              </a:rPr>
              <a:t>Различают следующие виды государственных ценных бумаг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3399ff"/>
                </a:solidFill>
                <a:latin typeface="Arial"/>
              </a:rPr>
              <a:t>1. наличные и безналичны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3399ff"/>
                </a:solidFill>
                <a:latin typeface="Arial"/>
              </a:rPr>
              <a:t>2. документарные и бездокументарны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3399ff"/>
                </a:solidFill>
                <a:latin typeface="Arial"/>
              </a:rPr>
              <a:t>3. гарантированные и доходны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3399ff"/>
                </a:solidFill>
                <a:latin typeface="Arial"/>
              </a:rPr>
              <a:t>4. рыночные и нерыночные (в зависимости от того, обращаются ли они на свободном  рынке  (первичном  и вторичном) или не  входят  во  вторичное  обращение  на  биржах  и  свободно возвращаются  эмитенту  до  истечения  срока  их  действия);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3399ff"/>
                </a:solidFill>
                <a:latin typeface="Arial"/>
              </a:rPr>
              <a:t>5. именные и на предъявител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B5042-8052-4B73-8AE4-9EAD24F2193E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f5f52b"/>
                </a:solidFill>
                <a:latin typeface="Arial"/>
              </a:rPr>
              <a:t>Государственные ценные бумаги могут выполнять такие функции, как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7c80"/>
                </a:solidFill>
                <a:latin typeface="Arial"/>
              </a:rPr>
              <a:t>налоговое освобождение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7c80"/>
                </a:solidFill>
                <a:latin typeface="Arial"/>
              </a:rPr>
              <a:t>обслуживание государственного долг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7c80"/>
                </a:solidFill>
                <a:latin typeface="Arial"/>
              </a:rPr>
              <a:t>финансирование непредвиденных государственных расх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25734-CC58-40E6-87BC-008CF17308C0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ff"/>
                </a:solidFill>
                <a:latin typeface="Arial"/>
              </a:rPr>
              <a:t>В 1998 году основные федеральные долговые обязательства были представлены следующими бумагам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А) Государственными долгосрочными облигациями (ГДО).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Выпущены в 1991 году со сроком обращения 30 лет. Объем займа – 80 млрд. рублей. Номинал облигации – 100 тыс. рублей. Выпускаются в бланковом виде с набором купонов. Купонный доход – 15% от номинала, выплачивается один раз в год – 1 ию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Б) Государственными краткосрочными облигациями (ГКО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Срок обращения – 3,6 и 12 месяцев. Выпускаются на безбумажной основе в виде записей на счетах «депо». Номинал – 1 млн. рублей. Распространяются на аукционах с дисконтом от номинал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9F53D-1E13-4E40-91CC-8F31D4615EA7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ff"/>
                </a:solidFill>
                <a:latin typeface="Arial"/>
              </a:rPr>
              <a:t>В 1998 году основные федеральные долговые обязательства были представлены следующими бумагам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В)Облигациями федеральных займов с переменным купонным доходом (ОФЗ-ПК) и постоянным купонным доходом (ОФЗ-ПК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Относятся к среднесрочным государственным ценным бумагам. Срок их обращения от 1 года до 5 лет. Выпускаются на безбумажной основе в виде записи на счетах «депо». Номинал – 1млн. рубл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Г) Облигациями государственного сберегательного займа (ОГСЗ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Срок обращения – 1 год. Объем выпуска – 10 трлн. руб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Номинал – 100 и 500 тыс. рублей. Выпускаются в бланковом виде на предъявителя с набором из 4 купонов, выплачиваемых ежеквартально. Размер купона определяется по последней официально объявленной ставке купонного дохода по ОФЗ-ПК плюс премия, определяемая Минфином РФ. Предназначены для насе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C100A-4F04-4BF9-A387-90335D4B927A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ff"/>
                </a:solidFill>
                <a:latin typeface="Arial"/>
              </a:rPr>
              <a:t>В 1998 году основные федеральные долговые обязательства были представлены следующими бумагам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Д)Облигациями внутреннего государственного валютного займа (ОВГВЗ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Выпущены в 1993 году. Валюта займа – доллары США. Номиналы – 1, 10, 100 тыс. долларов СШ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Е)Облигациями государственного нерыночного займа (ОГНЗ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Выпускаются в бездокументарной форме. Объем выпуска в 199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году – 15 трлн. рублей. Номинал – 1 млн. рублей. Предназначены   для   страховых компаний, пенсионных и внебюджетных фонд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Ж) Государственными жилищными сертификатами (ГЖС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Являются документарными именными не обращаемыми ценными бумагами. Эмитируются по решению Правительства РФ для граждан РФ, лишившихся жилья в результате чрезвычайных ситуаций и стихийных бедствий. Номинированы в квадратных метрах жилой площади. Срок предъявления к погашению – 1 год с момента выдач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5D45F-B456-4B06-94FC-038AAF844DC3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ffcc"/>
                </a:solidFill>
                <a:latin typeface="Arial"/>
              </a:rPr>
              <a:t>Государственные ценные бумаги эмитируются как центральным правительством, так и местными органами власти. Эмитентом вышеперечисленных государственных ценных бумаг является Министерство финансов РФ. Погашает эти ценные бумаги также Минфин Р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cc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ffcc"/>
                </a:solidFill>
                <a:latin typeface="Arial"/>
              </a:rPr>
              <a:t>Эмитентом может выступать и ЦБ РФ, соответственно различают облигации банка России (ОБР) - инструменты денежно-кредитной политики, выпускаемые ЦБ РФ с сентября 1998 г. Обслуживание и погашение выпусков осуществляет ЦБ Р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E7E32-9A7C-4E5C-8063-37C2566A4E08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ff66"/>
                </a:solidFill>
                <a:latin typeface="Arial"/>
              </a:rPr>
              <a:t>Рынок государственных ценных бумаг подвергается жесткому контролю и регулированию со стороны органов как законодательной, так и исполнительной власти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ec9ed9"/>
                </a:solidFill>
                <a:latin typeface="Arial"/>
              </a:rPr>
              <a:t>Методами подобного регулирования являю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99"/>
                </a:solidFill>
                <a:latin typeface="Arial"/>
              </a:rPr>
              <a:t>разработка и принятие законодательных мер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99"/>
                </a:solidFill>
                <a:latin typeface="Arial"/>
              </a:rPr>
              <a:t>наделение полномочиями существующих и создание новых структур регулировани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99"/>
                </a:solidFill>
                <a:latin typeface="Arial"/>
              </a:rPr>
              <a:t>использование методов налогового воздей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9EDBF-45D6-4694-B857-E5F1FFC748A4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405D-D446-4EBC-A3C1-AC373C330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3B49-13EF-4CDE-A243-DC995D4E5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AB74-5181-493E-A84F-7C0AD0AC6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AC5C-35CE-4E8C-8B1C-DDADEAB8B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5CAD0-2333-4ED4-8D43-4A11285D3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7D7A4-CB63-4B0A-AE36-C694A3B58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74301-2F37-43AA-9E6C-BB17BC746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3F369-FBD0-4D9C-8E00-AC331295A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9314B-0030-4867-BB88-6C754080B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6ED97-40BC-41E6-B84D-505AE6EDF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62637-0DCA-42DD-A381-0BDDC4553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14F4-4266-4BCC-924D-6038D87B8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E9F86-0512-41FB-A3EA-1DD4D3EB3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F9E25-2830-4B08-9199-0A0EBFE72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4E8BF-57E0-4EAB-9FF2-9BD7295CC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D38B3-2231-46C8-952E-ED6A9FABC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AAF11-2B45-4F0E-B9E0-58570134C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BEA5-BBE2-4EB2-8B19-20080515E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DB18-30EF-4F2E-BBE2-85A364719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8BE6-E4A6-4B91-92D6-B71C74D26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1FE5-BF25-4C7D-9BA0-7AAD6E493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D2CB-DFE0-4778-8268-7F9C52465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822A-A97A-4426-9E29-6C7DEA3C0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9628-05F8-4EC9-8E4D-A155B08D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eff1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324120"/>
            <a:ext cx="19047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5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C7E94-E669-4B30-AB4F-014294A4390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eff1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9552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720DB-BF33-4311-8CDE-FBC8D1EA8ECB}" type="slidenum">
              <a:rPr b="0" lang="ru-RU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svobodainfo.org/info/?tid=&amp;nd=901817757&amp;prevDoc=901713616" TargetMode="External"/><Relationship Id="rId2" Type="http://schemas.openxmlformats.org/officeDocument/2006/relationships/hyperlink" Target="http://www.svobodainfo.org/info/?tid=&amp;nd=901790693&amp;prevDoc=901713616" TargetMode="External"/><Relationship Id="rId3" Type="http://schemas.openxmlformats.org/officeDocument/2006/relationships/hyperlink" Target="http://www.svobodainfo.org/info/?tid=&amp;nd=901910577&amp;prevDoc=901713616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556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ru-RU" sz="4400" spc="-1" strike="noStrike">
                <a:solidFill>
                  <a:srgbClr val="e92611"/>
                </a:solidFill>
                <a:latin typeface="Arial Black"/>
              </a:rPr>
              <a:t>Регулирование рынка государственных ценных бумаг</a:t>
            </a:r>
            <a:endParaRPr b="0" lang="en-US" sz="4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095880"/>
            <a:ext cx="289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48428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1628640"/>
            <a:ext cx="8758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69696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99ffcc"/>
                </a:solidFill>
                <a:latin typeface="Arial"/>
              </a:rPr>
              <a:t>Правами регулирования в области государственных ценных бумаг обладает Министерство финансов России. Минфин РФ, ранее выполнявшее почти все функции по регулированию рынка ценных бумаг в настоящее время имеет полномочия только в области регулирования рынка государственных ценных бумаг. Однако,  возможны случаи, когда эмитентом ценной бумаги от правительства может выступить любое другое министерство или ведомство. В России таких случаев пока не было.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Рисунок 2" descr=""/>
          <p:cNvPicPr/>
          <p:nvPr/>
        </p:nvPicPr>
        <p:blipFill>
          <a:blip r:embed="rId1"/>
          <a:stretch/>
        </p:blipFill>
        <p:spPr>
          <a:xfrm>
            <a:off x="3924360" y="0"/>
            <a:ext cx="1942920" cy="112536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228600" y="1197000"/>
            <a:ext cx="868680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69696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99ff33"/>
                </a:solidFill>
                <a:latin typeface="Arial"/>
              </a:rPr>
              <a:t>Второй орган - центральный банк. Центральный банк РФ может исполнять роль финансового  агента правительства. Центральный банк также  особенно  заинтересован  в  рынке государственных займов  из-за  неизбежной связи между денежной политикой, банковской системой и рынком государственных ценных бумаг. Вовлечение  центрального банка в роль финансового агента, а также его участие в проведении денежной политики  позволяет органам,  регулирующим  денежное обращение,  быть в курсе событий, происходящих на рынках,  реагировать на  них  должным образом и  тем самым более эффективно выполнять свою роль надзора над банковской системой и системой платежей. 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228600" y="260280"/>
            <a:ext cx="8686800" cy="598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69696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ffff"/>
                </a:solidFill>
                <a:latin typeface="Arial"/>
              </a:rPr>
              <a:t>Рынок государственных ценных бумаг является частью рынка ценных бумаг, поэтому законодательные нормы, регулирующие рынок ценных бумаг регулируют и рынок государственных ценных бумаг. Основными законодательными актами, которыми регулируется российский рынок ценных бумаг, являются: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ff"/>
                </a:solidFill>
                <a:latin typeface="Arial"/>
              </a:rPr>
              <a:t>Гражданский кодекс РФ, части </a:t>
            </a:r>
            <a:r>
              <a:rPr b="0" lang="en-US" sz="2000" spc="-1" strike="noStrike">
                <a:solidFill>
                  <a:srgbClr val="ff66ff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ff66ff"/>
                </a:solidFill>
                <a:latin typeface="Arial"/>
              </a:rPr>
              <a:t> и </a:t>
            </a:r>
            <a:r>
              <a:rPr b="0" lang="en-US" sz="2000" spc="-1" strike="noStrike">
                <a:solidFill>
                  <a:srgbClr val="ff66ff"/>
                </a:solidFill>
                <a:latin typeface="Arial"/>
              </a:rPr>
              <a:t>II</a:t>
            </a:r>
            <a:r>
              <a:rPr b="0" lang="ru-RU" sz="2000" spc="-1" strike="noStrike">
                <a:solidFill>
                  <a:srgbClr val="ff66ff"/>
                </a:solidFill>
                <a:latin typeface="Arial"/>
              </a:rPr>
              <a:t> (1995—1996 гг.);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ff"/>
                </a:solidFill>
                <a:latin typeface="Arial"/>
              </a:rPr>
              <a:t>Закон «О банках и банковской деятельности» (1990 г.);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ff"/>
                </a:solidFill>
                <a:latin typeface="Arial"/>
              </a:rPr>
              <a:t>Закон «О Центральном банке Российской Федерации» (1995 г.);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ff"/>
                </a:solidFill>
                <a:latin typeface="Arial"/>
              </a:rPr>
              <a:t>Закон «О приватизации государственных и муниципальных предприятий в РСФСР» (1991 г.);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ff"/>
                </a:solidFill>
                <a:latin typeface="Arial"/>
              </a:rPr>
              <a:t>Закон «О товарных биржах и биржевой торговле» (1992 г.);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ff"/>
                </a:solidFill>
                <a:latin typeface="Arial"/>
              </a:rPr>
              <a:t>Закон «О валютном регулировании и валютном контроле» (1992 г.);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ff"/>
                </a:solidFill>
                <a:latin typeface="Arial"/>
              </a:rPr>
              <a:t>Закон «О государственном внутреннем долге Российской Федерации» (1992 г.);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ff"/>
                </a:solidFill>
                <a:latin typeface="Arial"/>
              </a:rPr>
              <a:t>Закон об акционерных обществах (1996 г.)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ff"/>
                </a:solidFill>
                <a:latin typeface="Arial"/>
              </a:rPr>
              <a:t>Закон о рынке ценных бумаг (1996 г.);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ff"/>
                </a:solidFill>
                <a:latin typeface="Arial"/>
              </a:rPr>
              <a:t>Указы Президента по развитию рынка ценных бумаг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28600" y="981000"/>
            <a:ext cx="8686800" cy="52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69696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cccc00"/>
                </a:solidFill>
                <a:latin typeface="Arial"/>
              </a:rPr>
              <a:t>Минфин издает множество приказов для регулирования государственных ценных бумаг. Ниже представлены некоторые из них: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приказ Минфина РФ от 27.04.2002 № 37н "Об утверждении Условий эмиссии и обращения  облигаций"</a:t>
            </a: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приказ Минфина РФ от 15.06.2001 № 45н "Об утверждении условий эмиссии и обращения облигаций государственного сберегательного займа Российской Федерации"</a:t>
            </a: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приказ Минфина России от 21.09.2004 № 86н "Об утверждении Условий эмиссии и обращения облигаций государственных нерыночных займов"</a:t>
            </a: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0920" y="76464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00"/>
                </a:solidFill>
                <a:latin typeface="Arial Black"/>
              </a:rPr>
              <a:t>Еще один аспект рассматриваемого вопроса связан с разработкой и установлением ответственности за правонарушение в сфере выпуска и обращения государственных ценных бумаг.</a:t>
            </a:r>
            <a:br>
              <a:rPr sz="1800"/>
            </a:br>
            <a:r>
              <a:rPr b="0" lang="ru-RU" sz="1800" spc="-1" strike="noStrike">
                <a:solidFill>
                  <a:srgbClr val="ff9900"/>
                </a:solidFill>
                <a:latin typeface="Arial Black"/>
              </a:rPr>
              <a:t> В связи с</a:t>
            </a:r>
            <a:r>
              <a:rPr b="0" i="1" lang="ru-RU" sz="1800" spc="-1" strike="noStrike">
                <a:solidFill>
                  <a:srgbClr val="ff9900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ff9900"/>
                </a:solidFill>
                <a:latin typeface="Arial Black"/>
              </a:rPr>
              <a:t>этим можно выделить следующие категории субъектов нарушений и оснований ответственности:</a:t>
            </a:r>
            <a:br>
              <a:rPr sz="1800"/>
            </a:br>
            <a:endParaRPr b="0" lang="en-US" sz="18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920" y="198900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69696"/>
                </a:solidFill>
                <a:latin typeface="Arial"/>
              </a:rPr>
              <a:t>-   </a:t>
            </a:r>
            <a:r>
              <a:rPr b="0" lang="ru-RU" sz="2400" spc="-1" strike="noStrike">
                <a:solidFill>
                  <a:srgbClr val="ef3d39"/>
                </a:solidFill>
                <a:latin typeface="Arial"/>
              </a:rPr>
              <a:t>должностные лица эмитента ценных бумаг — в случаях нарушения условий выпуска и обращения, а также исполнения обязательств по ценной бумаге;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f3d39"/>
                </a:solidFill>
                <a:latin typeface="Arial"/>
              </a:rPr>
              <a:t>-   владельцы ценных бумаг - при нарушении условий обращения ценных бумаг (например, вывоз за пределы Российской Федерации ценных бумаг, запрещенных к перемещению за границу);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f3d39"/>
                </a:solidFill>
                <a:latin typeface="Arial"/>
              </a:rPr>
              <a:t>-   иные лица - при совершении противоправных деяний, препятствующих нормальному функционированию системы выпуска и обращения государственных ценных бумаг (например, уголовная ответственность физических лиц за подделку государственных ценных бумаг).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42472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Регулирование участия на рынке государственных ценных    бумаг может быть направлено на то,  чтобы ограничить  распространение рисков, которые принимают на себя маркетмейкеры, а также гарантировать, что дилеры и другие участники рынка имеют соответствующее финансовое  состояние для того,  чтобы покрыть потенциальные финансовые потери.</a:t>
            </a:r>
            <a:r>
              <a:rPr b="0" lang="ru-RU" sz="3600" spc="-1" strike="noStrike">
                <a:solidFill>
                  <a:srgbClr val="99eff1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79280" y="2421000"/>
            <a:ext cx="86868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69696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5ed755"/>
                </a:solidFill>
                <a:latin typeface="Arial"/>
              </a:rPr>
              <a:t>Положения о регулировании могут быть установлены  для  отслеживания  и  ограничения  следующих классов риска: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ff"/>
                </a:solidFill>
                <a:latin typeface="Arial"/>
              </a:rPr>
              <a:t>РЫНОЧНЫЙ РИСК -   риск потерь, проистекающих от колебания цен на рынке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ff"/>
                </a:solidFill>
                <a:latin typeface="Arial"/>
              </a:rPr>
              <a:t>РИСК ЛИКВИДНОСТИ -  риск того, что ценные бумаги не могут быть куплены и проданы быстро без существенных изменений в цене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ff"/>
                </a:solidFill>
                <a:latin typeface="Arial"/>
              </a:rPr>
              <a:t>КРЕДИТНЫЙ РИСК - риск потерь, проистекающий от неплатежеспособности контрагента,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ff"/>
                </a:solidFill>
                <a:latin typeface="Arial"/>
              </a:rPr>
              <a:t>БИЗНЕС-РИСК - риск потерь, проистекающих от неадекватных систем управления и контроля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228600" y="1341000"/>
            <a:ext cx="86868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69696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ccff"/>
                </a:solidFill>
                <a:latin typeface="Arial"/>
              </a:rPr>
              <a:t>Одной из главной причин выпуска государственных ценных бумаг является обслуживание государственного долга. Отказ от инфляционных методов финансирования дефицита бюджета обусловил развитие рынка государственных ценных бумаг в России и рост государственного долга.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228600" y="476280"/>
            <a:ext cx="8686800" cy="577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69696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e7ee86"/>
                </a:solidFill>
                <a:latin typeface="Arial"/>
              </a:rPr>
              <a:t>Государственный долг- это вся сумма задолженности по обязательствам государства, проценты по ней и неисполненные финансовые обязательства государства перед субъектами экономики.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69696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Для государства на федеральном и региональном уровнях возможно применение двух видов долговых обязательств: внутреннего или внешнего долга. Для муниципалитетов называется возможность применения только одного вида – внутреннего долга.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Критерием разграничения долговых обязательств на внутренние и внешние вступает валюта займа. Если деньги берутся взаймы у российских или иностранных субъектов в иностранной валюте, то возникают отношения внешнего долга. Если деньги берутся в валюте России, то возникают отношения внутреннего долга.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Arial Black"/>
              </a:rPr>
              <a:t>По структуре государственный долг РФ состоит из нескольких групп долговых обязательств:</a:t>
            </a:r>
            <a:endParaRPr b="0" lang="en-US" sz="2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6868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долженности Минфина перед ЦБ по кредитам на финансирование дефицита бюджета;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долженности, появившейся вследствие взятого на себя государством обязательства по восстановлению сбережений граждан; 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нешней задолженности бывшего СССР, принятой на себя РФ;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новь возникшая задолженность РФ перед иностранными государствами, международными организациями и фирмами (Парижскому клубу, Лондонскому клубу, Международному валютному фонду (МВФ) и Всемирному или Международному банку реконструкции и развития (ВБРР или МБРР)).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36" name="Рисунок 4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8209080" cy="28728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250920" y="907560"/>
            <a:ext cx="86868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69696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ccff"/>
                </a:solidFill>
                <a:latin typeface="Arial"/>
              </a:rPr>
              <a:t>В России понятие государственного внутреннего долга определяется в Законе РФ от 13.11.1992 г. № 3877-1 «О государственном внутреннем долге» и ст.817 Гражданского кодекса (ГК) РФ.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69696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ccff"/>
                </a:solidFill>
                <a:latin typeface="Arial"/>
              </a:rPr>
              <a:t>В настоящее время долг Российской Федерации в рыночной форме представлен облигациями государственных внешних заимствований (еврооблигациями) со сроками погашения с 2003 по 2030 год, а также облигациями внутреннего валютного займа со сроком погашения 2003 - 2011 годы. При этом выпуск еврооблигаций со сроками погашения до 2010 и до 2030 годов был связан с урегулированием задолженности бывшего СССР Лондонскому клубу кредиторов и коммерческой задолженности бывшего СССР, а ОВГВЗ - 3, 4, 5 и 8 серий - урегулированием внутреннего валютного долга бывшего СССР.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ccff"/>
                </a:solidFill>
                <a:latin typeface="Arial"/>
              </a:rPr>
              <a:t>Внешний долг состоит из долга Правительства РФ (долг международным организациям, бонды, кредиты по правительственной линии, коммерческие кредиты), долга бывшего СССР (бонды, кредиты по правительственной линии, коммерческие кредиты) и бондов Минфина РФ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99ff"/>
                </a:solidFill>
                <a:latin typeface="Arial"/>
              </a:rPr>
              <a:t>Государственные ценные бумаги – 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ff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99ff"/>
                </a:solidFill>
                <a:latin typeface="Arial"/>
              </a:rPr>
              <a:t>это бумаги, которые выпускаются 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ff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99ff"/>
                </a:solidFill>
                <a:latin typeface="Arial"/>
              </a:rPr>
              <a:t>и обеспечиваются государством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ff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99ff"/>
                </a:solidFill>
                <a:latin typeface="Arial"/>
              </a:rPr>
              <a:t>и используются для пополнения государственного бюджета. 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228600" y="981000"/>
            <a:ext cx="8686800" cy="52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69696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cc66ff"/>
                </a:solidFill>
                <a:latin typeface="Arial"/>
              </a:rPr>
              <a:t>Для федерального уровня долговых обязательств государства Бюджетный кодекс устанавливает верхний предел государственного внутреннего долга, верхний предел государственного внешнего долга и отдельно предел государственных внешних заимствований на очередной финансовый год. Указанные предельные показатели долговых обязательств устанавливаются для всех уровней бюджетной системы. На федеральном уровне конкретные  цифры предельных объемов государственного внутреннего  и внешнего долга, а также отдельно предельные показатели внешних заимствований устанавливаются федеральным законом о бюджете на очередной год, в котором показатели долговых обязательств подлежат конкретизации по формам обеспечения.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ccffff"/>
                </a:solidFill>
                <a:latin typeface="Arial"/>
              </a:rPr>
              <a:t>Оперативное управление государственным долгом осуществляет исполнительная власть (Министерство финансов РФ и Центральный банк РФ, если заемщиком выступает государство как суверен, и соответствующие органы субъекта РФ, если заемщиком является субъект РФ). 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4000" y="1413000"/>
            <a:ext cx="8820000" cy="41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9ee8"/>
                </a:solidFill>
                <a:latin typeface="Arial Black"/>
              </a:rPr>
              <a:t>Управление государственным долгом представляет собой комплекс мер, предпринимаемых государством в лице его уполномоченных органов по определению мест и условий размещения и погашения государственных займов, а также обеспечению гармонизации интересов заемщика, инвесторов и кредиторов.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989ee8"/>
                </a:solidFill>
                <a:latin typeface="Arial Black"/>
              </a:rPr>
              <a:t>Одним из широко распространенных методов управления государственным долгом является рефинансирование государственного долга, то есть погашение основной задолженности и процентов за счет средств, полученных от размещения новых займов.</a:t>
            </a:r>
            <a:endParaRPr b="0" lang="en-US" sz="2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907560"/>
            <a:ext cx="8686800" cy="534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69696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69696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eff1"/>
                </a:solidFill>
                <a:latin typeface="Arial Black"/>
              </a:rPr>
              <a:t>Проследим динамику внутреннего и внешнего долга в период с 1998 по 2006 гг.</a:t>
            </a:r>
            <a:endParaRPr b="0" lang="en-US" sz="2400" spc="-1" strike="noStrike">
              <a:solidFill>
                <a:srgbClr val="99eff1"/>
              </a:solidFill>
              <a:latin typeface="Arial Black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0" y="1916280"/>
          <a:ext cx="9144000" cy="3309840"/>
        </p:xfrm>
        <a:graphic>
          <a:graphicData uri="http://schemas.openxmlformats.org/drawingml/2006/table">
            <a:tbl>
              <a:tblPr/>
              <a:tblGrid>
                <a:gridCol w="912960"/>
                <a:gridCol w="915840"/>
                <a:gridCol w="914400"/>
                <a:gridCol w="915840"/>
                <a:gridCol w="912960"/>
                <a:gridCol w="912960"/>
                <a:gridCol w="915840"/>
                <a:gridCol w="914400"/>
                <a:gridCol w="915840"/>
                <a:gridCol w="912960"/>
              </a:tblGrid>
              <a:tr h="1303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год</a:t>
                      </a:r>
                      <a:endParaRPr b="0" lang="en-US" sz="28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1368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98</a:t>
                      </a:r>
                      <a:endParaRPr b="0" lang="en-US" sz="18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1368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99</a:t>
                      </a:r>
                      <a:endParaRPr b="0" lang="en-US" sz="18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1368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0</a:t>
                      </a:r>
                      <a:endParaRPr b="0" lang="en-US" sz="18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1368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1</a:t>
                      </a:r>
                      <a:endParaRPr b="0" lang="en-US" sz="18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1368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2</a:t>
                      </a:r>
                      <a:endParaRPr b="0" lang="en-US" sz="18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1368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3</a:t>
                      </a:r>
                      <a:endParaRPr b="0" lang="en-US" sz="18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1368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4</a:t>
                      </a:r>
                      <a:endParaRPr b="0" lang="en-US" sz="18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1368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5</a:t>
                      </a:r>
                      <a:endParaRPr b="0" lang="en-US" sz="18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1368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6 </a:t>
                      </a:r>
                      <a:endParaRPr b="0" lang="en-US" sz="18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прогноз)</a:t>
                      </a:r>
                      <a:endParaRPr b="0" lang="en-US" sz="18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13680">
                      <a:solidFill>
                        <a:srgbClr val="969696"/>
                      </a:solidFill>
                    </a:lnR>
                    <a:lnT w="1368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нутренний долг (млрд.руб.)</a:t>
                      </a:r>
                      <a:endParaRPr b="0" lang="en-US" sz="1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 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8,3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7,4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0,3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0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4,5 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62,1 (на 1.12)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88,4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43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1368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нешний долг (млрд.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1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1368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1,5 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1368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8,4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1368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5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1368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2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1368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,1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1368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,7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1368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4,1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1368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6,8 (на 1.10)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1368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9,2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1368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13680">
                      <a:solidFill>
                        <a:srgbClr val="96969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228600" y="981000"/>
            <a:ext cx="8686800" cy="52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69696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00ff"/>
                </a:solidFill>
                <a:latin typeface="Arial"/>
              </a:rPr>
              <a:t>Из таблицы видно, что государственный внутренний долг увеличивается, а внешний уменьшается. Но так как внешний долг исчисляется в миллиардах долларов, а не рублей, то внешний долг значительно преобладает над внутренним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00ff"/>
                </a:solidFill>
                <a:latin typeface="Arial"/>
              </a:rPr>
              <a:t>Многократное преобладание долга, номинированного в иностранной валюте, является серьезным фактором риска, ставящего управление долгом в жесткую зависимость от валютной политики и состояния платежного баланса, что предполагает необходимость постепенного замещения внешнего долга внутренним. При этом следует учитывать сохраняющиеся риски ограничения доступа на внешние рынки заимствований по независящим от Российской Федерации причинам.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00ff"/>
                </a:solidFill>
                <a:latin typeface="Arial"/>
              </a:rPr>
              <a:t>В этой связи приоритет при осуществлении государственных заимствований должен быть отдан в долгосрочном плане внутренним заимствованиям. Возможность этого создает постепенное выравнивание условий привлечения внутренних и внешних заимствований.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eff1"/>
                </a:solidFill>
                <a:latin typeface="Arial"/>
              </a:rPr>
              <a:t>Оценка изменения государственного внутреннего долга, выраженного в ценных бумагах в 2005-2010 гг.</a:t>
            </a:r>
            <a:endParaRPr b="0" lang="en-US" sz="2400" spc="-1" strike="noStrike">
              <a:solidFill>
                <a:srgbClr val="99eff1"/>
              </a:solidFill>
              <a:latin typeface="Arial Black"/>
            </a:endParaRPr>
          </a:p>
        </p:txBody>
      </p:sp>
      <p:graphicFrame>
        <p:nvGraphicFramePr>
          <p:cNvPr id="153" name="Объект 4"/>
          <p:cNvGraphicFramePr/>
          <p:nvPr/>
        </p:nvGraphicFramePr>
        <p:xfrm>
          <a:off x="0" y="990720"/>
          <a:ext cx="9144000" cy="5808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4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90720"/>
                    <a:ext cx="9144000" cy="580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228600" y="907560"/>
            <a:ext cx="8686800" cy="534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ffff"/>
                </a:solidFill>
                <a:latin typeface="Arial"/>
              </a:rPr>
              <a:t>Рассмотрим основные цели политики в области государственного внешнего долга на среднесрочную перспективу: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) обеспечение стабильного доступа Российской Федерации на рынки внешних заимствований на выгодных условиях;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) расширение объемов внешних заимствований на цели рефинансирования внешнего долга;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) активное управление внешней задолженностью с целью сокращения стоимости ее обслуживания, а также сглаживания имеющихся "пиков платежей" по государственному внешнему долгу в 2005 и 2008 годах;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4) существенное сокращение долга бывшего СССР, задолженности Российской Федерации перед правительствами иностранных государств и международными финансовыми организациями;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5) наращивание рыночной составляющей внешнего долга Российской Федерации;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6) проведение сбалансированной политики в области внешних заимствований с целью сохранения и дальнейшего улучшения платежной репутации России.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99"/>
                </a:solidFill>
                <a:latin typeface="Arial Black"/>
              </a:rPr>
              <a:t>Вывод: государственные ценные бумаги</a:t>
            </a:r>
            <a:endParaRPr b="0" lang="en-US" sz="32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1197000"/>
            <a:ext cx="868680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89ee8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989ee8"/>
                </a:solidFill>
                <a:latin typeface="Arial"/>
              </a:rPr>
              <a:t>являются самостоятельным видом ценных бумаг. Большинство из них имеют долговой характер.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89ee8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989ee8"/>
                </a:solidFill>
                <a:latin typeface="Arial"/>
              </a:rPr>
              <a:t>Государство, выпуская ценные бумаги, выступает в роли заемщика, принимает на себя обязанности по обслуживанию государственного долга, а владелец ценной бумаги приобретает право предъявить ее для погашения в установленном порядке. 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89ee8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989ee8"/>
                </a:solidFill>
                <a:latin typeface="Arial"/>
              </a:rPr>
              <a:t>Выпуск государственных ценных (облигаций) является формой государственного кредита.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228600" y="907920"/>
            <a:ext cx="86868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69696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09ff09"/>
                </a:solidFill>
                <a:latin typeface="Arial"/>
              </a:rPr>
              <a:t>В мире централизованный выпуск ценных бумаг  используется  в  качестве инструмента государственного регулирования экономики: как рычаг  воздействия на денежное обращение и управления  объемом  денежной  массы;  а  также  как средство  неэмиссионного  покрытия  дефицита  государственного  и   местного бюджетов, способ привлечения денежных средств предприятий  и  населения  для решения тех или иных конкретных задач. Накоплен богатый  опыт  моделирования и выпуска разнообразных финансовых гособязательств, отвечающих  потребностям и   запросам   различных   инвесторов   (потенциальных    вкладчиков)    в государственные ценные бумаги</a:t>
            </a:r>
            <a:r>
              <a:rPr b="1" lang="ru-RU" sz="2000" spc="-1" strike="noStrike">
                <a:solidFill>
                  <a:srgbClr val="66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ffff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69696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ccff33"/>
                </a:solidFill>
                <a:latin typeface="Arial"/>
              </a:rPr>
              <a:t>Важно, что политика развития регулирования рынка  государственных ценных бумаг должна осуществляться в рамках более общей задачи формирования и развития единого национального финансового рынка как эффективного механизма аккумулирования и перераспределения денежных ресурсов в рыночной экономике.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6868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bed43"/>
                </a:solidFill>
                <a:latin typeface="Arial Black"/>
              </a:rPr>
              <a:t>Различают следующие виды государственных ценных бумаг:</a:t>
            </a:r>
            <a:endParaRPr b="0" lang="en-US" sz="36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99ff"/>
                </a:solidFill>
                <a:latin typeface="Arial"/>
              </a:rPr>
              <a:t>1. наличные и безналичные;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99ff"/>
                </a:solidFill>
                <a:latin typeface="Arial"/>
              </a:rPr>
              <a:t>2. документарные и бездокументарные;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99ff"/>
                </a:solidFill>
                <a:latin typeface="Arial"/>
              </a:rPr>
              <a:t>3. гарантированные и доходные;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99ff"/>
                </a:solidFill>
                <a:latin typeface="Arial"/>
              </a:rPr>
              <a:t>4. рыночные и нерыночные (в зависимости от того, обращаются ли они на свободном  рынке  (первичном  и вторичном) или не  входят  во  вторичное  обращение  на  биржах  и  свободно возвращаются  эмитенту  до  истечения  срока  их  действия);  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99ff"/>
                </a:solidFill>
                <a:latin typeface="Arial"/>
              </a:rPr>
              <a:t>5. именные и на предъявителя. 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f5f52b"/>
                </a:solidFill>
                <a:latin typeface="Arial Black"/>
              </a:rPr>
              <a:t>Государственные ценные бумаги могут выполнять такие функции, как:</a:t>
            </a:r>
            <a:endParaRPr b="0" lang="en-US" sz="36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27082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7c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7c80"/>
                </a:solidFill>
                <a:latin typeface="Arial"/>
              </a:rPr>
              <a:t>налоговое освобождение; 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7c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7c80"/>
                </a:solidFill>
                <a:latin typeface="Arial"/>
              </a:rPr>
              <a:t>обслуживание государственного долга; 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7c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7c80"/>
                </a:solidFill>
                <a:latin typeface="Arial"/>
              </a:rPr>
              <a:t>финансирование непредвиденных государственных расходов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686800" cy="13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ff"/>
                </a:solidFill>
                <a:latin typeface="Arial Black"/>
              </a:rPr>
              <a:t>В 1998 году основные федеральные долговые обязательства были представлены следующими бумагами:</a:t>
            </a:r>
            <a:endParaRPr b="0" lang="en-US" sz="28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484280"/>
            <a:ext cx="868680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ff"/>
                </a:solidFill>
                <a:latin typeface="Arial"/>
              </a:rPr>
              <a:t>А) Государственными долгосрочными облигациями (ГДО).                                               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ff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9966ff"/>
                </a:solidFill>
                <a:latin typeface="Arial"/>
              </a:rPr>
              <a:t>Выпущены в 1991 году со сроком обращения 30 лет. Объем займа – 80 млрд. рублей. Номинал облигации – 100 тыс. рублей. Выпускаются в бланковом виде с набором купонов. Купонный доход – 15% от номинала, выплачивается один раз в год – 1 июля.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ff"/>
                </a:solidFill>
                <a:latin typeface="Arial"/>
              </a:rPr>
              <a:t>Б) Государственными краткосрочными облигациями (ГКО).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ff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9966ff"/>
                </a:solidFill>
                <a:latin typeface="Arial"/>
              </a:rPr>
              <a:t>Срок обращения – 3,6 и 12 месяцев. Выпускаются на безбумажной основе в виде записей на счетах «депо». Номинал – 1 млн. рублей. Распространяются на аукционах с дисконтом от номинала.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861372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ff"/>
                </a:solidFill>
                <a:latin typeface="Arial Black"/>
              </a:rPr>
              <a:t>В 1998 году основные федеральные долговые обязательства были представлены следующими бумагами:</a:t>
            </a:r>
            <a:endParaRPr b="0" lang="en-US" sz="28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484280"/>
            <a:ext cx="868680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В)Облигациями федеральных займов с переменным купонным доходом (ОФЗ-ПК) и постоянным купонным доходом (ОФЗ-ПК).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Относятся к среднесрочным государственным ценным бумагам. Срок их обращения от 1 года до 5 лет. Выпускаются на безбумажной основе в виде записи на счетах «депо». Номинал – 1млн. рублей.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Г) Облигациями государственного сберегательного займа (ОГСЗ)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Срок обращения – 1 год. Объем выпуска – 10 трлн. рублей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Номинал – 100 и 500 тыс. рублей. Выпускаются в бланковом виде на предъявителя с набором из 4 купонов, выплачиваемых ежеквартально. Размер купона определяется по последней официально объявленной ставке купонного дохода по ОФЗ-ПК плюс премия, определяемая Минфином РФ. Предназначены для населения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ff"/>
                </a:solidFill>
                <a:latin typeface="Arial Black"/>
              </a:rPr>
              <a:t>В 1998 году основные федеральные долговые обязательства были представлены следующими бумагами:</a:t>
            </a:r>
            <a:endParaRPr b="0" lang="en-US" sz="28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Д)Облигациями внутреннего государственного валютного займа (ОВГВЗ)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Выпущены в 1993 году. Валюта займа – доллары США. Номиналы – 1, 10, 100 тыс. долларов США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Е)Облигациями государственного нерыночного займа (ОГНЗ)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Выпускаются в бездокументарной форме. Объем выпуска в 1996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году – 15 трлн. рублей. Номинал – 1 млн. рублей. Предназначены   для   страховых компаний, пенсионных и внебюджетных фондов.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Ж) Государственными жилищными сертификатами (ГЖС)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Являются документарными именными не обращаемыми ценными бумагами. Эмитируются по решению Правительства РФ для граждан РФ, лишившихся жилья в результате чрезвычайных ситуаций и стихийных бедствий. Номинированы в квадратных метрах жилой площади. Срок предъявления к погашению – 1 год с момента выдачи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228600" y="1052640"/>
            <a:ext cx="86868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69696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Государственные ценные бумаги эмитируются как центральным правительством, так и местными органами власти. Эмитентом вышеперечисленных государственных ценных бумаг является Министерство финансов РФ. Погашает эти ценные бумаги также Минфин РФ</a:t>
            </a:r>
            <a:r>
              <a:rPr b="0" lang="ru-RU" sz="32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Эмитентом может выступать и ЦБ РФ, соответственно различают облигации банка России (ОБР) - инструменты денежно-кредитной политики, выпускаемые ЦБ РФ с сентября 1998 г. Обслуживание и погашение выпусков осуществляет ЦБ РФ.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920" y="69228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ff66"/>
                </a:solidFill>
                <a:latin typeface="Arial Black"/>
              </a:rPr>
              <a:t>Рынок государственных ценных бумаг подвергается жесткому контролю и регулированию со стороны органов как законодательной, так и исполнительной власти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99eff1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ec9ed9"/>
                </a:solidFill>
                <a:latin typeface="Arial Black"/>
              </a:rPr>
              <a:t>Методами подобного регулирования являются:</a:t>
            </a:r>
            <a:endParaRPr b="0" lang="en-US" sz="2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2349000"/>
            <a:ext cx="8686800" cy="38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разработка и принятие законодательных мер; 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наделение полномочиями существующих и создание новых структур регулирования; 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использование методов налогового воздействия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6T16:28:52Z</dcterms:created>
  <dc:creator>Танюшка</dc:creator>
  <dc:description/>
  <dc:language>en-US</dc:language>
  <cp:lastModifiedBy>LEGION</cp:lastModifiedBy>
  <dcterms:modified xsi:type="dcterms:W3CDTF">2014-11-10T12:17:26Z</dcterms:modified>
  <cp:revision>4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171049</vt:lpwstr>
  </property>
</Properties>
</file>