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9D65-0FC8-4459-B641-1F54D1FF18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e92611"/>
                </a:solidFill>
                <a:latin typeface="Arial"/>
              </a:rPr>
              <a:t>Регулирование рынка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72D3-B798-4C59-B8B4-DDC5CAF2F810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A8EF-914E-4EFA-94F0-957C23EB023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B23F-A664-4167-82FA-DDE4974CF5A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F627-2EF0-49AB-864F-4E332DF6B835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10F8-2E44-430E-B8E0-F742847E0C6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000"/>
            </a:b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 В связи с</a:t>
            </a:r>
            <a:r>
              <a:rPr b="0" i="1" lang="ru-RU" sz="1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7FFE-97F7-4B3E-BB3C-B2B3D0985EF0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700D-2B8D-4076-A290-F220BA28B2C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8901-188A-426A-9DB5-4B55CBAF3C7F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8197-5205-41FE-B1C6-699CD5832B1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Arial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0443-88E3-4289-8C0B-94246CC70E0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2F9D-9921-46EE-ABC6-06E3E3A9FFF1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7251-D200-413F-B93B-C91D17966B0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791C-A5EB-43EB-8876-325E5716FF56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C718-441B-4A45-B3F4-B272F36C713F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9FC1-7CD3-4CA8-8457-0C81CA9DAAA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едим динамику внутреннего и внешнего долга в период с 1998 по 2006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FFB0-02C0-475F-9B81-AFC7D756AAE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F3BE-1F4C-41D6-A615-E9F727457C0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7F52-3039-47AF-9BD3-0A3387ECB50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09B0-73A2-48A5-A78C-0F63F505BA2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99"/>
                </a:solidFill>
                <a:latin typeface="Arial"/>
              </a:rPr>
              <a:t>Вывод: государственные ценные бум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E77D-A7DC-49A9-B4F1-CEFBE1212CD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E690-4BD6-412B-A1F3-37B6F7D4308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bed43"/>
                </a:solidFill>
                <a:latin typeface="Arial"/>
              </a:rPr>
              <a:t>Различают следующие виды государственных ценных бум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4BD3-E7B5-4E43-898E-A6C88A8B5AE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5f52b"/>
                </a:solidFill>
                <a:latin typeface="Arial"/>
              </a:rPr>
              <a:t>Государственные ценные бумаги могут выполнять такие функции, к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33DC-1F5E-4896-84BB-6D1B87A5C09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15B2-B64F-46E0-8CD3-9552E1377E6F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FC42-DBE8-4572-A314-11EE8BD32D8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35DF-72B9-4C9D-91E2-886F7835B83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FAD6-3D15-4130-B1DE-FE49104BC81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66"/>
                </a:solidFill>
                <a:latin typeface="Arial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c9ed9"/>
                </a:solidFill>
                <a:latin typeface="Arial"/>
              </a:rPr>
              <a:t>Методами подобного регулирования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5D4B-B0DD-4B20-9535-81D4581405E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26A-53AA-44BA-BEEE-B32A833A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B5C-7207-4DB0-B993-E88DDA2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669-A03A-4B25-BFF0-D21DA5E3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BC4-D8B3-448A-9B00-00BB7F23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6C0A-5D59-4349-AD06-B1857A66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2EDA-A8D5-4FA5-8260-97FF826F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F22A-FFF5-4302-A536-E74162B0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6BA5-2B10-408B-91FE-764D8533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ACD7-DF36-4DCB-B26B-2C095FB2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6EDF-9CF1-4EEB-A0B5-2AB4DDEC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5BF6-182A-47AC-A15C-B495E635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3D3-872D-408F-80F7-354470F2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90BB-BE7A-4C44-81A6-0FD422B7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0231-25FE-410B-93E6-52778640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53EA-AA27-42F3-836D-6E80052D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2BF1-ADBD-4AD2-AB08-C5898B53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5B80-D3C0-4CC5-87FC-AE39291B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923-A289-4A38-9AEE-A5AFCB3F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BBE-0BCF-45A9-AC7B-78E9937C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729-1B03-4891-AD3A-2F03C942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926-F7A0-4002-90C7-96B978FD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442-0296-4F32-938B-0E64ECA4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C84-B970-48EB-8706-A12AC520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74B-844C-4EFC-AB57-969B0DFE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AC98-095E-4E4A-B466-3E6583E6C4C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AB66-C397-4E05-8028-DC947F63EF5C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e92611"/>
                </a:solidFill>
                <a:latin typeface="Arial Black"/>
              </a:rPr>
              <a:t>Регулирование рынка государственных ценных бумаг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095880"/>
            <a:ext cx="289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7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3924360" y="0"/>
            <a:ext cx="1942920" cy="112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260280"/>
            <a:ext cx="868680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 В связи с</a:t>
            </a:r>
            <a:r>
              <a:rPr b="0" i="1" lang="ru-RU" sz="1800" spc="-1" strike="noStrike">
                <a:solidFill>
                  <a:srgbClr val="ff99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800"/>
            </a:b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-   </a:t>
            </a: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476280"/>
            <a:ext cx="8686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2872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686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Проследим динамику внутреннего и внешнего долга в период с 1998 по 2006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916280"/>
          <a:ext cx="9144000" cy="3309840"/>
        </p:xfrm>
        <a:graphic>
          <a:graphicData uri="http://schemas.openxmlformats.org/drawingml/2006/table">
            <a:tbl>
              <a:tblPr/>
              <a:tblGrid>
                <a:gridCol w="912960"/>
                <a:gridCol w="915840"/>
                <a:gridCol w="914400"/>
                <a:gridCol w="915840"/>
                <a:gridCol w="912960"/>
                <a:gridCol w="912960"/>
                <a:gridCol w="915840"/>
                <a:gridCol w="914400"/>
                <a:gridCol w="915840"/>
                <a:gridCol w="912960"/>
              </a:tblGrid>
              <a:tr h="13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 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прогноз)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утренний долг (млрд.руб.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8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7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4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2,1 (на 1.12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ешний долг (млрд.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7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 (на 1.10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,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eff1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53" name="Объект 4"/>
          <p:cNvGraphicFramePr/>
          <p:nvPr/>
        </p:nvGraphicFramePr>
        <p:xfrm>
          <a:off x="0" y="990720"/>
          <a:ext cx="9144000" cy="58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 Black"/>
              </a:rPr>
              <a:t>Вывод: государственные ценные бумаги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bed43"/>
                </a:solidFill>
                <a:latin typeface="Arial Black"/>
              </a:rPr>
              <a:t>Различают следующие виды государственных ценных бумаг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5f52b"/>
                </a:solidFill>
                <a:latin typeface="Arial Black"/>
              </a:rPr>
              <a:t>Государственные ценные бумаги могут выполнять такие функции, как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137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66"/>
                </a:solidFill>
                <a:latin typeface="Arial Black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ec9ed9"/>
                </a:solidFill>
                <a:latin typeface="Arial Black"/>
              </a:rPr>
              <a:t>Методами подобного регулирования являются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349000"/>
            <a:ext cx="86868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16:28:52Z</dcterms:created>
  <dc:creator>Танюшка</dc:creator>
  <dc:description/>
  <dc:language>en-US</dc:language>
  <cp:lastModifiedBy>LEGION</cp:lastModifiedBy>
  <dcterms:modified xsi:type="dcterms:W3CDTF">2014-11-10T12:17:26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