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7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146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77040" y="-360"/>
            <a:ext cx="1380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67160"/>
            <a:ext cx="210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379920" y="8842320"/>
            <a:ext cx="47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 u="sng">
                <a:solidFill>
                  <a:srgbClr val="000000"/>
                </a:solidFill>
                <a:uFillTx/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DD44-F858-45BD-A28E-50D1BB532332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D586-06AE-49FF-A114-BDEAFC187FD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10303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</a:rPr>
              <a:t>С Е М И Н А 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МОДЕЛИ ОБУЧ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НА БАЗЕ УЧЕБНО-МЕТОДИЧЕСКОГО КОМПЛЕКТА «ИНФОРМАТИКА и ИК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(БАЗОВЫЙ УРОВЕНЬ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9DCA-5DC0-4BFF-A7B3-AABBF937097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995E-B27D-4E0E-8E91-2A1EF8D9099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6AE-CB0E-42FC-8A30-B3FB2912F96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6063-EB98-4FB1-9428-F21A56C6C05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8FD4-ECFE-4D50-92BC-F69EBB04DC0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Успешно справиться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26C8-8805-41EF-AA4A-19EA2D9AE6E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Модернизация програм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и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BC8D-7702-4F03-A67F-CC709A4EA10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а непрерывного обучен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 дисциплине «Информатика и 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677-BDC8-47DC-ACE5-B2689B4C024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сновные цели об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BDB8-1605-4BE5-B354-138542E4436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69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ебно-методический компл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Теория. 7-9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808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0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1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31CA-2DAB-4848-A664-D356B505BAC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D9B3-CCA1-46AB-AA79-81CA4AF940A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040" y="4338360"/>
            <a:ext cx="1630440" cy="54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семин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рнизация программы и 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ли темат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основной шко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старшей школе – базовый урове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УЧЕБНО-МЕТОДИЧЕСКИЙ </a:t>
            </a:r>
            <a:br>
              <a:rPr sz="1200"/>
            </a:b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КОМПЛ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5DBF-AB27-4966-A4D1-6B789C7BE8F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тематиче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план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E0FE-3096-4826-B007-C858E0C6C72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F9F0-5EE1-40DD-B53D-4AA7806C2F3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чальный уровень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481-121B-4838-A2DB-72F89176EF0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B697-3C4B-4280-8FB6-E60CD1C041D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2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я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, современное состояние и перспективы компьютерной техн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4072-AFBC-4F93-9E88-B9AC14753E9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7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7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Практик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истемной среды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абличн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8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 в среде Л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2C49-2462-4D49-8F17-92E372E4E8A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4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Требования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разовательного стандарта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"Информатика и ИКТ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для среднего (полно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2A24-6967-4338-8451-9B688F35916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6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ccff"/>
                </a:solidFill>
                <a:latin typeface="Times New Roman"/>
              </a:rPr>
              <a:t>(базовый уровень)</a:t>
            </a:r>
            <a:br>
              <a:rPr sz="1200"/>
            </a:b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электро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модел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35FE-1302-47B2-8568-825E0E24422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тодические пособ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уч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F17C-2ACA-4183-84ED-1B683C3B67C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38F2-1A55-47E6-93B6-9DAA336B3AC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571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е об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родолжени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сновы процесс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системе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моде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программных средах: графическом редакторе, текстовом процессоре,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классификации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6871-960C-4BAF-BEEE-464E5533802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80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програм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личн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ая характеристика прикладной сред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глобальной сет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0FA3-E28E-47EA-AB3F-E5DD3403A982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2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о пам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а ввода и вывода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микропроцессо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ирование информации в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ное обеспечение работы компьютерных с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6C46-62B4-4F7E-93E9-304606809E5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9937-2721-486D-9FCA-3452B98DF17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C1F4-5AC2-4792-BF03-4A95FD325C7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9F7-6B51-4A77-9B14-3DC0B4AD536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1450-972C-4C95-A3A4-3C542309665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06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14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2A41-1565-4AAE-94B5-D66FB7FE9F8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CA56-595B-46A5-8167-0E09E9F8675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мпьютерное делопроизвод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ый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-12) – теоретические знания по основам дело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ой 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3-18) – практическое руководство по делопроизводству в электронном офи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A952-1FFD-48E1-9D97-4504043BF87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одел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2A59-E679-48F3-8849-0225F052E0B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Макарова Наталья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(812) 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571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-60-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40A4-DC8B-4B50-A205-3605D8F03CA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3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8F41-6BD6-43CA-AD96-0D396F1621B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1426-EDD0-451A-BD7D-CCB32F58F83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C79A-D3B2-4CF7-A557-D530CB55AF3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нализ заданий ЕГЭ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оответствие требованиям стандар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 данным за 2004, 2005 год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1FC6-5344-41AD-9617-50A9C03622D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BA5-549A-4D3F-AB15-54D7CB0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754-0A2F-44B4-883D-1BB325EE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9CE-6E05-4A38-B427-95EBDB59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D73-C166-4153-875B-139DD0F5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BAB-3425-46C8-921A-F6C9F91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73D-30AC-493B-A680-1A008862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E2A-7F52-4C7B-B534-29081EB0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00C-68B0-4DBC-B507-58E9635F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ADF-7DC1-4A98-963A-D5CCF942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283-0883-4329-82E9-84E5229F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47C-2D88-4612-9BB7-8D89A5C6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3ED-CDC7-4833-9C63-6F3C1F15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4B41-FEC2-49E7-B195-DE24DD3DF04B}" type="slidenum"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4.xml"/><Relationship Id="rId7" Type="http://schemas.openxmlformats.org/officeDocument/2006/relationships/image" Target="../media/image11.png"/><Relationship Id="rId8" Type="http://schemas.openxmlformats.org/officeDocument/2006/relationships/slide" Target="slide5.xml"/><Relationship Id="rId9" Type="http://schemas.openxmlformats.org/officeDocument/2006/relationships/image" Target="../media/image12.png"/><Relationship Id="rId10" Type="http://schemas.openxmlformats.org/officeDocument/2006/relationships/slide" Target="slide6.xml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03120"/>
            <a:ext cx="9144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 Е М И Н А 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ДЕЛИ ОБУЧЕНИЯ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НА БАЗЕ УЧЕБНО-МЕТОДИЧЕСКОГО КОМПЛЕКТА «ИНФОРМАТИКА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(БАЗОВЫЙ УРОВЕНЬ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4564080"/>
            <a:ext cx="86040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7160"/>
            <a:ext cx="8915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4205160"/>
            <a:ext cx="91440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дущие:</a:t>
            </a:r>
            <a:br>
              <a:rPr sz="24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талья  Владимировна   Макарова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- руководитель авторского коллектива </a:t>
            </a: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офессор, доктор педагогических наук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лияна   Францевн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ва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-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член авторского коллектива    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 доцент,   кандидат педагогических наук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Object 1027"/>
          <p:cNvGraphicFramePr/>
          <p:nvPr/>
        </p:nvGraphicFramePr>
        <p:xfrm>
          <a:off x="-1828800" y="993600"/>
          <a:ext cx="9043920" cy="522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993600"/>
                    <a:ext cx="9043920" cy="52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Object 0"/>
          <p:cNvGraphicFramePr/>
          <p:nvPr/>
        </p:nvGraphicFramePr>
        <p:xfrm>
          <a:off x="20520" y="1135080"/>
          <a:ext cx="512784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135080"/>
                    <a:ext cx="512784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240" y="1192320"/>
          <a:ext cx="554040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92320"/>
                    <a:ext cx="55404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1027"/>
          <p:cNvGraphicFramePr/>
          <p:nvPr/>
        </p:nvGraphicFramePr>
        <p:xfrm>
          <a:off x="-390600" y="1227240"/>
          <a:ext cx="6059520" cy="58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0600" y="1227240"/>
                    <a:ext cx="6059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о справить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14400" y="1828800"/>
            <a:ext cx="7467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рнизация программы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и учебно-методического комплект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а непрерывного обучения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 дисциплине «Информатика и И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picture"/>
          <p:cNvPicPr/>
          <p:nvPr/>
        </p:nvPicPr>
        <p:blipFill>
          <a:blip r:embed="rId1"/>
          <a:stretch/>
        </p:blipFill>
        <p:spPr>
          <a:xfrm>
            <a:off x="2438280" y="2209680"/>
            <a:ext cx="3657600" cy="4496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ые ц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19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 шк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которой определяют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90720" y="129528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базовых знаний, отражающих вклад информатики в формирование        современной научной картины мира, роль информационных процессов в обществе и различных системах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и умения целенаправленной работы с информацией на основе системного подхода к анализу структуры объектов, создания и исследования информационных моделей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я применять, анализировать, преобразовывать информационные модели реальных объектов и процессов на базе современных информационно-коммуникационных  технологий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4114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огического мышления, творческого и познавательного потенциала школьника, его коммуникативных способностей на базе современного компьютерного инструментария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опыта использования информационных технологий в индивидуальной и коллективной, в том числе проектной деятельности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чебно-методический компле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685440"/>
            <a:ext cx="9448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СНОВНАЯ ШКО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Теория. 7-9 клас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РШАЯ ШКОЛА –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0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1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57200" y="3276720"/>
            <a:ext cx="0" cy="1447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57200" y="4724280"/>
            <a:ext cx="12952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57200" y="3276720"/>
            <a:ext cx="1522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2057400" y="228600"/>
            <a:ext cx="5029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держание семинара</a:t>
            </a:r>
            <a:endParaRPr b="1" lang="en-US" sz="3200" spc="1" strike="noStrike">
              <a:ln w="936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9907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рнизация программы и  учебно-методического комплек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ли тематического планирования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4572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основной школе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старшей школе – базовый уровень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Методика 9 класс-1"/>
          <p:cNvPicPr/>
          <p:nvPr/>
        </p:nvPicPr>
        <p:blipFill>
          <a:blip r:embed="rId1"/>
          <a:stretch/>
        </p:blipFill>
        <p:spPr>
          <a:xfrm>
            <a:off x="7238880" y="3886200"/>
            <a:ext cx="173988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Методика 8 класс-1"/>
          <p:cNvPicPr/>
          <p:nvPr/>
        </p:nvPicPr>
        <p:blipFill>
          <a:blip r:embed="rId2"/>
          <a:stretch/>
        </p:blipFill>
        <p:spPr>
          <a:xfrm>
            <a:off x="6934320" y="1981080"/>
            <a:ext cx="1643040" cy="2471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ЧЕБНО-МЕТОДИЧЕСКИ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МПЛЕК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914400"/>
            <a:ext cx="624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  <a:hlinkClick r:id="rId3" action="ppaction://hlinksldjump"/>
              </a:rPr>
              <a:t>ИНФОРМАТИКА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Rab-tetr5"/>
          <p:cNvPicPr/>
          <p:nvPr/>
        </p:nvPicPr>
        <p:blipFill>
          <a:blip r:embed="rId4"/>
          <a:stretch/>
        </p:blipFill>
        <p:spPr>
          <a:xfrm>
            <a:off x="2154240" y="176688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ab-tetr6"/>
          <p:cNvPicPr/>
          <p:nvPr/>
        </p:nvPicPr>
        <p:blipFill>
          <a:blip r:embed="rId5"/>
          <a:stretch/>
        </p:blipFill>
        <p:spPr>
          <a:xfrm>
            <a:off x="4130640" y="176688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7-9teor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267080"/>
            <a:ext cx="1747800" cy="229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aktikum7-9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438280" y="4267080"/>
            <a:ext cx="1754280" cy="22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Zadachnik7-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4267080"/>
            <a:ext cx="1739880" cy="226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ach-kurs5-6"/>
          <p:cNvPicPr/>
          <p:nvPr/>
        </p:nvPicPr>
        <p:blipFill>
          <a:blip r:embed="rId12"/>
          <a:stretch/>
        </p:blipFill>
        <p:spPr>
          <a:xfrm>
            <a:off x="182520" y="1725480"/>
            <a:ext cx="1730520" cy="225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Методика 7 класс-1"/>
          <p:cNvPicPr/>
          <p:nvPr/>
        </p:nvPicPr>
        <p:blipFill>
          <a:blip r:embed="rId13"/>
          <a:stretch/>
        </p:blipFill>
        <p:spPr>
          <a:xfrm>
            <a:off x="7315200" y="228600"/>
            <a:ext cx="1654200" cy="23414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2887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3" descr="10-11"/>
          <p:cNvPicPr/>
          <p:nvPr/>
        </p:nvPicPr>
        <p:blipFill>
          <a:blip r:embed="rId1"/>
          <a:stretch/>
        </p:blipFill>
        <p:spPr>
          <a:xfrm>
            <a:off x="533520" y="2209680"/>
            <a:ext cx="1800000" cy="2384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438280" y="2895480"/>
            <a:ext cx="1578240" cy="936720"/>
          </a:xfrm>
          <a:prstGeom prst="rightArrow">
            <a:avLst>
              <a:gd name="adj1" fmla="val 50000"/>
              <a:gd name="adj2" fmla="val 4212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90920" y="38098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05-2006 г.г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0" descr="Практикум программ-10-11"/>
          <p:cNvPicPr/>
          <p:nvPr/>
        </p:nvPicPr>
        <p:blipFill>
          <a:blip r:embed="rId2"/>
          <a:stretch/>
        </p:blipFill>
        <p:spPr>
          <a:xfrm>
            <a:off x="5334120" y="182880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10 кл-обложка-2"/>
          <p:cNvPicPr/>
          <p:nvPr/>
        </p:nvPicPr>
        <p:blipFill>
          <a:blip r:embed="rId3"/>
          <a:stretch/>
        </p:blipFill>
        <p:spPr>
          <a:xfrm>
            <a:off x="4648320" y="838080"/>
            <a:ext cx="2017440" cy="26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11-2"/>
          <p:cNvPicPr/>
          <p:nvPr/>
        </p:nvPicPr>
        <p:blipFill>
          <a:blip r:embed="rId4"/>
          <a:stretch/>
        </p:blipFill>
        <p:spPr>
          <a:xfrm>
            <a:off x="4724280" y="3809880"/>
            <a:ext cx="194940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3124080" y="1447920"/>
            <a:ext cx="2971800" cy="49528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тектура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о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иферийные устройств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027"/>
          <p:cNvSpPr/>
          <p:nvPr/>
        </p:nvSpPr>
        <p:spPr>
          <a:xfrm>
            <a:off x="0" y="1447920"/>
            <a:ext cx="3048120" cy="5105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А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й процесс                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ая 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28"/>
          <p:cNvSpPr/>
          <p:nvPr/>
        </p:nvSpPr>
        <p:spPr>
          <a:xfrm>
            <a:off x="6134040" y="1447920"/>
            <a:ext cx="3009960" cy="4957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йл, папк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ментарий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лад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доку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дак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029"/>
          <p:cNvSpPr/>
          <p:nvPr/>
        </p:nvSpPr>
        <p:spPr>
          <a:xfrm>
            <a:off x="457200" y="228600"/>
            <a:ext cx="8458200" cy="609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ТИКА и  ИК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1030"/>
          <p:cNvGrpSpPr/>
          <p:nvPr/>
        </p:nvGrpSpPr>
        <p:grpSpPr>
          <a:xfrm>
            <a:off x="1219320" y="838080"/>
            <a:ext cx="6994440" cy="614160"/>
            <a:chOff x="1219320" y="838080"/>
            <a:chExt cx="6994440" cy="614160"/>
          </a:xfrm>
        </p:grpSpPr>
        <p:sp>
          <p:nvSpPr>
            <p:cNvPr id="149" name="Line 1031"/>
            <p:cNvSpPr/>
            <p:nvPr/>
          </p:nvSpPr>
          <p:spPr>
            <a:xfrm>
              <a:off x="1219320" y="1150200"/>
              <a:ext cx="699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032"/>
            <p:cNvSpPr/>
            <p:nvPr/>
          </p:nvSpPr>
          <p:spPr>
            <a:xfrm>
              <a:off x="44946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1033"/>
            <p:cNvSpPr/>
            <p:nvPr/>
          </p:nvSpPr>
          <p:spPr>
            <a:xfrm>
              <a:off x="122868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1034"/>
            <p:cNvSpPr/>
            <p:nvPr/>
          </p:nvSpPr>
          <p:spPr>
            <a:xfrm>
              <a:off x="82044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1035"/>
            <p:cNvSpPr/>
            <p:nvPr/>
          </p:nvSpPr>
          <p:spPr>
            <a:xfrm>
              <a:off x="4494600" y="83808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Text Box 1036"/>
          <p:cNvSpPr/>
          <p:nvPr/>
        </p:nvSpPr>
        <p:spPr>
          <a:xfrm>
            <a:off x="5321160" y="57625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037"/>
          <p:cNvSpPr/>
          <p:nvPr/>
        </p:nvSpPr>
        <p:spPr>
          <a:xfrm>
            <a:off x="6477120" y="289548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038"/>
          <p:cNvSpPr/>
          <p:nvPr/>
        </p:nvSpPr>
        <p:spPr>
          <a:xfrm>
            <a:off x="222120" y="281952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1039"/>
          <p:cNvSpPr/>
          <p:nvPr/>
        </p:nvSpPr>
        <p:spPr>
          <a:xfrm>
            <a:off x="3352680" y="285264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1295280" y="182880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ли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ематического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планирования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762120" y="18288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Начальный уровень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Rab-tetr5"/>
          <p:cNvPicPr/>
          <p:nvPr/>
        </p:nvPicPr>
        <p:blipFill>
          <a:blip r:embed="rId1"/>
          <a:stretch/>
        </p:blipFill>
        <p:spPr>
          <a:xfrm rot="19123800">
            <a:off x="533160" y="434304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Rab-tetr6"/>
          <p:cNvPicPr/>
          <p:nvPr/>
        </p:nvPicPr>
        <p:blipFill>
          <a:blip r:embed="rId2"/>
          <a:stretch/>
        </p:blipFill>
        <p:spPr>
          <a:xfrm rot="1770600">
            <a:off x="2895120" y="434304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ach-kurs5-6"/>
          <p:cNvPicPr/>
          <p:nvPr/>
        </p:nvPicPr>
        <p:blipFill>
          <a:blip r:embed="rId3"/>
          <a:stretch/>
        </p:blipFill>
        <p:spPr>
          <a:xfrm>
            <a:off x="6553080" y="4267080"/>
            <a:ext cx="1730520" cy="22528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9144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</a:t>
            </a:r>
            <a:endParaRPr b="1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33520" y="1219320"/>
            <a:ext cx="754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начальный уровень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828800"/>
          <a:ext cx="8382240" cy="1757520"/>
        </p:xfrm>
        <a:graphic>
          <a:graphicData uri="http://schemas.openxmlformats.org/drawingml/2006/table">
            <a:tbl>
              <a:tblPr/>
              <a:tblGrid>
                <a:gridCol w="1909800"/>
                <a:gridCol w="6472440"/>
              </a:tblGrid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мся работать на компьютер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графи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программирования ЛогоМир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WordArt 24"/>
          <p:cNvSpPr txBox="1"/>
          <p:nvPr/>
        </p:nvSpPr>
        <p:spPr>
          <a:xfrm>
            <a:off x="838080" y="3733920"/>
            <a:ext cx="4267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бочие тетради</a:t>
            </a:r>
            <a:endParaRPr b="1" lang="en-US" sz="2800" spc="1" strike="noStrike">
              <a:ln w="0">
                <a:noFill/>
              </a:ln>
              <a:blipFill rotWithShape="0">
                <a:blip r:embed="rId7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25"/>
          <p:cNvSpPr txBox="1"/>
          <p:nvPr/>
        </p:nvSpPr>
        <p:spPr>
          <a:xfrm>
            <a:off x="5791320" y="3809880"/>
            <a:ext cx="304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ебник</a:t>
            </a:r>
            <a:endParaRPr b="1" lang="en-US" sz="2800" spc="1" strike="noStrike">
              <a:ln w="0">
                <a:noFill/>
              </a:ln>
              <a:blipFill rotWithShape="0">
                <a:blip r:embed="rId9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Начальный уровень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530280"/>
          <a:ext cx="8763120" cy="5965920"/>
        </p:xfrm>
        <a:graphic>
          <a:graphicData uri="http://schemas.openxmlformats.org/drawingml/2006/table">
            <a:tbl>
              <a:tblPr/>
              <a:tblGrid>
                <a:gridCol w="542880"/>
                <a:gridCol w="5427720"/>
                <a:gridCol w="932040"/>
                <a:gridCol w="1022400"/>
                <a:gridCol w="838080"/>
              </a:tblGrid>
              <a:tr h="425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учение работе на компьютер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Блокнот, Калькулятор, составной документ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ьютерная графика как средство развития творческого потенциала (алгоритм, точное построение графических объектов, конструирование из мозаики, моделирование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 программирования Лого Миры как средство развития алгоритмического и логического мыш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762120" y="18288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сновн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7-9teo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990720"/>
            <a:ext cx="191772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3429000"/>
          <a:ext cx="8452080" cy="3211560"/>
        </p:xfrm>
        <a:graphic>
          <a:graphicData uri="http://schemas.openxmlformats.org/drawingml/2006/table">
            <a:tbl>
              <a:tblPr/>
              <a:tblGrid>
                <a:gridCol w="1822680"/>
                <a:gridCol w="6629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я. Информационные процесс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картина ми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я, современное состояние и перспективы компьютерной техники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Теор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914400" y="1371600"/>
            <a:ext cx="3962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Практику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380880" y="0"/>
            <a:ext cx="79581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2590920"/>
          <a:ext cx="8404200" cy="4078080"/>
        </p:xfrm>
        <a:graphic>
          <a:graphicData uri="http://schemas.openxmlformats.org/drawingml/2006/table">
            <a:tbl>
              <a:tblPr/>
              <a:tblGrid>
                <a:gridCol w="1566720"/>
                <a:gridCol w="6837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истемной среды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абличн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УБ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6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и в Интерн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7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8.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ирование в среде ЛО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алгоритмиз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41" descr="практикум 7-9"/>
          <p:cNvPicPr/>
          <p:nvPr/>
        </p:nvPicPr>
        <p:blipFill>
          <a:blip r:embed="rId4"/>
          <a:stretch/>
        </p:blipFill>
        <p:spPr>
          <a:xfrm>
            <a:off x="7010280" y="990720"/>
            <a:ext cx="1781280" cy="2152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7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WordArt 1028"/>
          <p:cNvSpPr txBox="1"/>
          <p:nvPr/>
        </p:nvSpPr>
        <p:spPr>
          <a:xfrm>
            <a:off x="1066680" y="1752480"/>
            <a:ext cx="7086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ребования государственного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разовательного стандарта   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"Информатика и ИКТ"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для среднего (полного)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щего образования и ЕГЭ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457200" y="2286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9-11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144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базовый уровень)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228600" y="587376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04640" y="2489040"/>
          <a:ext cx="8224920" cy="3743640"/>
        </p:xfrm>
        <a:graphic>
          <a:graphicData uri="http://schemas.openxmlformats.org/drawingml/2006/table">
            <a:tbl>
              <a:tblPr/>
              <a:tblGrid>
                <a:gridCol w="1903680"/>
                <a:gridCol w="6321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электро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ца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 модели в базах да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219320" y="533520"/>
            <a:ext cx="6748200" cy="22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одические пособия 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ля учителей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3" descr="Методика 7 класс-1"/>
          <p:cNvPicPr/>
          <p:nvPr/>
        </p:nvPicPr>
        <p:blipFill>
          <a:blip r:embed="rId5"/>
          <a:stretch/>
        </p:blipFill>
        <p:spPr>
          <a:xfrm>
            <a:off x="1393920" y="3475080"/>
            <a:ext cx="1854000" cy="2624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Методика 8 класс-1"/>
          <p:cNvPicPr/>
          <p:nvPr/>
        </p:nvPicPr>
        <p:blipFill>
          <a:blip r:embed="rId6"/>
          <a:stretch/>
        </p:blipFill>
        <p:spPr>
          <a:xfrm>
            <a:off x="3795840" y="3427560"/>
            <a:ext cx="1841400" cy="277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Методика 9 класс-1"/>
          <p:cNvPicPr/>
          <p:nvPr/>
        </p:nvPicPr>
        <p:blipFill>
          <a:blip r:embed="rId7"/>
          <a:stretch/>
        </p:blipFill>
        <p:spPr>
          <a:xfrm>
            <a:off x="6172200" y="3429000"/>
            <a:ext cx="1949400" cy="2817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54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116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23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Информационная картина мира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380880"/>
            <a:ext cx="9829800" cy="70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нятие об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деятельность челове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процесс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родолжение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основы процессов управл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системе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этапы моделирова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ирование в программных средах: графическом редакторе, текстовом процессоре, базах данных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классификации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модел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793800"/>
            <a:ext cx="876312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фический редакт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i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кстов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программ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абличн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c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ая характеристика прикладной среды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муникации в глобальной сети Интерн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программ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управления базой данных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1143000"/>
            <a:ext cx="91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о памя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а ввода и вывода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микропроцессо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заимодействие устройств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дирование информации в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 развит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ппаратное обеспечение работы компьютерных сет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огические основы построения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32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81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15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762120" y="1828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Старш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Старшая школа – базовый уровен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10" descr="Практикум программ-10-11"/>
          <p:cNvPicPr/>
          <p:nvPr/>
        </p:nvPicPr>
        <p:blipFill>
          <a:blip r:embed="rId1"/>
          <a:stretch/>
        </p:blipFill>
        <p:spPr>
          <a:xfrm>
            <a:off x="4724280" y="3270240"/>
            <a:ext cx="4267440" cy="328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10 кл-обложка-2"/>
          <p:cNvPicPr/>
          <p:nvPr/>
        </p:nvPicPr>
        <p:blipFill>
          <a:blip r:embed="rId2"/>
          <a:stretch/>
        </p:blipFill>
        <p:spPr>
          <a:xfrm>
            <a:off x="457200" y="990720"/>
            <a:ext cx="2881440" cy="373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11-2"/>
          <p:cNvPicPr/>
          <p:nvPr/>
        </p:nvPicPr>
        <p:blipFill>
          <a:blip r:embed="rId3"/>
          <a:stretch/>
        </p:blipFill>
        <p:spPr>
          <a:xfrm>
            <a:off x="3429000" y="2362320"/>
            <a:ext cx="2666880" cy="35049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457200"/>
          <a:ext cx="9144000" cy="629604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процессы, модели, объек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боты  с объектами текстового докумен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о-коммуникационные              технологии в компьютерной се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представле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ния информации в виде презентац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обработк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данных в среде табличного процессо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зработки проек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2/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24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" y="5867280"/>
            <a:ext cx="8458200" cy="398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5400000"/>
          </a:gra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ЦЕНТРИЧЕСКИЙ ПРИНЦИП ОБУЧ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457200"/>
          <a:ext cx="9144000" cy="603108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социальной информати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системы и технолог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автоматизированной обработки текстовых документ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хранения данны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Подготовка к экзамена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/5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мпьютерное делопроизводство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505320" y="198108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ервый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-12) – теоретические знания по основам делопроизводс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200400" y="38862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торой 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3-18) – практическое руководство по делопроизводству в электронном офис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picture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4398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д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066680"/>
          <a:ext cx="8839080" cy="5168880"/>
        </p:xfrm>
        <a:graphic>
          <a:graphicData uri="http://schemas.openxmlformats.org/drawingml/2006/table">
            <a:tbl>
              <a:tblPr/>
              <a:tblGrid>
                <a:gridCol w="2111400"/>
                <a:gridCol w="477720"/>
                <a:gridCol w="614520"/>
                <a:gridCol w="473040"/>
                <a:gridCol w="703080"/>
                <a:gridCol w="704880"/>
                <a:gridCol w="703440"/>
                <a:gridCol w="704880"/>
                <a:gridCol w="703080"/>
                <a:gridCol w="625680"/>
                <a:gridCol w="10173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 + Лого (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стандарт (10-1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тандарту 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овый урове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3" name="Line 592"/>
          <p:cNvSpPr/>
          <p:nvPr/>
        </p:nvSpPr>
        <p:spPr>
          <a:xfrm>
            <a:off x="1143000" y="46483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684360" y="162864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Макарова Наталья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Владимировн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(812) 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571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-60-44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8459640" y="6291360"/>
            <a:ext cx="684360" cy="566640"/>
          </a:xfrm>
          <a:custGeom>
            <a:avLst/>
            <a:gdLst>
              <a:gd name="textAreaLeft" fmla="*/ 36720 w 684360"/>
              <a:gd name="textAreaRight" fmla="*/ 647640 w 68436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6085" h="21600">
                <a:moveTo>
                  <a:pt x="0" y="0"/>
                </a:moveTo>
                <a:lnTo>
                  <a:pt x="26085" y="0"/>
                </a:lnTo>
                <a:lnTo>
                  <a:pt x="26085" y="21600"/>
                </a:lnTo>
                <a:lnTo>
                  <a:pt x="0" y="21600"/>
                </a:lnTo>
                <a:close/>
              </a:path>
              <a:path fill="lightenLess" w="26085" h="21600">
                <a:moveTo>
                  <a:pt x="0" y="0"/>
                </a:moveTo>
                <a:lnTo>
                  <a:pt x="26085" y="0"/>
                </a:lnTo>
                <a:lnTo>
                  <a:pt x="24685" y="1400"/>
                </a:lnTo>
                <a:lnTo>
                  <a:pt x="1400" y="1400"/>
                </a:lnTo>
                <a:close/>
              </a:path>
              <a:path fill="darken" w="26085" h="21600">
                <a:moveTo>
                  <a:pt x="26085" y="0"/>
                </a:moveTo>
                <a:lnTo>
                  <a:pt x="26085" y="21600"/>
                </a:lnTo>
                <a:lnTo>
                  <a:pt x="24685" y="20200"/>
                </a:lnTo>
                <a:lnTo>
                  <a:pt x="24685" y="1400"/>
                </a:lnTo>
                <a:close/>
              </a:path>
              <a:path fill="darkenLess" w="26085" h="21600">
                <a:moveTo>
                  <a:pt x="26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5" y="20200"/>
                </a:lnTo>
                <a:close/>
              </a:path>
              <a:path fill="lighten" w="26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5" h="21600">
                <a:moveTo>
                  <a:pt x="6036" y="7493"/>
                </a:moveTo>
                <a:lnTo>
                  <a:pt x="9543" y="7493"/>
                </a:lnTo>
                <a:lnTo>
                  <a:pt x="9543" y="12828"/>
                </a:lnTo>
                <a:cubicBezTo>
                  <a:pt x="9543" y="13751"/>
                  <a:pt x="10344" y="14482"/>
                  <a:pt x="11380" y="14482"/>
                </a:cubicBezTo>
                <a:lnTo>
                  <a:pt x="13042" y="14482"/>
                </a:lnTo>
                <a:cubicBezTo>
                  <a:pt x="14078" y="14482"/>
                  <a:pt x="14879" y="13751"/>
                  <a:pt x="14879" y="12828"/>
                </a:cubicBezTo>
                <a:lnTo>
                  <a:pt x="14879" y="7493"/>
                </a:lnTo>
                <a:lnTo>
                  <a:pt x="13042" y="7493"/>
                </a:lnTo>
                <a:lnTo>
                  <a:pt x="16550" y="3985"/>
                </a:lnTo>
                <a:lnTo>
                  <a:pt x="20223" y="7493"/>
                </a:lnTo>
                <a:lnTo>
                  <a:pt x="18386" y="7493"/>
                </a:lnTo>
                <a:lnTo>
                  <a:pt x="18386" y="12828"/>
                </a:lnTo>
                <a:cubicBezTo>
                  <a:pt x="18386" y="15596"/>
                  <a:pt x="15810" y="18155"/>
                  <a:pt x="13042" y="18155"/>
                </a:cubicBezTo>
                <a:lnTo>
                  <a:pt x="11380" y="18155"/>
                </a:lnTo>
                <a:cubicBezTo>
                  <a:pt x="8612" y="18155"/>
                  <a:pt x="6036" y="15596"/>
                  <a:pt x="6036" y="12828"/>
                </a:cubicBez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14479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609480"/>
            <a:ext cx="891540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1371600"/>
            <a:ext cx="86868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28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нализ заданий ЕГЭ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соответствие требованиям стандарт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(по данным за 2004, 2005 годы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954840"/>
        </p:xfrm>
        <a:graphic>
          <a:graphicData uri="http://schemas.openxmlformats.org/drawingml/2006/table">
            <a:tbl>
              <a:tblPr/>
              <a:tblGrid>
                <a:gridCol w="4664160"/>
                <a:gridCol w="1297080"/>
                <a:gridCol w="973080"/>
                <a:gridCol w="1236600"/>
                <a:gridCol w="9730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Элементы содержания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проверяемые заданиями ЕГ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нформация и ее код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Алгоритмизация и программ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ы логи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Моделирование и компьютерный эксп-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Социальная информати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ные устрой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Программные сред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текстовой информ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р-ки граф-й и зву-й ин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инф в электр-х та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хранения, поиска и сортировки информации в базах данны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лекоммуникационные технолог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0:50:39Z</dcterms:created>
  <dc:creator>MNV</dc:creator>
  <dc:description/>
  <dc:language>en-US</dc:language>
  <cp:lastModifiedBy>LEGION</cp:lastModifiedBy>
  <dcterms:modified xsi:type="dcterms:W3CDTF">2015-04-01T07:31:47Z</dcterms:modified>
  <cp:revision>348</cp:revision>
  <dc:subject/>
  <dc:title>Презентация PowerPoint</dc:title>
</cp:coreProperties>
</file>