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7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146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77040" y="-360"/>
            <a:ext cx="1380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67160"/>
            <a:ext cx="210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379920" y="8842320"/>
            <a:ext cx="47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000000"/>
                </a:solidFill>
                <a:uFillTx/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767-6782-42F6-BDA1-A66FBD05ECB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E91B-0CC0-4DA1-9AC0-2ACBE96CE1D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10303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</a:rPr>
              <a:t>С Е М И Н А 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МОДЕЛИ ОБУЧ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А БАЗЕ УЧЕБНО-МЕТОДИЧЕСКОГО КОМПЛЕКТА «ИНФОРМАТИКА и ИК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(БАЗОВЫЙ УРОВЕН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2037-9530-4235-AE0B-54424863240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4431-609C-484C-B630-EA2F0CD82DD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BC96-7D65-4940-BB9B-F318C3D7C42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E470-8C85-4D7E-B31C-9122951FE58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665E-E40E-42A4-AAC5-B322B5C557E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Успешно справиться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9FAE-6D4B-43CB-98C0-00E18910124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Модернизация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и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0319-9DDF-4D03-A231-35D32D53E72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а непрерывного обучен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 дисциплине «Информатика и 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2862-48E2-40A8-906B-8F664978288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сновные цели об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4795-A982-419E-8C37-053514E181A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69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ебно-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Теория. 7-9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808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0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1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A5B3-09C8-4DF9-9BE1-06331CEDB36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064E-D5AD-4403-8BB1-29451136CA8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040" y="4338360"/>
            <a:ext cx="1630440" cy="54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семин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рнизация программы и 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ли темат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основной шко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старшей школе – базовый урове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УЧЕБНО-МЕТОДИЧЕСКИЙ </a:t>
            </a:r>
            <a:br>
              <a:rPr sz="1200"/>
            </a:b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КОМПЛ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9714-EDDB-4D66-872B-76A94DD161C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тематиче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план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2B19-0907-4E9C-A84C-9C1AD463F8F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7438-7185-479E-AF9E-632B414B195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чальный уровень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0833-DE86-4BD8-AD7D-5237F640E6F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C1A4-5C4F-49EF-8336-DC6BCD6C12F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2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я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, современное состояние и перспективы компьютерной техн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274D-1E4F-47B7-875D-CFB272B157E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7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7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Практик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истемной среды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абличн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8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 в среде Л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749A-DAD3-49F1-BDD7-13D18A7EDC9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4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Требования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разовательного стандарта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"Информатика и ИКТ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для среднего (полно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F2D9-0B8C-43E1-8087-5214BAA73AC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Times New Roman"/>
              </a:rPr>
              <a:t>(базовый уровень)</a:t>
            </a:r>
            <a:br>
              <a:rPr sz="1200"/>
            </a:b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электро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модел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FE5-25E1-4A27-B6C7-812DB1A18F7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тодические пособ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уч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7823-77DA-4311-9077-773EFB87E84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6C0F-D58A-4EA1-A62F-41CBA16DB29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571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е об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родолжени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сновы процесс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системе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моде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программных средах: графическом редакторе, текстовом процессоре,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классификации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031B-03BF-4A33-89D8-A8790FBB10A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8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ограм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личн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ая характеристика прикладной сред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глобальной сет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300D-D3F2-4607-A36D-519F17AA73A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2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о пам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а ввода и вывода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микропроцессо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ирование информации в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ное обеспечение работы компьютерных с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909B-E7FF-4922-B1F8-B8ADAA2F3A6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361-22DA-4A93-ADEB-5D44C00DD9D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296-BFA0-43BF-97D7-CB9F9BCA1E0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1CE-E7D4-4FB3-8307-7F72F1F76B0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2C4A-80CD-4F8D-BCF9-08D6FBEEBAC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06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14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BB5F-EC63-4C0F-95EE-39F4D128042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BA49-7C5F-44AF-8D9E-91696B5407E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мпьютерное делопроизвод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ый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-12) – теоретические знания по основам дело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ой 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3-18) – практическое руководство по делопроизводству в электронном офи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B7F-DE45-46E3-AC31-223494F503C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одел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2834-8030-4B5C-B3F6-A43178E69C4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Макарова Наталья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(812) 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571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-60-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A645-D893-4B53-9C91-3CDE3D8A562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3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AA5B-0B9E-442C-BBCD-5FC1D1D7D44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D158-5C56-4C6D-B8DF-96A9EC34B73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0C5E-C87F-4BC9-8D0D-912D08009C8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нализ заданий ЕГЭ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оответствие требованиям стандар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 данным за 2004, 2005 год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650-E8C5-4F54-A49A-09901486E0A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690-1112-48B4-AF03-769D25B8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5EC-DFBC-438C-9D12-91680497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9A3-7CFB-470A-BB23-1B029023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20F-D0CE-4A08-A86D-ACDC7861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670-7548-4FD0-911D-4003EE12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DA1-737E-4BA2-AD89-77EA4C69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72F-D2F5-4D96-A461-52382503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264F-45B4-4566-8C3C-4FCF8677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1A2-6A51-4866-B1EB-51AC0E8C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2A8-ADD9-4CCD-88BC-A4B6C69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5FD-DD2B-430B-9F2B-256B9C3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F54-9E9E-4379-9BBC-EA9E6D06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DD9D-57B3-4BB3-B3FA-6E720F67C66C}" type="slidenum"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.xml"/><Relationship Id="rId7" Type="http://schemas.openxmlformats.org/officeDocument/2006/relationships/image" Target="../media/image11.png"/><Relationship Id="rId8" Type="http://schemas.openxmlformats.org/officeDocument/2006/relationships/slide" Target="slide5.xml"/><Relationship Id="rId9" Type="http://schemas.openxmlformats.org/officeDocument/2006/relationships/image" Target="../media/image12.png"/><Relationship Id="rId10" Type="http://schemas.openxmlformats.org/officeDocument/2006/relationships/slide" Target="slide6.xm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0312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 Е М И Н А 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ДЕЛИ ОБУЧЕНИЯ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НА БАЗЕ УЧЕБНО-МЕТОДИЧЕСКОГО КОМПЛЕКТА «ИНФОРМАТИКА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(БАЗОВЫЙ УРОВЕНЬ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4564080"/>
            <a:ext cx="86040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7160"/>
            <a:ext cx="8915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4205160"/>
            <a:ext cx="91440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дущие:</a:t>
            </a:r>
            <a:br>
              <a:rPr sz="24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талья  Владимировна   Макарова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руководитель авторского коллектива </a:t>
            </a: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офессор, доктор педагогических наук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ияна   Францевн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ва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-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член авторского коллектива    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доцент,   кандидат педагогических наук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Object 1027"/>
          <p:cNvGraphicFramePr/>
          <p:nvPr/>
        </p:nvGraphicFramePr>
        <p:xfrm>
          <a:off x="-1828800" y="993600"/>
          <a:ext cx="9043920" cy="522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993600"/>
                    <a:ext cx="9043920" cy="52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Object 0"/>
          <p:cNvGraphicFramePr/>
          <p:nvPr/>
        </p:nvGraphicFramePr>
        <p:xfrm>
          <a:off x="20520" y="1135080"/>
          <a:ext cx="512784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35080"/>
                    <a:ext cx="512784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240" y="1192320"/>
          <a:ext cx="554040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92320"/>
                    <a:ext cx="55404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1027"/>
          <p:cNvGraphicFramePr/>
          <p:nvPr/>
        </p:nvGraphicFramePr>
        <p:xfrm>
          <a:off x="-390600" y="1227240"/>
          <a:ext cx="6059520" cy="58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0600" y="1227240"/>
                    <a:ext cx="6059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о справить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14400" y="1828800"/>
            <a:ext cx="7467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рнизация программы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и учебно-методического комплект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а непрерывного обучения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 дисциплине «Информатика и И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picture"/>
          <p:cNvPicPr/>
          <p:nvPr/>
        </p:nvPicPr>
        <p:blipFill>
          <a:blip r:embed="rId1"/>
          <a:stretch/>
        </p:blipFill>
        <p:spPr>
          <a:xfrm>
            <a:off x="2438280" y="2209680"/>
            <a:ext cx="3657600" cy="4496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ые ц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шк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которой определяют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90720" y="129528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базовых знаний, отражающих вклад информатики в формирование        современной научной картины мира, роль информационных процессов в обществе и различных системах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и умения целенаправленной работы с информацией на основе системного подхода к анализу структуры объектов, создания и исследования информационных моделей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я применять, анализировать, преобразовывать информационные модели реальных объектов и процессов на базе современных информационно-коммуникационных  технологий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4114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гического мышления, творческого и познавательного потенциала школьника, его коммуникативных способностей на базе современного компьютерного инструментария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опыта использования информационных технологий в индивидуальной и коллективной, в том числе проектной деятельности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чебно-методический компле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6854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СНОВНАЯ ШКО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Теория. 7-9 клас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РШАЯ ШКОЛА –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0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1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57200" y="3276720"/>
            <a:ext cx="0" cy="1447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57200" y="4724280"/>
            <a:ext cx="12952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2057400" y="228600"/>
            <a:ext cx="5029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держание семинара</a:t>
            </a:r>
            <a:endParaRPr b="1" lang="en-US" sz="32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990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рнизация программы и  учебно-методического комплек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ли тематического планировани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4572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основной школе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старшей школе – базовый уровень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Методика 9 класс-1"/>
          <p:cNvPicPr/>
          <p:nvPr/>
        </p:nvPicPr>
        <p:blipFill>
          <a:blip r:embed="rId1"/>
          <a:stretch/>
        </p:blipFill>
        <p:spPr>
          <a:xfrm>
            <a:off x="7238880" y="3886200"/>
            <a:ext cx="17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Методика 8 класс-1"/>
          <p:cNvPicPr/>
          <p:nvPr/>
        </p:nvPicPr>
        <p:blipFill>
          <a:blip r:embed="rId2"/>
          <a:stretch/>
        </p:blipFill>
        <p:spPr>
          <a:xfrm>
            <a:off x="6934320" y="1981080"/>
            <a:ext cx="164304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ЕБНО-МЕТОДИЧЕСКИ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МПЛЕК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914400"/>
            <a:ext cx="624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  <a:hlinkClick r:id="rId3" action="ppaction://hlinksldjump"/>
              </a:rPr>
              <a:t>ИНФОРМАТИКА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Rab-tetr5"/>
          <p:cNvPicPr/>
          <p:nvPr/>
        </p:nvPicPr>
        <p:blipFill>
          <a:blip r:embed="rId4"/>
          <a:stretch/>
        </p:blipFill>
        <p:spPr>
          <a:xfrm>
            <a:off x="2154240" y="176688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ab-tetr6"/>
          <p:cNvPicPr/>
          <p:nvPr/>
        </p:nvPicPr>
        <p:blipFill>
          <a:blip r:embed="rId5"/>
          <a:stretch/>
        </p:blipFill>
        <p:spPr>
          <a:xfrm>
            <a:off x="4130640" y="176688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7-9teor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267080"/>
            <a:ext cx="1747800" cy="229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aktikum7-9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38280" y="4267080"/>
            <a:ext cx="1754280" cy="22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Zadachnik7-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267080"/>
            <a:ext cx="1739880" cy="226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ch-kurs5-6"/>
          <p:cNvPicPr/>
          <p:nvPr/>
        </p:nvPicPr>
        <p:blipFill>
          <a:blip r:embed="rId12"/>
          <a:stretch/>
        </p:blipFill>
        <p:spPr>
          <a:xfrm>
            <a:off x="182520" y="1725480"/>
            <a:ext cx="1730520" cy="225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Методика 7 класс-1"/>
          <p:cNvPicPr/>
          <p:nvPr/>
        </p:nvPicPr>
        <p:blipFill>
          <a:blip r:embed="rId13"/>
          <a:stretch/>
        </p:blipFill>
        <p:spPr>
          <a:xfrm>
            <a:off x="7315200" y="228600"/>
            <a:ext cx="1654200" cy="23414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2887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3" descr="10-11"/>
          <p:cNvPicPr/>
          <p:nvPr/>
        </p:nvPicPr>
        <p:blipFill>
          <a:blip r:embed="rId1"/>
          <a:stretch/>
        </p:blipFill>
        <p:spPr>
          <a:xfrm>
            <a:off x="533520" y="2209680"/>
            <a:ext cx="1800000" cy="2384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438280" y="2895480"/>
            <a:ext cx="1578240" cy="936720"/>
          </a:xfrm>
          <a:prstGeom prst="rightArrow">
            <a:avLst>
              <a:gd name="adj1" fmla="val 50000"/>
              <a:gd name="adj2" fmla="val 4212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90920" y="38098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05-2006 г.г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0" descr="Практикум программ-10-11"/>
          <p:cNvPicPr/>
          <p:nvPr/>
        </p:nvPicPr>
        <p:blipFill>
          <a:blip r:embed="rId2"/>
          <a:stretch/>
        </p:blipFill>
        <p:spPr>
          <a:xfrm>
            <a:off x="5334120" y="182880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10 кл-обложка-2"/>
          <p:cNvPicPr/>
          <p:nvPr/>
        </p:nvPicPr>
        <p:blipFill>
          <a:blip r:embed="rId3"/>
          <a:stretch/>
        </p:blipFill>
        <p:spPr>
          <a:xfrm>
            <a:off x="4648320" y="838080"/>
            <a:ext cx="2017440" cy="26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1-2"/>
          <p:cNvPicPr/>
          <p:nvPr/>
        </p:nvPicPr>
        <p:blipFill>
          <a:blip r:embed="rId4"/>
          <a:stretch/>
        </p:blipFill>
        <p:spPr>
          <a:xfrm>
            <a:off x="4724280" y="3809880"/>
            <a:ext cx="194940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3124080" y="1447920"/>
            <a:ext cx="2971800" cy="49528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а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о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иферийные устройств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0" y="1447920"/>
            <a:ext cx="3048120" cy="5105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й процесс              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ая 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28"/>
          <p:cNvSpPr/>
          <p:nvPr/>
        </p:nvSpPr>
        <p:spPr>
          <a:xfrm>
            <a:off x="6134040" y="1447920"/>
            <a:ext cx="3009960" cy="4957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йл, папк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арий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доку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дак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29"/>
          <p:cNvSpPr/>
          <p:nvPr/>
        </p:nvSpPr>
        <p:spPr>
          <a:xfrm>
            <a:off x="457200" y="228600"/>
            <a:ext cx="84582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ТИКА и  ИК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030"/>
          <p:cNvGrpSpPr/>
          <p:nvPr/>
        </p:nvGrpSpPr>
        <p:grpSpPr>
          <a:xfrm>
            <a:off x="1219320" y="838080"/>
            <a:ext cx="6994440" cy="614160"/>
            <a:chOff x="1219320" y="838080"/>
            <a:chExt cx="6994440" cy="614160"/>
          </a:xfrm>
        </p:grpSpPr>
        <p:sp>
          <p:nvSpPr>
            <p:cNvPr id="149" name="Line 1031"/>
            <p:cNvSpPr/>
            <p:nvPr/>
          </p:nvSpPr>
          <p:spPr>
            <a:xfrm>
              <a:off x="1219320" y="1150200"/>
              <a:ext cx="699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032"/>
            <p:cNvSpPr/>
            <p:nvPr/>
          </p:nvSpPr>
          <p:spPr>
            <a:xfrm>
              <a:off x="44946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033"/>
            <p:cNvSpPr/>
            <p:nvPr/>
          </p:nvSpPr>
          <p:spPr>
            <a:xfrm>
              <a:off x="122868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1034"/>
            <p:cNvSpPr/>
            <p:nvPr/>
          </p:nvSpPr>
          <p:spPr>
            <a:xfrm>
              <a:off x="82044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35"/>
            <p:cNvSpPr/>
            <p:nvPr/>
          </p:nvSpPr>
          <p:spPr>
            <a:xfrm>
              <a:off x="4494600" y="83808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1036"/>
          <p:cNvSpPr/>
          <p:nvPr/>
        </p:nvSpPr>
        <p:spPr>
          <a:xfrm>
            <a:off x="5321160" y="57625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037"/>
          <p:cNvSpPr/>
          <p:nvPr/>
        </p:nvSpPr>
        <p:spPr>
          <a:xfrm>
            <a:off x="6477120" y="289548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038"/>
          <p:cNvSpPr/>
          <p:nvPr/>
        </p:nvSpPr>
        <p:spPr>
          <a:xfrm>
            <a:off x="222120" y="281952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039"/>
          <p:cNvSpPr/>
          <p:nvPr/>
        </p:nvSpPr>
        <p:spPr>
          <a:xfrm>
            <a:off x="3352680" y="285264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295280" y="18288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ли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ематического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планирования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762120" y="18288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чальный уровень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Rab-tetr5"/>
          <p:cNvPicPr/>
          <p:nvPr/>
        </p:nvPicPr>
        <p:blipFill>
          <a:blip r:embed="rId1"/>
          <a:stretch/>
        </p:blipFill>
        <p:spPr>
          <a:xfrm rot="19123800">
            <a:off x="533160" y="434304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Rab-tetr6"/>
          <p:cNvPicPr/>
          <p:nvPr/>
        </p:nvPicPr>
        <p:blipFill>
          <a:blip r:embed="rId2"/>
          <a:stretch/>
        </p:blipFill>
        <p:spPr>
          <a:xfrm rot="1770600">
            <a:off x="2895120" y="434304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ach-kurs5-6"/>
          <p:cNvPicPr/>
          <p:nvPr/>
        </p:nvPicPr>
        <p:blipFill>
          <a:blip r:embed="rId3"/>
          <a:stretch/>
        </p:blipFill>
        <p:spPr>
          <a:xfrm>
            <a:off x="6553080" y="4267080"/>
            <a:ext cx="1730520" cy="22528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9144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</a:t>
            </a:r>
            <a:endParaRPr b="1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33520" y="1219320"/>
            <a:ext cx="754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начальный уровень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828800"/>
          <a:ext cx="8382240" cy="1757520"/>
        </p:xfrm>
        <a:graphic>
          <a:graphicData uri="http://schemas.openxmlformats.org/drawingml/2006/table">
            <a:tbl>
              <a:tblPr/>
              <a:tblGrid>
                <a:gridCol w="1909800"/>
                <a:gridCol w="6472440"/>
              </a:tblGrid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мся работать на компьютер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графи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программирования ЛогоМир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24"/>
          <p:cNvSpPr txBox="1"/>
          <p:nvPr/>
        </p:nvSpPr>
        <p:spPr>
          <a:xfrm>
            <a:off x="838080" y="37339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чие тетради</a:t>
            </a:r>
            <a:endParaRPr b="1" lang="en-US" sz="2800" spc="1" strike="noStrike">
              <a:ln w="0">
                <a:noFill/>
              </a:ln>
              <a:blipFill rotWithShape="0">
                <a:blip r:embed="rId7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25"/>
          <p:cNvSpPr txBox="1"/>
          <p:nvPr/>
        </p:nvSpPr>
        <p:spPr>
          <a:xfrm>
            <a:off x="5791320" y="38098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ебник</a:t>
            </a:r>
            <a:endParaRPr b="1" lang="en-US" sz="2800" spc="1" strike="noStrike">
              <a:ln w="0">
                <a:noFill/>
              </a:ln>
              <a:blipFill rotWithShape="0">
                <a:blip r:embed="rId9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Начальный уровень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530280"/>
          <a:ext cx="8763120" cy="5965920"/>
        </p:xfrm>
        <a:graphic>
          <a:graphicData uri="http://schemas.openxmlformats.org/drawingml/2006/table">
            <a:tbl>
              <a:tblPr/>
              <a:tblGrid>
                <a:gridCol w="542880"/>
                <a:gridCol w="5427720"/>
                <a:gridCol w="932040"/>
                <a:gridCol w="1022400"/>
                <a:gridCol w="838080"/>
              </a:tblGrid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учение работе на компьютер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Блокнот, Калькулятор, составной документ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ьютерная графика как средство развития творческого потенциала (алгоритм, точное построение графических объектов, конструирование из мозаики, моделирование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 программирования Лого Миры как средство развития алгоритмического и логического мыш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762120" y="18288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сновн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7-9teo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990720"/>
            <a:ext cx="191772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3429000"/>
          <a:ext cx="8452080" cy="3211560"/>
        </p:xfrm>
        <a:graphic>
          <a:graphicData uri="http://schemas.openxmlformats.org/drawingml/2006/table">
            <a:tbl>
              <a:tblPr/>
              <a:tblGrid>
                <a:gridCol w="1822680"/>
                <a:gridCol w="6629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я. Информационные процес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картина ми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я, современное состояние и перспективы компьютерной техники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Теор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914400" y="1371600"/>
            <a:ext cx="3962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Практику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80880" y="0"/>
            <a:ext cx="79581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590920"/>
          <a:ext cx="8404200" cy="4078080"/>
        </p:xfrm>
        <a:graphic>
          <a:graphicData uri="http://schemas.openxmlformats.org/drawingml/2006/table">
            <a:tbl>
              <a:tblPr/>
              <a:tblGrid>
                <a:gridCol w="1566720"/>
                <a:gridCol w="6837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истемной среды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абличн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УБ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6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и в Интерн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7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8.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ирование в среде Л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алгоритмиз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41" descr="практикум 7-9"/>
          <p:cNvPicPr/>
          <p:nvPr/>
        </p:nvPicPr>
        <p:blipFill>
          <a:blip r:embed="rId4"/>
          <a:stretch/>
        </p:blipFill>
        <p:spPr>
          <a:xfrm>
            <a:off x="7010280" y="990720"/>
            <a:ext cx="1781280" cy="2152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7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WordArt 1028"/>
          <p:cNvSpPr txBox="1"/>
          <p:nvPr/>
        </p:nvSpPr>
        <p:spPr>
          <a:xfrm>
            <a:off x="1066680" y="175248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ребования государственного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разовательного стандарта   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"Информатика и ИКТ"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для среднего (полного)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щего образования и ЕГЭ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457200" y="2286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9-11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144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базовый уровень)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28600" y="587376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04640" y="2489040"/>
          <a:ext cx="8224920" cy="3743640"/>
        </p:xfrm>
        <a:graphic>
          <a:graphicData uri="http://schemas.openxmlformats.org/drawingml/2006/table">
            <a:tbl>
              <a:tblPr/>
              <a:tblGrid>
                <a:gridCol w="1903680"/>
                <a:gridCol w="6321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электро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модели в базах да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219320" y="533520"/>
            <a:ext cx="674820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одические пособия 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ля учителей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3" descr="Методика 7 класс-1"/>
          <p:cNvPicPr/>
          <p:nvPr/>
        </p:nvPicPr>
        <p:blipFill>
          <a:blip r:embed="rId5"/>
          <a:stretch/>
        </p:blipFill>
        <p:spPr>
          <a:xfrm>
            <a:off x="1393920" y="3475080"/>
            <a:ext cx="1854000" cy="262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Методика 8 класс-1"/>
          <p:cNvPicPr/>
          <p:nvPr/>
        </p:nvPicPr>
        <p:blipFill>
          <a:blip r:embed="rId6"/>
          <a:stretch/>
        </p:blipFill>
        <p:spPr>
          <a:xfrm>
            <a:off x="3795840" y="3427560"/>
            <a:ext cx="1841400" cy="277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Методика 9 класс-1"/>
          <p:cNvPicPr/>
          <p:nvPr/>
        </p:nvPicPr>
        <p:blipFill>
          <a:blip r:embed="rId7"/>
          <a:stretch/>
        </p:blipFill>
        <p:spPr>
          <a:xfrm>
            <a:off x="6172200" y="3429000"/>
            <a:ext cx="1949400" cy="2817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54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116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23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нформационная картина мир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380880"/>
            <a:ext cx="982980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нятие об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деятельность челове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процесс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родолжение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основы процессов управл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системе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этапы моделиров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ирование в программных средах: графическом редакторе, текстовом процессоре, базах данных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классификации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модел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93800"/>
            <a:ext cx="876312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фический редакт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кстов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программ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абличн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ая характеристика прикладной среды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муникации в глобальной сети Интерн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програм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управления базой данных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114300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о памя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а ввода и вывода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микропроцессо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заимодействие устройств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дирование информации в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 развит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ппаратное обеспечение работы компьютерных с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огические основы построения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32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81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15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762120" y="1828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тарш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Старшая школа – базовый уровен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10" descr="Практикум программ-10-11"/>
          <p:cNvPicPr/>
          <p:nvPr/>
        </p:nvPicPr>
        <p:blipFill>
          <a:blip r:embed="rId1"/>
          <a:stretch/>
        </p:blipFill>
        <p:spPr>
          <a:xfrm>
            <a:off x="4724280" y="3270240"/>
            <a:ext cx="4267440" cy="328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10 кл-обложка-2"/>
          <p:cNvPicPr/>
          <p:nvPr/>
        </p:nvPicPr>
        <p:blipFill>
          <a:blip r:embed="rId2"/>
          <a:stretch/>
        </p:blipFill>
        <p:spPr>
          <a:xfrm>
            <a:off x="457200" y="990720"/>
            <a:ext cx="288144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1-2"/>
          <p:cNvPicPr/>
          <p:nvPr/>
        </p:nvPicPr>
        <p:blipFill>
          <a:blip r:embed="rId3"/>
          <a:stretch/>
        </p:blipFill>
        <p:spPr>
          <a:xfrm>
            <a:off x="3429000" y="2362320"/>
            <a:ext cx="2666880" cy="35049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457200"/>
          <a:ext cx="9144000" cy="629604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процессы, модели, объек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боты  с объектами текстового докум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о-коммуникационные              технологии в компьютерной се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представле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ния информации в виде презентац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обработк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данных в среде табличного процессо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зработки проек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2/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24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5867280"/>
            <a:ext cx="8458200" cy="398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ЦЕНТРИЧЕСКИЙ ПРИНЦИП ОБУЧ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457200"/>
          <a:ext cx="9144000" cy="603108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социальной информати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системы и технолог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автоматизированной обработки текстовых документ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хранения данны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Подготовка к экзамена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/5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мпьютерное делопроизводство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505320" y="198108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ервый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-12) – теоретические знания по основам делопроизводс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00400" y="3886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торой 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3-18) – практическое руководство по делопроизводству в электронном офис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picture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98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д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066680"/>
          <a:ext cx="8839080" cy="5168880"/>
        </p:xfrm>
        <a:graphic>
          <a:graphicData uri="http://schemas.openxmlformats.org/drawingml/2006/table">
            <a:tbl>
              <a:tblPr/>
              <a:tblGrid>
                <a:gridCol w="2111400"/>
                <a:gridCol w="477720"/>
                <a:gridCol w="614520"/>
                <a:gridCol w="473040"/>
                <a:gridCol w="703080"/>
                <a:gridCol w="704880"/>
                <a:gridCol w="703440"/>
                <a:gridCol w="704880"/>
                <a:gridCol w="703080"/>
                <a:gridCol w="625680"/>
                <a:gridCol w="10173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 + Лого (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стандарт (10-1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тандарту 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овый урове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3" name="Line 592"/>
          <p:cNvSpPr/>
          <p:nvPr/>
        </p:nvSpPr>
        <p:spPr>
          <a:xfrm>
            <a:off x="1143000" y="46483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628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Макарова Наталья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Владимировн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(812) 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571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-60-44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459640" y="6291360"/>
            <a:ext cx="684360" cy="566640"/>
          </a:xfrm>
          <a:custGeom>
            <a:avLst/>
            <a:gdLst>
              <a:gd name="textAreaLeft" fmla="*/ 36720 w 684360"/>
              <a:gd name="textAreaRight" fmla="*/ 647640 w 68436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6085" h="21600">
                <a:moveTo>
                  <a:pt x="0" y="0"/>
                </a:moveTo>
                <a:lnTo>
                  <a:pt x="26085" y="0"/>
                </a:lnTo>
                <a:lnTo>
                  <a:pt x="26085" y="21600"/>
                </a:lnTo>
                <a:lnTo>
                  <a:pt x="0" y="21600"/>
                </a:lnTo>
                <a:close/>
              </a:path>
              <a:path fill="lightenLess" w="26085" h="21600">
                <a:moveTo>
                  <a:pt x="0" y="0"/>
                </a:moveTo>
                <a:lnTo>
                  <a:pt x="26085" y="0"/>
                </a:lnTo>
                <a:lnTo>
                  <a:pt x="24685" y="1400"/>
                </a:lnTo>
                <a:lnTo>
                  <a:pt x="1400" y="1400"/>
                </a:lnTo>
                <a:close/>
              </a:path>
              <a:path fill="darken" w="26085" h="21600">
                <a:moveTo>
                  <a:pt x="26085" y="0"/>
                </a:moveTo>
                <a:lnTo>
                  <a:pt x="26085" y="21600"/>
                </a:lnTo>
                <a:lnTo>
                  <a:pt x="24685" y="20200"/>
                </a:lnTo>
                <a:lnTo>
                  <a:pt x="24685" y="1400"/>
                </a:lnTo>
                <a:close/>
              </a:path>
              <a:path fill="darkenLess" w="26085" h="21600">
                <a:moveTo>
                  <a:pt x="26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5" y="20200"/>
                </a:lnTo>
                <a:close/>
              </a:path>
              <a:path fill="lighten" w="26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5" h="21600">
                <a:moveTo>
                  <a:pt x="6036" y="7493"/>
                </a:moveTo>
                <a:lnTo>
                  <a:pt x="9543" y="7493"/>
                </a:lnTo>
                <a:lnTo>
                  <a:pt x="9543" y="12828"/>
                </a:lnTo>
                <a:cubicBezTo>
                  <a:pt x="9543" y="13751"/>
                  <a:pt x="10344" y="14482"/>
                  <a:pt x="11380" y="14482"/>
                </a:cubicBezTo>
                <a:lnTo>
                  <a:pt x="13042" y="14482"/>
                </a:lnTo>
                <a:cubicBezTo>
                  <a:pt x="14078" y="14482"/>
                  <a:pt x="14879" y="13751"/>
                  <a:pt x="14879" y="12828"/>
                </a:cubicBezTo>
                <a:lnTo>
                  <a:pt x="14879" y="7493"/>
                </a:lnTo>
                <a:lnTo>
                  <a:pt x="13042" y="7493"/>
                </a:lnTo>
                <a:lnTo>
                  <a:pt x="16550" y="3985"/>
                </a:lnTo>
                <a:lnTo>
                  <a:pt x="20223" y="7493"/>
                </a:lnTo>
                <a:lnTo>
                  <a:pt x="18386" y="7493"/>
                </a:lnTo>
                <a:lnTo>
                  <a:pt x="18386" y="12828"/>
                </a:lnTo>
                <a:cubicBezTo>
                  <a:pt x="18386" y="15596"/>
                  <a:pt x="15810" y="18155"/>
                  <a:pt x="13042" y="18155"/>
                </a:cubicBezTo>
                <a:lnTo>
                  <a:pt x="11380" y="18155"/>
                </a:lnTo>
                <a:cubicBezTo>
                  <a:pt x="8612" y="18155"/>
                  <a:pt x="6036" y="15596"/>
                  <a:pt x="6036" y="12828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14479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09480"/>
            <a:ext cx="891540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1371600"/>
            <a:ext cx="86868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8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нализ заданий ЕГЭ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соответствие требованиям стандарт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(по данным за 2004, 2005 годы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954840"/>
        </p:xfrm>
        <a:graphic>
          <a:graphicData uri="http://schemas.openxmlformats.org/drawingml/2006/table">
            <a:tbl>
              <a:tblPr/>
              <a:tblGrid>
                <a:gridCol w="4664160"/>
                <a:gridCol w="1297080"/>
                <a:gridCol w="973080"/>
                <a:gridCol w="1236600"/>
                <a:gridCol w="97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Элементы содержания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проверяемые заданиями ЕГ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нформация и ее код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Алгоритмизация и программ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ы логи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Моделирование и компьютерный эксп-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Социальная информати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ные устрой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Программные сред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текстовой информ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р-ки граф-й и зву-й ин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инф в электр-х та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хранения, поиска и сортировки информации в базах данн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лекоммуникационные техн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0:50:39Z</dcterms:created>
  <dc:creator>MNV</dc:creator>
  <dc:description/>
  <dc:language>en-US</dc:language>
  <cp:lastModifiedBy>LEGION</cp:lastModifiedBy>
  <dcterms:modified xsi:type="dcterms:W3CDTF">2015-04-01T07:31:47Z</dcterms:modified>
  <cp:revision>348</cp:revision>
  <dc:subject/>
  <dc:title>Презентация PowerPoint</dc:title>
</cp:coreProperties>
</file>