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27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18.png" ContentType="image/png"/>
  <Override PartName="/ppt/media/image6.jpeg" ContentType="image/jpeg"/>
  <Override PartName="/ppt/media/image11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7.jpeg" ContentType="image/jpeg"/>
  <Override PartName="/ppt/media/image1.wmf" ContentType="image/x-wmf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146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77040" y="-360"/>
            <a:ext cx="13809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67160"/>
            <a:ext cx="2104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379920" y="8842320"/>
            <a:ext cx="477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 u="sng">
                <a:solidFill>
                  <a:srgbClr val="000000"/>
                </a:solidFill>
                <a:uFillTx/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7F1C-6D3B-4F11-919D-F18C7DCD8EB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CC3D-77E9-46DA-91EC-6667BEFBE372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1030320" cy="37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Times New Roman"/>
              </a:rPr>
              <a:t>С Е М И Н А Р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МОДЕЛИ ОБУЧ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НА БАЗЕ УЧЕБНО-МЕТОДИЧЕСКОГО КОМПЛЕКТА «ИНФОРМАТИКА и ИКТ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9"/>
                </a:solidFill>
                <a:latin typeface="Times New Roman"/>
              </a:rPr>
              <a:t>(БАЗОВЫЙ УРОВЕНЬ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D18E-D25A-4DD4-8976-73DF948128B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4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E358-269A-4FC4-B40A-6E24028C75E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заданий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9186-4FE1-4CA8-A8E7-F8E5C8995EA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баллов за задания ЕГЭ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 элементам содержания в 2005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37E0-0398-4BD0-9B57-FB6D4802947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184C-D854-4E41-A601-4D9A513D106D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5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Успешно справиться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676F-9C94-4FA7-A615-4A0B87784AD3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Модернизация програм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и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CFAC-378A-424C-9DD1-DC049DC589C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а непрерывного обучен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о дисциплине «Информатика и И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8419-DB88-459C-B1EC-AEE50597143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3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Основные цели обу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6259-AE98-4E4C-BE2F-83CEC150F09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69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Учебно-методический комплек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Учебник. Теория. 7-9 кла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808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0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80808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Информатика и ИКТ. 11 класс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B462-0CAD-42F3-AEF8-D5B9EACD55B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5EC6-A96C-4B43-9C84-DD3D75BA4A5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040" y="4338360"/>
            <a:ext cx="1630440" cy="54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семина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рнизация программы и  учебно-методического компл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Модели тематического план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основной шко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- в старшей школе – базовый уровен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УЧЕБНО-МЕТОДИЧЕСКИЙ </a:t>
            </a:r>
            <a:br>
              <a:rPr sz="1200"/>
            </a:br>
            <a:r>
              <a:rPr b="1" lang="ru-RU" sz="1200" spc="-1" strike="noStrike">
                <a:solidFill>
                  <a:srgbClr val="ccccff"/>
                </a:solidFill>
                <a:latin typeface="Times New Roman"/>
              </a:rPr>
              <a:t>КОМПЛЕ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91DE-DD4A-4A2D-988A-8BC07DDB1B2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Моде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тематиче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план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1A76-4653-47BC-B97B-223BB7BF3FB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Начальн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B7A2-ACB0-4D62-B1DE-5B1AE3A9863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чальный уровень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99F1-08F9-4BD0-9F41-5522F70918E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Основн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3F89-9A02-4E97-BA5F-C84CCA34AEBC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2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Times New Roman"/>
              </a:rPr>
              <a:t>Те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я.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ное обеспечение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рия, современное состояние и перспективы компьютерной техн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5F5C-C340-4324-B489-ADAAADDE0BAE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7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7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Практик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истемной среды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реды табличн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воение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8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граммирование в среде Л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9119-8054-44BD-80F9-3D3E2A07800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4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Требования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разовательного стандарта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"Информатика и ИКТ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для среднего (полно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Impact"/>
              </a:rPr>
              <a:t>общего образования и ЕГЭ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DDBA-F094-40E8-9ED1-A3AED608DDF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64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тика и ИКТ   9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cccff"/>
                </a:solidFill>
                <a:latin typeface="Times New Roman"/>
              </a:rPr>
              <a:t>(базовый уровень)</a:t>
            </a:r>
            <a:br>
              <a:rPr sz="1200"/>
            </a:br>
            <a:r>
              <a:rPr b="0" i="1" lang="ru-RU" sz="12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графического редакт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среде  текстового процессо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электро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блиц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дел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модел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312D-F5B0-4205-9D6E-770E6055589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етодические пособ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уч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8823-3115-48E4-B5F0-7975632DB1E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7A6F-B5D3-4FE7-9296-B31177012C05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571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Информационная картина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е об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б объектах окружающего мир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родолжени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 основы процесс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ая модель объекта (повто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системе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этапы моде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в программных средах: графическом редакторе, текстовом процессоре,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классификации объ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мод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1AB3-6AFD-494A-A0E9-771769A2D6BF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80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ческий редакт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ов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програм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а программирования ЛОГО 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ная сред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бличный 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ая характеристика прикладной сред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икации в глобальной сет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ы алгоритм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програм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081E-26D0-405D-B3E2-DAEEDE7C2C92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25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7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о памя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ройства ввода и вывода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8 класс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микропроцессо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устройств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ирование информации в компьюте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рия развит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компьют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9 клас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ппаратное обеспечение работы компьютерных се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7139-1357-44C5-AA47-DEAD13060E0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Основная школа – </a:t>
            </a:r>
            <a:r>
              <a:rPr b="1" lang="en-US" sz="11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11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BBA5-85A4-4238-8004-2FBF5B076D40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Impact"/>
              </a:rPr>
              <a:t>Старшая ш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79C5-D427-4B75-9526-B8A68612AC2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таршая школа – базовый 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D0DB-EE3C-4FF4-92AE-A5117A9C8C7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33FE-30DE-4C25-AB55-66CC717C9BD3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06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14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0AD3-025A-4CC0-88DC-A70BA2FD4AFA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таршая школа –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базовый уровень -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7FD7-513F-4A29-B35E-7B5D83D11A68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Компьютерное делопроизвод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ый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-12) – теоретические знания по основам дело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торой  разд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главы 13-18) – практическое руководство по делопроизводству в электронном офи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1F31-DD0B-4D8D-92FB-257CB18A7EC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Модели об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01AD-CE76-408F-B2FD-D6BE36F97106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Макарова Наталья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Владими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(812) </a:t>
            </a:r>
            <a:r>
              <a:rPr b="0" lang="en-US" sz="1200" spc="-1" strike="noStrike">
                <a:solidFill>
                  <a:srgbClr val="160ce2"/>
                </a:solidFill>
                <a:latin typeface="Times New Roman"/>
              </a:rPr>
              <a:t>571</a:t>
            </a:r>
            <a:r>
              <a:rPr b="0" lang="ru-RU" sz="1200" spc="-1" strike="noStrike">
                <a:solidFill>
                  <a:srgbClr val="160ce2"/>
                </a:solidFill>
                <a:latin typeface="Times New Roman"/>
              </a:rPr>
              <a:t>-60-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D3E9-65AA-4D9E-91C8-9EEF94067E99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3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12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E43E-DCA9-4EE2-8879-DDFF7B14917B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45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907E-6A8F-4689-A7BD-7C2ACC448FE7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38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Требования стандарта</a:t>
            </a:r>
            <a:br>
              <a:rPr sz="1100"/>
            </a:br>
            <a:br>
              <a:rPr sz="11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5FC6-B3B9-41B3-B78E-7C63C06E5D91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2997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нализ заданий ЕГЭ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соответствие требованиям стандар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 данным за 2004, 2005 год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6139440" y="8842680"/>
            <a:ext cx="959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FB4F-79E1-42A2-A66C-13B7A1E02364}" type="slidenum">
              <a:rPr b="1" lang="ru-RU" sz="1200" spc="-1" strike="noStrike" u="sng">
                <a:solidFill>
                  <a:srgbClr val="000000"/>
                </a:solidFill>
                <a:uFillTx/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3F3-7CB8-4703-AAD9-BF23CADB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FC0-EB86-415C-9C8D-E4AFF833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C87-C240-4E6C-9DCD-A7A333CC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A88-22D5-4D3C-BED1-3F4F1F8F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94D-0459-42BC-888B-D350D432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9A9-5A67-4816-A8AA-938513D7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D7D-FC40-4C80-A01C-C78A7A8B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7884-4C93-4E86-A511-4F2FBF4E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C78-55FE-41B1-A247-8C8B1735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8C0-8039-4380-8761-FF1C6121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0E7-063E-4412-A275-2BD04B66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36AF-912E-42ED-A2BE-C8EBDA6A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6600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B31A-2650-4CF7-BAC6-B43A51C1E950}" type="slidenum"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" Target="slide4.xml"/><Relationship Id="rId7" Type="http://schemas.openxmlformats.org/officeDocument/2006/relationships/image" Target="../media/image11.png"/><Relationship Id="rId8" Type="http://schemas.openxmlformats.org/officeDocument/2006/relationships/slide" Target="slide5.xml"/><Relationship Id="rId9" Type="http://schemas.openxmlformats.org/officeDocument/2006/relationships/image" Target="../media/image12.png"/><Relationship Id="rId10" Type="http://schemas.openxmlformats.org/officeDocument/2006/relationships/slide" Target="slide6.xml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1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303120"/>
            <a:ext cx="9144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 Е М И Н А 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МОДЕЛИ ОБУЧЕНИЯ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НА БАЗЕ УЧЕБНО-МЕТОДИЧЕСКОГО КОМПЛЕКТА «ИНФОРМАТИКА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(БАЗОВЫЙ УРОВЕНЬ)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4564080"/>
            <a:ext cx="8604000" cy="14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227160"/>
            <a:ext cx="8915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4205160"/>
            <a:ext cx="914400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едущие:</a:t>
            </a:r>
            <a:br>
              <a:rPr sz="2400"/>
            </a:b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талья  Владимировна   Макарова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- руководитель авторского коллектива </a:t>
            </a:r>
            <a:br>
              <a:rPr sz="18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профессор, доктор педагогических наук</a:t>
            </a:r>
            <a:br>
              <a:rPr sz="18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лияна   Францевн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итова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       -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член авторского коллектива     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                                                                                 доцент,   кандидат педагогических наук</a:t>
            </a:r>
            <a:br>
              <a:rPr sz="2400"/>
            </a:b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0" name="Object 1027"/>
          <p:cNvGraphicFramePr/>
          <p:nvPr/>
        </p:nvGraphicFramePr>
        <p:xfrm>
          <a:off x="-1828800" y="993600"/>
          <a:ext cx="9043920" cy="522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993600"/>
                    <a:ext cx="9043920" cy="522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4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Object 0"/>
          <p:cNvGraphicFramePr/>
          <p:nvPr/>
        </p:nvGraphicFramePr>
        <p:xfrm>
          <a:off x="20520" y="1135080"/>
          <a:ext cx="5127840" cy="50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135080"/>
                    <a:ext cx="512784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заданий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0" name="Object 3"/>
          <p:cNvGraphicFramePr/>
          <p:nvPr/>
        </p:nvGraphicFramePr>
        <p:xfrm>
          <a:off x="3240" y="1192320"/>
          <a:ext cx="5540400" cy="51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92320"/>
                    <a:ext cx="554040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Picture 4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спределение баллов за задания ЕГЭ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по элементам содержания в 2005 г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5" name="Object 1027"/>
          <p:cNvGraphicFramePr/>
          <p:nvPr/>
        </p:nvGraphicFramePr>
        <p:xfrm>
          <a:off x="-390600" y="1227240"/>
          <a:ext cx="6059520" cy="58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0600" y="1227240"/>
                    <a:ext cx="6059520" cy="58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1028" descr=""/>
          <p:cNvPicPr/>
          <p:nvPr/>
        </p:nvPicPr>
        <p:blipFill>
          <a:blip r:embed="rId3"/>
          <a:stretch/>
        </p:blipFill>
        <p:spPr>
          <a:xfrm>
            <a:off x="5219640" y="1557360"/>
            <a:ext cx="4022640" cy="48243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Анализ требований стандарта по линии «Алгоритмизация и программирование»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горитмизация упоминается в стандарте для основной школы. Дидактические единицы, посвященные алгоритмизации занимают  4 строки из 100 в стандарте для основной школы и 1,5 строки из 38 в стандарте для основной школы (базовый уровень), что в обоих случаях составляет 4%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основной школы не упоминается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раммирование в стандарте для  старшей школы (базовый уровень) не упоминае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я ЕГЭ не соответствуют требованиям стандарта ни по содержанию, ни по удельному весу дидактических единиц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тех часах, что отводятся на изучение курса информатики и ИКТ по базисному учебному плану, научить алгоритмизации и программированию невозможн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пешно справитьс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даниями ЕГЭ могут только учащиеся физико-математического и информационно-технологического профил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льзя делать ЕГЭ по информатике обязательным, что пытались сделать в 2006 год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2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914400" y="1828800"/>
            <a:ext cx="74674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рнизация программы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и учебно-методического комплект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а непрерывного обучения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 дисциплине «Информатика и И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picture"/>
          <p:cNvPicPr/>
          <p:nvPr/>
        </p:nvPicPr>
        <p:blipFill>
          <a:blip r:embed="rId1"/>
          <a:stretch/>
        </p:blipFill>
        <p:spPr>
          <a:xfrm>
            <a:off x="2438280" y="2209680"/>
            <a:ext cx="3657600" cy="44960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ые ц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6019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ние ответственного отношения к соблюдению этических и правовых норм информационной деятельнос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информационной культуры школьник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вень которой определяют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990720" y="1295280"/>
            <a:ext cx="815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базовых знаний, отражающих вклад информатики в формирование        современной научной картины мира, роль информационных процессов в обществе и различных системах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ания и умения целенаправленной работы с информацией на основе системного подхода к анализу структуры объектов, создания и исследования информационных моделей;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ия применять, анализировать, преобразовывать информационные модели реальных объектов и процессов на базе современных информационно-коммуникационных  технологий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41148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логического мышления, творческого и познавательного потенциала школьника, его коммуникативных способностей на базе современного компьютерного инструментария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0" y="5181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обретение опыта использования информационных технологий в индивидуальной и коллективной, в том числе проектной деятельности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Учебно-методический комплект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05280" y="685440"/>
            <a:ext cx="94489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 Программа  для базового уровня (системно-информационная концепц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1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Рабочая тетрадь № 2.  Начальн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ОСНОВНАЯ ШКОЛ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Учебник. Теория. 7-9 клас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. 7-9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нформатика и ИКТ. Задачник по моделированию. 9-11 классы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7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8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. Методическое пособие для учителей. 9 кла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СТАРШАЯ ШКОЛА –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0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11 класс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форматика и ИКТ. Практикум по программированию. 10-11 классы. Базовый уровен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-533520">
              <a:lnSpc>
                <a:spcPct val="90000"/>
              </a:lnSpc>
              <a:buClr>
                <a:srgbClr val="ff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мпьютерное делопроизводств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(элективный курс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457200" y="3276720"/>
            <a:ext cx="0" cy="144756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57200" y="4724280"/>
            <a:ext cx="1295280" cy="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457200" y="3276720"/>
            <a:ext cx="15228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3"/>
          <p:cNvSpPr txBox="1"/>
          <p:nvPr/>
        </p:nvSpPr>
        <p:spPr>
          <a:xfrm>
            <a:off x="2057400" y="228600"/>
            <a:ext cx="5029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ccff"/>
                  </a:solidFill>
                  <a:miter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Содержание семинара</a:t>
            </a:r>
            <a:endParaRPr b="1" lang="en-US" sz="3200" spc="1" strike="noStrike">
              <a:ln w="9360">
                <a:solidFill>
                  <a:srgbClr val="00ccff"/>
                </a:solidFill>
                <a:miter/>
              </a:ln>
              <a:gradFill rotWithShape="0">
                <a:gsLst>
                  <a:gs pos="0">
                    <a:srgbClr val="000080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9907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Требования Государственного образовательного стандарта «Информатика и ИКТ» для среднего (полного)  общего образования и ЕГ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0" y="2666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рнизация программы и  учебно-методического комплект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3657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Модели тематического планирования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4572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Развитие линии алгоритмизации и программирования в учебно-методическом комплекте по информатике и ИКТ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основной школе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                 </a:t>
            </a:r>
            <a:r>
              <a:rPr b="1" lang="ru-RU" sz="2400" spc="-1" strike="noStrike">
                <a:solidFill>
                  <a:srgbClr val="000098"/>
                </a:solidFill>
                <a:latin typeface="Verdana"/>
              </a:rPr>
              <a:t>- в старшей школе – базовый уровень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5" descr="Методика 9 класс-1"/>
          <p:cNvPicPr/>
          <p:nvPr/>
        </p:nvPicPr>
        <p:blipFill>
          <a:blip r:embed="rId1"/>
          <a:stretch/>
        </p:blipFill>
        <p:spPr>
          <a:xfrm>
            <a:off x="7238880" y="3886200"/>
            <a:ext cx="173988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Методика 8 класс-1"/>
          <p:cNvPicPr/>
          <p:nvPr/>
        </p:nvPicPr>
        <p:blipFill>
          <a:blip r:embed="rId2"/>
          <a:stretch/>
        </p:blipFill>
        <p:spPr>
          <a:xfrm>
            <a:off x="6934320" y="1981080"/>
            <a:ext cx="1643040" cy="24717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ЧЕБНО-МЕТОДИЧЕСКИЙ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МПЛЕКТ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09480" y="914400"/>
            <a:ext cx="62485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«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  <a:hlinkClick r:id="rId3" action="ppaction://hlinksldjump"/>
              </a:rPr>
              <a:t>ИНФОРМАТИКА</a:t>
            </a: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 И ИКТ»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Rab-tetr5"/>
          <p:cNvPicPr/>
          <p:nvPr/>
        </p:nvPicPr>
        <p:blipFill>
          <a:blip r:embed="rId4"/>
          <a:stretch/>
        </p:blipFill>
        <p:spPr>
          <a:xfrm>
            <a:off x="2154240" y="176688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Rab-tetr6"/>
          <p:cNvPicPr/>
          <p:nvPr/>
        </p:nvPicPr>
        <p:blipFill>
          <a:blip r:embed="rId5"/>
          <a:stretch/>
        </p:blipFill>
        <p:spPr>
          <a:xfrm>
            <a:off x="4130640" y="176688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7-9teor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04920" y="4267080"/>
            <a:ext cx="1747800" cy="229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aktikum7-9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438280" y="4267080"/>
            <a:ext cx="1754280" cy="2281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Zadachnik7-9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648320" y="4267080"/>
            <a:ext cx="1739880" cy="2266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Nach-kurs5-6"/>
          <p:cNvPicPr/>
          <p:nvPr/>
        </p:nvPicPr>
        <p:blipFill>
          <a:blip r:embed="rId12"/>
          <a:stretch/>
        </p:blipFill>
        <p:spPr>
          <a:xfrm>
            <a:off x="182520" y="1725480"/>
            <a:ext cx="1730520" cy="2252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Методика 7 класс-1"/>
          <p:cNvPicPr/>
          <p:nvPr/>
        </p:nvPicPr>
        <p:blipFill>
          <a:blip r:embed="rId13"/>
          <a:stretch/>
        </p:blipFill>
        <p:spPr>
          <a:xfrm>
            <a:off x="7315200" y="228600"/>
            <a:ext cx="1654200" cy="23414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4200" y="28872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7" name="Picture 3" descr="10-11"/>
          <p:cNvPicPr/>
          <p:nvPr/>
        </p:nvPicPr>
        <p:blipFill>
          <a:blip r:embed="rId1"/>
          <a:stretch/>
        </p:blipFill>
        <p:spPr>
          <a:xfrm>
            <a:off x="533520" y="2209680"/>
            <a:ext cx="1800000" cy="23846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2438280" y="2895480"/>
            <a:ext cx="1578240" cy="936720"/>
          </a:xfrm>
          <a:prstGeom prst="rightArrow">
            <a:avLst>
              <a:gd name="adj1" fmla="val 50000"/>
              <a:gd name="adj2" fmla="val 4212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90920" y="3809880"/>
            <a:ext cx="213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05-2006 г.г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10" descr="Практикум программ-10-11"/>
          <p:cNvPicPr/>
          <p:nvPr/>
        </p:nvPicPr>
        <p:blipFill>
          <a:blip r:embed="rId2"/>
          <a:stretch/>
        </p:blipFill>
        <p:spPr>
          <a:xfrm>
            <a:off x="5334120" y="1828800"/>
            <a:ext cx="3581280" cy="2930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10 кл-обложка-2"/>
          <p:cNvPicPr/>
          <p:nvPr/>
        </p:nvPicPr>
        <p:blipFill>
          <a:blip r:embed="rId3"/>
          <a:stretch/>
        </p:blipFill>
        <p:spPr>
          <a:xfrm>
            <a:off x="4648320" y="838080"/>
            <a:ext cx="2017440" cy="2614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11-2"/>
          <p:cNvPicPr/>
          <p:nvPr/>
        </p:nvPicPr>
        <p:blipFill>
          <a:blip r:embed="rId4"/>
          <a:stretch/>
        </p:blipFill>
        <p:spPr>
          <a:xfrm>
            <a:off x="4724280" y="3809880"/>
            <a:ext cx="194940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26"/>
          <p:cNvSpPr/>
          <p:nvPr/>
        </p:nvSpPr>
        <p:spPr>
          <a:xfrm>
            <a:off x="3124080" y="1447920"/>
            <a:ext cx="2971800" cy="49528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ХНИЧЕСКО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тектура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цессор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утрен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ешняя памя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иферийные устройств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огические основы построения компьютер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1027"/>
          <p:cNvSpPr/>
          <p:nvPr/>
        </p:nvSpPr>
        <p:spPr>
          <a:xfrm>
            <a:off x="0" y="1447920"/>
            <a:ext cx="3048120" cy="510516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ИНА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ый процесс                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к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формационная модель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дел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кспери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028"/>
          <p:cNvSpPr/>
          <p:nvPr/>
        </p:nvSpPr>
        <p:spPr>
          <a:xfrm>
            <a:off x="6134040" y="1447920"/>
            <a:ext cx="3009960" cy="49575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ЦИОННЫХ ПРОЦЕСС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айл, папк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реда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струментарий программирования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кладная среда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пьютерный документ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дак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Форматирование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Rectangle 1029"/>
          <p:cNvSpPr/>
          <p:nvPr/>
        </p:nvSpPr>
        <p:spPr>
          <a:xfrm>
            <a:off x="457200" y="228600"/>
            <a:ext cx="8458200" cy="6094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ТИКА и  ИК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8" name="Group 1030"/>
          <p:cNvGrpSpPr/>
          <p:nvPr/>
        </p:nvGrpSpPr>
        <p:grpSpPr>
          <a:xfrm>
            <a:off x="1219320" y="838080"/>
            <a:ext cx="6994440" cy="614160"/>
            <a:chOff x="1219320" y="838080"/>
            <a:chExt cx="6994440" cy="614160"/>
          </a:xfrm>
        </p:grpSpPr>
        <p:sp>
          <p:nvSpPr>
            <p:cNvPr id="149" name="Line 1031"/>
            <p:cNvSpPr/>
            <p:nvPr/>
          </p:nvSpPr>
          <p:spPr>
            <a:xfrm>
              <a:off x="1219320" y="1150200"/>
              <a:ext cx="6994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1032"/>
            <p:cNvSpPr/>
            <p:nvPr/>
          </p:nvSpPr>
          <p:spPr>
            <a:xfrm>
              <a:off x="44946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1033"/>
            <p:cNvSpPr/>
            <p:nvPr/>
          </p:nvSpPr>
          <p:spPr>
            <a:xfrm>
              <a:off x="122868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1034"/>
            <p:cNvSpPr/>
            <p:nvPr/>
          </p:nvSpPr>
          <p:spPr>
            <a:xfrm>
              <a:off x="8204400" y="115020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1035"/>
            <p:cNvSpPr/>
            <p:nvPr/>
          </p:nvSpPr>
          <p:spPr>
            <a:xfrm>
              <a:off x="4494600" y="838080"/>
              <a:ext cx="0" cy="302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4" name="Text Box 1036"/>
          <p:cNvSpPr/>
          <p:nvPr/>
        </p:nvSpPr>
        <p:spPr>
          <a:xfrm>
            <a:off x="5321160" y="576252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037"/>
          <p:cNvSpPr/>
          <p:nvPr/>
        </p:nvSpPr>
        <p:spPr>
          <a:xfrm>
            <a:off x="6477120" y="289548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038"/>
          <p:cNvSpPr/>
          <p:nvPr/>
        </p:nvSpPr>
        <p:spPr>
          <a:xfrm>
            <a:off x="222120" y="281952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Line 1039"/>
          <p:cNvSpPr/>
          <p:nvPr/>
        </p:nvSpPr>
        <p:spPr>
          <a:xfrm>
            <a:off x="3352680" y="2852640"/>
            <a:ext cx="2286000" cy="0"/>
          </a:xfrm>
          <a:prstGeom prst="line">
            <a:avLst/>
          </a:prstGeom>
          <a:ln w="15840">
            <a:solidFill>
              <a:srgbClr val="b8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3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WordArt 3"/>
          <p:cNvSpPr txBox="1"/>
          <p:nvPr/>
        </p:nvSpPr>
        <p:spPr>
          <a:xfrm>
            <a:off x="1295280" y="1828800"/>
            <a:ext cx="6324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Модели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ематического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планирования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3"/>
          <p:cNvSpPr txBox="1"/>
          <p:nvPr/>
        </p:nvSpPr>
        <p:spPr>
          <a:xfrm>
            <a:off x="762120" y="18288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Начальный уровень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Rab-tetr5"/>
          <p:cNvPicPr/>
          <p:nvPr/>
        </p:nvPicPr>
        <p:blipFill>
          <a:blip r:embed="rId1"/>
          <a:stretch/>
        </p:blipFill>
        <p:spPr>
          <a:xfrm rot="19123800">
            <a:off x="533160" y="4343040"/>
            <a:ext cx="1685880" cy="2255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Rab-tetr6"/>
          <p:cNvPicPr/>
          <p:nvPr/>
        </p:nvPicPr>
        <p:blipFill>
          <a:blip r:embed="rId2"/>
          <a:stretch/>
        </p:blipFill>
        <p:spPr>
          <a:xfrm rot="1770600">
            <a:off x="2895120" y="4343040"/>
            <a:ext cx="1812960" cy="2266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Nach-kurs5-6"/>
          <p:cNvPicPr/>
          <p:nvPr/>
        </p:nvPicPr>
        <p:blipFill>
          <a:blip r:embed="rId3"/>
          <a:stretch/>
        </p:blipFill>
        <p:spPr>
          <a:xfrm>
            <a:off x="6553080" y="4267080"/>
            <a:ext cx="1730520" cy="2252880"/>
          </a:xfrm>
          <a:prstGeom prst="rect">
            <a:avLst/>
          </a:prstGeom>
          <a:ln w="0">
            <a:noFill/>
          </a:ln>
        </p:spPr>
      </p:pic>
      <p:sp>
        <p:nvSpPr>
          <p:cNvPr id="167" name="WordArt 5"/>
          <p:cNvSpPr txBox="1"/>
          <p:nvPr/>
        </p:nvSpPr>
        <p:spPr>
          <a:xfrm>
            <a:off x="914400" y="152280"/>
            <a:ext cx="76201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</a:t>
            </a:r>
            <a:endParaRPr b="1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533520" y="1219320"/>
            <a:ext cx="754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начальный уровень)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1828800"/>
          <a:ext cx="8382240" cy="1757520"/>
        </p:xfrm>
        <a:graphic>
          <a:graphicData uri="http://schemas.openxmlformats.org/drawingml/2006/table">
            <a:tbl>
              <a:tblPr/>
              <a:tblGrid>
                <a:gridCol w="1909800"/>
                <a:gridCol w="6472440"/>
              </a:tblGrid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мся работать на компьютере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графика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 программирования ЛогоМир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WordArt 24"/>
          <p:cNvSpPr txBox="1"/>
          <p:nvPr/>
        </p:nvSpPr>
        <p:spPr>
          <a:xfrm>
            <a:off x="838080" y="3733920"/>
            <a:ext cx="42674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6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бочие тетради</a:t>
            </a:r>
            <a:endParaRPr b="1" lang="en-US" sz="2800" spc="1" strike="noStrike">
              <a:ln w="0">
                <a:noFill/>
              </a:ln>
              <a:blipFill rotWithShape="0">
                <a:blip r:embed="rId7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25"/>
          <p:cNvSpPr txBox="1"/>
          <p:nvPr/>
        </p:nvSpPr>
        <p:spPr>
          <a:xfrm>
            <a:off x="5791320" y="3809880"/>
            <a:ext cx="304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92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blipFill rotWithShape="0">
                  <a:blip r:embed="rId8">
                    <a:alphaModFix amt="48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чебник</a:t>
            </a:r>
            <a:endParaRPr b="1" lang="en-US" sz="2800" spc="1" strike="noStrike">
              <a:ln w="0">
                <a:noFill/>
              </a:ln>
              <a:blipFill rotWithShape="0">
                <a:blip r:embed="rId9">
                  <a:alphaModFix amt="48000"/>
                </a:blip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Начальный уровень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530280"/>
          <a:ext cx="8763120" cy="5965920"/>
        </p:xfrm>
        <a:graphic>
          <a:graphicData uri="http://schemas.openxmlformats.org/drawingml/2006/table">
            <a:tbl>
              <a:tblPr/>
              <a:tblGrid>
                <a:gridCol w="542880"/>
                <a:gridCol w="5427720"/>
                <a:gridCol w="932040"/>
                <a:gridCol w="1022400"/>
                <a:gridCol w="838080"/>
              </a:tblGrid>
              <a:tr h="425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ор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учение работе на компьютер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ow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Блокнот, Калькулятор, составной документ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мпьютерная графика как средство развития творческого потенциала (алгоритм, точное построение графических объектов, конструирование из мозаики, моделирование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а программирования Лого Миры как средство развития алгоритмического и логического мыш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WordArt 2"/>
          <p:cNvSpPr txBox="1"/>
          <p:nvPr/>
        </p:nvSpPr>
        <p:spPr>
          <a:xfrm>
            <a:off x="762120" y="1828800"/>
            <a:ext cx="7467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сновн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7-9teo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952880" y="990720"/>
            <a:ext cx="1917720" cy="25146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3"/>
          <p:cNvSpPr txBox="1"/>
          <p:nvPr/>
        </p:nvSpPr>
        <p:spPr>
          <a:xfrm>
            <a:off x="457200" y="228600"/>
            <a:ext cx="8001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80880" y="3429000"/>
          <a:ext cx="8452080" cy="3211560"/>
        </p:xfrm>
        <a:graphic>
          <a:graphicData uri="http://schemas.openxmlformats.org/drawingml/2006/table">
            <a:tbl>
              <a:tblPr/>
              <a:tblGrid>
                <a:gridCol w="1822680"/>
                <a:gridCol w="66294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я. Информационные процесс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ая картина ми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хническ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 И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рия, современное состояние и перспективы компьютерной техники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5" action="ppaction://hlinksldjump"/>
              </a:rPr>
              <a:t>Теория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914400" y="1371600"/>
            <a:ext cx="39625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Практикум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380880" y="0"/>
            <a:ext cx="795816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7-9</a:t>
            </a:r>
            <a:endParaRPr b="1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2590920"/>
          <a:ext cx="8404200" cy="4078080"/>
        </p:xfrm>
        <a:graphic>
          <a:graphicData uri="http://schemas.openxmlformats.org/drawingml/2006/table">
            <a:tbl>
              <a:tblPr/>
              <a:tblGrid>
                <a:gridCol w="1566720"/>
                <a:gridCol w="683748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истемной среды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ndow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реды табличн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воение СУБД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6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икации в Интерне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7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8.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ирование в среде ЛО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ы алгоритмиз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Picture 41" descr="практикум 7-9"/>
          <p:cNvPicPr/>
          <p:nvPr/>
        </p:nvPicPr>
        <p:blipFill>
          <a:blip r:embed="rId4"/>
          <a:stretch/>
        </p:blipFill>
        <p:spPr>
          <a:xfrm>
            <a:off x="7010280" y="990720"/>
            <a:ext cx="1781280" cy="2152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027"/>
          <p:cNvSpPr/>
          <p:nvPr/>
        </p:nvSpPr>
        <p:spPr>
          <a:xfrm>
            <a:off x="3737160" y="45720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асть 1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WordArt 1028"/>
          <p:cNvSpPr txBox="1"/>
          <p:nvPr/>
        </p:nvSpPr>
        <p:spPr>
          <a:xfrm>
            <a:off x="1066680" y="1752480"/>
            <a:ext cx="7086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Требования государственного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разовательного стандарта   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"Информатика и ИКТ"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для среднего (полного) 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общего образования и ЕГЭ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457200" y="22860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нформатика и ИКТ   9-11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9144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(базовый уровень)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Задачник по моделированию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-228600" y="5873760"/>
            <a:ext cx="937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04640" y="2489040"/>
          <a:ext cx="8224920" cy="3743640"/>
        </p:xfrm>
        <a:graphic>
          <a:graphicData uri="http://schemas.openxmlformats.org/drawingml/2006/table">
            <a:tbl>
              <a:tblPr/>
              <a:tblGrid>
                <a:gridCol w="1903680"/>
                <a:gridCol w="63212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1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графического редакт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2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среде  текстового процессор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3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рование в электро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ица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 4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формационные модели в базах данных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1219320" y="533520"/>
            <a:ext cx="6748200" cy="22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тодические пособия </a:t>
            </a:r>
            <a:endParaRPr b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для учителей</a:t>
            </a:r>
            <a:endParaRPr b="1" lang="en-US" sz="2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Picture 3" descr="Методика 7 класс-1"/>
          <p:cNvPicPr/>
          <p:nvPr/>
        </p:nvPicPr>
        <p:blipFill>
          <a:blip r:embed="rId5"/>
          <a:stretch/>
        </p:blipFill>
        <p:spPr>
          <a:xfrm>
            <a:off x="1393920" y="3475080"/>
            <a:ext cx="1854000" cy="2624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Методика 8 класс-1"/>
          <p:cNvPicPr/>
          <p:nvPr/>
        </p:nvPicPr>
        <p:blipFill>
          <a:blip r:embed="rId6"/>
          <a:stretch/>
        </p:blipFill>
        <p:spPr>
          <a:xfrm>
            <a:off x="3795840" y="3427560"/>
            <a:ext cx="1841400" cy="2770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Методика 9 класс-1"/>
          <p:cNvPicPr/>
          <p:nvPr/>
        </p:nvPicPr>
        <p:blipFill>
          <a:blip r:embed="rId7"/>
          <a:stretch/>
        </p:blipFill>
        <p:spPr>
          <a:xfrm>
            <a:off x="6172200" y="3429000"/>
            <a:ext cx="1949400" cy="2817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/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54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116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3 года – 23 час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Информационная картина мира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0" y="380880"/>
            <a:ext cx="9829800" cy="70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нятие об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деятельность человек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процессы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б объектах окружающего мир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родолжение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ые основы процессов управл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онная модель объекта (повтор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системе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этапы моделирова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елирование в программных средах: графическом редакторе, текстовом процессоре, базах данных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классификации объект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модел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рограммн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793800"/>
            <a:ext cx="876312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фический редакт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i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кстов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программ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а программирования ЛОГО  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----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ная сред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ndow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абличный процессор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c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бщая характеристика прикладной среды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ммуникации в глобальной сети Интерне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ы алгоритмиз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программ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стема управления базой данных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ехническое обеспечение информационных технологий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1143000"/>
            <a:ext cx="914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7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о памят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стройства ввода и вывода информации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8 класс</a:t>
            </a:r>
            <a:r>
              <a:rPr b="1" lang="ru-RU" sz="2000" spc="-1" strike="noStrike">
                <a:solidFill>
                  <a:srgbClr val="000098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ставление о микропроцессо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заимодействие устройств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дирование информации в компьютер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тория развит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лассификация компьютеров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9 клас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ппаратное обеспечение работы компьютерных сетей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огические основы построения компьютер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новная школа –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8/9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классы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709560"/>
          <a:ext cx="9144000" cy="5988240"/>
        </p:xfrm>
        <a:graphic>
          <a:graphicData uri="http://schemas.openxmlformats.org/drawingml/2006/table">
            <a:tbl>
              <a:tblPr/>
              <a:tblGrid>
                <a:gridCol w="380880"/>
                <a:gridCol w="5486400"/>
                <a:gridCol w="838440"/>
                <a:gridCol w="990360"/>
                <a:gridCol w="762120"/>
                <a:gridCol w="68580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нформационная картина мир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32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граммное обеспечение информационных технологий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81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хническое обеспечение информационных технологи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 2 года – 15 час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2"/>
          <p:cNvSpPr txBox="1"/>
          <p:nvPr/>
        </p:nvSpPr>
        <p:spPr>
          <a:xfrm>
            <a:off x="762120" y="18288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0000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Impact"/>
              </a:rPr>
              <a:t>Старшая школа</a:t>
            </a:r>
            <a:endParaRPr b="1" lang="en-US" sz="2400" spc="1" strike="noStrike">
              <a:ln w="9360">
                <a:solidFill>
                  <a:srgbClr val="33cccc"/>
                </a:solidFill>
                <a:miter/>
              </a:ln>
              <a:solidFill>
                <a:srgbClr val="0000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Verdana"/>
              </a:rPr>
              <a:t>Старшая школа – базовый уровень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6" name="Picture 10" descr="Практикум программ-10-11"/>
          <p:cNvPicPr/>
          <p:nvPr/>
        </p:nvPicPr>
        <p:blipFill>
          <a:blip r:embed="rId1"/>
          <a:stretch/>
        </p:blipFill>
        <p:spPr>
          <a:xfrm>
            <a:off x="4724280" y="3270240"/>
            <a:ext cx="4267440" cy="3282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3" descr="10 кл-обложка-2"/>
          <p:cNvPicPr/>
          <p:nvPr/>
        </p:nvPicPr>
        <p:blipFill>
          <a:blip r:embed="rId2"/>
          <a:stretch/>
        </p:blipFill>
        <p:spPr>
          <a:xfrm>
            <a:off x="457200" y="990720"/>
            <a:ext cx="2881440" cy="3733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11-2"/>
          <p:cNvPicPr/>
          <p:nvPr/>
        </p:nvPicPr>
        <p:blipFill>
          <a:blip r:embed="rId3"/>
          <a:stretch/>
        </p:blipFill>
        <p:spPr>
          <a:xfrm>
            <a:off x="3429000" y="2362320"/>
            <a:ext cx="2666880" cy="35049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0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0" y="457200"/>
          <a:ext cx="9144000" cy="629604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7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процессы, модели, объек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боты  с объектами текстового докумен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о-коммуникационные              технологии в компьютерной се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/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/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представле-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ния информации в виде презентац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обработки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данных в среде табличного процессор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/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разработки проект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18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6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2/4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Государственный стандарт общего образования включает три компонента:</a:t>
            </a:r>
            <a:br>
              <a:rPr sz="24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едеральны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 – устанавливается Российской Федераци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ональны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ционально-региональный) компонент – устанавливается субъектом Российской Федераци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1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понент образовательного учреж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амостоятельно устанавливается образовательным учрежде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57200" y="5867280"/>
            <a:ext cx="8458200" cy="3988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5400000"/>
          </a:gradFill>
          <a:ln w="22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ЦЕНТРИЧЕСКИЙ ПРИНЦИП ОБУЧЕНИЯ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Старшая школа – </a:t>
            </a: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базовый уровень -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 11 класс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 </a:t>
            </a:r>
            <a:br>
              <a:rPr sz="24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0" y="457200"/>
          <a:ext cx="9144000" cy="6031080"/>
        </p:xfrm>
        <a:graphic>
          <a:graphicData uri="http://schemas.openxmlformats.org/drawingml/2006/table">
            <a:tbl>
              <a:tblPr/>
              <a:tblGrid>
                <a:gridCol w="457200"/>
                <a:gridCol w="5181480"/>
                <a:gridCol w="914400"/>
                <a:gridCol w="990720"/>
                <a:gridCol w="762120"/>
                <a:gridCol w="838080"/>
              </a:tblGrid>
              <a:tr h="406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л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час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комп(т + п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социальной информати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ые системы и технолог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автоматизированной обработки текстовых документов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/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Информационная технология хранения данных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/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/1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Основы программирования в среде </a:t>
                      </a:r>
                      <a:r>
                        <a:rPr b="1" lang="en-US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Visual Basi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/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98"/>
                          </a:solidFill>
                          <a:latin typeface="Arial"/>
                        </a:rPr>
                        <a:t>Подготовка к экзамена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того с зачетными занятиями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68/3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6/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2/2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80/5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54000" rIns="54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Элективный курс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Компьютерное делопроизводство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505320" y="1981080"/>
            <a:ext cx="510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ервый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-12) – теоретические знания по основам делопроизводства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200400" y="388620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Второй  раздел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(главы 13-18) – практическое руководство по делопроизводству в электронном офисе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8" descr="picture"/>
          <p:cNvPicPr/>
          <p:nvPr/>
        </p:nvPicPr>
        <p:blipFill>
          <a:blip r:embed="rId1"/>
          <a:stretch/>
        </p:blipFill>
        <p:spPr>
          <a:xfrm>
            <a:off x="304920" y="1447920"/>
            <a:ext cx="3047760" cy="4398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Модели обучения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066680"/>
          <a:ext cx="8839080" cy="5168880"/>
        </p:xfrm>
        <a:graphic>
          <a:graphicData uri="http://schemas.openxmlformats.org/drawingml/2006/table">
            <a:tbl>
              <a:tblPr/>
              <a:tblGrid>
                <a:gridCol w="2111400"/>
                <a:gridCol w="477720"/>
                <a:gridCol w="614520"/>
                <a:gridCol w="473040"/>
                <a:gridCol w="703080"/>
                <a:gridCol w="704880"/>
                <a:gridCol w="703440"/>
                <a:gridCol w="704880"/>
                <a:gridCol w="703080"/>
                <a:gridCol w="625680"/>
                <a:gridCol w="1017360"/>
              </a:tblGrid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дел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. тетради (5-6) + Лого (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-6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ая + стандарт (10-11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38160" marR="381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720"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стандарту 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зовый уровень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+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+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cc00ff"/>
                        </a:gs>
                        <a:gs pos="100000">
                          <a:srgbClr val="00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33" name="Line 592"/>
          <p:cNvSpPr/>
          <p:nvPr/>
        </p:nvSpPr>
        <p:spPr>
          <a:xfrm>
            <a:off x="1143000" y="4648320"/>
            <a:ext cx="30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3"/>
          <p:cNvSpPr/>
          <p:nvPr/>
        </p:nvSpPr>
        <p:spPr>
          <a:xfrm>
            <a:off x="684360" y="162864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Макарова Наталья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Владимировн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(812) </a:t>
            </a:r>
            <a:r>
              <a:rPr b="1" lang="en-US" sz="3200" spc="-1" strike="noStrike">
                <a:solidFill>
                  <a:srgbClr val="160ce2"/>
                </a:solidFill>
                <a:latin typeface="Verdana"/>
              </a:rPr>
              <a:t>571</a:t>
            </a:r>
            <a:r>
              <a:rPr b="1" lang="ru-RU" sz="3200" spc="-1" strike="noStrike">
                <a:solidFill>
                  <a:srgbClr val="160ce2"/>
                </a:solidFill>
                <a:latin typeface="Verdana"/>
              </a:rPr>
              <a:t>-60-44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akarova@ibi.metrocom.ru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8459640" y="6291360"/>
            <a:ext cx="684360" cy="566640"/>
          </a:xfrm>
          <a:custGeom>
            <a:avLst/>
            <a:gdLst>
              <a:gd name="textAreaLeft" fmla="*/ 36720 w 684360"/>
              <a:gd name="textAreaRight" fmla="*/ 647640 w 684360"/>
              <a:gd name="textAreaTop" fmla="*/ 36720 h 566640"/>
              <a:gd name="textAreaBottom" fmla="*/ 529920 h 566640"/>
            </a:gdLst>
            <a:ahLst/>
            <a:rect l="textAreaLeft" t="textAreaTop" r="textAreaRight" b="textAreaBottom"/>
            <a:pathLst>
              <a:path w="26085" h="21600">
                <a:moveTo>
                  <a:pt x="0" y="0"/>
                </a:moveTo>
                <a:lnTo>
                  <a:pt x="26085" y="0"/>
                </a:lnTo>
                <a:lnTo>
                  <a:pt x="26085" y="21600"/>
                </a:lnTo>
                <a:lnTo>
                  <a:pt x="0" y="21600"/>
                </a:lnTo>
                <a:close/>
              </a:path>
              <a:path fill="lightenLess" w="26085" h="21600">
                <a:moveTo>
                  <a:pt x="0" y="0"/>
                </a:moveTo>
                <a:lnTo>
                  <a:pt x="26085" y="0"/>
                </a:lnTo>
                <a:lnTo>
                  <a:pt x="24685" y="1400"/>
                </a:lnTo>
                <a:lnTo>
                  <a:pt x="1400" y="1400"/>
                </a:lnTo>
                <a:close/>
              </a:path>
              <a:path fill="darken" w="26085" h="21600">
                <a:moveTo>
                  <a:pt x="26085" y="0"/>
                </a:moveTo>
                <a:lnTo>
                  <a:pt x="26085" y="21600"/>
                </a:lnTo>
                <a:lnTo>
                  <a:pt x="24685" y="20200"/>
                </a:lnTo>
                <a:lnTo>
                  <a:pt x="24685" y="1400"/>
                </a:lnTo>
                <a:close/>
              </a:path>
              <a:path fill="darkenLess" w="26085" h="21600">
                <a:moveTo>
                  <a:pt x="26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5" y="20200"/>
                </a:lnTo>
                <a:close/>
              </a:path>
              <a:path fill="lighten" w="26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5" h="21600">
                <a:moveTo>
                  <a:pt x="6036" y="7493"/>
                </a:moveTo>
                <a:lnTo>
                  <a:pt x="9543" y="7493"/>
                </a:lnTo>
                <a:lnTo>
                  <a:pt x="9543" y="12828"/>
                </a:lnTo>
                <a:cubicBezTo>
                  <a:pt x="9543" y="13751"/>
                  <a:pt x="10344" y="14482"/>
                  <a:pt x="11380" y="14482"/>
                </a:cubicBezTo>
                <a:lnTo>
                  <a:pt x="13042" y="14482"/>
                </a:lnTo>
                <a:cubicBezTo>
                  <a:pt x="14078" y="14482"/>
                  <a:pt x="14879" y="13751"/>
                  <a:pt x="14879" y="12828"/>
                </a:cubicBezTo>
                <a:lnTo>
                  <a:pt x="14879" y="7493"/>
                </a:lnTo>
                <a:lnTo>
                  <a:pt x="13042" y="7493"/>
                </a:lnTo>
                <a:lnTo>
                  <a:pt x="16550" y="3985"/>
                </a:lnTo>
                <a:lnTo>
                  <a:pt x="20223" y="7493"/>
                </a:lnTo>
                <a:lnTo>
                  <a:pt x="18386" y="7493"/>
                </a:lnTo>
                <a:lnTo>
                  <a:pt x="18386" y="12828"/>
                </a:lnTo>
                <a:cubicBezTo>
                  <a:pt x="18386" y="15596"/>
                  <a:pt x="15810" y="18155"/>
                  <a:pt x="13042" y="18155"/>
                </a:cubicBezTo>
                <a:lnTo>
                  <a:pt x="11380" y="18155"/>
                </a:lnTo>
                <a:cubicBezTo>
                  <a:pt x="8612" y="18155"/>
                  <a:pt x="6036" y="15596"/>
                  <a:pt x="6036" y="12828"/>
                </a:cubicBez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нать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нима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228600" y="1447920"/>
            <a:ext cx="8229600" cy="41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сновные технологии создания, редактирования, оформления, сохранения, передачи информационных объектов различного типа с помощью современных программных средств информационных и коммуникационных технологи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виды информационных моделей, описывающих реальные объекты и процессы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значение и функции операционных систем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уметь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28600" y="609480"/>
            <a:ext cx="8915400" cy="61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перировать различными видами информационных объектов и соотносить результаты с реальными объектам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Распознавать и описывать информационные процесс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спользовать готовые информационные модели и оценивать их соответствие реальному объекту и целям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ценивать достоверность информаци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Иллюстрировать учебные работы с использованием И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 информационные объекты сложной структур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здавать, редактировать и пр. записи в базах данных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Наглядно представлять числовые показатели с помощью деловой график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Требования стандарта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спользовать в практической деятельности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457200" y="1371600"/>
            <a:ext cx="868680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применять информационные образовательные ресурсы в учебной деятельност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Ориентироваться в информационном пространстве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Автоматизировать коммуникационную деятельност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Соблюдать этические и правовые нормы при работе с информацие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000098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Эффективно организовывать индивидуальное информационное пространств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288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Анализ заданий ЕГЭ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на соответствие требованиям стандарта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(по данным за 2004, 2005 годы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0" y="0"/>
          <a:ext cx="9144000" cy="6954840"/>
        </p:xfrm>
        <a:graphic>
          <a:graphicData uri="http://schemas.openxmlformats.org/drawingml/2006/table">
            <a:tbl>
              <a:tblPr/>
              <a:tblGrid>
                <a:gridCol w="4664160"/>
                <a:gridCol w="1297080"/>
                <a:gridCol w="973080"/>
                <a:gridCol w="1236600"/>
                <a:gridCol w="9730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Элементы содержания,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проверяемые заданиями ЕГ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Задани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Бал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нформация и ее код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Алгоритмизация и программирова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ы логик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Моделирование и компьютерный эксп-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Социальная информати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Основные устрой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Программные средства ИК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текстовой информац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р-ки граф-й и зву-й ин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об-ки инф в электр-х та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хнология хранения, поиска и сортировки информации в базах данных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0</a:t>
                      </a: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Телекоммуникационные технологи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  <a:ea typeface="Arial"/>
                        </a:rPr>
                        <a:t>Итог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4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3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0033"/>
                          </a:solidFill>
                          <a:latin typeface="Arial Cyr"/>
                        </a:rPr>
                        <a:t>5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0:50:39Z</dcterms:created>
  <dc:creator>MNV</dc:creator>
  <dc:description/>
  <dc:language>en-US</dc:language>
  <cp:lastModifiedBy>LEGION</cp:lastModifiedBy>
  <dcterms:modified xsi:type="dcterms:W3CDTF">2015-04-01T07:31:47Z</dcterms:modified>
  <cp:revision>348</cp:revision>
  <dc:subject/>
  <dc:title>Презентация PowerPoint</dc:title>
</cp:coreProperties>
</file>