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F926-CDE6-4F7C-914B-616681A21F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" Target="../slides/slide4.xml"/><Relationship Id="rId11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ухкомпонентный курс информатики для началь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 направления «Информат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Горя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r2@procenter.net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5E2C-09FE-4C30-AC02-D2768EF505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этапов изучения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D9EE-78F2-41CE-B296-60518F6B87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ка применения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B722-927A-4F2F-811D-11A89AAC72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умения по окончании школ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ть ИКТ-средст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+soft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 конкретную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ом числе для недоступных пока что применений И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ть необходимые сведения, понимать их, критически их оценивать, систематиз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достоверность сообще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ы, связанные с  информацией и информационными процесс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желаемое влияние с помощью создаваемых информацион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ть средствами ИКТ взаимодействие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цепочки разных ИКТ в одн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служебные действия по отношению к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74BA-3F7D-4F61-B7A0-07A9D53E93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ентарии к пункт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сё, что изучается теоретически может быть в полной мере применено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2187-2112-48B8-9132-7D72797FB4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5180-912F-4298-BECE-4E15302946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A4A6-0E96-433B-A069-F97B097049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2E18-9DDE-4030-A122-8ECFC9C80E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арианты сочетаний информатики, ИКТ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атериальных технологий в 3-4 класса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AB7A-54B7-4481-B847-0BC22F94E3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одульная структура учебн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9537-7264-4049-9063-E02DA154DC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обзор приложений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4B4F-C1A7-49D9-87C0-E3283DD704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раннего обучения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1E6C-66FB-46CD-B497-56AA9E713D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ый типовой дидактический элемен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C870-8D75-4EF9-9BCB-9A3D768166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ет в мире совершенства». Л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енький принц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DCDE-E714-4759-9FBA-736526F611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информатизации и формирования информационного компонента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зз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этичности целей и принципиальной возможности их достиж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достоверности получаемых сведений и более глубокое их осмыс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EC0-13DA-4CBB-94D7-A5BEA9C27E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тизация деятельности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именения ИКТ как инстру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мысление конечной цели и требований к ключевым характеристикам резуль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тапов достижения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отдельных действий и принятие решения об их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способов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работ и оценка результ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8A9D-2E87-4ED7-8B59-33A2776269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br>
              <a:rPr sz="14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 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программы 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(в т.ч. коллекции информационных объек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3ED0-0B7D-4DFA-986C-44A8921332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типовые действия</a:t>
            </a:r>
            <a:br>
              <a:rPr sz="1200"/>
            </a:b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дополнительны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действий (использование датчиков и устройств 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со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хода выполнени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сопроводительной докум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AEDD-11FB-449C-B55F-CDB19DA91E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а информатиз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в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рв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при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ого приложения с самостоятельной настройкой на предметную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повторяющихс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стройки готов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специализированн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B204-50CA-49CD-A5DC-43336F2AC8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8B13-C774-4AEC-84A0-C6DF618EA4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ость применения разных видов информа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FF5D-A66F-4955-8F3B-34EEFD5314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EC11-AC59-4363-B670-9DECACFB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3333-37AA-4141-B685-F711DAE9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0F26-2947-4A9D-814E-567B8722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86DA-9DC6-4865-A840-1411BA37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3699-E343-4FB6-A6F4-D7826555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65D3-D132-471A-A7C6-9726DDB3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9ED4-D730-401E-9556-88502FFE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5A1A-DC91-478D-84BA-C512D3F9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7E84-684E-4E5C-8AAF-E8980B9C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A9AE-D04C-4FAD-899F-ABDB583D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E88E-4EE0-472E-8E64-BBA3D89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2AA9-1A53-4F15-8ABC-33F4FBB1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270F-3E0B-4932-A51F-09CF4216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DDC5-1522-42F6-80EE-6B2F33C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F12F-7EAD-4811-A49F-6B3661AF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E374-598C-4EDF-8AB6-331CD33D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27B0-DC1E-4659-A961-9EE882ED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A99F-40FF-4CAA-99B7-10D3DD3B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EA94-768D-432C-B7E7-077922E4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2490-38B9-4743-A23A-AE8E8364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54BE-A96F-438C-B5B3-D0FE039C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C8E7-DF53-4A19-ACFA-E4644BB2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B17C-AF65-4266-BB04-44D9B328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E878-21EE-4E23-9A0E-98AE21C0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EAE1-44CD-4C77-89CE-B7661709E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CC46-4100-4C46-8CAA-58B6C7CAC8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Двухкомпонентный курс информатики для начальной школы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ординатор направления «Информатик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В.Горя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r2@procenter.net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1593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собенность этапов изучения информатики и ИК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68360" y="2781360"/>
            <a:ext cx="1593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 проф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395280" y="4365720"/>
            <a:ext cx="18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а проф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195640" y="1844640"/>
            <a:ext cx="136836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2195640" y="2205000"/>
            <a:ext cx="1368360" cy="28728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59760 h 287280"/>
              <a:gd name="textAreaBottom" fmla="*/ 2275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2556000" y="3141720"/>
            <a:ext cx="647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2771640" y="4365720"/>
            <a:ext cx="216000" cy="12254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1476360" y="5661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ается широта, повышаются глубина и степень специ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780000" y="1700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широкого профиля доступные по возра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6372360" y="17002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широкого профи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3780000" y="2997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6372360" y="29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3708360" y="44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для  выбранной профе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6443640" y="443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специал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е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а применения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7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умения по окончании шко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ирать ИКТ-средств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+soft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 конкретную задач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 том числе для недоступных пока что применений ИК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ать необходимые сведения, понимать их, критически их оценивать, систематиз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достоверность сообщен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мы, связанные с  информацией и информационными процесс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ть желаемое влияние с помощью создаваемых информацион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овывать средствами ИКТ взаимодействие с партне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цепочки разных ИКТ в одном прое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служебные действия по отношению к 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и к пункт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сё, что изучается теоретически может быть в полной мере применено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зучение информатики и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79280" y="1916280"/>
            <a:ext cx="288000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108000" y="2708280"/>
            <a:ext cx="1800000" cy="649080"/>
            <a:chOff x="108000" y="2708280"/>
            <a:chExt cx="1800000" cy="649080"/>
          </a:xfrm>
        </p:grpSpPr>
        <p:sp>
          <p:nvSpPr>
            <p:cNvPr id="583" name="AutoShape 6"/>
            <p:cNvSpPr/>
            <p:nvPr/>
          </p:nvSpPr>
          <p:spPr>
            <a:xfrm>
              <a:off x="108000" y="2708280"/>
              <a:ext cx="1728360" cy="649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108000" y="2708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403280" y="3716280"/>
            <a:ext cx="1657440" cy="647640"/>
            <a:chOff x="1403280" y="3716280"/>
            <a:chExt cx="1657440" cy="647640"/>
          </a:xfrm>
        </p:grpSpPr>
        <p:sp>
          <p:nvSpPr>
            <p:cNvPr id="586" name="AutoShape 9"/>
            <p:cNvSpPr/>
            <p:nvPr/>
          </p:nvSpPr>
          <p:spPr>
            <a:xfrm>
              <a:off x="1403280" y="3716280"/>
              <a:ext cx="1657440" cy="647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1403280" y="3716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AutoShape 12"/>
          <p:cNvSpPr/>
          <p:nvPr/>
        </p:nvSpPr>
        <p:spPr>
          <a:xfrm>
            <a:off x="826920" y="2276640"/>
            <a:ext cx="289080" cy="431640"/>
          </a:xfrm>
          <a:prstGeom prst="upArrow">
            <a:avLst>
              <a:gd name="adj1" fmla="val 50000"/>
              <a:gd name="adj2" fmla="val 3732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13"/>
          <p:cNvSpPr/>
          <p:nvPr/>
        </p:nvSpPr>
        <p:spPr>
          <a:xfrm>
            <a:off x="1979640" y="227664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4067280" y="595008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6"/>
          <p:cNvSpPr/>
          <p:nvPr/>
        </p:nvSpPr>
        <p:spPr>
          <a:xfrm flipV="1">
            <a:off x="4067280" y="1483920"/>
            <a:ext cx="0" cy="446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067280" y="429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4067280" y="285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01200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3132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3059280" y="342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305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4"/>
          <p:cNvSpPr/>
          <p:nvPr/>
        </p:nvSpPr>
        <p:spPr>
          <a:xfrm>
            <a:off x="4356000" y="5300640"/>
            <a:ext cx="28728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4356000" y="4508640"/>
            <a:ext cx="792360" cy="215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6"/>
          <p:cNvSpPr/>
          <p:nvPr/>
        </p:nvSpPr>
        <p:spPr>
          <a:xfrm>
            <a:off x="4211640" y="3284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7"/>
          <p:cNvSpPr/>
          <p:nvPr/>
        </p:nvSpPr>
        <p:spPr>
          <a:xfrm>
            <a:off x="4211640" y="2060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788000" y="49417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478800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4356000" y="5661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4500720" y="544500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4932360" y="472428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4932360" y="3645000"/>
            <a:ext cx="71280" cy="215640"/>
          </a:xfrm>
          <a:prstGeom prst="upArrow">
            <a:avLst>
              <a:gd name="adj1" fmla="val 50000"/>
              <a:gd name="adj2" fmla="val 7563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529272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680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36"/>
          <p:cNvSpPr/>
          <p:nvPr/>
        </p:nvSpPr>
        <p:spPr>
          <a:xfrm>
            <a:off x="824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5435640" y="342900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6948360" y="1989000"/>
            <a:ext cx="93672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543564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0"/>
          <p:cNvSpPr/>
          <p:nvPr/>
        </p:nvSpPr>
        <p:spPr>
          <a:xfrm>
            <a:off x="5867280" y="5084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41"/>
          <p:cNvSpPr/>
          <p:nvPr/>
        </p:nvSpPr>
        <p:spPr>
          <a:xfrm>
            <a:off x="5435640" y="2060640"/>
            <a:ext cx="122400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42"/>
          <p:cNvSpPr/>
          <p:nvPr/>
        </p:nvSpPr>
        <p:spPr>
          <a:xfrm>
            <a:off x="6300720" y="400536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3"/>
          <p:cNvSpPr/>
          <p:nvPr/>
        </p:nvSpPr>
        <p:spPr>
          <a:xfrm>
            <a:off x="5580000" y="3645000"/>
            <a:ext cx="71640" cy="1800000"/>
          </a:xfrm>
          <a:prstGeom prst="upArrow">
            <a:avLst>
              <a:gd name="adj1" fmla="val 50000"/>
              <a:gd name="adj2" fmla="val 6281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4"/>
          <p:cNvSpPr/>
          <p:nvPr/>
        </p:nvSpPr>
        <p:spPr>
          <a:xfrm>
            <a:off x="6012000" y="3645000"/>
            <a:ext cx="72720" cy="1439640"/>
          </a:xfrm>
          <a:prstGeom prst="upArrow">
            <a:avLst>
              <a:gd name="adj1" fmla="val 50000"/>
              <a:gd name="adj2" fmla="val 49492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5"/>
          <p:cNvSpPr/>
          <p:nvPr/>
        </p:nvSpPr>
        <p:spPr>
          <a:xfrm>
            <a:off x="6443640" y="36450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46"/>
          <p:cNvSpPr/>
          <p:nvPr/>
        </p:nvSpPr>
        <p:spPr>
          <a:xfrm>
            <a:off x="694836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47"/>
          <p:cNvSpPr/>
          <p:nvPr/>
        </p:nvSpPr>
        <p:spPr>
          <a:xfrm>
            <a:off x="752472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8"/>
          <p:cNvSpPr/>
          <p:nvPr/>
        </p:nvSpPr>
        <p:spPr>
          <a:xfrm>
            <a:off x="7093080" y="2205000"/>
            <a:ext cx="71280" cy="3240000"/>
          </a:xfrm>
          <a:prstGeom prst="upArrow">
            <a:avLst>
              <a:gd name="adj1" fmla="val 50000"/>
              <a:gd name="adj2" fmla="val 113636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49"/>
          <p:cNvSpPr/>
          <p:nvPr/>
        </p:nvSpPr>
        <p:spPr>
          <a:xfrm>
            <a:off x="7667640" y="2205000"/>
            <a:ext cx="73080" cy="1655640"/>
          </a:xfrm>
          <a:prstGeom prst="upArrow">
            <a:avLst>
              <a:gd name="adj1" fmla="val 50000"/>
              <a:gd name="adj2" fmla="val 56637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50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1"/>
          <p:cNvSpPr/>
          <p:nvPr/>
        </p:nvSpPr>
        <p:spPr>
          <a:xfrm>
            <a:off x="82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2"/>
          <p:cNvSpPr/>
          <p:nvPr/>
        </p:nvSpPr>
        <p:spPr>
          <a:xfrm>
            <a:off x="8280360" y="19162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179280" y="1268280"/>
            <a:ext cx="4895280" cy="2014200"/>
            <a:chOff x="179280" y="1268280"/>
            <a:chExt cx="4895280" cy="2014200"/>
          </a:xfrm>
        </p:grpSpPr>
        <p:sp>
          <p:nvSpPr>
            <p:cNvPr id="630" name="AutoShape 5"/>
            <p:cNvSpPr/>
            <p:nvPr/>
          </p:nvSpPr>
          <p:spPr>
            <a:xfrm>
              <a:off x="179280" y="1268280"/>
              <a:ext cx="4895280" cy="1978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6"/>
            <p:cNvSpPr/>
            <p:nvPr/>
          </p:nvSpPr>
          <p:spPr>
            <a:xfrm>
              <a:off x="179280" y="1268280"/>
              <a:ext cx="4679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 – это общеучебные познавательные умения, связанные с развитием памяти, внимания, мышления.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новом стандарте для начальной школы формирование общеучебных умений и навыков названо «приоритетом начального общего образования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179280" y="3429000"/>
            <a:ext cx="5112720" cy="1294920"/>
            <a:chOff x="179280" y="3429000"/>
            <a:chExt cx="5112720" cy="1294920"/>
          </a:xfrm>
        </p:grpSpPr>
        <p:sp>
          <p:nvSpPr>
            <p:cNvPr id="633" name="AutoShape 8"/>
            <p:cNvSpPr/>
            <p:nvPr/>
          </p:nvSpPr>
          <p:spPr>
            <a:xfrm>
              <a:off x="179280" y="3429000"/>
              <a:ext cx="4909320" cy="1294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9"/>
            <p:cNvSpPr/>
            <p:nvPr/>
          </p:nvSpPr>
          <p:spPr>
            <a:xfrm>
              <a:off x="179280" y="3429000"/>
              <a:ext cx="51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 – предполагают введение понятий информатики и достаточное число заданий на освоение действий с этими понятиям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179280" y="4869000"/>
            <a:ext cx="4895280" cy="1810440"/>
            <a:chOff x="179280" y="4869000"/>
            <a:chExt cx="4895280" cy="1810440"/>
          </a:xfrm>
        </p:grpSpPr>
        <p:sp>
          <p:nvSpPr>
            <p:cNvPr id="636" name="AutoShape 13"/>
            <p:cNvSpPr/>
            <p:nvPr/>
          </p:nvSpPr>
          <p:spPr>
            <a:xfrm>
              <a:off x="179280" y="4869000"/>
              <a:ext cx="4895280" cy="18104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179280" y="4869000"/>
              <a:ext cx="467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актика применения компьютера – входит в новый стандарт для 3 и 4 класса образовательной области «Технология». Включает: знакомство с компьютером, поиск информации, работу с простыми информационными объектами 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Text Box 16"/>
          <p:cNvSpPr/>
          <p:nvPr/>
        </p:nvSpPr>
        <p:spPr>
          <a:xfrm>
            <a:off x="529272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558000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7236000" y="1844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9"/>
          <p:cNvSpPr/>
          <p:nvPr/>
        </p:nvSpPr>
        <p:spPr>
          <a:xfrm>
            <a:off x="716436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2"/>
          <p:cNvGrpSpPr/>
          <p:nvPr/>
        </p:nvGrpSpPr>
        <p:grpSpPr>
          <a:xfrm>
            <a:off x="5867280" y="2205000"/>
            <a:ext cx="2594160" cy="1008000"/>
            <a:chOff x="5867280" y="2205000"/>
            <a:chExt cx="2594160" cy="1008000"/>
          </a:xfrm>
        </p:grpSpPr>
        <p:sp>
          <p:nvSpPr>
            <p:cNvPr id="643" name="AutoShape 22"/>
            <p:cNvSpPr/>
            <p:nvPr/>
          </p:nvSpPr>
          <p:spPr>
            <a:xfrm>
              <a:off x="5867280" y="2276280"/>
              <a:ext cx="1297080" cy="720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25"/>
            <p:cNvSpPr/>
            <p:nvPr/>
          </p:nvSpPr>
          <p:spPr>
            <a:xfrm>
              <a:off x="5867280" y="2997000"/>
              <a:ext cx="1297080" cy="1425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28"/>
            <p:cNvSpPr/>
            <p:nvPr/>
          </p:nvSpPr>
          <p:spPr>
            <a:xfrm>
              <a:off x="7164360" y="2276280"/>
              <a:ext cx="1297080" cy="863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30"/>
            <p:cNvSpPr/>
            <p:nvPr/>
          </p:nvSpPr>
          <p:spPr>
            <a:xfrm>
              <a:off x="5867280" y="2205000"/>
              <a:ext cx="2592360" cy="100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543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716436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3"/>
          <p:cNvSpPr/>
          <p:nvPr/>
        </p:nvSpPr>
        <p:spPr>
          <a:xfrm>
            <a:off x="5435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4 (2-4)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7164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292720" y="3789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ональный или шко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709308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ера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7"/>
          <p:cNvSpPr/>
          <p:nvPr/>
        </p:nvSpPr>
        <p:spPr>
          <a:xfrm>
            <a:off x="7164360" y="45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обязатель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8"/>
          <p:cNvSpPr/>
          <p:nvPr/>
        </p:nvSpPr>
        <p:spPr>
          <a:xfrm>
            <a:off x="5219640" y="4581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не обязательны, но допуст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9"/>
          <p:cNvSpPr/>
          <p:nvPr/>
        </p:nvSpPr>
        <p:spPr>
          <a:xfrm>
            <a:off x="5148360" y="6216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Информатика в играх и задача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7020000" y="6216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ой инструмент – компьюте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41"/>
          <p:cNvSpPr/>
          <p:nvPr/>
        </p:nvSpPr>
        <p:spPr>
          <a:xfrm>
            <a:off x="5076720" y="5445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05636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ли любой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826920" y="9079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3059280" y="126828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>
            <a:off x="45007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457200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оста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дночасовых предметов: нагрузка в основном на память и недостаточное развитие мыш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одоление недостат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ециальная ориентация на развитие мышления и ограничение числа вводимых понятий строго необходимым минимумом (для понимания условий задан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487240" y="169956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ость объять необъя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2"/>
          <p:cNvSpPr/>
          <p:nvPr/>
        </p:nvSpPr>
        <p:spPr>
          <a:xfrm>
            <a:off x="2627280" y="20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иентация на разви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гического, алгоритмического и системного мышления приводит к явно наблюдаемому более успешному усвоению базовых дисципл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57200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онструктор» из двух компонентов позволяет подбирать оптимальные сочетания в зависимости от материально-технических и прочих услови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0" y="479736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уроков информатики учителями начальных классов позволяет создавать механизм для переноса формируемых на уроках информатики умственных действий на уроки по базовым дисципли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0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4500720" y="206028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едевтика логически сложных разделов позволяет изучать базовый курс более высокими темп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0" y="2133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здание с развитием мышления – это опоздание на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сочетаний информатики, ИК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ьных технологий в 3-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024"/>
          <p:cNvSpPr/>
          <p:nvPr/>
        </p:nvSpPr>
        <p:spPr>
          <a:xfrm>
            <a:off x="250920" y="3213000"/>
            <a:ext cx="288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025"/>
          <p:cNvSpPr/>
          <p:nvPr/>
        </p:nvSpPr>
        <p:spPr>
          <a:xfrm>
            <a:off x="250920" y="414972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26"/>
          <p:cNvSpPr/>
          <p:nvPr/>
        </p:nvSpPr>
        <p:spPr>
          <a:xfrm>
            <a:off x="250920" y="5084640"/>
            <a:ext cx="28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613080" y="34995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613080" y="42919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029"/>
          <p:cNvSpPr/>
          <p:nvPr/>
        </p:nvSpPr>
        <p:spPr>
          <a:xfrm>
            <a:off x="612360" y="537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030"/>
          <p:cNvSpPr/>
          <p:nvPr/>
        </p:nvSpPr>
        <p:spPr>
          <a:xfrm>
            <a:off x="4861440" y="35726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031"/>
          <p:cNvSpPr/>
          <p:nvPr/>
        </p:nvSpPr>
        <p:spPr>
          <a:xfrm>
            <a:off x="7310880" y="3644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032"/>
          <p:cNvSpPr/>
          <p:nvPr/>
        </p:nvSpPr>
        <p:spPr>
          <a:xfrm>
            <a:off x="253440" y="5949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 – федер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033"/>
          <p:cNvSpPr/>
          <p:nvPr/>
        </p:nvSpPr>
        <p:spPr>
          <a:xfrm>
            <a:off x="252000" y="62161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 – школьный и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регион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034"/>
          <p:cNvSpPr/>
          <p:nvPr/>
        </p:nvSpPr>
        <p:spPr>
          <a:xfrm>
            <a:off x="3708360" y="58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и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035"/>
          <p:cNvSpPr/>
          <p:nvPr/>
        </p:nvSpPr>
        <p:spPr>
          <a:xfrm>
            <a:off x="5076720" y="580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устимые 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036"/>
          <p:cNvSpPr/>
          <p:nvPr/>
        </p:nvSpPr>
        <p:spPr>
          <a:xfrm>
            <a:off x="6732720" y="580500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чень хороший, но допустимы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037"/>
          <p:cNvSpPr/>
          <p:nvPr/>
        </p:nvSpPr>
        <p:spPr>
          <a:xfrm>
            <a:off x="3780000" y="4292640"/>
            <a:ext cx="2887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038"/>
          <p:cNvSpPr/>
          <p:nvPr/>
        </p:nvSpPr>
        <p:spPr>
          <a:xfrm>
            <a:off x="4067280" y="429264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39"/>
          <p:cNvSpPr/>
          <p:nvPr/>
        </p:nvSpPr>
        <p:spPr>
          <a:xfrm>
            <a:off x="4356000" y="4292640"/>
            <a:ext cx="289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41"/>
          <p:cNvSpPr/>
          <p:nvPr/>
        </p:nvSpPr>
        <p:spPr>
          <a:xfrm>
            <a:off x="406872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42"/>
          <p:cNvSpPr/>
          <p:nvPr/>
        </p:nvSpPr>
        <p:spPr>
          <a:xfrm>
            <a:off x="349488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044"/>
          <p:cNvSpPr/>
          <p:nvPr/>
        </p:nvSpPr>
        <p:spPr>
          <a:xfrm>
            <a:off x="493236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045"/>
          <p:cNvSpPr/>
          <p:nvPr/>
        </p:nvSpPr>
        <p:spPr>
          <a:xfrm>
            <a:off x="5219640" y="4292640"/>
            <a:ext cx="28908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046"/>
          <p:cNvSpPr/>
          <p:nvPr/>
        </p:nvSpPr>
        <p:spPr>
          <a:xfrm>
            <a:off x="5508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47"/>
          <p:cNvSpPr/>
          <p:nvPr/>
        </p:nvSpPr>
        <p:spPr>
          <a:xfrm>
            <a:off x="5221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048"/>
          <p:cNvSpPr/>
          <p:nvPr/>
        </p:nvSpPr>
        <p:spPr>
          <a:xfrm>
            <a:off x="464724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049"/>
          <p:cNvSpPr/>
          <p:nvPr/>
        </p:nvSpPr>
        <p:spPr>
          <a:xfrm>
            <a:off x="5219640" y="4724280"/>
            <a:ext cx="2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1050"/>
          <p:cNvSpPr/>
          <p:nvPr/>
        </p:nvSpPr>
        <p:spPr>
          <a:xfrm rot="16200000">
            <a:off x="428364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51"/>
          <p:cNvSpPr/>
          <p:nvPr/>
        </p:nvSpPr>
        <p:spPr>
          <a:xfrm rot="16200000">
            <a:off x="543600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608472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053"/>
          <p:cNvSpPr/>
          <p:nvPr/>
        </p:nvSpPr>
        <p:spPr>
          <a:xfrm>
            <a:off x="637236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054"/>
          <p:cNvSpPr/>
          <p:nvPr/>
        </p:nvSpPr>
        <p:spPr>
          <a:xfrm>
            <a:off x="665964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055"/>
          <p:cNvSpPr/>
          <p:nvPr/>
        </p:nvSpPr>
        <p:spPr>
          <a:xfrm>
            <a:off x="637236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056"/>
          <p:cNvSpPr/>
          <p:nvPr/>
        </p:nvSpPr>
        <p:spPr>
          <a:xfrm>
            <a:off x="579816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057"/>
          <p:cNvSpPr/>
          <p:nvPr/>
        </p:nvSpPr>
        <p:spPr>
          <a:xfrm rot="16200000">
            <a:off x="658728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59"/>
          <p:cNvSpPr/>
          <p:nvPr/>
        </p:nvSpPr>
        <p:spPr>
          <a:xfrm>
            <a:off x="7453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060"/>
          <p:cNvSpPr/>
          <p:nvPr/>
        </p:nvSpPr>
        <p:spPr>
          <a:xfrm rot="16200000">
            <a:off x="766836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1"/>
          <p:cNvSpPr/>
          <p:nvPr/>
        </p:nvSpPr>
        <p:spPr>
          <a:xfrm>
            <a:off x="7740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62"/>
          <p:cNvSpPr/>
          <p:nvPr/>
        </p:nvSpPr>
        <p:spPr>
          <a:xfrm>
            <a:off x="7451640" y="4724280"/>
            <a:ext cx="2890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063"/>
          <p:cNvSpPr/>
          <p:nvPr/>
        </p:nvSpPr>
        <p:spPr>
          <a:xfrm>
            <a:off x="7451640" y="4292640"/>
            <a:ext cx="289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ульная структур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395280" y="2205000"/>
            <a:ext cx="374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 перв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3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4643280" y="2205000"/>
            <a:ext cx="439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о втор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4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компью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ису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мультфильмов или живых карт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роектов зданий и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453564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текс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ечат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электрон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бзор при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Picture 7" descr="3dhome"/>
          <p:cNvPicPr/>
          <p:nvPr/>
        </p:nvPicPr>
        <p:blipFill>
          <a:blip r:embed="rId1"/>
          <a:stretch/>
        </p:blipFill>
        <p:spPr>
          <a:xfrm>
            <a:off x="684360" y="342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26" name="Line 0"/>
          <p:cNvSpPr/>
          <p:nvPr/>
        </p:nvSpPr>
        <p:spPr>
          <a:xfrm>
            <a:off x="4356000" y="2205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4500720" y="2276640"/>
            <a:ext cx="41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ики-практику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859280" y="2781360"/>
            <a:ext cx="1368360" cy="1800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6659640" y="2781360"/>
            <a:ext cx="1368360" cy="1800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4859280" y="4797360"/>
            <a:ext cx="1368360" cy="18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1" descr="claris 1"/>
          <p:cNvPicPr/>
          <p:nvPr/>
        </p:nvPicPr>
        <p:blipFill>
          <a:blip r:embed="rId2"/>
          <a:stretch/>
        </p:blipFill>
        <p:spPr>
          <a:xfrm>
            <a:off x="197964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DB"/>
          <p:cNvPicPr/>
          <p:nvPr/>
        </p:nvPicPr>
        <p:blipFill>
          <a:blip r:embed="rId3"/>
          <a:stretch/>
        </p:blipFill>
        <p:spPr>
          <a:xfrm>
            <a:off x="68436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3" descr="drape"/>
          <p:cNvPicPr/>
          <p:nvPr/>
        </p:nvPicPr>
        <p:blipFill>
          <a:blip r:embed="rId4"/>
          <a:stretch/>
        </p:blipFill>
        <p:spPr>
          <a:xfrm>
            <a:off x="133200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flash"/>
          <p:cNvPicPr/>
          <p:nvPr/>
        </p:nvPicPr>
        <p:blipFill>
          <a:blip r:embed="rId5"/>
          <a:stretch/>
        </p:blipFill>
        <p:spPr>
          <a:xfrm>
            <a:off x="197964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floorplan 1"/>
          <p:cNvPicPr/>
          <p:nvPr/>
        </p:nvPicPr>
        <p:blipFill>
          <a:blip r:embed="rId6"/>
          <a:stretch/>
        </p:blipFill>
        <p:spPr>
          <a:xfrm>
            <a:off x="529272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gm"/>
          <p:cNvPicPr/>
          <p:nvPr/>
        </p:nvPicPr>
        <p:blipFill>
          <a:blip r:embed="rId7"/>
          <a:stretch/>
        </p:blipFill>
        <p:spPr>
          <a:xfrm>
            <a:off x="2627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multi"/>
          <p:cNvPicPr/>
          <p:nvPr/>
        </p:nvPicPr>
        <p:blipFill>
          <a:blip r:embed="rId8"/>
          <a:stretch/>
        </p:blipFill>
        <p:spPr>
          <a:xfrm>
            <a:off x="521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8" descr="floorplan 1"/>
          <p:cNvPicPr/>
          <p:nvPr/>
        </p:nvPicPr>
        <p:blipFill>
          <a:blip r:embed="rId9"/>
          <a:stretch/>
        </p:blipFill>
        <p:spPr>
          <a:xfrm>
            <a:off x="327672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9" descr="multi"/>
          <p:cNvPicPr/>
          <p:nvPr/>
        </p:nvPicPr>
        <p:blipFill>
          <a:blip r:embed="rId10"/>
          <a:stretch/>
        </p:blipFill>
        <p:spPr>
          <a:xfrm>
            <a:off x="3276720" y="4149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0"/>
          <p:cNvSpPr/>
          <p:nvPr/>
        </p:nvSpPr>
        <p:spPr>
          <a:xfrm>
            <a:off x="250920" y="1700280"/>
            <a:ext cx="81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привязки к конкретным приложен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1" descr="paint"/>
          <p:cNvPicPr/>
          <p:nvPr/>
        </p:nvPicPr>
        <p:blipFill>
          <a:blip r:embed="rId11"/>
          <a:stretch/>
        </p:blipFill>
        <p:spPr>
          <a:xfrm>
            <a:off x="2627280" y="3429000"/>
            <a:ext cx="4237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2" descr="ge"/>
          <p:cNvPicPr/>
          <p:nvPr/>
        </p:nvPicPr>
        <p:blipFill>
          <a:blip r:embed="rId12"/>
          <a:stretch/>
        </p:blipFill>
        <p:spPr>
          <a:xfrm>
            <a:off x="684360" y="486900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3" descr="Photoshop"/>
          <p:cNvPicPr/>
          <p:nvPr/>
        </p:nvPicPr>
        <p:blipFill>
          <a:blip r:embed="rId13"/>
          <a:stretch/>
        </p:blipFill>
        <p:spPr>
          <a:xfrm>
            <a:off x="1332000" y="4869000"/>
            <a:ext cx="423720" cy="412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4" descr="sb"/>
          <p:cNvPicPr/>
          <p:nvPr/>
        </p:nvPicPr>
        <p:blipFill>
          <a:blip r:embed="rId14"/>
          <a:stretch/>
        </p:blipFill>
        <p:spPr>
          <a:xfrm>
            <a:off x="1979640" y="48690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5" descr="констр_игр"/>
          <p:cNvPicPr/>
          <p:nvPr/>
        </p:nvPicPr>
        <p:blipFill>
          <a:blip r:embed="rId15"/>
          <a:stretch/>
        </p:blipFill>
        <p:spPr>
          <a:xfrm>
            <a:off x="2627280" y="4869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7" descr="логомиры"/>
          <p:cNvPicPr/>
          <p:nvPr/>
        </p:nvPicPr>
        <p:blipFill>
          <a:blip r:embed="rId16"/>
          <a:stretch/>
        </p:blipFill>
        <p:spPr>
          <a:xfrm>
            <a:off x="3276720" y="48690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8" descr="перволого"/>
          <p:cNvPicPr/>
          <p:nvPr/>
        </p:nvPicPr>
        <p:blipFill>
          <a:blip r:embed="rId17"/>
          <a:stretch/>
        </p:blipFill>
        <p:spPr>
          <a:xfrm>
            <a:off x="684360" y="5589720"/>
            <a:ext cx="425160" cy="4251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9" descr="ARCON"/>
          <p:cNvPicPr/>
          <p:nvPr/>
        </p:nvPicPr>
        <p:blipFill>
          <a:blip r:embed="rId18"/>
          <a:stretch/>
        </p:blipFill>
        <p:spPr>
          <a:xfrm>
            <a:off x="133200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0" descr="мия"/>
          <p:cNvPicPr/>
          <p:nvPr/>
        </p:nvPicPr>
        <p:blipFill>
          <a:blip r:embed="rId19"/>
          <a:stretch/>
        </p:blipFill>
        <p:spPr>
          <a:xfrm>
            <a:off x="1979640" y="558972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GIMP"/>
          <p:cNvPicPr/>
          <p:nvPr/>
        </p:nvPicPr>
        <p:blipFill>
          <a:blip r:embed="rId20"/>
          <a:stretch/>
        </p:blipFill>
        <p:spPr>
          <a:xfrm>
            <a:off x="2556000" y="551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2" descr="ImageReady"/>
          <p:cNvPicPr/>
          <p:nvPr/>
        </p:nvPicPr>
        <p:blipFill>
          <a:blip r:embed="rId21"/>
          <a:stretch/>
        </p:blipFill>
        <p:spPr>
          <a:xfrm>
            <a:off x="327672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3" descr="KIDPIX"/>
          <p:cNvPicPr/>
          <p:nvPr/>
        </p:nvPicPr>
        <p:blipFill>
          <a:blip r:embed="rId22"/>
          <a:stretch/>
        </p:blipFill>
        <p:spPr>
          <a:xfrm>
            <a:off x="684360" y="6237360"/>
            <a:ext cx="415800" cy="392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4" descr="TUX"/>
          <p:cNvPicPr/>
          <p:nvPr/>
        </p:nvPicPr>
        <p:blipFill>
          <a:blip r:embed="rId23"/>
          <a:stretch/>
        </p:blipFill>
        <p:spPr>
          <a:xfrm>
            <a:off x="1332000" y="623736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5" descr="TUX"/>
          <p:cNvPicPr/>
          <p:nvPr/>
        </p:nvPicPr>
        <p:blipFill>
          <a:blip r:embed="rId24"/>
          <a:stretch/>
        </p:blipFill>
        <p:spPr>
          <a:xfrm>
            <a:off x="7020000" y="33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6" descr="KNP"/>
          <p:cNvPicPr/>
          <p:nvPr/>
        </p:nvPicPr>
        <p:blipFill>
          <a:blip r:embed="rId25"/>
          <a:stretch/>
        </p:blipFill>
        <p:spPr>
          <a:xfrm>
            <a:off x="327672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7" descr="MACPAINT"/>
          <p:cNvPicPr/>
          <p:nvPr/>
        </p:nvPicPr>
        <p:blipFill>
          <a:blip r:embed="rId26"/>
          <a:stretch/>
        </p:blipFill>
        <p:spPr>
          <a:xfrm>
            <a:off x="2556000" y="6165720"/>
            <a:ext cx="522000" cy="522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8" descr="RPG2003"/>
          <p:cNvPicPr/>
          <p:nvPr/>
        </p:nvPicPr>
        <p:blipFill>
          <a:blip r:embed="rId27"/>
          <a:stretch/>
        </p:blipFill>
        <p:spPr>
          <a:xfrm>
            <a:off x="197964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9" descr="VISICON"/>
          <p:cNvPicPr/>
          <p:nvPr/>
        </p:nvPicPr>
        <p:blipFill>
          <a:blip r:embed="rId28"/>
          <a:stretch/>
        </p:blipFill>
        <p:spPr>
          <a:xfrm>
            <a:off x="133200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1" descr="konstr_obl"/>
          <p:cNvPicPr/>
          <p:nvPr/>
        </p:nvPicPr>
        <p:blipFill>
          <a:blip r:embed="rId29"/>
          <a:stretch/>
        </p:blipFill>
        <p:spPr>
          <a:xfrm>
            <a:off x="6643800" y="4797360"/>
            <a:ext cx="1414440" cy="1800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1835280" y="170028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 задачах раннего обучения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0800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информатизации и формирования информационного компонента мировоз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835280" y="321156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908000" y="3284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школьного курса информатики и информационно-коммуник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1906560" y="4724280"/>
            <a:ext cx="568980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979640" y="4797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раннего обучения инфор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4356000" y="249228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4356000" y="400536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ый типовой дидактический эле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124000" y="2205000"/>
            <a:ext cx="40388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684360" y="2924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2700360" y="292428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ление витрин мага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зайнер вит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газине есть и продовольственные товары, и одежда, и игрушки, и спортивные товары, и много других товаров. Директор магазина для привлечения покупателей решил обновить оформление витр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ери, витрину какого отдела ты поможешь оформить, и нарисуй её эск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1042920" y="335772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042920" y="371628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>
            <a:off x="1042920" y="587700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685440" y="2060640"/>
            <a:ext cx="7392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т в мире совершенства». Ли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ент-Экзюп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аленький принц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задачах информатизации и формирования информационного компонента мировоззр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мировоззр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тичности целей и принципиальной возможности их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достоверности получаемых сведений и более глубокое их осмыс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тиз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Информатизация деятельности</a:t>
            </a:r>
            <a:br>
              <a:rPr sz="40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модель применения ИКТ как инструмента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мысление конечной цели и требований к ключевым характеристикам результ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этапов достижения 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зор имеющихся и потенциально доступ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лана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ние отдельных действий и принятие решения об их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способов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ершение работ и оценка результа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Обзор имеющихся и потенциально доступных ресурсов</a:t>
            </a:r>
            <a:br>
              <a:rPr sz="3600"/>
            </a:b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я исполн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программы 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 (в т.ч. коллекции информационных объек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тдельные типовые действия</a:t>
            </a:r>
            <a:br>
              <a:rPr sz="4400"/>
            </a:br>
            <a:r>
              <a:rPr b="0" i="1" lang="ru-RU" sz="24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дополнительных с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модел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действий (использование датчиков и устройств управ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рдинация действий соисполн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леживание хода выполнения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ение сопроводительной докум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бор способа информатизации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ерви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ерв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при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ого приложения с самостоятельной настройкой на предметную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зация повторяющихся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стройки готов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е создание специализированного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информатиз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ложность применения разных видов информатизац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9:56:49Z</dcterms:created>
  <dc:creator>Александр</dc:creator>
  <dc:description/>
  <dc:language>en-US</dc:language>
  <cp:lastModifiedBy>LEGION</cp:lastModifiedBy>
  <dcterms:modified xsi:type="dcterms:W3CDTF">2015-04-01T07:28:55Z</dcterms:modified>
  <cp:revision>46</cp:revision>
  <dc:subject/>
  <dc:title>Двухкомпонентный курс информатики</dc:title>
</cp:coreProperties>
</file>