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CF50-684E-42FF-B1B2-C6934E60546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" Target="../slides/slide11.xml"/><Relationship Id="rId8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" Target="../slides/slide4.xml"/><Relationship Id="rId11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ухкомпонентный курс информатики для начальной шко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тор направления «Информатик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В.Горяч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r2@procenter.net.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91C1-E7CB-49CF-9310-96D2AC86009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этапов изучения информатики и И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F272D-D28F-46E8-9C3C-866A6C2F60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ношение между информатикой и ИК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ормати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ад в формирование мировоззрения (информационная картина ми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оретические основы применения И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ог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горитм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ционные (поиск и организац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стет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К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ка применения технолог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7180-3781-47FC-AE05-C8462A7A442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умения по окончании школ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ирать ИКТ-средств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+soft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д конкретную зада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ть подготовительные действия для применения ИК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том числе для недоступных пока что применений И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ать необходимые сведения, понимать их, критически их оценивать, систематиз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ть достоверность сообщени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мы, связанные с  информацией и информационными процесса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ть желаемое влияние с помощью создаваемых информационных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вать модели (для исследования, отслеживания текущего состояния, создания представлений, прогноз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ывать средствами ИКТ взаимодействие с партне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ть цепочки разных ИКТ в одном проек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ть служебные действия по отношению к И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43DE-5DCE-4EBF-80FA-771E1392A9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мментарии к пункт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ть подготовительные действия для применения ИКТ (в том числе для недоступных пока что применений ИКТ)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всё, что изучается теоретически может быть в полной мере применено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екоторых теоретических разделов и развитие когнитивных (познавательных) умений может быть ориентировано на будущее применение ИКТ. Например, школьники не могут быть реальными заказчиками специализированных приложений. В то же время, необходимое развитие мышления для анализа предметной области может и должно быть выполнено своевременно – во время обучения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11A8-16C3-444D-B8BD-82EC26A2FC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нформатики и И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00BF-99D0-4213-AB93-833AA007D6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ее обучение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BE2A-3B56-4E0D-87B6-7A30E4D73F2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ее обучение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27D4C-8437-429C-8D6B-91A8A61EBC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нформатики и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Варианты сочетаний информатики, ИКТ 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материальных технологий в 3-4 класса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B12E-0618-404E-9FF9-5C46CAAE92D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Модульная структура учебни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31DE-FACE-46C8-864D-530B623EC8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чебни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(обзор приложений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4523-D726-46FB-8E40-5A101A56C1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задачах раннего обучения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2C41-2DEB-4BCE-9F70-89D01273F7F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Новый типовой дидактический элемен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833E-0635-4F5E-920B-3ADD710DE2B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Нет в мире совершенства». Л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ент-Экзюпе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ленький принц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1708-460B-4028-932C-FB12B17BE8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задачах информатизации и формирования информационного компонента мировоз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кватная оценка окружающей действительности, постановка достойных и принципиально осуществимых целей и их дости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мировоззр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ценка этичности целей и принципиальной возможности их достиж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ценка достоверности получаемых сведений и более глубокое их осмыслен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за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менение ИКТ как инструмента в действиях, направленных на достижение поставленных целе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7E59-E0A8-4CAA-B684-73FCF235A1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тизация деятельности</a:t>
            </a:r>
            <a:br>
              <a:rPr sz="2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именения ИКТ как инструмен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мысление конечной цели и требований к ключевым характеристикам результ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этапов достижения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 имеющихся и потенциально доступ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объектов информационной природы (текст, изображение, звук, видео) и принятие решения об их цифровом представ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отдельных действий и принятие решения об их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способов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е скоординированных действий по плану с применением информационно-коммуникационных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ершение работ и оценка результа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6525-7A84-4B73-B65A-8D3F7F8663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зор имеющихся и потенциально доступных ресурсов</a:t>
            </a:r>
            <a:br>
              <a:rPr sz="14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кация испол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(с учётом необходимости и возможности осво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программы  (с учётом необходимости и возможности осво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 (в т.ч. коллекции информационных объек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DECA-6FBF-4A2B-B0AA-3A9EBABF998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е типовые действия</a:t>
            </a:r>
            <a:br>
              <a:rPr sz="1200"/>
            </a:b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дополнительных с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ация действий (использование датчиков и устройств управ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действий соиспол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леживание хода выполнения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е сопроводительной докум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B0BA-9054-42DE-9E3C-0EBEEE8838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 способа информатиза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готов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ерв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ерв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готовых прило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готового приложения с самостоятельной настройкой на предметную об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ация повторяющихся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 настройки готового приложения (возможно самостоятельное прототип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е создание специализированного при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 на создание специализированного приложения (возможно самостоятельное прототип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A0A6-D7C9-44E6-820C-AB021C8361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отражения в используемых инструментах специфики предметной области (например, применение текстовых редакторов, средств создания презент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азной степенью отражения в используемых инструментах специфики предметной области (например, электронные таблицы, базы данных, системы проектирования, специализированные приложения для конкретных областей деятель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вышением степени формализации содержания деятельности растет эффективность информатизации: всё большее число операций удаётся автоматизи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росту автоматизации, к повышению эффективности действий порождает потребность в формализации и моделиро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1B9C-E675-43D0-993E-CC64F95F584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жность применения разных видов информатиз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 по себе применение средств ИКТ без отражения в используемых инструментах специфики предметной области не требует значительных умственных усилий и умения выполнения логически сложных умственны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именении средств ИКТ с  разной степенью отражения в используемых инструментах специфики предметной области происходит частичный перенос логической сложности действий предметной области в сложность использования 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повышается уровень сложности умственных действий при самостоятельной настройке средств ИКТ на специфику предметной области или при заказе у специалистов такой настройки или специализированных при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09BB-2D7B-4198-9B9F-E5201341CDD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25F95-DE6E-4C06-B697-9DBBA577F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D6479-A5C6-4731-B420-2630D69B0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4A21A-BEB6-427B-B88F-324065689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F48C-ABBC-4F91-BF2C-46CD8674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1010-67E9-4272-9226-6E5D9AE22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198E-2CCA-4F8D-A6A3-B8BD2FD05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8619-FD7A-43E8-BCE8-D3C40DAF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52F70-CC45-4741-BB25-B1E2B494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40F4-A121-4B2D-8D1A-CA62769DB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F48B-0D91-4ED5-B138-356DE87D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BE91-79C9-4217-A10A-BD003462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10493-88EC-4595-829D-56878EC7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B1FC-BB39-4D3B-9234-95EC8774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BC58-23EA-4BBD-950F-C293A100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E523-6238-40A7-A4DE-36C6C6DE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EFFE-80BB-4ACD-A149-0081F00DE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268F-9EC6-49A5-8A6B-F17E2312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9C430-7908-4863-A08C-D23DE44F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C2E53-35E1-48A4-9FBE-BBE65245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2A03-C8E0-41CF-A392-771E1CC5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05071-22A8-4962-B8EF-66EF3DA3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926C-F35D-4B35-BD6D-AF35A2B6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6BDE1-7B6F-4EE8-9AF4-EE94D089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47FC3-44B1-4E9F-B87E-1907B5CA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B5D0-6484-407E-85D3-31FF56CE3C8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6CD6-2C22-4F52-909A-2C3ADA005DC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jpe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Двухкомпонентный курс информатики для начальной школы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овательная система «Школа 2100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ординатор направления «Информатика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В.Горяч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r2@procenter.net.ru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15937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к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Особенность этапов изучения информатики и ИКТ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468360" y="2781360"/>
            <a:ext cx="1593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бран профи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395280" y="4365720"/>
            <a:ext cx="1809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брана профес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2195640" y="1844640"/>
            <a:ext cx="136836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2195640" y="2205000"/>
            <a:ext cx="1368360" cy="287280"/>
          </a:xfrm>
          <a:custGeom>
            <a:avLst/>
            <a:gdLst>
              <a:gd name="textAreaLeft" fmla="*/ 285120 w 1368360"/>
              <a:gd name="textAreaRight" fmla="*/ 1083240 w 1368360"/>
              <a:gd name="textAreaTop" fmla="*/ 59760 h 287280"/>
              <a:gd name="textAreaBottom" fmla="*/ 2275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9"/>
          <p:cNvSpPr/>
          <p:nvPr/>
        </p:nvSpPr>
        <p:spPr>
          <a:xfrm>
            <a:off x="2556000" y="3141720"/>
            <a:ext cx="64764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2771640" y="4365720"/>
            <a:ext cx="216000" cy="12254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1476360" y="5661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ньшается широта, повышаются глубина и степень специал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12"/>
          <p:cNvSpPr/>
          <p:nvPr/>
        </p:nvSpPr>
        <p:spPr>
          <a:xfrm>
            <a:off x="3780000" y="170028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ие знания и умения широкого профиля доступные по возрас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13"/>
          <p:cNvSpPr/>
          <p:nvPr/>
        </p:nvSpPr>
        <p:spPr>
          <a:xfrm>
            <a:off x="6372360" y="1700280"/>
            <a:ext cx="24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 применения ИКТ в деятельности широкого профи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4"/>
          <p:cNvSpPr/>
          <p:nvPr/>
        </p:nvSpPr>
        <p:spPr>
          <a:xfrm>
            <a:off x="3780000" y="299736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ие знания и умения по  выбранному профил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5"/>
          <p:cNvSpPr/>
          <p:nvPr/>
        </p:nvSpPr>
        <p:spPr>
          <a:xfrm>
            <a:off x="6372360" y="2997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 применения ИКТ в деятельности по  выбранному профил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6"/>
          <p:cNvSpPr/>
          <p:nvPr/>
        </p:nvSpPr>
        <p:spPr>
          <a:xfrm>
            <a:off x="3708360" y="443700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ие знания и умения для  выбранной профе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6443640" y="4437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 применения ИКТ в деятельности специалис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нформатика и ИКТ в школ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тношение между информатикой и И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клад в формирование мировоззрения (информационная картина мир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оретические основы применения И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ог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лгоритм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онные (поиск и организац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стет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ктика применения технолог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нформатика и ИКТ в школ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578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умения по окончании школ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(подлежит уточнению и дополнению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ирать ИКТ-средства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+soft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д конкретную задач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ть подготовительные действия для применения ИКТ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в том числе для недоступных пока что применений ИК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ать необходимые сведения, понимать их, критически их оценивать, систематизиро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ивать достоверность сообщени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темы, связанные с  информацией и информационными процессам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азывать желаемое влияние с помощью создаваемых информационных объе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вать модели (для исследования, отслеживания текущего состояния, создания представлений, прогнозирова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овывать средствами ИКТ взаимодействие с партнер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нять цепочки разных ИКТ в одном проек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ть служебные действия по отношению к И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нформатика и ИКТ в школ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ментарии к пункт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ть подготовительные действия для применения ИКТ (в том числе для недоступных пока что применений ИКТ)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всё, что изучается теоретически может быть в полной мере применено в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учение некоторых теоретических разделов и развитие когнитивных (познавательных) умений может быть ориентировано на будущее применение ИКТ. Например, школьники не могут быть реальными заказчиками специализированных приложений. В то же время, необходимое развитие мышления для анализа предметной области может и должно быть выполнено своевременно – во время обучения в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зучение информатики и ИК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179280" y="1916280"/>
            <a:ext cx="2880000" cy="3682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К тех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2" name="Group 8"/>
          <p:cNvGrpSpPr/>
          <p:nvPr/>
        </p:nvGrpSpPr>
        <p:grpSpPr>
          <a:xfrm>
            <a:off x="108000" y="2708280"/>
            <a:ext cx="1800000" cy="649080"/>
            <a:chOff x="108000" y="2708280"/>
            <a:chExt cx="1800000" cy="649080"/>
          </a:xfrm>
        </p:grpSpPr>
        <p:sp>
          <p:nvSpPr>
            <p:cNvPr id="583" name="AutoShape 6"/>
            <p:cNvSpPr/>
            <p:nvPr/>
          </p:nvSpPr>
          <p:spPr>
            <a:xfrm>
              <a:off x="108000" y="2708280"/>
              <a:ext cx="1728360" cy="6490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7"/>
            <p:cNvSpPr/>
            <p:nvPr/>
          </p:nvSpPr>
          <p:spPr>
            <a:xfrm>
              <a:off x="108000" y="270828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Теоретические осн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5" name="Group 11"/>
          <p:cNvGrpSpPr/>
          <p:nvPr/>
        </p:nvGrpSpPr>
        <p:grpSpPr>
          <a:xfrm>
            <a:off x="1403280" y="3716280"/>
            <a:ext cx="1657440" cy="647640"/>
            <a:chOff x="1403280" y="3716280"/>
            <a:chExt cx="1657440" cy="647640"/>
          </a:xfrm>
        </p:grpSpPr>
        <p:sp>
          <p:nvSpPr>
            <p:cNvPr id="586" name="AutoShape 9"/>
            <p:cNvSpPr/>
            <p:nvPr/>
          </p:nvSpPr>
          <p:spPr>
            <a:xfrm>
              <a:off x="1403280" y="3716280"/>
              <a:ext cx="1657440" cy="6476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Text Box 10"/>
            <p:cNvSpPr/>
            <p:nvPr/>
          </p:nvSpPr>
          <p:spPr>
            <a:xfrm>
              <a:off x="1403280" y="371628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Когнитивные ум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AutoShape 12"/>
          <p:cNvSpPr/>
          <p:nvPr/>
        </p:nvSpPr>
        <p:spPr>
          <a:xfrm>
            <a:off x="826920" y="2276640"/>
            <a:ext cx="289080" cy="431640"/>
          </a:xfrm>
          <a:prstGeom prst="upArrow">
            <a:avLst>
              <a:gd name="adj1" fmla="val 50000"/>
              <a:gd name="adj2" fmla="val 3732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AutoShape 13"/>
          <p:cNvSpPr/>
          <p:nvPr/>
        </p:nvSpPr>
        <p:spPr>
          <a:xfrm>
            <a:off x="1979640" y="2276640"/>
            <a:ext cx="216000" cy="1439640"/>
          </a:xfrm>
          <a:prstGeom prst="upArrow">
            <a:avLst>
              <a:gd name="adj1" fmla="val 50000"/>
              <a:gd name="adj2" fmla="val 16662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15"/>
          <p:cNvSpPr/>
          <p:nvPr/>
        </p:nvSpPr>
        <p:spPr>
          <a:xfrm>
            <a:off x="4067280" y="595008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16"/>
          <p:cNvSpPr/>
          <p:nvPr/>
        </p:nvSpPr>
        <p:spPr>
          <a:xfrm flipV="1">
            <a:off x="4067280" y="1483920"/>
            <a:ext cx="0" cy="446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17"/>
          <p:cNvSpPr/>
          <p:nvPr/>
        </p:nvSpPr>
        <p:spPr>
          <a:xfrm>
            <a:off x="4067280" y="429264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8"/>
          <p:cNvSpPr/>
          <p:nvPr/>
        </p:nvSpPr>
        <p:spPr>
          <a:xfrm>
            <a:off x="4067280" y="285264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6012000" y="126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3132000" y="49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22"/>
          <p:cNvSpPr/>
          <p:nvPr/>
        </p:nvSpPr>
        <p:spPr>
          <a:xfrm>
            <a:off x="3059280" y="3429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23"/>
          <p:cNvSpPr/>
          <p:nvPr/>
        </p:nvSpPr>
        <p:spPr>
          <a:xfrm>
            <a:off x="3059280" y="220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24"/>
          <p:cNvSpPr/>
          <p:nvPr/>
        </p:nvSpPr>
        <p:spPr>
          <a:xfrm>
            <a:off x="4356000" y="5300640"/>
            <a:ext cx="287280" cy="144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25"/>
          <p:cNvSpPr/>
          <p:nvPr/>
        </p:nvSpPr>
        <p:spPr>
          <a:xfrm>
            <a:off x="4356000" y="4508640"/>
            <a:ext cx="792360" cy="215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26"/>
          <p:cNvSpPr/>
          <p:nvPr/>
        </p:nvSpPr>
        <p:spPr>
          <a:xfrm>
            <a:off x="4211640" y="3284640"/>
            <a:ext cx="93672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27"/>
          <p:cNvSpPr/>
          <p:nvPr/>
        </p:nvSpPr>
        <p:spPr>
          <a:xfrm>
            <a:off x="4211640" y="2060640"/>
            <a:ext cx="93672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28"/>
          <p:cNvSpPr/>
          <p:nvPr/>
        </p:nvSpPr>
        <p:spPr>
          <a:xfrm>
            <a:off x="4788000" y="494172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29"/>
          <p:cNvSpPr/>
          <p:nvPr/>
        </p:nvSpPr>
        <p:spPr>
          <a:xfrm>
            <a:off x="4788000" y="38606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AutoShape 30"/>
          <p:cNvSpPr/>
          <p:nvPr/>
        </p:nvSpPr>
        <p:spPr>
          <a:xfrm>
            <a:off x="4356000" y="5661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31"/>
          <p:cNvSpPr/>
          <p:nvPr/>
        </p:nvSpPr>
        <p:spPr>
          <a:xfrm>
            <a:off x="4500720" y="5445000"/>
            <a:ext cx="71280" cy="216000"/>
          </a:xfrm>
          <a:prstGeom prst="upArrow">
            <a:avLst>
              <a:gd name="adj1" fmla="val 50000"/>
              <a:gd name="adj2" fmla="val 7575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32"/>
          <p:cNvSpPr/>
          <p:nvPr/>
        </p:nvSpPr>
        <p:spPr>
          <a:xfrm>
            <a:off x="4932360" y="4724280"/>
            <a:ext cx="71280" cy="216000"/>
          </a:xfrm>
          <a:prstGeom prst="upArrow">
            <a:avLst>
              <a:gd name="adj1" fmla="val 50000"/>
              <a:gd name="adj2" fmla="val 75758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33"/>
          <p:cNvSpPr/>
          <p:nvPr/>
        </p:nvSpPr>
        <p:spPr>
          <a:xfrm>
            <a:off x="4932360" y="3645000"/>
            <a:ext cx="71280" cy="215640"/>
          </a:xfrm>
          <a:prstGeom prst="upArrow">
            <a:avLst>
              <a:gd name="adj1" fmla="val 50000"/>
              <a:gd name="adj2" fmla="val 75631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34"/>
          <p:cNvSpPr/>
          <p:nvPr/>
        </p:nvSpPr>
        <p:spPr>
          <a:xfrm>
            <a:off x="5292720" y="1916280"/>
            <a:ext cx="0" cy="40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35"/>
          <p:cNvSpPr/>
          <p:nvPr/>
        </p:nvSpPr>
        <p:spPr>
          <a:xfrm>
            <a:off x="6804000" y="1916280"/>
            <a:ext cx="0" cy="40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36"/>
          <p:cNvSpPr/>
          <p:nvPr/>
        </p:nvSpPr>
        <p:spPr>
          <a:xfrm>
            <a:off x="8244000" y="1916280"/>
            <a:ext cx="0" cy="40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37"/>
          <p:cNvSpPr/>
          <p:nvPr/>
        </p:nvSpPr>
        <p:spPr>
          <a:xfrm>
            <a:off x="5435640" y="3429000"/>
            <a:ext cx="1152360" cy="2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38"/>
          <p:cNvSpPr/>
          <p:nvPr/>
        </p:nvSpPr>
        <p:spPr>
          <a:xfrm>
            <a:off x="6948360" y="1989000"/>
            <a:ext cx="936720" cy="2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AutoShape 39"/>
          <p:cNvSpPr/>
          <p:nvPr/>
        </p:nvSpPr>
        <p:spPr>
          <a:xfrm>
            <a:off x="5435640" y="5445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AutoShape 40"/>
          <p:cNvSpPr/>
          <p:nvPr/>
        </p:nvSpPr>
        <p:spPr>
          <a:xfrm>
            <a:off x="5867280" y="50846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41"/>
          <p:cNvSpPr/>
          <p:nvPr/>
        </p:nvSpPr>
        <p:spPr>
          <a:xfrm>
            <a:off x="5435640" y="2060640"/>
            <a:ext cx="122400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utoShape 42"/>
          <p:cNvSpPr/>
          <p:nvPr/>
        </p:nvSpPr>
        <p:spPr>
          <a:xfrm>
            <a:off x="6300720" y="4005360"/>
            <a:ext cx="360360" cy="215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AutoShape 43"/>
          <p:cNvSpPr/>
          <p:nvPr/>
        </p:nvSpPr>
        <p:spPr>
          <a:xfrm>
            <a:off x="5580000" y="3645000"/>
            <a:ext cx="71640" cy="1800000"/>
          </a:xfrm>
          <a:prstGeom prst="upArrow">
            <a:avLst>
              <a:gd name="adj1" fmla="val 50000"/>
              <a:gd name="adj2" fmla="val 62814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AutoShape 44"/>
          <p:cNvSpPr/>
          <p:nvPr/>
        </p:nvSpPr>
        <p:spPr>
          <a:xfrm>
            <a:off x="6012000" y="3645000"/>
            <a:ext cx="72720" cy="1439640"/>
          </a:xfrm>
          <a:prstGeom prst="upArrow">
            <a:avLst>
              <a:gd name="adj1" fmla="val 50000"/>
              <a:gd name="adj2" fmla="val 49492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AutoShape 45"/>
          <p:cNvSpPr/>
          <p:nvPr/>
        </p:nvSpPr>
        <p:spPr>
          <a:xfrm>
            <a:off x="6443640" y="3645000"/>
            <a:ext cx="73080" cy="360360"/>
          </a:xfrm>
          <a:prstGeom prst="upArrow">
            <a:avLst>
              <a:gd name="adj1" fmla="val 50000"/>
              <a:gd name="adj2" fmla="val 12327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AutoShape 46"/>
          <p:cNvSpPr/>
          <p:nvPr/>
        </p:nvSpPr>
        <p:spPr>
          <a:xfrm>
            <a:off x="6948360" y="5445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AutoShape 47"/>
          <p:cNvSpPr/>
          <p:nvPr/>
        </p:nvSpPr>
        <p:spPr>
          <a:xfrm>
            <a:off x="7524720" y="38606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48"/>
          <p:cNvSpPr/>
          <p:nvPr/>
        </p:nvSpPr>
        <p:spPr>
          <a:xfrm>
            <a:off x="7093080" y="2205000"/>
            <a:ext cx="71280" cy="3240000"/>
          </a:xfrm>
          <a:prstGeom prst="upArrow">
            <a:avLst>
              <a:gd name="adj1" fmla="val 50000"/>
              <a:gd name="adj2" fmla="val 113636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AutoShape 49"/>
          <p:cNvSpPr/>
          <p:nvPr/>
        </p:nvSpPr>
        <p:spPr>
          <a:xfrm>
            <a:off x="7667640" y="2205000"/>
            <a:ext cx="73080" cy="1655640"/>
          </a:xfrm>
          <a:prstGeom prst="upArrow">
            <a:avLst>
              <a:gd name="adj1" fmla="val 50000"/>
              <a:gd name="adj2" fmla="val 56637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50"/>
          <p:cNvSpPr/>
          <p:nvPr/>
        </p:nvSpPr>
        <p:spPr>
          <a:xfrm>
            <a:off x="8280360" y="45813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51"/>
          <p:cNvSpPr/>
          <p:nvPr/>
        </p:nvSpPr>
        <p:spPr>
          <a:xfrm>
            <a:off x="8280360" y="321300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52"/>
          <p:cNvSpPr/>
          <p:nvPr/>
        </p:nvSpPr>
        <p:spPr>
          <a:xfrm>
            <a:off x="8280360" y="191628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ннее обучение информат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29" name="Group 4"/>
          <p:cNvGrpSpPr/>
          <p:nvPr/>
        </p:nvGrpSpPr>
        <p:grpSpPr>
          <a:xfrm>
            <a:off x="179280" y="1268280"/>
            <a:ext cx="4895280" cy="2014200"/>
            <a:chOff x="179280" y="1268280"/>
            <a:chExt cx="4895280" cy="2014200"/>
          </a:xfrm>
        </p:grpSpPr>
        <p:sp>
          <p:nvSpPr>
            <p:cNvPr id="630" name="AutoShape 5"/>
            <p:cNvSpPr/>
            <p:nvPr/>
          </p:nvSpPr>
          <p:spPr>
            <a:xfrm>
              <a:off x="179280" y="1268280"/>
              <a:ext cx="4895280" cy="1978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Text Box 6"/>
            <p:cNvSpPr/>
            <p:nvPr/>
          </p:nvSpPr>
          <p:spPr>
            <a:xfrm>
              <a:off x="179280" y="1268280"/>
              <a:ext cx="4679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Когнитивные умения – это общеучебные познавательные умения, связанные с развитием памяти, внимания, мышления.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В новом стандарте для начальной школы формирование общеучебных умений и навыков названо «приоритетом начального общего образования»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Group 7"/>
          <p:cNvGrpSpPr/>
          <p:nvPr/>
        </p:nvGrpSpPr>
        <p:grpSpPr>
          <a:xfrm>
            <a:off x="179280" y="3429000"/>
            <a:ext cx="5112720" cy="1294920"/>
            <a:chOff x="179280" y="3429000"/>
            <a:chExt cx="5112720" cy="1294920"/>
          </a:xfrm>
        </p:grpSpPr>
        <p:sp>
          <p:nvSpPr>
            <p:cNvPr id="633" name="AutoShape 8"/>
            <p:cNvSpPr/>
            <p:nvPr/>
          </p:nvSpPr>
          <p:spPr>
            <a:xfrm>
              <a:off x="179280" y="3429000"/>
              <a:ext cx="4909320" cy="12949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9"/>
            <p:cNvSpPr/>
            <p:nvPr/>
          </p:nvSpPr>
          <p:spPr>
            <a:xfrm>
              <a:off x="179280" y="3429000"/>
              <a:ext cx="511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Теоретические основания – предполагают введение понятий информатики и достаточное число заданий на освоение действий с этими понятиями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5" name="Group 12"/>
          <p:cNvGrpSpPr/>
          <p:nvPr/>
        </p:nvGrpSpPr>
        <p:grpSpPr>
          <a:xfrm>
            <a:off x="179280" y="4869000"/>
            <a:ext cx="4895280" cy="1810440"/>
            <a:chOff x="179280" y="4869000"/>
            <a:chExt cx="4895280" cy="1810440"/>
          </a:xfrm>
        </p:grpSpPr>
        <p:sp>
          <p:nvSpPr>
            <p:cNvPr id="636" name="AutoShape 13"/>
            <p:cNvSpPr/>
            <p:nvPr/>
          </p:nvSpPr>
          <p:spPr>
            <a:xfrm>
              <a:off x="179280" y="4869000"/>
              <a:ext cx="4895280" cy="18104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Text Box 14"/>
            <p:cNvSpPr/>
            <p:nvPr/>
          </p:nvSpPr>
          <p:spPr>
            <a:xfrm>
              <a:off x="179280" y="4869000"/>
              <a:ext cx="4679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рактика применения компьютера – входит в новый стандарт для 3 и 4 класса образовательной области «Технология». Включает: знакомство с компьютером, поиск информации, работу с простыми информационными объектами и т.д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8" name="Text Box 16"/>
          <p:cNvSpPr/>
          <p:nvPr/>
        </p:nvSpPr>
        <p:spPr>
          <a:xfrm>
            <a:off x="5292720" y="1268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образовательной системы «Школа 2100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558000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7236000" y="184464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19"/>
          <p:cNvSpPr/>
          <p:nvPr/>
        </p:nvSpPr>
        <p:spPr>
          <a:xfrm>
            <a:off x="7164360" y="21337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Group 42"/>
          <p:cNvGrpSpPr/>
          <p:nvPr/>
        </p:nvGrpSpPr>
        <p:grpSpPr>
          <a:xfrm>
            <a:off x="5867280" y="2205000"/>
            <a:ext cx="2594160" cy="1008000"/>
            <a:chOff x="5867280" y="2205000"/>
            <a:chExt cx="2594160" cy="1008000"/>
          </a:xfrm>
        </p:grpSpPr>
        <p:sp>
          <p:nvSpPr>
            <p:cNvPr id="643" name="AutoShape 22"/>
            <p:cNvSpPr/>
            <p:nvPr/>
          </p:nvSpPr>
          <p:spPr>
            <a:xfrm>
              <a:off x="5867280" y="2276280"/>
              <a:ext cx="1297080" cy="7203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AutoShape 25"/>
            <p:cNvSpPr/>
            <p:nvPr/>
          </p:nvSpPr>
          <p:spPr>
            <a:xfrm>
              <a:off x="5867280" y="2997000"/>
              <a:ext cx="1297080" cy="14256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AutoShape 28"/>
            <p:cNvSpPr/>
            <p:nvPr/>
          </p:nvSpPr>
          <p:spPr>
            <a:xfrm>
              <a:off x="7164360" y="2276280"/>
              <a:ext cx="1297080" cy="8632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AutoShape 30"/>
            <p:cNvSpPr/>
            <p:nvPr/>
          </p:nvSpPr>
          <p:spPr>
            <a:xfrm>
              <a:off x="5867280" y="2205000"/>
              <a:ext cx="2592360" cy="10080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Text Box 31"/>
          <p:cNvSpPr/>
          <p:nvPr/>
        </p:nvSpPr>
        <p:spPr>
          <a:xfrm>
            <a:off x="5435640" y="321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2"/>
          <p:cNvSpPr/>
          <p:nvPr/>
        </p:nvSpPr>
        <p:spPr>
          <a:xfrm>
            <a:off x="7164360" y="321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3"/>
          <p:cNvSpPr/>
          <p:nvPr/>
        </p:nvSpPr>
        <p:spPr>
          <a:xfrm>
            <a:off x="5435640" y="3500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4 (2-4)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34"/>
          <p:cNvSpPr/>
          <p:nvPr/>
        </p:nvSpPr>
        <p:spPr>
          <a:xfrm>
            <a:off x="7164360" y="3500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-4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35"/>
          <p:cNvSpPr/>
          <p:nvPr/>
        </p:nvSpPr>
        <p:spPr>
          <a:xfrm>
            <a:off x="5292720" y="378936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иональный или школьный компонент БУ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36"/>
          <p:cNvSpPr/>
          <p:nvPr/>
        </p:nvSpPr>
        <p:spPr>
          <a:xfrm>
            <a:off x="7093080" y="3789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едеральный компонент БУ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37"/>
          <p:cNvSpPr/>
          <p:nvPr/>
        </p:nvSpPr>
        <p:spPr>
          <a:xfrm>
            <a:off x="7164360" y="4581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ы обязатель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38"/>
          <p:cNvSpPr/>
          <p:nvPr/>
        </p:nvSpPr>
        <p:spPr>
          <a:xfrm>
            <a:off x="5219640" y="4581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ы не обязательны, но допусти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39"/>
          <p:cNvSpPr/>
          <p:nvPr/>
        </p:nvSpPr>
        <p:spPr>
          <a:xfrm>
            <a:off x="5148360" y="62164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Информатика в играх и задачах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40"/>
          <p:cNvSpPr/>
          <p:nvPr/>
        </p:nvSpPr>
        <p:spPr>
          <a:xfrm>
            <a:off x="7020000" y="621648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Мой инструмент – компьюте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41"/>
          <p:cNvSpPr/>
          <p:nvPr/>
        </p:nvSpPr>
        <p:spPr>
          <a:xfrm>
            <a:off x="5076720" y="544500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43"/>
          <p:cNvSpPr/>
          <p:nvPr/>
        </p:nvSpPr>
        <p:spPr>
          <a:xfrm>
            <a:off x="7056360" y="537372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информатики или любой друг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ннее обучение информат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1" name="Text Box 5"/>
          <p:cNvSpPr/>
          <p:nvPr/>
        </p:nvSpPr>
        <p:spPr>
          <a:xfrm>
            <a:off x="826920" y="90792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образовательной системы «Школа 2100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3059280" y="126828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гум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7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8"/>
          <p:cNvSpPr/>
          <p:nvPr/>
        </p:nvSpPr>
        <p:spPr>
          <a:xfrm>
            <a:off x="4500720" y="21337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9"/>
          <p:cNvSpPr/>
          <p:nvPr/>
        </p:nvSpPr>
        <p:spPr>
          <a:xfrm>
            <a:off x="4572000" y="4437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едостат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дночасовых предметов: нагрузка в основном на память и недостаточное развитие мыш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еодоление недостатк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специальная ориентация на развитие мышления и ограничение числа вводимых понятий строго необходимым минимумом (для понимания условий заданий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11"/>
          <p:cNvSpPr/>
          <p:nvPr/>
        </p:nvSpPr>
        <p:spPr>
          <a:xfrm>
            <a:off x="2487240" y="1699560"/>
            <a:ext cx="41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возможность объять необъятно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12"/>
          <p:cNvSpPr/>
          <p:nvPr/>
        </p:nvSpPr>
        <p:spPr>
          <a:xfrm>
            <a:off x="2627280" y="206064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3"/>
          <p:cNvSpPr/>
          <p:nvPr/>
        </p:nvSpPr>
        <p:spPr>
          <a:xfrm>
            <a:off x="0" y="2924280"/>
            <a:ext cx="44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риентация на развит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огического, алгоритмического и системного мышления приводит к явно наблюдаемому более успешному усвоению базовых дисципли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4"/>
          <p:cNvSpPr/>
          <p:nvPr/>
        </p:nvSpPr>
        <p:spPr>
          <a:xfrm>
            <a:off x="4572000" y="2924280"/>
            <a:ext cx="44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Конструктор» из двух компонентов позволяет подбирать оптимальные сочетания в зависимости от материально-технических и прочих условий шко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0" y="4797360"/>
            <a:ext cx="44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дение уроков информатики учителями начальных классов позволяет создавать механизм для переноса формируемых на уроках информатики умственных действий на уроки по базовым дисциплин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0"/>
          <p:cNvSpPr/>
          <p:nvPr/>
        </p:nvSpPr>
        <p:spPr>
          <a:xfrm>
            <a:off x="0" y="2924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1"/>
          <p:cNvSpPr/>
          <p:nvPr/>
        </p:nvSpPr>
        <p:spPr>
          <a:xfrm>
            <a:off x="4500720" y="2060280"/>
            <a:ext cx="45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педевтика логически сложных разделов позволяет изучать базовый курс более высокими темп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2"/>
          <p:cNvSpPr/>
          <p:nvPr/>
        </p:nvSpPr>
        <p:spPr>
          <a:xfrm>
            <a:off x="0" y="213300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оздание с развитием мышления – это опоздание навсег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нформатики и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нты сочетаний информатики, ИКТ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ьных технологий в 3-4 класс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8280360" y="45813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1024"/>
          <p:cNvSpPr/>
          <p:nvPr/>
        </p:nvSpPr>
        <p:spPr>
          <a:xfrm>
            <a:off x="250920" y="3213000"/>
            <a:ext cx="28872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1025"/>
          <p:cNvSpPr/>
          <p:nvPr/>
        </p:nvSpPr>
        <p:spPr>
          <a:xfrm>
            <a:off x="250920" y="4149720"/>
            <a:ext cx="288720" cy="79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1026"/>
          <p:cNvSpPr/>
          <p:nvPr/>
        </p:nvSpPr>
        <p:spPr>
          <a:xfrm>
            <a:off x="250920" y="5084640"/>
            <a:ext cx="288720" cy="79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1027"/>
          <p:cNvSpPr/>
          <p:nvPr/>
        </p:nvSpPr>
        <p:spPr>
          <a:xfrm>
            <a:off x="613080" y="349956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т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1028"/>
          <p:cNvSpPr/>
          <p:nvPr/>
        </p:nvSpPr>
        <p:spPr>
          <a:xfrm>
            <a:off x="613080" y="429192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К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1029"/>
          <p:cNvSpPr/>
          <p:nvPr/>
        </p:nvSpPr>
        <p:spPr>
          <a:xfrm>
            <a:off x="612360" y="53730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1030"/>
          <p:cNvSpPr/>
          <p:nvPr/>
        </p:nvSpPr>
        <p:spPr>
          <a:xfrm>
            <a:off x="4861440" y="357264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 ч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1031"/>
          <p:cNvSpPr/>
          <p:nvPr/>
        </p:nvSpPr>
        <p:spPr>
          <a:xfrm>
            <a:off x="7310880" y="3644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ч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1032"/>
          <p:cNvSpPr/>
          <p:nvPr/>
        </p:nvSpPr>
        <p:spPr>
          <a:xfrm>
            <a:off x="253440" y="594936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 – федеральный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1033"/>
          <p:cNvSpPr/>
          <p:nvPr/>
        </p:nvSpPr>
        <p:spPr>
          <a:xfrm>
            <a:off x="252000" y="6216120"/>
            <a:ext cx="33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 – школьный ил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региональный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1034"/>
          <p:cNvSpPr/>
          <p:nvPr/>
        </p:nvSpPr>
        <p:spPr>
          <a:xfrm>
            <a:off x="3708360" y="5805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ий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Rectangle 1035"/>
          <p:cNvSpPr/>
          <p:nvPr/>
        </p:nvSpPr>
        <p:spPr>
          <a:xfrm>
            <a:off x="5076720" y="580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пустимые вари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1036"/>
          <p:cNvSpPr/>
          <p:nvPr/>
        </p:nvSpPr>
        <p:spPr>
          <a:xfrm>
            <a:off x="6732720" y="5805000"/>
            <a:ext cx="22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очень хороший, но допустимый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1037"/>
          <p:cNvSpPr/>
          <p:nvPr/>
        </p:nvSpPr>
        <p:spPr>
          <a:xfrm>
            <a:off x="3780000" y="4292640"/>
            <a:ext cx="28872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1038"/>
          <p:cNvSpPr/>
          <p:nvPr/>
        </p:nvSpPr>
        <p:spPr>
          <a:xfrm>
            <a:off x="4067280" y="4292640"/>
            <a:ext cx="288720" cy="79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1039"/>
          <p:cNvSpPr/>
          <p:nvPr/>
        </p:nvSpPr>
        <p:spPr>
          <a:xfrm>
            <a:off x="4356000" y="4292640"/>
            <a:ext cx="28908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1041"/>
          <p:cNvSpPr/>
          <p:nvPr/>
        </p:nvSpPr>
        <p:spPr>
          <a:xfrm>
            <a:off x="406872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42"/>
          <p:cNvSpPr/>
          <p:nvPr/>
        </p:nvSpPr>
        <p:spPr>
          <a:xfrm>
            <a:off x="3494880" y="5157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1044"/>
          <p:cNvSpPr/>
          <p:nvPr/>
        </p:nvSpPr>
        <p:spPr>
          <a:xfrm>
            <a:off x="4932360" y="4292640"/>
            <a:ext cx="289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1045"/>
          <p:cNvSpPr/>
          <p:nvPr/>
        </p:nvSpPr>
        <p:spPr>
          <a:xfrm>
            <a:off x="5219640" y="4292640"/>
            <a:ext cx="289080" cy="431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1046"/>
          <p:cNvSpPr/>
          <p:nvPr/>
        </p:nvSpPr>
        <p:spPr>
          <a:xfrm>
            <a:off x="550872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1047"/>
          <p:cNvSpPr/>
          <p:nvPr/>
        </p:nvSpPr>
        <p:spPr>
          <a:xfrm>
            <a:off x="522144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048"/>
          <p:cNvSpPr/>
          <p:nvPr/>
        </p:nvSpPr>
        <p:spPr>
          <a:xfrm>
            <a:off x="4647240" y="5157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1049"/>
          <p:cNvSpPr/>
          <p:nvPr/>
        </p:nvSpPr>
        <p:spPr>
          <a:xfrm>
            <a:off x="5219640" y="4724280"/>
            <a:ext cx="289080" cy="358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AutoShape 1050"/>
          <p:cNvSpPr/>
          <p:nvPr/>
        </p:nvSpPr>
        <p:spPr>
          <a:xfrm rot="16200000">
            <a:off x="4283640" y="4941000"/>
            <a:ext cx="144720" cy="431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utoShape 1051"/>
          <p:cNvSpPr/>
          <p:nvPr/>
        </p:nvSpPr>
        <p:spPr>
          <a:xfrm rot="16200000">
            <a:off x="5436000" y="4941000"/>
            <a:ext cx="144720" cy="431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1052"/>
          <p:cNvSpPr/>
          <p:nvPr/>
        </p:nvSpPr>
        <p:spPr>
          <a:xfrm>
            <a:off x="6084720" y="4292640"/>
            <a:ext cx="289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1053"/>
          <p:cNvSpPr/>
          <p:nvPr/>
        </p:nvSpPr>
        <p:spPr>
          <a:xfrm>
            <a:off x="637236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054"/>
          <p:cNvSpPr/>
          <p:nvPr/>
        </p:nvSpPr>
        <p:spPr>
          <a:xfrm>
            <a:off x="665964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1055"/>
          <p:cNvSpPr/>
          <p:nvPr/>
        </p:nvSpPr>
        <p:spPr>
          <a:xfrm>
            <a:off x="637236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1056"/>
          <p:cNvSpPr/>
          <p:nvPr/>
        </p:nvSpPr>
        <p:spPr>
          <a:xfrm>
            <a:off x="5798160" y="5157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1057"/>
          <p:cNvSpPr/>
          <p:nvPr/>
        </p:nvSpPr>
        <p:spPr>
          <a:xfrm rot="16200000">
            <a:off x="6587280" y="4941000"/>
            <a:ext cx="144720" cy="43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1059"/>
          <p:cNvSpPr/>
          <p:nvPr/>
        </p:nvSpPr>
        <p:spPr>
          <a:xfrm>
            <a:off x="745344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AutoShape 1060"/>
          <p:cNvSpPr/>
          <p:nvPr/>
        </p:nvSpPr>
        <p:spPr>
          <a:xfrm rot="16200000">
            <a:off x="7668360" y="4941000"/>
            <a:ext cx="144720" cy="43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1061"/>
          <p:cNvSpPr/>
          <p:nvPr/>
        </p:nvSpPr>
        <p:spPr>
          <a:xfrm>
            <a:off x="774072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1062"/>
          <p:cNvSpPr/>
          <p:nvPr/>
        </p:nvSpPr>
        <p:spPr>
          <a:xfrm>
            <a:off x="7451640" y="4724280"/>
            <a:ext cx="28908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1063"/>
          <p:cNvSpPr/>
          <p:nvPr/>
        </p:nvSpPr>
        <p:spPr>
          <a:xfrm>
            <a:off x="7451640" y="4292640"/>
            <a:ext cx="28908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дульная структура учеб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Rectangle 1"/>
          <p:cNvSpPr/>
          <p:nvPr/>
        </p:nvSpPr>
        <p:spPr>
          <a:xfrm>
            <a:off x="395280" y="2205000"/>
            <a:ext cx="374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ули в первой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3 клас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Rectangle 2"/>
          <p:cNvSpPr/>
          <p:nvPr/>
        </p:nvSpPr>
        <p:spPr>
          <a:xfrm>
            <a:off x="4643280" y="2205000"/>
            <a:ext cx="439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ули во второй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4 клас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0" y="3213000"/>
            <a:ext cx="4608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комство с компьюте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рисун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мультфильмов или живых карти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проектов зданий и помещ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иг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4535640" y="3213000"/>
            <a:ext cx="4608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текс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печатных публик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электронных публик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ранение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384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обзор приложен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5" name="Picture 7" descr="3dhome"/>
          <p:cNvPicPr/>
          <p:nvPr/>
        </p:nvPicPr>
        <p:blipFill>
          <a:blip r:embed="rId1"/>
          <a:stretch/>
        </p:blipFill>
        <p:spPr>
          <a:xfrm>
            <a:off x="684360" y="342900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726" name="Line 0"/>
          <p:cNvSpPr/>
          <p:nvPr/>
        </p:nvSpPr>
        <p:spPr>
          <a:xfrm>
            <a:off x="4356000" y="2205000"/>
            <a:ext cx="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angle 2"/>
          <p:cNvSpPr/>
          <p:nvPr/>
        </p:nvSpPr>
        <p:spPr>
          <a:xfrm>
            <a:off x="4500720" y="2276640"/>
            <a:ext cx="41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равочники-практику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4859280" y="2781360"/>
            <a:ext cx="1368360" cy="1800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6659640" y="2781360"/>
            <a:ext cx="1368360" cy="1800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4859280" y="4797360"/>
            <a:ext cx="1368360" cy="1800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11" descr="claris 1"/>
          <p:cNvPicPr/>
          <p:nvPr/>
        </p:nvPicPr>
        <p:blipFill>
          <a:blip r:embed="rId2"/>
          <a:stretch/>
        </p:blipFill>
        <p:spPr>
          <a:xfrm>
            <a:off x="1979640" y="342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2" descr="DB"/>
          <p:cNvPicPr/>
          <p:nvPr/>
        </p:nvPicPr>
        <p:blipFill>
          <a:blip r:embed="rId3"/>
          <a:stretch/>
        </p:blipFill>
        <p:spPr>
          <a:xfrm>
            <a:off x="684360" y="414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3" descr="drape"/>
          <p:cNvPicPr/>
          <p:nvPr/>
        </p:nvPicPr>
        <p:blipFill>
          <a:blip r:embed="rId4"/>
          <a:stretch/>
        </p:blipFill>
        <p:spPr>
          <a:xfrm>
            <a:off x="1332000" y="414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4" descr="flash"/>
          <p:cNvPicPr/>
          <p:nvPr/>
        </p:nvPicPr>
        <p:blipFill>
          <a:blip r:embed="rId5"/>
          <a:stretch/>
        </p:blipFill>
        <p:spPr>
          <a:xfrm>
            <a:off x="1979640" y="414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5" descr="floorplan 1"/>
          <p:cNvPicPr/>
          <p:nvPr/>
        </p:nvPicPr>
        <p:blipFill>
          <a:blip r:embed="rId6"/>
          <a:stretch/>
        </p:blipFill>
        <p:spPr>
          <a:xfrm>
            <a:off x="529272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6" descr="gm"/>
          <p:cNvPicPr/>
          <p:nvPr/>
        </p:nvPicPr>
        <p:blipFill>
          <a:blip r:embed="rId7"/>
          <a:stretch/>
        </p:blipFill>
        <p:spPr>
          <a:xfrm>
            <a:off x="2627280" y="4149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7" descr="multi"/>
          <p:cNvPicPr/>
          <p:nvPr/>
        </p:nvPicPr>
        <p:blipFill>
          <a:blip r:embed="rId8"/>
          <a:stretch/>
        </p:blipFill>
        <p:spPr>
          <a:xfrm>
            <a:off x="5219640" y="544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8" descr="floorplan 1"/>
          <p:cNvPicPr/>
          <p:nvPr/>
        </p:nvPicPr>
        <p:blipFill>
          <a:blip r:embed="rId9"/>
          <a:stretch/>
        </p:blipFill>
        <p:spPr>
          <a:xfrm>
            <a:off x="3276720" y="342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9" descr="multi"/>
          <p:cNvPicPr/>
          <p:nvPr/>
        </p:nvPicPr>
        <p:blipFill>
          <a:blip r:embed="rId10"/>
          <a:stretch/>
        </p:blipFill>
        <p:spPr>
          <a:xfrm>
            <a:off x="3276720" y="414972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20"/>
          <p:cNvSpPr/>
          <p:nvPr/>
        </p:nvSpPr>
        <p:spPr>
          <a:xfrm>
            <a:off x="250920" y="1700280"/>
            <a:ext cx="813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привязки к конкретным приложения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Picture 21" descr="paint"/>
          <p:cNvPicPr/>
          <p:nvPr/>
        </p:nvPicPr>
        <p:blipFill>
          <a:blip r:embed="rId11"/>
          <a:stretch/>
        </p:blipFill>
        <p:spPr>
          <a:xfrm>
            <a:off x="2627280" y="3429000"/>
            <a:ext cx="423720" cy="4316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2" descr="ge"/>
          <p:cNvPicPr/>
          <p:nvPr/>
        </p:nvPicPr>
        <p:blipFill>
          <a:blip r:embed="rId12"/>
          <a:stretch/>
        </p:blipFill>
        <p:spPr>
          <a:xfrm>
            <a:off x="684360" y="4869000"/>
            <a:ext cx="439560" cy="4395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3" descr="Photoshop"/>
          <p:cNvPicPr/>
          <p:nvPr/>
        </p:nvPicPr>
        <p:blipFill>
          <a:blip r:embed="rId13"/>
          <a:stretch/>
        </p:blipFill>
        <p:spPr>
          <a:xfrm>
            <a:off x="1332000" y="4869000"/>
            <a:ext cx="423720" cy="41256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24" descr="sb"/>
          <p:cNvPicPr/>
          <p:nvPr/>
        </p:nvPicPr>
        <p:blipFill>
          <a:blip r:embed="rId14"/>
          <a:stretch/>
        </p:blipFill>
        <p:spPr>
          <a:xfrm>
            <a:off x="1979640" y="4869000"/>
            <a:ext cx="422280" cy="4222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25" descr="констр_игр"/>
          <p:cNvPicPr/>
          <p:nvPr/>
        </p:nvPicPr>
        <p:blipFill>
          <a:blip r:embed="rId15"/>
          <a:stretch/>
        </p:blipFill>
        <p:spPr>
          <a:xfrm>
            <a:off x="2627280" y="486900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7" descr="логомиры"/>
          <p:cNvPicPr/>
          <p:nvPr/>
        </p:nvPicPr>
        <p:blipFill>
          <a:blip r:embed="rId16"/>
          <a:stretch/>
        </p:blipFill>
        <p:spPr>
          <a:xfrm>
            <a:off x="3276720" y="486900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28" descr="перволого"/>
          <p:cNvPicPr/>
          <p:nvPr/>
        </p:nvPicPr>
        <p:blipFill>
          <a:blip r:embed="rId17"/>
          <a:stretch/>
        </p:blipFill>
        <p:spPr>
          <a:xfrm>
            <a:off x="684360" y="5589720"/>
            <a:ext cx="425160" cy="4251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9" descr="ARCON"/>
          <p:cNvPicPr/>
          <p:nvPr/>
        </p:nvPicPr>
        <p:blipFill>
          <a:blip r:embed="rId18"/>
          <a:stretch/>
        </p:blipFill>
        <p:spPr>
          <a:xfrm>
            <a:off x="1332000" y="558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0" descr="мия"/>
          <p:cNvPicPr/>
          <p:nvPr/>
        </p:nvPicPr>
        <p:blipFill>
          <a:blip r:embed="rId19"/>
          <a:stretch/>
        </p:blipFill>
        <p:spPr>
          <a:xfrm>
            <a:off x="1979640" y="558972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1" descr="GIMP"/>
          <p:cNvPicPr/>
          <p:nvPr/>
        </p:nvPicPr>
        <p:blipFill>
          <a:blip r:embed="rId20"/>
          <a:stretch/>
        </p:blipFill>
        <p:spPr>
          <a:xfrm>
            <a:off x="2556000" y="5516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32" descr="ImageReady"/>
          <p:cNvPicPr/>
          <p:nvPr/>
        </p:nvPicPr>
        <p:blipFill>
          <a:blip r:embed="rId21"/>
          <a:stretch/>
        </p:blipFill>
        <p:spPr>
          <a:xfrm>
            <a:off x="3276720" y="558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33" descr="KIDPIX"/>
          <p:cNvPicPr/>
          <p:nvPr/>
        </p:nvPicPr>
        <p:blipFill>
          <a:blip r:embed="rId22"/>
          <a:stretch/>
        </p:blipFill>
        <p:spPr>
          <a:xfrm>
            <a:off x="684360" y="6237360"/>
            <a:ext cx="415800" cy="3920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34" descr="TUX"/>
          <p:cNvPicPr/>
          <p:nvPr/>
        </p:nvPicPr>
        <p:blipFill>
          <a:blip r:embed="rId23"/>
          <a:stretch/>
        </p:blipFill>
        <p:spPr>
          <a:xfrm>
            <a:off x="1332000" y="623736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35" descr="TUX"/>
          <p:cNvPicPr/>
          <p:nvPr/>
        </p:nvPicPr>
        <p:blipFill>
          <a:blip r:embed="rId24"/>
          <a:stretch/>
        </p:blipFill>
        <p:spPr>
          <a:xfrm>
            <a:off x="7020000" y="3357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36" descr="KNP"/>
          <p:cNvPicPr/>
          <p:nvPr/>
        </p:nvPicPr>
        <p:blipFill>
          <a:blip r:embed="rId25"/>
          <a:stretch/>
        </p:blipFill>
        <p:spPr>
          <a:xfrm>
            <a:off x="3276720" y="6237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37" descr="MACPAINT"/>
          <p:cNvPicPr/>
          <p:nvPr/>
        </p:nvPicPr>
        <p:blipFill>
          <a:blip r:embed="rId26"/>
          <a:stretch/>
        </p:blipFill>
        <p:spPr>
          <a:xfrm>
            <a:off x="2556000" y="6165720"/>
            <a:ext cx="522000" cy="52236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38" descr="RPG2003"/>
          <p:cNvPicPr/>
          <p:nvPr/>
        </p:nvPicPr>
        <p:blipFill>
          <a:blip r:embed="rId27"/>
          <a:stretch/>
        </p:blipFill>
        <p:spPr>
          <a:xfrm>
            <a:off x="1979640" y="6237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39" descr="VISICON"/>
          <p:cNvPicPr/>
          <p:nvPr/>
        </p:nvPicPr>
        <p:blipFill>
          <a:blip r:embed="rId28"/>
          <a:stretch/>
        </p:blipFill>
        <p:spPr>
          <a:xfrm>
            <a:off x="1332000" y="342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41" descr="konstr_obl"/>
          <p:cNvPicPr/>
          <p:nvPr/>
        </p:nvPicPr>
        <p:blipFill>
          <a:blip r:embed="rId29"/>
          <a:stretch/>
        </p:blipFill>
        <p:spPr>
          <a:xfrm>
            <a:off x="6643800" y="4797360"/>
            <a:ext cx="1414440" cy="1800360"/>
          </a:xfrm>
          <a:prstGeom prst="rect">
            <a:avLst/>
          </a:prstGeom>
          <a:ln w="0">
            <a:noFill/>
          </a:ln>
        </p:spPr>
      </p:pic>
      <p:sp>
        <p:nvSpPr>
          <p:cNvPr id="76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6"/>
          <p:cNvSpPr/>
          <p:nvPr/>
        </p:nvSpPr>
        <p:spPr>
          <a:xfrm>
            <a:off x="1835280" y="1700280"/>
            <a:ext cx="568944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О задачах раннего обучения информат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1908000" y="17733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 информатизации и формирования информационного компонента мировозз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1835280" y="3211560"/>
            <a:ext cx="568944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8"/>
          <p:cNvSpPr/>
          <p:nvPr/>
        </p:nvSpPr>
        <p:spPr>
          <a:xfrm>
            <a:off x="1908000" y="32846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 школьного курса информатики и информационно-коммуникационных технолог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9"/>
          <p:cNvSpPr/>
          <p:nvPr/>
        </p:nvSpPr>
        <p:spPr>
          <a:xfrm>
            <a:off x="1906560" y="4724280"/>
            <a:ext cx="5689800" cy="792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0"/>
          <p:cNvSpPr/>
          <p:nvPr/>
        </p:nvSpPr>
        <p:spPr>
          <a:xfrm>
            <a:off x="1979640" y="47973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 раннего обучения информати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11"/>
          <p:cNvSpPr/>
          <p:nvPr/>
        </p:nvSpPr>
        <p:spPr>
          <a:xfrm>
            <a:off x="4356000" y="2492280"/>
            <a:ext cx="792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AutoShape 12"/>
          <p:cNvSpPr/>
          <p:nvPr/>
        </p:nvSpPr>
        <p:spPr>
          <a:xfrm>
            <a:off x="4356000" y="4005360"/>
            <a:ext cx="792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вый типовой дидактический эле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2124000" y="2205000"/>
            <a:ext cx="40388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5"/>
          <p:cNvSpPr/>
          <p:nvPr/>
        </p:nvSpPr>
        <p:spPr>
          <a:xfrm>
            <a:off x="684360" y="2924280"/>
            <a:ext cx="187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ту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ис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2700360" y="2924280"/>
            <a:ext cx="619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формление витрин магаз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зайнер витр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газине есть и продовольственные товары, и одежда, и игрушки, и спортивные товары, и много других товаров. Директор магазина для привлечения покупателей решил обновить оформление витр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ери, витрину какого отдела ты поможешь оформить, и нарисуй её эски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Line 7"/>
          <p:cNvSpPr/>
          <p:nvPr/>
        </p:nvSpPr>
        <p:spPr>
          <a:xfrm>
            <a:off x="1042920" y="3357720"/>
            <a:ext cx="77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Line 8"/>
          <p:cNvSpPr/>
          <p:nvPr/>
        </p:nvSpPr>
        <p:spPr>
          <a:xfrm>
            <a:off x="1042920" y="3716280"/>
            <a:ext cx="77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Line 9"/>
          <p:cNvSpPr/>
          <p:nvPr/>
        </p:nvSpPr>
        <p:spPr>
          <a:xfrm>
            <a:off x="1042920" y="5877000"/>
            <a:ext cx="77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4"/>
          <p:cNvSpPr/>
          <p:nvPr/>
        </p:nvSpPr>
        <p:spPr>
          <a:xfrm>
            <a:off x="685440" y="2060640"/>
            <a:ext cx="73922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Нет в мире совершенства». Ли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Сент-Экзюпер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аленький принц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задачах информатизации и формирования информационного компонента мировоззрения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декватная оценка окружающей действительности, постановка достойных и принципиально осуществимых целей и их достиж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ирование мировоззр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этичности целей и принципиальной возможности их дости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достоверности получаемых сведений и более глубокое их осмыс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тизац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нение ИКТ как инструмента в действиях, направленных на достижение поставленных ц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Информатизация деятельности</a:t>
            </a:r>
            <a:br>
              <a:rPr sz="4000"/>
            </a:b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модель применения ИКТ как инструмента</a:t>
            </a:r>
            <a:br>
              <a:rPr sz="2400"/>
            </a:b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dfdef6"/>
                </a:solidFill>
                <a:latin typeface="Arial"/>
              </a:rPr>
              <a:t>(подлежит уточнению и дополнению)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46836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мысление конечной цели и требований к ключевым характеристикам результ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ие этапов достижения ц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зор имеющихся и потенциально доступных ресур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плана действ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ение объектов информационной природы (текст, изображение, звук, видео) и принятие решения об их цифровом представл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отрение отдельных действий и принятие решения об их информат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ор способов информат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ение скоординированных действий по плану с применением информационно-коммуникационных технолог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вершение работ и оценка результа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Обзор имеющихся и потенциально доступных ресурсов</a:t>
            </a:r>
            <a:br>
              <a:rPr sz="3600"/>
            </a:br>
            <a:r>
              <a:rPr b="0" i="1" lang="ru-RU" sz="2000" spc="-1" strike="noStrike">
                <a:solidFill>
                  <a:srgbClr val="dfdef6"/>
                </a:solidFill>
                <a:latin typeface="Arial"/>
              </a:rPr>
              <a:t>(подлежит уточнению и дополнению)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валификация исполн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(с учётом необходимости и возможности освое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ьютерные программы  (с учётом необходимости и возможности освое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ы (в т.ч. коллекции информационных объект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Отдельные типовые действия</a:t>
            </a:r>
            <a:br>
              <a:rPr sz="4400"/>
            </a:br>
            <a:r>
              <a:rPr b="0" i="1" lang="ru-RU" sz="2400" spc="-1" strike="noStrike">
                <a:solidFill>
                  <a:srgbClr val="dfdef6"/>
                </a:solidFill>
                <a:latin typeface="Arial"/>
              </a:rPr>
              <a:t>(подлежит уточнению и дополнению)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ение дополнительных свед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ек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ятие ре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варительное модел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матизация действий (использование датчиков и устройств управле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ординация действий соисполн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слеживание хода выполнения действ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дение сопроводительной документ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бор способа информатизации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готовых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серви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аз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ерви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готовых прилож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готового приложения с самостоятельной настройкой на предметную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матизация повторяющихся дейст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аз настройки готового приложения (возможно самостоятельное прототипиров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стоятельное создание специализированного при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аз на создание специализированного приложения (возможно самостоятельное прототипиров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иды информатизац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 отражения в используемых инструментах специфики предметной области (например, применение текстовых редакторов, средств создания презентац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разной степенью отражения в используемых инструментах специфики предметной области (например, электронные таблицы, базы данных, системы проектирования, специализированные приложения для конкретных областей деятельно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повышением степени формализации содержания деятельности растет эффективность информатизации: всё большее число операций удаётся автоматизиров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емление к росту автоматизации, к повышению эффективности действий порождает потребность в формализации и моделиров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Сложность применения разных видов информатизаци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амо по себе применение средств ИКТ без отражения в используемых инструментах специфики предметной области не требует значительных умственных усилий и умения выполнения логически сложных умственных операц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применении средств ИКТ с  разной степенью отражения в используемых инструментах специфики предметной области происходит частичный перенос логической сложности действий предметной области в сложность использования ИК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обенно повышается уровень сложности умственных действий при самостоятельной настройке средств ИКТ на специфику предметной области или при заказе у специалистов такой настройки или специализированных приложен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09:56:49Z</dcterms:created>
  <dc:creator>Александр</dc:creator>
  <dc:description/>
  <dc:language>en-US</dc:language>
  <cp:lastModifiedBy>LEGION</cp:lastModifiedBy>
  <dcterms:modified xsi:type="dcterms:W3CDTF">2015-04-01T07:28:55Z</dcterms:modified>
  <cp:revision>46</cp:revision>
  <dc:subject/>
  <dc:title>Двухкомпонентный курс информатики</dc:title>
</cp:coreProperties>
</file>