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73A6-EE4D-456A-927E-39117855364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преподавания инфор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Средняя общеобразовательная школа №49 г. Белгорода с углубленным изучением отдельных предмет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3FCB-59D0-49BB-ABD6-241018D5D5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современных педагогических технолог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етод проектов, деловая игра, метод критического мышления и др.) позволяет интенсифицировать и модернизировать процесс об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спользование активных форм обучени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ая работа, семинар, лекция, консультация, учебная конференция. Все формы обучения нацеливают на развитие определенных навыков и умений самостоятельной деятельности, обеспечивают переход от обучения к самообразов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спользование интегрированных практических работ (проектов)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риентированных на получение целостного содержательного результата, осмысленного и интересного для учащихся. При выполнении работ практикума предполагается использование актуального содержательного материала и заданий из других предметных обла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B927-F462-4E9B-A2A0-2E321D3010D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уровню подготовки выпускников задаются в деятельностной форме (что в результате изучения данного учебного предмета учащиеся должны знать, уметь, использовать в практической деятельности и повседневной жизни). Требования служат основой разработк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нтрольно-измерительных 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государственной аттестации выпускников образовательных учреждений, реализующих программы основного общего и среднего (полного) общего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целью повышени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ффе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чебных материалов, использовани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нтера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ятельност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дхода, а такж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нижения стоим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трат на размножение и доставку учебных материалов приоритетным направлением выбрано использование не на полиграфических, а н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ифровых (электронных) носител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0E7D-0DBD-4300-9787-A981B000B2F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мо чисто технических и материальных задач использование вышеозначенных средств позволяет реализовать функцию ориентира в создани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остной предметно-развивающей сре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обходимой для реализации требований к уровню подготовки выпускников на каждой ступени обучения, исходя из задач комплексного использования материально-технических средств обучения, перехода от репродуктивных форм учебной деятельности к самостоятельным, поисково-исследовательским видам работы, переноса акцента на аналитический компонент учебной деятельности, формирование коммуникативной культуры учащихся и развитие умений работы с различными типами информации и ее источ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F178-64A0-44C7-98A8-A5667E5E6E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ный программно-методический комплекс «Информатика и информационные технологии» не в полной мере соответствует стандарту образования по информатике (профильный уровень): некоторые вопросы освещены в учебнике слабо или не освещены вов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тметить, что часть предложенных в планировании практических работ содержат недостаточный или слабо структурированный матери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компонентов комплекса мог бы стать задачник, содержащий материалы для учебных занятий и самостоятельной домашней работы, а также контрольно-измерительные матери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материальная оснащенность учебного процесса несколько уменьшает возможности мотивации к обуч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иду разнообразия программного обеспечения возникает проблема его отбора и единых дидактических материалов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D3EB-CCF3-4B1C-A827-C2A0B7EE2E8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МК «Информатика и информационные технологии» (Угринович Н.Д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Н. Д. Информатика и информационные технологии: Учебник для X — XI классов. М.: Лаборатория Базовых Знаний, 2002-200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Я. Д., Босова Л. Л., Михайлова Н. И. Практикум по информатике и информационным технологиям: Учебное пособие для общеобразовательных учреждений.  М.: ЛБЗ,  2002-200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Н. Д. Компьютерный практикум: Электронный учебник на CD-ROM. М.: ЛБЗ, 200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Н. Д., Морозов В. В., Нечаев В. М. Преподавание курса «Информатика и информационные технологии» в компьютерном классе: Методическое пособие для учителей. М.: ЛБЗ, 200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FD8A-7A71-478B-99B9-6F4F0987A3B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. Задачник-практикум в 2 т. / Под ред. И.Г. Семакина, Е.К. Хеннера. – М.: Лаборатория Базовых Знаний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ворова Н.И. Информационное моделирование. Величины, объекты, алгоритмы. – М.: Лаборатория Базовых Знаний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шенков С.А., Ракитина Е.А. Информатика. Систематический курс. Учебник для 10-го класса. – М.: Лаборатория Базовых Знаний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фрин Ю. Информационные технологии: В 2 ч. - М.: Лаборатория Базовых Знаний, 1999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: Практикум по технологии работы на компьютере / Н.В. Макарова, Е.Л. Рамин, В.В. Изранцев и др.; Под ред. Н.В. Макаровой. - М.: Финансы и статистика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EE1C-82DB-4013-ACF2-C090B98654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и по базовому курсу ИИТ для основной школы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енные пособия по визуальному объектно-ориентированному программированию на языка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ph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ценный электронный учебник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профильному курсу И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особия для учителя по работе в профильном классе и по отдельным разде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F73C-6059-468F-A3BC-5F0CA265A1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2B27-6C33-4F83-9EAD-5D3855276C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дакт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современного общества из числа новых информационных технологий выкристаллизовало ведущую –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ологию компьютерных телекоммуник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методику школьной информатики активно включается метод информационных проектов, а в содержание обучения – структура сетей, методы и инструменты сайтостро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вниман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воению содержательной линии «Математическое и компьютерное моделирование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ое направлено на формирование умений описывать и строить модели управления в системах различной природы (физических, технических и др.), использовать модели и моделирующие программы в области естествознания, обществознания, математики и т. д. Важно подчеркну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ятельностный характе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а моделирования. Изучение данного раздела содействует дальнейшему развитию таких умений, ка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истемный анализ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ис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нформации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лич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чниках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дстав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воих мыслей и взглядов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гноз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ганизация собственной и коллективн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C908-CA86-4D72-8BC4-9C20381E01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ические приоритеты: формирование информационно-функциональной компетент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ущностных характеристик изучаемого объекта; самостоятельный выбор критериев для сравнения, сопоставления, оценки и классификации объ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е создание алгоритмов деятельности для решения задач творческого и поискового характ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деальных и реальных моделей объектов, процессов, явлений, в том числе с использованием мультимедийных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 оценка информации по заданной теме в источниках различного тип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д информации из одной знаковой системы в другую, выбор знаковых систем адекватно познавательной и коммуникативной ситуац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мультимедийных ресурсов и компьютерных технологий для обработки, передачи, систематизации информации, презентации результатов познавательной и практиче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осознанного выбора путей продолжения образования или будущей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1EA5-732F-431B-8C06-D478F53CB8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основных дидактических принципов, на которых строится структура современного учебного программного обеспечения, это принцип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ногообразия операционных сре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Рациональная пропорция открытых и замкнутых прикладных программ, использование программных оболочек, обеспечивающих комфортных условий пользователя ценой переноса объемной рутинной обработки информации в область системного программного обеспечения (с дружественным интерфейсом), а также применение интегрированных систем (мультимедийных систем) позволяет наладить продуктивную, заинтересованную работу учащихся при сохранении их психологического и физического здоровь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больше появля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ультимедийных учебни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одуктов, строгое определение которых еще предстоит сформировать. Мультимедийный учебник дает возможность учителю конструктивно раскрыть глубинные, причинно-следственные связи предметной области. Текст и изображение, представленные на экране, подвластны интерактивному взаимодействию с пользователем-учеником, что открывает новые горизонты самостоятельного освоения учебной информации школьн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3674-FA47-47C9-BE0C-501EB3C590E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CD91-E0EA-476D-8AE6-E0F903FA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29F7-86F1-4EE7-9F05-235152DA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D626-FB60-495F-9D9C-0247B905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194B-0DAB-496A-8EE4-998CA0B4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0619-A765-4AD2-94D2-4C03A75B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1085-67C0-44A0-88CE-6C53D6FB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9F1F-8B62-4283-989D-3F23DF3D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3192-5039-4FE4-915E-BBD4F124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636E-A99B-4510-89F1-216072AD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B97D-7716-479B-978B-DC6A9D32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EFB8-4511-4C96-89E5-3448C13F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49ED-3102-4F92-8834-AB9286DA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A17C-E178-431B-B623-FA4100B4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BDBC-3541-4D30-862A-BECC5B7A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2011-20BC-4A2A-997A-5A53C857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08CC-0FC5-46C0-9434-1F8BFD8E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1FFC-125A-4372-B544-62618114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07D3-E8DB-4396-ADE2-E22157BF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0158-086A-4159-9F91-4388FD5A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A026-B6A0-42E8-9B35-CCED2FB8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5D90-A88F-4CB3-A89F-F42621A9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2156-520B-4361-8A1E-E673EEAB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1BA2-5DCC-4B1E-972F-2A484A5E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7FE4-EC06-438F-B92A-0B9BC75B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AF49-B6AF-41DF-8502-2F679F2854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DDD2-6C7F-4F44-9C3F-9BB601CF558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Организация преподавания информатик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066320" y="449532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У «Средняя общеобразовательная школа №49 г. Белгорода с углубленным изучением отдельных предмет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современных педагогических технологий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метод проектов, деловая игра, метод критического мышления и др.) позволяет интенсифицировать и модернизировать процесс об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спользование активных форм обучения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ктическая работа, семинар, лекция, консультация, учебная конференция. Все формы обучения нацеливают на развитие определенных навыков и умений самостоятельной деятельности, обеспечивают переход от обучения к самообразован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спользование интегрированных практических работ (проектов)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риентированных на получение целостного содержательного результата, осмысленного и интересного для учащихся. При выполнении работ практикума предполагается использование актуального содержательного материала и заданий из других предметных област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4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бования к уровню подготовки выпускников задаются в деятельностной форме (что в результате изучения данного учебного предмета учащиеся должны знать, уметь, использовать в практической деятельности и повседневной жизни). Требования служат основой разработки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онтрольно-измерительных материал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ля государственной аттестации выпускников образовательных учреждений, реализующих программы основного общего и среднего (полного) общего образо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целью повышения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эффектив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чебных материалов, использования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нтерактив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еятельностног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дхода, а также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нижения стоим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затрат на размножение и доставку учебных материалов приоритетным направлением выбрано использование не на полиграфических, а н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цифровых (электронных) носителя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8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мимо чисто технических и материальных задач использование вышеозначенных средств позволяет реализовать функцию ориентира в создании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целостной предметно-развивающей сред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еобходимой для реализации требований к уровню подготовки выпускников на каждой ступени обучения, исходя из задач комплексного использования материально-технических средств обучения, перехода от репродуктивных форм учебной деятельности к самостоятельным, поисково-исследовательским видам работы, переноса акцента на аналитический компонент учебной деятельности, формирование коммуникативной культуры учащихся и развитие умений работы с различными типами информации и ее источ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блем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ложенный программно-методический комплекс «Информатика и информационные технологии» не в полной мере соответствует стандарту образования по информатике (профильный уровень): некоторые вопросы освещены в учебнике слабо или не освещены вовс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бходимо отметить, что часть предложенных в планировании практических работ содержат недостаточный или слабо структурированный материа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им из компонентов комплекса мог бы стать задачник, содержащий материалы для учебных занятий и самостоятельной домашней работы, а также контрольно-измерительные материа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достаточная материальная оснащенность учебного процесса несколько уменьшает возможности мотивации к обучен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иду разнообразия программного обеспечения возникает проблема его отбора и единых дидактических материалов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Organization Chart 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cxnSp>
          <p:nvCxnSpPr>
            <p:cNvPr id="109" name="_s1028"/>
            <p:cNvCxnSpPr>
              <a:stCxn id="110" idx="1"/>
              <a:endCxn id="111" idx="2"/>
            </p:cNvCxnSpPr>
            <p:nvPr/>
          </p:nvCxnSpPr>
          <p:spPr>
            <a:xfrm rot="10800000">
              <a:off x="6683400" y="2016000"/>
              <a:ext cx="349920" cy="4437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1029"/>
            <p:cNvCxnSpPr>
              <a:stCxn id="113" idx="1"/>
              <a:endCxn id="111" idx="2"/>
            </p:cNvCxnSpPr>
            <p:nvPr/>
          </p:nvCxnSpPr>
          <p:spPr>
            <a:xfrm rot="10800000">
              <a:off x="6683400" y="2016000"/>
              <a:ext cx="349920" cy="3227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1030"/>
            <p:cNvCxnSpPr>
              <a:stCxn id="115" idx="1"/>
              <a:endCxn id="111" idx="2"/>
            </p:cNvCxnSpPr>
            <p:nvPr/>
          </p:nvCxnSpPr>
          <p:spPr>
            <a:xfrm rot="10800000">
              <a:off x="6683400" y="2016000"/>
              <a:ext cx="349920" cy="2017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1031"/>
            <p:cNvCxnSpPr>
              <a:stCxn id="117" idx="1"/>
              <a:endCxn id="111" idx="2"/>
            </p:cNvCxnSpPr>
            <p:nvPr/>
          </p:nvCxnSpPr>
          <p:spPr>
            <a:xfrm rot="10800000">
              <a:off x="6683400" y="2016000"/>
              <a:ext cx="349920" cy="807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1032"/>
            <p:cNvCxnSpPr>
              <a:stCxn id="119" idx="1"/>
              <a:endCxn id="120" idx="2"/>
            </p:cNvCxnSpPr>
            <p:nvPr/>
          </p:nvCxnSpPr>
          <p:spPr>
            <a:xfrm rot="10800000">
              <a:off x="3867480" y="2016000"/>
              <a:ext cx="352080" cy="2017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033"/>
            <p:cNvCxnSpPr>
              <a:stCxn id="122" idx="1"/>
              <a:endCxn id="120" idx="2"/>
            </p:cNvCxnSpPr>
            <p:nvPr/>
          </p:nvCxnSpPr>
          <p:spPr>
            <a:xfrm rot="10800000">
              <a:off x="3867480" y="2016000"/>
              <a:ext cx="352080" cy="807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3" name="_s1034"/>
            <p:cNvCxnSpPr>
              <a:stCxn id="124" idx="1"/>
              <a:endCxn id="125" idx="2"/>
            </p:cNvCxnSpPr>
            <p:nvPr/>
          </p:nvCxnSpPr>
          <p:spPr>
            <a:xfrm rot="10800000">
              <a:off x="1054080" y="2016000"/>
              <a:ext cx="352080" cy="2017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6" name="_s1035"/>
            <p:cNvCxnSpPr>
              <a:stCxn id="127" idx="1"/>
              <a:endCxn id="125" idx="2"/>
            </p:cNvCxnSpPr>
            <p:nvPr/>
          </p:nvCxnSpPr>
          <p:spPr>
            <a:xfrm rot="10800000">
              <a:off x="1054080" y="2016000"/>
              <a:ext cx="352080" cy="807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8" name="_s1036"/>
            <p:cNvCxnSpPr>
              <a:stCxn id="111" idx="0"/>
              <a:endCxn id="129" idx="2"/>
            </p:cNvCxnSpPr>
            <p:nvPr/>
          </p:nvCxnSpPr>
          <p:spPr>
            <a:xfrm flipV="1" rot="16200000">
              <a:off x="5073840" y="-399960"/>
              <a:ext cx="403920" cy="2816280"/>
            </a:xfrm>
            <a:prstGeom prst="bentConnector3">
              <a:avLst>
                <a:gd name="adj1" fmla="val 282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1037"/>
            <p:cNvCxnSpPr>
              <a:stCxn id="120" idx="0"/>
              <a:endCxn id="129" idx="2"/>
            </p:cNvCxnSpPr>
            <p:nvPr/>
          </p:nvCxnSpPr>
          <p:spPr>
            <a:xfrm flipV="1">
              <a:off x="3868200" y="806400"/>
              <a:ext cx="2880" cy="403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1" name="_s1038"/>
            <p:cNvCxnSpPr>
              <a:stCxn id="125" idx="0"/>
              <a:endCxn id="129" idx="2"/>
            </p:cNvCxnSpPr>
            <p:nvPr/>
          </p:nvCxnSpPr>
          <p:spPr>
            <a:xfrm flipH="1" flipV="1" rot="5400000">
              <a:off x="2259360" y="-398880"/>
              <a:ext cx="403920" cy="2814120"/>
            </a:xfrm>
            <a:prstGeom prst="bentConnector3">
              <a:avLst>
                <a:gd name="adj1" fmla="val 282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9" name="_s1039"/>
            <p:cNvSpPr/>
            <p:nvPr/>
          </p:nvSpPr>
          <p:spPr>
            <a:xfrm>
              <a:off x="2813400" y="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Информат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1040"/>
            <p:cNvSpPr/>
            <p:nvPr/>
          </p:nvSpPr>
          <p:spPr>
            <a:xfrm>
              <a:off x="0" y="12099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ступен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1041"/>
            <p:cNvSpPr/>
            <p:nvPr/>
          </p:nvSpPr>
          <p:spPr>
            <a:xfrm>
              <a:off x="2813400" y="12099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ступен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042"/>
            <p:cNvSpPr/>
            <p:nvPr/>
          </p:nvSpPr>
          <p:spPr>
            <a:xfrm>
              <a:off x="5626800" y="12099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II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тупен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1043"/>
            <p:cNvSpPr/>
            <p:nvPr/>
          </p:nvSpPr>
          <p:spPr>
            <a:xfrm>
              <a:off x="1406520" y="242028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3 класс, 1 ч/нед, б/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Тур С., Бокучава Т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1044"/>
            <p:cNvSpPr/>
            <p:nvPr/>
          </p:nvSpPr>
          <p:spPr>
            <a:xfrm>
              <a:off x="1406520" y="363024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4 класс, 1 ч/нед, б/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Горячев А.В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045"/>
            <p:cNvSpPr/>
            <p:nvPr/>
          </p:nvSpPr>
          <p:spPr>
            <a:xfrm>
              <a:off x="4219920" y="2420280"/>
              <a:ext cx="210780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8 класс, 1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Семакин И.Г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1046"/>
            <p:cNvSpPr/>
            <p:nvPr/>
          </p:nvSpPr>
          <p:spPr>
            <a:xfrm>
              <a:off x="4219920" y="363024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9 класс, 2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Семакин И.Г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047"/>
            <p:cNvSpPr/>
            <p:nvPr/>
          </p:nvSpPr>
          <p:spPr>
            <a:xfrm>
              <a:off x="7033680" y="242028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нформат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4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/к «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eb-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айт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048"/>
            <p:cNvSpPr/>
            <p:nvPr/>
          </p:nvSpPr>
          <p:spPr>
            <a:xfrm>
              <a:off x="7033680" y="363024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Физ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1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/к «Программирование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1049"/>
            <p:cNvSpPr/>
            <p:nvPr/>
          </p:nvSpPr>
          <p:spPr>
            <a:xfrm>
              <a:off x="7033680" y="48405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коном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1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/к «Инф. в экономике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050"/>
            <p:cNvSpPr/>
            <p:nvPr/>
          </p:nvSpPr>
          <p:spPr>
            <a:xfrm>
              <a:off x="7033680" y="605088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ниверсальны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1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УМК «Информатика и информационные технологии» (Угринович Н.Д.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8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 Д. Информатика и информационные технологии: Учебник для X — XI классов. М.: Лаборатория Базовых Знаний, 2002-2007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Я. Д., Босова Л. Л., Михайлова Н. И. Практикум по информатике и информационным технологиям: Учебное пособие для общеобразовательных учреждений.  М.: ЛБЗ,  2002-2007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 Д. Компьютерный практикум: Электронный учебник на CD-ROM. М.: ЛБЗ, 200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 Д., Морозов В. В., Нечаев В. М. Преподавание курса «Информатика и информационные технологии» в компьютерном классе: Методическое пособие для учителей. М.: ЛБЗ, 200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ополнительная 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4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нформатика. Задачник-практикум в 2 т. / Под ред. И.Г. Семакина, Е.К. Хеннера. – М.: Лаборатория Базовых Знаний, 2000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уворова Н.И. Информационное моделирование. Величины, объекты, алгоритмы. – М.: Лаборатория Базовых Знаний, 200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Бешенков С.А., Ракитина Е.А. Информатика. Систематический курс. Учебник для 10-го класса. – М.: Лаборатория Базовых Знаний, 200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Шафрин Ю. Информационные технологии: В 2 ч. - М.: Лаборатория Базовых Знаний, 1999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нформатика: Практикум по технологии работы на компьютере / Н.В. Макарова, Е.Л. Рамин, В.В. Изранцев и др.; Под ред. Н.В. Макаровой. - М.: Финансы и статистика, 1998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ктуальная 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бники по базовому курсу ИИТ для основной школы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лассы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чественные пособия по визуальному объектно-ориентированному программированию на языка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 Basi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ph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ноценный электронный учебник н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 профильному курсу ИИ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тодические пособия для учителя по работе в профильном классе и по отдельным раздел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иров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280" y="1295280"/>
          <a:ext cx="8839440" cy="5394600"/>
        </p:xfrm>
        <a:graphic>
          <a:graphicData uri="http://schemas.openxmlformats.org/drawingml/2006/table">
            <a:tbl>
              <a:tblPr/>
              <a:tblGrid>
                <a:gridCol w="470160"/>
                <a:gridCol w="5754600"/>
                <a:gridCol w="1307880"/>
                <a:gridCol w="1306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гринович Н.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У-СОШ №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ппаратные и программные средства И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формация и информационные проце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ы лог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я создания и обработки графической и мультимедийной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и создания и обработки текстовой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ботка числовой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горитмизация и объектно-ориентированное программир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делирование и формализ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и хранения, поиска и сортировки 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екоммуникационные технолог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формационная деятельность челове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идакт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е современного общества из числа новых информационных технологий выкристаллизовало ведущую 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ехнологию компьютерных телекоммуникац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В методику школьной информатики активно включается метод информационных проектов, а в содержание обучения – структура сетей, методы и инструменты сайтостро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ое внимани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своению содержательной линии «Математическое и компьютерное моделирование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ое направлено на формирование умений описывать и строить модели управления в системах различной природы (физических, технических и др.), использовать модели и моделирующие программы в области естествознания, обществознания, математики и т. д. Важно подчеркнуть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еятельностный характер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цесса моделирования. Изучение данного раздела содействует дальнейшему развитию таких умений, как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истемный анализ информ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ис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нформации в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азличны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сточниках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едстав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воих мыслей и взглядов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оделиров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гнозиров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рганизация собственной и коллективной дея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Методические приоритеты: формирование информационно-функциональной компетентност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ение сущностных характеристик изучаемого объекта; самостоятельный выбор критериев для сравнения, сопоставления, оценки и классификации объек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остоятельное создание алгоритмов деятельности для решения задач творческого и поискового характе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идеальных и реальных моделей объектов, процессов, явлений, в том числе с использованием мультимедийных технолог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иск и оценка информации по заданной теме в источниках различного тип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вод информации из одной знаковой системы в другую, выбор знаковых систем адекватно познавательной и коммуникативной ситуация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мультимедийных ресурсов и компьютерных технологий для обработки, передачи, систематизации информации, презентации результатов познавательной и практической 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уществление осознанного выбора путей продолжения образования или будущей профессиональн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ин из основных дидактических принципов, на которых строится структура современного учебного программного обеспечения, это принцип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ногообразия операционных сре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Рациональная пропорция открытых и замкнутых прикладных программ, использование программных оболочек, обеспечивающих комфортных условий пользователя ценой переноса объемной рутинной обработки информации в область системного программного обеспечения (с дружественным интерфейсом), а также применение интегрированных систем (мультимедийных систем) позволяет наладить продуктивную, заинтересованную работу учащихся при сохранении их психологического и физического здоровь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больше появляется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ультимедийных учебник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родуктов, строгое определение которых еще предстоит сформировать. Мультимедийный учебник дает возможность учителю конструктивно раскрыть глубинные, причинно-следственные связи предметной области. Текст и изображение, представленные на экране, подвластны интерактивному взаимодействию с пользователем-учеником, что открывает новые горизонты самостоятельного освоения учебной информации школьник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1T07:32:1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