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2049-442F-4677-89C1-66BFB83A31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еподавания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2B9F-4955-4F7D-A4DC-67663714C8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временных педагогических технолог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форм обуч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грированных практических работ (проектов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67A5-B770-4D3D-B4D8-A531050431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трольно-измерительных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овыш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ых материалов, использова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а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хода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я сто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ифровых (электронных) носител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EC76-5216-42CF-AFFD-03EFB32DF8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остной предметно-развивающей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79A-58F3-4CFD-94F2-ECECACE4D6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1DBC-2BD6-4DB2-835D-D25E7FFA85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К «Информатика и информационные технологии» (Угринович Н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Компьютерный практикум: Электронный учебник на CD-ROM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557D-D0BC-4ECE-9244-25BB1D8C41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фрин Ю. Информационные технологии: В 2 ч. - М.: Лаборатория Базовых Знаний, 199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986F-E4D1-4E80-8F76-C1BB19316B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по базовому курсу ИИТ для основной школы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ph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ценный электронный учебник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офильному курсу И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0B11-5DEA-454E-BF52-440CE64DB8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7026-F92E-4A29-8630-EC2DDB2A87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дакт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логию компьютерных телекоммун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воению содержательной линии «Математическое и компьютерное моделирова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ый 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и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лич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чниках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ыслей и взглядов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изация собственной и коллектив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E09E-FA70-4E99-AD52-EAD2EE8E13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приоритеты: формирование информационно-функцион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оценка информации по заданной теме в источниках различно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B7B1-1ED6-41A2-BC92-033BB80BEC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ногообразия операционных ср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 по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ультимедийных учеб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A2AE-04A0-40D3-856D-3748BEBEFB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B52-0EFB-4666-B760-1223D71E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6BA-5E73-4886-8B1B-AC38C050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B34-D2D8-4DD7-9D48-B773FC64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D84-D1EC-4BBB-9ABF-5B1236E0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DB99-47CA-4766-B36E-7735217D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DE0C-8866-47AE-9F7D-0E877D9C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A6F2-F47D-4C88-AE79-737DE4BC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6D5C-5C31-4D03-A7AB-C37BF8CC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C01D-A073-4E41-8269-1F6FB7A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7965-278F-44A3-85EF-E01D72F9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3533-77A9-4FA4-8ADA-CBDF30A4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FDF-274D-4B4F-BA31-EA4BE80F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9873-024F-4B05-899A-827F7B22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C0F8-0FA7-4158-9153-2F49791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3607-76E3-4C0F-839F-5B76F139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D5B2-464D-4A87-97B2-F88ED36C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B0BA-8268-40CE-B758-03554332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05D-0A44-46AA-B717-8EAEA335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790-6D17-45B3-86E7-2147A5B8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231-575C-4467-ABA4-AB8E69A2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685-7279-4157-A94F-5D99B44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B6C-229B-42E0-9E97-936813C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C38-5954-4FE9-9A26-ED191A7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9A4-BE91-4ACC-8F16-C9E387E3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8C17-6FA4-40D2-84F9-6CD1074241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9CFE-8707-4E23-BCFF-DD5CB2E428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рганизация преподавания информа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овременных педагогических технолог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активных форм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интегрированных практических работ (проектов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ьно-измерительных матери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целью повыше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бных материалов, использова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тера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ход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жения стоим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ифровых (электронных) носите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остной предметно-развивающей сре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6683400" y="2016000"/>
              <a:ext cx="34992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6683400" y="2016000"/>
              <a:ext cx="34992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6683400" y="2016000"/>
              <a:ext cx="34992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6683400" y="2016000"/>
              <a:ext cx="34992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20" idx="2"/>
            </p:cNvCxnSpPr>
            <p:nvPr/>
          </p:nvCxnSpPr>
          <p:spPr>
            <a:xfrm rot="10800000">
              <a:off x="38674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3"/>
            <p:cNvCxnSpPr>
              <a:stCxn id="122" idx="1"/>
              <a:endCxn id="120" idx="2"/>
            </p:cNvCxnSpPr>
            <p:nvPr/>
          </p:nvCxnSpPr>
          <p:spPr>
            <a:xfrm rot="10800000">
              <a:off x="38674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4"/>
            <p:cNvCxnSpPr>
              <a:stCxn id="124" idx="1"/>
              <a:endCxn id="125" idx="2"/>
            </p:cNvCxnSpPr>
            <p:nvPr/>
          </p:nvCxnSpPr>
          <p:spPr>
            <a:xfrm rot="10800000">
              <a:off x="10540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1"/>
              <a:endCxn id="125" idx="2"/>
            </p:cNvCxnSpPr>
            <p:nvPr/>
          </p:nvCxnSpPr>
          <p:spPr>
            <a:xfrm rot="10800000">
              <a:off x="10540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11" idx="0"/>
              <a:endCxn id="129" idx="2"/>
            </p:cNvCxnSpPr>
            <p:nvPr/>
          </p:nvCxnSpPr>
          <p:spPr>
            <a:xfrm flipV="1" rot="16200000">
              <a:off x="5073840" y="-399960"/>
              <a:ext cx="403920" cy="281628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7"/>
            <p:cNvCxnSpPr>
              <a:stCxn id="120" idx="0"/>
              <a:endCxn id="129" idx="2"/>
            </p:cNvCxnSpPr>
            <p:nvPr/>
          </p:nvCxnSpPr>
          <p:spPr>
            <a:xfrm flipV="1">
              <a:off x="3868200" y="806400"/>
              <a:ext cx="2880" cy="40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38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2259360" y="-398880"/>
              <a:ext cx="403920" cy="281412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9" name="_s1039"/>
            <p:cNvSpPr/>
            <p:nvPr/>
          </p:nvSpPr>
          <p:spPr>
            <a:xfrm>
              <a:off x="2813400" y="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0"/>
            <p:cNvSpPr/>
            <p:nvPr/>
          </p:nvSpPr>
          <p:spPr>
            <a:xfrm>
              <a:off x="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28134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56268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I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140652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3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Тур С., Бокучава 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4"/>
            <p:cNvSpPr/>
            <p:nvPr/>
          </p:nvSpPr>
          <p:spPr>
            <a:xfrm>
              <a:off x="14065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4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Горячев А.В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45"/>
            <p:cNvSpPr/>
            <p:nvPr/>
          </p:nvSpPr>
          <p:spPr>
            <a:xfrm>
              <a:off x="4219920" y="2420280"/>
              <a:ext cx="210780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8 класс, 1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>
              <a:off x="42199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9 класс, 2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7"/>
            <p:cNvSpPr/>
            <p:nvPr/>
          </p:nvSpPr>
          <p:spPr>
            <a:xfrm>
              <a:off x="703368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4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b-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айт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8"/>
            <p:cNvSpPr/>
            <p:nvPr/>
          </p:nvSpPr>
          <p:spPr>
            <a:xfrm>
              <a:off x="703368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Программировани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9"/>
            <p:cNvSpPr/>
            <p:nvPr/>
          </p:nvSpPr>
          <p:spPr>
            <a:xfrm>
              <a:off x="7033680" y="48405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Инф. в экономик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50"/>
            <p:cNvSpPr/>
            <p:nvPr/>
          </p:nvSpPr>
          <p:spPr>
            <a:xfrm>
              <a:off x="7033680" y="60508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ниверсаль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МК «Информатика и информационные технологии» (Угринович Н.Д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Компьютерный практикум: Электронный учебник на CD-ROM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полните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фрин Ю. Информационные технологии: В 2 ч. - М.: Лаборатория Базовых Знаний, 199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и по базовому курсу ИИТ для основной школы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ценный электронный учебник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профильному курсу И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295280"/>
          <a:ext cx="8839440" cy="5394600"/>
        </p:xfrm>
        <a:graphic>
          <a:graphicData uri="http://schemas.openxmlformats.org/drawingml/2006/table">
            <a:tbl>
              <a:tblPr/>
              <a:tblGrid>
                <a:gridCol w="470160"/>
                <a:gridCol w="5754600"/>
                <a:gridCol w="1307880"/>
                <a:gridCol w="1306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инович Н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У-СОШ №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паратные и программные средства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я и информационные 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лог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я создания и обработки графической и мультимедийн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создания и обработки текст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ботка числ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изация и объектно-ориентированное програ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ирование и форм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хранения, поиска и сортировки 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коммуникационн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деятельность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дакт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ехнологию компьютерных телекоммуник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внима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ю содержательной линии «Математическое и компьютерное моделирование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ый характе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ный анализ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ции 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лич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точ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оих мыслей и взгляд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ноз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ация собственной и коллектив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тодические приоритеты: формирование информационно-функциональной компетент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и оценка информации по заданной теме в источниках различного тип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образия операционных ср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больше по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ультимедийных учеб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32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