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C391-BF43-4E91-8B9B-A91380F0CF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преподавания инфор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редняя общеобразовательная школа №49 г. Белгорода с углубленным изучением отдельных предме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A628-55C3-4C33-BCCC-1E4F1911FE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современных педагогических технолог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етод проектов, деловая игра, метод критического мышления и др.) позволяет интенсифицировать и модернизировать процесс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пользование активных форм обучени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ая работа, семинар, лекция, консультация, учебная конференция. Все формы обучения нацеливают на развитие определенных навыков и умений самостоятельной деятельности, обеспечивают переход от обучения к самообраз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пользование интегрированных практических работ (проектов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иентированных на получение целостного содержательного результата, осмысленного и интересного для учащихся. При выполнении работ практикума предполагается использование актуального содержательного материала и заданий из других предметных обла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4E39-24DA-47EE-8C9F-B9C5C6F682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выпускников задаются в деятельностной форме (что в результате изучения данного учебного предмета учащиеся должны знать, уметь, использовать в практической деятельности и повседневной жизни). Требования служат основой разработк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нтрольно-измерительных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государственной аттестации выпускников образовательных учреждений, реализующих программы основного общего и среднего (полного) обще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повышени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ых материалов, использовани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ера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хода, а такж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ижения стоим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трат на размножение и доставку учебных материалов приоритетным направлением выбрано использование не на полиграфических, а н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ифровых (электронных) носител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84EC-6FFB-4D86-B5CF-4734F89AB7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чисто технических и материальных задач использование вышеозначенных средств позволяет реализовать функцию ориентира в создани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остной предметно-развивающей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обходимой для реализации требований к уровню подготовки выпускников на каждой ступени обучения, исходя из задач комплексного использования материально-технических средств обучения, перехода от репродуктивных форм учебной деятельности к самостоятельным, поисково-исследовательским видам работы, переноса акцента на аналитический компонент учебной деятельности, формирование коммуникативной культуры учащихся и развитие умений работы с различными типами информации и ее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B2B1-933F-4F2F-9634-D7B30B9CB5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ный программно-методический комплекс «Информатика и информационные технологии» не в полной мере соответствует стандарту образования по информатике (профильный уровень): некоторые вопросы освещены в учебнике слабо или не освещены вов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метить, что часть предложенных в планировании практических работ содержат недостаточный или слабо структурированный матери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компонентов комплекса мог бы стать задачник, содержащий материалы для учебных занятий и самостоятельной домашней работы, а также контрольно-измерительные матери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материальная оснащенность учебного процесса несколько уменьшает возможности мотивации к обуч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иду разнообразия программного обеспечения возникает проблема его отбора и единых дидактических материало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1D42-0790-41CF-8FE2-AF67BCD003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МК «Информатика и информационные технологии» (Угринович Н.Д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 Информатика и информационные технологии: Учебник для X — XI классов. М.: Лаборатория Базовых Знаний, 2002-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Я. Д., Босова Л. Л., Михайлова Н. И. Практикум по информатике и информационным технологиям: Учебное пособие для общеобразовательных учреждений.  М.: ЛБЗ,  2002-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 Компьютерный практикум: Электронный учебник на CD-ROM. М.: ЛБЗ, 200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, Морозов В. В., Нечаев В. М. Преподавание курса «Информатика и информационные технологии» в компьютерном классе: Методическое пособие для учителей. М.: ЛБЗ, 200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48E4-D42E-4655-8993-2E2EE80174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Задачник-практикум в 2 т. / Под ред. И.Г. Семакина, Е.К. Хеннера. – М.: Лаборатория Базовых Знаний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орова Н.И. Информационное моделирование. Величины, объекты, алгоритмы. – М.: Лаборатория Базовых Знаний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шенков С.А., Ракитина Е.А. Информатика. Систематический курс. Учебник для 10-го класса. – М.: Лаборатория Базовых Знаний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фрин Ю. Информационные технологии: В 2 ч. - М.: Лаборатория Базовых Знаний, 199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: Практикум по технологии работы на компьютере / Н.В. Макарова, Е.Л. Рамин, В.В. Изранцев и др.; Под ред. Н.В. Макаровой. - М.: Финансы и статистика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D84B-35E0-4BBB-9838-C6B51498CA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по базовому курсу ИИТ для основной школы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енные пособия по визуальному объектно-ориентированному программированию на язык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ph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ценный электронный учебник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профильному курсу И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особия для учителя по работе в профильном классе и по отдельным разде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9DAB-4276-4612-B74A-629053BA4D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B161-EFD7-4CC4-9A52-526E30B5F5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дакт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овременного общества из числа новых информационных технологий выкристаллизовало ведущую –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ологию компьютерных телекоммуник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методику школьной информатики активно включается метод информационных проектов, а в содержание обучения – структура сетей, методы и инструменты сайтостро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воению содержательной линии «Математическое и компьютерное моделировани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е направлено на формирование умений описывать и строить модели управления в системах различной природы (физических, технических и др.), использовать модели и моделирующие программы в области естествознания, обществознания, математики и т. д. Важно подчеркну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ный характе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а моделирования. Изучение данного раздела содействует дальнейшему развитию таких умений, ка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ис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формации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лич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чниках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х мыслей и взглядов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гноз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ганизация собственной и коллектив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86B9-BC6A-4303-8DE5-DC5AB2E9FB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ие приоритеты: формирование информационно-функциональной компетент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ущностных характеристик изучаемого объекта; самостоятельный выбор критериев для сравнения, сопоставления, оценки и классификации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е создание алгоритмов деятельности для решения задач творческого и поискового харак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деальных и реальных моделей объектов, процессов, явлений, в том числе с использованием мультимедийны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 оценка информации по заданной теме в источниках различного тип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д информации из одной знаковой системы в другую, выбор знаковых систем адекватно познавательной и коммуникативной ситуац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мультимедийных ресурсов и компьютерных технологий для обработки, передачи, систематизации информации, презентации результатов познавательной и практ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осознанного выбора путей продолжения образования или будуще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A542-196E-4AA1-9804-2177BE8482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ных дидактических принципов, на которых строится структура современного учебного программного обеспечения, это принцип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ногообразия операционных сре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Рациональная пропорция открытых и замкнутых прикладных программ, использование программных оболочек, обеспечивающих комфортных условий пользователя ценой переноса объемной рутинной обработки информации в область системного программного обеспечения (с дружественным интерфейсом), а также применение интегрированных систем (мультимедийных систем) позволяет наладить продуктивную, заинтересованную работу учащихся при сохранении их психологического и физического здоровь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больше появля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ультимедийных учеб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дуктов, строгое определение которых еще предстоит сформировать. Мультимедийный учебник дает возможность учителю конструктивно раскрыть глубинные, причинно-следственные связи предметной области. Текст и изображение, представленные на экране, подвластны интерактивному взаимодействию с пользователем-учеником, что открывает новые горизонты самостоятельного освоения учебной информации школь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02F3-0E5C-4134-838B-C6BBAF9469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96C-98BD-4AD6-B16A-9BE5C7CB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C12-D352-439F-95D9-4BFCCA9B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7597-8FD3-44B9-B0DA-849CC659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5B1-A281-4EBC-B274-74CFFF3B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8A9C-76EC-4DE5-BAD9-BA7343FE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0B91-8BA5-492D-BA96-D647F20F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1260-AEA3-40D4-8898-FD129E52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9C41-6A71-4B08-8C53-B80EA168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08D2-F2D2-4E67-ACA2-88580364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E8AD-03DD-4B8C-A727-635A92C9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1244-D689-49C6-95CB-C4DF6988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F2B-2BD6-4EDF-B9B2-A2A5DD04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5EE6-EC18-4A3B-BAA0-20F1E589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8E6D-786A-49DD-ADBE-8F9B141A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4117-DB9C-42A4-8436-11CB18A5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248B-21FB-4C16-B17F-2F4BA406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6501-11E5-46D2-A35D-ADD4BC21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281-D351-423C-AB9C-4B945AE4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F2F-B519-48B8-9735-44B6F7CA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2C00-DD34-4470-9507-F365DF0D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8DE3-5A3D-43E8-957A-39CC8A5B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71B-DBB5-4933-8A82-6B8D3E4C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AA4-D5FC-4BD3-B009-2E33277B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645-1463-4D44-9DC1-8D37FD53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5395-5438-4ACB-9FF1-E42E09221B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28DA-65E2-44A5-B7EA-BB93364AE7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Организация преподавания информати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66320" y="44953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Средняя общеобразовательная школа №49 г. Белгорода с углубленным изучением отдельных предмет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современных педагогических технологи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метод проектов, деловая игра, метод критического мышления и др.) позволяет интенсифицировать и модернизировать процесс об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спользование активных форм обучения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ая работа, семинар, лекция, консультация, учебная конференция. Все формы обучения нацеливают на развитие определенных навыков и умений самостоятельной деятельности, обеспечивают переход от обучения к самообразован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спользование интегрированных практических работ (проектов)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риентированных на получение целостного содержательного результата, осмысленного и интересного для учащихся. При выполнении работ практикума предполагается использование актуального содержательного материала и заданий из других предметных област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4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бования к уровню подготовки выпускников задаются в деятельностной форме (что в результате изучения данного учебного предмета учащиеся должны знать, уметь, использовать в практической деятельности и повседневной жизни). Требования служат основой разработк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нтрольно-измерительных материа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ля государственной аттестации выпускников образовательных учреждений, реализующих программы основного общего и среднего (полного) общего образ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целью повышени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эффе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ебных материалов, использовани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нтера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ятельностног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дхода, а также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нижения стоим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трат на размножение и доставку учебных материалов приоритетным направлением выбрано использование не на полиграфических, а н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цифровых (электронных) носителя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имо чисто технических и материальных задач использование вышеозначенных средств позволяет реализовать функцию ориентира в создани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елостной предметно-развивающей сре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обходимой для реализации требований к уровню подготовки выпускников на каждой ступени обучения, исходя из задач комплексного использования материально-технических средств обучения, перехода от репродуктивных форм учебной деятельности к самостоятельным, поисково-исследовательским видам работы, переноса акцента на аналитический компонент учебной деятельности, формирование коммуникативной культуры учащихся и развитие умений работы с различными типами информации и ее источ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оженный программно-методический комплекс «Информатика и информационные технологии» не в полной мере соответствует стандарту образования по информатике (профильный уровень): некоторые вопросы освещены в учебнике слабо или не освещены вовс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ходимо отметить, что часть предложенных в планировании практических работ содержат недостаточный или слабо структурированный матери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им из компонентов комплекса мог бы стать задачник, содержащий материалы для учебных занятий и самостоятельной домашней работы, а также контрольно-измерительные матери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достаточная материальная оснащенность учебного процесса несколько уменьшает возможности мотивации к обуче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иду разнообразия программного обеспечения возникает проблема его отбора и единых дидактических материалов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Organization Chart 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cxnSp>
          <p:nvCxnSpPr>
            <p:cNvPr id="109" name="_s1028"/>
            <p:cNvCxnSpPr>
              <a:stCxn id="110" idx="1"/>
              <a:endCxn id="111" idx="2"/>
            </p:cNvCxnSpPr>
            <p:nvPr/>
          </p:nvCxnSpPr>
          <p:spPr>
            <a:xfrm rot="10800000">
              <a:off x="6683400" y="2016000"/>
              <a:ext cx="349920" cy="4437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29"/>
            <p:cNvCxnSpPr>
              <a:stCxn id="113" idx="1"/>
              <a:endCxn id="111" idx="2"/>
            </p:cNvCxnSpPr>
            <p:nvPr/>
          </p:nvCxnSpPr>
          <p:spPr>
            <a:xfrm rot="10800000">
              <a:off x="6683400" y="2016000"/>
              <a:ext cx="349920" cy="3227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030"/>
            <p:cNvCxnSpPr>
              <a:stCxn id="115" idx="1"/>
              <a:endCxn id="111" idx="2"/>
            </p:cNvCxnSpPr>
            <p:nvPr/>
          </p:nvCxnSpPr>
          <p:spPr>
            <a:xfrm rot="10800000">
              <a:off x="6683400" y="2016000"/>
              <a:ext cx="34992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031"/>
            <p:cNvCxnSpPr>
              <a:stCxn id="117" idx="1"/>
              <a:endCxn id="111" idx="2"/>
            </p:cNvCxnSpPr>
            <p:nvPr/>
          </p:nvCxnSpPr>
          <p:spPr>
            <a:xfrm rot="10800000">
              <a:off x="6683400" y="2016000"/>
              <a:ext cx="34992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032"/>
            <p:cNvCxnSpPr>
              <a:stCxn id="119" idx="1"/>
              <a:endCxn id="120" idx="2"/>
            </p:cNvCxnSpPr>
            <p:nvPr/>
          </p:nvCxnSpPr>
          <p:spPr>
            <a:xfrm rot="10800000">
              <a:off x="3867480" y="2016000"/>
              <a:ext cx="35208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033"/>
            <p:cNvCxnSpPr>
              <a:stCxn id="122" idx="1"/>
              <a:endCxn id="120" idx="2"/>
            </p:cNvCxnSpPr>
            <p:nvPr/>
          </p:nvCxnSpPr>
          <p:spPr>
            <a:xfrm rot="10800000">
              <a:off x="3867480" y="2016000"/>
              <a:ext cx="35208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034"/>
            <p:cNvCxnSpPr>
              <a:stCxn id="124" idx="1"/>
              <a:endCxn id="125" idx="2"/>
            </p:cNvCxnSpPr>
            <p:nvPr/>
          </p:nvCxnSpPr>
          <p:spPr>
            <a:xfrm rot="10800000">
              <a:off x="1054080" y="2016000"/>
              <a:ext cx="35208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035"/>
            <p:cNvCxnSpPr>
              <a:stCxn id="127" idx="1"/>
              <a:endCxn id="125" idx="2"/>
            </p:cNvCxnSpPr>
            <p:nvPr/>
          </p:nvCxnSpPr>
          <p:spPr>
            <a:xfrm rot="10800000">
              <a:off x="1054080" y="2016000"/>
              <a:ext cx="35208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1036"/>
            <p:cNvCxnSpPr>
              <a:stCxn id="111" idx="0"/>
              <a:endCxn id="129" idx="2"/>
            </p:cNvCxnSpPr>
            <p:nvPr/>
          </p:nvCxnSpPr>
          <p:spPr>
            <a:xfrm flipV="1" rot="16200000">
              <a:off x="5073840" y="-399960"/>
              <a:ext cx="403920" cy="2816280"/>
            </a:xfrm>
            <a:prstGeom prst="bentConnector3">
              <a:avLst>
                <a:gd name="adj1" fmla="val 282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7"/>
            <p:cNvCxnSpPr>
              <a:stCxn id="120" idx="0"/>
              <a:endCxn id="129" idx="2"/>
            </p:cNvCxnSpPr>
            <p:nvPr/>
          </p:nvCxnSpPr>
          <p:spPr>
            <a:xfrm flipV="1">
              <a:off x="3868200" y="806400"/>
              <a:ext cx="2880" cy="403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1038"/>
            <p:cNvCxnSpPr>
              <a:stCxn id="125" idx="0"/>
              <a:endCxn id="129" idx="2"/>
            </p:cNvCxnSpPr>
            <p:nvPr/>
          </p:nvCxnSpPr>
          <p:spPr>
            <a:xfrm flipH="1" flipV="1" rot="5400000">
              <a:off x="2259360" y="-398880"/>
              <a:ext cx="403920" cy="2814120"/>
            </a:xfrm>
            <a:prstGeom prst="bentConnector3">
              <a:avLst>
                <a:gd name="adj1" fmla="val 282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9" name="_s1039"/>
            <p:cNvSpPr/>
            <p:nvPr/>
          </p:nvSpPr>
          <p:spPr>
            <a:xfrm>
              <a:off x="2813400" y="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нформат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040"/>
            <p:cNvSpPr/>
            <p:nvPr/>
          </p:nvSpPr>
          <p:spPr>
            <a:xfrm>
              <a:off x="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041"/>
            <p:cNvSpPr/>
            <p:nvPr/>
          </p:nvSpPr>
          <p:spPr>
            <a:xfrm>
              <a:off x="281340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42"/>
            <p:cNvSpPr/>
            <p:nvPr/>
          </p:nvSpPr>
          <p:spPr>
            <a:xfrm>
              <a:off x="562680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II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043"/>
            <p:cNvSpPr/>
            <p:nvPr/>
          </p:nvSpPr>
          <p:spPr>
            <a:xfrm>
              <a:off x="1406520" y="24202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3 класс, 1 ч/нед, б/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Тур С., Бокучава Т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044"/>
            <p:cNvSpPr/>
            <p:nvPr/>
          </p:nvSpPr>
          <p:spPr>
            <a:xfrm>
              <a:off x="140652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4 класс, 1 ч/нед, б/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Горячев А.В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045"/>
            <p:cNvSpPr/>
            <p:nvPr/>
          </p:nvSpPr>
          <p:spPr>
            <a:xfrm>
              <a:off x="4219920" y="2420280"/>
              <a:ext cx="210780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8 класс, 1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Семакин И.Г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046"/>
            <p:cNvSpPr/>
            <p:nvPr/>
          </p:nvSpPr>
          <p:spPr>
            <a:xfrm>
              <a:off x="421992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9 класс, 2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Семакин И.Г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047"/>
            <p:cNvSpPr/>
            <p:nvPr/>
          </p:nvSpPr>
          <p:spPr>
            <a:xfrm>
              <a:off x="7033680" y="24202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нформат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4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eb-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айт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48"/>
            <p:cNvSpPr/>
            <p:nvPr/>
          </p:nvSpPr>
          <p:spPr>
            <a:xfrm>
              <a:off x="703368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Физ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Программирование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49"/>
            <p:cNvSpPr/>
            <p:nvPr/>
          </p:nvSpPr>
          <p:spPr>
            <a:xfrm>
              <a:off x="7033680" y="48405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коном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Инф. в экономике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050"/>
            <p:cNvSpPr/>
            <p:nvPr/>
          </p:nvSpPr>
          <p:spPr>
            <a:xfrm>
              <a:off x="7033680" y="60508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ниверсальны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МК «Информатика и информационные технологии» (Угринович Н.Д.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 Информатика и информационные технологии: Учебник для X — XI классов. М.: Лаборатория Базовых Знаний, 2002-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Я. Д., Босова Л. Л., Михайлова Н. И. Практикум по информатике и информационным технологиям: Учебное пособие для общеобразовательных учреждений.  М.: ЛБЗ,  2002-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 Компьютерный практикум: Электронный учебник на CD-ROM. М.: ЛБЗ, 200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, Морозов В. В., Нечаев В. М. Преподавание курса «Информатика и информационные технологии» в компьютерном классе: Методическое пособие для учителей. М.: ЛБЗ, 200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полнительн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форматика. Задачник-практикум в 2 т. / Под ред. И.Г. Семакина, Е.К. Хеннера. – М.: Лаборатория Базовых Знаний, 200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уворова Н.И. Информационное моделирование. Величины, объекты, алгоритмы. – М.: Лаборатория Базовых Знаний, 20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ешенков С.А., Ракитина Е.А. Информатика. Систематический курс. Учебник для 10-го класса. – М.: Лаборатория Базовых Знаний, 20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Шафрин Ю. Информационные технологии: В 2 ч. - М.: Лаборатория Базовых Знаний, 1999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форматика: Практикум по технологии работы на компьютере / Н.В. Макарова, Е.Л. Рамин, В.В. Изранцев и др.; Под ред. Н.В. Макаровой. - М.: Финансы и статистика, 1998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ктуальн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ики по базовому курсу ИИТ для основной школы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лассы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чественные пособия по визуальному объектно-ориентированному программированию на языка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Basi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ph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ценный электронный учебник 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 профильному курсу ИИ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тодические пособия для учителя по работе в профильном классе и по отдельным раздел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иров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1295280"/>
          <a:ext cx="8839440" cy="5394600"/>
        </p:xfrm>
        <a:graphic>
          <a:graphicData uri="http://schemas.openxmlformats.org/drawingml/2006/table">
            <a:tbl>
              <a:tblPr/>
              <a:tblGrid>
                <a:gridCol w="470160"/>
                <a:gridCol w="5754600"/>
                <a:gridCol w="1307880"/>
                <a:gridCol w="1306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гринович Н.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У-СОШ №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ппаратные и программные средства И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я и информационные проце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ы лог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я создания и обработки графической и мультимедийн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 создания и обработки текстов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ботка числов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горитмизация и объектно-ориентированное программ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елирование и формализ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 хранения, поиска и сортировки 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коммуникационные технолог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онная деятельность челове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идакт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современного общества из числа новых информационных технологий выкристаллизовало ведущую 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ехнологию компьютерных телекоммуникац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 методику школьной информатики активно включается метод информационных проектов, а в содержание обучения – структура сетей, методы и инструменты сайтостро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ое внима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своению содержательной линии «Математическое и компьютерное моделирование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ое направлено на формирование умений описывать и строить модели управления в системах различной природы (физических, технических и др.), использовать модели и моделирующие программы в области естествознания, обществознания, математики и т. д. Важно подчеркнуть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ятельностный характер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есса моделирования. Изучение данного раздела содействует дальнейшему развитию таких умений, как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истемный анализ информ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ис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нформации в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злич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точниках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воих мыслей и взглядов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одел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гноз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рганизация собственной и коллективной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Методические приоритеты: формирование информационно-функциональной компетентно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сущностных характеристик изучаемого объекта; самостоятельный выбор критериев для сравнения, сопоставления, оценки и классификации объе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остоятельное создание алгоритмов деятельности для решения задач творческого и поискового характе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идеальных и реальных моделей объектов, процессов, явлений, в том числе с использованием мультимедийных технолог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иск и оценка информации по заданной теме в источниках различного тип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вод информации из одной знаковой системы в другую, выбор знаковых систем адекватно познавательной и коммуникативной ситуация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мультимедийных ресурсов и компьютерных технологий для обработки, передачи, систематизации информации, презентации результатов познавательной и практическ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ение осознанного выбора путей продолжения образования или будущей профессиональн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ин из основных дидактических принципов, на которых строится структура современного учебного программного обеспечения, это принцип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ногообразия операционных сре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Рациональная пропорция открытых и замкнутых прикладных программ, использование программных оболочек, обеспечивающих комфортных условий пользователя ценой переноса объемной рутинной обработки информации в область системного программного обеспечения (с дружественным интерфейсом), а также применение интегрированных систем (мультимедийных систем) позволяет наладить продуктивную, заинтересованную работу учащихся при сохранении их психологического и физического здоровь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больше появляетс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ультимедийных учебник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родуктов, строгое определение которых еще предстоит сформировать. Мультимедийный учебник дает возможность учителю конструктивно раскрыть глубинные, причинно-следственные связи предметной области. Текст и изображение, представленные на экране, подвластны интерактивному взаимодействию с пользователем-учеником, что открывает новые горизонты самостоятельного освоения учебной информации школьник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32:1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