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58E5-DD14-4434-A388-051F9328E3B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Информатика как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65E7-AC29-4EDB-B9E3-CDB1ED5272B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микропроцессорной технологии и ПК (70-е г.г.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к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726F-62A6-4B0E-B91C-D2CE6D7D0BA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alibri"/>
              </a:rPr>
              <a:t>Краткая история информа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половина 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Андре Ампер ввел понятие «кибернетика» - наука, занимающаяся изучением искусства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1948 год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берт Вин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бернетика – наука об управлении в живой природе и в технических систе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кибернетика – наука об общих закономерностях в управлении и связи в различных системах: искуственных, биологических, социа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50-е г.г. 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а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Scienc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- компьютерная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60-е г.г. 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а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qu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automatique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авто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C9EE-0597-4F8D-ABB8-B78AE4A4C5A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Calibri"/>
              </a:rPr>
              <a:t>Понятие и структура информа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Информатика –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ласть человеческой деятельности, связанная с процессами преобразования информации с помощью компьютера и их взаимодействие со средой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3EB0-0B3D-4BA3-9A36-AD5F8C6F280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Информацион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Информационное общество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щество, в котором большинство работающих занято производством, хранением, переработкой и реализацией информации и особенно высшей ее формы –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5577-6291-4987-8D74-B49999D71B8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Calibri"/>
              </a:rPr>
              <a:t>Черты информационного обще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а проблема информационного кризи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 приоритет информации по сравнению с другими ресурс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й формой развития является информационная эконом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технология приобретает глобальный характер, охватывая все сферы социальной деятельност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уется информационное единство всей человеческой циви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мощью средств информатики реализован свободный доступ каждого человека к мировым информационным ресур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027A-D875-4691-A982-AF41A44CC7B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alibri"/>
              </a:rPr>
              <a:t>Отрицательные моменты информационного обще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большее влияние на общество оказывают С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технологии могут разрушить частную жизнь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проблема отбора качественной и достовер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аются высокотехнологичные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5F44-FFE1-49F4-96AC-DECA41C7D2B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письм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ыс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средств и методов накопления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409A-438B-4071-B51E-7294948EB56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   книгопечат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(середина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XV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к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D21C-A126-4874-8674-66B70893D8E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I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электричества (конец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средств информационной коммун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46FA-2F6C-4853-B468-065B823CBA0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95A3-F8AD-4109-9A0D-537CA40E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FF09-24B3-4F85-9AE4-E05B58B3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442B-6155-4ECE-BBD0-ADD4973E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4534-FA18-4694-81E3-133A8184F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CFD3-BD0D-4755-A7C8-0C4D7337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6A13-B1A0-48FC-A2CB-8496CBBF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DC69-B16F-4762-8739-409C4B37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AD80-9553-4E7D-AA50-AFB66DEC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2D62-B252-4744-A57A-A78B4F16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42CF-0935-449F-A0A9-FAEA8619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49E6-13DF-416D-86E8-9A5D290B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8299-A0E4-4D53-A5F2-3BEDEFFC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4E39-68F8-4FF8-9347-A57CB307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020A-DD5E-4225-8496-E2E96056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C1F3-1AB2-4605-90EC-EA95C01B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576E-12F9-4BE0-99B6-4D6013C3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8384-378C-4D02-A6F7-80063A17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3A22-DFB9-4C36-BBC8-2CB01DAF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1AFF-4A66-4618-BC0D-A6E63305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41F3-1F38-4922-B399-FEC68EA5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F713-76C5-4D64-A144-DD501E3B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8A1E-7780-4611-961D-AFCE8B86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B0BE-C499-414C-8DBC-63C4A004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FE47-1C72-49FC-88EB-816E384E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C813-01D2-4865-9EF6-6A5C3A491F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D184-6DC4-4B19-94A7-C99BFC63BF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280" y="2205000"/>
            <a:ext cx="8062920" cy="936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99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66cc"/>
                </a:solidFill>
                <a:latin typeface="Comic Sans MS"/>
              </a:rPr>
              <a:t>Информатика как наук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6292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V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этап – изобретение микропроцессорной технологии и ПК (70-е г.г. 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XX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века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Rectangle 30729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2232000" cy="1954080"/>
          </a:xfrm>
          <a:prstGeom prst="rect">
            <a:avLst/>
          </a:prstGeom>
          <a:ln w="0">
            <a:noFill/>
          </a:ln>
        </p:spPr>
      </p:pic>
      <p:pic>
        <p:nvPicPr>
          <p:cNvPr id="213" name="Rectangle 31753" descr=""/>
          <p:cNvPicPr/>
          <p:nvPr/>
        </p:nvPicPr>
        <p:blipFill>
          <a:blip r:embed="rId2"/>
          <a:stretch/>
        </p:blipFill>
        <p:spPr>
          <a:xfrm>
            <a:off x="6442200" y="2492280"/>
            <a:ext cx="2063520" cy="2232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2916360" y="3284640"/>
            <a:ext cx="1439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вый ПК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e I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4788000" y="3068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К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BM P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611280" y="465300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явление персонального компьютера, позволяющего решать проблему хранения и передачи информации на качественно новом уровн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0728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Краткая история информатик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691920"/>
            <a:ext cx="7696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I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половина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I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Андре Ампер ввел понятие «кибернетика» - наука, занимающаяся изучением искусства управл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1948 год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рберт Винер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ибернетика – наука об управлении в живой природе и в технических система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кибернетика – наука об общих закономерностях в управлении и связи в различных системах: искуственных, биологических, социальных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50-е г.г.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а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r Scienc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» - компьютерная нау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60-е г.г.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а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tiqu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» 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tion automatique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формационная автомати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152280"/>
            <a:ext cx="82090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Понятие и структура информатик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3516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Информатика –</a:t>
            </a: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область человеческой деятельности, связанная с процессами преобразования информации с помощью компьютера и их взаимодействие со средой примен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Group 30"/>
          <p:cNvGrpSpPr/>
          <p:nvPr/>
        </p:nvGrpSpPr>
        <p:grpSpPr>
          <a:xfrm>
            <a:off x="250920" y="2997360"/>
            <a:ext cx="8607240" cy="3025080"/>
            <a:chOff x="250920" y="2997360"/>
            <a:chExt cx="8607240" cy="3025080"/>
          </a:xfrm>
        </p:grpSpPr>
        <p:sp>
          <p:nvSpPr>
            <p:cNvPr id="166" name="AutoShape 19"/>
            <p:cNvSpPr/>
            <p:nvPr/>
          </p:nvSpPr>
          <p:spPr>
            <a:xfrm>
              <a:off x="3276720" y="2997360"/>
              <a:ext cx="2663640" cy="7916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формати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AutoShape 20"/>
            <p:cNvSpPr/>
            <p:nvPr/>
          </p:nvSpPr>
          <p:spPr>
            <a:xfrm>
              <a:off x="250920" y="3644640"/>
              <a:ext cx="2305080" cy="10807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Теоретическая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формати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AutoShape 21"/>
            <p:cNvSpPr/>
            <p:nvPr/>
          </p:nvSpPr>
          <p:spPr>
            <a:xfrm>
              <a:off x="900000" y="4868640"/>
              <a:ext cx="2232000" cy="11520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Вычислительная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техни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AutoShape 22"/>
            <p:cNvSpPr/>
            <p:nvPr/>
          </p:nvSpPr>
          <p:spPr>
            <a:xfrm>
              <a:off x="3348000" y="4868640"/>
              <a:ext cx="2305080" cy="11520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Программирование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AutoShape 23"/>
            <p:cNvSpPr/>
            <p:nvPr/>
          </p:nvSpPr>
          <p:spPr>
            <a:xfrm>
              <a:off x="5867280" y="4941720"/>
              <a:ext cx="2303640" cy="10807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формационные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системы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AutoShape 24"/>
            <p:cNvSpPr/>
            <p:nvPr/>
          </p:nvSpPr>
          <p:spPr>
            <a:xfrm>
              <a:off x="6732720" y="3644640"/>
              <a:ext cx="2125440" cy="10807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скусственный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теллект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Line 25"/>
            <p:cNvSpPr/>
            <p:nvPr/>
          </p:nvSpPr>
          <p:spPr>
            <a:xfrm flipH="1">
              <a:off x="1332000" y="3357360"/>
              <a:ext cx="1944720" cy="28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Line 26"/>
            <p:cNvSpPr/>
            <p:nvPr/>
          </p:nvSpPr>
          <p:spPr>
            <a:xfrm flipH="1">
              <a:off x="2340000" y="3789000"/>
              <a:ext cx="172728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>
              <a:off x="4572000" y="3789000"/>
              <a:ext cx="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Line 28"/>
            <p:cNvSpPr/>
            <p:nvPr/>
          </p:nvSpPr>
          <p:spPr>
            <a:xfrm>
              <a:off x="5219640" y="3789000"/>
              <a:ext cx="151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29"/>
            <p:cNvSpPr/>
            <p:nvPr/>
          </p:nvSpPr>
          <p:spPr>
            <a:xfrm>
              <a:off x="5940360" y="3357360"/>
              <a:ext cx="1944720" cy="28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7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898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omic Sans MS"/>
              </a:rPr>
              <a:t>Информационное обще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Comic Sans MS"/>
              </a:rPr>
              <a:t>Информационное общество –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общество, в котором большинство работающих занято производством, хранением, переработкой и реализацией информации и особенно высшей ее формы – знан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98984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Черты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640" y="907920"/>
            <a:ext cx="784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а проблема информационного кризис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еспечен приоритет информации по сравнению с другими ресурсам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лавной формой развития является информационная экономи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формационная технология приобретает глобальный характер, охватывая все сферы социальной деятельности челове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рмируется информационное единство всей человеческой цивилизаци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 помощью средств информатики реализован свободный доступ каждого человека к мировым информационным ресурса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2789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Отрицательные моменты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38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 большее влияние на общество оказывают СМ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формационные технологии могут разрушить частную жизнь люде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уществует проблема отбора качественной и достоверной информаци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вершаются высокотехнологичные преступл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1856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06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этап – изобретение письменност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V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тыс. до н.э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явление средств и методов накопления информ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6300720" y="2349360"/>
            <a:ext cx="2438640" cy="1657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3311640" cy="165564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6292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             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I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этап – изобретение    книгопечатан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(середина 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XVI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века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Гуттенберг"/>
          <p:cNvPicPr/>
          <p:nvPr/>
        </p:nvPicPr>
        <p:blipFill>
          <a:blip r:embed="rId1"/>
          <a:stretch/>
        </p:blipFill>
        <p:spPr>
          <a:xfrm>
            <a:off x="324000" y="1341360"/>
            <a:ext cx="239544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Picture 5" descr="печатн станок"/>
          <p:cNvPicPr/>
          <p:nvPr/>
        </p:nvPicPr>
        <p:blipFill>
          <a:blip r:embed="rId2"/>
          <a:stretch/>
        </p:blipFill>
        <p:spPr>
          <a:xfrm>
            <a:off x="6227640" y="3141720"/>
            <a:ext cx="2459160" cy="3024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324000" y="458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оганнс Гуттенбер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916360" y="3357720"/>
            <a:ext cx="338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явление качественно нового способа хранения информ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151920"/>
            <a:ext cx="8351640" cy="3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III </a:t>
            </a:r>
            <a:r>
              <a:rPr b="0" lang="ru-RU" sz="2800" spc="-1" strike="noStrike">
                <a:solidFill>
                  <a:srgbClr val="008080"/>
                </a:solidFill>
                <a:latin typeface="Comic Sans MS"/>
              </a:rPr>
              <a:t>этап – изобретение электричества (конец 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XIX </a:t>
            </a:r>
            <a:r>
              <a:rPr b="0" lang="ru-RU" sz="2800" spc="-1" strike="noStrike">
                <a:solidFill>
                  <a:srgbClr val="008080"/>
                </a:solidFill>
                <a:latin typeface="Comic Sans MS"/>
              </a:rPr>
              <a:t>века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явление средств информационной коммуник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332000" y="1557360"/>
            <a:ext cx="381636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Телеграф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был  изобретен  в  1837 году  двумя   англичанами   К. Бетстоном  и  Б. Куком.  Более современный телеграф появился в Америке. Его создал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эмюэль Морз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в 1838 году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1876 году другой американец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лександ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эл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изобрел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телефо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В 1884 году телефонная кампания Бэлла протянула первую длинную телефонную линию от Нью-Йорка до Фестон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69760" cy="129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3" name="Text Box 6"/>
          <p:cNvSpPr/>
          <p:nvPr/>
        </p:nvSpPr>
        <p:spPr>
          <a:xfrm>
            <a:off x="252720" y="46530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ександр Бэл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324000" y="3357720"/>
            <a:ext cx="923760" cy="1295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5" name="Text Box 8"/>
          <p:cNvSpPr/>
          <p:nvPr/>
        </p:nvSpPr>
        <p:spPr>
          <a:xfrm>
            <a:off x="179280" y="2637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эмюэль Морз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5076720" y="2565360"/>
            <a:ext cx="35308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стоящей революцией в истории распространения информации стало изобретение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радио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io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по латыни означает испускающий лучи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5 апреля 1895 года А. С. Попов (1859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06), применив антенну, демонстрировал свой «грозоотметчик» – первый в мире радиоприемник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10" descr=""/>
          <p:cNvPicPr/>
          <p:nvPr/>
        </p:nvPicPr>
        <p:blipFill>
          <a:blip r:embed="rId3"/>
          <a:stretch/>
        </p:blipFill>
        <p:spPr>
          <a:xfrm>
            <a:off x="5867280" y="1197000"/>
            <a:ext cx="1006560" cy="129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8" name="Text Box 11"/>
          <p:cNvSpPr/>
          <p:nvPr/>
        </p:nvSpPr>
        <p:spPr>
          <a:xfrm>
            <a:off x="7020360" y="20606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 С. Поп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1:10:16Z</dcterms:created>
  <dc:creator>User</dc:creator>
  <dc:description/>
  <dc:language>en-US</dc:language>
  <cp:lastModifiedBy>LEGION</cp:lastModifiedBy>
  <dcterms:modified xsi:type="dcterms:W3CDTF">2015-04-01T07:32:35Z</dcterms:modified>
  <cp:revision>6</cp:revision>
  <dc:subject/>
  <dc:title>Информатика как наука.   Информационное общество.</dc:title>
</cp:coreProperties>
</file>