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6646-853B-4841-ACBA-321511D8F5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Информатика как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354F-E5B0-4E8A-9076-C6B2B1E6510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микропроцессорной технологии и ПК (70-е г.г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002-8C17-4706-939E-B88281C34E4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alibri"/>
              </a:rPr>
              <a:t>Краткая история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оловина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948 год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берт Ви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ка – наука об управлении в живой природе и в техническ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5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cien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компьютерн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60-е г.г. 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XX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ек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automatique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авто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155A-0976-4301-B762-4D59C8D02C2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Понятие и структура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тика –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A817-531B-4B01-8B6F-70CCA87B680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нформацион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Информационное общество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D452-1A60-485D-B38E-176EEEF139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alibri"/>
              </a:rPr>
              <a:t>Черты информационного 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а проблема информационного кризи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 приоритет информации по сравнению с другими ресур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формой развития является информационная эконом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информационное единство всей человеческой циви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F88D-190C-4A73-A622-9D3DBCF077D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alibri"/>
              </a:rPr>
              <a:t>Отрицательные моменты информационного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C93-3FF3-4B42-81E0-B178D96119C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письм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 методов накоп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38D1-1D9D-4BEC-9D2E-B854A65FF94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   книгопечат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(середина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22D-FCDD-4646-9BEC-A39D26D2A01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Этапы развития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тап – изобретение электричества (конец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средств информационной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30D6-5944-4256-BD62-5BBC67450E8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5FA-2AD8-4364-99D7-F7A6E0B2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7FA-0127-497C-9D9C-493A0DC8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8A9-29C1-4382-9552-811D283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3FC-6762-452F-845B-86FE019A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4E8-17C0-4B20-A273-793CE67F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D6B-8631-4E0B-8221-03CFEC49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B9D-37C2-4E7D-9E3C-4088907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5EA-9C4E-4F23-B5BD-1678EDF3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F6D2-BACE-4B57-BD27-421EF7AE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C387-5BF8-458A-A0DD-CDE68196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ED0-503E-4302-AA14-1728FD2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CE6-C78F-42E4-A680-7FC1301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BD84-96B2-4860-8CD2-8801BE2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7514-C9F4-40DB-A53F-0E1271E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4916-FD00-486F-89E0-F0681C88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6F8-0827-459F-9E79-EDDE464C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4DEC-FA43-4B1E-9098-EC1DC95F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87-B59C-467D-9EFB-1D1A7A51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F03-524D-4309-A027-8BE94EE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A00-E9B7-471E-8038-0B800D8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975-AE67-49C5-B65F-58D4BA7C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91E-9A69-4D34-A977-A2862A3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055-D35B-4D9D-BE41-F3C0F0A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9C6-8240-4CEA-814F-D661858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6CF-44A6-46C4-B578-A0C78C4F12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0CC-8076-40A4-A746-D57DAEE62A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806292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cc"/>
                </a:solidFill>
                <a:latin typeface="Comic Sans MS"/>
              </a:rPr>
              <a:t>Информатика как нау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микропроцессорной технологии и ПК (70-е г.г.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30729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232000" cy="195408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1753" descr=""/>
          <p:cNvPicPr/>
          <p:nvPr/>
        </p:nvPicPr>
        <p:blipFill>
          <a:blip r:embed="rId2"/>
          <a:stretch/>
        </p:blipFill>
        <p:spPr>
          <a:xfrm>
            <a:off x="6442200" y="2492280"/>
            <a:ext cx="206352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916360" y="3284640"/>
            <a:ext cx="143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ый П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e 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78800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BM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11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явление персонального компьютера, позволяющего решать проблему хранения и передачи информации на качественно новом уров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0728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Краткая история информат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I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половина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I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Андре Ампер ввел понятие «кибернетика» - наука, занимающаяся изучением искусства упра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1948 год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берт Винер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бернетика – наука об управлении в живой природе и в технических систем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кибернетика – наука об общих закономерностях в управлении и связи в различных системах: искуственных, биологических, социаль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5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cienc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компьютерная на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60-е г.г.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XX </a:t>
            </a: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века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automatique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автомат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Понятие и структура инфор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Comic Sans MS"/>
              </a:rPr>
              <a:t>Информатика –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Group 30"/>
          <p:cNvGrpSpPr/>
          <p:nvPr/>
        </p:nvGrpSpPr>
        <p:grpSpPr>
          <a:xfrm>
            <a:off x="250920" y="2997360"/>
            <a:ext cx="8607240" cy="3025080"/>
            <a:chOff x="250920" y="2997360"/>
            <a:chExt cx="8607240" cy="3025080"/>
          </a:xfrm>
        </p:grpSpPr>
        <p:sp>
          <p:nvSpPr>
            <p:cNvPr id="166" name="AutoShape 19"/>
            <p:cNvSpPr/>
            <p:nvPr/>
          </p:nvSpPr>
          <p:spPr>
            <a:xfrm>
              <a:off x="3276720" y="2997360"/>
              <a:ext cx="2663640" cy="7916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50920" y="3644640"/>
              <a:ext cx="230508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оретическ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т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900000" y="4868640"/>
              <a:ext cx="223200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Вычислительна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ехни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AutoShape 22"/>
            <p:cNvSpPr/>
            <p:nvPr/>
          </p:nvSpPr>
          <p:spPr>
            <a:xfrm>
              <a:off x="3348000" y="4868640"/>
              <a:ext cx="2305080" cy="1152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Программировани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AutoShape 23"/>
            <p:cNvSpPr/>
            <p:nvPr/>
          </p:nvSpPr>
          <p:spPr>
            <a:xfrm>
              <a:off x="5867280" y="4941720"/>
              <a:ext cx="23036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системы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24"/>
            <p:cNvSpPr/>
            <p:nvPr/>
          </p:nvSpPr>
          <p:spPr>
            <a:xfrm>
              <a:off x="6732720" y="3644640"/>
              <a:ext cx="2125440" cy="10807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скусственны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интеллек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H="1">
              <a:off x="133200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H="1">
              <a:off x="2340000" y="3789000"/>
              <a:ext cx="17272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4572000" y="3789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219640" y="3789000"/>
              <a:ext cx="151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40360" y="3357360"/>
              <a:ext cx="1944720" cy="28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Информационное общество 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бщество, в котором большинство работающих занято производством, хранением, переработкой и реализацией информации и особенно высшей ее формы – зна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Чер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а проблема информационного кризи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еспечен приоритет информации по сравнению с другими ресурс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вной формой развития является информационная экономи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ая технология приобретает глобальный характер, охватывая все сферы социальной 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уется информационное единство всей человеческой цивилиз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средств информатики реализован свободный доступ каждого человека к мировым информационным ресурс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Отрицательные моменты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185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письм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тыс. 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 методов накопл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438640" cy="1657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165564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6292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I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этап – изобретение    книгопечат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(середина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XVI </a:t>
            </a: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век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Гуттенберг"/>
          <p:cNvPicPr/>
          <p:nvPr/>
        </p:nvPicPr>
        <p:blipFill>
          <a:blip r:embed="rId1"/>
          <a:stretch/>
        </p:blipFill>
        <p:spPr>
          <a:xfrm>
            <a:off x="324000" y="1341360"/>
            <a:ext cx="23954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печатн станок"/>
          <p:cNvPicPr/>
          <p:nvPr/>
        </p:nvPicPr>
        <p:blipFill>
          <a:blip r:embed="rId2"/>
          <a:stretch/>
        </p:blipFill>
        <p:spPr>
          <a:xfrm>
            <a:off x="6227640" y="3141720"/>
            <a:ext cx="2459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324000" y="45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оганнс Гуттенбе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16360" y="335772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качественно нового способа хранения информ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83516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Этапы развития информационного об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III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этап – изобретение электричества (конец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XIX </a:t>
            </a:r>
            <a:r>
              <a:rPr b="0" lang="ru-RU" sz="2800" spc="-1" strike="noStrike">
                <a:solidFill>
                  <a:srgbClr val="008080"/>
                </a:solidFill>
                <a:latin typeface="Comic Sans MS"/>
              </a:rPr>
              <a:t>ве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ление средств информационной коммун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332000" y="1557360"/>
            <a:ext cx="38163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гра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был  изобретен  в  1837 году  двумя   англичанами   К. Бетстоном  и  Б. Куком.  Более современный телеграф появился в Америке. Его созд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в 1838 году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876 году другой американец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эл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зобрел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телеф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 1884 году телефонная кампания Бэлла протянула первую длинную телефонную линию от Нью-Йорка до Фесто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97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3" name="Text Box 6"/>
          <p:cNvSpPr/>
          <p:nvPr/>
        </p:nvSpPr>
        <p:spPr>
          <a:xfrm>
            <a:off x="252720" y="4653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 Бэл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92376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8"/>
          <p:cNvSpPr/>
          <p:nvPr/>
        </p:nvSpPr>
        <p:spPr>
          <a:xfrm>
            <a:off x="179280" y="26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эмюэль Морз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076720" y="2565360"/>
            <a:ext cx="35308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стоящей революцией в истории распространения информации стало изобретение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</a:rPr>
              <a:t>ради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i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по латыни означает испускающий луч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7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апреля 1895 года А. С. Попов (185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06), применив антенну, демонстрировал свой «грозоотметчик» – первый в мире радиоприемник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10065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8" name="Text Box 11"/>
          <p:cNvSpPr/>
          <p:nvPr/>
        </p:nvSpPr>
        <p:spPr>
          <a:xfrm>
            <a:off x="7020360" y="2060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С. Поп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10:16Z</dcterms:created>
  <dc:creator>User</dc:creator>
  <dc:description/>
  <dc:language>en-US</dc:language>
  <cp:lastModifiedBy>LEGION</cp:lastModifiedBy>
  <dcterms:modified xsi:type="dcterms:W3CDTF">2015-04-01T07:32:35Z</dcterms:modified>
  <cp:revision>6</cp:revision>
  <dc:subject/>
  <dc:title>Информатика как наука.   Информационное общество.</dc:title>
</cp:coreProperties>
</file>