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0010-8DED-47F9-8BCA-2C6DFFB33F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Информатика как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CA0B-7AAD-4FA2-9379-FACEB34F894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микропроцессорной технологии и ПК (70-е г.г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6ABB-CDB5-4818-9932-1B749029B66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Краткая история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оловина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948 год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ка – наука об управлении в живой природе и в техническ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5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cien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компьютерн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6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automatiqu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авто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60D-B752-478B-A5DA-A167C5903E2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Понятие и структура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тика –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65D1-CEC1-4867-BE42-A40427DB9F8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нформацион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ционное общество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9A53-2CD0-4CF7-A314-F5C71F2AB41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Черт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а проблема информационного кризи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 приоритет информации по сравнению с другими ресур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формой развития является информационная эконом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информационное единство всей человеческой циви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2C8-BAEF-46CC-B399-29E6DCC4A01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alibri"/>
              </a:rPr>
              <a:t>Отрицательные моменты информационного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E39A-4E3B-4349-BB60-C273FB58915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письм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 методов накоп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37E9-0AC8-48C4-95EC-C67BFBD5F5E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   книгопечат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середина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69B4-4572-45EA-88DD-C518796272F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электричества (конец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нформационной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6B6A-541D-44EE-8C8E-EED6020ED3C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3E5-4C72-4FC7-B4FA-6CA43C50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22A-C5BE-43CB-BC02-9F41060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B92-05CB-4495-A872-A97985DC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150-5E7D-493D-ABE1-C6E6CC9A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9BEA-26D7-46D2-B0A1-591E3858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6EA4-31B6-42A8-8382-56F24341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4E80-D80E-47BB-B03E-F7646938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35C8-4E5D-4F1A-9257-B1E78DA7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9D5F-737F-462B-9A9F-B16A0B5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F832-02D3-4166-BEE0-63B66196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9E67-0F7C-461B-A672-C0BE9CBB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ABE-B3E1-4CD2-9CC2-7A8B517A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E685-02B5-41D9-A079-E0A347A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34BB-700E-4E75-A34A-E43AA0E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CBCF-5D63-4F11-87C1-6E3372E8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1FBB-533F-4075-85BB-41FD8B1A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BB76-8B16-4EFD-8FFE-2CFEC23C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968-1F37-409C-9C50-54E051F1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EA1-7900-4075-B20A-A3B81A34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5B0-3221-4D0B-BD48-05EDB7B9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082-42D7-4D8C-B3DC-95652BE2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403-57B4-485E-AF6D-CED4603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7D5-6157-45F0-907E-C6205727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AEB-8737-4019-A214-D9DCB99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AF18-AB83-493A-AEAD-416A8AAE1B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41E1-C270-49EB-BB95-F8F9A9AE18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806292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Информатика как нау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микропроцессорной технологии и ПК (70-е г.г.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30729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232000" cy="19540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1753" descr=""/>
          <p:cNvPicPr/>
          <p:nvPr/>
        </p:nvPicPr>
        <p:blipFill>
          <a:blip r:embed="rId2"/>
          <a:stretch/>
        </p:blipFill>
        <p:spPr>
          <a:xfrm>
            <a:off x="6442200" y="2492280"/>
            <a:ext cx="206352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916360" y="3284640"/>
            <a:ext cx="143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ый П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e 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78800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явление персонального компьютера, позволяющего решать проблему хранения и передачи информации на качественно новом уров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Краткая история информа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I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половина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1948 год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берт Вине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бернетика – наука об управлении в живой природе и в технических систем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5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cien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компьютерная на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6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automatique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автома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Понятие и структура инфор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Информатика –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30"/>
          <p:cNvGrpSpPr/>
          <p:nvPr/>
        </p:nvGrpSpPr>
        <p:grpSpPr>
          <a:xfrm>
            <a:off x="250920" y="2997360"/>
            <a:ext cx="8607240" cy="3025080"/>
            <a:chOff x="250920" y="2997360"/>
            <a:chExt cx="8607240" cy="3025080"/>
          </a:xfrm>
        </p:grpSpPr>
        <p:sp>
          <p:nvSpPr>
            <p:cNvPr id="166" name="AutoShape 19"/>
            <p:cNvSpPr/>
            <p:nvPr/>
          </p:nvSpPr>
          <p:spPr>
            <a:xfrm>
              <a:off x="3276720" y="2997360"/>
              <a:ext cx="2663640" cy="791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50920" y="3644640"/>
              <a:ext cx="230508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оре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900000" y="4868640"/>
              <a:ext cx="223200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Вычисли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хн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3348000" y="4868640"/>
              <a:ext cx="230508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рограммировани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5867280" y="4941720"/>
              <a:ext cx="23036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732720" y="3644640"/>
              <a:ext cx="21254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скусственны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теллек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H="1">
              <a:off x="133200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H="1">
              <a:off x="2340000" y="3789000"/>
              <a:ext cx="17272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572000" y="3789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219640" y="3789000"/>
              <a:ext cx="151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4036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Информационное общество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Чер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а проблема информационного кризи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 приоритет информации по сравнению с другими ресурс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ой формой развития является информационная эконом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уется информационное единство всей человеческой цивилиз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Отрицательные момен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письм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тыс. 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 методов накопл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438640" cy="165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165564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   книгопечат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середина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V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Гуттенберг"/>
          <p:cNvPicPr/>
          <p:nvPr/>
        </p:nvPicPr>
        <p:blipFill>
          <a:blip r:embed="rId1"/>
          <a:stretch/>
        </p:blipFill>
        <p:spPr>
          <a:xfrm>
            <a:off x="324000" y="1341360"/>
            <a:ext cx="23954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печатн станок"/>
          <p:cNvPicPr/>
          <p:nvPr/>
        </p:nvPicPr>
        <p:blipFill>
          <a:blip r:embed="rId2"/>
          <a:stretch/>
        </p:blipFill>
        <p:spPr>
          <a:xfrm>
            <a:off x="6227640" y="3141720"/>
            <a:ext cx="2459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оганнс Гуттенбе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16360" y="335772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качественно нового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3516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этап – изобретение электричества (конец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XIX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ве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нформационной коммун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32000" y="1557360"/>
            <a:ext cx="3816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гра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был  изобретен  в  1837 году  двумя   англичанами   К. Бетстоном  и  Б. Куком.  Более современный телеграф появился в Америке. Его созд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в 1838 году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876 году другой американец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эл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обрел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ф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1884 году телефонная кампания Бэлла протянула первую длинную телефонную линию от Нью-Йорка до Фесто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97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3" name="Text Box 6"/>
          <p:cNvSpPr/>
          <p:nvPr/>
        </p:nvSpPr>
        <p:spPr>
          <a:xfrm>
            <a:off x="252720" y="4653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Бэл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92376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8"/>
          <p:cNvSpPr/>
          <p:nvPr/>
        </p:nvSpPr>
        <p:spPr>
          <a:xfrm>
            <a:off x="179280" y="26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76720" y="2565360"/>
            <a:ext cx="35308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оящей революцией в истории распространения информации стало изобретение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ради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i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 латыни означает испускающий лу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апреля 1895 года А. С. Попов (185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06), применив антенну, демонстрировал свой «грозоотметчик» – первый в мире радиоприемни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0065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8" name="Text Box 11"/>
          <p:cNvSpPr/>
          <p:nvPr/>
        </p:nvSpPr>
        <p:spPr>
          <a:xfrm>
            <a:off x="7020360" y="2060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С. Поп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10:16Z</dcterms:created>
  <dc:creator>User</dc:creator>
  <dc:description/>
  <dc:language>en-US</dc:language>
  <cp:lastModifiedBy>LEGION</cp:lastModifiedBy>
  <dcterms:modified xsi:type="dcterms:W3CDTF">2015-04-01T07:32:35Z</dcterms:modified>
  <cp:revision>6</cp:revision>
  <dc:subject/>
  <dc:title>Информатика как наука.   Информационное общество.</dc:title>
</cp:coreProperties>
</file>