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0A0C-4339-4AFF-B3FE-EC273EB14A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0000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48D7-BFF2-4A93-BEC3-66C4CC34A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0000"/>
                </a:solidFill>
                <a:latin typeface="Calibri"/>
              </a:rPr>
              <a:t>Что такое 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1836-A0FB-4ED5-A16F-57F5C3E790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азpаботка вычислительных систем и пpогp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02BA-9190-4576-833B-C3FAB3A14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ства телекоммун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FF46-EE6A-42BE-9C35-6A212693D6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Информатику обычно представляют </a:t>
            </a:r>
            <a:br>
              <a:rPr sz="1600"/>
            </a:b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состоящей из двух частей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AC29-35A4-437E-8CBC-852DA0A9B2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19B-5750-4D7A-B81F-FCB04B99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09F5-8708-418F-A735-209BBE8F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F0E-4004-44E2-A516-57CA2E13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A18-EB74-408D-86A4-FDFEBA38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2C6-4A8B-481B-87D8-ABE33F0E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271-AEA4-4BC1-B3CD-4DD9E1B7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F2D-8573-4603-BD67-4DE9BD29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401-DF57-42DC-8D9D-6C99470B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38F-6AAC-493C-A7A2-0A5BB77A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AEB-DF00-4453-8348-1EB2DE70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16B-6D42-46F0-B940-04674FB8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2E5-8D20-4A3D-BAC1-FF2032E8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3753-9D89-463B-BFC6-A9464BB51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0000"/>
                </a:solidFill>
                <a:latin typeface="Arial"/>
              </a:rPr>
              <a:t>Введение в информат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MP22"/>
          <p:cNvPicPr/>
          <p:nvPr/>
        </p:nvPicPr>
        <p:blipFill>
          <a:blip r:embed="rId1"/>
          <a:stretch/>
        </p:blipFill>
        <p:spPr>
          <a:xfrm>
            <a:off x="3276720" y="1844640"/>
            <a:ext cx="2043000" cy="3570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0000"/>
                </a:solidFill>
                <a:latin typeface="Arial"/>
              </a:rPr>
              <a:t>Что такое информат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4149720"/>
            <a:ext cx="8642160" cy="2122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Информати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азpаботка вычислительных систем и пpогpаммного обесп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теле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Информатику обычно представляют </a:t>
            </a:r>
            <a:br>
              <a:rPr sz="2800"/>
            </a:b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состоящей из двух часте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c"/>
          <p:cNvPicPr/>
          <p:nvPr/>
        </p:nvPicPr>
        <p:blipFill>
          <a:blip r:embed="rId1"/>
          <a:stretch/>
        </p:blipFill>
        <p:spPr>
          <a:xfrm>
            <a:off x="5940360" y="1700280"/>
            <a:ext cx="2849760" cy="177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rogr"/>
          <p:cNvPicPr/>
          <p:nvPr/>
        </p:nvPicPr>
        <p:blipFill>
          <a:blip r:embed="rId2"/>
          <a:stretch/>
        </p:blipFill>
        <p:spPr>
          <a:xfrm>
            <a:off x="6012000" y="4005360"/>
            <a:ext cx="2752560" cy="206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6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8:39:08Z</dcterms:created>
  <dc:creator>Sasha</dc:creator>
  <dc:description/>
  <dc:language>en-US</dc:language>
  <cp:lastModifiedBy>LEGION</cp:lastModifiedBy>
  <dcterms:modified xsi:type="dcterms:W3CDTF">2015-04-01T07:32:47Z</dcterms:modified>
  <cp:revision>8</cp:revision>
  <dc:subject/>
  <dc:title>Направления информатики</dc:title>
</cp:coreProperties>
</file>