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CBBF-8F77-4512-B400-D7B7D120F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0000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CEC-9258-4FCC-A455-0C1D3123F2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0000"/>
                </a:solidFill>
                <a:latin typeface="Calibri"/>
              </a:rPr>
              <a:t>Что такое 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FC5D-51A6-4DE5-BA9C-0CECEB0A62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азpаботка вычислительных систем и пpогp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FB2-DAA9-445C-A1AD-C36213807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ства телекоммун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637C-CDDB-470F-B80A-711FD091E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Информатику обычно представляют </a:t>
            </a:r>
            <a:br>
              <a:rPr sz="1600"/>
            </a:b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состоящей из двух частей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DFB0-9086-4FDC-AB62-B1B81367DF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504-CEDF-4DEE-8ED5-513777C8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673-898E-4DDD-A88F-D788C58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C9C-5247-4439-A7EB-28621946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98F-9F89-4A7F-A211-853C137C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C01-28B7-42E5-AC88-B4EF42D3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B5F-B9C0-455D-876C-EB756D2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70F-2032-422C-B0E3-5D2D40AD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FBF-CBBD-455A-BC47-D1BAEFF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119-0EDC-4715-B4F2-D1451C1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3DD-17C0-410E-997A-C16F97A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76B-363C-482A-BBF3-8CAA22B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484-6FE0-4210-8754-8AE64E9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03CC-6383-4D62-8851-82A446E3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0000"/>
                </a:solidFill>
                <a:latin typeface="Arial"/>
              </a:rPr>
              <a:t>Введение в информат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P22"/>
          <p:cNvPicPr/>
          <p:nvPr/>
        </p:nvPicPr>
        <p:blipFill>
          <a:blip r:embed="rId1"/>
          <a:stretch/>
        </p:blipFill>
        <p:spPr>
          <a:xfrm>
            <a:off x="3276720" y="1844640"/>
            <a:ext cx="2043000" cy="3570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0000"/>
                </a:solidFill>
                <a:latin typeface="Arial"/>
              </a:rPr>
              <a:t>Что такое информа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4149720"/>
            <a:ext cx="8642160" cy="2122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Инфор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азpаботка вычислительных систем и пpогpаммного обесп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теле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Информатику обычно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состоящей из двух част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"/>
          <p:cNvPicPr/>
          <p:nvPr/>
        </p:nvPicPr>
        <p:blipFill>
          <a:blip r:embed="rId1"/>
          <a:stretch/>
        </p:blipFill>
        <p:spPr>
          <a:xfrm>
            <a:off x="5940360" y="1700280"/>
            <a:ext cx="28497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rogr"/>
          <p:cNvPicPr/>
          <p:nvPr/>
        </p:nvPicPr>
        <p:blipFill>
          <a:blip r:embed="rId2"/>
          <a:stretch/>
        </p:blipFill>
        <p:spPr>
          <a:xfrm>
            <a:off x="6012000" y="4005360"/>
            <a:ext cx="275256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6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8:39:08Z</dcterms:created>
  <dc:creator>Sasha</dc:creator>
  <dc:description/>
  <dc:language>en-US</dc:language>
  <cp:lastModifiedBy>LEGION</cp:lastModifiedBy>
  <dcterms:modified xsi:type="dcterms:W3CDTF">2015-04-01T07:32:47Z</dcterms:modified>
  <cp:revision>8</cp:revision>
  <dc:subject/>
  <dc:title>Направления информатики</dc:title>
</cp:coreProperties>
</file>