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61D0-AD5A-46DB-B046-7C20C81DE2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0000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A9EA-BFAA-4F1E-A6D4-A59D086CAA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0000"/>
                </a:solidFill>
                <a:latin typeface="Calibri"/>
              </a:rPr>
              <a:t>Что такое 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6487-B305-4CDF-B05D-9776DD41CD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азpаботка вычислительных систем и пpогp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AAF0-AB87-4275-A2D1-36B7513C58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ства телекоммун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DA2D-2A30-4FB1-8C09-1C8CF35489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Информатику обычно представляют </a:t>
            </a:r>
            <a:br>
              <a:rPr sz="1600"/>
            </a:b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состоящей из двух частей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F0E3-F686-4832-8E5A-3C23D4A114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29C-A72B-46A5-9012-FC355274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30C-7DC0-42E5-A2C2-D67912BB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E7B-7D2A-4EAE-B644-5777EB28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8D4-DBC9-4CC3-A30C-19D45E7D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86A-37AC-4F06-A951-9594A930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174-0BAB-45A1-8651-4ECBD17B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693-11E6-4DF1-8342-B4634000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DF1-DC0C-479D-8B3A-98548466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A80-8016-4120-B121-5EC30676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E37-D2A0-4F38-9737-9BA78759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16D-11DD-4E35-AE0C-9F9791D0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37A-9DC2-4CCB-829D-500F0BA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FF32-7CDB-4886-95BD-C4403BFF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0000"/>
                </a:solidFill>
                <a:latin typeface="Arial"/>
              </a:rPr>
              <a:t>Введение в информат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MP22"/>
          <p:cNvPicPr/>
          <p:nvPr/>
        </p:nvPicPr>
        <p:blipFill>
          <a:blip r:embed="rId1"/>
          <a:stretch/>
        </p:blipFill>
        <p:spPr>
          <a:xfrm>
            <a:off x="3276720" y="1844640"/>
            <a:ext cx="2043000" cy="3570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0000"/>
                </a:solidFill>
                <a:latin typeface="Arial"/>
              </a:rPr>
              <a:t>Что такое информат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4149720"/>
            <a:ext cx="8642160" cy="2122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Информати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азpаботка вычислительных систем и пpогpаммного обесп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теле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Информатику обычно представляют </a:t>
            </a:r>
            <a:br>
              <a:rPr sz="2800"/>
            </a:b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состоящей из двух часте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c"/>
          <p:cNvPicPr/>
          <p:nvPr/>
        </p:nvPicPr>
        <p:blipFill>
          <a:blip r:embed="rId1"/>
          <a:stretch/>
        </p:blipFill>
        <p:spPr>
          <a:xfrm>
            <a:off x="5940360" y="1700280"/>
            <a:ext cx="2849760" cy="177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rogr"/>
          <p:cNvPicPr/>
          <p:nvPr/>
        </p:nvPicPr>
        <p:blipFill>
          <a:blip r:embed="rId2"/>
          <a:stretch/>
        </p:blipFill>
        <p:spPr>
          <a:xfrm>
            <a:off x="6012000" y="4005360"/>
            <a:ext cx="2752560" cy="206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6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8:39:08Z</dcterms:created>
  <dc:creator>Sasha</dc:creator>
  <dc:description/>
  <dc:language>en-US</dc:language>
  <cp:lastModifiedBy>LEGION</cp:lastModifiedBy>
  <dcterms:modified xsi:type="dcterms:W3CDTF">2015-04-01T07:32:47Z</dcterms:modified>
  <cp:revision>8</cp:revision>
  <dc:subject/>
  <dc:title>Направления информатики</dc:title>
</cp:coreProperties>
</file>