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618D-717D-40D7-B63E-162E2CE2DB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0000"/>
                </a:solidFill>
                <a:latin typeface="Calibri"/>
              </a:rPr>
              <a:t>Введение в информа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7B2B-8236-4C3F-AE57-237B37D96F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40000"/>
                </a:solidFill>
                <a:latin typeface="Calibri"/>
              </a:rPr>
              <a:t>Что такое информат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"информатика" (франц. informatique) происходит от французских слов information (информация) и automatique (автоматика) и дословно означает "информационная автоматик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 распространён также англоязычный вариант этого термина — "Сomputer science", что означает буквально "компьютерная наука"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F1BF-DC97-4633-A5AC-E86A85B107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0000"/>
                </a:solidFill>
                <a:latin typeface="Calibri"/>
              </a:rPr>
              <a:t>Основные направления информати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азpаботка вычислительных систем и пpогpаммного обеспе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я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сы, связанные с передачей, приёмом, преобразованием и хранением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искусственного интелл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зволяющие создавать программы для решения задач, требующих определённых интеллектуальных усилий при выполнении их человеком (логический вывод, обучение, понимание речи, визуальное восприятие, игры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8E4E-02BC-4C40-9E76-E0A46FB4A6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0000"/>
                </a:solidFill>
                <a:latin typeface="Calibri"/>
              </a:rPr>
              <a:t>Основные направления информати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ключающийся в анализе назначения проектируемой системы и в установлении требований, которым она должна отвеча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машинной графики, анимации, средства мультимеди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ства телекоммуни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том числе, глобальные компьютерные сети, объединяющие всё человечество в единое информационное сообще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ообразные при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40E7-8126-4626-B6A8-8D8CD69278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40000"/>
                </a:solidFill>
                <a:latin typeface="Calibri"/>
              </a:rPr>
              <a:t>Информатику обычно представляют </a:t>
            </a:r>
            <a:br>
              <a:rPr sz="1600"/>
            </a:br>
            <a:r>
              <a:rPr b="0" lang="ru-RU" sz="1600" spc="-1" strike="noStrike">
                <a:solidFill>
                  <a:srgbClr val="d40000"/>
                </a:solidFill>
                <a:latin typeface="Calibri"/>
              </a:rPr>
              <a:t>состоящей из двух частей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 средства, то есть аппаратура компьютеров, в английском языке обозначаются слов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ое буквально переводится как "твёрдые изделия"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ные средства, для них выбрано (а точнее, создано) очень удачное слов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буквально — "мягкие изделия"), которое подчёркивает равнозначность программного обеспечения и самой машины и вместе с тем подчёркивает способность программного обеспечения модифицироваться, приспосабливаться, развиваться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8C36-3DEF-48BC-8A4F-6A74922259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E05-446D-4CAF-AFA6-C6AA8F17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039-6A2C-4C39-B31F-2DF29BAF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532-0BE7-4C37-8EAE-4DB5F67D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BC3-E062-4DEA-B3F8-0AAEDF43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7DD-0CF4-4CCD-8BD8-3CB40469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B58-CD34-436F-8955-4CED8120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2F8-4253-425A-AE86-619FFE00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58E-3018-4CB8-9D2B-CCEC749B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E9B-5991-4FD7-934D-F6017CC3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32E-BA69-4847-97E8-EFDB5B2B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490-E776-4ADA-945D-567467B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14D-1D20-4A01-866B-DA8A0C8E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8B8A-D256-41DE-83F2-C05F30BAD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0000"/>
                </a:solidFill>
                <a:latin typeface="Arial"/>
              </a:rPr>
              <a:t>Введение в информат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OMP22"/>
          <p:cNvPicPr/>
          <p:nvPr/>
        </p:nvPicPr>
        <p:blipFill>
          <a:blip r:embed="rId1"/>
          <a:stretch/>
        </p:blipFill>
        <p:spPr>
          <a:xfrm>
            <a:off x="3276720" y="1844640"/>
            <a:ext cx="2043000" cy="3570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40000"/>
                </a:solidFill>
                <a:latin typeface="Arial"/>
              </a:rPr>
              <a:t>Что такое информат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мин "информатика" (франц. informatique) происходит от французских слов information (информация) и automatique (автоматика) и дословно означает "информационная автоматик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роко распространён также англоязычный вариант этого термина — "Сomputer science", что означает буквально "компьютерная наука"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0920" y="4149720"/>
            <a:ext cx="8642160" cy="2122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0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Информатик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— это основанная на использовании компьютерной техники дисциплина, изучающая структуру и общие свойства информации, а также закономерности и методы её создания, хранения, поиска, преобразования, передачи и применения в различных сферах человеческ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0000"/>
                </a:solidFill>
                <a:latin typeface="Arial"/>
              </a:rPr>
              <a:t>Основные направления информатик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азpаботка вычислительных систем и пpогpаммного обеспе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я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учающая процессы, связанные с передачей, приёмом, преобразованием и хранением информ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искусственного интелл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е создавать программы для решения задач, требующих определённых интеллектуальных усилий при выполнении их человеком (логический вывод, обучение, понимание речи, визуальное восприятие, игры и др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2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0000"/>
                </a:solidFill>
                <a:latin typeface="Arial"/>
              </a:rPr>
              <a:t>Основные направления информатик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ключающийся в анализе назначения проектируемой системы и в установлении требований, которым она должна отвеча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машинной графики, анимации, средства мультимеди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а телекоммун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том числе, глобальные компьютерные сети, объединяющие всё человечество в единое информационное сообществ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образные при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68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0000"/>
                </a:solidFill>
                <a:latin typeface="Arial"/>
              </a:rPr>
              <a:t>Информатику обычно представляют </a:t>
            </a:r>
            <a:br>
              <a:rPr sz="2800"/>
            </a:br>
            <a:r>
              <a:rPr b="0" lang="ru-RU" sz="2800" spc="-1" strike="noStrike">
                <a:solidFill>
                  <a:srgbClr val="d40000"/>
                </a:solidFill>
                <a:latin typeface="Arial"/>
              </a:rPr>
              <a:t>состоящей из двух частей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ческие средства, то есть аппаратура компьютеров, в английском языке обозначаются слов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ое буквально переводится как "твёрдые изделия"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ные средства, для них выбрано (а точнее, создано) очень удач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буквально — "мягкие изделия"), которое подчёркивает равнозначность программного обеспечения и самой машины и вместе с тем подчёркивает способность программного обеспечения модифицироваться, приспосабливаться, развиваться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c"/>
          <p:cNvPicPr/>
          <p:nvPr/>
        </p:nvPicPr>
        <p:blipFill>
          <a:blip r:embed="rId1"/>
          <a:stretch/>
        </p:blipFill>
        <p:spPr>
          <a:xfrm>
            <a:off x="5940360" y="1700280"/>
            <a:ext cx="2849760" cy="177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rogr"/>
          <p:cNvPicPr/>
          <p:nvPr/>
        </p:nvPicPr>
        <p:blipFill>
          <a:blip r:embed="rId2"/>
          <a:stretch/>
        </p:blipFill>
        <p:spPr>
          <a:xfrm>
            <a:off x="6012000" y="4005360"/>
            <a:ext cx="2752560" cy="206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67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6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8:39:08Z</dcterms:created>
  <dc:creator>Sasha</dc:creator>
  <dc:description/>
  <dc:language>en-US</dc:language>
  <cp:lastModifiedBy>LEGION</cp:lastModifiedBy>
  <dcterms:modified xsi:type="dcterms:W3CDTF">2015-04-01T07:32:47Z</dcterms:modified>
  <cp:revision>8</cp:revision>
  <dc:subject/>
  <dc:title>Направления информатики</dc:title>
</cp:coreProperties>
</file>