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26.gif" ContentType="image/gif"/>
  <Override PartName="/ppt/media/image24.gif" ContentType="image/gif"/>
  <Override PartName="/ppt/media/image23.jpeg" ContentType="image/jpeg"/>
  <Override PartName="/ppt/media/image22.png" ContentType="image/png"/>
  <Override PartName="/ppt/media/image19.jpeg" ContentType="image/jpeg"/>
  <Override PartName="/ppt/media/image32.gif" ContentType="image/gif"/>
  <Override PartName="/ppt/media/image18.gif" ContentType="image/gif"/>
  <Override PartName="/ppt/media/image21.png" ContentType="image/png"/>
  <Override PartName="/ppt/media/image16.gif" ContentType="image/gif"/>
  <Override PartName="/ppt/media/image8.jpeg" ContentType="image/jpeg"/>
  <Override PartName="/ppt/media/image5.png" ContentType="image/png"/>
  <Override PartName="/ppt/media/image10.jpeg" ContentType="image/jpeg"/>
  <Override PartName="/ppt/media/image12.jpeg" ContentType="image/jpeg"/>
  <Override PartName="/ppt/media/image30.gif" ContentType="image/gif"/>
  <Override PartName="/ppt/media/image14.jpeg" ContentType="image/jpeg"/>
  <Override PartName="/ppt/media/image28.gif" ContentType="image/gif"/>
  <Override PartName="/ppt/media/image39.gif" ContentType="image/gif"/>
  <Override PartName="/ppt/media/image9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15.gif" ContentType="image/gif"/>
  <Override PartName="/ppt/media/image11.gif" ContentType="image/gif"/>
  <Override PartName="/ppt/media/image20.png" ContentType="image/png"/>
  <Override PartName="/ppt/media/image36.jpeg" ContentType="image/jpeg"/>
  <Override PartName="/ppt/media/image35.gif" ContentType="image/gif"/>
  <Override PartName="/ppt/media/image38.jpeg" ContentType="image/jpeg"/>
  <Override PartName="/ppt/media/image29.jpeg" ContentType="image/jpeg"/>
  <Override PartName="/ppt/media/image37.gif" ContentType="image/gif"/>
  <Override PartName="/ppt/media/image7.gif" ContentType="image/gif"/>
  <Override PartName="/ppt/media/image13.gif" ContentType="image/gif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7F00-FEEB-47F9-B5E0-5A220426CCF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«Основы информати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37FF-7D55-4F77-8F8C-D86C403A2A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итектура ЭВМ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рограмм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A853-4A51-4FF5-8638-9757F80590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A2B1-957D-4AFA-90D9-5B8A3ECD8E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файл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Текстовый редактор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E942-8482-4EFA-BCBA-EE1D5BF0D2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Гипертекс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Таблица кодировк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12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12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F23A-8102-4EF3-A03F-AB0C5F59CF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мпьютерная граф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Мультимед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B723-069B-460E-BC20-5C8DB36CD7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Средства компьютерной граф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* N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F093-8853-4105-BF6A-911EB0C963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Таблицы и 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оде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9BB1-C041-43D1-95F5-453527D85F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Графический реда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Графический редактор-</a:t>
            </a: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B049-D550-4C3E-849E-EFF459E6B5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1f497d"/>
                </a:solidFill>
                <a:latin typeface="Arial Unicode MS"/>
                <a:ea typeface="Arial Unicode MS"/>
              </a:rPr>
              <a:t>Компьютерная сеть-</a:t>
            </a:r>
            <a:r>
              <a:rPr b="1" lang="en-US" sz="12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12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12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40F8-09BC-48AD-B363-1A7D3746D1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Comic Sans MS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ая почта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Почтовый ящик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Электронное письмо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Телеконференция-</a:t>
            </a: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1BD4-3163-43FD-8EC8-EB49BF4D82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8B4E-2C1C-4DED-8CB0-6C0899983F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"Всемирная паутина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12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1537-D6C5-45D8-94B4-A2CF493C6F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ff00"/>
                </a:solidFill>
                <a:uFillTx/>
                <a:latin typeface="Comic Sans MS"/>
              </a:rPr>
              <a:t> </a:t>
            </a:r>
            <a:r>
              <a:rPr b="1" lang="ru-RU" sz="12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1A926-6475-40D5-A471-4F4FB81A81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Язык-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рхитектура ЭВ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П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овые файлы и редакто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Тексты в компьютерной памя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Компьютерная граф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стройство компьютерной се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Электронная поч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926D-1F84-4A5E-AD16-8A4F96A5DE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ccff"/>
                </a:solidFill>
                <a:latin typeface="Impact"/>
              </a:rPr>
              <a:t>Информатика -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Информатика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FEC0-0109-4D68-B52B-8D68A75495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нформация и группы зн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т слова «декларация»- знания, сообщ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и знания называют </a:t>
            </a:r>
            <a:r>
              <a:rPr b="1" lang="ru-RU" sz="12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пределяют достижение какой-либо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Эти сообщения не пополняют зна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5372-466C-47B6-848F-9D78CE5575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Язык - как способ выраж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Язык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и быв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Образная информац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5746-E366-4856-87D9-A098C2D5CF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06F0-19C4-4811-B722-539A23C6C02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cc"/>
                </a:solidFill>
                <a:latin typeface="Lucida Sans"/>
              </a:rPr>
              <a:t>Количество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Алфави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Monotype Corsiva"/>
              </a:rPr>
              <a:t>Байт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BA55-607D-453D-95B0-E9E9BC15A6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стема счис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счисления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12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12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D8AF-6F68-405E-A50A-1BA58A5F00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CED-A7FE-4D54-9A96-415F8C3FF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DE1-3A40-4FD7-AAF1-18C6E4B9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3D9CF7-7181-4CD4-AFA0-DB44D785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53FB8-5F8D-4833-A7F0-E3A3950F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8CBFF-BE93-4FB7-B29E-1B098424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1840C-8117-4B7D-A65D-52774690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CC97C-E363-47FF-9D4D-B1E2215A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F8107-AFB7-4664-A020-26C186A6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B5352-97BC-4DAA-8776-7EDE7CCD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AD70A-BBD5-4F97-96F8-8B8F7023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0DF2F-42F7-4CF4-8907-E85CE362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3C6EC3-A826-4D94-8AAC-A0091191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385B-AB6C-46F2-9C5B-3A50EE05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EBF0A-390A-49AE-AF86-CF55868F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3015E-65FF-4CBF-B36C-01D87FFB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93AD6-5BB3-4A2E-A79C-5B7F0A35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751CB-A620-4386-A0EA-590F1680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87E82-8331-46AC-A904-A28B1DFD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9CE6C-0219-4C6E-A140-8F4DB71D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E4CBD-AA48-4914-950D-9EFC1ECF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BA933-D9DF-4105-9D06-4C7141EB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040D7-6B4C-4A4D-80A7-9E9C6385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E2E0B-E601-464D-9982-9141B58B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C77-B6F9-49FE-85D4-D888D3741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A7CBB-972A-4DF4-A11D-0E22013E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58B87-3C6C-45BA-B04E-30E6D31B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21454-0050-4209-93D6-D1CD5613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867ED-D6C1-4D16-8567-C69640B2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041B4-E093-4B68-8915-981D2CD7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60916-EDDD-4121-A60B-4BF5B86B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990AB-5DD3-4B31-9C3C-3D542AAA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DA5D0-0540-4290-BC35-E77EF7EB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B4CE8-05CF-434C-A7BA-ABC4630D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EC463-924C-4E64-95BB-1CD0483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6B41-A498-4460-96B2-00EAAB6E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EAD62-E9EB-4D00-9D91-8F8707FB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42CFD-2230-4E8F-A9D8-C46EB857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6BBED-721D-42CE-A771-8B63FAA3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12ACB-5FA2-46B9-8A26-51C60241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8BBB1-31FD-47B3-95E3-8EC44F92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80033-3498-4E08-B921-879A80AD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7D693-C9BF-4A5A-A982-8DB124D2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56C1D-B1E2-48A7-A96F-A19563BF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87376-0F9B-4AB5-BA4B-D86AC446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CC21C-923E-445A-B3CC-5AA3C9B4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065B-2F22-4D66-B5BB-56693AE0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03BF2-EE20-4F67-97FE-31E19464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EB297-1F56-41F4-AFCE-E4E3C16F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198C60-ED17-43D1-B9AD-A4199531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AD0D9-E544-4A2F-B77D-E2A3F40CA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2F763-8AB9-41CB-A61F-6DA626FE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371EE-12AB-4EAA-9CF1-8822AB9D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0B438-516F-478F-8435-2C51DEAC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04E3F1-FA61-45F6-B408-52F7C3C5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3A1A4-B332-46BE-A1B7-0D044412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9C50F-CFF6-4E21-8D17-330BA504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E0F0-087B-40AF-85F8-66A2F89D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3092F-5236-48CB-9873-A8F3D81F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E3236-1D06-48AD-8046-C3D6E75B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9A628-C2A6-4C12-B8DA-C8D6FA04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A48F0-F135-45D9-8FCB-A2B72A43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8556B-7620-4461-BC98-D2894C79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20420-C824-4DDD-A889-5C496182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6D8D6E-9561-4C65-949E-02C446EC1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A734F9-7AAC-4AE0-A809-9B8F356D0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F8A84-5FBC-4E0D-9812-5E49E935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D2E13-F68F-4F1E-A877-6B4C209B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CB52-4C1A-4383-9686-78A0F30B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0FD591-CE38-40AE-85D2-E6183C81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1B0247-09B4-4981-96DD-47FAB99B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CE112-28BB-4A8E-9789-5C072839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7A1797-4FAE-45D7-B229-886126E4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29B2F-677B-4B8F-9A5C-76A3FA72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E06361-E307-467B-AC4D-9AE9A277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57B9E2-25A9-4407-BD78-B77165C6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EA3785-34E5-4393-9363-E9E1A2C4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E1A63-BB4B-46C3-B049-ECB58112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1A2B77-7606-4AE0-A476-583E5DD1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7663-D7BE-4703-AC61-097537C7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C10AE-C6F7-4B02-BED5-2B045D99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23034-1AED-4F51-9577-DB44E906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8EAE1C-05A5-401B-86E8-4DF3F623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25220-FDCB-491A-8ECB-E9C6D347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F82B7-4DF3-4AC8-B3E4-EA8B68B8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7CA7DE-F98B-4AD1-9EFC-393D9C7F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592BB-6143-4BCF-99D9-D3B1F3A0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468C89-B5B4-4E5E-A977-9E0799CF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2023F-5506-4AFD-BE71-C549C770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101EE8-E6DD-4461-9D4A-5CA065BC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FB8B-F6D0-42A8-B080-3DB00349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D659BB-8BB1-4857-A6FB-01090438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5BD887-4810-452C-8C6A-E4D47D0FE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9B99BB-1EC2-439F-92D5-314877A1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696F27-0953-433B-AD62-2CBE17B3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83FD8-3FB7-4442-A703-EDEAB68C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83DD9E-F956-408F-A1F2-C4EEA568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34B53F-8BAD-4ACA-9B81-BCDB2C06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41E28-F0D8-4664-BDD4-64AF2535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98A8CD-2BF6-4595-9222-07463D59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3E63D9-1A6B-4808-937B-B42C65AE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0ADD-FFC5-47CC-93C5-5C603A6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277275-F925-451E-AE6B-A81952D22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5C5B92-09C0-4EDA-98DB-17CDBE76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82872E-E3A2-4640-96CE-2DD1BAE8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965AD8-D876-4E32-972D-053C875E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60BF59-DBA8-439C-A87C-4C6ED5FE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28A7FA-28BD-4EF4-9C18-64E4D38F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75220-E63F-4430-BABC-8EC3B5F3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2F2E0C-F8E6-465B-A681-34C3CB4A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EC8E5-1431-4801-95F9-B2381522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E7E282-9208-46A4-8F96-EA7DA0C8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2D6-CFED-4C3D-800A-AA5A3868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2619-93FA-4D62-BC1E-1267A9B2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330BAD-D56F-4DCF-B4D1-4753F8B4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744088-D289-45D2-8A26-935ECC23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04506D-94A8-4C42-887A-CFDCB841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5135E1-5AE1-4A85-B26A-224579A2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AE0EB-B031-4E8B-A11C-34DA5565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0F3177-CEEF-4368-A1FB-8C95052F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5B94BC-327E-4F8A-AB58-0662D1FF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C37176-C647-4BE9-AAFD-E9314D62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B6301-73B3-4577-99CB-76DD2BD1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C683B7-1276-497C-ADD9-3B157F55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F974-3863-416A-98AC-9172882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4D915-4AA3-44E6-8C46-A5FF9473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6EDAF3-3DA8-4B3B-910A-1846D466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959BBE-C18C-42FC-9A60-738997F0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39BE6D-70B8-4732-8C10-1097EBB2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03BE60-5795-4F37-AFAB-694A113B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EC08F-5A2D-4078-B11E-D7B257977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FEC82-3F7C-4928-BB9D-D260821B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8250B7-01E7-430A-A90D-410FB297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6F3ABE-9A24-4D4C-A907-62D86F81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7C518A-2126-4200-9089-147A61EC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4132-F8C0-417C-B166-50A9B211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D77F0C-94D7-4C14-819B-A8DEE64C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6DB3B1-6C23-4E0A-AA76-45653216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F1972F-A64C-4A70-A156-9082ADA3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057927-18D4-463D-9F7D-A4803366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D0F1A5-2D4D-43B6-9734-B1D5B6B7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0F3AB-B28A-44A0-BD62-2EECD89E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26C685-5919-4C15-B343-AEB0030D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D4E46-CA13-41FE-8298-5EBFA51A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26C0E5-B359-4EEF-AB21-23B3E0F9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D8C736-BB2D-4871-BD57-CB3D39E1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FF5A-7F44-42E1-8722-8B79E679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425556-C2C2-4AD0-98F9-F891C0FD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EC5C9F-6208-411D-8E9F-ACF56578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AD1A80-05A3-430A-8100-F3C87AC1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7A56CB-2041-405F-8329-41620ED6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A772E4-1CE3-4578-B9D9-106A6F42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4D8C93-AB99-4230-A76F-3D5C9AE1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5227DF-0A3C-47E1-97A4-EF2FEFEC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305AB3-DB2E-45D6-9050-04989CF1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620B15-FB95-44AB-B107-9C511A54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DFBED9-8E9D-4E72-93A9-A6A039E4D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DDCE-37F0-437C-9A7D-D3674502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68D296-D3F6-4C49-AB46-4209C3A3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2B1592-F8B8-4B76-9441-755A5546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207C0D-3641-4424-B68B-0D22B7C1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20BE8E-6957-477C-9CD3-38C1DAA5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B9539C-A865-4861-8FB8-BF08199E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1CAA12-5E4E-4F8F-8AF9-FE8B5943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FC63DA-0B63-43DB-97A4-FA218ED4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45B804-4FCD-4FF5-AB9C-1FE04B6A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426C82-C50E-4212-AF32-B4429D00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495D82-0A26-4B0F-A0EF-6A0098EB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F2860-F87A-4887-99E4-0A3D2DE3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4262F3-E8A6-4565-8FF2-B0967933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D4633-4422-417F-AFEE-5D9AF076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22C0EC-A21B-4EF7-835A-FEC22DF2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EFDB6D-5F4D-4BF0-98A6-0FCBB66B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3F3836-8FD9-4225-B512-9ACEC66A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1CF3F1-3AC8-4418-91DE-CE2F1048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8F46D5-F6CD-42C4-96CA-9FBF7BF1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73BB49-C452-453D-B6FF-64389AAB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9BE5BD-96C0-4EBA-849E-74C895E2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E3369F-252A-4725-9DAA-F05C167C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86F4-14BA-4AF0-891F-D8A22D3D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CA8E53-FA36-4C9A-94A0-53D1ADB9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8909E8-B6BF-4603-90E0-BF22182E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A3CE9A-0213-4F45-87A5-351C5F1E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577F52-9560-46FF-BBC9-D46D589F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C9E7E1-D79F-4FEE-AF30-A5571156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54F193-ED3F-40BD-9A6E-6C66C41E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D0C54C-EC87-4DF2-8FD7-31ECB322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97C653-D4BD-4DB2-A697-E24C34FC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E48E9A-769E-45CF-94F0-C36E55FD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22C64F-F0A0-4316-8DF6-67996B1A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DD635-86BD-4E29-A466-204AC523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985731-39F7-42D2-B34A-550B2AAA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98F9C5-25E5-493B-A423-9E1947E9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7602C7-9DF8-4BBD-8DAC-DF2E02C5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624FB5-AF43-4F73-B799-D6FEE715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50D074-2226-4233-8170-698EC4BE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3CBE2B-0724-4DD8-8E64-E6DE46C3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7A37F6-29D0-48F0-812C-1A01A1D1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04D525-6AC2-4E43-8D3D-95132DEF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B0124A-B16E-486F-892A-541B6BF0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A774D1-E13D-41B0-810D-B0CF4DD8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8E9E5-3882-442E-B8B0-0F89A602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E59B00-0126-4DF3-9681-6776D316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F0D24D-1113-401B-99D5-798CB4F4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3E32F3-8699-401C-A4F6-E27CAA45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D71091-6A77-48F8-B930-A425FBCA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978902-9A85-4420-AAA8-DA3E79FD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9D5234-7B6B-4CF5-A92F-B1FE91CB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D53926-8974-4AFD-B8B4-DD77693FE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CA9B3F-1E31-4EDA-B7D2-F09D256F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230CE4-A9AD-497C-87C2-1043991B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C5950-452C-418C-BFE3-15AD458F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70B-B2B8-4FA4-BA93-B60489CC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98BE-5B81-42C0-8E84-0B0204CD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4883-BC18-4BEC-A5AE-3226A315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F615C-F3E8-4C91-B355-147C5EE4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4612A-354D-45B9-8E63-08AC33DC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45BD-960D-404B-8046-AF99B874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60DC-E073-4303-90F0-1FEBE97B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15C2C-CE45-4507-B167-BC94C901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38320-CC14-4A4F-A1A9-6AD42B53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C95D-215A-4072-9910-DE026E89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42439-2C33-4FE5-813A-99F09826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C45-A6BC-495F-9F79-1E82FCC8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A3C92-9525-4464-BB89-5396F1A5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76A20-3DF8-4119-89E1-0FB13808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D16E-2DAD-4FDB-B0FB-E1BDEFEA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68BEF-54BA-4DB9-A39D-B8476352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A4DF-9DF7-48BE-BFBE-2B89D921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22D04-5E76-4C67-8086-56032868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D1115-E9EB-42FA-A1E6-3018038C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243F2-EEE2-41FD-B7C1-ECC50D04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422A7-F6D4-4C0A-94A9-B79F47D3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15B3F-0793-4CA0-8384-F76C9D6B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6C80-F9D2-4844-8F15-A7ADCA68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E63D8-6F0D-4F5E-ABA0-66EBAC5D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D5C11-5B63-44B5-891D-0996BF84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06577-306B-4DF8-9B50-06F5E316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D82C8-77F1-4D13-8D32-39EBFFB7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0C94C-CDD8-42BA-9FA6-9152A05A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39473-4301-4539-8398-0E1345DD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CF8CD-F992-4424-80D6-9A16FFDD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8E53C-591F-4E94-A7A8-2CC78E50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D6209-A490-4E41-9BB0-0D05B5D4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E57EF-0418-429D-B5E9-1C00F4242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F73-A83D-44EB-8CD4-B1937B49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55D81-2271-41F5-83D3-EF2C5C36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B560D-4FF4-4C58-A17A-2B9E4F8D1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1EE8-1E9C-473E-A78E-3FB65E57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70D0E-6465-4E25-9D7D-9B38D865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93D73-3FC1-4B7B-A3F5-434FE078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62A7E-D3D9-41A2-BAA4-44BF7C7E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4D6CB-2AC7-4A2A-8D25-E19E7C2A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40BDB-AFF1-43F1-AEDD-43F621D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C8387-54BE-4F99-B734-56F487A1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09E80-C903-43CC-A89B-8BF764B2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A50-EBFA-436A-ABD8-732D7779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F7058-6176-4D31-BAF3-AB94A2DF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1E450-E33E-47D3-9040-E52E2595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A3D29-6F0C-4383-BF55-1698714A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51998-EA8F-4287-87DC-AABE8B7F7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17F0F-6B07-4049-B5CF-AC6EA2F8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14BF3-8E0E-4F20-A1EC-63223F20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089DF-3B58-4220-9137-CEACCB6B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4ADF4-93EA-4956-B4D9-A2E2AD8E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AC6AD-BA31-4B2F-A515-297D0918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DE874-63F5-4B2C-8CF6-70BB4EAA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C3E-A8DE-43F0-8DAF-7384FDDF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77041-679A-468B-AB2D-F8318481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407C4-CF1F-4FBB-B8E3-13ACFEDE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A28B4-3A2C-48CE-B04B-DE373DED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0120-12D8-46C9-B344-69559610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E1AAA-40DF-4466-906E-F30CB88A8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7D8B0-C67A-4D68-94CB-D331D8406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E7F5B-E2BC-481A-81A9-70714EB6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1B0B9-B56E-4C20-ADD0-A0EEDFF2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D7BE4-A34A-40DB-91EB-90A00D60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93B2F-ABE7-46A3-BCF8-96D5C501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73D-1A03-4A6E-9E41-5793EA51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E952C-0362-46A0-9FAF-DD84D14F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6A6A5-3C66-4B82-9CE4-390EFCBB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F0122-17BD-4037-AEA4-FB6C4B6D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491E6-E4BC-4742-B97E-171CA57B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4EA42-0BFC-41AD-A404-39203161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0DC3D-4DE3-4687-9EC2-CED3F69F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07F84-DC26-4154-AC38-B915786B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E69EC-6C8A-4CC0-BE1B-796E76F8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330E4-DBE6-4B45-993D-88383488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4285D-68E0-4340-A8EE-CC24E2E7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81.xml"/><Relationship Id="rId8" Type="http://schemas.openxmlformats.org/officeDocument/2006/relationships/slideLayout" Target="../slideLayouts/slideLayout182.xml"/><Relationship Id="rId9" Type="http://schemas.openxmlformats.org/officeDocument/2006/relationships/slideLayout" Target="../slideLayouts/slideLayout183.xml"/><Relationship Id="rId10" Type="http://schemas.openxmlformats.org/officeDocument/2006/relationships/slideLayout" Target="../slideLayouts/slideLayout184.xml"/><Relationship Id="rId11" Type="http://schemas.openxmlformats.org/officeDocument/2006/relationships/slideLayout" Target="../slideLayouts/slideLayout185.xml"/><Relationship Id="rId12" Type="http://schemas.openxmlformats.org/officeDocument/2006/relationships/slideLayout" Target="../slideLayouts/slideLayout186.xml"/><Relationship Id="rId13" Type="http://schemas.openxmlformats.org/officeDocument/2006/relationships/slideLayout" Target="../slideLayouts/slideLayout187.xml"/><Relationship Id="rId14" Type="http://schemas.openxmlformats.org/officeDocument/2006/relationships/slideLayout" Target="../slideLayouts/slideLayout188.xml"/><Relationship Id="rId15" Type="http://schemas.openxmlformats.org/officeDocument/2006/relationships/slideLayout" Target="../slideLayouts/slideLayout189.xml"/><Relationship Id="rId16" Type="http://schemas.openxmlformats.org/officeDocument/2006/relationships/slideLayout" Target="../slideLayouts/slideLayout190.xml"/><Relationship Id="rId17" Type="http://schemas.openxmlformats.org/officeDocument/2006/relationships/slideLayout" Target="../slideLayouts/slideLayout191.xml"/><Relationship Id="rId18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05.xml"/><Relationship Id="rId8" Type="http://schemas.openxmlformats.org/officeDocument/2006/relationships/slideLayout" Target="../slideLayouts/slideLayout206.xml"/><Relationship Id="rId9" Type="http://schemas.openxmlformats.org/officeDocument/2006/relationships/slideLayout" Target="../slideLayouts/slideLayout207.xml"/><Relationship Id="rId10" Type="http://schemas.openxmlformats.org/officeDocument/2006/relationships/slideLayout" Target="../slideLayouts/slideLayout208.xml"/><Relationship Id="rId11" Type="http://schemas.openxmlformats.org/officeDocument/2006/relationships/slideLayout" Target="../slideLayouts/slideLayout209.xml"/><Relationship Id="rId12" Type="http://schemas.openxmlformats.org/officeDocument/2006/relationships/slideLayout" Target="../slideLayouts/slideLayout210.xml"/><Relationship Id="rId13" Type="http://schemas.openxmlformats.org/officeDocument/2006/relationships/slideLayout" Target="../slideLayouts/slideLayout211.xml"/><Relationship Id="rId14" Type="http://schemas.openxmlformats.org/officeDocument/2006/relationships/slideLayout" Target="../slideLayouts/slideLayout212.xml"/><Relationship Id="rId15" Type="http://schemas.openxmlformats.org/officeDocument/2006/relationships/slideLayout" Target="../slideLayouts/slideLayout213.xml"/><Relationship Id="rId16" Type="http://schemas.openxmlformats.org/officeDocument/2006/relationships/slideLayout" Target="../slideLayouts/slideLayout214.xml"/><Relationship Id="rId17" Type="http://schemas.openxmlformats.org/officeDocument/2006/relationships/slideLayout" Target="../slideLayouts/slideLayout215.xml"/><Relationship Id="rId18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29.xml"/><Relationship Id="rId8" Type="http://schemas.openxmlformats.org/officeDocument/2006/relationships/slideLayout" Target="../slideLayouts/slideLayout230.xml"/><Relationship Id="rId9" Type="http://schemas.openxmlformats.org/officeDocument/2006/relationships/slideLayout" Target="../slideLayouts/slideLayout231.xml"/><Relationship Id="rId10" Type="http://schemas.openxmlformats.org/officeDocument/2006/relationships/slideLayout" Target="../slideLayouts/slideLayout232.xml"/><Relationship Id="rId11" Type="http://schemas.openxmlformats.org/officeDocument/2006/relationships/slideLayout" Target="../slideLayouts/slideLayout233.xml"/><Relationship Id="rId12" Type="http://schemas.openxmlformats.org/officeDocument/2006/relationships/slideLayout" Target="../slideLayouts/slideLayout234.xml"/><Relationship Id="rId13" Type="http://schemas.openxmlformats.org/officeDocument/2006/relationships/slideLayout" Target="../slideLayouts/slideLayout235.xml"/><Relationship Id="rId14" Type="http://schemas.openxmlformats.org/officeDocument/2006/relationships/slideLayout" Target="../slideLayouts/slideLayout236.xml"/><Relationship Id="rId15" Type="http://schemas.openxmlformats.org/officeDocument/2006/relationships/slideLayout" Target="../slideLayouts/slideLayout237.xml"/><Relationship Id="rId16" Type="http://schemas.openxmlformats.org/officeDocument/2006/relationships/slideLayout" Target="../slideLayouts/slideLayout238.xml"/><Relationship Id="rId17" Type="http://schemas.openxmlformats.org/officeDocument/2006/relationships/slideLayout" Target="../slideLayouts/slideLayout239.xml"/><Relationship Id="rId18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41.xml"/><Relationship Id="rId8" Type="http://schemas.openxmlformats.org/officeDocument/2006/relationships/slideLayout" Target="../slideLayouts/slideLayout242.xml"/><Relationship Id="rId9" Type="http://schemas.openxmlformats.org/officeDocument/2006/relationships/slideLayout" Target="../slideLayouts/slideLayout243.xml"/><Relationship Id="rId10" Type="http://schemas.openxmlformats.org/officeDocument/2006/relationships/slideLayout" Target="../slideLayouts/slideLayout244.xml"/><Relationship Id="rId11" Type="http://schemas.openxmlformats.org/officeDocument/2006/relationships/slideLayout" Target="../slideLayouts/slideLayout245.xml"/><Relationship Id="rId12" Type="http://schemas.openxmlformats.org/officeDocument/2006/relationships/slideLayout" Target="../slideLayouts/slideLayout246.xml"/><Relationship Id="rId13" Type="http://schemas.openxmlformats.org/officeDocument/2006/relationships/slideLayout" Target="../slideLayouts/slideLayout247.xml"/><Relationship Id="rId14" Type="http://schemas.openxmlformats.org/officeDocument/2006/relationships/slideLayout" Target="../slideLayouts/slideLayout248.xml"/><Relationship Id="rId15" Type="http://schemas.openxmlformats.org/officeDocument/2006/relationships/slideLayout" Target="../slideLayouts/slideLayout249.xml"/><Relationship Id="rId16" Type="http://schemas.openxmlformats.org/officeDocument/2006/relationships/slideLayout" Target="../slideLayouts/slideLayout250.xml"/><Relationship Id="rId17" Type="http://schemas.openxmlformats.org/officeDocument/2006/relationships/slideLayout" Target="../slideLayouts/slideLayout251.xml"/><Relationship Id="rId18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3.xml"/><Relationship Id="rId8" Type="http://schemas.openxmlformats.org/officeDocument/2006/relationships/slideLayout" Target="../slideLayouts/slideLayout254.xml"/><Relationship Id="rId9" Type="http://schemas.openxmlformats.org/officeDocument/2006/relationships/slideLayout" Target="../slideLayouts/slideLayout255.xml"/><Relationship Id="rId10" Type="http://schemas.openxmlformats.org/officeDocument/2006/relationships/slideLayout" Target="../slideLayouts/slideLayout256.xml"/><Relationship Id="rId11" Type="http://schemas.openxmlformats.org/officeDocument/2006/relationships/slideLayout" Target="../slideLayouts/slideLayout257.xml"/><Relationship Id="rId12" Type="http://schemas.openxmlformats.org/officeDocument/2006/relationships/slideLayout" Target="../slideLayouts/slideLayout258.xml"/><Relationship Id="rId13" Type="http://schemas.openxmlformats.org/officeDocument/2006/relationships/slideLayout" Target="../slideLayouts/slideLayout259.xml"/><Relationship Id="rId14" Type="http://schemas.openxmlformats.org/officeDocument/2006/relationships/slideLayout" Target="../slideLayouts/slideLayout260.xml"/><Relationship Id="rId15" Type="http://schemas.openxmlformats.org/officeDocument/2006/relationships/slideLayout" Target="../slideLayouts/slideLayout261.xml"/><Relationship Id="rId16" Type="http://schemas.openxmlformats.org/officeDocument/2006/relationships/slideLayout" Target="../slideLayouts/slideLayout262.xml"/><Relationship Id="rId17" Type="http://schemas.openxmlformats.org/officeDocument/2006/relationships/slideLayout" Target="../slideLayouts/slideLayout263.xml"/><Relationship Id="rId18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65.xml"/><Relationship Id="rId8" Type="http://schemas.openxmlformats.org/officeDocument/2006/relationships/slideLayout" Target="../slideLayouts/slideLayout266.xml"/><Relationship Id="rId9" Type="http://schemas.openxmlformats.org/officeDocument/2006/relationships/slideLayout" Target="../slideLayouts/slideLayout267.xml"/><Relationship Id="rId10" Type="http://schemas.openxmlformats.org/officeDocument/2006/relationships/slideLayout" Target="../slideLayouts/slideLayout268.xml"/><Relationship Id="rId11" Type="http://schemas.openxmlformats.org/officeDocument/2006/relationships/slideLayout" Target="../slideLayouts/slideLayout269.xml"/><Relationship Id="rId12" Type="http://schemas.openxmlformats.org/officeDocument/2006/relationships/slideLayout" Target="../slideLayouts/slideLayout270.xml"/><Relationship Id="rId13" Type="http://schemas.openxmlformats.org/officeDocument/2006/relationships/slideLayout" Target="../slideLayouts/slideLayout271.xml"/><Relationship Id="rId14" Type="http://schemas.openxmlformats.org/officeDocument/2006/relationships/slideLayout" Target="../slideLayouts/slideLayout272.xml"/><Relationship Id="rId15" Type="http://schemas.openxmlformats.org/officeDocument/2006/relationships/slideLayout" Target="../slideLayouts/slideLayout273.xml"/><Relationship Id="rId16" Type="http://schemas.openxmlformats.org/officeDocument/2006/relationships/slideLayout" Target="../slideLayouts/slideLayout274.xml"/><Relationship Id="rId17" Type="http://schemas.openxmlformats.org/officeDocument/2006/relationships/slideLayout" Target="../slideLayouts/slideLayout275.xml"/><Relationship Id="rId18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7.xml"/><Relationship Id="rId8" Type="http://schemas.openxmlformats.org/officeDocument/2006/relationships/slideLayout" Target="../slideLayouts/slideLayout278.xml"/><Relationship Id="rId9" Type="http://schemas.openxmlformats.org/officeDocument/2006/relationships/slideLayout" Target="../slideLayouts/slideLayout279.xml"/><Relationship Id="rId10" Type="http://schemas.openxmlformats.org/officeDocument/2006/relationships/slideLayout" Target="../slideLayouts/slideLayout280.xml"/><Relationship Id="rId11" Type="http://schemas.openxmlformats.org/officeDocument/2006/relationships/slideLayout" Target="../slideLayouts/slideLayout281.xml"/><Relationship Id="rId12" Type="http://schemas.openxmlformats.org/officeDocument/2006/relationships/slideLayout" Target="../slideLayouts/slideLayout282.xml"/><Relationship Id="rId13" Type="http://schemas.openxmlformats.org/officeDocument/2006/relationships/slideLayout" Target="../slideLayouts/slideLayout283.xml"/><Relationship Id="rId14" Type="http://schemas.openxmlformats.org/officeDocument/2006/relationships/slideLayout" Target="../slideLayouts/slideLayout284.xml"/><Relationship Id="rId15" Type="http://schemas.openxmlformats.org/officeDocument/2006/relationships/slideLayout" Target="../slideLayouts/slideLayout285.xml"/><Relationship Id="rId16" Type="http://schemas.openxmlformats.org/officeDocument/2006/relationships/slideLayout" Target="../slideLayouts/slideLayout286.xml"/><Relationship Id="rId17" Type="http://schemas.openxmlformats.org/officeDocument/2006/relationships/slideLayout" Target="../slideLayouts/slideLayout287.xml"/><Relationship Id="rId18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23E2-9E60-4A04-ADF0-B5E27588EC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7179-746D-4C14-B724-16D704C596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C3C4-6C76-4409-98E7-EBBCF0975F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5587-5B80-4661-BE9F-0EAEAB6B2A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4223-5A0D-40E8-90D9-2AD7FA0179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57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1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D2C4-02C5-4316-A5F6-D68C40BF2E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5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9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8EFB-40DF-4B65-A2AF-D820C0D20EE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3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7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16CE-C0F0-4B85-9AB7-FCEED6E989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7"/>
    <p:sldLayoutId id="2147483845" r:id="rId8"/>
    <p:sldLayoutId id="2147483846" r:id="rId9"/>
    <p:sldLayoutId id="2147483847" r:id="rId10"/>
    <p:sldLayoutId id="2147483848" r:id="rId11"/>
    <p:sldLayoutId id="2147483849" r:id="rId12"/>
    <p:sldLayoutId id="2147483850" r:id="rId13"/>
    <p:sldLayoutId id="2147483851" r:id="rId14"/>
    <p:sldLayoutId id="2147483852" r:id="rId15"/>
    <p:sldLayoutId id="2147483853" r:id="rId16"/>
    <p:sldLayoutId id="2147483854" r:id="rId17"/>
    <p:sldLayoutId id="2147483855" r:id="rId18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7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854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6FB2-40FF-4D9A-8379-49ECD77EE9D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9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3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1985-6639-4330-9895-2FACA9F9BF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7"/>
    <p:sldLayoutId id="2147483871" r:id="rId8"/>
    <p:sldLayoutId id="2147483872" r:id="rId9"/>
    <p:sldLayoutId id="2147483873" r:id="rId10"/>
    <p:sldLayoutId id="2147483874" r:id="rId11"/>
    <p:sldLayoutId id="2147483875" r:id="rId12"/>
    <p:sldLayoutId id="2147483876" r:id="rId13"/>
    <p:sldLayoutId id="2147483877" r:id="rId14"/>
    <p:sldLayoutId id="2147483878" r:id="rId15"/>
    <p:sldLayoutId id="2147483879" r:id="rId16"/>
    <p:sldLayoutId id="2147483880" r:id="rId17"/>
    <p:sldLayoutId id="2147483881" r:id="rId18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79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16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E0E9-6E2F-4D96-8AD0-FD2123140F5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7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E6D3-632B-4E46-A088-A18F44C302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6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9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0C8E-79E8-4161-A541-94B928EB91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7"/>
    <p:sldLayoutId id="2147483897" r:id="rId8"/>
    <p:sldLayoutId id="2147483898" r:id="rId9"/>
    <p:sldLayoutId id="2147483899" r:id="rId10"/>
    <p:sldLayoutId id="2147483900" r:id="rId11"/>
    <p:sldLayoutId id="2147483901" r:id="rId12"/>
    <p:sldLayoutId id="2147483902" r:id="rId13"/>
    <p:sldLayoutId id="2147483903" r:id="rId14"/>
    <p:sldLayoutId id="2147483904" r:id="rId15"/>
    <p:sldLayoutId id="2147483905" r:id="rId16"/>
    <p:sldLayoutId id="2147483906" r:id="rId17"/>
    <p:sldLayoutId id="2147483907" r:id="rId18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14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7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9C43-742D-46D1-8F3E-83036110DB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7"/>
    <p:sldLayoutId id="2147483910" r:id="rId8"/>
    <p:sldLayoutId id="2147483911" r:id="rId9"/>
    <p:sldLayoutId id="2147483912" r:id="rId10"/>
    <p:sldLayoutId id="2147483913" r:id="rId11"/>
    <p:sldLayoutId id="2147483914" r:id="rId12"/>
    <p:sldLayoutId id="2147483915" r:id="rId13"/>
    <p:sldLayoutId id="2147483916" r:id="rId14"/>
    <p:sldLayoutId id="2147483917" r:id="rId15"/>
    <p:sldLayoutId id="2147483918" r:id="rId16"/>
    <p:sldLayoutId id="2147483919" r:id="rId17"/>
    <p:sldLayoutId id="2147483920" r:id="rId18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2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25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21B9-0303-4B0E-9E9B-C6AA239F850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7"/>
    <p:sldLayoutId id="2147483923" r:id="rId8"/>
    <p:sldLayoutId id="2147483924" r:id="rId9"/>
    <p:sldLayoutId id="2147483925" r:id="rId10"/>
    <p:sldLayoutId id="2147483926" r:id="rId11"/>
    <p:sldLayoutId id="2147483927" r:id="rId12"/>
    <p:sldLayoutId id="2147483928" r:id="rId13"/>
    <p:sldLayoutId id="2147483929" r:id="rId14"/>
    <p:sldLayoutId id="2147483930" r:id="rId15"/>
    <p:sldLayoutId id="2147483931" r:id="rId16"/>
    <p:sldLayoutId id="2147483932" r:id="rId17"/>
    <p:sldLayoutId id="2147483933" r:id="rId18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34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77F2-2767-4196-8F8F-9D1A69193F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7"/>
    <p:sldLayoutId id="2147483936" r:id="rId8"/>
    <p:sldLayoutId id="2147483937" r:id="rId9"/>
    <p:sldLayoutId id="2147483938" r:id="rId10"/>
    <p:sldLayoutId id="2147483939" r:id="rId11"/>
    <p:sldLayoutId id="2147483940" r:id="rId12"/>
    <p:sldLayoutId id="2147483941" r:id="rId13"/>
    <p:sldLayoutId id="2147483942" r:id="rId14"/>
    <p:sldLayoutId id="2147483943" r:id="rId15"/>
    <p:sldLayoutId id="2147483944" r:id="rId16"/>
    <p:sldLayoutId id="2147483945" r:id="rId17"/>
    <p:sldLayoutId id="2147483946" r:id="rId18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8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42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02C2-832F-4DD6-A721-B3C36A5476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7"/>
    <p:sldLayoutId id="2147483949" r:id="rId8"/>
    <p:sldLayoutId id="2147483950" r:id="rId9"/>
    <p:sldLayoutId id="2147483951" r:id="rId10"/>
    <p:sldLayoutId id="2147483952" r:id="rId11"/>
    <p:sldLayoutId id="2147483953" r:id="rId12"/>
    <p:sldLayoutId id="2147483954" r:id="rId13"/>
    <p:sldLayoutId id="2147483955" r:id="rId14"/>
    <p:sldLayoutId id="2147483956" r:id="rId15"/>
    <p:sldLayoutId id="2147483957" r:id="rId16"/>
    <p:sldLayoutId id="2147483958" r:id="rId17"/>
    <p:sldLayoutId id="2147483959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F629-847E-4FA3-B197-8BC00A327E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54E6-2592-4932-9023-E180E49ACB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A817-1EA0-4695-87A9-EB7C81DDE4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1B7B-AB25-472E-870C-804CF9C027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47E0-E41A-4857-A1DF-4E9D471DC8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A5B8-6F5A-4879-A68A-A4EA59F976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F377-DA40-49D0-B100-C54FC5F04B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" Target="slide3.xml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2.xml"/><Relationship Id="rId12" Type="http://schemas.openxmlformats.org/officeDocument/2006/relationships/slide" Target="slide14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image" Target="../media/image7.gif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" Target="slide3.xm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6.gif"/><Relationship Id="rId4" Type="http://schemas.openxmlformats.org/officeDocument/2006/relationships/slide" Target="slide3.xm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WordArt 7"/>
          <p:cNvSpPr txBox="1"/>
          <p:nvPr/>
        </p:nvSpPr>
        <p:spPr>
          <a:xfrm>
            <a:off x="1835280" y="817560"/>
            <a:ext cx="5976720" cy="208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ворческая работа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2" name="WordArt 9"/>
          <p:cNvSpPr txBox="1"/>
          <p:nvPr/>
        </p:nvSpPr>
        <p:spPr>
          <a:xfrm>
            <a:off x="1187280" y="2082960"/>
            <a:ext cx="6840720" cy="19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Основы информатики».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3" name="Text Box 13"/>
          <p:cNvSpPr/>
          <p:nvPr/>
        </p:nvSpPr>
        <p:spPr>
          <a:xfrm>
            <a:off x="250920" y="395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200" spc="-1" strike="noStrike">
                <a:solidFill>
                  <a:srgbClr val="ff33cc"/>
                </a:solidFill>
                <a:latin typeface="Comic Sans MS"/>
              </a:rPr>
              <a:t>МОУ «Большеберезниковская средняя общеобразовательная школа №1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 Box 14"/>
          <p:cNvSpPr/>
          <p:nvPr/>
        </p:nvSpPr>
        <p:spPr>
          <a:xfrm>
            <a:off x="3924360" y="4121280"/>
            <a:ext cx="4968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Автор: Забатурина Алё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Comic Sans MS"/>
              </a:rPr>
              <a:t>Учитель:Устимкина Л.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Text Box 15"/>
          <p:cNvSpPr/>
          <p:nvPr/>
        </p:nvSpPr>
        <p:spPr>
          <a:xfrm>
            <a:off x="3059280" y="609120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2007 год</a:t>
            </a:r>
            <a:r>
              <a:rPr b="0" lang="ru-RU" sz="18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WordArt 7"/>
          <p:cNvSpPr txBox="1"/>
          <p:nvPr/>
        </p:nvSpPr>
        <p:spPr>
          <a:xfrm>
            <a:off x="1547640" y="189000"/>
            <a:ext cx="4680000" cy="17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Архитектура ЭВМ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49" name="WordArt 8"/>
          <p:cNvSpPr txBox="1"/>
          <p:nvPr/>
        </p:nvSpPr>
        <p:spPr>
          <a:xfrm>
            <a:off x="468360" y="1916280"/>
            <a:ext cx="42447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рхитектура ЭВМ-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0" name="Text Box 9"/>
          <p:cNvSpPr/>
          <p:nvPr/>
        </p:nvSpPr>
        <p:spPr>
          <a:xfrm>
            <a:off x="1763640" y="2997360"/>
            <a:ext cx="7559640" cy="1008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описание устройства и принципов работы компьютера, достаточное для пользователя и программ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WordArt 10"/>
          <p:cNvSpPr txBox="1"/>
          <p:nvPr/>
        </p:nvSpPr>
        <p:spPr>
          <a:xfrm>
            <a:off x="468360" y="4221000"/>
            <a:ext cx="25430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грамма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2" name="Text Box 11"/>
          <p:cNvSpPr/>
          <p:nvPr/>
        </p:nvSpPr>
        <p:spPr>
          <a:xfrm>
            <a:off x="3492360" y="4149720"/>
            <a:ext cx="5867640" cy="9622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Comic Sans MS"/>
              </a:rPr>
              <a:t>Это указание на последовательность действий, которую должен выполнить компьюте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12"/>
          <p:cNvSpPr/>
          <p:nvPr/>
        </p:nvSpPr>
        <p:spPr>
          <a:xfrm>
            <a:off x="324000" y="5373720"/>
            <a:ext cx="8569080" cy="131364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 состав компьютера входят: процессор, память, устройство ввода, устройство вывода. У компьютера имеется внутренняя и внешняя память. Внутренняя- оперативная память. Внешняя- долговременная пам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4" name="Picture 13" descr="star71"/>
          <p:cNvPicPr/>
          <p:nvPr/>
        </p:nvPicPr>
        <p:blipFill>
          <a:blip r:embed="rId3"/>
          <a:stretch/>
        </p:blipFill>
        <p:spPr>
          <a:xfrm>
            <a:off x="8238960" y="0"/>
            <a:ext cx="905040" cy="8190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6" descr="star71"/>
          <p:cNvPicPr/>
          <p:nvPr/>
        </p:nvPicPr>
        <p:blipFill>
          <a:blip r:embed="rId4"/>
          <a:stretch/>
        </p:blipFill>
        <p:spPr>
          <a:xfrm>
            <a:off x="7380360" y="765000"/>
            <a:ext cx="904680" cy="81936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9" descr="star71"/>
          <p:cNvPicPr/>
          <p:nvPr/>
        </p:nvPicPr>
        <p:blipFill>
          <a:blip r:embed="rId5"/>
          <a:stretch/>
        </p:blipFill>
        <p:spPr>
          <a:xfrm>
            <a:off x="6588000" y="1628640"/>
            <a:ext cx="905040" cy="819360"/>
          </a:xfrm>
          <a:prstGeom prst="rect">
            <a:avLst/>
          </a:prstGeom>
          <a:ln w="0">
            <a:noFill/>
          </a:ln>
        </p:spPr>
      </p:pic>
      <p:sp>
        <p:nvSpPr>
          <p:cNvPr id="1557" name="Text Box 22"/>
          <p:cNvSpPr/>
          <p:nvPr/>
        </p:nvSpPr>
        <p:spPr>
          <a:xfrm>
            <a:off x="5562720" y="64771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9" dur="2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WordArt 13"/>
          <p:cNvSpPr txBox="1"/>
          <p:nvPr/>
        </p:nvSpPr>
        <p:spPr>
          <a:xfrm>
            <a:off x="2050920" y="549360"/>
            <a:ext cx="46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Monotype Corsiva"/>
              </a:rPr>
              <a:t>Устройство ПК.</a:t>
            </a:r>
            <a:endParaRPr b="1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60" name="Text Box 14"/>
          <p:cNvSpPr/>
          <p:nvPr/>
        </p:nvSpPr>
        <p:spPr>
          <a:xfrm>
            <a:off x="395280" y="1557360"/>
            <a:ext cx="8353440" cy="531000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 состав системного блока входят : микропроцессор, внутренняя память, дисководы, блок питания, контроллеры внешних устрой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Все устройство ПК связаны между собой по многопроводной линии, которая называется информационной магистрал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Основными техническими характеристиками ПК являются: объем внутренней памяти, тактовая чистота микропроцессора, разрядность микропроцессо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Comic Sans MS"/>
              </a:rPr>
              <a:t>Каждое внешнее устройство имеет свой адрес. Передаваемая к нему информация – по шине данных сопровождается адресом устройства – по адресной ши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8"/>
          <p:cNvSpPr/>
          <p:nvPr/>
        </p:nvSpPr>
        <p:spPr>
          <a:xfrm>
            <a:off x="4038480" y="61722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5" name="Picture 7" descr="Seaside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66" name="WordArt 10"/>
          <p:cNvSpPr txBox="1"/>
          <p:nvPr/>
        </p:nvSpPr>
        <p:spPr>
          <a:xfrm>
            <a:off x="900000" y="189000"/>
            <a:ext cx="727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е файлы и редакторы.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7" name="WordArt 11"/>
          <p:cNvSpPr txBox="1"/>
          <p:nvPr/>
        </p:nvSpPr>
        <p:spPr>
          <a:xfrm>
            <a:off x="468360" y="1484280"/>
            <a:ext cx="3514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файл-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4211640" y="141300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Простейший способ организации данных в компьютере. Он состоит только из кодов таблицы символьной кодировки</a:t>
            </a:r>
            <a:r>
              <a:rPr b="0" lang="ru-RU" sz="20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WordArt 13"/>
          <p:cNvSpPr txBox="1"/>
          <p:nvPr/>
        </p:nvSpPr>
        <p:spPr>
          <a:xfrm>
            <a:off x="0" y="3357720"/>
            <a:ext cx="4324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кстовый редактор-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4643280" y="2852640"/>
            <a:ext cx="450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Это прикладная программа, позволяющая создать текстовые документы, редактировать их, просматривать содержимое документа на экране, распечатывать документ, изменять формат доку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0" y="5373720"/>
            <a:ext cx="896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Стандартными компонентами среды ТР являются: рабочее поле, текстовый курсор, строка состояния, меню команд. Текстовый файл разделен на строки. Разделителем является специальные управляющие коды. В конце файла ставится код «Конец файл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5715000" y="6673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Picture 4" descr="SKYSONG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77" name="WordArt 7"/>
          <p:cNvSpPr txBox="1"/>
          <p:nvPr/>
        </p:nvSpPr>
        <p:spPr>
          <a:xfrm>
            <a:off x="611280" y="333360"/>
            <a:ext cx="5819760" cy="7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ксты в компьютерной памяти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78" name="WordArt 8"/>
          <p:cNvSpPr txBox="1"/>
          <p:nvPr/>
        </p:nvSpPr>
        <p:spPr>
          <a:xfrm>
            <a:off x="539640" y="1700280"/>
            <a:ext cx="38163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Гипертекст-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79" name="Text Box 9"/>
          <p:cNvSpPr/>
          <p:nvPr/>
        </p:nvSpPr>
        <p:spPr>
          <a:xfrm>
            <a:off x="4284720" y="1197000"/>
            <a:ext cx="46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Это способ организации текста, который можно просматривать в последовательности смысловых связей между его отдельными фрагм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WordArt 10"/>
          <p:cNvSpPr txBox="1"/>
          <p:nvPr/>
        </p:nvSpPr>
        <p:spPr>
          <a:xfrm>
            <a:off x="250920" y="3068640"/>
            <a:ext cx="50101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Таблица кодировки-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581" name="Text Box 11"/>
          <p:cNvSpPr/>
          <p:nvPr/>
        </p:nvSpPr>
        <p:spPr>
          <a:xfrm>
            <a:off x="5219640" y="306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Таблица в которой всем символам компьютерного алфавита поставлены в соответствие порядковые ном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 Box 12"/>
          <p:cNvSpPr/>
          <p:nvPr/>
        </p:nvSpPr>
        <p:spPr>
          <a:xfrm>
            <a:off x="250920" y="5013360"/>
            <a:ext cx="93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  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Международным стандартом является код </a:t>
            </a:r>
            <a:r>
              <a:rPr b="1" lang="en-US" sz="2000" spc="-1" strike="noStrike">
                <a:solidFill>
                  <a:srgbClr val="99ff33"/>
                </a:solidFill>
                <a:latin typeface="Comic Sans MS"/>
              </a:rPr>
              <a:t> ASCII</a:t>
            </a:r>
            <a:r>
              <a:rPr b="1" lang="ru-RU" sz="2000" spc="-1" strike="noStrike">
                <a:solidFill>
                  <a:srgbClr val="99ff33"/>
                </a:solidFill>
                <a:latin typeface="Comic Sans MS"/>
              </a:rPr>
              <a:t>- американский  стандартный код информационного  обмена. Каждый символ текста кодируется восьмиразрядным двоичным кодом. Для представления текстов в компьютере используется алфавит мощностью 256 симв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3" name="Picture 13" descr="book10"/>
          <p:cNvPicPr/>
          <p:nvPr/>
        </p:nvPicPr>
        <p:blipFill>
          <a:blip r:embed="rId2"/>
          <a:stretch/>
        </p:blipFill>
        <p:spPr>
          <a:xfrm>
            <a:off x="7451640" y="189000"/>
            <a:ext cx="1692360" cy="718920"/>
          </a:xfrm>
          <a:prstGeom prst="rect">
            <a:avLst/>
          </a:prstGeom>
          <a:ln w="0">
            <a:noFill/>
          </a:ln>
        </p:spPr>
      </p:pic>
      <p:sp>
        <p:nvSpPr>
          <p:cNvPr id="1584" name="Text Box 16"/>
          <p:cNvSpPr/>
          <p:nvPr/>
        </p:nvSpPr>
        <p:spPr>
          <a:xfrm>
            <a:off x="5029200" y="62485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ff66"/>
                </a:solidFill>
                <a:latin typeface="Arial"/>
              </a:rPr>
              <a:t>Вернуть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cc33"/>
                </a:solidFill>
                <a:latin typeface="Arial"/>
              </a:rPr>
              <a:t>к п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8" name="Picture 4" descr="Sunset"/>
          <p:cNvPicPr/>
          <p:nvPr/>
        </p:nvPicPr>
        <p:blipFill>
          <a:blip r:embed="rId1"/>
          <a:stretch/>
        </p:blipFill>
        <p:spPr>
          <a:xfrm>
            <a:off x="-1332000" y="-674640"/>
            <a:ext cx="11331720" cy="8229600"/>
          </a:xfrm>
          <a:prstGeom prst="rect">
            <a:avLst/>
          </a:prstGeom>
          <a:ln w="0">
            <a:noFill/>
          </a:ln>
        </p:spPr>
      </p:pic>
      <p:sp>
        <p:nvSpPr>
          <p:cNvPr id="1589" name="WordArt 7"/>
          <p:cNvSpPr txBox="1"/>
          <p:nvPr/>
        </p:nvSpPr>
        <p:spPr>
          <a:xfrm>
            <a:off x="900000" y="0"/>
            <a:ext cx="669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Компьютерная графика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0" name="WordArt 8"/>
          <p:cNvSpPr txBox="1"/>
          <p:nvPr/>
        </p:nvSpPr>
        <p:spPr>
          <a:xfrm>
            <a:off x="0" y="184464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Unicode MS"/>
              </a:rPr>
              <a:t>Компьютерная графика-</a:t>
            </a:r>
            <a:endParaRPr b="1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91" name="Text Box 9"/>
          <p:cNvSpPr/>
          <p:nvPr/>
        </p:nvSpPr>
        <p:spPr>
          <a:xfrm>
            <a:off x="3851280" y="1700280"/>
            <a:ext cx="554508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66ff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3366ff"/>
                </a:solidFill>
                <a:latin typeface="Comic Sans MS"/>
              </a:rPr>
              <a:t>Раздел информации, занимающийся проблемами «рисования» на ЭВ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WordArt 10"/>
          <p:cNvSpPr txBox="1"/>
          <p:nvPr/>
        </p:nvSpPr>
        <p:spPr>
          <a:xfrm>
            <a:off x="179280" y="2924280"/>
            <a:ext cx="273708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Мультимедия-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93" name="Text Box 11"/>
          <p:cNvSpPr/>
          <p:nvPr/>
        </p:nvSpPr>
        <p:spPr>
          <a:xfrm>
            <a:off x="2771640" y="2924280"/>
            <a:ext cx="5977080" cy="1434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66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ff0066"/>
                </a:solidFill>
                <a:latin typeface="Comic Sans MS"/>
              </a:rPr>
              <a:t>Это объединенный вывод на компьютере текста, статических изображений, видео, анимации и зву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12"/>
          <p:cNvSpPr/>
          <p:nvPr/>
        </p:nvSpPr>
        <p:spPr>
          <a:xfrm>
            <a:off x="0" y="4221000"/>
            <a:ext cx="9650520" cy="244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99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cc0099"/>
                </a:solidFill>
                <a:latin typeface="Comic Sans MS"/>
              </a:rPr>
              <a:t>Устройства вывода графических изображений на компьютере: графопостроитель,  графический дисплей, принтер. Для получения графических изображений требуется специальное программное обеспечение- графические пакеты. Основные области применения компьютерной графики: научная графика, деловая графика, иллюстративная графика, художественная и рекламная граф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Picture 13" descr="butterfly23"/>
          <p:cNvPicPr/>
          <p:nvPr/>
        </p:nvPicPr>
        <p:blipFill>
          <a:blip r:embed="rId4"/>
          <a:stretch/>
        </p:blipFill>
        <p:spPr>
          <a:xfrm>
            <a:off x="8062920" y="333360"/>
            <a:ext cx="1081080" cy="647640"/>
          </a:xfrm>
          <a:prstGeom prst="rect">
            <a:avLst/>
          </a:prstGeom>
          <a:ln w="0">
            <a:noFill/>
          </a:ln>
        </p:spPr>
      </p:pic>
      <p:sp>
        <p:nvSpPr>
          <p:cNvPr id="1596" name="Text Box 16"/>
          <p:cNvSpPr/>
          <p:nvPr/>
        </p:nvSpPr>
        <p:spPr>
          <a:xfrm>
            <a:off x="533520" y="15238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1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9" name="Picture 4" descr="COF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0" name="WordArt 8"/>
          <p:cNvSpPr txBox="1"/>
          <p:nvPr/>
        </p:nvSpPr>
        <p:spPr>
          <a:xfrm>
            <a:off x="971640" y="404640"/>
            <a:ext cx="727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редства компьютерной графики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01" name="Text Box 9"/>
          <p:cNvSpPr/>
          <p:nvPr/>
        </p:nvSpPr>
        <p:spPr>
          <a:xfrm>
            <a:off x="971640" y="1127160"/>
            <a:ext cx="7777080" cy="5165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истема вывода изображения на экран включает в себя дисплей и видеоадаптер. Изображение на дисплее получается из совокупности множества светящихся точек - видеопикс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иксели на экране образуют сетку из горизонтальных строк и вертикальных столбцов, которая носит название «растр». Размер графической сетки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 * N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определяет разрешающую способность экрана, от которой зависит качество изображения. Луч электронной пушки периодически сканирует строки растра с высокой частотой, воспроизводя изображение. На черно-белых дисплеях пиксель может иметь только два цвета. Электронная пушка испускает один луч.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идеоадаптер состоит из видеопамяти и дисплейного процессора. В видеопамяти хранится двоичный код изображения, выводимого на экран. Для ввода изображения в компьютер используются сканеры, цифровые фотоаппараты, цифровые видеокамер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Picture 10" descr="star15"/>
          <p:cNvPicPr/>
          <p:nvPr/>
        </p:nvPicPr>
        <p:blipFill>
          <a:blip r:embed="rId2"/>
          <a:stretch/>
        </p:blipFill>
        <p:spPr>
          <a:xfrm>
            <a:off x="8101080" y="1125360"/>
            <a:ext cx="711000" cy="581040"/>
          </a:xfrm>
          <a:prstGeom prst="rect">
            <a:avLst/>
          </a:prstGeom>
          <a:ln w="0">
            <a:noFill/>
          </a:ln>
        </p:spPr>
      </p:pic>
      <p:pic>
        <p:nvPicPr>
          <p:cNvPr id="1603" name="Picture 13" descr="star15"/>
          <p:cNvPicPr/>
          <p:nvPr/>
        </p:nvPicPr>
        <p:blipFill>
          <a:blip r:embed="rId3"/>
          <a:stretch/>
        </p:blipFill>
        <p:spPr>
          <a:xfrm>
            <a:off x="179280" y="6021360"/>
            <a:ext cx="1008000" cy="654120"/>
          </a:xfrm>
          <a:prstGeom prst="rect">
            <a:avLst/>
          </a:prstGeom>
          <a:ln w="0">
            <a:noFill/>
          </a:ln>
        </p:spPr>
      </p:pic>
      <p:pic>
        <p:nvPicPr>
          <p:cNvPr id="1604" name="Picture 16" descr="star15"/>
          <p:cNvPicPr/>
          <p:nvPr/>
        </p:nvPicPr>
        <p:blipFill>
          <a:blip r:embed="rId4"/>
          <a:stretch/>
        </p:blipFill>
        <p:spPr>
          <a:xfrm>
            <a:off x="7885080" y="6021360"/>
            <a:ext cx="1258920" cy="836640"/>
          </a:xfrm>
          <a:prstGeom prst="rect">
            <a:avLst/>
          </a:prstGeom>
          <a:ln w="0">
            <a:noFill/>
          </a:ln>
        </p:spPr>
      </p:pic>
      <p:pic>
        <p:nvPicPr>
          <p:cNvPr id="1605" name="Picture 19" descr="star15"/>
          <p:cNvPicPr/>
          <p:nvPr/>
        </p:nvPicPr>
        <p:blipFill>
          <a:blip r:embed="rId5"/>
          <a:stretch/>
        </p:blipFill>
        <p:spPr>
          <a:xfrm>
            <a:off x="0" y="1700280"/>
            <a:ext cx="971640" cy="64908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22" descr="star15"/>
          <p:cNvPicPr/>
          <p:nvPr/>
        </p:nvPicPr>
        <p:blipFill>
          <a:blip r:embed="rId6"/>
          <a:stretch/>
        </p:blipFill>
        <p:spPr>
          <a:xfrm>
            <a:off x="4284720" y="1989000"/>
            <a:ext cx="1079280" cy="509760"/>
          </a:xfrm>
          <a:prstGeom prst="rect">
            <a:avLst/>
          </a:prstGeom>
          <a:ln w="0">
            <a:noFill/>
          </a:ln>
        </p:spPr>
      </p:pic>
      <p:sp>
        <p:nvSpPr>
          <p:cNvPr id="1607" name="Text Box 25"/>
          <p:cNvSpPr/>
          <p:nvPr/>
        </p:nvSpPr>
        <p:spPr>
          <a:xfrm>
            <a:off x="4267080" y="64771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1" dur="2000"/>
                                        <p:tgtEl>
                                          <p:spTgt spid="1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4" dur="2000"/>
                                        <p:tgtEl>
                                          <p:spTgt spid="1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0" name="Picture 7" descr="pic1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1" name="WordArt 10"/>
          <p:cNvSpPr txBox="1"/>
          <p:nvPr/>
        </p:nvSpPr>
        <p:spPr>
          <a:xfrm>
            <a:off x="1547640" y="260280"/>
            <a:ext cx="5256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блицы и модели.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12" name="WordArt 11"/>
          <p:cNvSpPr txBox="1"/>
          <p:nvPr/>
        </p:nvSpPr>
        <p:spPr>
          <a:xfrm>
            <a:off x="755640" y="1916280"/>
            <a:ext cx="1714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ь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3" name="Text Box 12"/>
          <p:cNvSpPr/>
          <p:nvPr/>
        </p:nvSpPr>
        <p:spPr>
          <a:xfrm>
            <a:off x="3059280" y="170028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то некоторое упрощенное подобие реального объ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Text Box 13"/>
          <p:cNvSpPr/>
          <p:nvPr/>
        </p:nvSpPr>
        <p:spPr>
          <a:xfrm>
            <a:off x="826920" y="2924280"/>
            <a:ext cx="7993080" cy="5045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Monotype Corsiva"/>
              </a:rPr>
              <a:t>  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Monotype Corsiva"/>
              </a:rPr>
              <a:t>Модели бывают материальными и информационными. Информационная модель представляет собой описание моделированного объекта. Прежде чем строить информационную модель, производится системный анализ объекта моделирования. Задача системного анализа- выделить существенные части, свойства, связи моделируемой системы, определить её структуру. Наглядным способом представления информационных моделей являются графические изображения: карты, чертежи, схемы,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5" name="Picture 14" descr="BULLET4"/>
          <p:cNvPicPr/>
          <p:nvPr/>
        </p:nvPicPr>
        <p:blipFill>
          <a:blip r:embed="rId4"/>
          <a:stretch/>
        </p:blipFill>
        <p:spPr>
          <a:xfrm>
            <a:off x="7920000" y="0"/>
            <a:ext cx="1224000" cy="100800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17" descr="BULLET4"/>
          <p:cNvPicPr/>
          <p:nvPr/>
        </p:nvPicPr>
        <p:blipFill>
          <a:blip r:embed="rId5"/>
          <a:stretch/>
        </p:blipFill>
        <p:spPr>
          <a:xfrm>
            <a:off x="6948360" y="1268280"/>
            <a:ext cx="1295640" cy="720720"/>
          </a:xfrm>
          <a:prstGeom prst="rect">
            <a:avLst/>
          </a:prstGeom>
          <a:ln w="0">
            <a:noFill/>
          </a:ln>
        </p:spPr>
      </p:pic>
      <p:sp>
        <p:nvSpPr>
          <p:cNvPr id="1617" name="Text Box 20"/>
          <p:cNvSpPr/>
          <p:nvPr/>
        </p:nvSpPr>
        <p:spPr>
          <a:xfrm>
            <a:off x="5334120" y="624852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8" dur="2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0" name="Picture 4" descr="BIG Dro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1" name="WordArt 7"/>
          <p:cNvSpPr txBox="1"/>
          <p:nvPr/>
        </p:nvSpPr>
        <p:spPr>
          <a:xfrm>
            <a:off x="1692360" y="189000"/>
            <a:ext cx="55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афический редактор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22" name="WordArt 8"/>
          <p:cNvSpPr txBox="1"/>
          <p:nvPr/>
        </p:nvSpPr>
        <p:spPr>
          <a:xfrm>
            <a:off x="684360" y="1844640"/>
            <a:ext cx="54003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рафический редактор-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3" name="Text Box 9"/>
          <p:cNvSpPr/>
          <p:nvPr/>
        </p:nvSpPr>
        <p:spPr>
          <a:xfrm>
            <a:off x="1979640" y="2637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прикладная программа для получения рисованных изобра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10"/>
          <p:cNvSpPr/>
          <p:nvPr/>
        </p:nvSpPr>
        <p:spPr>
          <a:xfrm>
            <a:off x="539640" y="3716280"/>
            <a:ext cx="83534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Рисунок, создаваемый средствами графического редактора, формируется на экране, а затем может быть сохранен в фай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Среда любого ГР содержит рабочее поле, меню инструментов, цветов, меню команд для работы с файлами, печати рисунка и других операций. ГР позволяет включать в рисунок тексты, используя буквы разных размеров и шриф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Picture 11" descr="V25ANI"/>
          <p:cNvPicPr/>
          <p:nvPr/>
        </p:nvPicPr>
        <p:blipFill>
          <a:blip r:embed="rId2"/>
          <a:stretch/>
        </p:blipFill>
        <p:spPr>
          <a:xfrm>
            <a:off x="7596360" y="836640"/>
            <a:ext cx="1223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14" descr="V25ANI"/>
          <p:cNvPicPr/>
          <p:nvPr/>
        </p:nvPicPr>
        <p:blipFill>
          <a:blip r:embed="rId3"/>
          <a:stretch/>
        </p:blipFill>
        <p:spPr>
          <a:xfrm>
            <a:off x="179280" y="2492280"/>
            <a:ext cx="1368360" cy="1152720"/>
          </a:xfrm>
          <a:prstGeom prst="rect">
            <a:avLst/>
          </a:prstGeom>
          <a:ln w="0">
            <a:noFill/>
          </a:ln>
        </p:spPr>
      </p:pic>
      <p:sp>
        <p:nvSpPr>
          <p:cNvPr id="1627" name="Text Box 17"/>
          <p:cNvSpPr/>
          <p:nvPr/>
        </p:nvSpPr>
        <p:spPr>
          <a:xfrm>
            <a:off x="4572000" y="61722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2" dur="20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0" name="Picture 4" descr="whitemagic"/>
          <p:cNvPicPr/>
          <p:nvPr/>
        </p:nvPicPr>
        <p:blipFill>
          <a:blip r:embed="rId1"/>
          <a:stretch/>
        </p:blipFill>
        <p:spPr>
          <a:xfrm>
            <a:off x="-396720" y="-674640"/>
            <a:ext cx="10972800" cy="8229600"/>
          </a:xfrm>
          <a:prstGeom prst="rect">
            <a:avLst/>
          </a:prstGeom>
          <a:ln w="0">
            <a:noFill/>
          </a:ln>
        </p:spPr>
      </p:pic>
      <p:sp>
        <p:nvSpPr>
          <p:cNvPr id="1631" name="WordArt 8"/>
          <p:cNvSpPr txBox="1"/>
          <p:nvPr/>
        </p:nvSpPr>
        <p:spPr>
          <a:xfrm>
            <a:off x="1187280" y="0"/>
            <a:ext cx="7410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стройство компьютерной сет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2" name="WordArt 9"/>
          <p:cNvSpPr txBox="1"/>
          <p:nvPr/>
        </p:nvSpPr>
        <p:spPr>
          <a:xfrm>
            <a:off x="324000" y="1413000"/>
            <a:ext cx="49528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Unicode MS"/>
              </a:rPr>
              <a:t>Компьютерная сеть-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633" name="Text Box 10"/>
          <p:cNvSpPr/>
          <p:nvPr/>
        </p:nvSpPr>
        <p:spPr>
          <a:xfrm>
            <a:off x="5508720" y="112536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Система компьютеров, связанных каналами передачи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Text Box 11"/>
          <p:cNvSpPr/>
          <p:nvPr/>
        </p:nvSpPr>
        <p:spPr>
          <a:xfrm>
            <a:off x="468360" y="2492280"/>
            <a:ext cx="892800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Компьютерные сети бывают локальными и глобальными. В одноранговых локальных сетях все компьютеры равноправны. Локальная сеть с выделенным компьютером включает в себя сервер и множество рабочих станций. Сервер используется как хранилище общих информационных ресурсов, а так же содержит некоторые технические устройства общего доступа. Глобальная сеть- это система связанных между собой локальных сетей и компьютеров отдельных пользователей. Персональные компьютеры пользователей подсоединяются к узлам глобальной сети. Существуют сети региональные, отраслевые. В настоящее время большинство из них объединено в мировую систему –</a:t>
            </a:r>
            <a:r>
              <a:rPr b="1" lang="en-US" sz="2000" spc="-1" strike="noStrike">
                <a:solidFill>
                  <a:srgbClr val="ff66cc"/>
                </a:solidFill>
                <a:latin typeface="Comic Sans MS"/>
              </a:rPr>
              <a:t>Internet</a:t>
            </a:r>
            <a:r>
              <a:rPr b="1" lang="ru-RU" sz="2000" spc="-1" strike="noStrike">
                <a:solidFill>
                  <a:srgbClr val="ff66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Text Box 16"/>
          <p:cNvSpPr/>
          <p:nvPr/>
        </p:nvSpPr>
        <p:spPr>
          <a:xfrm>
            <a:off x="5334120" y="5867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9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WordArt 7"/>
          <p:cNvSpPr txBox="1"/>
          <p:nvPr/>
        </p:nvSpPr>
        <p:spPr>
          <a:xfrm>
            <a:off x="1547640" y="0"/>
            <a:ext cx="554544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Электронная почта.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638" name="WordArt 8"/>
          <p:cNvSpPr txBox="1"/>
          <p:nvPr/>
        </p:nvSpPr>
        <p:spPr>
          <a:xfrm>
            <a:off x="611280" y="1341360"/>
            <a:ext cx="3771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ая почта-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9" name="Text Box 9"/>
          <p:cNvSpPr/>
          <p:nvPr/>
        </p:nvSpPr>
        <p:spPr>
          <a:xfrm>
            <a:off x="4462560" y="1600200"/>
            <a:ext cx="46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обмен письмами в компьютерных сет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WordArt 10"/>
          <p:cNvSpPr txBox="1"/>
          <p:nvPr/>
        </p:nvSpPr>
        <p:spPr>
          <a:xfrm>
            <a:off x="0" y="2637000"/>
            <a:ext cx="3591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чтовый ящик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1" name="Text Box 11"/>
          <p:cNvSpPr/>
          <p:nvPr/>
        </p:nvSpPr>
        <p:spPr>
          <a:xfrm>
            <a:off x="3581280" y="297180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раздел внешней памяти почтового сервера, отделенный для абон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WordArt 12"/>
          <p:cNvSpPr txBox="1"/>
          <p:nvPr/>
        </p:nvSpPr>
        <p:spPr>
          <a:xfrm>
            <a:off x="395280" y="3860640"/>
            <a:ext cx="4952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лектронное письмо-</a:t>
            </a:r>
            <a:endParaRPr b="1" lang="en-US" sz="1800" spc="1" strike="noStrike">
              <a:ln w="12600">
                <a:solidFill>
                  <a:srgbClr val="ff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3" name="Text Box 13"/>
          <p:cNvSpPr/>
          <p:nvPr/>
        </p:nvSpPr>
        <p:spPr>
          <a:xfrm>
            <a:off x="3814920" y="4437000"/>
            <a:ext cx="53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текстовый файл, содержащий конверт с адресом получателя и текст пись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WordArt 14"/>
          <p:cNvSpPr txBox="1"/>
          <p:nvPr/>
        </p:nvSpPr>
        <p:spPr>
          <a:xfrm>
            <a:off x="324000" y="5734080"/>
            <a:ext cx="3895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леконференция-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5" name="Text Box 15"/>
          <p:cNvSpPr/>
          <p:nvPr/>
        </p:nvSpPr>
        <p:spPr>
          <a:xfrm>
            <a:off x="4211640" y="5516640"/>
            <a:ext cx="49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это система обмена информацией на определенную тему между абонентами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Picture 16" descr="lines18"/>
          <p:cNvPicPr/>
          <p:nvPr/>
        </p:nvPicPr>
        <p:blipFill>
          <a:blip r:embed="rId2"/>
          <a:stretch/>
        </p:blipFill>
        <p:spPr>
          <a:xfrm>
            <a:off x="5940360" y="6237360"/>
            <a:ext cx="3672000" cy="811080"/>
          </a:xfrm>
          <a:prstGeom prst="rect">
            <a:avLst/>
          </a:prstGeom>
          <a:ln w="0">
            <a:noFill/>
          </a:ln>
        </p:spPr>
      </p:pic>
      <p:sp>
        <p:nvSpPr>
          <p:cNvPr id="1647" name="Text Box 22"/>
          <p:cNvSpPr/>
          <p:nvPr/>
        </p:nvSpPr>
        <p:spPr>
          <a:xfrm>
            <a:off x="0" y="33526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cc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4" dur="500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Picture 4" descr="1 (4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9" name="WordArt 7"/>
          <p:cNvSpPr txBox="1"/>
          <p:nvPr/>
        </p:nvSpPr>
        <p:spPr>
          <a:xfrm>
            <a:off x="3419640" y="404640"/>
            <a:ext cx="1873080" cy="77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и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80" name="Text Box 8"/>
          <p:cNvSpPr/>
          <p:nvPr/>
        </p:nvSpPr>
        <p:spPr>
          <a:xfrm>
            <a:off x="826920" y="2133720"/>
            <a:ext cx="792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ff33cc"/>
                </a:solidFill>
                <a:latin typeface="Comic Sans MS"/>
              </a:rPr>
              <a:t>Более подробно изучить основы информатики, так как в ней выступают одновременно инструмент для работы и объект изучения и совершенствования – информ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WordArt 8"/>
          <p:cNvSpPr txBox="1"/>
          <p:nvPr/>
        </p:nvSpPr>
        <p:spPr>
          <a:xfrm>
            <a:off x="2340000" y="549360"/>
            <a:ext cx="437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Всемирная паутина"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0" name="Text Box 9"/>
          <p:cNvSpPr/>
          <p:nvPr/>
        </p:nvSpPr>
        <p:spPr>
          <a:xfrm>
            <a:off x="539640" y="2492280"/>
            <a:ext cx="8280360" cy="316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   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Гипермедиа- система гиперсвязей между мультимедиа-докумен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Киберпространство-это совокупность мировых систем телекоммуникаций и циркулирующей в них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а- отдельный документ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ервер- компьютер в сети Интернет, хранящий </a:t>
            </a: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web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 страницы и соответствующее программное обеспе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99"/>
                </a:solidFill>
                <a:uFillTx/>
                <a:latin typeface="Comic Sans MS"/>
              </a:rPr>
              <a:t>Internet-</a:t>
            </a:r>
            <a:r>
              <a:rPr b="1" lang="ru-RU" sz="2000" spc="-1" strike="noStrike" u="sng">
                <a:solidFill>
                  <a:srgbClr val="990099"/>
                </a:solidFill>
                <a:uFillTx/>
                <a:latin typeface="Comic Sans MS"/>
              </a:rPr>
              <a:t>всемирная глобальная компьютерная с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1" name="Picture 10" descr="flowers28"/>
          <p:cNvPicPr/>
          <p:nvPr/>
        </p:nvPicPr>
        <p:blipFill>
          <a:blip r:embed="rId2"/>
          <a:stretch/>
        </p:blipFill>
        <p:spPr>
          <a:xfrm>
            <a:off x="0" y="0"/>
            <a:ext cx="1187280" cy="1557360"/>
          </a:xfrm>
          <a:prstGeom prst="rect">
            <a:avLst/>
          </a:prstGeom>
          <a:ln w="0">
            <a:noFill/>
          </a:ln>
        </p:spPr>
      </p:pic>
      <p:pic>
        <p:nvPicPr>
          <p:cNvPr id="1652" name="Picture 13" descr="flowers28"/>
          <p:cNvPicPr/>
          <p:nvPr/>
        </p:nvPicPr>
        <p:blipFill>
          <a:blip r:embed="rId3"/>
          <a:stretch/>
        </p:blipFill>
        <p:spPr>
          <a:xfrm>
            <a:off x="7667640" y="5300640"/>
            <a:ext cx="1476360" cy="155736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6"/>
          <p:cNvSpPr/>
          <p:nvPr/>
        </p:nvSpPr>
        <p:spPr>
          <a:xfrm>
            <a:off x="4800600" y="5867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99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4" dur="2000"/>
                                        <p:tgtEl>
                                          <p:spTgt spid="1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7" dur="2000"/>
                                        <p:tgtEl>
                                          <p:spTgt spid="1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1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3" dur="2000"/>
                                        <p:tgtEl>
                                          <p:spTgt spid="1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6" dur="2000"/>
                                        <p:tgtEl>
                                          <p:spTgt spid="1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Picture 7" descr="daylight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sp>
        <p:nvSpPr>
          <p:cNvPr id="1657" name="WordArt 10"/>
          <p:cNvSpPr txBox="1"/>
          <p:nvPr/>
        </p:nvSpPr>
        <p:spPr>
          <a:xfrm>
            <a:off x="2700360" y="476280"/>
            <a:ext cx="367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ключение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8" name="Text Box 11"/>
          <p:cNvSpPr/>
          <p:nvPr/>
        </p:nvSpPr>
        <p:spPr>
          <a:xfrm>
            <a:off x="1116000" y="2276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ff00"/>
                </a:solidFill>
                <a:uFillTx/>
                <a:latin typeface="Comic Sans MS"/>
              </a:rPr>
              <a:t>  </a:t>
            </a:r>
            <a:r>
              <a:rPr b="1" lang="ru-RU" sz="2400" spc="-1" strike="noStrike" u="sng">
                <a:solidFill>
                  <a:srgbClr val="00ff00"/>
                </a:solidFill>
                <a:uFillTx/>
                <a:latin typeface="Comic Sans MS"/>
              </a:rPr>
              <a:t>Изучение информатики необходимо в наше время. Так как информатика это наука будущего. В жизни современного человека информация играет не меньшую роль, чем вещество и энерг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9" name="Picture 28" descr="bird4"/>
          <p:cNvPicPr/>
          <p:nvPr/>
        </p:nvPicPr>
        <p:blipFill>
          <a:blip r:embed="rId2"/>
          <a:stretch/>
        </p:blipFill>
        <p:spPr>
          <a:xfrm>
            <a:off x="8244000" y="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34" descr="bird4"/>
          <p:cNvPicPr/>
          <p:nvPr/>
        </p:nvPicPr>
        <p:blipFill>
          <a:blip r:embed="rId3"/>
          <a:stretch/>
        </p:blipFill>
        <p:spPr>
          <a:xfrm>
            <a:off x="7020000" y="83664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7" descr="bird4"/>
          <p:cNvPicPr/>
          <p:nvPr/>
        </p:nvPicPr>
        <p:blipFill>
          <a:blip r:embed="rId4"/>
          <a:stretch/>
        </p:blipFill>
        <p:spPr>
          <a:xfrm>
            <a:off x="5867280" y="141300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16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3" dur="2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В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Информация и группы зн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Язык-способ выражения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4" action="ppaction://hlinksldjump"/>
              </a:rPr>
              <a:t>Информационные процес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5" action="ppaction://hlinksldjump"/>
              </a:rPr>
              <a:t>Количество информ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6d1ec"/>
                </a:solidFill>
                <a:uFillTx/>
                <a:latin typeface="Arial"/>
                <a:hlinkClick r:id="rId6" action="ppaction://hlinksldjump"/>
              </a:rPr>
              <a:t>C</a:t>
            </a: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7" action="ppaction://hlinksldjump"/>
              </a:rPr>
              <a:t>истема счис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8" action="ppaction://hlinksldjump"/>
              </a:rPr>
              <a:t>Архитектура ЭВ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9" action="ppaction://hlinksldjump"/>
              </a:rPr>
              <a:t>Устройство П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0" action="ppaction://hlinksldjump"/>
              </a:rPr>
              <a:t>Текстовые файлы и редакто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1" action="ppaction://hlinksldjump"/>
              </a:rPr>
              <a:t>Тексты в компьютерной памя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2" action="ppaction://hlinksldjump"/>
              </a:rPr>
              <a:t>Компьютерная граф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3" action="ppaction://hlinksldjump"/>
              </a:rPr>
              <a:t>Устройство компьютерной сети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86d1ec"/>
                </a:solidFill>
                <a:uFillTx/>
                <a:latin typeface="Arial"/>
                <a:hlinkClick r:id="rId14" action="ppaction://hlinksldjump"/>
              </a:rPr>
              <a:t>Электронная поч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WordArt 4"/>
          <p:cNvSpPr txBox="1"/>
          <p:nvPr/>
        </p:nvSpPr>
        <p:spPr>
          <a:xfrm>
            <a:off x="2700360" y="260280"/>
            <a:ext cx="3024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План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  <p:pic>
        <p:nvPicPr>
          <p:cNvPr id="1484" name="Picture 8" descr="flowers15"/>
          <p:cNvPicPr/>
          <p:nvPr/>
        </p:nvPicPr>
        <p:blipFill>
          <a:blip r:embed="rId15"/>
          <a:stretch/>
        </p:blipFill>
        <p:spPr>
          <a:xfrm>
            <a:off x="6877080" y="0"/>
            <a:ext cx="1878120" cy="1557360"/>
          </a:xfrm>
          <a:prstGeom prst="rect">
            <a:avLst/>
          </a:prstGeom>
          <a:ln w="0">
            <a:noFill/>
          </a:ln>
        </p:spPr>
      </p:pic>
      <p:sp>
        <p:nvSpPr>
          <p:cNvPr id="14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7" name="Picture 4" descr="Luv Bubble - 1024 x 768"/>
          <p:cNvPicPr/>
          <p:nvPr/>
        </p:nvPicPr>
        <p:blipFill>
          <a:blip r:embed="rId1"/>
          <a:stretch/>
        </p:blipFill>
        <p:spPr>
          <a:xfrm>
            <a:off x="-252360" y="-2430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88" name="WordArt 7"/>
          <p:cNvSpPr txBox="1"/>
          <p:nvPr/>
        </p:nvSpPr>
        <p:spPr>
          <a:xfrm>
            <a:off x="468360" y="836640"/>
            <a:ext cx="345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 -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9" name="WordArt 8"/>
          <p:cNvSpPr txBox="1"/>
          <p:nvPr/>
        </p:nvSpPr>
        <p:spPr>
          <a:xfrm>
            <a:off x="0" y="3284640"/>
            <a:ext cx="4172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нформатика-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0" name="Text Box 14"/>
          <p:cNvSpPr/>
          <p:nvPr/>
        </p:nvSpPr>
        <p:spPr>
          <a:xfrm>
            <a:off x="4356000" y="907920"/>
            <a:ext cx="453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о наука, изучающая все аспекты получения, хранения, преобразования, передачи и использова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 Box 15"/>
          <p:cNvSpPr/>
          <p:nvPr/>
        </p:nvSpPr>
        <p:spPr>
          <a:xfrm>
            <a:off x="4643280" y="3500280"/>
            <a:ext cx="45007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множество дисциплин, объединенных общим предметом изучения -информаци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ибернет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граммиро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еория алгорит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WordArt 16"/>
          <p:cNvSpPr txBox="1"/>
          <p:nvPr/>
        </p:nvSpPr>
        <p:spPr>
          <a:xfrm>
            <a:off x="3203640" y="0"/>
            <a:ext cx="2665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веде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493" name="Picture 17" descr="dog4"/>
          <p:cNvPicPr/>
          <p:nvPr/>
        </p:nvPicPr>
        <p:blipFill>
          <a:blip r:embed="rId2"/>
          <a:stretch/>
        </p:blipFill>
        <p:spPr>
          <a:xfrm>
            <a:off x="395280" y="5013360"/>
            <a:ext cx="2881440" cy="1584360"/>
          </a:xfrm>
          <a:prstGeom prst="rect">
            <a:avLst/>
          </a:prstGeom>
          <a:ln w="0">
            <a:noFill/>
          </a:ln>
        </p:spPr>
      </p:pic>
      <p:sp>
        <p:nvSpPr>
          <p:cNvPr id="1494" name="Text Box 19"/>
          <p:cNvSpPr/>
          <p:nvPr/>
        </p:nvSpPr>
        <p:spPr>
          <a:xfrm>
            <a:off x="0" y="66736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0">
            <a:hlinkClick r:id="rId3" action="ppaction://hlinksldjump"/>
          </p:cNvPr>
          <p:cNvSpPr/>
          <p:nvPr/>
        </p:nvSpPr>
        <p:spPr>
          <a:xfrm>
            <a:off x="0" y="6400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9" name="Picture 4" descr="Bliss2"/>
          <p:cNvPicPr/>
          <p:nvPr/>
        </p:nvPicPr>
        <p:blipFill>
          <a:blip r:embed="rId1"/>
          <a:stretch/>
        </p:blipFill>
        <p:spPr>
          <a:xfrm>
            <a:off x="-324000" y="-458640"/>
            <a:ext cx="9753840" cy="7800840"/>
          </a:xfrm>
          <a:prstGeom prst="rect">
            <a:avLst/>
          </a:prstGeom>
          <a:ln w="0">
            <a:noFill/>
          </a:ln>
        </p:spPr>
      </p:pic>
      <p:sp>
        <p:nvSpPr>
          <p:cNvPr id="1500" name="Text Box 7"/>
          <p:cNvSpPr/>
          <p:nvPr/>
        </p:nvSpPr>
        <p:spPr>
          <a:xfrm>
            <a:off x="611280" y="189000"/>
            <a:ext cx="612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 Box 11"/>
          <p:cNvSpPr/>
          <p:nvPr/>
        </p:nvSpPr>
        <p:spPr>
          <a:xfrm>
            <a:off x="1332000" y="333360"/>
            <a:ext cx="49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WordArt 13"/>
          <p:cNvSpPr txBox="1"/>
          <p:nvPr/>
        </p:nvSpPr>
        <p:spPr>
          <a:xfrm>
            <a:off x="1187280" y="-243000"/>
            <a:ext cx="61246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нформация и группы знани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3" name="WordArt 15"/>
          <p:cNvSpPr txBox="1"/>
          <p:nvPr/>
        </p:nvSpPr>
        <p:spPr>
          <a:xfrm>
            <a:off x="179280" y="2565360"/>
            <a:ext cx="2981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формац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4" name="Text Box 16"/>
          <p:cNvSpPr/>
          <p:nvPr/>
        </p:nvSpPr>
        <p:spPr>
          <a:xfrm>
            <a:off x="3924360" y="2205000"/>
            <a:ext cx="338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ля человека - это знания, которые он получает из различных источни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18"/>
          <p:cNvSpPr/>
          <p:nvPr/>
        </p:nvSpPr>
        <p:spPr>
          <a:xfrm>
            <a:off x="0" y="4005360"/>
            <a:ext cx="9144000" cy="270468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Все знания делят на 3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1 группа начинается со слов «я знаю, что…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декларативными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т слова «декларация»- знания, сообщ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2 группа начинается со слов «я знаю, как..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и знания называют </a:t>
            </a:r>
            <a:r>
              <a:rPr b="1" lang="ru-RU" sz="2000" spc="-1" strike="noStrike">
                <a:solidFill>
                  <a:srgbClr val="ff0066"/>
                </a:solidFill>
                <a:latin typeface="Comic Sans MS"/>
              </a:rPr>
              <a:t>процедурными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пределяют достижение какой-либо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Comic Sans MS"/>
              </a:rPr>
              <a:t>3 группа называется знания неинформатив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и сообщения не пополняют знания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6" name="Picture 19" descr="book17"/>
          <p:cNvPicPr/>
          <p:nvPr/>
        </p:nvPicPr>
        <p:blipFill>
          <a:blip r:embed="rId2"/>
          <a:stretch/>
        </p:blipFill>
        <p:spPr>
          <a:xfrm>
            <a:off x="7020000" y="2924280"/>
            <a:ext cx="2124000" cy="1195200"/>
          </a:xfrm>
          <a:prstGeom prst="rect">
            <a:avLst/>
          </a:prstGeom>
          <a:ln w="0">
            <a:noFill/>
          </a:ln>
        </p:spPr>
      </p:pic>
      <p:sp>
        <p:nvSpPr>
          <p:cNvPr id="1507" name="Text Box 23"/>
          <p:cNvSpPr/>
          <p:nvPr/>
        </p:nvSpPr>
        <p:spPr>
          <a:xfrm>
            <a:off x="0" y="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1" name="Picture 4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2" name="WordArt 9"/>
          <p:cNvSpPr txBox="1"/>
          <p:nvPr/>
        </p:nvSpPr>
        <p:spPr>
          <a:xfrm>
            <a:off x="0" y="260280"/>
            <a:ext cx="9144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 - как способ выражения информации.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3" name="WordArt 10"/>
          <p:cNvSpPr txBox="1"/>
          <p:nvPr/>
        </p:nvSpPr>
        <p:spPr>
          <a:xfrm>
            <a:off x="468360" y="1916280"/>
            <a:ext cx="12668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Unicode MS"/>
              </a:rPr>
              <a:t>Язык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514" name="Text Box 11"/>
          <p:cNvSpPr/>
          <p:nvPr/>
        </p:nvSpPr>
        <p:spPr>
          <a:xfrm>
            <a:off x="2050920" y="1844640"/>
            <a:ext cx="51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знаковый способ представления информации. Общение на языках- это процесс передачи информации в знаков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WordArt 12"/>
          <p:cNvSpPr txBox="1"/>
          <p:nvPr/>
        </p:nvSpPr>
        <p:spPr>
          <a:xfrm>
            <a:off x="179280" y="3860640"/>
            <a:ext cx="329580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Языки бывают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16" name="Text Box 13"/>
          <p:cNvSpPr/>
          <p:nvPr/>
        </p:nvSpPr>
        <p:spPr>
          <a:xfrm>
            <a:off x="3995640" y="4149720"/>
            <a:ext cx="5148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00"/>
                </a:solidFill>
                <a:latin typeface="Comic Sans MS"/>
              </a:rPr>
              <a:t>Естественными и формальны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WordArt 14"/>
          <p:cNvSpPr txBox="1"/>
          <p:nvPr/>
        </p:nvSpPr>
        <p:spPr>
          <a:xfrm>
            <a:off x="250920" y="4941720"/>
            <a:ext cx="5410080" cy="8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бразная информац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8" name="Text Box 15"/>
          <p:cNvSpPr/>
          <p:nvPr/>
        </p:nvSpPr>
        <p:spPr>
          <a:xfrm>
            <a:off x="684360" y="5950080"/>
            <a:ext cx="84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Это сохранение в памяти ощущения человека от контакта с источн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Text Box 16"/>
          <p:cNvSpPr/>
          <p:nvPr/>
        </p:nvSpPr>
        <p:spPr>
          <a:xfrm>
            <a:off x="6172200" y="6553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WordArt 7"/>
          <p:cNvSpPr txBox="1"/>
          <p:nvPr/>
        </p:nvSpPr>
        <p:spPr>
          <a:xfrm>
            <a:off x="1619280" y="476280"/>
            <a:ext cx="633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Информационные процессы.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22" name="Text Box 9"/>
          <p:cNvSpPr/>
          <p:nvPr/>
        </p:nvSpPr>
        <p:spPr>
          <a:xfrm>
            <a:off x="539640" y="2019240"/>
            <a:ext cx="8280360" cy="5229720"/>
          </a:xfrm>
          <a:prstGeom prst="rect">
            <a:avLst/>
          </a:prstGeom>
          <a:solidFill>
            <a:srgbClr val="f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елят на 3 группы: Процесс хранения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процесс передачи информации, процесс обработки </a:t>
            </a:r>
            <a:r>
              <a:rPr b="1" lang="ru-RU" sz="2400" spc="-1" strike="noStrike">
                <a:solidFill>
                  <a:srgbClr val="bc6626"/>
                </a:solidFill>
                <a:latin typeface="Comic Sans MS"/>
              </a:rPr>
              <a:t>информаци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ловек хранит информацию в собственной памяти и на внешних носителях. Процесс передачи информации осуществляется от источника к приемнику по информационным каналам связи. Процесс обработки информации связан с получением новой или изменением формы или структуры данной информации; осуществлением поиска информации на внешних носител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3" name="Picture 10" descr="star60"/>
          <p:cNvPicPr/>
          <p:nvPr/>
        </p:nvPicPr>
        <p:blipFill>
          <a:blip r:embed="rId1"/>
          <a:stretch/>
        </p:blipFill>
        <p:spPr>
          <a:xfrm>
            <a:off x="7951680" y="189000"/>
            <a:ext cx="1192320" cy="100800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16" descr="star60"/>
          <p:cNvPicPr/>
          <p:nvPr/>
        </p:nvPicPr>
        <p:blipFill>
          <a:blip r:embed="rId2"/>
          <a:stretch/>
        </p:blipFill>
        <p:spPr>
          <a:xfrm>
            <a:off x="7740720" y="2637000"/>
            <a:ext cx="1192320" cy="963360"/>
          </a:xfrm>
          <a:prstGeom prst="rect">
            <a:avLst/>
          </a:prstGeom>
          <a:ln w="0">
            <a:noFill/>
          </a:ln>
        </p:spPr>
      </p:pic>
      <p:sp>
        <p:nvSpPr>
          <p:cNvPr id="1525" name="Text Box 19"/>
          <p:cNvSpPr/>
          <p:nvPr/>
        </p:nvSpPr>
        <p:spPr>
          <a:xfrm>
            <a:off x="6019920" y="16002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9" name="Picture 4" descr="UT2003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30" name="WordArt 7"/>
          <p:cNvSpPr txBox="1"/>
          <p:nvPr/>
        </p:nvSpPr>
        <p:spPr>
          <a:xfrm>
            <a:off x="826920" y="260280"/>
            <a:ext cx="763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Lucida Sans"/>
              </a:rPr>
              <a:t>Количество информации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Lucida Sans"/>
              <a:ea typeface="Lucida Sans"/>
            </a:endParaRPr>
          </a:p>
        </p:txBody>
      </p:sp>
      <p:sp>
        <p:nvSpPr>
          <p:cNvPr id="1531" name="WordArt 8"/>
          <p:cNvSpPr txBox="1"/>
          <p:nvPr/>
        </p:nvSpPr>
        <p:spPr>
          <a:xfrm>
            <a:off x="755640" y="1628640"/>
            <a:ext cx="1114560" cy="15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ит-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2" name="Text Box 9"/>
          <p:cNvSpPr/>
          <p:nvPr/>
        </p:nvSpPr>
        <p:spPr>
          <a:xfrm>
            <a:off x="2268360" y="1773360"/>
            <a:ext cx="68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двоичного алфавита принятый за единицу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WordArt 10"/>
          <p:cNvSpPr txBox="1"/>
          <p:nvPr/>
        </p:nvSpPr>
        <p:spPr>
          <a:xfrm>
            <a:off x="0" y="3573360"/>
            <a:ext cx="2363760" cy="125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Алфавит-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1534" name="Text Box 11"/>
          <p:cNvSpPr/>
          <p:nvPr/>
        </p:nvSpPr>
        <p:spPr>
          <a:xfrm>
            <a:off x="3059280" y="3500280"/>
            <a:ext cx="60847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Это вся совокупность символов, используемых в некотором языке для представления информ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Мощность алфавита- это число символов в н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WordArt 12"/>
          <p:cNvSpPr txBox="1"/>
          <p:nvPr/>
        </p:nvSpPr>
        <p:spPr>
          <a:xfrm>
            <a:off x="826920" y="5229360"/>
            <a:ext cx="1219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Байт-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536" name="Text Box 13"/>
          <p:cNvSpPr/>
          <p:nvPr/>
        </p:nvSpPr>
        <p:spPr>
          <a:xfrm>
            <a:off x="2916360" y="5546880"/>
            <a:ext cx="48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нформационный вес символа из алфавита мощностью 256 символов.                                          1 байт=8 б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Picture 14" descr="butterfly46"/>
          <p:cNvPicPr/>
          <p:nvPr/>
        </p:nvPicPr>
        <p:blipFill>
          <a:blip r:embed="rId2"/>
          <a:stretch/>
        </p:blipFill>
        <p:spPr>
          <a:xfrm>
            <a:off x="7667640" y="5300640"/>
            <a:ext cx="1768320" cy="1851120"/>
          </a:xfrm>
          <a:prstGeom prst="rect">
            <a:avLst/>
          </a:prstGeom>
          <a:ln w="0">
            <a:noFill/>
          </a:ln>
        </p:spPr>
      </p:pic>
      <p:sp>
        <p:nvSpPr>
          <p:cNvPr id="1538" name="Text Box 17"/>
          <p:cNvSpPr/>
          <p:nvPr/>
        </p:nvSpPr>
        <p:spPr>
          <a:xfrm>
            <a:off x="5105520" y="64771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ернуться к пл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WordArt 7"/>
          <p:cNvSpPr txBox="1"/>
          <p:nvPr/>
        </p:nvSpPr>
        <p:spPr>
          <a:xfrm>
            <a:off x="1042920" y="260280"/>
            <a:ext cx="7274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Cистема счисления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1" name="WordArt 8"/>
          <p:cNvSpPr txBox="1"/>
          <p:nvPr/>
        </p:nvSpPr>
        <p:spPr>
          <a:xfrm>
            <a:off x="250920" y="1916280"/>
            <a:ext cx="466704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стема счисления-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2" name="Text Box 9"/>
          <p:cNvSpPr/>
          <p:nvPr/>
        </p:nvSpPr>
        <p:spPr>
          <a:xfrm>
            <a:off x="324000" y="3141720"/>
            <a:ext cx="8496000" cy="703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Это способ изображения чисел  и соответствующие ему правила действия над числами</a:t>
            </a:r>
            <a:r>
              <a:rPr b="1" lang="ru-RU" sz="2000" spc="-1" strike="noStrike">
                <a:solidFill>
                  <a:srgbClr val="f8e8d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10"/>
          <p:cNvSpPr/>
          <p:nvPr/>
        </p:nvSpPr>
        <p:spPr>
          <a:xfrm>
            <a:off x="468360" y="4149720"/>
            <a:ext cx="835164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cc"/>
                </a:solidFill>
                <a:latin typeface="Comic Sans MS"/>
              </a:rPr>
              <a:t>Системы счисления бывают позиционными и непозиционными. Примером непозиционной системы является римская система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11"/>
          <p:cNvSpPr/>
          <p:nvPr/>
        </p:nvSpPr>
        <p:spPr>
          <a:xfrm>
            <a:off x="468360" y="5661000"/>
            <a:ext cx="820728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bc6626"/>
                </a:solidFill>
                <a:latin typeface="Comic Sans MS"/>
              </a:rPr>
              <a:t>Наименьшее возможное основание позиционной системы счисления – 2. Такая система называется двоичной</a:t>
            </a:r>
            <a:r>
              <a:rPr b="1" lang="ru-RU" sz="2000" spc="-1" strike="noStrike">
                <a:solidFill>
                  <a:srgbClr val="00ff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5" name="Picture 12" descr="book8"/>
          <p:cNvPicPr/>
          <p:nvPr/>
        </p:nvPicPr>
        <p:blipFill>
          <a:blip r:embed="rId3"/>
          <a:stretch/>
        </p:blipFill>
        <p:spPr>
          <a:xfrm>
            <a:off x="6948360" y="1916280"/>
            <a:ext cx="2195640" cy="1008000"/>
          </a:xfrm>
          <a:prstGeom prst="rect">
            <a:avLst/>
          </a:prstGeom>
          <a:ln w="0">
            <a:noFill/>
          </a:ln>
        </p:spPr>
      </p:pic>
      <p:sp>
        <p:nvSpPr>
          <p:cNvPr id="1546" name="Text Box 15"/>
          <p:cNvSpPr/>
          <p:nvPr/>
        </p:nvSpPr>
        <p:spPr>
          <a:xfrm>
            <a:off x="5181480" y="647712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ернуться к пл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7:12:56Z</dcterms:created>
  <dc:creator>!</dc:creator>
  <dc:description/>
  <dc:language>en-US</dc:language>
  <cp:lastModifiedBy>LEGION</cp:lastModifiedBy>
  <dcterms:modified xsi:type="dcterms:W3CDTF">2015-04-01T07:36:15Z</dcterms:modified>
  <cp:revision>34</cp:revision>
  <dc:subject/>
  <dc:title>Слайд 1</dc:title>
</cp:coreProperties>
</file>