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F6C9-89D5-4AD2-95D7-93530EA5D3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. Компьютер. Информа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ервичное понятие об информации, информатике и компьют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учебником; дать представление о предмете из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AF2B-DF9C-49D3-B2D2-B73D5172FC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я книгу, мы тоже получаем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4359-F23C-47CA-B7B2-18347E2EDC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я такая Зовется просто —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звук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85A-A6BA-4000-9B2F-404FB35626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уя с друзьями, можно узнать много нов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A831-C35D-4F93-8F24-6F79B00A47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Информац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едения и данные об окружающем нас ми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6832-6E26-4B56-B888-674F362E22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D2B-2B47-4116-A50B-05AB6ABE8C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ус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вкусе пищи узнаем, Когда во рту ее жуем. А информация какая, Ты догадался?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кусо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353-1A4B-482B-98AA-5976237D87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и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B897-6537-48B9-903D-B1DF45ECF2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7DD-61BC-4B7D-8222-27605C586B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ти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C9E9-41C5-4278-9431-E0339501B6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нятельная информ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цветут в лесу цветы, То запах носом чуешь ты. И аромат акации Опять же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4C1A-84B0-42A8-8FE8-A6DDA48ACE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техник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B096-F656-4375-8371-147C57DA92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рганы чувств челове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№ 2: какими органами чувств воспринимается информац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689E-7550-4E83-8598-725E4C9EED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53C5-F3FB-4555-95AD-C1976EABE9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компью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197D-0A55-423B-86DE-B3BF3EC4D5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е обходятся без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C7A-0161-42F6-8EC7-5784558E9F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, № 5 (учебни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( Р.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42B1-7997-4FB1-8AFE-F62120D88D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загадки отгад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еселее отвеч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ней ты слышал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несет учитель в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звучит по 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радио включа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музыка игра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нформацию ка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лучаем?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льтфильм по телевидению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зьями вместе ви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т мультиплик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маем пробу с разных блю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ни нам разный вкус даю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Во время дегуст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Какая информация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осим руки мы к костр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рнем, чувствуя жа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ая реа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этой информ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2D9-8F8E-4AC8-93C6-E37B7E8951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§ 1.1. с.7-10, § 2.2, РТ: №1, № 2 – с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99C7-D243-4C82-9CF9-C9CF7E6708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03DC-BCDC-4421-A17C-4381B0784C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8FB6-FA6E-46CA-B474-6AEBDA99F1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CFE-2E76-47CE-9660-B4C863AC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689-D5A6-405C-9555-3BD1B40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BB7-18AE-4962-8992-E67A0217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2A28-161E-4392-9A3F-E4937916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087B-BD1B-411F-A8DE-9F63113E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AECC-A500-469C-9505-55ADF88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EE93-76D4-42F1-91E5-8C23226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19DA-1251-4002-A89B-79E768AB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BB52-E0EE-41D7-8C53-25176D0C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FF26-5C08-4B4B-B4E8-F04E3DDA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B371-B275-4015-9BD5-5C64E797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93A-5ABD-4917-8AFA-11789E38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BEBC-3DB9-4C02-84B7-EDA7A23C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3CBA-3CF3-4CD6-97CF-95E6DA0A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CAD-1A61-40D8-A5F8-AF40E9F8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304-5331-4423-9DA4-7E8E3FB7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B53-5EE3-4409-832A-8C4F7B83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9C4CC-D6DD-4981-ADE3-5287D2C3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2C13D-2B5C-422B-AB70-49B01887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5C8A4-9F7B-496C-B981-9CAC657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D9B9A-C65F-46CB-B3E9-8ADE56DC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1C9EB-A327-4659-8254-EEBF04F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6F0-D852-4D54-BF9D-D2792761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EC410-8C30-4C15-AC34-CA76878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47A80-D8F1-44B6-BE88-FA652879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5A15F-50E1-437D-A81A-A68DCC29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7176D-D2B0-4766-97E6-FB5E4B0F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0F5FD-8869-4FAC-88EF-CE51F13B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755FE-B732-4A26-BDBC-A047B643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75571-C6A6-4D21-A807-57EA6057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1222-D061-44BE-B74B-3A5FB4AA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08B5B-E77A-4C0D-806E-5523A42B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9099-2FF6-4463-8D91-3883F2A3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AEC-B3DD-47F3-BDAE-4FDB45E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011E-6241-465A-9F27-4DC7358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F9EC-B9F8-40F0-978C-910C0DC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E915-E883-46BD-9043-CDC84184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533B8-11AA-43D5-8FAD-ADE5594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2D2E-49E8-47C3-8340-1A3C5B8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2807-141B-4097-9180-F786FD09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4C3E-2C0A-4720-96E7-60659E3D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3DD51-905C-460E-9DF3-03087063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E1BA-F1FB-4005-A5F4-DB6ED10A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BEB8-16EF-4F6F-B5D4-84819333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FBF-7BA3-4A66-9929-DB69C376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C9A9-83BB-4B56-86FD-E2EE9942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E47E-A298-4990-94E8-570E6756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03633-1110-4E0F-A9D9-84B59AEB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8AAE-8BEE-41FA-8556-5F7BEEA3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8DA2-F24E-4AFD-A931-0C252E56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A824-003F-424D-95EE-BBA0582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07FF-2CAB-4171-BF03-7AE42428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9F48-CBC0-4A3E-A45F-04CE9994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9A553-4C42-4333-9732-54E21FD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B23C-6A9C-4509-8C5C-AED72FA2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2E6-242F-48C9-B808-4F9D2776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DCB8-51DE-475C-ACB4-42D0045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7EE3-09D2-4AF9-B2CF-DFA5E487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B3057-E3F5-46FE-AAB3-EE586C69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B0CD8-AA5C-4DBB-9A10-4ACE2CC7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1475F-3809-4A0A-9457-4C5B18BD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6DE1-3A68-47E1-856E-14519172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0D504-9083-414B-A1A7-42F13DC2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308E-74EA-4184-8147-30D66C8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F750-3692-424A-BFC6-BAFB26B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7DB02-A434-489B-969F-FC04C20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EC9-B206-41B6-989C-A4EC711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90AE-63F0-48FE-B688-F7D839A7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83A6-6286-421C-A1D7-68F29C42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9444-B2E5-4539-8706-824E5849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066-8789-4CB2-B744-2D46A95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93A-CC59-4745-8D9E-3E59F97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F29A-DF92-4FF6-AC2E-AD6C43AB7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880-12D5-486D-8AB7-86606F5E3F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BD8-585F-48CE-B659-C3F01C0355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5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DC7F-E4E8-4328-B6B6-3A220F1E6E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0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3C0E-CC1D-40F9-BA9E-5AACBD114D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B32-6687-4CB0-945B-A8F6BC97FE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Информация. Компьютер. Информатика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: первичное понятие об информации, информатике и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учащихся с учебником; дать представление о предмете изуч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итая книгу, мы тоже получаем информацию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843280" y="2133720"/>
          <a:ext cx="5473800" cy="44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5473800" cy="44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 много звуков ловят уши: И шум машин, и лай собак, И гомон воробьиных драк, мычание коров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А информация такая Зовется просто — 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звуковая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4648320" y="2381400"/>
          <a:ext cx="4038480" cy="29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1400"/>
                    <a:ext cx="403848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еседуя с друзьями, можно узнать много новог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48320" y="177012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7012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Comic Sans MS"/>
              </a:rPr>
              <a:t>Информация -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ведения и данные об окружающем нас мире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Виды представления информаци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кус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313080" y="1655640"/>
          <a:ext cx="460872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3080" y="1655640"/>
                    <a:ext cx="460872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Rectangle 4"/>
          <p:cNvSpPr/>
          <p:nvPr/>
        </p:nvSpPr>
        <p:spPr>
          <a:xfrm>
            <a:off x="611280" y="2065320"/>
            <a:ext cx="244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 вкусе пищи узнаем, Когда во рту ее жуем. А информация какая, Ты догадался?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кусов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и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332080" y="1600200"/>
          <a:ext cx="44784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00200"/>
                    <a:ext cx="44784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ов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2" name="Object 3"/>
          <p:cNvGraphicFramePr/>
          <p:nvPr/>
        </p:nvGraphicFramePr>
        <p:xfrm>
          <a:off x="2308320" y="1600200"/>
          <a:ext cx="45259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8320" y="1600200"/>
                    <a:ext cx="45259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кти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2292480" y="1600200"/>
          <a:ext cx="4557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2480" y="1600200"/>
                    <a:ext cx="4557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онятельная информ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3851280" y="1484280"/>
          <a:ext cx="4678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484280"/>
                    <a:ext cx="4678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4"/>
          <p:cNvSpPr/>
          <p:nvPr/>
        </p:nvSpPr>
        <p:spPr>
          <a:xfrm>
            <a:off x="684360" y="3281400"/>
            <a:ext cx="24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цветут в лесу цветы, То запах носом чуешь ты. И аромат акации Опять же информ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накомство с техникой безопасност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3"/>
          <p:cNvGraphicFramePr/>
          <p:nvPr/>
        </p:nvGraphicFramePr>
        <p:xfrm>
          <a:off x="1116000" y="189000"/>
          <a:ext cx="636912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9000"/>
                    <a:ext cx="636912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гра «Органы чувств человека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1: назовите 5 чувств, с помощью которых человек воспринимает информацию из окружающего мир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рточка № 2: какими органами чувств воспринимается информация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тика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ука о принципах, законах и методах решения этих задач, накопления, обработки и хранения информации с использованием компьютера называется информа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компьюте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181840" cy="537372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 космосе не обходятся без компьютеро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Picture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1492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крепление изученног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, № 5 (учебник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4 ( Р.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загадки отгад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еселее отве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ты слышал много раз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е несет учитель в клас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звучит по 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это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дио включа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м музыка играе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информацию как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лучаем?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льтфильм по телевидени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друзьями вместе виде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ую информ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ет мультиплик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имаем пробу с разных блю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Они нам разный вкус даю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Во время дегуст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Какая информация?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носим руки мы к костр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дернем, чувствуя жа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гновен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этой информ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дание на д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§ 1.1. с.7-10, § 2.2, РТ: №1, № 2 – с.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3" descr="ТБ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ТБ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ТБ2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508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3" descr="ТБ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689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Безымянный"/>
          <p:cNvPicPr/>
          <p:nvPr/>
        </p:nvPicPr>
        <p:blipFill>
          <a:blip r:embed="rId1"/>
          <a:stretch/>
        </p:blipFill>
        <p:spPr>
          <a:xfrm>
            <a:off x="179280" y="404640"/>
            <a:ext cx="8964720" cy="60246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нформация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й день мы узнаем что-то новое, иными словами, мы получаем информацию. Например, глядя в окно, мы можем определить какое время года за окн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4427640" y="177336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4:59:45Z</dcterms:created>
  <dc:creator>Сервер</dc:creator>
  <dc:description/>
  <dc:language>en-US</dc:language>
  <cp:lastModifiedBy>LEGION</cp:lastModifiedBy>
  <dcterms:modified xsi:type="dcterms:W3CDTF">2015-04-01T07:37:12Z</dcterms:modified>
  <cp:revision>9</cp:revision>
  <dc:subject/>
  <dc:title>Информация. Компьютер. Информатика.</dc:title>
</cp:coreProperties>
</file>