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2830-14EA-4831-B6DD-243216C827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. Компьютер.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ервичное понятие об информации, информатике и компьют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учебником; дать представление о предмете из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A603-0CA5-47F9-B970-86039747D0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книгу, мы тоже получаем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AD57-0A1B-466A-9BEC-642CDE95A4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я такая Зовется просто —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звук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870D-58FB-4061-809E-BBD3A1D0DE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уя с друзьями, можно узнать много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61B3-AC14-4C80-8C9F-960A679B08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Информац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и данные об окружающем нас ми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262E-F363-4095-9582-E66E74B8EE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E608-B49D-496E-868D-F30C835800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кусе пищи узнаем, Когда во рту ее жуем. А информация какая, Ты догадался?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кусо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BD0A-8F74-4B4C-9B46-81DC08455F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и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0F76-BDEF-4DE0-8F4A-07AFF2587E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910-5BAF-4BD0-83F2-6D29E7DEFC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ти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D19F-6ACB-4133-B73B-00D94BB6E2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ня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цветут в лесу цветы, То запах носом чуешь ты. И аромат акации Опять же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4882-8C2A-4D5F-954B-7E7CCA1633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техник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1191-8C09-4506-AEF6-CCB5D1431E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рганы чувств челове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2: какими органами чувств воспринимается информац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EE8D-40AF-4505-9B75-4AAAFC609C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E651-6851-4588-ADB7-E3370D493B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361A-7766-4B94-BD39-8D63C48F8E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е обходятся без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CFA7-F95F-42C8-BBB5-7EE82DB4A8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, № 5 (учебн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( Р.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2A7D-3C43-44C1-84C6-C0D8806361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загадки отгад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еселее отвеч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ней ты слышал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есет учитель в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звучит по 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радио включа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музыка игр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ю ка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лучаем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фильм по телевидению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зьями вместе ви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т мультиплик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маем пробу с разных блю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ни нам разный вкус да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Во время дегуст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Какая информ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осим руки мы к костр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рнем, чувствуя ж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ая реа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этой информ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DE4C-23D0-43FA-9829-4889D4EF56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 1.1. с.7-10, § 2.2, РТ: №1, № 2 – с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845B-2A8A-4C53-A33E-192FCEF950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221E-7769-426F-ACEE-967B3744E9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7813-951F-4A1C-9CD1-2DBEF86342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3D8-2871-4AC2-A2C6-B3AA3214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E15-7ECF-4F66-BA28-2900529B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507-ECAB-4C56-AA42-64B98219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209-1102-4492-816A-E2EABBEF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C9DF-4611-45E8-9F28-0164BEF1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8D00-2629-49C1-9F98-312EC173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5F23-A441-40B5-BC1B-C5DE5BD5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4615-0357-4268-B325-4DB47ADD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04EA-3D73-4DBA-AAD9-36B1D6B0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176A-25F4-47E9-BD5C-5C22D604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6F93-8226-40CF-9F6D-B864B09C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439-0A0C-4172-A376-B290CFFB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A060-D27B-409E-A344-CA4ECF5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250C-E165-4A31-ABBE-3D5524F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98DE-31DE-4C17-A0EC-891C4C7F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3789-40F4-4C78-B3B6-8069D477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289D-4100-48A1-A1E4-A2F532C8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19018-B30D-4BA1-B9A8-C63BF962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6ECCF-BEB1-4BD6-96D7-CEE4D81A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44432-E628-49C0-A3F1-38BEDF37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A1490-CA85-435B-9ADF-AC797607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0BEE3-3864-4593-AEC7-3823335D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8CB-DDD3-4AFC-8194-92E6A609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33DF8-D22A-4744-8F10-3A494B61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90F49-2521-480F-B65A-2EC86AF2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D0932-4F2C-4518-9EF6-5BC48417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5B5AD-BDA6-4BDA-8BF6-3428496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3BB8B-5FB5-4C30-B1B8-D72A8E36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78A70-29DB-48D7-A814-2C093350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FBBC8-1D26-4337-822F-BD3DB983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5DD63-56CE-4677-A320-2400B4DD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4D03-E12F-43BF-B32E-F9D5C04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2F652-9F00-4B81-89DA-D3B9592E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A02-8BA8-4EE2-8436-4C6CE33A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43D6-1419-4C00-962E-4CFBC46D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2F0B-C8A5-45C7-883A-60AE646A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0AF3-F458-4FE9-ACBD-CA9DC62B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6674-A5CD-4904-919F-4C41D22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E2030-802B-43E5-AA30-DB87511C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3AF86-6F9A-4AAE-9DCA-D66A83F4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428F-6FAC-4446-A18C-6F6D0946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C408-7FE0-4680-A1DA-D6EC6507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814C-B8C0-4A34-AA84-DA5C3093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4C144-C3E5-4C40-BB36-BC1DF787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B60-DCAD-48B2-906A-F0981CE6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9092-C5C5-4530-91DA-7C0CF7B8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7308-13F9-43EC-8F63-A59DACDB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FCB61-9F79-413B-99B7-4CA2F1CF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E12F2-3554-4286-B0FA-6C7CA27A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4F37-9BFB-4799-88D5-FF9D8EE1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F510C-C910-420D-A36B-7FA2E2D2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DE5F5-D37F-4404-BA20-799B7DD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A845-65EC-4289-9CCC-E86478E4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B9A0-B0A4-48E4-8B6B-69F69539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F6496-8406-4C34-85E6-CA9A7CD2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B85-818D-4B79-B544-25C5D5DD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A3DB2-FBD1-4647-B30D-3BFBA525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BA487-67B0-451C-8DA4-EB0C45E6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F4B0-962B-4FD9-8C18-5353B724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3B86B-885C-4A42-8ACA-D7082058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7D9C8-7B90-458D-BFED-74C5DADF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25EE4-0366-49CC-B49A-A5F55DC8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D7B33-DA25-497D-B1EC-BBF20C70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94107-4DF1-446B-8B77-A5FBACFF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4F93-A1F3-4697-9106-7965CF0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B798-AA92-4DF5-B76E-AC75A28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6F2-FD70-4F98-B00D-CD125C52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46E88-0F77-46D3-BE1C-7F832E6B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437E3-E93E-4840-937D-35BE94B1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ED04E-EEF3-4505-8DC5-8E0EE7C0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9CA-8104-49DE-BD3D-388D6A2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83E-D94A-4F0F-90B9-181BD4F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71A5-258A-499B-A17E-E2B24CE75C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17ED-2D92-4A9B-95FE-581C8E03D6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9BBE-2B3C-4A5A-8F36-CBDC2E5A74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0D95-3916-415E-9CD9-CFCB2D49B0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4111-CCF8-44EF-90ED-DD58B44DAC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261D-55F2-4F8F-8321-E7EB4A056A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нформация. Компьютер. Информатика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первичное понятие об информации, информатике и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учебником; дать представление о предмете из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384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итая книгу, мы тоже получаем информаци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843280" y="2133720"/>
          <a:ext cx="547380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547380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 информация такая Зовется просто —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звукова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81400"/>
          <a:ext cx="4038480" cy="29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1400"/>
                    <a:ext cx="403848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седуя с друзьями, можно узнать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48320" y="177012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012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Comic Sans MS"/>
              </a:rPr>
              <a:t>Информация -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ведения и данные об окружающем нас мир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кус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313080" y="1655640"/>
          <a:ext cx="46087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1655640"/>
                    <a:ext cx="46087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611280" y="20653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вкусе пищи узнаем, Когда во рту ее жуем. А информация какая, Ты догадался?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кусов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и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2332080" y="1600200"/>
          <a:ext cx="4478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00200"/>
                    <a:ext cx="4478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2" name="Object 3"/>
          <p:cNvGraphicFramePr/>
          <p:nvPr/>
        </p:nvGraphicFramePr>
        <p:xfrm>
          <a:off x="2308320" y="1600200"/>
          <a:ext cx="45259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кти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2292480" y="1600200"/>
          <a:ext cx="4557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1600200"/>
                    <a:ext cx="455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оня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3851280" y="1484280"/>
          <a:ext cx="4678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4678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4360" y="3281400"/>
            <a:ext cx="24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цветут в лесу цветы, То запах носом чуешь ты. И аромат акации Опять же информ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накомство с техникой безопасност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3"/>
          <p:cNvGraphicFramePr/>
          <p:nvPr/>
        </p:nvGraphicFramePr>
        <p:xfrm>
          <a:off x="1116000" y="189000"/>
          <a:ext cx="63691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9000"/>
                    <a:ext cx="63691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гра «Органы чувств человека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2: какими органами чувств воспринимается информация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компьют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181840" cy="537372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 космосе не обходятся без компьютер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1492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крепление изученн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, № 5 (учебник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 ( Р.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 загадки отга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еселее отве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ты слышал много ра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е несет учитель в клас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звучит по 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дио включ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м музыка игр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информацию как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лучаем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фильм по телевидени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рузьями вместе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ет мультиплик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м пробу с разных блю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Они нам разный вкус да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 время дегуст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Какая информ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осим руки мы к кост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рнем, чувствуя ж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гновен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этой информ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дание на д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§ 1.1. с.7-10, § 2.2, РТ: №1, № 2 – с.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ТБ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ТБ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ТБ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ТБ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Безымянный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246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ц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59:45Z</dcterms:created>
  <dc:creator>Сервер</dc:creator>
  <dc:description/>
  <dc:language>en-US</dc:language>
  <cp:lastModifiedBy>LEGION</cp:lastModifiedBy>
  <dcterms:modified xsi:type="dcterms:W3CDTF">2015-04-01T07:37:12Z</dcterms:modified>
  <cp:revision>9</cp:revision>
  <dc:subject/>
  <dc:title>Информация. Компьютер. Информатика.</dc:title>
</cp:coreProperties>
</file>