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51.jpeg" ContentType="image/jpe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png" ContentType="image/png"/>
  <Override PartName="/ppt/media/image49.jpeg" ContentType="image/jpeg"/>
  <Override PartName="/ppt/media/image15.png" ContentType="image/png"/>
  <Override PartName="/ppt/media/image14.gif" ContentType="image/gif"/>
  <Override PartName="/ppt/media/image10.wmf" ContentType="image/x-wmf"/>
  <Override PartName="/ppt/media/image1.jpeg" ContentType="image/jpeg"/>
  <Override PartName="/ppt/media/image54.gif" ContentType="image/gif"/>
  <Override PartName="/ppt/media/image27.wmf" ContentType="image/x-wmf"/>
  <Override PartName="/ppt/media/image4.wmf" ContentType="image/x-wmf"/>
  <Override PartName="/ppt/media/image34.wmf" ContentType="image/x-wmf"/>
  <Override PartName="/ppt/media/image25.wmf" ContentType="image/x-wmf"/>
  <Override PartName="/ppt/media/image26.wmf" ContentType="image/x-wmf"/>
  <Override PartName="/ppt/media/image3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29.wmf" ContentType="image/x-wmf"/>
  <Override PartName="/ppt/media/image31.png" ContentType="image/png"/>
  <Override PartName="/ppt/media/image37.png" ContentType="image/png"/>
  <Override PartName="/ppt/media/image48.jpeg" ContentType="image/jpeg"/>
  <Override PartName="/ppt/media/image39.png" ContentType="image/png"/>
  <Override PartName="/ppt/media/image42.png" ContentType="image/png"/>
  <Override PartName="/ppt/media/image44.png" ContentType="image/png"/>
  <Override PartName="/ppt/media/image43.png" ContentType="image/png"/>
  <Override PartName="/ppt/media/image57.jpeg" ContentType="image/jpeg"/>
  <Override PartName="/ppt/media/image45.png" ContentType="image/png"/>
  <Override PartName="/ppt/media/image30.wmf" ContentType="image/x-wmf"/>
  <Override PartName="/ppt/media/image46.png" ContentType="image/png"/>
  <Override PartName="/ppt/media/image53.gif" ContentType="image/gif"/>
  <Override PartName="/ppt/media/image52.wmf" ContentType="image/x-wmf"/>
  <Override PartName="/ppt/media/image38.png" ContentType="image/png"/>
  <Override PartName="/ppt/media/image55.jpeg" ContentType="image/jpeg"/>
  <Override PartName="/ppt/media/image11.wmf" ContentType="image/x-wmf"/>
  <Override PartName="/ppt/media/image36.png" ContentType="image/png"/>
  <Override PartName="/ppt/media/image56.jpeg" ContentType="image/jpeg"/>
  <Override PartName="/ppt/media/image33.png" ContentType="image/png"/>
  <Override PartName="/ppt/media/image32.wmf" ContentType="image/x-wmf"/>
  <Override PartName="/ppt/media/image7.wmf" ContentType="image/x-wmf"/>
  <Override PartName="/ppt/media/image41.png" ContentType="image/png"/>
  <Override PartName="/ppt/media/image9.wmf" ContentType="image/x-wmf"/>
  <Override PartName="/ppt/media/image40.png" ContentType="image/png"/>
  <Override PartName="/ppt/media/image8.wmf" ContentType="image/x-wmf"/>
  <Override PartName="/ppt/media/image50.jpeg" ContentType="image/jpeg"/>
  <Override PartName="/ppt/media/image13.wmf" ContentType="image/x-wmf"/>
  <Override PartName="/ppt/media/image12.wmf" ContentType="image/x-wmf"/>
  <Override PartName="/ppt/media/image6.wmf" ContentType="image/x-wmf"/>
  <Override PartName="/ppt/media/image4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7E706-1148-49CB-BFFE-06AA6259A59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дирование 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50A66-69DB-4151-9EEE-EF87143A7FA9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й форме может быть закодирована информац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B4B00-6854-492C-8DA4-703F32477015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кодирова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ись и передача информации с помощью некоторого к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ход от одной формы представления информации к друг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652A3-9DC0-4E1C-8BB1-7715764E2A64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Разми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Азбука  Морз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6ADF4-5D6D-49CE-ADE1-7FAA2F10CD32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Разми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Морская семафорная азбу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35BB4-DD78-462C-8224-623390ED845A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ик, п.1.6, 1.7 (вопросы и задания устн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Т: №15, 16, 17,18 (стр.18-2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0858E-B20E-48E6-BA71-068668B2DAEC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омпьютерный  практику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7D4C2-F5FC-4F77-BECC-2C1DB61A9CDE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Игра «Что бы это значило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8972C-4831-497A-A6BF-0E24F49D9736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Игра «Что бы это значило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55FB2-DA20-40EE-9EC7-6D660B4A8927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Игра «Что бы это значило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99528-FCFB-41C6-86ED-F6D7C927D046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Итоги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B2E93-048F-4ED4-9979-0AE6968E0CA6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ВТОР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ИНФОРМАЦИЯ для челове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действия человек совершает с информаци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человек может сохранить информацию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современные носители информации вам известны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09C0B-4320-4B1E-B3EA-08A925AF1A7F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 домашнего зада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Т №3, стр.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9D3D2-2FBE-4AC8-892C-8AA4F70BFFAE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йми  ме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F65E7-E2F9-4FBA-91CC-18B7621D308D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дирование 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E06AA-6ACD-4EDA-93DE-6A42B9468659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 КОД 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 такое кодирова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06374-ED2A-4534-8731-3343AC764F14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Разнообразие  к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фавит кириллических букв (А, Б, В, Г, Д, Е, Ё, Ж 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фавит латинских букв ( А, В, С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, E, F, G, H, I …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фавит десятичных цифр (0,1, 2, 3, 4, 5, 6, 7, 8, 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фавит знаков зодиака (</a:t>
            </a: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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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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.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матическая символика (+, -, =, ∑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афорная азбу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бор знаков азбуки для слепых  (азбука Брайл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збука Морз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бор знаков международного телеграфного к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трих-код на това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оичное кодирование информации в компьюте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0 или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90F4A-ABC6-4384-BA58-67525CB6051B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чем люди кодируют информацию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скрыть ее от других (все случаи шифров и тайнопис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записать информацию короче. Самый простой пример - аббревиатуры. Что  такое  ООН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 ее  удобнее  было обрабатывать и передавать. Например, как передать информацию по телеграфу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D43DE-399C-4ACF-9ABD-EDBE3A473F47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т чего зависит 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пособ  кодирования информации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 кодирования зависит от цели, ради которой оно осуществля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91050-B7FF-4F70-9F05-3CF05ADA4491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EF0F-BE0F-4AF0-81C5-1A4ACA296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E76F-EB5A-4BA5-92E8-7D060B194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4EA10A-E972-49C8-A678-3BE9CB900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DC2228-3C90-4657-AB01-51AD7D4DC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8DD118-A910-4ABD-BBA5-DC927A6AB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C4B79F-4493-44BD-86AE-A01ECD23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B0C6EB-F34E-492F-8F50-012D2161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866EE8-3989-41EC-99FC-27C9DF1A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E1E2F6-0F59-4B2C-BE52-8B9684030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DBDF34-4438-4711-9FDB-235E41F0D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99E24E-2B53-460A-BE7F-3E3A7B9B6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EA6D7E-7352-4253-B50F-ACA2DA106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A9A1-9CF7-468C-AF71-881D32738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C5C172-9474-44B4-95B7-309A0DAA9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76C7B9-4385-4A9D-BA75-C50672754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35219C-4898-46FB-87E7-86DB23331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CD30ED-AF32-44D1-BC7E-DE4D99786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E6085A-2C14-4A7D-BFDD-20291C232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5C723F-95E3-43FD-A9F8-9EF741A3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DA847F-A6F8-4E49-8133-B780D930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160FE0-C365-4798-9A77-DEC9DBB5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5A9D08-0A90-4788-ABE5-6B4E1FC63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D44E4D-C53C-4798-AF23-1CD65982E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F96F-3F89-4730-9579-02B640B42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BDD083-5374-4760-B230-0DB23229D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A44854-320F-4DDF-B784-9E24BB247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EAEC70-C631-4034-A8AC-A587E2A98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1A8830-8475-43AA-A713-553B1BA13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0436BD-EC01-4F87-B947-C0C9B6A20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1EAED6-2DDF-436C-B798-6FD240318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BA8169-BD29-4F28-918A-630950BEE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3E7BC0-AC0A-4EE9-9D4B-951DE95B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2A3B60-3028-47EB-A174-27093E40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D569A9-2FE9-4D71-8BDD-C60C8741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EF362-9C4D-4569-BCE0-43A325EF1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196A89-57BE-4B3D-A8F8-F7E98AE79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A8D7A8-A948-4848-9EC4-D97DC2F93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7EEBC1-D9B7-4228-8934-0E0161D26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CAA8D1-E05F-4D87-BC4F-C32FA2CEE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EE6978-085A-40DE-B178-6C124CF27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3FCCA4-A6D4-4ECD-AA71-F5908401F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EDF81F-C27A-44EC-A799-143BCCE64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2BF2AD-16C8-465C-B0A4-B782E241E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7BB41C-620B-44DE-BC4F-1F024830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2D0011-A37C-4836-9958-6BCCE6CA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DB5F2-725E-4F02-A24E-CD6284522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9D23FD-2A68-4DBA-9E49-18ED39C1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4F37AF-D84C-4C82-BBC2-03700451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4097FA-3F96-4FB5-9EE2-7BE13D64F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821BC8-466C-408A-96AE-62B74D32D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2B065D-097B-462C-966C-9A2562F7E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780EF0-460E-4374-8F5F-02B269E0C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6E94DD-B21C-4BFF-B4FA-154BE2496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508662-5E61-417A-91E9-CC2F081DA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A4C50C-3E8D-4BB2-92C0-89F56F9A3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F260E8-6B45-414C-9246-48BA68948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AD6E8-E65D-482F-98D7-9E9B32F6A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AD407A-159B-46BB-B9A5-6C00244F2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FFB683-DD51-4DFF-AAE0-539F63E3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BD6D99-D05A-43F2-A5F6-2D97B32D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440431-5FA0-4540-8089-03301883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248373-0290-4287-A171-9D02CA5A1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886C3C-6AF9-439A-AD47-AD3A28EEF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CECCA3-93C3-4E00-B88F-09476D7A8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9CC00B-39C8-4B23-9116-B36B66DC1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00E45B-F97D-43FB-BC5B-57069EEF3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51EAA7-1999-4261-8694-0503F311F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198B8-051A-4600-B971-F998A1E6B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5E63A8-39CF-4DCB-8FD4-8B763BE2C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13852E-785D-4554-B4FE-C42B8E545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340C45-7FB5-4300-9328-C16B9EC69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F93B37-3638-43B2-82B0-7DC6872EF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11B639-7597-4272-A252-B540C767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31F37D-7D12-4659-925A-DBFEBFE7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CF10FF-AE7A-4DEE-964D-C4F2BC03A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71B67A-26B1-455C-A59E-9F5E45FC1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5D86DA-49DD-463F-9262-D49EAB7A9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AA2278-460B-4489-8F2C-FABF8CFAA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CE39C-A520-4410-B0C2-FE3B0B4D7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EB4C07-97EB-4284-AAFF-4EB76919E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671A9C-FEDA-40CE-8514-4BBE49591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6CBAA6-84D5-4CE5-8E7D-BBF54F51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42A59E-2835-43CE-9775-232A36B92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CFCD24-D846-40EE-BE0F-2F88A1378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C45545-A88E-4FBE-A16E-C6170C8F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2A495D-C4FA-44D3-A0B8-C861BC39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BBF4A0-26F6-4E4D-A0FD-85162EB9A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F92FFA-4D82-468D-9EA5-922044062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621EAF-0602-45BD-9D69-16BACA01B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8ADB6-A560-4417-B201-D7874BBAB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DFFE75-DB9A-441A-AC9D-13914FF7C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0D9048-8382-442D-8C67-E916B71A0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ED8979-68CC-49EF-B876-7418F1061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8CA137-3F32-4013-ABDE-BA2F19368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EC18A1-676D-40D6-882C-FAFA699F6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0F5ECA-6743-40ED-B437-467E921CD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106CC9-CD32-41E5-A293-B644881E6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CD3C7E-A53D-4D51-9B91-B508D85C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55506C-259D-410D-91D6-66F77DF1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C9A99A-C2BC-47F6-BA02-7298308A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E1BBC-C849-403A-B34A-0E865C00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DE2273-0401-4540-AFA1-7374C2EE5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2ABDBF-7408-461F-B2D9-B864A9504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FFCF17-058B-4B3B-A4DB-03EA5B4CD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FD0108-E051-4802-BC0B-99701BD12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AF7139-76F4-4806-9BC2-3CE05F2D4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4BFCD4-E774-44D6-9D74-C8A432124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4A39F5-4682-4605-B27D-8B9D584AB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135C80-454A-434C-A389-296CA1FD5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0B296D-BC59-448F-86BE-D41482B3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4CEFA2-6EA9-42AA-AFE5-594816D5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144D-8885-43AA-B153-01E0D73E5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9C2D4-4F63-4051-A7B0-B759C29B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BD47E6-4CE1-4C41-BD94-E8EF4428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85D13E-C6D1-4540-AD11-6DB5F659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92FBA8-8CEA-42FA-B2A3-7140DF370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EAE498-4B89-409A-8E19-73BCFBA62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B0425C-D763-45F3-84CB-72C881203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53F0D-F831-488B-8156-25DBCD6F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C5865-F005-4E02-B4E1-83BB1D9CA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0AD63-1FF7-49DC-8711-3E6348C83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D3199-CF79-451F-B9FC-162FA0AAD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23F9F8-8A7D-4200-A411-DA6E6E50E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798B4D-B139-4F35-ADC7-01DA8BA02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874281-A9A7-4056-A9C7-280F9ADCA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439F52-A455-43C2-9E03-C83A857F7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27CC46-3F71-4524-A37A-9F6F1CC52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DF39-9D30-4F55-8744-3C664E217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183684-C4C1-43F7-80B4-87D9965B8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67876B-3291-4822-97B2-F217B12C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8836E7-7B05-46CC-850A-34AB7D64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79EFC0-03A6-4BCA-8AEB-9CAD2585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9CF4DA-D8D4-45BE-98F2-97FAAE5D4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835C22-261B-4161-8D79-0255104B9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FE9B7D-2DEA-4B3E-9BF3-60B69AD9E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7DA46-72E9-46A6-AC0A-AA8E827F5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4B7AA-65AA-4AF3-8097-9825ABA07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1F01C-A3F8-49C6-A835-C45D3B9B6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603E-5878-4D21-B613-767DF9D2D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1891D-5034-4A48-8EFB-374F87692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9A9BF-0700-44B8-960D-734195251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9EED1-39E9-4115-8EF8-FB51ED4EF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098D8-5519-41F5-AEAF-A61B1C15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EDB67-9DF4-49C6-B3E0-33798A5D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81626-1FBB-486F-9C70-0C6CD484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EF65E-EECD-45FA-801B-0E1074E05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F50D7-3CB2-4430-8D53-FF40C4A51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7D208-D2DD-47D3-B46A-6D8BE49E1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0B9BF-D21F-4E8F-A97F-E32450FBB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FFAE-F27D-45F2-B940-774733B52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BDEBD-55A2-45D4-BD1D-AF94A46B9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DDC2E-7CC2-46DF-BB4D-5ACA269E7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78646-9CAA-437A-BE5E-6D24EABCD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2A33F-8E8D-42F5-AF10-A2FAB9687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80AEC-852F-4379-BBD2-0742B8208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71688-FB28-4B88-9D5E-8F8BA1FA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98A22-8E12-4209-BA66-0208140E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8F813-C4B0-40F5-8CF8-ED86625B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80D86-D7B5-47D1-88F3-5AA1CDFBD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4F331-4B21-40CD-B147-AE790DE6C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2A82-2B70-4F45-A7ED-8131614F7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A52B5-550E-4603-B374-0CAFBCF6F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D087E-9157-466A-9B93-FE76A7925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70BAD-6373-4339-865B-288B94550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EF9916-5910-420D-B4B0-5FAEF22F7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5A3CA-C8DA-4D34-A04F-1DBEBE21C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04962-4864-432D-8761-D7C22273A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55E66-BD56-4A43-A9C5-360D66903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E4FDB-9C70-4E74-96EB-6A18A01B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0FF17-6A33-4AC6-8D0B-E120CD6E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8526A6-F89C-4F0B-8517-4892B98C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1ACC-7E96-46C3-A876-4D50AA83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63331-10E2-455C-A0C9-BCF834080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B83EA4-15AE-4E48-8228-85CC2160B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1E94CA-B29B-46E0-A9B9-502CAAA7E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286470-FF5E-4DBC-9AA5-7B9F78BB9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4CFA9B-B269-46F6-9C2C-2785E356F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309C92-BBFC-4162-82AE-D3C50323E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162176-76D2-4C0C-850A-26368A909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1BD828-FAD6-4097-8E2D-C45335FC8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9726D4-2A24-48A5-9C06-E0EC3ABF7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88D3CA-9928-4065-A6A5-578B1AEF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6972-9A74-4EE4-B07B-C8C8477B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6A59B5-AB8D-48D8-BFF4-7F320ED9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E123E1-155F-43E6-8A1C-79EB960A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CAB0C0-9BA2-416C-BC9D-85350DD01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E04B1-BFC1-4C6F-889E-C142D4680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A4A32-8131-4FF1-B529-BB37F60C9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6E69CB-2BD7-4ED4-866A-9A999F995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DC0548-EE0B-4163-B421-FF85D2AA7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9CDE59-EB33-4139-9DD7-762DE7188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DE3F0E-7A4D-4EC1-B8BE-47EA20DCF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D44EA5-C61C-4C2D-8527-D7C5AA54C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4934-805C-444D-8087-F9B4A9F4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1F0B91-A518-49EF-8860-5A9A51119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37E4E5-FEE2-4407-AB87-37FBB0B0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7C50BB-6055-4ED8-B643-B97EF8BE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E3492A-4D2F-4EEE-AA34-B1212B30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DFC869-2E3D-419D-B1D1-45C1635EC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E57B77-D8BC-41CA-B659-87C3A5F49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46D66A-F6CC-4EBD-947E-CC8E72530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EFAFB1-CECE-4E74-BA17-BD14712FB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9B5E6F-F302-451C-841C-576657283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393B79-B704-4DA1-AA8B-A12B17010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E937B-245D-441A-A476-00868846327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9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69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9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70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705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706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7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8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709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710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1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2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3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4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71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C23CA-A0A1-4631-82A8-03D4429C624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8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dt" idx="3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 type="sldNum" idx="3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9392A-B27C-4720-8F84-FC683F4F027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0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80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80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22868-4566-4A91-8F29-F12C1B858BA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85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 type="dt" idx="37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 type="ftr" idx="38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FA8C4-60C2-414F-8A19-EBBB74F3AF5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02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3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4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5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6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7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 type="dt" idx="4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 type="ftr" idx="4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 type="sldNum" idx="4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9737D-79D4-4A65-B614-A280DC1E8F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9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950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51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952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3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4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5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6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7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8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9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0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1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2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3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4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5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6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7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8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9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0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1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2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3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4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5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6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977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978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9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80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81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82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83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84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85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86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87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88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89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90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91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92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93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994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95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96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997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98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99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00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01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02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03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04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05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006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7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8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9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0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1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2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3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 type="dt" idx="43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 type="ftr" idx="44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188C9-AA07-4A4A-AB3D-FCC37A8B99C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5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056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7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8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59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060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1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2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3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4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5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6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7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8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9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0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1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2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073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4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5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6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7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8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9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0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1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2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3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84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5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6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7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8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9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090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1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6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6C77B-540F-4683-BBE6-CC54CA81E880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3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134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135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36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37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38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39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40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41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42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43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44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45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46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47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148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149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0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1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2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3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4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5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6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7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8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9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0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1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2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3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4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5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6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7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8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9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70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71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72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73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74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75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76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77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78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79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0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1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2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3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4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5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6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7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8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9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90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91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92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93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94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95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96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97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98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99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0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1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2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3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4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5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6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7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8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9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0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1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2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3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4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5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6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7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8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9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0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1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2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3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4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5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6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7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8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9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0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1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2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3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4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5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6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7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8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9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0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1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2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3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4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5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6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7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8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9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0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1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2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3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4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5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6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7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8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9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0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1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2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3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4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5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6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7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8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9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0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1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2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3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4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5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6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7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8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9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80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81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82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83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49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9387E-3071-45CC-AD02-9DB713E5F9DB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88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89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16272-4637-4B0E-BA41-896F580D84B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79463-170E-450B-882D-3BFBEF8990A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3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83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28EF7-FD48-482B-90EB-F441BAD23AD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5EC8F-D645-4078-80D1-53996242DE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69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1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2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3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7" name="PlaceHolder 1"/>
          <p:cNvSpPr>
            <a:spLocks noGrp="1"/>
          </p:cNvSpPr>
          <p:nvPr>
            <p:ph type="dt" idx="16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ftr" idx="17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80E9A-085E-4591-A86C-E71D4E91C3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319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20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21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2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3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4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5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6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7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8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9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0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1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2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3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4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5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6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7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8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9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0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1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2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3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4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5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46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347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8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9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0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1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2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3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4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5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6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7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8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9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0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1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62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363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4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65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366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7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8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9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0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1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2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3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4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75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6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7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8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9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0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1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2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dt" idx="19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ftr" idx="20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sldNum" idx="21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ABAF5-29CB-46C0-82A6-5B7980E9F2F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425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6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7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28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429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0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1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2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3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4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5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6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7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8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9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0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1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42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3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4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5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6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7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8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9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0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1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2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53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454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5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6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7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8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59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0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F0DD2-73C5-42B2-8E39-F49A0F38A30E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0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0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1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1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5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5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5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26589-14C0-4989-AE96-68D6D35D37C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0.wmf"/><Relationship Id="rId7" Type="http://schemas.openxmlformats.org/officeDocument/2006/relationships/image" Target="../media/image28.wmf"/><Relationship Id="rId8" Type="http://schemas.openxmlformats.org/officeDocument/2006/relationships/image" Target="../media/image29.wmf"/><Relationship Id="rId9" Type="http://schemas.openxmlformats.org/officeDocument/2006/relationships/image" Target="../media/image30.wmf"/><Relationship Id="rId10" Type="http://schemas.openxmlformats.org/officeDocument/2006/relationships/image" Target="../media/image31.png"/><Relationship Id="rId11" Type="http://schemas.openxmlformats.org/officeDocument/2006/relationships/image" Target="../media/image32.wmf"/><Relationship Id="rId12" Type="http://schemas.openxmlformats.org/officeDocument/2006/relationships/image" Target="../media/image33.png"/><Relationship Id="rId13" Type="http://schemas.openxmlformats.org/officeDocument/2006/relationships/image" Target="../media/image34.wmf"/><Relationship Id="rId14" Type="http://schemas.openxmlformats.org/officeDocument/2006/relationships/slideLayout" Target="../slideLayouts/slideLayout49.xml"/><Relationship Id="rId1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image" Target="../media/image44.png"/><Relationship Id="rId10" Type="http://schemas.openxmlformats.org/officeDocument/2006/relationships/image" Target="../media/image45.png"/><Relationship Id="rId11" Type="http://schemas.openxmlformats.org/officeDocument/2006/relationships/image" Target="../media/image46.png"/><Relationship Id="rId12" Type="http://schemas.openxmlformats.org/officeDocument/2006/relationships/slideLayout" Target="../slideLayouts/slideLayout49.xml"/><Relationship Id="rId1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53.gif"/><Relationship Id="rId3" Type="http://schemas.openxmlformats.org/officeDocument/2006/relationships/image" Target="../media/image54.gif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3.gi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4.gif"/><Relationship Id="rId13" Type="http://schemas.openxmlformats.org/officeDocument/2006/relationships/slideLayout" Target="../slideLayouts/slideLayout25.xml"/><Relationship Id="rId1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21.wmf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49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1042920" y="1699920"/>
            <a:ext cx="68724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omic Sans MS"/>
              </a:rPr>
              <a:t>Кодирование  информации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какой форме может быть закодирована информаци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8" name="Picture 4" descr="BD00023_"/>
          <p:cNvPicPr/>
          <p:nvPr/>
        </p:nvPicPr>
        <p:blipFill>
          <a:blip r:embed="rId1"/>
          <a:stretch/>
        </p:blipFill>
        <p:spPr>
          <a:xfrm>
            <a:off x="1332000" y="1557360"/>
            <a:ext cx="863640" cy="787320"/>
          </a:xfrm>
          <a:prstGeom prst="rect">
            <a:avLst/>
          </a:prstGeom>
          <a:ln w="0">
            <a:noFill/>
          </a:ln>
        </p:spPr>
      </p:pic>
      <p:pic>
        <p:nvPicPr>
          <p:cNvPr id="1389" name="Picture 5" descr="BD05090_"/>
          <p:cNvPicPr/>
          <p:nvPr/>
        </p:nvPicPr>
        <p:blipFill>
          <a:blip r:embed="rId2"/>
          <a:stretch/>
        </p:blipFill>
        <p:spPr>
          <a:xfrm>
            <a:off x="4572000" y="4149720"/>
            <a:ext cx="1327320" cy="1200240"/>
          </a:xfrm>
          <a:prstGeom prst="rect">
            <a:avLst/>
          </a:prstGeom>
          <a:ln w="0">
            <a:noFill/>
          </a:ln>
        </p:spPr>
      </p:pic>
      <p:pic>
        <p:nvPicPr>
          <p:cNvPr id="1390" name="Picture 6" descr="BD05092_"/>
          <p:cNvPicPr/>
          <p:nvPr/>
        </p:nvPicPr>
        <p:blipFill>
          <a:blip r:embed="rId3"/>
          <a:stretch/>
        </p:blipFill>
        <p:spPr>
          <a:xfrm>
            <a:off x="5724360" y="1773360"/>
            <a:ext cx="1211400" cy="1098360"/>
          </a:xfrm>
          <a:prstGeom prst="rect">
            <a:avLst/>
          </a:prstGeom>
          <a:ln w="0">
            <a:noFill/>
          </a:ln>
        </p:spPr>
      </p:pic>
      <p:pic>
        <p:nvPicPr>
          <p:cNvPr id="1391" name="Picture 8" descr="BD07139_"/>
          <p:cNvPicPr/>
          <p:nvPr/>
        </p:nvPicPr>
        <p:blipFill>
          <a:blip r:embed="rId4"/>
          <a:stretch/>
        </p:blipFill>
        <p:spPr>
          <a:xfrm>
            <a:off x="1692360" y="2708280"/>
            <a:ext cx="923760" cy="1224000"/>
          </a:xfrm>
          <a:prstGeom prst="rect">
            <a:avLst/>
          </a:prstGeom>
          <a:ln w="0">
            <a:noFill/>
          </a:ln>
        </p:spPr>
      </p:pic>
      <p:pic>
        <p:nvPicPr>
          <p:cNvPr id="1392" name="Picture 9" descr="BD07173_"/>
          <p:cNvPicPr/>
          <p:nvPr/>
        </p:nvPicPr>
        <p:blipFill>
          <a:blip r:embed="rId5"/>
          <a:stretch/>
        </p:blipFill>
        <p:spPr>
          <a:xfrm>
            <a:off x="468360" y="3500280"/>
            <a:ext cx="1328760" cy="1128960"/>
          </a:xfrm>
          <a:prstGeom prst="rect">
            <a:avLst/>
          </a:prstGeom>
          <a:ln w="0">
            <a:noFill/>
          </a:ln>
        </p:spPr>
      </p:pic>
      <p:pic>
        <p:nvPicPr>
          <p:cNvPr id="1393" name="Picture 10" descr="EN00753_"/>
          <p:cNvPicPr/>
          <p:nvPr/>
        </p:nvPicPr>
        <p:blipFill>
          <a:blip r:embed="rId6"/>
          <a:stretch/>
        </p:blipFill>
        <p:spPr>
          <a:xfrm>
            <a:off x="3276720" y="4221000"/>
            <a:ext cx="1441440" cy="1025640"/>
          </a:xfrm>
          <a:prstGeom prst="rect">
            <a:avLst/>
          </a:prstGeom>
          <a:ln w="0">
            <a:noFill/>
          </a:ln>
        </p:spPr>
      </p:pic>
      <p:pic>
        <p:nvPicPr>
          <p:cNvPr id="1394" name="Picture 11" descr="BS00809_"/>
          <p:cNvPicPr/>
          <p:nvPr/>
        </p:nvPicPr>
        <p:blipFill>
          <a:blip r:embed="rId7"/>
          <a:stretch/>
        </p:blipFill>
        <p:spPr>
          <a:xfrm>
            <a:off x="2987640" y="5157720"/>
            <a:ext cx="1546200" cy="1392480"/>
          </a:xfrm>
          <a:prstGeom prst="rect">
            <a:avLst/>
          </a:prstGeom>
          <a:ln w="0">
            <a:noFill/>
          </a:ln>
        </p:spPr>
      </p:pic>
      <p:pic>
        <p:nvPicPr>
          <p:cNvPr id="1395" name="Picture 12" descr="BS00935_"/>
          <p:cNvPicPr/>
          <p:nvPr/>
        </p:nvPicPr>
        <p:blipFill>
          <a:blip r:embed="rId8"/>
          <a:stretch/>
        </p:blipFill>
        <p:spPr>
          <a:xfrm>
            <a:off x="7380360" y="2421000"/>
            <a:ext cx="1114200" cy="1163520"/>
          </a:xfrm>
          <a:prstGeom prst="rect">
            <a:avLst/>
          </a:prstGeom>
          <a:ln w="0">
            <a:noFill/>
          </a:ln>
        </p:spPr>
      </p:pic>
      <p:pic>
        <p:nvPicPr>
          <p:cNvPr id="1396" name="Picture 13" descr="BS01112_"/>
          <p:cNvPicPr/>
          <p:nvPr/>
        </p:nvPicPr>
        <p:blipFill>
          <a:blip r:embed="rId9"/>
          <a:stretch/>
        </p:blipFill>
        <p:spPr>
          <a:xfrm>
            <a:off x="6012000" y="2708280"/>
            <a:ext cx="1433520" cy="1171440"/>
          </a:xfrm>
          <a:prstGeom prst="rect">
            <a:avLst/>
          </a:prstGeom>
          <a:ln w="0">
            <a:noFill/>
          </a:ln>
        </p:spPr>
      </p:pic>
      <p:pic>
        <p:nvPicPr>
          <p:cNvPr id="1397" name="Picture 14" descr=""/>
          <p:cNvPicPr/>
          <p:nvPr/>
        </p:nvPicPr>
        <p:blipFill>
          <a:blip r:embed="rId10"/>
          <a:stretch/>
        </p:blipFill>
        <p:spPr>
          <a:xfrm>
            <a:off x="4572000" y="5300640"/>
            <a:ext cx="955800" cy="1197000"/>
          </a:xfrm>
          <a:prstGeom prst="rect">
            <a:avLst/>
          </a:prstGeom>
          <a:ln w="0">
            <a:noFill/>
          </a:ln>
        </p:spPr>
      </p:pic>
      <p:pic>
        <p:nvPicPr>
          <p:cNvPr id="1398" name="Picture 7" descr="BD05099_"/>
          <p:cNvPicPr/>
          <p:nvPr/>
        </p:nvPicPr>
        <p:blipFill>
          <a:blip r:embed="rId11"/>
          <a:stretch/>
        </p:blipFill>
        <p:spPr>
          <a:xfrm>
            <a:off x="611280" y="2205000"/>
            <a:ext cx="772920" cy="1152720"/>
          </a:xfrm>
          <a:prstGeom prst="rect">
            <a:avLst/>
          </a:prstGeom>
          <a:ln w="0">
            <a:noFill/>
          </a:ln>
        </p:spPr>
      </p:pic>
      <p:pic>
        <p:nvPicPr>
          <p:cNvPr id="1399" name="Picture 16" descr=""/>
          <p:cNvPicPr/>
          <p:nvPr/>
        </p:nvPicPr>
        <p:blipFill>
          <a:blip r:embed="rId12"/>
          <a:stretch/>
        </p:blipFill>
        <p:spPr>
          <a:xfrm>
            <a:off x="1763640" y="2276640"/>
            <a:ext cx="1440000" cy="488880"/>
          </a:xfrm>
          <a:prstGeom prst="rect">
            <a:avLst/>
          </a:prstGeom>
          <a:ln w="0">
            <a:noFill/>
          </a:ln>
        </p:spPr>
      </p:pic>
      <p:pic>
        <p:nvPicPr>
          <p:cNvPr id="1400" name="Picture 17" descr="BS01323_"/>
          <p:cNvPicPr/>
          <p:nvPr/>
        </p:nvPicPr>
        <p:blipFill>
          <a:blip r:embed="rId13"/>
          <a:stretch/>
        </p:blipFill>
        <p:spPr>
          <a:xfrm rot="20703600">
            <a:off x="7092720" y="1773360"/>
            <a:ext cx="1081080" cy="969840"/>
          </a:xfrm>
          <a:prstGeom prst="rect">
            <a:avLst/>
          </a:prstGeom>
          <a:ln w="0">
            <a:noFill/>
          </a:ln>
        </p:spPr>
      </p:pic>
      <p:sp>
        <p:nvSpPr>
          <p:cNvPr id="1401" name="Oval 19"/>
          <p:cNvSpPr/>
          <p:nvPr/>
        </p:nvSpPr>
        <p:spPr>
          <a:xfrm rot="1836000">
            <a:off x="347400" y="1319040"/>
            <a:ext cx="2879640" cy="381816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2" name="Oval 20"/>
          <p:cNvSpPr/>
          <p:nvPr/>
        </p:nvSpPr>
        <p:spPr>
          <a:xfrm>
            <a:off x="2484360" y="3645000"/>
            <a:ext cx="4175280" cy="321300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3" name="Oval 21"/>
          <p:cNvSpPr/>
          <p:nvPr/>
        </p:nvSpPr>
        <p:spPr>
          <a:xfrm>
            <a:off x="5219640" y="1341360"/>
            <a:ext cx="3745080" cy="2737080"/>
          </a:xfrm>
          <a:prstGeom prst="ellipse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Что такое кодирование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пись и передача информации с помощью некоторого код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ход от одной формы представления информации к друго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07" name="Picture 5" descr="BD07224_"/>
          <p:cNvPicPr/>
          <p:nvPr/>
        </p:nvPicPr>
        <p:blipFill>
          <a:blip r:embed="rId1"/>
          <a:stretch/>
        </p:blipFill>
        <p:spPr>
          <a:xfrm>
            <a:off x="6407280" y="3357720"/>
            <a:ext cx="2736720" cy="3284280"/>
          </a:xfrm>
          <a:prstGeom prst="rect">
            <a:avLst/>
          </a:prstGeom>
          <a:ln w="0">
            <a:noFill/>
          </a:ln>
        </p:spPr>
      </p:pic>
      <p:sp>
        <p:nvSpPr>
          <p:cNvPr id="14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Разми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Азбука  Морз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1" name=""/>
          <p:cNvGraphicFramePr/>
          <p:nvPr/>
        </p:nvGraphicFramePr>
        <p:xfrm>
          <a:off x="130320" y="2251080"/>
          <a:ext cx="8893080" cy="1079640"/>
        </p:xfrm>
        <a:graphic>
          <a:graphicData uri="http://schemas.openxmlformats.org/drawingml/2006/table">
            <a:tbl>
              <a:tblPr/>
              <a:tblGrid>
                <a:gridCol w="888840"/>
                <a:gridCol w="888840"/>
                <a:gridCol w="890640"/>
                <a:gridCol w="889200"/>
                <a:gridCol w="888840"/>
                <a:gridCol w="889200"/>
                <a:gridCol w="888840"/>
                <a:gridCol w="954000"/>
                <a:gridCol w="719280"/>
                <a:gridCol w="995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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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-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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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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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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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Разми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Морская семафорная азбу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5" name="Picture 40" descr=""/>
          <p:cNvPicPr/>
          <p:nvPr/>
        </p:nvPicPr>
        <p:blipFill>
          <a:blip r:embed="rId1"/>
          <a:stretch/>
        </p:blipFill>
        <p:spPr>
          <a:xfrm>
            <a:off x="395280" y="2276640"/>
            <a:ext cx="1081080" cy="1009440"/>
          </a:xfrm>
          <a:prstGeom prst="rect">
            <a:avLst/>
          </a:prstGeom>
          <a:ln w="0">
            <a:noFill/>
          </a:ln>
        </p:spPr>
      </p:pic>
      <p:pic>
        <p:nvPicPr>
          <p:cNvPr id="1416" name="Picture 41" descr=""/>
          <p:cNvPicPr/>
          <p:nvPr/>
        </p:nvPicPr>
        <p:blipFill>
          <a:blip r:embed="rId2"/>
          <a:stretch/>
        </p:blipFill>
        <p:spPr>
          <a:xfrm>
            <a:off x="1332000" y="2781360"/>
            <a:ext cx="1079280" cy="1031760"/>
          </a:xfrm>
          <a:prstGeom prst="rect">
            <a:avLst/>
          </a:prstGeom>
          <a:ln w="0">
            <a:noFill/>
          </a:ln>
        </p:spPr>
      </p:pic>
      <p:pic>
        <p:nvPicPr>
          <p:cNvPr id="1417" name="Picture 42" descr=""/>
          <p:cNvPicPr/>
          <p:nvPr/>
        </p:nvPicPr>
        <p:blipFill>
          <a:blip r:embed="rId3"/>
          <a:stretch/>
        </p:blipFill>
        <p:spPr>
          <a:xfrm>
            <a:off x="2050920" y="2205000"/>
            <a:ext cx="1008360" cy="996840"/>
          </a:xfrm>
          <a:prstGeom prst="rect">
            <a:avLst/>
          </a:prstGeom>
          <a:ln w="0">
            <a:noFill/>
          </a:ln>
        </p:spPr>
      </p:pic>
      <p:pic>
        <p:nvPicPr>
          <p:cNvPr id="1418" name="Picture 43" descr=""/>
          <p:cNvPicPr/>
          <p:nvPr/>
        </p:nvPicPr>
        <p:blipFill>
          <a:blip r:embed="rId4"/>
          <a:stretch/>
        </p:blipFill>
        <p:spPr>
          <a:xfrm>
            <a:off x="2916360" y="2924280"/>
            <a:ext cx="1079280" cy="1042920"/>
          </a:xfrm>
          <a:prstGeom prst="rect">
            <a:avLst/>
          </a:prstGeom>
          <a:ln w="0">
            <a:noFill/>
          </a:ln>
        </p:spPr>
      </p:pic>
      <p:pic>
        <p:nvPicPr>
          <p:cNvPr id="1419" name="Picture 44" descr=""/>
          <p:cNvPicPr/>
          <p:nvPr/>
        </p:nvPicPr>
        <p:blipFill>
          <a:blip r:embed="rId5"/>
          <a:stretch/>
        </p:blipFill>
        <p:spPr>
          <a:xfrm>
            <a:off x="3924360" y="2205000"/>
            <a:ext cx="1008000" cy="984240"/>
          </a:xfrm>
          <a:prstGeom prst="rect">
            <a:avLst/>
          </a:prstGeom>
          <a:ln w="0">
            <a:noFill/>
          </a:ln>
        </p:spPr>
      </p:pic>
      <p:pic>
        <p:nvPicPr>
          <p:cNvPr id="1420" name="Picture 45" descr=""/>
          <p:cNvPicPr/>
          <p:nvPr/>
        </p:nvPicPr>
        <p:blipFill>
          <a:blip r:embed="rId6"/>
          <a:stretch/>
        </p:blipFill>
        <p:spPr>
          <a:xfrm>
            <a:off x="4716360" y="2924280"/>
            <a:ext cx="1079640" cy="1042920"/>
          </a:xfrm>
          <a:prstGeom prst="rect">
            <a:avLst/>
          </a:prstGeom>
          <a:ln w="0">
            <a:noFill/>
          </a:ln>
        </p:spPr>
      </p:pic>
      <p:pic>
        <p:nvPicPr>
          <p:cNvPr id="1421" name="Picture 46" descr=""/>
          <p:cNvPicPr/>
          <p:nvPr/>
        </p:nvPicPr>
        <p:blipFill>
          <a:blip r:embed="rId7"/>
          <a:stretch/>
        </p:blipFill>
        <p:spPr>
          <a:xfrm>
            <a:off x="5364000" y="2209680"/>
            <a:ext cx="1079640" cy="1032120"/>
          </a:xfrm>
          <a:prstGeom prst="rect">
            <a:avLst/>
          </a:prstGeom>
          <a:ln w="0">
            <a:noFill/>
          </a:ln>
        </p:spPr>
      </p:pic>
      <p:pic>
        <p:nvPicPr>
          <p:cNvPr id="1422" name="Picture 47" descr=""/>
          <p:cNvPicPr/>
          <p:nvPr/>
        </p:nvPicPr>
        <p:blipFill>
          <a:blip r:embed="rId8"/>
          <a:stretch/>
        </p:blipFill>
        <p:spPr>
          <a:xfrm>
            <a:off x="6227640" y="2997360"/>
            <a:ext cx="1008360" cy="996840"/>
          </a:xfrm>
          <a:prstGeom prst="rect">
            <a:avLst/>
          </a:prstGeom>
          <a:ln w="0">
            <a:noFill/>
          </a:ln>
        </p:spPr>
      </p:pic>
      <p:pic>
        <p:nvPicPr>
          <p:cNvPr id="1423" name="Picture 48" descr=""/>
          <p:cNvPicPr/>
          <p:nvPr/>
        </p:nvPicPr>
        <p:blipFill>
          <a:blip r:embed="rId9"/>
          <a:stretch/>
        </p:blipFill>
        <p:spPr>
          <a:xfrm>
            <a:off x="6732720" y="2205000"/>
            <a:ext cx="1008000" cy="954000"/>
          </a:xfrm>
          <a:prstGeom prst="rect">
            <a:avLst/>
          </a:prstGeom>
          <a:ln w="0">
            <a:noFill/>
          </a:ln>
        </p:spPr>
      </p:pic>
      <p:pic>
        <p:nvPicPr>
          <p:cNvPr id="1424" name="Picture 49" descr=""/>
          <p:cNvPicPr/>
          <p:nvPr/>
        </p:nvPicPr>
        <p:blipFill>
          <a:blip r:embed="rId10"/>
          <a:stretch/>
        </p:blipFill>
        <p:spPr>
          <a:xfrm>
            <a:off x="7524720" y="2997360"/>
            <a:ext cx="1008000" cy="961920"/>
          </a:xfrm>
          <a:prstGeom prst="rect">
            <a:avLst/>
          </a:prstGeom>
          <a:ln w="0">
            <a:noFill/>
          </a:ln>
        </p:spPr>
      </p:pic>
      <p:pic>
        <p:nvPicPr>
          <p:cNvPr id="1425" name="Picture 50" descr=""/>
          <p:cNvPicPr/>
          <p:nvPr/>
        </p:nvPicPr>
        <p:blipFill>
          <a:blip r:embed="rId11"/>
          <a:stretch/>
        </p:blipFill>
        <p:spPr>
          <a:xfrm>
            <a:off x="7956720" y="2071800"/>
            <a:ext cx="1020600" cy="942840"/>
          </a:xfrm>
          <a:prstGeom prst="rect">
            <a:avLst/>
          </a:prstGeom>
          <a:ln w="0">
            <a:noFill/>
          </a:ln>
        </p:spPr>
      </p:pic>
      <p:sp>
        <p:nvSpPr>
          <p:cNvPr id="14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чебник, п.1.6, 1.7 (вопросы и задания устно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Т: №15, 16, 17,18 (стр.18-2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Компьютерный  практику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1" name="Picture 7" descr="111"/>
          <p:cNvPicPr/>
          <p:nvPr/>
        </p:nvPicPr>
        <p:blipFill>
          <a:blip r:embed="rId1"/>
          <a:stretch/>
        </p:blipFill>
        <p:spPr>
          <a:xfrm>
            <a:off x="0" y="907920"/>
            <a:ext cx="7775640" cy="5835960"/>
          </a:xfrm>
          <a:prstGeom prst="rect">
            <a:avLst/>
          </a:prstGeom>
          <a:ln w="0">
            <a:noFill/>
          </a:ln>
        </p:spPr>
      </p:pic>
      <p:pic>
        <p:nvPicPr>
          <p:cNvPr id="1432" name="Picture 8" descr="111"/>
          <p:cNvPicPr/>
          <p:nvPr/>
        </p:nvPicPr>
        <p:blipFill>
          <a:blip r:embed="rId2"/>
          <a:stretch/>
        </p:blipFill>
        <p:spPr>
          <a:xfrm>
            <a:off x="5003640" y="1052640"/>
            <a:ext cx="3578400" cy="2641320"/>
          </a:xfrm>
          <a:prstGeom prst="rect">
            <a:avLst/>
          </a:prstGeom>
          <a:ln w="0">
            <a:noFill/>
          </a:ln>
        </p:spPr>
      </p:pic>
      <p:pic>
        <p:nvPicPr>
          <p:cNvPr id="1433" name="Picture 9" descr="111"/>
          <p:cNvPicPr/>
          <p:nvPr/>
        </p:nvPicPr>
        <p:blipFill>
          <a:blip r:embed="rId3"/>
          <a:stretch/>
        </p:blipFill>
        <p:spPr>
          <a:xfrm>
            <a:off x="5867280" y="2637000"/>
            <a:ext cx="3276720" cy="2404800"/>
          </a:xfrm>
          <a:prstGeom prst="rect">
            <a:avLst/>
          </a:prstGeom>
          <a:ln w="0">
            <a:noFill/>
          </a:ln>
        </p:spPr>
      </p:pic>
      <p:pic>
        <p:nvPicPr>
          <p:cNvPr id="1434" name="Picture 10" descr="111"/>
          <p:cNvPicPr/>
          <p:nvPr/>
        </p:nvPicPr>
        <p:blipFill>
          <a:blip r:embed="rId4"/>
          <a:stretch/>
        </p:blipFill>
        <p:spPr>
          <a:xfrm>
            <a:off x="6318360" y="4773600"/>
            <a:ext cx="2825640" cy="2084400"/>
          </a:xfrm>
          <a:prstGeom prst="rect">
            <a:avLst/>
          </a:prstGeom>
          <a:ln w="0">
            <a:noFill/>
          </a:ln>
        </p:spPr>
      </p:pic>
      <p:sp>
        <p:nvSpPr>
          <p:cNvPr id="14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Игра «Что бы это значило?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7" name="Picture 5" descr="111"/>
          <p:cNvPicPr/>
          <p:nvPr/>
        </p:nvPicPr>
        <p:blipFill>
          <a:blip r:embed="rId1"/>
          <a:stretch/>
        </p:blipFill>
        <p:spPr>
          <a:xfrm>
            <a:off x="0" y="1197000"/>
            <a:ext cx="8675640" cy="4995720"/>
          </a:xfrm>
          <a:prstGeom prst="rect">
            <a:avLst/>
          </a:prstGeom>
          <a:ln w="0">
            <a:noFill/>
          </a:ln>
        </p:spPr>
      </p:pic>
      <p:sp>
        <p:nvSpPr>
          <p:cNvPr id="14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Игра «Что бы это значило?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0" name="Picture 4" descr="J0078742"/>
          <p:cNvPicPr/>
          <p:nvPr/>
        </p:nvPicPr>
        <p:blipFill>
          <a:blip r:embed="rId1"/>
          <a:stretch/>
        </p:blipFill>
        <p:spPr>
          <a:xfrm>
            <a:off x="539640" y="1484280"/>
            <a:ext cx="3168720" cy="2886120"/>
          </a:xfrm>
          <a:prstGeom prst="rect">
            <a:avLst/>
          </a:prstGeom>
          <a:ln w="0">
            <a:noFill/>
          </a:ln>
        </p:spPr>
      </p:pic>
      <p:pic>
        <p:nvPicPr>
          <p:cNvPr id="1441" name="Picture 6" descr="AG00373_"/>
          <p:cNvPicPr/>
          <p:nvPr/>
        </p:nvPicPr>
        <p:blipFill>
          <a:blip r:embed="rId2"/>
          <a:stretch/>
        </p:blipFill>
        <p:spPr>
          <a:xfrm>
            <a:off x="5148360" y="1628640"/>
            <a:ext cx="2879640" cy="2768760"/>
          </a:xfrm>
          <a:prstGeom prst="rect">
            <a:avLst/>
          </a:prstGeom>
          <a:ln w="0">
            <a:noFill/>
          </a:ln>
        </p:spPr>
      </p:pic>
      <p:pic>
        <p:nvPicPr>
          <p:cNvPr id="1442" name="Picture 7" descr="AG00339_"/>
          <p:cNvPicPr/>
          <p:nvPr/>
        </p:nvPicPr>
        <p:blipFill>
          <a:blip r:embed="rId3"/>
          <a:stretch/>
        </p:blipFill>
        <p:spPr>
          <a:xfrm rot="16200000">
            <a:off x="3585960" y="4701960"/>
            <a:ext cx="2448000" cy="1485720"/>
          </a:xfrm>
          <a:prstGeom prst="rect">
            <a:avLst/>
          </a:prstGeom>
          <a:ln w="0">
            <a:noFill/>
          </a:ln>
        </p:spPr>
      </p:pic>
      <p:sp>
        <p:nvSpPr>
          <p:cNvPr id="14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3" dur="2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8" dur="2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3" dur="2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Игра «Что бы это значило?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5" name="Picture 4" descr="111"/>
          <p:cNvPicPr/>
          <p:nvPr/>
        </p:nvPicPr>
        <p:blipFill>
          <a:blip r:embed="rId1"/>
          <a:stretch/>
        </p:blipFill>
        <p:spPr>
          <a:xfrm rot="21382800">
            <a:off x="250560" y="1628280"/>
            <a:ext cx="2516040" cy="3168720"/>
          </a:xfrm>
          <a:prstGeom prst="rect">
            <a:avLst/>
          </a:prstGeom>
          <a:ln w="0">
            <a:noFill/>
          </a:ln>
        </p:spPr>
      </p:pic>
      <p:pic>
        <p:nvPicPr>
          <p:cNvPr id="1446" name="Picture 5" descr="111"/>
          <p:cNvPicPr/>
          <p:nvPr/>
        </p:nvPicPr>
        <p:blipFill>
          <a:blip r:embed="rId2"/>
          <a:stretch/>
        </p:blipFill>
        <p:spPr>
          <a:xfrm>
            <a:off x="2843280" y="1413000"/>
            <a:ext cx="3003480" cy="3095640"/>
          </a:xfrm>
          <a:prstGeom prst="rect">
            <a:avLst/>
          </a:prstGeom>
          <a:ln w="0">
            <a:noFill/>
          </a:ln>
        </p:spPr>
      </p:pic>
      <p:pic>
        <p:nvPicPr>
          <p:cNvPr id="1447" name="Picture 6" descr="111"/>
          <p:cNvPicPr/>
          <p:nvPr/>
        </p:nvPicPr>
        <p:blipFill>
          <a:blip r:embed="rId3"/>
          <a:stretch/>
        </p:blipFill>
        <p:spPr>
          <a:xfrm rot="275400">
            <a:off x="6011640" y="1628640"/>
            <a:ext cx="2728800" cy="3168720"/>
          </a:xfrm>
          <a:prstGeom prst="rect">
            <a:avLst/>
          </a:prstGeom>
          <a:ln w="0">
            <a:noFill/>
          </a:ln>
        </p:spPr>
      </p:pic>
      <p:sp>
        <p:nvSpPr>
          <p:cNvPr id="14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Итоги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1" name="Picture 4" descr="AG00373_"/>
          <p:cNvPicPr/>
          <p:nvPr/>
        </p:nvPicPr>
        <p:blipFill>
          <a:blip r:embed="rId1"/>
          <a:stretch/>
        </p:blipFill>
        <p:spPr>
          <a:xfrm>
            <a:off x="2484360" y="1773360"/>
            <a:ext cx="3745080" cy="3600360"/>
          </a:xfrm>
          <a:prstGeom prst="rect">
            <a:avLst/>
          </a:prstGeom>
          <a:ln w="0">
            <a:noFill/>
          </a:ln>
        </p:spPr>
      </p:pic>
      <p:sp>
        <p:nvSpPr>
          <p:cNvPr id="14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0" dur="2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ПОВТОРЕНИ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2438280" y="1268280"/>
            <a:ext cx="6400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то такое ИНФОРМАЦИЯ для человек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ие действия человек совершает с информацие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 человек может сохранить информацию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ие современные носители информации вам известны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верка  домашнего задания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Т №3, стр.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9" name="Picture 4" descr="BS00264_"/>
          <p:cNvPicPr/>
          <p:nvPr/>
        </p:nvPicPr>
        <p:blipFill>
          <a:blip r:embed="rId1"/>
          <a:stretch/>
        </p:blipFill>
        <p:spPr>
          <a:xfrm>
            <a:off x="3203640" y="5229360"/>
            <a:ext cx="1193760" cy="1182600"/>
          </a:xfrm>
          <a:prstGeom prst="rect">
            <a:avLst/>
          </a:prstGeom>
          <a:ln w="0">
            <a:noFill/>
          </a:ln>
        </p:spPr>
      </p:pic>
      <p:pic>
        <p:nvPicPr>
          <p:cNvPr id="1340" name="Picture 5" descr="BS00287_"/>
          <p:cNvPicPr/>
          <p:nvPr/>
        </p:nvPicPr>
        <p:blipFill>
          <a:blip r:embed="rId2"/>
          <a:stretch/>
        </p:blipFill>
        <p:spPr>
          <a:xfrm>
            <a:off x="7380360" y="5157720"/>
            <a:ext cx="1360440" cy="1170000"/>
          </a:xfrm>
          <a:prstGeom prst="rect">
            <a:avLst/>
          </a:prstGeom>
          <a:ln w="0">
            <a:noFill/>
          </a:ln>
        </p:spPr>
      </p:pic>
      <p:pic>
        <p:nvPicPr>
          <p:cNvPr id="1341" name="Picture 6" descr="BS00552_"/>
          <p:cNvPicPr/>
          <p:nvPr/>
        </p:nvPicPr>
        <p:blipFill>
          <a:blip r:embed="rId3"/>
          <a:stretch/>
        </p:blipFill>
        <p:spPr>
          <a:xfrm>
            <a:off x="395280" y="1700280"/>
            <a:ext cx="2533680" cy="2133360"/>
          </a:xfrm>
          <a:prstGeom prst="rect">
            <a:avLst/>
          </a:prstGeom>
          <a:ln w="0">
            <a:noFill/>
          </a:ln>
        </p:spPr>
      </p:pic>
      <p:pic>
        <p:nvPicPr>
          <p:cNvPr id="1342" name="Picture 7" descr="BS00649_"/>
          <p:cNvPicPr/>
          <p:nvPr/>
        </p:nvPicPr>
        <p:blipFill>
          <a:blip r:embed="rId4"/>
          <a:stretch/>
        </p:blipFill>
        <p:spPr>
          <a:xfrm>
            <a:off x="3132000" y="1844640"/>
            <a:ext cx="1656000" cy="1451160"/>
          </a:xfrm>
          <a:prstGeom prst="rect">
            <a:avLst/>
          </a:prstGeom>
          <a:ln w="0">
            <a:noFill/>
          </a:ln>
        </p:spPr>
      </p:pic>
      <p:pic>
        <p:nvPicPr>
          <p:cNvPr id="1343" name="Picture 8" descr="BS00800_"/>
          <p:cNvPicPr/>
          <p:nvPr/>
        </p:nvPicPr>
        <p:blipFill>
          <a:blip r:embed="rId5"/>
          <a:stretch/>
        </p:blipFill>
        <p:spPr>
          <a:xfrm>
            <a:off x="6588000" y="2852640"/>
            <a:ext cx="1650960" cy="2021040"/>
          </a:xfrm>
          <a:prstGeom prst="rect">
            <a:avLst/>
          </a:prstGeom>
          <a:ln w="0">
            <a:noFill/>
          </a:ln>
        </p:spPr>
      </p:pic>
      <p:pic>
        <p:nvPicPr>
          <p:cNvPr id="1344" name="Picture 9" descr="EN00270_"/>
          <p:cNvPicPr/>
          <p:nvPr/>
        </p:nvPicPr>
        <p:blipFill>
          <a:blip r:embed="rId6"/>
          <a:stretch/>
        </p:blipFill>
        <p:spPr>
          <a:xfrm>
            <a:off x="4788000" y="1341360"/>
            <a:ext cx="1441440" cy="1892520"/>
          </a:xfrm>
          <a:prstGeom prst="rect">
            <a:avLst/>
          </a:prstGeom>
          <a:ln w="0">
            <a:noFill/>
          </a:ln>
        </p:spPr>
      </p:pic>
      <p:pic>
        <p:nvPicPr>
          <p:cNvPr id="1345" name="Picture 10" descr="EN00272_"/>
          <p:cNvPicPr/>
          <p:nvPr/>
        </p:nvPicPr>
        <p:blipFill>
          <a:blip r:embed="rId7"/>
          <a:stretch/>
        </p:blipFill>
        <p:spPr>
          <a:xfrm>
            <a:off x="4427640" y="3500280"/>
            <a:ext cx="1566720" cy="1657440"/>
          </a:xfrm>
          <a:prstGeom prst="rect">
            <a:avLst/>
          </a:prstGeom>
          <a:ln w="0">
            <a:noFill/>
          </a:ln>
        </p:spPr>
      </p:pic>
      <p:pic>
        <p:nvPicPr>
          <p:cNvPr id="1346" name="Picture 11" descr="EN00321_"/>
          <p:cNvPicPr/>
          <p:nvPr/>
        </p:nvPicPr>
        <p:blipFill>
          <a:blip r:embed="rId8"/>
          <a:stretch/>
        </p:blipFill>
        <p:spPr>
          <a:xfrm>
            <a:off x="6877080" y="1268280"/>
            <a:ext cx="1584360" cy="1243080"/>
          </a:xfrm>
          <a:prstGeom prst="rect">
            <a:avLst/>
          </a:prstGeom>
          <a:ln w="0">
            <a:noFill/>
          </a:ln>
        </p:spPr>
      </p:pic>
      <p:pic>
        <p:nvPicPr>
          <p:cNvPr id="1347" name="Picture 12" descr="EN00377_"/>
          <p:cNvPicPr/>
          <p:nvPr/>
        </p:nvPicPr>
        <p:blipFill>
          <a:blip r:embed="rId9"/>
          <a:stretch/>
        </p:blipFill>
        <p:spPr>
          <a:xfrm>
            <a:off x="2484360" y="3573360"/>
            <a:ext cx="1798560" cy="1503360"/>
          </a:xfrm>
          <a:prstGeom prst="rect">
            <a:avLst/>
          </a:prstGeom>
          <a:ln w="0">
            <a:noFill/>
          </a:ln>
        </p:spPr>
      </p:pic>
      <p:pic>
        <p:nvPicPr>
          <p:cNvPr id="1348" name="Picture 13" descr="EN00664_"/>
          <p:cNvPicPr/>
          <p:nvPr/>
        </p:nvPicPr>
        <p:blipFill>
          <a:blip r:embed="rId10"/>
          <a:stretch/>
        </p:blipFill>
        <p:spPr>
          <a:xfrm>
            <a:off x="395280" y="4005360"/>
            <a:ext cx="1589040" cy="2016000"/>
          </a:xfrm>
          <a:prstGeom prst="rect">
            <a:avLst/>
          </a:prstGeom>
          <a:ln w="0">
            <a:noFill/>
          </a:ln>
        </p:spPr>
      </p:pic>
      <p:pic>
        <p:nvPicPr>
          <p:cNvPr id="1349" name="Picture 14" descr="HH01639_"/>
          <p:cNvPicPr/>
          <p:nvPr/>
        </p:nvPicPr>
        <p:blipFill>
          <a:blip r:embed="rId11"/>
          <a:stretch/>
        </p:blipFill>
        <p:spPr>
          <a:xfrm>
            <a:off x="4859280" y="5084640"/>
            <a:ext cx="2578320" cy="1376640"/>
          </a:xfrm>
          <a:prstGeom prst="rect">
            <a:avLst/>
          </a:prstGeom>
          <a:ln w="0">
            <a:noFill/>
          </a:ln>
        </p:spPr>
      </p:pic>
      <p:pic>
        <p:nvPicPr>
          <p:cNvPr id="1350" name="Picture 15" descr="AG00003_"/>
          <p:cNvPicPr/>
          <p:nvPr/>
        </p:nvPicPr>
        <p:blipFill>
          <a:blip r:embed="rId12"/>
          <a:stretch/>
        </p:blipFill>
        <p:spPr>
          <a:xfrm>
            <a:off x="1476360" y="5553000"/>
            <a:ext cx="1428840" cy="1305000"/>
          </a:xfrm>
          <a:prstGeom prst="rect">
            <a:avLst/>
          </a:prstGeom>
          <a:ln w="0">
            <a:noFill/>
          </a:ln>
        </p:spPr>
      </p:pic>
      <p:sp>
        <p:nvSpPr>
          <p:cNvPr id="1351" name="Oval 16"/>
          <p:cNvSpPr/>
          <p:nvPr/>
        </p:nvSpPr>
        <p:spPr>
          <a:xfrm>
            <a:off x="2195640" y="3429000"/>
            <a:ext cx="1942920" cy="165564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2" name="Oval 17"/>
          <p:cNvSpPr/>
          <p:nvPr/>
        </p:nvSpPr>
        <p:spPr>
          <a:xfrm>
            <a:off x="3059280" y="5157720"/>
            <a:ext cx="1728720" cy="136692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3" name="Oval 18"/>
          <p:cNvSpPr/>
          <p:nvPr/>
        </p:nvSpPr>
        <p:spPr>
          <a:xfrm>
            <a:off x="7236000" y="5013360"/>
            <a:ext cx="1657080" cy="151128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4" name="Oval 19"/>
          <p:cNvSpPr/>
          <p:nvPr/>
        </p:nvSpPr>
        <p:spPr>
          <a:xfrm>
            <a:off x="6156360" y="2708280"/>
            <a:ext cx="2376360" cy="216072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5" name="Oval 20"/>
          <p:cNvSpPr/>
          <p:nvPr/>
        </p:nvSpPr>
        <p:spPr>
          <a:xfrm>
            <a:off x="4643280" y="1197000"/>
            <a:ext cx="1873440" cy="194472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Пойми  меня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1042920" y="1699920"/>
            <a:ext cx="68724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omic Sans MS"/>
              </a:rPr>
              <a:t>Кодирование  информации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179280" y="836640"/>
            <a:ext cx="896472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Что такое  КОД ?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Что  такое кодирование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4" name="Picture 6" descr="BS00847A"/>
          <p:cNvPicPr/>
          <p:nvPr/>
        </p:nvPicPr>
        <p:blipFill>
          <a:blip r:embed="rId2"/>
          <a:stretch/>
        </p:blipFill>
        <p:spPr>
          <a:xfrm>
            <a:off x="468360" y="2133720"/>
            <a:ext cx="1674720" cy="1726920"/>
          </a:xfrm>
          <a:prstGeom prst="rect">
            <a:avLst/>
          </a:prstGeom>
          <a:ln w="0">
            <a:noFill/>
          </a:ln>
        </p:spPr>
      </p:pic>
      <p:pic>
        <p:nvPicPr>
          <p:cNvPr id="1365" name="Picture 7" descr="BD05088_"/>
          <p:cNvPicPr/>
          <p:nvPr/>
        </p:nvPicPr>
        <p:blipFill>
          <a:blip r:embed="rId3"/>
          <a:stretch/>
        </p:blipFill>
        <p:spPr>
          <a:xfrm>
            <a:off x="3059280" y="2060640"/>
            <a:ext cx="1074600" cy="1920960"/>
          </a:xfrm>
          <a:prstGeom prst="rect">
            <a:avLst/>
          </a:prstGeom>
          <a:ln w="0">
            <a:noFill/>
          </a:ln>
        </p:spPr>
      </p:pic>
      <p:sp>
        <p:nvSpPr>
          <p:cNvPr id="1366" name="Rectangle 13"/>
          <p:cNvSpPr/>
          <p:nvPr/>
        </p:nvSpPr>
        <p:spPr>
          <a:xfrm>
            <a:off x="468360" y="4437000"/>
            <a:ext cx="1008000" cy="12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7" name="Rectangle 14"/>
          <p:cNvSpPr/>
          <p:nvPr/>
        </p:nvSpPr>
        <p:spPr>
          <a:xfrm>
            <a:off x="539640" y="4508640"/>
            <a:ext cx="1008000" cy="129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8" name="Rectangle 15"/>
          <p:cNvSpPr/>
          <p:nvPr/>
        </p:nvSpPr>
        <p:spPr>
          <a:xfrm>
            <a:off x="611280" y="4581360"/>
            <a:ext cx="1008000" cy="12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9" name="Rectangle 16"/>
          <p:cNvSpPr/>
          <p:nvPr/>
        </p:nvSpPr>
        <p:spPr>
          <a:xfrm>
            <a:off x="684360" y="4724280"/>
            <a:ext cx="1079280" cy="122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0" name="Text Box 17"/>
          <p:cNvSpPr/>
          <p:nvPr/>
        </p:nvSpPr>
        <p:spPr>
          <a:xfrm>
            <a:off x="1476360" y="486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1" name="Text Box 18"/>
          <p:cNvSpPr/>
          <p:nvPr/>
        </p:nvSpPr>
        <p:spPr>
          <a:xfrm>
            <a:off x="611280" y="486900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история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72" name="Picture 19" descr="j0293234"/>
          <p:cNvPicPr/>
          <p:nvPr/>
        </p:nvPicPr>
        <p:blipFill>
          <a:blip r:embed="rId4"/>
          <a:stretch/>
        </p:blipFill>
        <p:spPr>
          <a:xfrm>
            <a:off x="2700360" y="4797360"/>
            <a:ext cx="2305080" cy="1700280"/>
          </a:xfrm>
          <a:prstGeom prst="rect">
            <a:avLst/>
          </a:prstGeom>
          <a:ln w="0">
            <a:noFill/>
          </a:ln>
        </p:spPr>
      </p:pic>
      <p:pic>
        <p:nvPicPr>
          <p:cNvPr id="1373" name="Picture 20" descr="j0293238"/>
          <p:cNvPicPr/>
          <p:nvPr/>
        </p:nvPicPr>
        <p:blipFill>
          <a:blip r:embed="rId5"/>
          <a:stretch/>
        </p:blipFill>
        <p:spPr>
          <a:xfrm>
            <a:off x="4284720" y="4508640"/>
            <a:ext cx="2232000" cy="1649160"/>
          </a:xfrm>
          <a:prstGeom prst="rect">
            <a:avLst/>
          </a:prstGeom>
          <a:ln w="0">
            <a:noFill/>
          </a:ln>
        </p:spPr>
      </p:pic>
      <p:pic>
        <p:nvPicPr>
          <p:cNvPr id="1374" name="Picture 21" descr="EN00753_"/>
          <p:cNvPicPr/>
          <p:nvPr/>
        </p:nvPicPr>
        <p:blipFill>
          <a:blip r:embed="rId6"/>
          <a:stretch/>
        </p:blipFill>
        <p:spPr>
          <a:xfrm>
            <a:off x="6948360" y="2060640"/>
            <a:ext cx="1727280" cy="1228680"/>
          </a:xfrm>
          <a:prstGeom prst="rect">
            <a:avLst/>
          </a:prstGeom>
          <a:ln w="0">
            <a:noFill/>
          </a:ln>
        </p:spPr>
      </p:pic>
      <p:pic>
        <p:nvPicPr>
          <p:cNvPr id="1375" name="Picture 22" descr="EN00769_"/>
          <p:cNvPicPr/>
          <p:nvPr/>
        </p:nvPicPr>
        <p:blipFill>
          <a:blip r:embed="rId7"/>
          <a:stretch/>
        </p:blipFill>
        <p:spPr>
          <a:xfrm>
            <a:off x="7937640" y="2492280"/>
            <a:ext cx="1206360" cy="1735200"/>
          </a:xfrm>
          <a:prstGeom prst="rect">
            <a:avLst/>
          </a:prstGeom>
          <a:ln w="0">
            <a:noFill/>
          </a:ln>
        </p:spPr>
      </p:pic>
      <p:pic>
        <p:nvPicPr>
          <p:cNvPr id="1376" name="Picture 23" descr="BD07303_"/>
          <p:cNvPicPr/>
          <p:nvPr/>
        </p:nvPicPr>
        <p:blipFill>
          <a:blip r:embed="rId8"/>
          <a:stretch/>
        </p:blipFill>
        <p:spPr>
          <a:xfrm>
            <a:off x="4572000" y="2133720"/>
            <a:ext cx="1825560" cy="1817640"/>
          </a:xfrm>
          <a:prstGeom prst="rect">
            <a:avLst/>
          </a:prstGeom>
          <a:ln w="0">
            <a:noFill/>
          </a:ln>
        </p:spPr>
      </p:pic>
      <p:sp>
        <p:nvSpPr>
          <p:cNvPr id="13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Разнообразие  кодов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9" name="Text Box 3"/>
          <p:cNvSpPr/>
          <p:nvPr/>
        </p:nvSpPr>
        <p:spPr>
          <a:xfrm>
            <a:off x="250920" y="907920"/>
            <a:ext cx="828180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фавит кириллических букв (А, Б, В, Г, Д, Е, Ё, Ж …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фавит латинских букв ( А, В, С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, E, F, G, H, I … 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фавит десятичных цифр (0,1, 2, 3, 4, 5, 6, 7, 8, 9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фавит знаков зодиака (</a:t>
            </a:r>
            <a:r>
              <a:rPr b="0" lang="ru-R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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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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…. 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ематическая символика (+, -, =, ∑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мафорная азбук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бор знаков азбуки для слепых  (азбука Брайля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збука Морз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бор знаков международного телеграфного код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Штрих-код на товар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воичное кодирование информации в компьютере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(0 или 1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339933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9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3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3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3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3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3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3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3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3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20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Зачем люди кодируют информацию?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-108000" y="1915920"/>
            <a:ext cx="8964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бы скрыть ее от других (все случаи шифров и тайнопис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бы записать информацию короче. Самый простой пример - аббревиатуры. Что  такое  ООН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бы  ее  удобнее  было обрабатывать и передавать. Например, как передать информацию по телеграфу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1000"/>
                                        <p:tgtEl>
                                          <p:spTgt spid="1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1000"/>
                                        <p:tgtEl>
                                          <p:spTgt spid="1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1000"/>
                                        <p:tgtEl>
                                          <p:spTgt spid="1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08000" y="27252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От чего зависит 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способ  кодирования информации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5400" y="2276280"/>
            <a:ext cx="8226360" cy="38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Arial"/>
              </a:rPr>
              <a:t>Способ кодирования зависит от цели, ради которой оно осуществляется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6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" dur="500"/>
                                        <p:tgtEl>
                                          <p:spTgt spid="1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3T18:52:27Z</dcterms:created>
  <dc:creator>User</dc:creator>
  <dc:description/>
  <dc:language>en-US</dc:language>
  <cp:lastModifiedBy>LEGION</cp:lastModifiedBy>
  <dcterms:modified xsi:type="dcterms:W3CDTF">2015-04-01T07:38:46Z</dcterms:modified>
  <cp:revision>10</cp:revision>
  <dc:subject/>
  <dc:title>Кодирование  информации</dc:title>
</cp:coreProperties>
</file>