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png" ContentType="image/png"/>
  <Override PartName="/ppt/media/image49.jpeg" ContentType="image/jpeg"/>
  <Override PartName="/ppt/media/image15.png" ContentType="image/png"/>
  <Override PartName="/ppt/media/image14.gif" ContentType="image/gif"/>
  <Override PartName="/ppt/media/image10.wmf" ContentType="image/x-wmf"/>
  <Override PartName="/ppt/media/image1.jpeg" ContentType="image/jpeg"/>
  <Override PartName="/ppt/media/image54.gif" ContentType="image/gi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9.wmf" ContentType="image/x-wmf"/>
  <Override PartName="/ppt/media/image31.png" ContentType="image/png"/>
  <Override PartName="/ppt/media/image37.png" ContentType="image/png"/>
  <Override PartName="/ppt/media/image48.jpeg" ContentType="image/jpeg"/>
  <Override PartName="/ppt/media/image39.png" ContentType="image/png"/>
  <Override PartName="/ppt/media/image42.png" ContentType="image/png"/>
  <Override PartName="/ppt/media/image44.png" ContentType="image/png"/>
  <Override PartName="/ppt/media/image43.png" ContentType="image/png"/>
  <Override PartName="/ppt/media/image57.jpeg" ContentType="image/jpeg"/>
  <Override PartName="/ppt/media/image45.png" ContentType="image/png"/>
  <Override PartName="/ppt/media/image30.wmf" ContentType="image/x-wmf"/>
  <Override PartName="/ppt/media/image46.png" ContentType="image/png"/>
  <Override PartName="/ppt/media/image53.gif" ContentType="image/gif"/>
  <Override PartName="/ppt/media/image52.wmf" ContentType="image/x-wmf"/>
  <Override PartName="/ppt/media/image38.png" ContentType="image/png"/>
  <Override PartName="/ppt/media/image55.jpeg" ContentType="image/jpeg"/>
  <Override PartName="/ppt/media/image11.wmf" ContentType="image/x-wmf"/>
  <Override PartName="/ppt/media/image36.png" ContentType="image/png"/>
  <Override PartName="/ppt/media/image56.jpeg" ContentType="image/jpeg"/>
  <Override PartName="/ppt/media/image33.png" ContentType="image/png"/>
  <Override PartName="/ppt/media/image32.wmf" ContentType="image/x-wmf"/>
  <Override PartName="/ppt/media/image7.wmf" ContentType="image/x-wmf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50.jpeg" ContentType="image/jpeg"/>
  <Override PartName="/ppt/media/image13.wmf" ContentType="image/x-wmf"/>
  <Override PartName="/ppt/media/image12.wmf" ContentType="image/x-wmf"/>
  <Override PartName="/ppt/media/image6.wmf" ContentType="image/x-wmf"/>
  <Override PartName="/ppt/media/image4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0DA2-2628-4427-BADB-E91904935A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1EC0-5749-4544-8D47-56663653D0A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может быть закодирована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A583-09F7-4A6B-9E6A-CC6C58530DE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и передача информации с помощью некотор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одной формы представления информации к дру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DADB-BC20-45A9-9B90-580FC7B01D2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збука 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BC74-CFAD-4F63-B4BB-FCC1FC95B6C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рская 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6471-CDC0-43E8-B3F3-76FFE3F9B2E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, п.1.6, 1.7 (вопросы и задания 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: №15, 16, 17,18 (стр.18-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05A6-32D5-4B41-971E-5555EC878AA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мпьютерный 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4BBF-6396-4162-9A28-F3BAF4EEB92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3FEA-9D95-437F-B2BD-0675B85D458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CF53-A0E9-456E-B45F-C55F50CC9BF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1947-AF13-490B-928C-7E077C38102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2EF4-8589-4001-9B62-AA636080587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НФОРМАЦИЯ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действия человек совершает с информа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может сохранить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овременные носители информации вам извест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C0FE-9467-4A25-8B58-54EC1C78B6C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 домашнего зад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 №3, стр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7E08-62B2-4F43-83AA-FF8A098A179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йми  ме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BD2C-F123-4BBB-98DA-190130081C9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F454-34AD-4EE9-B10E-33FCF1EC2A2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ОД 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3CFA-ED15-47A6-85CC-2034C22CCD9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азнообразие  к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бука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знаков международного телеграфн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их-код на то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ичное кодирование информации в компьют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0 или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9A17-209A-455C-BFCA-FACDCF73916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чем люди кодируют информац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крыть ее от других (все случаи шифров и тайноп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исать информацию короче. Самый простой пример - аббревиатуры. Что  такое  ООН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E472-2BFA-46E1-BB65-D5FFDF0D332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чего зависит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особ  кодирования информации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кодирования зависит от цели, ради которой оно осущест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3BEE-0C42-4508-B57F-2DB28D0A809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3FC-A33C-4236-A641-F5035913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107-FD5B-4E3B-8BC9-6D066B4E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E40DB-CD44-40A8-9230-446DCA9B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3B496-2771-403B-AE67-AD6A00DC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E8054-89BF-43F2-A5CE-40739BF2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C817A-A15B-4F01-8C59-57F7C8F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0349E-A902-4BE6-986A-29EC3B0D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7115D-BA52-458A-8DDC-35B15854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D12B5-97C5-4137-BCE3-006FE265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62986-44EE-4038-8642-67B5F80E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37418-6DF4-4545-827B-62EC279E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F1A69-C8D8-46A1-A205-6078DE08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821-6373-4B58-90C8-FD026B59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3C2E4-8EA8-4238-8AAA-04D1BDB5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EFF72-DA0F-4530-A3CC-5F844D52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DD3A7-14D5-4343-B65F-F1043C68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D323A-7F22-4976-A86A-DCCF9CFC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2CDEF-912A-4311-8EB6-89CBFAEA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F0BF1-3CFB-481A-A970-FFA54F7A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F2221-8004-4F4D-9546-C373A264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422F6-DDDA-44C0-B915-D1AB9C64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864C3-0B8D-4681-8CA9-30EFC75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9D52E-DF3C-478D-809C-15761D4D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3A1-1AE0-4334-89AF-7312E2AE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99C65-CFB9-4B38-9B44-5C157F26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980C1-52ED-4576-A4F9-0D83BECD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4E086-2C53-402D-B7C7-A9E982EA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A4DFA-4C9C-4C17-99A0-78C058CE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4E4DE-D67A-435F-9D68-2E28C7B9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67D45-1CA5-4EFB-93CF-06864F4B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9D9CD-6C40-49A4-8972-DD63EBA1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A8318-1709-4BF9-932D-25C281A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A9333-18A2-404B-A65D-07ECB651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138DF-B9A5-4DC9-8ED7-09B35088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307E-E9E9-4FBF-B234-1C49E00C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05DB4-74AA-4DDF-94BE-32CF81C0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187B4-0D52-42B9-BE43-ABFEE69C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30D77-65D2-4FEC-906B-E3B5A297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7767A-BB80-4F3C-A3CA-64DF6E88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EAB90-C691-46D8-A32A-D1F48904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59C5A-0088-4625-8613-5F85B6B4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47A22-D8E4-4FEE-A1EA-9D407B1B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7F827-F619-492D-BACC-E3AF5175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041E4-094F-430D-80E1-CCE0EB16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71EF1-9447-4BE2-9E7D-EB09F086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7685-365F-4686-8A6C-BED2E1A3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77762-29FB-44AE-8F14-2B86A246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A5045-5F6E-4BCE-9F27-0E0E0871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94186-BDE1-450D-B7D7-7EBB6037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95451-1667-4E21-A3CE-253B586D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5E0F7-451C-4024-A794-2ADDBC9D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B0641-4838-4BEE-B5B3-DC07D91C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CB04B-4AF3-4F22-9F8D-DC33590D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09584-762B-4267-865D-835FD14A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04AA9-AF6D-4A94-B735-3E9DA03A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A6C4C-455A-451E-BDF6-517E2A5F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AACA-ED3B-4B24-AB88-EF68BA80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E12E6-14ED-46AF-8877-AA07F52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D7C9E-5B7C-47A8-81FD-96D43A1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78AA5-F730-4ED2-A5B3-ADCEEA75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6CE05-163F-41DE-8058-9E56F46C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7FC8F-39FD-4965-ADB4-A89B6DE7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B4CB0-908C-4E39-8CC2-FF5E8B1E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B4DB6-F4F4-461E-9316-64685B83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61BF9-BD21-4FD8-92E5-55E5EF43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C9DD4-6556-4ABA-8468-779AEB45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EBDB5-EEE1-468A-8FE2-58AD6E7B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304A-3DD4-4A6D-9E3F-4C40339E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30908-6D41-4D92-9186-3F7530A3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BDF77-09D9-470B-BCE4-D21834BD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609EC-6AF9-4C0F-95B8-E91B4F56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011CB-0077-4011-9DA6-1B3617D9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A22E0-5D53-49B9-ADA4-07B5307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D6427-6564-48A8-80BF-BA6DCAB5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30741-9840-47A2-957E-F459292F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3C4EF-A750-43E5-8515-4636ADE6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A50E2-76A9-42AB-B479-92E1C84A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BB9F9-28E6-4CFF-A367-748DF534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D5AB-AE83-4A56-AA79-B1C10966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6714D-7184-44E0-A07B-1895A114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E44E3-48B7-48C6-B326-98B82638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46816-6AB3-4327-B04D-313B741C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FEA9B-32EA-4111-97BC-3293785F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5682E-098D-4B29-B540-6A777B8F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57D05-AECE-44E2-BCD3-EEB49143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BAC61-7FEB-40B4-A845-A3FC30F7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AC49C-E624-423B-8804-90398B35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4F59A-0653-42D9-B621-2E871F32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E7CC2-C2A7-4605-9E19-E013E0C5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AA76-EE20-485C-B072-9E2BEE84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5C58F-0369-4017-A2A2-5325B235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EF557-7368-4C0B-AC7D-0ED8776D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E6B25-C141-44F3-AFA3-5E588FBF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52B76-401C-429C-B1A4-A21B4336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074FE-A6D5-4E6C-A90A-1724618E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F1F9F-5DDA-4D08-84A8-FA0B756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EF3A1-FF32-42A8-A815-E936A282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2A1D2-FA6E-4575-9CA6-333FCE6F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AE8CE-B91C-43A7-A861-8C16B4B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40B13-052C-4902-9498-43E7A12E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8D8B-6F03-4DC6-B0A0-7771BCD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8D642-74DA-4220-9000-2D92D9F4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E5FDD-F94B-4146-8F52-66F1C4F2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DA4BD-0A6B-4799-B94D-FC6A558B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06AA6-0403-412D-BC07-671F0899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27FAB-94FA-4667-B160-C0DAAD39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398AB-558C-440F-8DCD-D2A69B1B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4CB4A-4D33-410A-9EE9-FF09D70F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17363-F71F-4A74-B6EC-C85E6320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DE187-FC3F-440B-8C3F-BF919E8E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6CCDFF-7C18-482A-A5C0-BA33264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C93-2841-4907-9C33-9FCA54DD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FDE7-C487-40C4-B29C-5C281D98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B361D-8E6E-4586-AEDB-526C4EBF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3B958-EDF9-4D1F-9BFE-251E89EE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12E9F-3D9E-4411-B263-CA003FFF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F2A58-1723-4191-980E-899F3D8D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4043D-8FA6-4C93-9726-2673E94B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B347-C0CD-49B7-B98B-201735A1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E7A0-2573-47E4-8327-DBBE4DF9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F5AC-F559-411E-B492-6BB0E134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A85A-71F5-44B3-99EE-A7E93906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4ACEB-EE63-4AAD-B9BA-74A4FCB8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74E25-7EFE-430C-83B7-12895F77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EF8FA-DFD5-4444-AA12-F42274D3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13EFC-24ED-4F7E-9826-A341A014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76838-A3E3-4054-BDFA-975A4010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FF8-952E-4E0E-AEBA-F6969007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8E051-D01A-4AB1-8B61-3133C32F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CA870-7C62-480C-B7B3-54A079CE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B6AD9-8A9E-4705-91B3-BC850D64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6A73B-E976-4EEF-883C-D7991D6A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BBD77-C8A1-4BD6-9651-EA02463C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C0ECE-E86A-4A29-BEAD-674C3048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81533-6130-4081-BF93-5F8EA24B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8A20E-DBF6-47B4-8604-04FD064B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1CF2-D1EF-41A8-B2B4-BE2D2AD9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1D48-6D45-4E69-AA96-5C084F3E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D66-44AB-484B-871A-ED6198F0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FAA97-5884-4CF3-8F26-B5D7D81C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1B19A-4211-4912-9FAB-38D26E10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4668-2E62-460A-831E-4F09A432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D452-4203-4F22-9B8E-2925693E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A0ECC-701E-4683-ACD7-E42A5B59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A1B6-5441-4EE9-9C3A-11C05D2C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F514-DBD7-4AC7-B37E-EDD1B150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0CD45-F465-4391-8624-C674B0B5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7FFA-BC03-476B-9C8F-675F0309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FB2B-167E-4D68-97AD-05A51A0B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62A-3543-4602-953F-D796C417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293C5-E6A2-42BE-ABDA-E88BF6B1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7320-A99F-439C-B539-CF60E88D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A02CB-5EC9-4EAE-9EE7-F7EA4601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A3CF-A33C-4FA1-998B-F0039A28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09760-64C7-482E-B952-E0FD310B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62569-C4D3-4207-9D5F-5ECD1EF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81DE5-E7C9-4BF4-BB1C-AF0A9E81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B397C-EC26-4FED-8483-47CBF5A9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8A978-FAE3-4F14-96B3-64E42E9D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2525B-23AC-4C3B-95DE-735DFAD6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94F-B921-4C6A-81A3-300F8602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F4F8-988F-4CC3-BA08-D3AD3F19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1FAD5-AEFA-407D-A6E4-F964C084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6BEF9-2EEE-4213-A17D-CF17DEE2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52F6-4CD4-4903-A184-12159E9A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86ADC-452D-49F2-B406-1F097F4B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FB5DC-718D-4B02-B279-9836B5A5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E7D81-70EA-46B1-8840-ED6528DC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A4CE3-B587-498C-BF55-0EE2364C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A46D7-98EE-44B0-821F-4943AF11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890E-E100-4AAA-9B3E-18A4261A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3C2-9EF3-41AC-87D7-E6D51D6E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4E4EE-67F7-4442-B36C-96825410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15D5-4DCB-4D29-A5BD-9D384C2A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76085-7205-4E40-A697-DC486133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D9ADB-D619-4DBB-8719-082C4219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6C8F-C8BF-4533-A9A6-8CDFE013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06384-93B6-40D7-9889-5363A881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824B3-2E1B-47CE-809D-148EA965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A44E6-326D-4A93-A376-DFAC95D4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85F55-1688-4FD5-B878-04E15993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007BB-A3A8-444D-8BF1-3D1F9BB0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45D-FA97-44C3-A362-F93C97E5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20B40-1953-4BBA-BE74-3D53238A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D82BA-4858-4DC1-B968-ED7437F6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294B0-DCD9-4D16-B8D7-06E88074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226D3-9FC2-4F0C-B190-2CD8619F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92619-50F3-4641-A2D9-2277F93E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7B70F-E0BC-4504-91D4-B377E190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FCA2D-1804-47A5-B360-E3CA7129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5CF6F-4089-49D5-9020-765DF6CD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EDB83-EA33-4F56-9766-AA605BF4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57052-1FFF-4346-BA6F-0258D6B4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837-28FF-4748-9669-BA8E7F4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7DD1F-808D-484A-A975-DED3DA4B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D828-1671-4E90-9526-FF19A258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4542D-9391-4B9F-BB4C-0CED5367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7F913-85E5-4C70-A597-987068AC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E5AE8-DC8B-4115-A519-EA33F676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27793-3912-471F-AC85-971373CE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86C91-D4B3-4DBA-8780-433DB342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8A881-9E0B-4B9A-AC75-E5B6C05F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3DA9F-EC9D-47BE-BC40-EA383191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E6BF4-D62C-415E-BED4-E8EC0474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000C-9091-4F28-ADC2-FC6626EADA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0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1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C84D-F7FB-42C0-AF49-DD49D28813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0048-EBFF-452D-BE42-B0C2492571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A3B9-00E5-47DF-920C-93CE9185E3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5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3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ADC8-733E-4199-8EAD-8F8645815A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0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F7E7-0E33-483C-B5EF-26E54DBF5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0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BC37-9FA4-45D1-AC22-36B0002694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5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6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9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FD8E-AB07-4DB2-A52A-427977208E4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4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FF44-7491-4403-8E35-A814EA52808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B7E4-CD49-4305-AA68-F4C3A31679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4388-34F5-4A84-9385-AD54655AE4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51CC-329B-4A04-92BF-022B998C96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D706-AF3D-4D0B-BF61-6F1DF2154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6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C625-7B9C-45B4-9214-010103F43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7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058A-06B9-4E33-811C-F86909E6FE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2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5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6353-0E42-4D05-AFC6-D711DD5C5A0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1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8234-A430-4D5B-BC68-B602F4655C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0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png"/><Relationship Id="rId11" Type="http://schemas.openxmlformats.org/officeDocument/2006/relationships/image" Target="../media/image32.wmf"/><Relationship Id="rId12" Type="http://schemas.openxmlformats.org/officeDocument/2006/relationships/image" Target="../media/image33.png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gi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какой форме может быть закодирована информ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Picture 4" descr="BD00023_"/>
          <p:cNvPicPr/>
          <p:nvPr/>
        </p:nvPicPr>
        <p:blipFill>
          <a:blip r:embed="rId1"/>
          <a:stretch/>
        </p:blipFill>
        <p:spPr>
          <a:xfrm>
            <a:off x="1332000" y="1557360"/>
            <a:ext cx="863640" cy="78732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BD05090_"/>
          <p:cNvPicPr/>
          <p:nvPr/>
        </p:nvPicPr>
        <p:blipFill>
          <a:blip r:embed="rId2"/>
          <a:stretch/>
        </p:blipFill>
        <p:spPr>
          <a:xfrm>
            <a:off x="4572000" y="4149720"/>
            <a:ext cx="1327320" cy="120024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BD05092_"/>
          <p:cNvPicPr/>
          <p:nvPr/>
        </p:nvPicPr>
        <p:blipFill>
          <a:blip r:embed="rId3"/>
          <a:stretch/>
        </p:blipFill>
        <p:spPr>
          <a:xfrm>
            <a:off x="5724360" y="1773360"/>
            <a:ext cx="1211400" cy="109836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8" descr="BD07139_"/>
          <p:cNvPicPr/>
          <p:nvPr/>
        </p:nvPicPr>
        <p:blipFill>
          <a:blip r:embed="rId4"/>
          <a:stretch/>
        </p:blipFill>
        <p:spPr>
          <a:xfrm>
            <a:off x="1692360" y="2708280"/>
            <a:ext cx="923760" cy="122400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9" descr="BD07173_"/>
          <p:cNvPicPr/>
          <p:nvPr/>
        </p:nvPicPr>
        <p:blipFill>
          <a:blip r:embed="rId5"/>
          <a:stretch/>
        </p:blipFill>
        <p:spPr>
          <a:xfrm>
            <a:off x="468360" y="3500280"/>
            <a:ext cx="1328760" cy="112896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10" descr="EN00753_"/>
          <p:cNvPicPr/>
          <p:nvPr/>
        </p:nvPicPr>
        <p:blipFill>
          <a:blip r:embed="rId6"/>
          <a:stretch/>
        </p:blipFill>
        <p:spPr>
          <a:xfrm>
            <a:off x="3276720" y="4221000"/>
            <a:ext cx="1441440" cy="102564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11" descr="BS00809_"/>
          <p:cNvPicPr/>
          <p:nvPr/>
        </p:nvPicPr>
        <p:blipFill>
          <a:blip r:embed="rId7"/>
          <a:stretch/>
        </p:blipFill>
        <p:spPr>
          <a:xfrm>
            <a:off x="2987640" y="5157720"/>
            <a:ext cx="1546200" cy="139248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12" descr="BS00935_"/>
          <p:cNvPicPr/>
          <p:nvPr/>
        </p:nvPicPr>
        <p:blipFill>
          <a:blip r:embed="rId8"/>
          <a:stretch/>
        </p:blipFill>
        <p:spPr>
          <a:xfrm>
            <a:off x="7380360" y="2421000"/>
            <a:ext cx="1114200" cy="116352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13" descr="BS01112_"/>
          <p:cNvPicPr/>
          <p:nvPr/>
        </p:nvPicPr>
        <p:blipFill>
          <a:blip r:embed="rId9"/>
          <a:stretch/>
        </p:blipFill>
        <p:spPr>
          <a:xfrm>
            <a:off x="6012000" y="2708280"/>
            <a:ext cx="1433520" cy="117144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4" descr=""/>
          <p:cNvPicPr/>
          <p:nvPr/>
        </p:nvPicPr>
        <p:blipFill>
          <a:blip r:embed="rId10"/>
          <a:stretch/>
        </p:blipFill>
        <p:spPr>
          <a:xfrm>
            <a:off x="4572000" y="5300640"/>
            <a:ext cx="955800" cy="119700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7" descr="BD05099_"/>
          <p:cNvPicPr/>
          <p:nvPr/>
        </p:nvPicPr>
        <p:blipFill>
          <a:blip r:embed="rId11"/>
          <a:stretch/>
        </p:blipFill>
        <p:spPr>
          <a:xfrm>
            <a:off x="611280" y="220500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16" descr=""/>
          <p:cNvPicPr/>
          <p:nvPr/>
        </p:nvPicPr>
        <p:blipFill>
          <a:blip r:embed="rId12"/>
          <a:stretch/>
        </p:blipFill>
        <p:spPr>
          <a:xfrm>
            <a:off x="1763640" y="2276640"/>
            <a:ext cx="1440000" cy="48888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7" descr="BS01323_"/>
          <p:cNvPicPr/>
          <p:nvPr/>
        </p:nvPicPr>
        <p:blipFill>
          <a:blip r:embed="rId13"/>
          <a:stretch/>
        </p:blipFill>
        <p:spPr>
          <a:xfrm rot="20703600">
            <a:off x="7092720" y="1773360"/>
            <a:ext cx="1081080" cy="969840"/>
          </a:xfrm>
          <a:prstGeom prst="rect">
            <a:avLst/>
          </a:prstGeom>
          <a:ln w="0">
            <a:noFill/>
          </a:ln>
        </p:spPr>
      </p:pic>
      <p:sp>
        <p:nvSpPr>
          <p:cNvPr id="1401" name="Oval 19"/>
          <p:cNvSpPr/>
          <p:nvPr/>
        </p:nvSpPr>
        <p:spPr>
          <a:xfrm rot="1836000">
            <a:off x="347400" y="1319040"/>
            <a:ext cx="2879640" cy="3818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Oval 20"/>
          <p:cNvSpPr/>
          <p:nvPr/>
        </p:nvSpPr>
        <p:spPr>
          <a:xfrm>
            <a:off x="2484360" y="3645000"/>
            <a:ext cx="4175280" cy="32130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Oval 21"/>
          <p:cNvSpPr/>
          <p:nvPr/>
        </p:nvSpPr>
        <p:spPr>
          <a:xfrm>
            <a:off x="5219640" y="1341360"/>
            <a:ext cx="3745080" cy="273708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кодировани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ь и передача информации с помощью некоторого к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ход от одной формы представления информации к друг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7" name="Picture 5" descr="BD07224_"/>
          <p:cNvPicPr/>
          <p:nvPr/>
        </p:nvPicPr>
        <p:blipFill>
          <a:blip r:embed="rId1"/>
          <a:stretch/>
        </p:blipFill>
        <p:spPr>
          <a:xfrm>
            <a:off x="6407280" y="3357720"/>
            <a:ext cx="2736720" cy="3284280"/>
          </a:xfrm>
          <a:prstGeom prst="rect">
            <a:avLst/>
          </a:prstGeom>
          <a:ln w="0">
            <a:noFill/>
          </a:ln>
        </p:spPr>
      </p:pic>
      <p:sp>
        <p:nvSpPr>
          <p:cNvPr id="1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збука  Мор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130320" y="2251080"/>
          <a:ext cx="8893080" cy="10796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90640"/>
                <a:gridCol w="889200"/>
                <a:gridCol w="888840"/>
                <a:gridCol w="889200"/>
                <a:gridCol w="888840"/>
                <a:gridCol w="954000"/>
                <a:gridCol w="719280"/>
                <a:gridCol w="995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рская семафорная азб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Picture 40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1081080" cy="100944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41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1079280" cy="103176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42" descr=""/>
          <p:cNvPicPr/>
          <p:nvPr/>
        </p:nvPicPr>
        <p:blipFill>
          <a:blip r:embed="rId3"/>
          <a:stretch/>
        </p:blipFill>
        <p:spPr>
          <a:xfrm>
            <a:off x="2050920" y="220500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43" descr=""/>
          <p:cNvPicPr/>
          <p:nvPr/>
        </p:nvPicPr>
        <p:blipFill>
          <a:blip r:embed="rId4"/>
          <a:stretch/>
        </p:blipFill>
        <p:spPr>
          <a:xfrm>
            <a:off x="2916360" y="2924280"/>
            <a:ext cx="1079280" cy="104292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44" descr=""/>
          <p:cNvPicPr/>
          <p:nvPr/>
        </p:nvPicPr>
        <p:blipFill>
          <a:blip r:embed="rId5"/>
          <a:stretch/>
        </p:blipFill>
        <p:spPr>
          <a:xfrm>
            <a:off x="3924360" y="220500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5" descr=""/>
          <p:cNvPicPr/>
          <p:nvPr/>
        </p:nvPicPr>
        <p:blipFill>
          <a:blip r:embed="rId6"/>
          <a:stretch/>
        </p:blipFill>
        <p:spPr>
          <a:xfrm>
            <a:off x="4716360" y="2924280"/>
            <a:ext cx="1079640" cy="104292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46" descr=""/>
          <p:cNvPicPr/>
          <p:nvPr/>
        </p:nvPicPr>
        <p:blipFill>
          <a:blip r:embed="rId7"/>
          <a:stretch/>
        </p:blipFill>
        <p:spPr>
          <a:xfrm>
            <a:off x="5364000" y="2209680"/>
            <a:ext cx="1079640" cy="103212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47" descr=""/>
          <p:cNvPicPr/>
          <p:nvPr/>
        </p:nvPicPr>
        <p:blipFill>
          <a:blip r:embed="rId8"/>
          <a:stretch/>
        </p:blipFill>
        <p:spPr>
          <a:xfrm>
            <a:off x="6227640" y="299736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48" descr=""/>
          <p:cNvPicPr/>
          <p:nvPr/>
        </p:nvPicPr>
        <p:blipFill>
          <a:blip r:embed="rId9"/>
          <a:stretch/>
        </p:blipFill>
        <p:spPr>
          <a:xfrm>
            <a:off x="6732720" y="22050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49" descr=""/>
          <p:cNvPicPr/>
          <p:nvPr/>
        </p:nvPicPr>
        <p:blipFill>
          <a:blip r:embed="rId10"/>
          <a:stretch/>
        </p:blipFill>
        <p:spPr>
          <a:xfrm>
            <a:off x="7524720" y="2997360"/>
            <a:ext cx="1008000" cy="96192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50" descr=""/>
          <p:cNvPicPr/>
          <p:nvPr/>
        </p:nvPicPr>
        <p:blipFill>
          <a:blip r:embed="rId11"/>
          <a:stretch/>
        </p:blipFill>
        <p:spPr>
          <a:xfrm>
            <a:off x="7956720" y="2071800"/>
            <a:ext cx="1020600" cy="942840"/>
          </a:xfrm>
          <a:prstGeom prst="rect">
            <a:avLst/>
          </a:prstGeom>
          <a:ln w="0">
            <a:noFill/>
          </a:ln>
        </p:spPr>
      </p:pic>
      <p:sp>
        <p:nvSpPr>
          <p:cNvPr id="1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бник, п.1.6, 1.7 (вопросы и задания уст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: №15, 16, 17,18 (стр.18-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мпьютерный 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1" name="Picture 7" descr="111"/>
          <p:cNvPicPr/>
          <p:nvPr/>
        </p:nvPicPr>
        <p:blipFill>
          <a:blip r:embed="rId1"/>
          <a:stretch/>
        </p:blipFill>
        <p:spPr>
          <a:xfrm>
            <a:off x="0" y="907920"/>
            <a:ext cx="7775640" cy="583596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8" descr="111"/>
          <p:cNvPicPr/>
          <p:nvPr/>
        </p:nvPicPr>
        <p:blipFill>
          <a:blip r:embed="rId2"/>
          <a:stretch/>
        </p:blipFill>
        <p:spPr>
          <a:xfrm>
            <a:off x="5003640" y="1052640"/>
            <a:ext cx="3578400" cy="264132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9" descr="111"/>
          <p:cNvPicPr/>
          <p:nvPr/>
        </p:nvPicPr>
        <p:blipFill>
          <a:blip r:embed="rId3"/>
          <a:stretch/>
        </p:blipFill>
        <p:spPr>
          <a:xfrm>
            <a:off x="5867280" y="2637000"/>
            <a:ext cx="3276720" cy="240480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0" descr="111"/>
          <p:cNvPicPr/>
          <p:nvPr/>
        </p:nvPicPr>
        <p:blipFill>
          <a:blip r:embed="rId4"/>
          <a:stretch/>
        </p:blipFill>
        <p:spPr>
          <a:xfrm>
            <a:off x="6318360" y="4773600"/>
            <a:ext cx="2825640" cy="2084400"/>
          </a:xfrm>
          <a:prstGeom prst="rect">
            <a:avLst/>
          </a:prstGeom>
          <a:ln w="0">
            <a:noFill/>
          </a:ln>
        </p:spPr>
      </p:pic>
      <p:sp>
        <p:nvSpPr>
          <p:cNvPr id="14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5" descr="111"/>
          <p:cNvPicPr/>
          <p:nvPr/>
        </p:nvPicPr>
        <p:blipFill>
          <a:blip r:embed="rId1"/>
          <a:stretch/>
        </p:blipFill>
        <p:spPr>
          <a:xfrm>
            <a:off x="0" y="1197000"/>
            <a:ext cx="8675640" cy="4995720"/>
          </a:xfrm>
          <a:prstGeom prst="rect">
            <a:avLst/>
          </a:prstGeom>
          <a:ln w="0">
            <a:noFill/>
          </a:ln>
        </p:spPr>
      </p:pic>
      <p:sp>
        <p:nvSpPr>
          <p:cNvPr id="1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Picture 4" descr="J0078742"/>
          <p:cNvPicPr/>
          <p:nvPr/>
        </p:nvPicPr>
        <p:blipFill>
          <a:blip r:embed="rId1"/>
          <a:stretch/>
        </p:blipFill>
        <p:spPr>
          <a:xfrm>
            <a:off x="539640" y="1484280"/>
            <a:ext cx="3168720" cy="28861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6" descr="AG00373_"/>
          <p:cNvPicPr/>
          <p:nvPr/>
        </p:nvPicPr>
        <p:blipFill>
          <a:blip r:embed="rId2"/>
          <a:stretch/>
        </p:blipFill>
        <p:spPr>
          <a:xfrm>
            <a:off x="5148360" y="1628640"/>
            <a:ext cx="2879640" cy="276876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7" descr="AG00339_"/>
          <p:cNvPicPr/>
          <p:nvPr/>
        </p:nvPicPr>
        <p:blipFill>
          <a:blip r:embed="rId3"/>
          <a:stretch/>
        </p:blipFill>
        <p:spPr>
          <a:xfrm rot="16200000">
            <a:off x="3585960" y="4701960"/>
            <a:ext cx="2448000" cy="1485720"/>
          </a:xfrm>
          <a:prstGeom prst="rect">
            <a:avLst/>
          </a:prstGeom>
          <a:ln w="0">
            <a:noFill/>
          </a:ln>
        </p:spPr>
      </p:pic>
      <p:sp>
        <p:nvSpPr>
          <p:cNvPr id="1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4" descr="111"/>
          <p:cNvPicPr/>
          <p:nvPr/>
        </p:nvPicPr>
        <p:blipFill>
          <a:blip r:embed="rId1"/>
          <a:stretch/>
        </p:blipFill>
        <p:spPr>
          <a:xfrm rot="21382800">
            <a:off x="250560" y="1628280"/>
            <a:ext cx="2516040" cy="31687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5" descr="111"/>
          <p:cNvPicPr/>
          <p:nvPr/>
        </p:nvPicPr>
        <p:blipFill>
          <a:blip r:embed="rId2"/>
          <a:stretch/>
        </p:blipFill>
        <p:spPr>
          <a:xfrm>
            <a:off x="2843280" y="1413000"/>
            <a:ext cx="3003480" cy="309564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6" descr="111"/>
          <p:cNvPicPr/>
          <p:nvPr/>
        </p:nvPicPr>
        <p:blipFill>
          <a:blip r:embed="rId3"/>
          <a:stretch/>
        </p:blipFill>
        <p:spPr>
          <a:xfrm rot="275400">
            <a:off x="6011640" y="1628640"/>
            <a:ext cx="2728800" cy="3168720"/>
          </a:xfrm>
          <a:prstGeom prst="rect">
            <a:avLst/>
          </a:prstGeom>
          <a:ln w="0">
            <a:noFill/>
          </a:ln>
        </p:spPr>
      </p:pic>
      <p:sp>
        <p:nvSpPr>
          <p:cNvPr id="1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4" descr="AG00373_"/>
          <p:cNvPicPr/>
          <p:nvPr/>
        </p:nvPicPr>
        <p:blipFill>
          <a:blip r:embed="rId1"/>
          <a:stretch/>
        </p:blipFill>
        <p:spPr>
          <a:xfrm>
            <a:off x="2484360" y="1773360"/>
            <a:ext cx="3745080" cy="3600360"/>
          </a:xfrm>
          <a:prstGeom prst="rect">
            <a:avLst/>
          </a:prstGeom>
          <a:ln w="0">
            <a:noFill/>
          </a:ln>
        </p:spPr>
      </p:pic>
      <p:sp>
        <p:nvSpPr>
          <p:cNvPr id="1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2438280" y="126828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ИНФОРМАЦИЯ для челов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действия человек совершает с информаци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человек может сохранить информац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современные носители информации вам известн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 домашнего зад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 №3, стр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4" descr="BS00264_"/>
          <p:cNvPicPr/>
          <p:nvPr/>
        </p:nvPicPr>
        <p:blipFill>
          <a:blip r:embed="rId1"/>
          <a:stretch/>
        </p:blipFill>
        <p:spPr>
          <a:xfrm>
            <a:off x="3203640" y="5229360"/>
            <a:ext cx="1193760" cy="11826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5" descr="BS00287_"/>
          <p:cNvPicPr/>
          <p:nvPr/>
        </p:nvPicPr>
        <p:blipFill>
          <a:blip r:embed="rId2"/>
          <a:stretch/>
        </p:blipFill>
        <p:spPr>
          <a:xfrm>
            <a:off x="7380360" y="5157720"/>
            <a:ext cx="1360440" cy="117000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6" descr="BS00552_"/>
          <p:cNvPicPr/>
          <p:nvPr/>
        </p:nvPicPr>
        <p:blipFill>
          <a:blip r:embed="rId3"/>
          <a:stretch/>
        </p:blipFill>
        <p:spPr>
          <a:xfrm>
            <a:off x="395280" y="1700280"/>
            <a:ext cx="2533680" cy="213336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7" descr="BS00649_"/>
          <p:cNvPicPr/>
          <p:nvPr/>
        </p:nvPicPr>
        <p:blipFill>
          <a:blip r:embed="rId4"/>
          <a:stretch/>
        </p:blipFill>
        <p:spPr>
          <a:xfrm>
            <a:off x="3132000" y="1844640"/>
            <a:ext cx="1656000" cy="145116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8" descr="BS00800_"/>
          <p:cNvPicPr/>
          <p:nvPr/>
        </p:nvPicPr>
        <p:blipFill>
          <a:blip r:embed="rId5"/>
          <a:stretch/>
        </p:blipFill>
        <p:spPr>
          <a:xfrm>
            <a:off x="6588000" y="2852640"/>
            <a:ext cx="1650960" cy="202104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9" descr="EN00270_"/>
          <p:cNvPicPr/>
          <p:nvPr/>
        </p:nvPicPr>
        <p:blipFill>
          <a:blip r:embed="rId6"/>
          <a:stretch/>
        </p:blipFill>
        <p:spPr>
          <a:xfrm>
            <a:off x="4788000" y="1341360"/>
            <a:ext cx="1441440" cy="189252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0" descr="EN00272_"/>
          <p:cNvPicPr/>
          <p:nvPr/>
        </p:nvPicPr>
        <p:blipFill>
          <a:blip r:embed="rId7"/>
          <a:stretch/>
        </p:blipFill>
        <p:spPr>
          <a:xfrm>
            <a:off x="4427640" y="3500280"/>
            <a:ext cx="1566720" cy="165744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11" descr="EN00321_"/>
          <p:cNvPicPr/>
          <p:nvPr/>
        </p:nvPicPr>
        <p:blipFill>
          <a:blip r:embed="rId8"/>
          <a:stretch/>
        </p:blipFill>
        <p:spPr>
          <a:xfrm>
            <a:off x="6877080" y="1268280"/>
            <a:ext cx="1584360" cy="124308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12" descr="EN00377_"/>
          <p:cNvPicPr/>
          <p:nvPr/>
        </p:nvPicPr>
        <p:blipFill>
          <a:blip r:embed="rId9"/>
          <a:stretch/>
        </p:blipFill>
        <p:spPr>
          <a:xfrm>
            <a:off x="2484360" y="3573360"/>
            <a:ext cx="1798560" cy="150336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13" descr="EN00664_"/>
          <p:cNvPicPr/>
          <p:nvPr/>
        </p:nvPicPr>
        <p:blipFill>
          <a:blip r:embed="rId10"/>
          <a:stretch/>
        </p:blipFill>
        <p:spPr>
          <a:xfrm>
            <a:off x="395280" y="4005360"/>
            <a:ext cx="1589040" cy="201600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4" descr="HH01639_"/>
          <p:cNvPicPr/>
          <p:nvPr/>
        </p:nvPicPr>
        <p:blipFill>
          <a:blip r:embed="rId11"/>
          <a:stretch/>
        </p:blipFill>
        <p:spPr>
          <a:xfrm>
            <a:off x="4859280" y="5084640"/>
            <a:ext cx="2578320" cy="137664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5" descr="AG00003_"/>
          <p:cNvPicPr/>
          <p:nvPr/>
        </p:nvPicPr>
        <p:blipFill>
          <a:blip r:embed="rId12"/>
          <a:stretch/>
        </p:blipFill>
        <p:spPr>
          <a:xfrm>
            <a:off x="1476360" y="555300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1351" name="Oval 16"/>
          <p:cNvSpPr/>
          <p:nvPr/>
        </p:nvSpPr>
        <p:spPr>
          <a:xfrm>
            <a:off x="2195640" y="3429000"/>
            <a:ext cx="1942920" cy="1655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Oval 17"/>
          <p:cNvSpPr/>
          <p:nvPr/>
        </p:nvSpPr>
        <p:spPr>
          <a:xfrm>
            <a:off x="3059280" y="5157720"/>
            <a:ext cx="1728720" cy="13669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Oval 18"/>
          <p:cNvSpPr/>
          <p:nvPr/>
        </p:nvSpPr>
        <p:spPr>
          <a:xfrm>
            <a:off x="7236000" y="5013360"/>
            <a:ext cx="1657080" cy="15112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Oval 19"/>
          <p:cNvSpPr/>
          <p:nvPr/>
        </p:nvSpPr>
        <p:spPr>
          <a:xfrm>
            <a:off x="6156360" y="2708280"/>
            <a:ext cx="2376360" cy="2160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Oval 20"/>
          <p:cNvSpPr/>
          <p:nvPr/>
        </p:nvSpPr>
        <p:spPr>
          <a:xfrm>
            <a:off x="4643280" y="1197000"/>
            <a:ext cx="1873440" cy="1944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ойми  мен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такое  КОД ?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 такое кодирован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4" name="Picture 6" descr="BS00847A"/>
          <p:cNvPicPr/>
          <p:nvPr/>
        </p:nvPicPr>
        <p:blipFill>
          <a:blip r:embed="rId2"/>
          <a:stretch/>
        </p:blipFill>
        <p:spPr>
          <a:xfrm>
            <a:off x="468360" y="2133720"/>
            <a:ext cx="1674720" cy="172692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7" descr="BD05088_"/>
          <p:cNvPicPr/>
          <p:nvPr/>
        </p:nvPicPr>
        <p:blipFill>
          <a:blip r:embed="rId3"/>
          <a:stretch/>
        </p:blipFill>
        <p:spPr>
          <a:xfrm>
            <a:off x="3059280" y="2060640"/>
            <a:ext cx="1074600" cy="192096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13"/>
          <p:cNvSpPr/>
          <p:nvPr/>
        </p:nvSpPr>
        <p:spPr>
          <a:xfrm>
            <a:off x="468360" y="443700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Rectangle 14"/>
          <p:cNvSpPr/>
          <p:nvPr/>
        </p:nvSpPr>
        <p:spPr>
          <a:xfrm>
            <a:off x="539640" y="4508640"/>
            <a:ext cx="100800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Rectangle 15"/>
          <p:cNvSpPr/>
          <p:nvPr/>
        </p:nvSpPr>
        <p:spPr>
          <a:xfrm>
            <a:off x="611280" y="458136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Rectangle 16"/>
          <p:cNvSpPr/>
          <p:nvPr/>
        </p:nvSpPr>
        <p:spPr>
          <a:xfrm>
            <a:off x="684360" y="4724280"/>
            <a:ext cx="107928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17"/>
          <p:cNvSpPr/>
          <p:nvPr/>
        </p:nvSpPr>
        <p:spPr>
          <a:xfrm>
            <a:off x="147636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18"/>
          <p:cNvSpPr/>
          <p:nvPr/>
        </p:nvSpPr>
        <p:spPr>
          <a:xfrm>
            <a:off x="611280" y="4869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2" name="Picture 19" descr="j0293234"/>
          <p:cNvPicPr/>
          <p:nvPr/>
        </p:nvPicPr>
        <p:blipFill>
          <a:blip r:embed="rId4"/>
          <a:stretch/>
        </p:blipFill>
        <p:spPr>
          <a:xfrm>
            <a:off x="2700360" y="4797360"/>
            <a:ext cx="2305080" cy="170028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20" descr="j0293238"/>
          <p:cNvPicPr/>
          <p:nvPr/>
        </p:nvPicPr>
        <p:blipFill>
          <a:blip r:embed="rId5"/>
          <a:stretch/>
        </p:blipFill>
        <p:spPr>
          <a:xfrm>
            <a:off x="4284720" y="4508640"/>
            <a:ext cx="2232000" cy="164916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21" descr="EN00753_"/>
          <p:cNvPicPr/>
          <p:nvPr/>
        </p:nvPicPr>
        <p:blipFill>
          <a:blip r:embed="rId6"/>
          <a:stretch/>
        </p:blipFill>
        <p:spPr>
          <a:xfrm>
            <a:off x="6948360" y="2060640"/>
            <a:ext cx="1727280" cy="12286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22" descr="EN00769_"/>
          <p:cNvPicPr/>
          <p:nvPr/>
        </p:nvPicPr>
        <p:blipFill>
          <a:blip r:embed="rId7"/>
          <a:stretch/>
        </p:blipFill>
        <p:spPr>
          <a:xfrm>
            <a:off x="7937640" y="2492280"/>
            <a:ext cx="1206360" cy="173520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23" descr="BD07303_"/>
          <p:cNvPicPr/>
          <p:nvPr/>
        </p:nvPicPr>
        <p:blipFill>
          <a:blip r:embed="rId8"/>
          <a:stretch/>
        </p:blipFill>
        <p:spPr>
          <a:xfrm>
            <a:off x="4572000" y="2133720"/>
            <a:ext cx="1825560" cy="1817640"/>
          </a:xfrm>
          <a:prstGeom prst="rect">
            <a:avLst/>
          </a:prstGeom>
          <a:ln w="0">
            <a:noFill/>
          </a:ln>
        </p:spPr>
      </p:pic>
      <p:sp>
        <p:nvSpPr>
          <p:cNvPr id="13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Разнообразие  код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9" name="Text Box 3"/>
          <p:cNvSpPr/>
          <p:nvPr/>
        </p:nvSpPr>
        <p:spPr>
          <a:xfrm>
            <a:off x="250920" y="907920"/>
            <a:ext cx="8281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збука Морз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бор знаков международного телеграфного ко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трих-код на товар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оичное кодирование информации в компьютер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0 или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339933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Зачем люди кодируют информацию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-108000" y="191592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скрыть ее от других (все случаи шифров и тайнопис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записать информацию короче. Самый простой пример - аббревиатуры. Что  такое  ОО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08000" y="2725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 чего зависит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пособ  кодирования информаци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822636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Способ кодирования зависит от цели, ради которой оно осуществляется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8:52:27Z</dcterms:created>
  <dc:creator>User</dc:creator>
  <dc:description/>
  <dc:language>en-US</dc:language>
  <cp:lastModifiedBy>LEGION</cp:lastModifiedBy>
  <dcterms:modified xsi:type="dcterms:W3CDTF">2015-04-01T07:38:46Z</dcterms:modified>
  <cp:revision>10</cp:revision>
  <dc:subject/>
  <dc:title>Кодирование  информации</dc:title>
</cp:coreProperties>
</file>