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3F0F-915B-4EA8-8BE9-21C55B7BB8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65CC-A7ED-4423-91D0-13513C776C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2FD5-6D29-4DCD-92E4-7EB9D1DEE0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Неценовые факторы изменения спроса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1982-A5AA-4ACA-8779-A91352033D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A47B-207F-44D6-934D-76B1BBDAA1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рос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04CF-59F7-48BF-9529-C1003DE220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E6DC-0679-41AF-93D8-392565211A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FA87-5C2F-47EA-88FA-7D48E45B77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C1EE-921D-4551-AD28-BB321BFD2A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DBE0-B210-425F-9058-68932D9874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3866-AD99-4B52-AACE-46108417CC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3072-854D-4A32-98A8-96103D919E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B01-B1CF-422A-AFBA-55ED2770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848-F342-415D-9F41-E1107688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DF0-CBF5-4007-9470-4C3789FD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B59-E5CD-4156-88F6-6FF673EF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1D72-6B49-40EC-ACB5-8F47BB7E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DA65-0C31-4274-B3D2-5B84EB06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6A35-86A1-4647-97C9-2410537C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1580-AB47-4FEF-8259-74606F4E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7654-2D50-4E21-9885-514432C1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5DC0-DC0D-4068-A073-0EAAA56B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A430-8B2F-4C32-953E-DA22D720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990-928A-4DEC-A8C9-97BAE41A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615B-2A7B-48D7-BF8D-A8DF1FE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71FB-3708-4384-9EB2-4BF95EE8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B0C5-BE9E-4ED1-8B63-024481FE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738E-5A70-4048-858C-FA651075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1603-513B-4043-881C-ECCD0028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DA1-2F4A-4F21-A9D2-A035394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82F-3498-4F9B-8522-9E3B85CA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151-DA30-49DD-B8DE-83592B36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17C-B1FF-4AC1-8F6F-6F7A42C4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FCE-46D7-486C-ABEB-199108E5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32B-AAB0-414D-B144-9494CF5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7E8-1AE5-415B-99C7-A7B13A3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5CB4-FF30-47A4-8CF2-F68F5F515F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1969-E91E-4C5E-AE4C-04E454AEA2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5" descr="C:\Documents and Settings\Администратор.АДМИНИСТРАТОР\Мои документы\Мои рисунки\Движ картинки\food14[1].gif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" descr="C:\Documents and Settings\Администратор.АДМИНИСТРАТОР\Мои документы\Мои рисунки\Движ картинки\026.gif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C:\Documents and Settings\Администратор.АДМИНИСТРАТОР\Мои документы\Мои рисунки\Движ картинки\Картинки\002.gif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Documents and Settings\Администратор.АДМИНИСТРАТОР\Мои документы\Мои рисунки\Движ картинки\AG00032_.GIF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C:\Documents and Settings\Администратор.АДМИНИСТРАТОР\Мои документы\Мои рисунки\Движ картинки\AG00033_.GIF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Documents and Settings\Администратор.АДМИНИСТРАТОР\Мои документы\Мои рисунки\Движ картинки\AG00328_.GIF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Documents and Settings\Администратор.АДМИНИСТРАТОР\Мои документы\Мои рисунки\Движ картинки\AG00327_.GIF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C:\Documents and Settings\Администратор.АДМИНИСТРАТОР\Мои документы\Мои рисунки\Движ картинки\AG00330_.GIF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C:\Documents and Settings\Администратор.АДМИНИСТРАТОР\Мои документы\Мои рисунки\Движ картинки\AG00331_.GIF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C:\Documents and Settings\Администратор.АДМИНИСТРАТОР\Мои документы\Мои рисунки\Движ картинки\AG00332_.GIF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C:\Documents and Settings\Администратор.АДМИНИСТРАТОР\Мои документы\Мои рисунки\Движ картинки\AG00333_.GIF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C:\Documents and Settings\Администратор.АДМИНИСТРАТОР\Мои документы\Мои рисунки\Движ картинки\J0076210.GIF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C:\Documents and Settings\Администратор.АДМИНИСТРАТОР\Мои документы\Мои рисунки\Движ картинки\J0095685.GIF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C:\Documents and Settings\Администратор.АДМИНИСТРАТОР\Мои документы\Мои рисунки\Движ картинки\J0095684.GIF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C:\Documents and Settings\Администратор.АДМИНИСТРАТОР\Мои документы\Мои рисунки\Движ картинки\J0095723.GIF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C:\Documents and Settings\Администратор.АДМИНИСТРАТОР\Мои документы\Мои рисунки\Движ картинки\J0095724.GIF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Documents and Settings\Администратор.АДМИНИСТРАТОР\Мои документы\Мои рисунки\Движ картинки\J0095710.GIF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C:\Documents and Settings\Администратор.АДМИНИСТРАТОР\Мои документы\Мои рисунки\Движ картинки\J0076120.GIF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C:\Documents and Settings\Администратор.АДМИНИСТРАТОР\Мои документы\Мои рисунки\Движ картинки\J0095678.GIF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C:\Documents and Settings\Администратор.АДМИНИСТРАТОР\Мои документы\Мои рисунки\Движ картинки\food19[1].gif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5" descr="C:\Documents and Settings\Администратор.АДМИНИСТРАТОР\Мои документы\Мои рисунки\Движ картинки\Движ картинки\BS00004A.GIF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Documents and Settings\Администратор.АДМИНИСТРАТОР\Мои документы\Мои рисунки\Движ картинки\Движ картинки\BS00005A.GIF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Picture 6" descr="C:\Documents and Settings\Администратор.АДМИНИСТРАТОР\Мои документы\Мои рисунки\Движ картинки\food26[1].gif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:\Documents and Settings\Администратор.АДМИНИСТРАТОР\Мои документы\Мои рисунки\Движ картинки\food10[1].gif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Documents and Settings\Администратор.АДМИНИСТРАТОР\Мои документы\Мои рисунки\Движ картинки\food20[1].gif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C:\Documents and Settings\Администратор.АДМИНИСТРАТОР\Мои документы\Мои рисунки\Движ картинки\food33[1].gif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6" descr="C:\Documents and Settings\Администратор.АДМИНИСТРАТОР\Мои документы\Мои рисунки\Движ картинки\Движ картинки\BS00558A.GIF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4-11-10T12:18:21Z</dcterms:modified>
  <cp:revision>21</cp:revision>
  <dc:subject/>
  <dc:title>Спрос. Предложение. Равновесие.</dc:title>
</cp:coreProperties>
</file>