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44F3C-8C38-410D-965C-BA218FCE137D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тика в современной начальной школ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втор проекта Еремеева И.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2DBE7-DA07-4691-B3C4-6E826F3A004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нать/понимать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1096920" indent="0" algn="just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бласть применения и назначение технических устройств (в том числе компьютеров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1096920" indent="0" algn="just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сновные источники информации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1096920" indent="0" algn="just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значение основных устройств компьютера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1096920" indent="0" algn="just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авила безопасного поведения и гигиены при работе с инструментами (в том числе с компьютером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меть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109692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лучать необходимую информацию об объекте деятельности, используя рисунки, схемы, эскизы, чертежи (на бумажных и электронных носителях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CC358-C71F-4564-9159-01498ADAF231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спользовать приобретенные знания и умения в практической деятельности и повседневной жизни для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1096920" indent="0" algn="just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блюдения безопасных приемов работы со средствами информационных и коммуникационных технологий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1096920" indent="0" algn="just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ешения учебных и практических задач с применением возможностей компьютер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1096920" indent="0" algn="just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иска информации с использованием простейших запросов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1096920" indent="0" algn="just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зменения и создания простых информационных объектов на компьютер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9D3FF-5D57-4103-BA46-E51E8C8D8E71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одержание учебного модуля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Назначение основных устройств компьютера для ввода, вывода, обработки информации. Включение и выключение компьютера и подключаемых к нему устройств. Клавиатура, общее представление о правилах клавиатурного письма, пользование мышью, использование простейших средств текстового редактора. Простейшие приемы поиска информации: по ключевым словам, каталогам. Соблюдение безопасных приемов труда при работе на компьютере; бережное отношение к техническим устройства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та с простыми информационными объектами (текст, таблица, схема, рисунок): преобразование, создание, сохранение, удаление. Вывод текста на принте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ие небольшого текста по интересной детям тематике с использованием изображений на экране компьютера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3DBAE-8E97-4B6B-90E8-EA56B09B5AD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одержан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учебного модуля «Практика работы на компьютере (использования информационных технологий)»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направленно лишь на обеспечение компьютерной грамотност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учащими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на разница в целях преподавания информатики в начальной школе как отдельного предмета и в качестве учебного модуля предмета «Технология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Выпадает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одна из основных целей это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формирование и развитие логического и алгоритмического мышлен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 не в полной мере реализуется цель: формирование первичного понятийного аппарата информатики – как науки об информации, ее формах, свойствах, способах представления и обработки о соответствующем инструментар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40D54-8A8B-4232-81FB-037F5DD1471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исьме Министерства образования Российской Федерации от 17.12. 2001 №957/13-13 "Методическое письмо по вопросам обучения информатике в начальной школе" представлены три варианта преподавания информатики в начальной школ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C8998-CFB7-4D1C-91BD-827C4F5CDC1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Бескомпьютерное изучение информатики в рамках 1 урока в интеграции с предметами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местное обучение с такими предметами как математика, риторика, рисование, труд, музыка, окружающий мир в бескомпьютерном варианте обучения возможно реализовать по схеме: 1 урок информатики и использование практических знаний в содержании других предметных уроков.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Обучение проводит учитель начальных классов без деления класса на групп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7F144-CE94-4048-879D-08C4B0E9A6D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рганизация компьютерной поддержки предмета "Информатика" в рамках одного урока без деления на группы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этом случае необходимо учитывать наличие компьютеров в начальной школе (например, компьютер учителя или 3-7 компьютеров в классе), электронных средств обучения и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готовность учителей начальной школ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к использованию компьютерной поддержки на уроках информати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обучении информатике с компьютерной поддержкой также возможно использовать интегрированный подход по схеме первого с использованием 15-минутного компьютерного практикум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пьютерный практикум может быть индивидуальным (один ученик за одним компьютером) и демонстрационным. При этом один компьютер учителя в классе может быть использован как "электронная" дос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1EC40-D42D-4F2C-BA46-A49DEE87588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Урок информатики с делением на группы в кабинете информатик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выборе формы обучения информатике с компьютерной поддержкой с использованием компьютерного кабинета школы (12 мест) рекомендуется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ривлекат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к проведению урока информатики (1 час)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учителя информатики школы для совместного параллельного проведения занятий двумя учителям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блоками по 15 минут. Теоретическая часть для 1-й группы и компьютерная часть урока для 2-й группы соответственно, и наоборо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компьютерной поддержке обучения информатике необходимо соблюдать требования к оборудованию кабинета вычислительной техникой, санитарные нормы организации труда детей за компьютеро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ту за компьютером следует заканчивать профилактическими упражнениями для зрения (1 мин) и осанки (1-2 мин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AE7BD-887A-4216-9EF3-51BE92325AD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Электронные средства учебного назначения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пьютерные азбуки и буквари для ознакомления работы с тексто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виатурные тренажеры с ненавязчивой скоростью работ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пьютерные раскраски и геометрические конструктор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пьютерные лабиринты для управления объекто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пьютерные мозаик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огические игры на компьютере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пьютерные энциклопедии, путешествия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950FE-21FF-4197-811D-105DED78013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пьютерные топологические схем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пьютерные учебники с иллюстрациями и заданиями удовлетворяющие возможности использования фрагментами по 5 минут с дальнейшим обсуждение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пьютерные вычислительные игровые и алгоритмические сред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пьютерные синтезаторы зву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гры-кроссворды и азбуки на компьютере на иностранных языка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пьютерные среды управления исполнителе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пьютерные инструментальные развивающие сред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77965-1C71-4958-B77A-ABD426B8B3E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сновные цели введения уроков информатики в начальной школе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ирование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ервичного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онятийного аппарата информатики – как науки об информации, ее формах, свойствах, способах представления и обработки на соответствующем инструментар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ирование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осно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нформационной культуры в процессе использования учебных игровых программ, простейших компьютерных тренажеров и т.д. на уроках математики, русского языка, ИЗО и других предмет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ирование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ервичных психомоторных и поведенческих навыков общения с компьютеро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формирован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 развитие логического и алгоритмического мыш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F220F-0643-4C8C-9ECC-970C3233C37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ика проведения заняти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ле установочной фазы урока идет его основная, познавательная часть, определяемая доминантной целью уро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тем следует его вариативная часть, когда вид деятельности определяется вспомогательными целями урока: развитие памяти, мышления, проверка домашнего задания, вопросы для закрепления нового материала и проверки качества его усвоения. При этом используются тесты, задачи, игры - деятельность, при которой требуется “пошевелить мозгами”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каждом занятии желательно предоставлять возможность учащимся поработать на компьютер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394D8-F691-42B3-96A2-E554A0A8367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бразовательная система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«Школа 2100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Рекомендуемый учебно-методический комплек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тика в играх и задачах: Учебник-тетрадь для 1 (2, 3, 4) кл. /А.В. Горячев и др. – М.: Баласс, 1998 – 2002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тика в играх и задачах: Учебник-тетрадь для 1 (2, 3, 4) кл.  Методические рекомендации для учителя. /А.В. Горячев и др. – М.: Баласс, 1998 – 200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Компьютерную поддержку рекомендуется осуществлят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утешествие в информатику (компьютерная поддержка  к курсу А.В. Горячева «Информатика в играх и задачах»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кет «Роботландия» (авторы Ю.А. Первин, А.А. Дуванов и др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68494-70FD-4290-9F76-289B1DAC0F3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держательные лини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лгоритмы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екты, группы (классы) объектов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огические рассуждения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де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учение информатики в начальной школе по данному комплекту предполагается в основном без использования компьютеров. Компьютерная поддержка допустима, но не обязательн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47A65-05B1-4F3F-B156-DC464116532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бразовательная система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«Перспективная начальная школа»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Рекомендуемый учебно-методический комплек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ненсон Е.П., Паутова А.Г. Информатика. Учебник-тетрадь. 2 (3, 4) класс. В 2-х ч. - М.: Академ-книга, 2003-2005;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ненсон Е.П., Паутова А.Г. Информатика. 2 (3, 4) класс. Методическое пособие. - М.: Академ-книга, 2003-2005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утова А.Г. Информатика: Комплект компьютерных программ к учебнику-тетради. 2 (3, 4) класс. Методическое пособие + CD-диск. - М.: Академ-книга, 2003-2005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6CC1E-3309-43AB-B0AA-902C1FA6995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держательные лини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ционная картина мир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пьютер – универсальная машина для обработки информац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лгоритмы и исполнител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екты и их свойств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ические нормы при работе с информацией и информационная безопасн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нный УМК предусматривает два варианта преподавания информатики: без компьютерной поддержки (все задания выполняются в учебнике или тетради) и с компьютерной поддержкой (на основе специально разработанного программного комплекса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C5D5C-DD5A-4AD1-966E-DDA89BFCD5F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разовательная система «Гармония» и друг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учебные планы и УМК данных образовательных систем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чебная дисциплина «Информатика» не включена как самостоятельный предмет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решению правомочного органа управления образовательным учреждением при наличии материально-технического, программно-методического и кадрового обеспечения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нформатику целесообразно включать в учебные планы начальной ступени обучения за счет часов компонента образовательного учрежден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23011-5E6D-49AA-BAEE-57AB20E277F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комендуемый для преподавания информатики УМК: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твеева Н.В. и др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тика. 2 (3, 4) кл. - М.: Изд-во «Бином. Лаборатория знаний», 2004-2005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твеева Н.В. и др. Информатика. Рабочая тетрадь для 2 (3, 4) кл. в 2-х частях, 2-е изд. - М.: Изд-во «Бином. Лаборатория знаний», 2004-2005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твеева Н.В. и др. Информатика. Методический комплект: пособие + практикум на CD. - М.: Изд-во «Бином. Лаборатория знаний», 2004-2005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твеева Н.В. и др. Введение в информатику: Комплект из 12 плакатов + методическое пособие. - М.: Изд-во «Бином. Лаборатория знаний», 2004-2005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D89EC-2321-4DD6-80C5-474C08A5C2A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нии обучения информатике в начальной школе должны соответствовать линиям основной школы, но реализуются на пропедевтическом уровн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означает, что должна существовать связь между обучением информатики в начальной и базовой школ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E5D44-B2CE-4A25-BA3A-E030FB17C1A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держательные лини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ция, виды информации (по способу восприятия, по способу представления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ционные объекты (текст, изображение, аудиозапись, видеозапись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чники информации (живая и неживая природа, творения человека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та с информацией (обмен, поиск, преобразование, хранение, использование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едства информационных технологий (телефон, компьютер, радио, телевидение, устройства мультимедиа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я информации и данных (оглавление, указатели, каталоги, записные книжки и другое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905CA-17E9-4094-A16F-2EB03599DCD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Авторский курс </a:t>
            </a:r>
            <a:br>
              <a:rPr sz="18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«Первые шаги в мире информатики»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ебно-методический комплект состои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мире информатики. Методическое пособие для учителей. 1-4 класс. Тур С.Н., Бокучава Т.П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тика. Рабочая тетрадь. 1-4 класс. Тур С.Н., Бокучава Т.П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кет педагогических программных средств "Страна "Фантазия"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12C21-9E09-417F-94F2-D79BE31488C1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сновные содержательные линии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ведение в логику (понятие множества, работа с массивами, логические высказывания, понятие присваивания и т.п.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ятие информации, виды работы с информацие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лгоритмы и исполните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граммную поддержку на каждый год обучения обеспечивает пакет педагогических программных средств «Страна «Фантазия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ичие в каждом уроке дополнительного задания позволяет проводить уроки и в «безмашинном варианте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0603B-C142-440A-88E5-77A81A813FF1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урс «Информатика»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автор Семенов А.Л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комплект учебных материалов по информатике для каждого класса входя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менов А. Л. Информатика. Книга для учителя (2-4 класс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менов А. Л.  Информатика. Рабочая тетрадь проектов для 2 – 4 к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менов А. Л. Информатика. Учебное пособие для 2 - 4 кл. ч.1,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урс А. Л. Семенова и др. "Информатика" для начальной школы интегрирует теоретическую информатику, социальную информатику и информационные технолог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грамма курса соответствует Обязательному минимуму содержания обучения для средних общеобразовательных учрежд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38572-AFD4-46AC-BFC7-62DD88BD3E4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нитарно – гигиенические нормы для работы школьников за компьютеро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64387-09B7-49F3-80FF-4F748F1C261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то должен осуществлять преподавание предмета: учитель информатики или учитель начального класс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итель информатики хорошо знает компьютерные технологии, но плохо - методику обучения и уровень развития младших школьник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итель начального класса, наоборот, не разбирается в компьютерах, но хорошо владеет методикой обуч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AAF14-B697-4285-9FDD-EFFDFFC56D1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подаватель  должен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орошо разбираться в психологии ребенк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орошо владеть методическими приемами обучения детей младшего школьного возраст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ыть специалистами в области информационных технолог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E5178-634F-46EB-9263-3EC2DC14731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м содержанием уроков информатики в начальной школе должны стать игры и задачи на формирование алгоритмического мышления, нестандартные  математические задачи и упражнения на формирование навыков работы на компьютер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2F6C3-BE37-42D3-9551-0F1E8957B4D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Методы и формы обучения на уроках информатики в начальной школе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алог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та в группах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гровые методик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ционные минутк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вристический подход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9EEA0-046F-4866-BB37-70517B5DD3D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Информатик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 начальной школе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редставлен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с 2002/03 учебного года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как отдельный предмет в связи с эксперименто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о совершенствованию структуры и содержания общего образования, и начальной школ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может изучатьс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на ступени начального общего образования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в качестве самостоятельного учебного предмета только за счет часов, предусмотренных учебными планами отдельных образовательных систем начальной школы,  или  компонента образовательного учрежден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по решению правомочного органа управления образовательным учреждением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9B1AB-574E-4F33-82D5-6BA7C409C958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римерном учебном плане для образовательных учреждений Российской Федерации, реализующих программы общего образования, предмет «Информатика и ИКТ» представлен в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3-4 классах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 качестве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обязательного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20-25 часового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учебного модул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«Практика работы на компьютере (использования информационных технологий)» в рамках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редмета «Технология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_______________________________________________________</a:t>
            </a:r>
            <a:r>
              <a:rPr b="0" i="1" lang="ru-RU" sz="1100" spc="-1" strike="noStrike">
                <a:solidFill>
                  <a:srgbClr val="000000"/>
                </a:solidFill>
                <a:latin typeface="Calibri"/>
              </a:rPr>
              <a:t>Федеральный базисный учебный план и примерные учебные планы для образовательных учреждений Российской Федерации, реализующих программы общего образования (утвержден приказом № 1312 Министерства образования РФ от 09.03.2004)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A0AA9-0A31-4C3F-A514-11157DE77A28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Цели изучения, обязательный минимум содержания, требования к уровню подготовки выпускнико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о данному учебному модулю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определен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федеральным компонентом государственного образовательного стандарта начального общего образования предмета «Технология»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ри наличии материально-технического обеспеч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100" spc="-1" strike="noStrike">
                <a:solidFill>
                  <a:srgbClr val="000000"/>
                </a:solidFill>
                <a:latin typeface="Calibri"/>
              </a:rPr>
              <a:t>__________________________________________________Федеральный компонент государственного стандарта общего образования. Часть I. Начальное общее образование. Основное общее образование. / Министерство образования Российской Федерации. – М. 2004. – 221 с. – С.56-60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2B631-8C7B-403B-A7D4-5CA3264359C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B307F-BBE4-4251-B4DF-0824EA648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A7ED4-35FA-4437-A4DF-7226DEF25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92699-1A2E-451F-8381-05C065747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72521-BF12-485B-8D05-83B273919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6A7FA8-C6C4-4D7A-A6B7-0D3BF2350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62BF68-9273-44D2-9B6B-0173626F6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F529C2-4A70-4C34-81E0-5F0D4D233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D2126B-737E-4766-BA58-928C4F99E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18E7B0-E901-4522-8A88-332924328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EF46FE-15BD-4D9B-9C9C-C09935DEF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A149BE-6A02-47CF-9F87-E735A1484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5DF3D-01A5-49FC-8E88-CC7B749BB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B5838B-38DD-4DF1-8A12-3B0B86D80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A25D94-EA4F-4AF2-951C-95DDEC28D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D79BB7-2DB2-4CDA-8FC1-224074FFF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E0EB98-5B5A-4B74-82CD-3B4099ECC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D2E6A2-0092-442F-8FAE-E17B08591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FFB93-C684-4A33-81DF-EC7C05AE4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459A3-466E-4273-A6FD-D41092DED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A5DE3-729B-47CA-A40B-227A52382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D40C2-4044-477C-8F5C-F92CF3ABE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27C48-123F-4AEC-B9E1-700C571A6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12DB8-C79C-4F03-AF73-7B04D3E7B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A3AAF-58DF-4BA2-886C-CE5027FF6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6AD81-0D6E-4D98-9660-62296623A2BD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F1A55-3732-491A-AD16-3F263B51DBAA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e3e3ff"/>
                </a:solidFill>
                <a:latin typeface="Arial"/>
              </a:rPr>
              <a:t>Информатика в современной начальной школе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258920" y="5084280"/>
            <a:ext cx="6400800" cy="10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втор проекта Еремеева И.Н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395280" y="62064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1520" indent="0" algn="just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нать/понимать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96920" indent="-285840" algn="just">
              <a:spcBef>
                <a:spcPts val="1199"/>
              </a:spcBef>
              <a:buClr>
                <a:srgbClr val="00ff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бласть применения и назначение технических устройств (в том числе компьютеров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96920" indent="-285840" algn="just">
              <a:spcBef>
                <a:spcPts val="1199"/>
              </a:spcBef>
              <a:buClr>
                <a:srgbClr val="00ff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сновные источники информаци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96920" indent="-285840" algn="just">
              <a:spcBef>
                <a:spcPts val="1199"/>
              </a:spcBef>
              <a:buClr>
                <a:srgbClr val="00ff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значение основных устройств компьютера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96920" indent="-285840" algn="just">
              <a:spcBef>
                <a:spcPts val="1199"/>
              </a:spcBef>
              <a:buClr>
                <a:srgbClr val="00ff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авила безопасного поведения и гигиены при работе с инструментами (в том числе с компьютером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1520" indent="0" algn="just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меть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9692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лучать необходимую информацию об объекте деятельности, используя рисунки, схемы, эскизы, чертежи (на бумажных и электронных носителях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1520" indent="0" algn="just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спользовать приобретенные знания и умения в практической деятельности и повседневной жизни для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96920" indent="-285840" algn="just">
              <a:spcBef>
                <a:spcPts val="1199"/>
              </a:spcBef>
              <a:buClr>
                <a:srgbClr val="00ff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облюдения безопасных приемов работы со средствами информационных и коммуникационных технологий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96920" indent="-285840" algn="just">
              <a:spcBef>
                <a:spcPts val="1199"/>
              </a:spcBef>
              <a:buClr>
                <a:srgbClr val="00ff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ешения учебных и практических задач с применением возможностей компьютер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96920" indent="-285840" algn="just">
              <a:spcBef>
                <a:spcPts val="1199"/>
              </a:spcBef>
              <a:buClr>
                <a:srgbClr val="00ff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иска информации с использованием простейших запросов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96920" indent="-285840" algn="just">
              <a:spcBef>
                <a:spcPts val="1199"/>
              </a:spcBef>
              <a:buClr>
                <a:srgbClr val="00ff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зменения и создания простых информационных объектов на компьютер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Содержание учебного модуля: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9612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«Назначение основных устройств компьютера для ввода, вывода, обработки информации. Включение и выключение компьютера и подключаемых к нему устройств. Клавиатура, общее представление о правилах клавиатурного письма, пользование мышью, использование простейших средств текстового редактора. Простейшие приемы поиска информации: по ключевым словам, каталогам. Соблюдение безопасных приемов труда при работе на компьютере; бережное отношение к техническим устройствам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9612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Работа с простыми информационными объектами (текст, таблица, схема, рисунок): преобразование, создание, сохранение, удаление. Вывод текста на принтер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9612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Создание небольшого текста по интересной детям тематике с использованием изображений на экране компьютера»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9612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50752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8280" indent="0" algn="just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Содержание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учебного модуля «Практика работы на компьютере (использования информационных технологий)» </a:t>
            </a:r>
            <a:r>
              <a:rPr b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направленно лишь на обеспечение компьютерной грамотности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учащимис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98280" indent="0" algn="just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идна разница в целях преподавания информатики в начальной школе как отдельного предмета и в качестве учебного модуля предмета «Технология»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98280" indent="0" algn="just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Выпадает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одна из основных целей это </a:t>
            </a:r>
            <a:r>
              <a:rPr b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формирование и развитие логического и алгоритмического мышления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и не в полной мере реализуется цель: формирование первичного понятийного аппарата информатики – как науки об информации, ее формах, свойствах, способах представления и обработки о соответствующем инструментари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68360" y="981000"/>
            <a:ext cx="842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8280" indent="0" algn="just">
              <a:lnSpc>
                <a:spcPct val="11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Письме Министерства образования Российской Федерации от 17.12. 2001 №957/13-13 "Методическое письмо по вопросам обучения информатике в начальной школе" представлены три варианта преподавания информатики в начальной школе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3e3ff"/>
                </a:solidFill>
                <a:latin typeface="Arial"/>
              </a:rPr>
              <a:t>Бескомпьютерное изучение информатики в рамках 1 урока в интеграции с предметами.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8280" indent="0" algn="just">
              <a:lnSpc>
                <a:spcPct val="11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овместное обучение с такими предметами как математика, риторика, рисование, труд, музыка, окружающий мир в бескомпьютерном варианте обучения возможно реализовать по схеме: 1 урок информатики и использование практических знаний в содержании других предметных уроков. </a:t>
            </a:r>
            <a:r>
              <a:rPr b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Обучение проводит учитель начальных классов без деления класса на группы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3e3ff"/>
                </a:solidFill>
                <a:latin typeface="Arial"/>
              </a:rPr>
              <a:t>Организация компьютерной поддержки предмета "Информатика" в рамках одного урока без деления на группы 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78920" y="1599840"/>
            <a:ext cx="8713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828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В этом случае необходимо учитывать наличие компьютеров в начальной школе (например, компьютер учителя или 3-7 компьютеров в классе), электронных средств обучения и </a:t>
            </a:r>
            <a:r>
              <a:rPr b="1" lang="ru-RU" sz="2200" spc="-1" strike="noStrike" u="sng">
                <a:solidFill>
                  <a:srgbClr val="ffffff"/>
                </a:solidFill>
                <a:uFillTx/>
                <a:latin typeface="Arial"/>
              </a:rPr>
              <a:t>готовность учителей начальной школы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к использованию компьютерной поддержки на уроках информатики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9828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При обучении информатике с компьютерной поддержкой также возможно использовать интегрированный подход по схеме первого с использованием 15-минутного компьютерного практикума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9828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Компьютерный практикум может быть индивидуальным (один ученик за одним компьютером) и демонстрационным. При этом один компьютер учителя в классе может быть использован как "электронная" доска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43920"/>
            <a:ext cx="8002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3e3ff"/>
                </a:solidFill>
                <a:latin typeface="Arial"/>
              </a:rPr>
              <a:t>Урок информатики с делением на группы в кабинете информатики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23640" y="1196640"/>
            <a:ext cx="856908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828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При выборе формы обучения информатике с компьютерной поддержкой с использованием компьютерного кабинета школы (12 мест) рекомендуется </a:t>
            </a:r>
            <a:r>
              <a:rPr b="1" lang="ru-RU" sz="2200" spc="-1" strike="noStrike" u="sng">
                <a:solidFill>
                  <a:srgbClr val="ffffff"/>
                </a:solidFill>
                <a:uFillTx/>
                <a:latin typeface="Arial"/>
              </a:rPr>
              <a:t>привлекать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к проведению урока информатики (1 час) </a:t>
            </a:r>
            <a:r>
              <a:rPr b="1" lang="ru-RU" sz="2200" spc="-1" strike="noStrike" u="sng">
                <a:solidFill>
                  <a:srgbClr val="ffffff"/>
                </a:solidFill>
                <a:uFillTx/>
                <a:latin typeface="Arial"/>
              </a:rPr>
              <a:t>учителя информатики школы для совместного параллельного проведения занятий двумя учителями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блоками по 15 минут. Теоретическая часть для 1-й группы и компьютерная часть урока для 2-й группы соответственно, и наоборот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9828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При компьютерной поддержке обучения информатике необходимо соблюдать требования к оборудованию кабинета вычислительной техникой, санитарные нормы организации труда детей за компьютером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9828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Работу за компьютером следует заканчивать профилактическими упражнениями для зрения (1 мин) и осанки (1-2 мин)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Электронные средства учебного назначения: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1520" indent="-343080" algn="just">
              <a:lnSpc>
                <a:spcPct val="80000"/>
              </a:lnSpc>
              <a:spcBef>
                <a:spcPts val="14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омпьютерные азбуки и буквари для ознакомления работы с текстом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1520" indent="-343080" algn="just">
              <a:lnSpc>
                <a:spcPct val="80000"/>
              </a:lnSpc>
              <a:spcBef>
                <a:spcPts val="14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лавиатурные тренажеры с ненавязчивой скоростью работы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1520" indent="-343080" algn="just">
              <a:lnSpc>
                <a:spcPct val="80000"/>
              </a:lnSpc>
              <a:spcBef>
                <a:spcPts val="14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омпьютерные раскраски и геометрические конструкторы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1520" indent="-343080" algn="just">
              <a:lnSpc>
                <a:spcPct val="80000"/>
              </a:lnSpc>
              <a:spcBef>
                <a:spcPts val="14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омпьютерные лабиринты для управления объектом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1520" indent="-343080" algn="just">
              <a:lnSpc>
                <a:spcPct val="80000"/>
              </a:lnSpc>
              <a:spcBef>
                <a:spcPts val="14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омпьютерные мозаики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1520" indent="-343080" algn="just">
              <a:lnSpc>
                <a:spcPct val="80000"/>
              </a:lnSpc>
              <a:spcBef>
                <a:spcPts val="14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логические игры на компьютере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1520" indent="-343080" algn="just">
              <a:lnSpc>
                <a:spcPct val="80000"/>
              </a:lnSpc>
              <a:spcBef>
                <a:spcPts val="14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омпьютерные энциклопедии, путешествия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61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1520" indent="-343080" algn="just">
              <a:lnSpc>
                <a:spcPct val="80000"/>
              </a:lnSpc>
              <a:spcBef>
                <a:spcPts val="14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омпьютерные топологические схемы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1520" indent="-343080" algn="just">
              <a:lnSpc>
                <a:spcPct val="80000"/>
              </a:lnSpc>
              <a:spcBef>
                <a:spcPts val="14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омпьютерные учебники с иллюстрациями и заданиями удовлетворяющие возможности использования фрагментами по 5 минут с дальнейшим обсуждением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1520" indent="-343080" algn="just">
              <a:lnSpc>
                <a:spcPct val="80000"/>
              </a:lnSpc>
              <a:spcBef>
                <a:spcPts val="14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омпьютерные вычислительные игровые и алгоритмические среды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1520" indent="-343080" algn="just">
              <a:lnSpc>
                <a:spcPct val="80000"/>
              </a:lnSpc>
              <a:spcBef>
                <a:spcPts val="14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омпьютерные синтезаторы звук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1520" indent="-343080" algn="just">
              <a:lnSpc>
                <a:spcPct val="80000"/>
              </a:lnSpc>
              <a:spcBef>
                <a:spcPts val="14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гры-кроссворды и азбуки на компьютере на иностранных языках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1520" indent="-343080" algn="just">
              <a:lnSpc>
                <a:spcPct val="80000"/>
              </a:lnSpc>
              <a:spcBef>
                <a:spcPts val="14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омпьютерные среды управления исполнителем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1520" indent="-343080" algn="just">
              <a:lnSpc>
                <a:spcPct val="80000"/>
              </a:lnSpc>
              <a:spcBef>
                <a:spcPts val="14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омпьютерные инструментальные развивающие сред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250920" y="1483920"/>
            <a:ext cx="864216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1520" indent="-343080" algn="just">
              <a:lnSpc>
                <a:spcPct val="90000"/>
              </a:lnSpc>
              <a:spcBef>
                <a:spcPts val="11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формирование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первичного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понятийного аппарата информатики – как науки об информации, ее формах, свойствах, способах представления и обработки на соответствующем инструментари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1520" indent="-343080" algn="just">
              <a:lnSpc>
                <a:spcPct val="90000"/>
              </a:lnSpc>
              <a:spcBef>
                <a:spcPts val="11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формирование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основ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информационной культуры в процессе использования учебных игровых программ, простейших компьютерных тренажеров и т.д. на уроках математики, русского языка, ИЗО и других предметов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1520" indent="-343080" algn="just">
              <a:lnSpc>
                <a:spcPct val="90000"/>
              </a:lnSpc>
              <a:spcBef>
                <a:spcPts val="11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формирование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первичных психомоторных и поведенческих навыков общения с компьютером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1520" indent="-343080" algn="just">
              <a:lnSpc>
                <a:spcPct val="90000"/>
              </a:lnSpc>
              <a:spcBef>
                <a:spcPts val="11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формирование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и развитие логического и алгоритмического мышле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Основные цели введения уроков информатики в начальной школе 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Методика проведения занятий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сле установочной фазы урока идет его основная, познавательная часть, определяемая доминантной целью урок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тем следует его вариативная часть, когда вид деятельности определяется вспомогательными целями урока: развитие памяти, мышления, проверка домашнего задания, вопросы для закрепления нового материала и проверки качества его усвоения. При этом используются тесты, задачи, игры - деятельность, при которой требуется “пошевелить мозгами”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 каждом занятии желательно предоставлять возможность учащимся поработать на компьютере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9" name=""/>
          <p:cNvGraphicFramePr/>
          <p:nvPr/>
        </p:nvGraphicFramePr>
        <p:xfrm>
          <a:off x="179280" y="1268280"/>
          <a:ext cx="8713800" cy="3816360"/>
        </p:xfrm>
        <a:graphic>
          <a:graphicData uri="http://schemas.openxmlformats.org/drawingml/2006/table">
            <a:tbl>
              <a:tblPr/>
              <a:tblGrid>
                <a:gridCol w="1800360"/>
                <a:gridCol w="2152800"/>
                <a:gridCol w="3003480"/>
                <a:gridCol w="1757160"/>
              </a:tblGrid>
              <a:tr h="1778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ид деятельности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99cc"/>
                      </a:solidFill>
                    </a:lnL>
                    <a:lnR w="5760">
                      <a:solidFill>
                        <a:srgbClr val="ff99cc"/>
                      </a:solidFill>
                    </a:lnR>
                    <a:lnT w="5760">
                      <a:solidFill>
                        <a:srgbClr val="ff99cc"/>
                      </a:solidFill>
                    </a:lnT>
                    <a:lnB w="5760">
                      <a:solidFill>
                        <a:srgbClr val="ff99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знавательная.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99cc"/>
                      </a:solidFill>
                    </a:lnL>
                    <a:lnR w="5760">
                      <a:solidFill>
                        <a:srgbClr val="ff99cc"/>
                      </a:solidFill>
                    </a:lnR>
                    <a:lnT w="5760">
                      <a:solidFill>
                        <a:srgbClr val="ff99cc"/>
                      </a:solidFill>
                    </a:lnT>
                    <a:lnB w="5760">
                      <a:solidFill>
                        <a:srgbClr val="ff99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азвитие мышления, памяти, внимания; проверка усвоения изученного материала, домашнее задание.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99cc"/>
                      </a:solidFill>
                    </a:lnL>
                    <a:lnR w="5760">
                      <a:solidFill>
                        <a:srgbClr val="ff99cc"/>
                      </a:solidFill>
                    </a:lnR>
                    <a:lnT w="5760">
                      <a:solidFill>
                        <a:srgbClr val="ff99cc"/>
                      </a:solidFill>
                    </a:lnT>
                    <a:lnB w="5760">
                      <a:solidFill>
                        <a:srgbClr val="ff99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абота на компьютере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99cc"/>
                      </a:solidFill>
                    </a:lnL>
                    <a:lnR w="5760">
                      <a:solidFill>
                        <a:srgbClr val="ff99cc"/>
                      </a:solidFill>
                    </a:lnR>
                    <a:lnT w="5760">
                      <a:solidFill>
                        <a:srgbClr val="ff99cc"/>
                      </a:solidFill>
                    </a:lnT>
                    <a:lnB w="5760">
                      <a:solidFill>
                        <a:srgbClr val="ff99cc"/>
                      </a:solidFill>
                    </a:lnB>
                    <a:noFill/>
                  </a:tcPr>
                </a:tc>
              </a:tr>
              <a:tr h="1273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редства</a:t>
                      </a:r>
                      <a:br>
                        <a:rPr sz="2200"/>
                      </a:br>
                      <a:r>
                        <a:rPr b="0" lang="ru-RU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бучения.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99cc"/>
                      </a:solidFill>
                    </a:lnL>
                    <a:lnR w="5760">
                      <a:solidFill>
                        <a:srgbClr val="ff99cc"/>
                      </a:solidFill>
                    </a:lnR>
                    <a:lnT w="5760">
                      <a:solidFill>
                        <a:srgbClr val="ff99cc"/>
                      </a:solidFill>
                    </a:lnT>
                    <a:lnB w="5760">
                      <a:solidFill>
                        <a:srgbClr val="ff99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исунки, таблицы, презентация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99cc"/>
                      </a:solidFill>
                    </a:lnL>
                    <a:lnR w="5760">
                      <a:solidFill>
                        <a:srgbClr val="ff99cc"/>
                      </a:solidFill>
                    </a:lnR>
                    <a:lnT w="5760">
                      <a:solidFill>
                        <a:srgbClr val="ff99cc"/>
                      </a:solidFill>
                    </a:lnT>
                    <a:lnB w="5760">
                      <a:solidFill>
                        <a:srgbClr val="ff99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есты, задачи, рисунки.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99cc"/>
                      </a:solidFill>
                    </a:lnL>
                    <a:lnR w="5760">
                      <a:solidFill>
                        <a:srgbClr val="ff99cc"/>
                      </a:solidFill>
                    </a:lnR>
                    <a:lnT w="5760">
                      <a:solidFill>
                        <a:srgbClr val="ff99cc"/>
                      </a:solidFill>
                    </a:lnT>
                    <a:lnB w="5760">
                      <a:solidFill>
                        <a:srgbClr val="ff99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ПС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99cc"/>
                      </a:solidFill>
                    </a:lnL>
                    <a:lnR w="5760">
                      <a:solidFill>
                        <a:srgbClr val="ff99cc"/>
                      </a:solidFill>
                    </a:lnR>
                    <a:lnT w="5760">
                      <a:solidFill>
                        <a:srgbClr val="ff99cc"/>
                      </a:solidFill>
                    </a:lnT>
                    <a:lnB w="5760">
                      <a:solidFill>
                        <a:srgbClr val="ff99cc"/>
                      </a:solidFill>
                    </a:lnB>
                    <a:noFill/>
                  </a:tcPr>
                </a:tc>
              </a:tr>
              <a:tr h="765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одолжит.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99cc"/>
                      </a:solidFill>
                    </a:lnL>
                    <a:lnR w="5760">
                      <a:solidFill>
                        <a:srgbClr val="ff99cc"/>
                      </a:solidFill>
                    </a:lnR>
                    <a:lnT w="5760">
                      <a:solidFill>
                        <a:srgbClr val="ff99cc"/>
                      </a:solidFill>
                    </a:lnT>
                    <a:lnB w="5760">
                      <a:solidFill>
                        <a:srgbClr val="ff99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-15 минут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99cc"/>
                      </a:solidFill>
                    </a:lnL>
                    <a:lnR w="5760">
                      <a:solidFill>
                        <a:srgbClr val="ff99cc"/>
                      </a:solidFill>
                    </a:lnR>
                    <a:lnT w="5760">
                      <a:solidFill>
                        <a:srgbClr val="ff99cc"/>
                      </a:solidFill>
                    </a:lnT>
                    <a:lnB w="5760">
                      <a:solidFill>
                        <a:srgbClr val="ff99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5-20 минут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99cc"/>
                      </a:solidFill>
                    </a:lnL>
                    <a:lnR w="5760">
                      <a:solidFill>
                        <a:srgbClr val="ff99cc"/>
                      </a:solidFill>
                    </a:lnR>
                    <a:lnT w="5760">
                      <a:solidFill>
                        <a:srgbClr val="ff99cc"/>
                      </a:solidFill>
                    </a:lnT>
                    <a:lnB w="5760">
                      <a:solidFill>
                        <a:srgbClr val="ff99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-15 минут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99cc"/>
                      </a:solidFill>
                    </a:lnL>
                    <a:lnR w="5760">
                      <a:solidFill>
                        <a:srgbClr val="ff99cc"/>
                      </a:solidFill>
                    </a:lnR>
                    <a:lnT w="5760">
                      <a:solidFill>
                        <a:srgbClr val="ff99cc"/>
                      </a:solidFill>
                    </a:lnT>
                    <a:lnB w="5760">
                      <a:solidFill>
                        <a:srgbClr val="ff99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Образовательная система </a:t>
            </a:r>
            <a:br>
              <a:rPr sz="4000"/>
            </a:b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«Школа 2100»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1520" indent="0" algn="just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 u="sng">
                <a:solidFill>
                  <a:srgbClr val="ffffff"/>
                </a:solidFill>
                <a:uFillTx/>
                <a:latin typeface="Arial"/>
              </a:rPr>
              <a:t>Рекомендуемый учебно-методический комплект: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71520" indent="-343080" algn="just">
              <a:spcBef>
                <a:spcPts val="11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Arial"/>
              </a:rPr>
              <a:t>Информатика в играх и задачах: Учебник-тетрадь для 1 (2, 3, 4) кл. /А.В. Горячев и др. – М.: Баласс, 1998 – 2002;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71520" indent="-343080" algn="just">
              <a:spcBef>
                <a:spcPts val="11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Arial"/>
              </a:rPr>
              <a:t>Информатика в играх и задачах: Учебник-тетрадь для 1 (2, 3, 4) кл.  Методические рекомендации для учителя. /А.В. Горячев и др. – М.: Баласс, 1998 – 2002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71520" indent="0" algn="just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 u="sng">
                <a:solidFill>
                  <a:srgbClr val="ffffff"/>
                </a:solidFill>
                <a:uFillTx/>
                <a:latin typeface="Arial"/>
              </a:rPr>
              <a:t>Компьютерную поддержку рекомендуется осуществлять</a:t>
            </a:r>
            <a:r>
              <a:rPr b="0" lang="ru-RU" sz="2300" spc="-1" strike="noStrike">
                <a:solidFill>
                  <a:srgbClr val="ffffff"/>
                </a:solidFill>
                <a:latin typeface="Arial"/>
              </a:rPr>
              <a:t> :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71520" indent="-343080" algn="just">
              <a:spcBef>
                <a:spcPts val="11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Arial"/>
              </a:rPr>
              <a:t>путешествие в информатику (компьютерная поддержка  к курсу А.В. Горячева «Информатика в играх и задачах»);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71520" indent="-343080" algn="just">
              <a:spcBef>
                <a:spcPts val="11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Arial"/>
              </a:rPr>
              <a:t>пакет «Роботландия» (авторы Ю.А. Первин, А.А. Дуванов и др.)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85" name="Picture 11" descr="930606664"/>
          <p:cNvPicPr/>
          <p:nvPr/>
        </p:nvPicPr>
        <p:blipFill>
          <a:blip r:embed="rId1"/>
          <a:stretch/>
        </p:blipFill>
        <p:spPr>
          <a:xfrm>
            <a:off x="5292720" y="333360"/>
            <a:ext cx="3484440" cy="4564080"/>
          </a:xfrm>
          <a:prstGeom prst="rect">
            <a:avLst/>
          </a:prstGeom>
          <a:ln w="9360">
            <a:solidFill>
              <a:srgbClr val="3399ff"/>
            </a:solidFill>
            <a:miter/>
          </a:ln>
        </p:spPr>
      </p:pic>
      <p:pic>
        <p:nvPicPr>
          <p:cNvPr id="186" name="Picture 8" descr="2759"/>
          <p:cNvPicPr/>
          <p:nvPr/>
        </p:nvPicPr>
        <p:blipFill>
          <a:blip r:embed="rId2"/>
          <a:stretch/>
        </p:blipFill>
        <p:spPr>
          <a:xfrm>
            <a:off x="3132000" y="1916280"/>
            <a:ext cx="2903760" cy="4717800"/>
          </a:xfrm>
          <a:prstGeom prst="rect">
            <a:avLst/>
          </a:prstGeom>
          <a:ln w="9360">
            <a:solidFill>
              <a:srgbClr val="3399ff"/>
            </a:solidFill>
            <a:miter/>
          </a:ln>
        </p:spPr>
      </p:pic>
      <p:pic>
        <p:nvPicPr>
          <p:cNvPr id="187" name="Picture 14" descr="1000064670"/>
          <p:cNvPicPr/>
          <p:nvPr/>
        </p:nvPicPr>
        <p:blipFill>
          <a:blip r:embed="rId3"/>
          <a:stretch/>
        </p:blipFill>
        <p:spPr>
          <a:xfrm>
            <a:off x="0" y="189000"/>
            <a:ext cx="3405240" cy="4392360"/>
          </a:xfrm>
          <a:prstGeom prst="rect">
            <a:avLst/>
          </a:prstGeom>
          <a:ln w="9360">
            <a:solidFill>
              <a:srgbClr val="3399ff"/>
            </a:solidFill>
            <a:miter/>
          </a:ln>
        </p:spPr>
      </p:pic>
      <p:sp>
        <p:nvSpPr>
          <p:cNvPr id="1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Содержательные линии: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2160" indent="6238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лгоритмы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92160" indent="6238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бъекты, группы (классы) объектов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92160" indent="6238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логические рассуждения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92160" indent="6238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одел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9216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зучение информатики в начальной школе по данному комплекту предполагается в основном без использования компьютеров. Компьютерная поддержка допустима, но не обязательна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Образовательная система </a:t>
            </a:r>
            <a:r>
              <a:rPr b="0" lang="ru-RU" sz="3600" spc="-1" strike="noStrike">
                <a:solidFill>
                  <a:srgbClr val="e3e3ff"/>
                </a:solidFill>
                <a:latin typeface="Arial"/>
              </a:rPr>
              <a:t>«Перспективная начальная школа»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24000" y="1599840"/>
            <a:ext cx="8362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1520" indent="0" algn="just">
              <a:lnSpc>
                <a:spcPct val="8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900" spc="-1" strike="noStrike" u="sng">
                <a:solidFill>
                  <a:srgbClr val="ffffff"/>
                </a:solidFill>
                <a:uFillTx/>
                <a:latin typeface="Arial"/>
              </a:rPr>
              <a:t>Рекомендуемый учебно-методический комплект: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71520" indent="-343080" algn="just">
              <a:lnSpc>
                <a:spcPct val="80000"/>
              </a:lnSpc>
              <a:spcBef>
                <a:spcPts val="1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Arial"/>
              </a:rPr>
              <a:t>Бененсон Е.П., Паутова А.Г. Информатика. Учебник-тетрадь. 2 (3, 4) класс. В 2-х ч. - М.: Академ-книга, 2003-2005;. 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71520" indent="-343080" algn="just">
              <a:lnSpc>
                <a:spcPct val="80000"/>
              </a:lnSpc>
              <a:spcBef>
                <a:spcPts val="1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Arial"/>
              </a:rPr>
              <a:t>Бененсон Е.П., Паутова А.Г. Информатика. 2 (3, 4) класс. Методическое пособие. - М.: Академ-книга, 2003-2005; 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71520" indent="-343080" algn="just">
              <a:lnSpc>
                <a:spcPct val="80000"/>
              </a:lnSpc>
              <a:spcBef>
                <a:spcPts val="1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Arial"/>
              </a:rPr>
              <a:t>Паутова А.Г. Информатика: Комплект компьютерных программ к учебнику-тетради. 2 (3, 4) класс. Методическое пособие + CD-диск. - М.: Академ-книга, 2003-2005. 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2160" indent="623880" algn="just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нформационная картина мир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2160" indent="623880" algn="just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омпьютер – универсальная машина для обработки информаци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2160" indent="623880" algn="just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лгоритмы и исполнител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2160" indent="623880" algn="just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бъекты и их свойств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2160" indent="623880" algn="just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этические нормы при работе с информацией и информационная безопасност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21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анный УМК предусматривает два варианта преподавания информатики: без компьютерной поддержки (все задания выполняются в учебнике или тетради) и с компьютерной поддержкой (на основе специально разработанного программного комплекса)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Содержательные линии: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Образовательная система «Гармония» и другие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216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учебные планы и УМК данных образовательных систем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учебная дисциплина «Информатика» не включена как самостоятельный предмет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9216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 решению правомочного органа управления образовательным учреждением при наличии материально-технического, программно-методического и кадрового обеспечения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нформатику целесообразно включать в учебные планы начальной ступени обучения за счет часов компонента образовательного учреждения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1520" indent="0" algn="just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Arial"/>
              </a:rPr>
              <a:t>Рекомендуемый для преподавания информатики УМК: </a:t>
            </a:r>
            <a:r>
              <a:rPr b="0" lang="ru-RU" sz="23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71520" indent="-343080" algn="just">
              <a:spcBef>
                <a:spcPts val="11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Arial"/>
              </a:rPr>
              <a:t>Матвеева Н.В. и др.</a:t>
            </a:r>
            <a:r>
              <a:rPr b="0" lang="ru-RU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300" spc="-1" strike="noStrike">
                <a:solidFill>
                  <a:srgbClr val="ffffff"/>
                </a:solidFill>
                <a:latin typeface="Arial"/>
              </a:rPr>
              <a:t>Информатика. 2 (3, 4) кл. - М.: Изд-во «Бином. Лаборатория знаний», 2004-2005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71520" indent="-343080" algn="just">
              <a:spcBef>
                <a:spcPts val="11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Arial"/>
              </a:rPr>
              <a:t>Матвеева Н.В. и др. Информатика. Рабочая тетрадь для 2 (3, 4) кл. в 2-х частях, 2-е изд. - М.: Изд-во «Бином. Лаборатория знаний», 2004-2005;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71520" indent="-343080" algn="just">
              <a:spcBef>
                <a:spcPts val="11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Arial"/>
              </a:rPr>
              <a:t>Матвеева Н.В. и др. Информатика. Методический комплект: пособие + практикум на CD. - М.: Изд-во «Бином. Лаборатория знаний», 2004-2005;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71520" indent="-343080" algn="just">
              <a:spcBef>
                <a:spcPts val="11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Arial"/>
              </a:rPr>
              <a:t>Матвеева Н.В. и др. Введение в информатику: Комплект из 12 плакатов + методическое пособие. - М.: Изд-во «Бином. Лаборатория знаний», 2004-2005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5" name="Picture 5" descr="view_images"/>
          <p:cNvPicPr/>
          <p:nvPr/>
        </p:nvPicPr>
        <p:blipFill>
          <a:blip r:embed="rId1"/>
          <a:stretch/>
        </p:blipFill>
        <p:spPr>
          <a:xfrm>
            <a:off x="155520" y="15840"/>
            <a:ext cx="2924280" cy="3809880"/>
          </a:xfrm>
          <a:prstGeom prst="rect">
            <a:avLst/>
          </a:prstGeom>
          <a:ln w="9360">
            <a:solidFill>
              <a:srgbClr val="3399ff"/>
            </a:solidFill>
            <a:miter/>
          </a:ln>
        </p:spPr>
      </p:pic>
      <p:pic>
        <p:nvPicPr>
          <p:cNvPr id="206" name="Picture 7" descr="98657"/>
          <p:cNvPicPr/>
          <p:nvPr/>
        </p:nvPicPr>
        <p:blipFill>
          <a:blip r:embed="rId2"/>
          <a:stretch/>
        </p:blipFill>
        <p:spPr>
          <a:xfrm>
            <a:off x="2411280" y="1341360"/>
            <a:ext cx="3461040" cy="4464000"/>
          </a:xfrm>
          <a:prstGeom prst="rect">
            <a:avLst/>
          </a:prstGeom>
          <a:ln w="9360">
            <a:solidFill>
              <a:srgbClr val="3399ff"/>
            </a:solidFill>
            <a:miter/>
          </a:ln>
        </p:spPr>
      </p:pic>
      <p:pic>
        <p:nvPicPr>
          <p:cNvPr id="207" name="Picture 11" descr="big-722754"/>
          <p:cNvPicPr/>
          <p:nvPr/>
        </p:nvPicPr>
        <p:blipFill>
          <a:blip r:embed="rId3"/>
          <a:stretch/>
        </p:blipFill>
        <p:spPr>
          <a:xfrm>
            <a:off x="5364000" y="2637000"/>
            <a:ext cx="3065760" cy="3889080"/>
          </a:xfrm>
          <a:prstGeom prst="rect">
            <a:avLst/>
          </a:prstGeom>
          <a:ln w="9360">
            <a:solidFill>
              <a:srgbClr val="3399ff"/>
            </a:solidFill>
            <a:miter/>
          </a:ln>
        </p:spPr>
      </p:pic>
      <p:sp>
        <p:nvSpPr>
          <p:cNvPr id="2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539640" y="907920"/>
            <a:ext cx="82296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8280" indent="0" algn="just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Линии обучения информатике в начальной школе должны соответствовать линиям основной школы, но реализуются на пропедевтическом уровне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98280" indent="0" algn="just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Это означает, что должна существовать связь между обучением информатики в начальной и базовой школе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1520" indent="-343080" algn="just">
              <a:lnSpc>
                <a:spcPct val="80000"/>
              </a:lnSpc>
              <a:spcBef>
                <a:spcPts val="10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информация, виды информации (по способу восприятия, по способу представления);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71520" indent="-343080" algn="just">
              <a:lnSpc>
                <a:spcPct val="80000"/>
              </a:lnSpc>
              <a:spcBef>
                <a:spcPts val="10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информационные объекты (текст, изображение, аудиозапись, видеозапись);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71520" indent="-343080" algn="just">
              <a:lnSpc>
                <a:spcPct val="80000"/>
              </a:lnSpc>
              <a:spcBef>
                <a:spcPts val="10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источники информации (живая и неживая природа, творения человека);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71520" indent="-343080" algn="just">
              <a:lnSpc>
                <a:spcPct val="80000"/>
              </a:lnSpc>
              <a:spcBef>
                <a:spcPts val="10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работа с информацией (обмен, поиск, преобразование, хранение, использование);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71520" indent="-343080" algn="just">
              <a:lnSpc>
                <a:spcPct val="80000"/>
              </a:lnSpc>
              <a:spcBef>
                <a:spcPts val="10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средства информационных технологий (телефон, компьютер, радио, телевидение, устройства мультимедиа);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71520" indent="-343080" algn="just">
              <a:lnSpc>
                <a:spcPct val="80000"/>
              </a:lnSpc>
              <a:spcBef>
                <a:spcPts val="10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организация информации и данных (оглавление, указатели, каталоги, записные книжки и другое).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Содержательные линии: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Авторский курс </a:t>
            </a:r>
            <a:br>
              <a:rPr sz="4000"/>
            </a:br>
            <a:r>
              <a:rPr b="0" lang="ru-RU" sz="3600" spc="-1" strike="noStrike">
                <a:solidFill>
                  <a:srgbClr val="e3e3ff"/>
                </a:solidFill>
                <a:latin typeface="Arial"/>
              </a:rPr>
              <a:t>«Первые шаги в мире информатики»</a:t>
            </a: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11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Учебно-методический комплект состоит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137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В мире информатики. Методическое пособие для учителей. 1-4 класс. Тур С.Н., Бокучава Т.П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137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Информатика. Рабочая тетрадь. 1-4 класс. Тур С.Н., Бокучава Т.П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137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Пакет педагогических программных средств "Страна "Фантазия"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216" name="Picture 13" descr="00043811big"/>
          <p:cNvPicPr/>
          <p:nvPr/>
        </p:nvPicPr>
        <p:blipFill>
          <a:blip r:embed="rId1"/>
          <a:stretch/>
        </p:blipFill>
        <p:spPr>
          <a:xfrm>
            <a:off x="324000" y="333360"/>
            <a:ext cx="2982600" cy="4175280"/>
          </a:xfrm>
          <a:prstGeom prst="rect">
            <a:avLst/>
          </a:prstGeom>
          <a:ln w="9360">
            <a:solidFill>
              <a:srgbClr val="3399ff"/>
            </a:solidFill>
            <a:miter/>
          </a:ln>
        </p:spPr>
      </p:pic>
      <p:pic>
        <p:nvPicPr>
          <p:cNvPr id="217" name="Picture 5" descr="105833"/>
          <p:cNvPicPr/>
          <p:nvPr/>
        </p:nvPicPr>
        <p:blipFill>
          <a:blip r:embed="rId2"/>
          <a:stretch/>
        </p:blipFill>
        <p:spPr>
          <a:xfrm>
            <a:off x="2843280" y="1989000"/>
            <a:ext cx="3273480" cy="4537080"/>
          </a:xfrm>
          <a:prstGeom prst="rect">
            <a:avLst/>
          </a:prstGeom>
          <a:ln w="9360">
            <a:solidFill>
              <a:srgbClr val="3399ff"/>
            </a:solidFill>
            <a:miter/>
          </a:ln>
        </p:spPr>
      </p:pic>
      <p:pic>
        <p:nvPicPr>
          <p:cNvPr id="218" name="Picture 9" descr="om_1860320"/>
          <p:cNvPicPr/>
          <p:nvPr/>
        </p:nvPicPr>
        <p:blipFill>
          <a:blip r:embed="rId3"/>
          <a:stretch/>
        </p:blipFill>
        <p:spPr>
          <a:xfrm>
            <a:off x="5364000" y="549360"/>
            <a:ext cx="3052800" cy="4176720"/>
          </a:xfrm>
          <a:prstGeom prst="rect">
            <a:avLst/>
          </a:prstGeom>
          <a:ln w="9360">
            <a:solidFill>
              <a:srgbClr val="3399ff"/>
            </a:solidFill>
            <a:miter/>
          </a:ln>
        </p:spPr>
      </p:pic>
      <p:sp>
        <p:nvSpPr>
          <p:cNvPr id="2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Основные содержательные линии: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65040" algn="just">
              <a:lnSpc>
                <a:spcPct val="90000"/>
              </a:lnSpc>
              <a:spcBef>
                <a:spcPts val="11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ведение в логику (понятие множества, работа с массивами, логические высказывания, понятие присваивания и т.п.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365040" algn="just">
              <a:lnSpc>
                <a:spcPct val="90000"/>
              </a:lnSpc>
              <a:spcBef>
                <a:spcPts val="11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нятие информации, виды работы с информацией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365040" algn="just">
              <a:lnSpc>
                <a:spcPct val="90000"/>
              </a:lnSpc>
              <a:spcBef>
                <a:spcPts val="11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лгоритмы и исполнител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ограммную поддержку на каждый год обучения обеспечивает пакет педагогических программных средств «Страна «Фантазия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личие в каждом уроке дополнительного задания позволяет проводить уроки и в «безмашинном варианте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Курс «Информатика»,</a:t>
            </a:r>
            <a:br>
              <a:rPr sz="4000"/>
            </a:b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автор Семенов А.Л. 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412640"/>
            <a:ext cx="8435880" cy="59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90000"/>
              </a:lnSpc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Arial"/>
              </a:rPr>
              <a:t>В комплект учебных материалов по информатике для каждого класса входят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indent="365040" algn="just">
              <a:lnSpc>
                <a:spcPct val="90000"/>
              </a:lnSpc>
              <a:spcBef>
                <a:spcPts val="11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Arial"/>
              </a:rPr>
              <a:t>Семенов А. Л. Информатика. Книга для учителя (2-4 класс)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indent="365040" algn="just">
              <a:lnSpc>
                <a:spcPct val="90000"/>
              </a:lnSpc>
              <a:spcBef>
                <a:spcPts val="11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Arial"/>
              </a:rPr>
              <a:t>Семенов А. Л.  Информатика. Рабочая тетрадь проектов для 2 – 4 кл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indent="365040" algn="just">
              <a:lnSpc>
                <a:spcPct val="90000"/>
              </a:lnSpc>
              <a:spcBef>
                <a:spcPts val="11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Arial"/>
              </a:rPr>
              <a:t>Семенов А. Л. Информатика. Учебное пособие для 2 - 4 кл. ч.1, 2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Arial"/>
              </a:rPr>
              <a:t>Курс А. Л. Семенова и др. "Информатика" для начальной школы интегрирует теоретическую информатику, социальную информатику и информационные технологии.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Arial"/>
              </a:rPr>
              <a:t>Программа курса соответствует Обязательному минимуму содержания обучения для средних общеобразовательных учреждений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7" name="Rectangle 30"/>
          <p:cNvSpPr/>
          <p:nvPr/>
        </p:nvSpPr>
        <p:spPr>
          <a:xfrm>
            <a:off x="3851280" y="692280"/>
            <a:ext cx="2665440" cy="187308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8" name="Picture 27" descr="svalka"/>
          <p:cNvPicPr/>
          <p:nvPr/>
        </p:nvPicPr>
        <p:blipFill>
          <a:blip r:embed="rId1"/>
          <a:stretch/>
        </p:blipFill>
        <p:spPr>
          <a:xfrm>
            <a:off x="1547640" y="260280"/>
            <a:ext cx="5086440" cy="6597720"/>
          </a:xfrm>
          <a:prstGeom prst="rect">
            <a:avLst/>
          </a:prstGeom>
          <a:ln w="0">
            <a:noFill/>
          </a:ln>
        </p:spPr>
      </p:pic>
      <p:sp>
        <p:nvSpPr>
          <p:cNvPr id="2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3e3ff"/>
                </a:solidFill>
                <a:latin typeface="Arial"/>
              </a:rPr>
              <a:t>Санитарно – гигиенические нормы для работы школьников за компьютером 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2438280" y="1600200"/>
          <a:ext cx="6400800" cy="4937040"/>
        </p:xfrm>
        <a:graphic>
          <a:graphicData uri="http://schemas.openxmlformats.org/drawingml/2006/table">
            <a:tbl>
              <a:tblPr/>
              <a:tblGrid>
                <a:gridCol w="1600200"/>
                <a:gridCol w="1600200"/>
                <a:gridCol w="1600200"/>
                <a:gridCol w="1600200"/>
              </a:tblGrid>
              <a:tr h="57960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лассы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ервый норматив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торой норматив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ретий норматив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 класс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апрещено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0 мин. в неделю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5 мин. в неделю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852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 – 4 классы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0 мин. в неделю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5 мин. в неделю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 час в неделю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04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 – 6 классы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 час в неделю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,5 часа в неделю, но не более 45 мин. В ден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 часа в неделю, но не более 1 часа в ден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668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 – 9 классы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 часа в неделю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,5 часа в неделю, но не более 1 часа в ден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 часа в неделю, но не более 1 часа в ден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596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 – 11 классы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 часа в неделю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 часов в неделю, но не более 1 часа в ден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 часов в неделю, но не более 1 часа в ден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468360" y="404280"/>
            <a:ext cx="8229600" cy="568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то должен осуществлять преподавание предмета: учитель информатики или учитель начального класса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читель информатики хорошо знает компьютерные технологии, но плохо - методику обучения и уровень развития младших школьников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читель начального класса, наоборот, не разбирается в компьютерах, но хорошо владеет методикой обучения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хорошо разбираться в психологии ребенка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хорошо владеть методическими приемами обучения детей младшего школьного возраста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ыть специалистами в области информационных технологи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Преподаватель  должен: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9528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8280" indent="0" algn="just">
              <a:lnSpc>
                <a:spcPct val="11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сновным содержанием уроков информатики в начальной школе должны стать игры и задачи на формирование алгоритмического мышления, нестандартные  математические задачи и упражнения на формирование навыков работы на компьютере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98280" indent="0" algn="just">
              <a:lnSpc>
                <a:spcPct val="11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363240"/>
            <a:ext cx="8075520" cy="91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3e3ff"/>
                </a:solidFill>
                <a:latin typeface="Arial"/>
              </a:rPr>
              <a:t>Методы и формы обучения на уроках информатики в начальной школе: 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68360" y="1998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1520" indent="-343080" algn="just">
              <a:spcBef>
                <a:spcPts val="14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иалоги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1520" indent="-343080" algn="just">
              <a:spcBef>
                <a:spcPts val="14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абота в группах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1520" indent="-343080" algn="just">
              <a:spcBef>
                <a:spcPts val="14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гровые методики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1520" indent="-343080" algn="just">
              <a:spcBef>
                <a:spcPts val="14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нформационные минутки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1520" indent="-343080" algn="just">
              <a:spcBef>
                <a:spcPts val="14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эвристический подход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1520" indent="0" algn="just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456840" y="620280"/>
            <a:ext cx="843588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8280"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Информатик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в начальной школе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представлен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с 2002/03 учебного года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как отдельный предмет в связи с экспериментом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по совершенствованию структуры и содержания общего образования, и начальной школ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8280"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о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может изучаться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на ступени начального общего образования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в качестве самостоятельного учебного предмета только за счет часов, предусмотренных учебными планами отдельных образовательных систем начальной школы,  или  компонента образовательного учреждения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(по решению правомочного органа управления образовательным учреждением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45" name="Picture 50" descr=""/>
          <p:cNvPicPr/>
          <p:nvPr/>
        </p:nvPicPr>
        <p:blipFill>
          <a:blip r:embed="rId1">
            <a:lum contrast="36000"/>
          </a:blip>
          <a:srcRect l="7051" t="28311" r="7051" b="44199"/>
          <a:stretch/>
        </p:blipFill>
        <p:spPr>
          <a:xfrm>
            <a:off x="0" y="1484280"/>
            <a:ext cx="9144000" cy="3097080"/>
          </a:xfrm>
          <a:prstGeom prst="rect">
            <a:avLst/>
          </a:prstGeom>
          <a:ln w="0">
            <a:noFill/>
          </a:ln>
        </p:spPr>
      </p:pic>
      <p:sp>
        <p:nvSpPr>
          <p:cNvPr id="14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68360" y="62028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8280"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примерном учебном плане для образовательных учреждений Российской Федерации, реализующих программы общего образования, предмет «Информатика и ИКТ» представлен в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3-4 классах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в качестве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обязательного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20-25 часового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учебного модуля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«Практика работы на компьютере (использования информационных технологий)» в рамках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предмета «Технология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8280" indent="0" algn="just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_______________________________________________________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Федеральный базисный учебный план и примерные учебные планы для образовательных учреждений Российской Федерации, реализующих программы общего образования (утвержден приказом № 1312 Министерства образования РФ от 09.03.2004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8280"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Цели изучения, обязательный минимум содержания, требования к уровню подготовки выпускников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по данному учебному модулю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определены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федеральным компонентом государственного образовательного стандарта начального общего образования предмета «Технология»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при наличии материально-технического обеспече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8280" indent="0" algn="just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__________________________________________________Федеральный компонент государственного стандарта общего образования. Часть I. Начальное общее образование. Основное общее образование. / Министерство образования Российской Федерации. – М. 2004. – 221 с. – С.56-60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2T14:36:31Z</dcterms:created>
  <dc:creator>Админ</dc:creator>
  <dc:description/>
  <dc:language>en-US</dc:language>
  <cp:lastModifiedBy>LEGION</cp:lastModifiedBy>
  <dcterms:modified xsi:type="dcterms:W3CDTF">2015-04-01T07:39:50Z</dcterms:modified>
  <cp:revision>18</cp:revision>
  <dc:subject/>
  <dc:title>Информатика в современной начальной школе</dc:title>
</cp:coreProperties>
</file>