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3E4D-CDB8-4F5D-A9A6-0D1EFBD4EFF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современной начальной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проекта Еремеева И.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55D66-B798-49B8-8CD8-41C53A3DC4A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ть/понима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ые источники информ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ме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1EB67-F445-4CCD-A9A9-5B9BDF860D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9692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9830C-CAE2-4237-A38D-24D89FCBD41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ржание учебного модул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B361-00D0-48B5-99B0-F9F151AFAF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одерж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аправленно лишь на обеспечение компьютерной грамот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чащими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ыпад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дна из основных целей эт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 и развитие логического и алгоритмического мыш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3705-0534-4D0A-8F97-0B1B187C7F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B7EA-218C-4A8D-BE11-6BBB1C5E3C0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ескомпьютерное изучение информатики в рамках 1 урока в интеграции с предметам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учение проводит учитель начальных классов без деления класса на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EAA1-8351-45C4-9C71-B5337ACFA46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готовность учителей начальной школ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использованию компьютерной поддержки на уроках информа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41E4-20BF-4BB5-A22A-58B94ECAEE1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рок информатики с делением на группы в кабинете информати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влека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проведению урока информатики (1 час)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9968-7FA7-4535-A04C-4E3A9902A9D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лектронные средства учебного назнач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азбуки и буквари для ознакомления работы с текс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виатурные тренажеры с ненавязчивой скоростью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раскраски и геометрические конструкто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лабиринты для управления объек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моза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игры на компьютер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энциклопедии, путешеств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1E8FF-E363-41FF-9721-E746404096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опологические схем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вычислительные игровые и алгоритмические сред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интезаторы зву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ы-кроссворды и азбуки на компьютере на иностранных язык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среды управления исполнителе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инструментальные развивающие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15F9-AF85-421A-AF6B-CFC91E509B5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цели введения уроков информатики в начальной школ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рвичных психомоторных и поведенческих навыков общения с компьютер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формиров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развитие логического и алгоритмического мыш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E2E0-86E4-4F00-A7CD-2DDD3C0AEAE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ика проведения зан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F62E9-1EAA-4353-A9E5-299E31AF5B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Школа 2100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омпьютерную поддержку рекомендуется осуществля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«Роботландия» (авторы Ю.А. Первин, А.А. Дуванов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361F-B987-48F6-9BA5-36DFC4D06B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, группы (классы) объект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еские рассужд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8903-4995-4620-8BF9-9299A58B9E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бразовательная система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Перспективная начальная школа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екомендуемый учебно-методический комплек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3268E-9E3B-4AD7-A42D-E7A08009FBA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 картина ми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 – универсальная машина для обработки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их свой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ческие нормы при работе с информацией и информационная безопас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D23B9-5CF1-4268-8DEB-3652A6A6B85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Гармония» и друг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чебные планы и УМК данных образовательных систе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бная дисциплина «Информатика» не включена как самостоятельный 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0FCD-5719-4829-A8A8-34ACAA667E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ый для преподавания информатики УМК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2 (3, 4) кл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CD87-96A6-4F54-92B5-C06E646962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44BE-5ABD-4C1C-A540-760A37C8205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ые лин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я, виды информации (по способу восприятия, по способу представлен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объекты (текст, изображение, аудиозапись, видеозапис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информации (живая и неживая природа, творения челове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информацией (обмен, поиск, преобразование, хранение, использовани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0227-3171-4C07-B3EC-D8FAE18FE99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вторский курс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Первые шаги в мире информатики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-методический комплект состо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е информатики. Методическое пособие для учителей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. Рабочая тетрадь. 1-4 класс. Тур С.Н., Бокучава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кет педагогических программных средств "Страна "Фантазия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9C632-CE57-432C-97DB-4987FD0757F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новные содержательные лин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информации, виды работы с информаци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горитмы и исполн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7AF1-D1EF-4D02-A0C1-8F3B693817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рс «Информатика»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втор Семенов А.Л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лект учебных материалов по информатике для каждого класса вход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Книга для учителя (2-4 клас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 Информатика. Рабочая тетрадь проектов для 2 – 4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енов А. Л. Информатика. Учебное пособие для 2 - 4 кл. ч.1,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8BFD-053E-45EE-B776-5C3146ABD29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 – гигиенические нормы для работы школьников за компьютер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769F-C4C1-4FF3-86C1-7F47FC52D5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3B51-7766-4BC8-BA98-C78D7995C12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 долже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разбираться в психологии ребен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рошо владеть методическими приемами обучения детей младшего школьного возрас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ть специалистами в области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B9C9-C85D-4312-9227-33A8D07879A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E8333-CC26-4EAB-92C6-2BD9153540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етоды и формы обучения на уроках информатики в начальной школе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алог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метод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ые минут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ристический подх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662E-5F88-4AAA-B1C7-5B492990AAB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Информати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начальной школ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ставле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2002/03 учебного года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как отдельный предмет в связи с эксперимен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совершенствованию структуры и содержания общего образования, и начальн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ожет изучать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ступени начального общего образования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по решению правомочного органа управления образовательным учреждение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28D2D-22B6-4A60-9574-4096AE024AE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-4 класс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 качестве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бязательног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20-25 часового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учебного моду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едмета «Технолог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_____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D945-F210-4F03-BF68-6AF391B2E0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 данному учебному модулю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ри наличии материально-технического обесп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FB4D-D3E8-4A72-BF26-273D77FAE73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4743-E314-4BA3-B179-9479A486C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2B0E-C155-4F31-AB67-F2298116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9DDF-C9D0-44C3-8E1D-CE049ECA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640-6A2F-494A-B6E6-F0CD90CF3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AC1783-6976-4BAB-BE02-41CA230B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AD9C7-5885-4E1E-9CB2-F0A3FF1D0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AAD01-70BE-4DAB-8502-E2BD9C08A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2A570-9250-48E3-8D2A-E96B7E70B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E39D7C-8B29-448E-AE30-AB7E58155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055EF-2F3F-4336-A05D-3A9FDD7D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AF5BDC-BECF-4039-A69D-50265B0F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9E5-F596-486E-96B2-18F4BF48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CAA44E-9B08-43A4-B92F-DC4DF29E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BD84F-2A42-4EEB-8278-C7BB3442D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3ABDA-FA4B-45B3-BCBD-5823A1C3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B142E-AAE8-49D7-90F4-535AB944D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F40D58-1352-4460-B158-1E76903AA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93CE-DD14-4214-AA41-BCF574612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296-AC6D-48E9-B2E0-610F9140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6CCF-D6CF-40A6-ACD1-F1E02AF4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401-13AC-4D3B-9ED3-7CCD94BC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B293-48A8-4D7D-BC6C-FCDB2288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F8FB-6235-4823-8ED2-ABA5134B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F70-3E30-41AA-85F1-45233082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40D85-5855-4DE4-AC46-C1284FA3239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8AD1-B13C-4DE9-BFB4-874592027F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3e3ff"/>
                </a:solidFill>
                <a:latin typeface="Arial"/>
              </a:rPr>
              <a:t>Информатика в современной начальной школе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258920" y="5084280"/>
            <a:ext cx="64008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оекта Еремеева И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ть/понима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ласть применения и назначение технических устройств (в том числе компьютеров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ые источни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начение основных устройств компьютера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вила безопасного поведения и гигиены при работе с инструментами (в том числе с компьютером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мет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ать необходимую информацию об объекте деятельности, используя рисунки, схемы, эскизы, чертежи (на бумажных и электронных носителях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овать приобретенные знания и умения в практической деятельности и повседневной жизни дл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блюдения безопасных приемов работы со средствами информационных и коммуникационных технолог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шения учебных и практических задач с применением возможностей компьюте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а информации с использованием простейших запрос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096920" indent="-285840" algn="just">
              <a:spcBef>
                <a:spcPts val="1199"/>
              </a:spcBef>
              <a:buClr>
                <a:srgbClr val="00ff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зменения и создания простых информационных объектов на компьютер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одержание учебного модул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«Назначение основных устройств компьютера для ввода, вывода, обработки информации. Включение и выключение компьютера и подключаемых к нему устройств. Клавиатура, общее представление о правилах клавиатурного письма, пользование мышью, использование простейших средств текстового редактора. Простейшие приемы поиска информации: по ключевым словам, каталогам. Соблюдение безопасных приемов труда при работе на компьютере; бережное отношение к техническим устройства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а с простыми информационными объектами (текст, таблица, схема, рисунок): преобразование, создание, сохранение, удаление. Вывод текста на принтер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оздание небольшого текста по интересной детям тематике с использованием изображений на экране компьютера»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612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5075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Содержание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ебного модуля «Практика работы на компьютере (использования информационных технологий)»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направленно лишь на обеспечение компьютерной грамот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учащими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дна разница в целях преподавания информатики в начальной школе как отдельного предмета и в качестве учебного модуля предмета «Технология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Выпада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одна из основных целей это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 и развитие логического и алгоритмического мышл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и не в полной мере реализуется цель: формирование первичного понятийного аппарата информатики – как науки об информации, ее формах, свойствах, способах представления и обработки о соответствующем инструментар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Письме Министерства образования Российской Федерации от 17.12. 2001 №957/13-13 "Методическое письмо по вопросам обучения информатике в начальной школе" представлены три варианта преподавания информатики в начальной школе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Бескомпьютерное изучение информатики в рамках 1 урока в интеграции с предметами.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вместное обучение с такими предметами как математика, риторика, рисование, труд, музыка, окружающий мир в бескомпьютерном варианте обучения возможно реализовать по схеме: 1 урок информатики и использование практических знаний в содержании других предметных уроков. 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Обучение проводит учитель начальных классов без деления класса на группы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Организация компьютерной поддержки предмета "Информатика" в рамках одного урока без деления на группы 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В этом случае необходимо учитывать наличие компьютеров в начальной школе (например, компьютер учителя или 3-7 компьютеров в классе), электронных средств обучения и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готовность учителей начальной школы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использованию компьютерной поддержки на уроках информатики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обучении информатике с компьютерной поддержкой также возможно использовать интегрированный подход по схеме первого с использованием 15-минутного компьютерного практикум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Компьютерный практикум может быть индивидуальным (один ученик за одним компьютером) и демонстрационным. При этом один компьютер учителя в классе может быть использован как "электронная" доск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43920"/>
            <a:ext cx="80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3e3ff"/>
                </a:solidFill>
                <a:latin typeface="Arial"/>
              </a:rPr>
              <a:t>Урок информатики с делением на группы в кабинете информатики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выборе формы обучения информатике с компьютерной поддержкой с использованием компьютерного кабинета школы (12 мест) рекомендуется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привлекать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к проведению урока информатики (1 час) </a:t>
            </a:r>
            <a:r>
              <a:rPr b="1" lang="ru-RU" sz="2200" spc="-1" strike="noStrike" u="sng">
                <a:solidFill>
                  <a:srgbClr val="ffffff"/>
                </a:solidFill>
                <a:uFillTx/>
                <a:latin typeface="Arial"/>
              </a:rPr>
              <a:t>учителя информатики школы для совместного параллельного проведения занятий двумя учителями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блоками по 15 минут. Теоретическая часть для 1-й группы и компьютерная часть урока для 2-й группы соответственно, и наоборо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компьютерной поддержке обучения информатике необходимо соблюдать требования к оборудованию кабинета вычислительной техникой, санитарные нормы организации труда детей за компьютером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Работу за компьютером следует заканчивать профилактическими упражнениями для зрения (1 мин) и осанки (1-2 мин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Электронные средства учебного назначения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азбуки и буквари для ознакомления работы с текс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авиатурные тренажеры с ненавязчивой скоростью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раскраски и геометрические конструктор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лабиринты для управления объект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мозаик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игры на компьютере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энциклопедии, путешеств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топологические схем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учебники с иллюстрациями и заданиями удовлетворяющие возможности использования фрагментами по 5 минут с дальнейшим обсуждени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вычислительные игровые и алгоритмические сред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интезаторы звук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-кроссворды и азбуки на компьютере на иностранных языка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среды управления исполнителе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ьютерные инструментальные развивающие сре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864216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нятийного аппарата информатики – как науки об информации, ее формах, свойствах, способах представления и обработки на соответствующем инструментар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сн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нформационной культуры в процессе использования учебных игровых программ, простейших компьютерных тренажеров и т.д. на уроках математики, русского языка, ИЗО и других предметов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ервичных психомоторных и поведенческих навыков общения с компьютер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формировани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и развитие логического и алгоритмического мышл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цели введения уроков информатики в начальной школе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ика проведения занятий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сле установочной фазы урока идет его основная, познавательная часть, определяемая доминантной целью уро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ем следует его вариативная часть, когда вид деятельности определяется вспомогательными целями урока: развитие памяти, мышления, проверка домашнего задания, вопросы для закрепления нового материала и проверки качества его усвоения. При этом используются тесты, задачи, игры - деятельность, при которой требуется “пошевелить мозгами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 каждом занятии желательно предоставлять возможность учащимся поработать на компьютер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179280" y="1268280"/>
          <a:ext cx="8713800" cy="3816360"/>
        </p:xfrm>
        <a:graphic>
          <a:graphicData uri="http://schemas.openxmlformats.org/drawingml/2006/table">
            <a:tbl>
              <a:tblPr/>
              <a:tblGrid>
                <a:gridCol w="1800360"/>
                <a:gridCol w="2152800"/>
                <a:gridCol w="3003480"/>
                <a:gridCol w="1757160"/>
              </a:tblGrid>
              <a:tr h="177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д деятельности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знавательна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звитие мышления, памяти, внимания; проверка усвоения изученного материала, домашнее задание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бота на компьютер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127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едства</a:t>
                      </a:r>
                      <a:br>
                        <a:rPr sz="2200"/>
                      </a:b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ия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исунки, таблицы, презентация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сты, задачи, рисунки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ПС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  <a:tr h="765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должи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-20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-15 минут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99cc"/>
                      </a:solidFill>
                    </a:lnL>
                    <a:lnR w="5760">
                      <a:solidFill>
                        <a:srgbClr val="ff99cc"/>
                      </a:solidFill>
                    </a:lnR>
                    <a:lnT w="5760">
                      <a:solidFill>
                        <a:srgbClr val="ff99cc"/>
                      </a:solidFill>
                    </a:lnT>
                    <a:lnB w="5760">
                      <a:solidFill>
                        <a:srgbClr val="ff99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Школа 2100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/А.В. Горячев и др. – М.: Баласс, 1998 – 2002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 в играх и задачах: Учебник-тетрадь для 1 (2, 3, 4) кл.  Методические рекомендации для учителя. /А.В. Горячев и др. – М.: Баласс, 1998 – 2002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омпьютерную поддержку рекомендуется осуществлять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 :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утешествие в информатику (компьютерная поддержка  к курсу А.В. Горячева «Информатика в играх и задачах»)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акет «Роботландия» (авторы Ю.А. Первин, А.А. Дуванов и др.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5" name="Picture 11" descr="930606664"/>
          <p:cNvPicPr/>
          <p:nvPr/>
        </p:nvPicPr>
        <p:blipFill>
          <a:blip r:embed="rId1"/>
          <a:stretch/>
        </p:blipFill>
        <p:spPr>
          <a:xfrm>
            <a:off x="5292720" y="333360"/>
            <a:ext cx="3484440" cy="4564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6" name="Picture 8" descr="2759"/>
          <p:cNvPicPr/>
          <p:nvPr/>
        </p:nvPicPr>
        <p:blipFill>
          <a:blip r:embed="rId2"/>
          <a:stretch/>
        </p:blipFill>
        <p:spPr>
          <a:xfrm>
            <a:off x="3132000" y="1916280"/>
            <a:ext cx="2903760" cy="47178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187" name="Picture 14" descr="1000064670"/>
          <p:cNvPicPr/>
          <p:nvPr/>
        </p:nvPicPr>
        <p:blipFill>
          <a:blip r:embed="rId3"/>
          <a:stretch/>
        </p:blipFill>
        <p:spPr>
          <a:xfrm>
            <a:off x="0" y="189000"/>
            <a:ext cx="3405240" cy="439236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лгоритм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ъекты, группы (классы) объектов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огические рассуждения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ел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зучение информатики в начальной школе по данному комплекту предполагается в основном без использования компьютеров. Компьютерная поддержка допустима, но не обязательн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бразовательная система </a:t>
            </a: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спективная начальная школа»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lnSpc>
                <a:spcPct val="80000"/>
              </a:lnSpc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900" spc="-1" strike="noStrike" u="sng">
                <a:solidFill>
                  <a:srgbClr val="ffffff"/>
                </a:solidFill>
                <a:uFillTx/>
                <a:latin typeface="Arial"/>
              </a:rPr>
              <a:t>Рекомендуемый учебно-методический комплект: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Учебник-тетрадь. 2 (3, 4) класс. В 2-х ч. - М.: Академ-книга, 2003-2005;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Бененсон Е.П., Паутова А.Г. Информатика. 2 (3, 4) класс. Методическое пособие. - М.: Академ-книга, 2003-2005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ffffff"/>
                </a:solidFill>
                <a:latin typeface="Arial"/>
              </a:rPr>
              <a:t>Паутова А.Г. Информатика: Комплект компьютерных программ к учебнику-тетради. 2 (3, 4) класс. Методическое пособие + CD-диск. - М.: Академ-книга, 2003-2005.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ая картина мир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ьютер – универсальная машина для обработки информаци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ъекты и их свой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623880" algn="just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ческие нормы при работе с информацией и информационная безопас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нный УМК предусматривает два варианта преподавания информатики: без компьютерной поддержки (все задания выполняются в учебнике или тетради) и с компьютерной поддержкой (на основе специально разработанного программного комплекса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Образовательная система «Гармония» и другие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учебные планы и УМК данных образовательных систем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бная дисциплина «Информатика» не включена как самостоятельный предмет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21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решению правомочного органа управления образовательным учреждением при наличии материально-технического, программно-методического и кадрового обеспечения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форматику целесообразно включать в учебные планы начальной ступени обучения за счет часов компонента образовательного учрежден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0" algn="just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Рекомендуемый для преподавания информатики УМК: 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Информатика. 2 (3, 4) кл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Рабочая тетрадь для 2 (3, 4) кл. в 2-х частях, 2-е изд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Информатика. Методический комплект: пособие + практикум на CD. - М.: Изд-во «Бином. Лаборатория знаний», 2004-2005;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Матвеева Н.В. и др. Введение в информатику: Комплект из 12 плакатов + методическое пособие. - М.: Изд-во «Бином. Лаборатория знаний», 2004-2005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view_images"/>
          <p:cNvPicPr/>
          <p:nvPr/>
        </p:nvPicPr>
        <p:blipFill>
          <a:blip r:embed="rId1"/>
          <a:stretch/>
        </p:blipFill>
        <p:spPr>
          <a:xfrm>
            <a:off x="155520" y="15840"/>
            <a:ext cx="2924280" cy="38098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6" name="Picture 7" descr="98657"/>
          <p:cNvPicPr/>
          <p:nvPr/>
        </p:nvPicPr>
        <p:blipFill>
          <a:blip r:embed="rId2"/>
          <a:stretch/>
        </p:blipFill>
        <p:spPr>
          <a:xfrm>
            <a:off x="2411280" y="1341360"/>
            <a:ext cx="3461040" cy="446400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07" name="Picture 11" descr="big-722754"/>
          <p:cNvPicPr/>
          <p:nvPr/>
        </p:nvPicPr>
        <p:blipFill>
          <a:blip r:embed="rId3"/>
          <a:stretch/>
        </p:blipFill>
        <p:spPr>
          <a:xfrm>
            <a:off x="5364000" y="2637000"/>
            <a:ext cx="3065760" cy="3889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нии обучения информатике в начальной школе должны соответствовать линиям основной школы, но реализуются на пропедевтическом уровн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означает, что должна существовать связь между обучением информатики в начальной и базовой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я, виды информации (по способу восприятия, по способу представления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нформационные объекты (текст, изображение, аудиозапись, видеозапись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источники информации (живая и неживая природа, творения человек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работа с информацией (обмен, поиск, преобразование, хранение, использование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редства информационных технологий (телефон, компьютер, радио, телевидение, устройства мультимедиа);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lnSpc>
                <a:spcPct val="80000"/>
              </a:lnSpc>
              <a:spcBef>
                <a:spcPts val="10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организация информации и данных (оглавление, указатели, каталоги, записные книжки и другое)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держательные линии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ский курс </a:t>
            </a:r>
            <a:br>
              <a:rPr sz="4000"/>
            </a:b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«Первые шаги в мире информатики»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1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Учебно-методический комплект состои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В мире информатики. Методическое пособие для учителей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Информатика. Рабочая тетрадь. 1-4 класс. Тур С.Н., Бокучава Т.П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137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"/>
              </a:rPr>
              <a:t>Пакет педагогических программных средств "Страна "Фантазия"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216" name="Picture 13" descr="00043811big"/>
          <p:cNvPicPr/>
          <p:nvPr/>
        </p:nvPicPr>
        <p:blipFill>
          <a:blip r:embed="rId1"/>
          <a:stretch/>
        </p:blipFill>
        <p:spPr>
          <a:xfrm>
            <a:off x="324000" y="333360"/>
            <a:ext cx="2982600" cy="41752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7" name="Picture 5" descr="105833"/>
          <p:cNvPicPr/>
          <p:nvPr/>
        </p:nvPicPr>
        <p:blipFill>
          <a:blip r:embed="rId2"/>
          <a:stretch/>
        </p:blipFill>
        <p:spPr>
          <a:xfrm>
            <a:off x="2843280" y="1989000"/>
            <a:ext cx="3273480" cy="453708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pic>
        <p:nvPicPr>
          <p:cNvPr id="218" name="Picture 9" descr="om_1860320"/>
          <p:cNvPicPr/>
          <p:nvPr/>
        </p:nvPicPr>
        <p:blipFill>
          <a:blip r:embed="rId3"/>
          <a:stretch/>
        </p:blipFill>
        <p:spPr>
          <a:xfrm>
            <a:off x="5364000" y="549360"/>
            <a:ext cx="3052800" cy="4176720"/>
          </a:xfrm>
          <a:prstGeom prst="rect">
            <a:avLst/>
          </a:prstGeom>
          <a:ln w="9360">
            <a:solidFill>
              <a:srgbClr val="3399ff"/>
            </a:solidFill>
            <a:miter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Основные содержательные линии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ведение в логику (понятие множества, работа с массивами, логические высказывания, понятие присваивания и т.п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нятие информации, виды работы с информацие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лгоритмы и исполн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граммную поддержку на каждый год обучения обеспечивает пакет педагогических программных средств «Страна «Фантаз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личие в каждом уроке дополнительного задания позволяет проводить уроки и в «безмашинном вариант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Курс «Информатика»,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автор Семенов А.Л.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9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В комплект учебных материалов по информатике для каждого класса входят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Книга для учителя (2-4 класс)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 Информатика. Рабочая тетрадь проектов для 2 – 4 кл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365040" algn="just">
              <a:lnSpc>
                <a:spcPct val="90000"/>
              </a:lnSpc>
              <a:spcBef>
                <a:spcPts val="11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Семенов А. Л. Информатика. Учебное пособие для 2 - 4 кл. ч.1, 2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Курс А. Л. Семенова и др. "Информатика" для начальной школы интегрирует теоретическую информатику, социальную информатику и информационные технологи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Arial"/>
              </a:rPr>
              <a:t>Программа курса соответствует Обязательному минимуму содержания обучения для средних общеобразовательных учреждений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3851280" y="692280"/>
            <a:ext cx="2665440" cy="18730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Picture 27" descr="svalka"/>
          <p:cNvPicPr/>
          <p:nvPr/>
        </p:nvPicPr>
        <p:blipFill>
          <a:blip r:embed="rId1"/>
          <a:stretch/>
        </p:blipFill>
        <p:spPr>
          <a:xfrm>
            <a:off x="1547640" y="260280"/>
            <a:ext cx="5086440" cy="659772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Санитарно – гигиенические нормы для работы школьников за компьютером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438280" y="1600200"/>
          <a:ext cx="6400800" cy="493704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579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ервы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торо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етий нормати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класс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прещен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– 4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5 мин.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 – 6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час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,5 часа в неделю, но не более 45 мин.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– 9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,5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 – 11 класс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 часа в неделю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 часов в неделю, но не более 1 часа в де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должен осуществлять преподавание предмета: учитель информатики или учитель начального класс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информатики хорошо знает компьютерные технологии, но плохо - методику обучения и уровень развития младших школьников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 начального класса, наоборот, не разбирается в компьютерах, но хорошо владеет методикой обу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разбираться в психологии ребенка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хорошо владеть методическими приемами обучения детей младшего школьного возрас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быть специалистами в области информационных технолог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Преподаватель  должен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м содержанием уроков информатики в начальной школе должны стать игры и задачи на формирование алгоритмического мышления, нестандартные  математические задачи и упражнения на формирование навыков работы на компьютер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63240"/>
            <a:ext cx="8075520" cy="9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Arial"/>
              </a:rPr>
              <a:t>Методы и формы обучения на уроках информатики в начальной школе: 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36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диалог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бота в группах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овые методи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ционные минутки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-343080" algn="just">
              <a:spcBef>
                <a:spcPts val="1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вристический подход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71520" indent="0" algn="just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6840" y="620280"/>
            <a:ext cx="843588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Информатик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начальной школ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ставлен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с 2002/03 учебного года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как отдельный предмет в связи с экспериментом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совершенствованию структуры и содержания общего образования, и начальной школ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может изучатьс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на ступени начального общего образования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в качестве самостоятельного учебного предмета только за счет часов, предусмотренных учебными планами отдельных образовательных систем начальной школы,  или  компонента образовательного учрежден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(по решению правомочного органа управления образовательным учреждение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5" name="Picture 50" descr=""/>
          <p:cNvPicPr/>
          <p:nvPr/>
        </p:nvPicPr>
        <p:blipFill>
          <a:blip r:embed="rId1">
            <a:lum contrast="36000"/>
          </a:blip>
          <a:srcRect l="7051" t="28311" r="7051" b="44199"/>
          <a:stretch/>
        </p:blipFill>
        <p:spPr>
          <a:xfrm>
            <a:off x="0" y="1484280"/>
            <a:ext cx="9144000" cy="309708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римерном учебном плане для образовательных учреждений Российской Федерации, реализующих программы общего образования, предмет «Информатика и ИКТ» представлен в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3-4 классах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 качестве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бязательного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20-25 часового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учебного модул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«Практика работы на компьютере (использования информационных технологий)» в рамках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едмета «Технология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_____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 (утвержден приказом № 1312 Министерства образования РФ от 09.03.2004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8280" indent="0" algn="just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Цели изучения, обязательный минимум содержания, требования к уровню подготовки выпускник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по данному учебному модулю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определены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федеральным компонентом государственного образовательного стандарта начального общего образования предмета «Технология»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при наличии материально-технического обеспе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8280" indent="0" algn="just">
              <a:lnSpc>
                <a:spcPct val="1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__________________________________________________Федеральный компонент государственного стандарта общего образования. Часть I. Начальное общее образование. Основное общее образование. / Министерство образования Российской Федерации. – М. 2004. – 221 с. – С.56-6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2T14:36:31Z</dcterms:created>
  <dc:creator>Админ</dc:creator>
  <dc:description/>
  <dc:language>en-US</dc:language>
  <cp:lastModifiedBy>LEGION</cp:lastModifiedBy>
  <dcterms:modified xsi:type="dcterms:W3CDTF">2015-04-01T07:39:50Z</dcterms:modified>
  <cp:revision>18</cp:revision>
  <dc:subject/>
  <dc:title>Информатика в современной начальной школе</dc:title>
</cp:coreProperties>
</file>