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6403-C4EF-400C-84EA-15608A4BDC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современной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проекта Еремеева И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3B9F-8C19-469B-8207-A16384C3A2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/поним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источники информ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F1C8-3C85-4AE0-9765-27A4F96675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319C-2371-4524-98D8-6D55A0036E1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учебного моду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F775-CE66-4C20-97C8-24DBC8AC8C9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но лишь на обеспечение компьютерной грамо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ад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на из основных целей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и развитие логического и алгоритмического мыш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7D63-D1DD-49D6-A146-294D734B5C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30E7-83ED-4070-8313-3694D908C5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компьютерное изучение информатики в рамках 1 урока в интеграции с пред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 проводит учитель начальных классов без деления класса на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3FA5-470B-4C45-AB89-0A47ED9954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учителей начальной шко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пользованию компьютерной поддержки на уроках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749D-0DC2-457B-B96F-A78A5EAEC1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 информатики с делением на группы в кабинете инфор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влек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оведению урока информатики (1 час)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64F7-DFAE-49AD-9E0B-0B02A802EA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 средства учебного назна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азбуки и буквари для ознакомления работы с текс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ные тренажеры с ненавязчивой скоростью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раскраски и геометрические конструкт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лабиринты для управления объек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моза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игры на компьютер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энциклопедии, путешеств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46AC-7300-4317-A923-BCDFC261BE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опологические сх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вычислительные игровые и алгоритмические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интезаторы зв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ы-кроссворды и азбуки на компьютере на иностранных язы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реды управления исполни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нструментальные развивающи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CE2A-E997-45A7-86D0-40309F3592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цели введения уроков информатики в начальной шко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ых психомоторных и поведенческих навыков общения с компью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развитие логического и алгоритм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0D97-6504-491F-B023-73DFAB3D3A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зан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042-CFAE-428B-8DC7-241C5293FAD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ую поддержку рекомендуется осуществля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«Роботландия» (авторы Ю.А. Первин, А.А. Дуван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3184-B40D-4864-85D8-0F710EA533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, группы (классы) объек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рассу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72E1-0FE8-4A22-9495-3D598274B3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ерспективная начальная школ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F65D-1A59-44C9-937A-46BFBEB029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картина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– универсальная машина для обработки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их сво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нормы при работе с информацией и информационная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6304-DEEB-499E-8B82-B9D87BCDCA0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Гармония» и друг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ые планы и УМК данных образовательных сис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ая дисциплина «Информатика» не включена как самостоятельный 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BA01-8BD4-425D-B7DC-5FC0EAD06D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ый для преподавания информатики УМК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2 (3, 4) кл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1870-6496-47D4-AC84-1301248F30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2174-1DB5-425E-9E05-5373585DE5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виды информации (по способу восприятия, по способу представл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объекты (текст, изображение, аудиозапись, видеозапис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(живая и неживая природа, творения челове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информацией (обмен, поиск, преобразование, хранение, использов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48E13-1439-4646-9499-9394B5A15A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ий курс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ервые шаги в мире информат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состо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информатики. Методическое пособие для учителей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Рабочая тетрадь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едагогических программных средств "Страна "Фантаз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FF11-B9A3-4834-9AAD-920BC3EBE5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содержательные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нформации, виды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BA03-0A2D-4DF3-9C56-E6CBD40939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рс «Информатика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еменов А.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лект учебных материалов по информатике для каждого класса в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Книга для учителя (2-4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 Информатика. Рабочая тетрадь проектов для 2 – 4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Учебное пособие для 2 - 4 кл. ч.1,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8409-1DE3-4396-A70A-A06D75EDC70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 – гигиенические нормы для работы школьников за компьюте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4777-5522-4369-9BD5-987E7443C5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D4D1-114C-48F8-BFCC-A017D488AC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разбираться в психологии ребе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владеть методическими приемами обучен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специалистами в области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38EE-F8B8-435A-99B6-30F69D637E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C71F-31AE-476B-9C77-635E49D009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ы и формы обучения на уроках информатики в начальной школе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метод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мину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ристический подх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F899-0868-4222-96BB-8DF2B14F93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начальной школ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2002/03 учебного год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тдельный предмет в связи с эксперимен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вершенствованию структуры и содержания общего образования, и нача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жет изуча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тупени начального общего образова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 решению правомочного органа управления образовательным учреждение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F207-7BB9-492A-B0BA-70AF4544C82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-4 класс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ачеств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-25 часово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го моду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мета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BB87-0245-4968-8D53-35C06E5B8B4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учебному модул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 наличии материально-технического обесп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D0F3-5543-4D28-9D91-1F50CE62D4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D4B-0DB6-419B-9E38-F64B1EFFC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4905-C9C4-431D-84E8-0EE60878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91FD-2557-49CB-B3C6-E74BE65B6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AF5-65C8-4F75-99E6-FFFC6559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55651-4959-4DD1-B2CA-3BE4AB5AE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D2E28-4B75-46F1-BD1E-77A9D734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BD182C-2E8C-44F7-A2FF-9104A2F6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C98C5-C2FD-4986-BED3-0647C7857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6EF81-A2F0-4821-BBB9-BA007B79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02F41-D6C6-47B5-9D3D-70896761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9CF62-43CB-4AA1-997C-FECDA119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B2B-0BAC-4B34-A2C2-50A65B7D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D9266-E560-4099-A8F9-376DAFD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D1100-967D-48A1-8D5D-946F117FC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662F2-84CA-443D-849F-3AAEB426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0CD34-EABA-4F8F-B2DA-6CEDE3E53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080EC-708A-4A79-8834-C02217ECF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EDA-15BB-4CE0-ADDF-AD38A282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8E5-C77D-41E9-9012-EEFD892F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BA9-528D-4993-80A8-EB20A0C3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01B-121C-42B2-B41C-9F40539C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144-3367-4615-922B-672DAE8A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72F-3344-4A32-A392-B2776F0D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1E5-8834-410D-8033-4D07C9BE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3F33-A2EE-4FDA-88BF-DAEEBEEF62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BCC6-EB92-4B5B-83F6-87206A52B4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нформатика в современной начальной школ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920" y="50842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екта Еремеева И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/поним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источни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держание учебного модул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но лишь на обеспечение компьютерной грамот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ад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на из основных целей эт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и развитие логического и алгоритмического мыш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Бескомпьютерное изучение информатики в рамках 1 урока в интеграции с предметам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учение проводит учитель начальных классов без деления класса на групп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отовность учителей начальной школ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использованию компьютерной поддержки на уроках информа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Урок информатики с делением на группы в кабинете информатик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ивлекат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проведению урока информатики (1 час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лектронные средства учебного назначе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азбуки и буквари для ознакомления работы с текс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иатурные тренажеры с ненавязчивой скоростью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раскраски и геометрические конструкто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лабиринты для управления объек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моза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игры на компьютер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энциклопедии, путешеств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топологические сх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вычислительные игровые и алгоритмические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интезаторы зву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кроссворды и азбуки на компьютере на иностранных язы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реды управления исполни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инструментальные развивающие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х психомоторных и поведенческих навыков общения с компьюте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развитие логического и алгоритми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цели введения уроков информатики в начальной школ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проведения занятий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9280" y="1268280"/>
          <a:ext cx="8713800" cy="3816360"/>
        </p:xfrm>
        <a:graphic>
          <a:graphicData uri="http://schemas.openxmlformats.org/drawingml/2006/table">
            <a:tbl>
              <a:tblPr/>
              <a:tblGrid>
                <a:gridCol w="1800360"/>
                <a:gridCol w="2152800"/>
                <a:gridCol w="3003480"/>
                <a:gridCol w="1757160"/>
              </a:tblGrid>
              <a:tr h="17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а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мышления, памяти, внимания; проверка усвоения изученного материала, домашнее задани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на компьюте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ки, таблицы, презент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ы, задачи, рисунк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П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Школа 2100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омпьютерную поддержку рекомендуется осуществлять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акет «Роботландия» (авторы Ю.А. Первин, А.А. Дуванов и др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11" descr="930606664"/>
          <p:cNvPicPr/>
          <p:nvPr/>
        </p:nvPicPr>
        <p:blipFill>
          <a:blip r:embed="rId1"/>
          <a:stretch/>
        </p:blipFill>
        <p:spPr>
          <a:xfrm>
            <a:off x="5292720" y="333360"/>
            <a:ext cx="3484440" cy="4564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6" name="Picture 8" descr="2759"/>
          <p:cNvPicPr/>
          <p:nvPr/>
        </p:nvPicPr>
        <p:blipFill>
          <a:blip r:embed="rId2"/>
          <a:stretch/>
        </p:blipFill>
        <p:spPr>
          <a:xfrm>
            <a:off x="3132000" y="1916280"/>
            <a:ext cx="2903760" cy="4717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7" name="Picture 14" descr="1000064670"/>
          <p:cNvPicPr/>
          <p:nvPr/>
        </p:nvPicPr>
        <p:blipFill>
          <a:blip r:embed="rId3"/>
          <a:stretch/>
        </p:blipFill>
        <p:spPr>
          <a:xfrm>
            <a:off x="0" y="189000"/>
            <a:ext cx="3405240" cy="4392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ы, группы (классы) объект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рассужд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спективная начальная школа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9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ая картина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 – универсальная машина для обработ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 и их сво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ческие нормы при работе с информацией и информационная без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бразовательная система «Гармония» и друг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чебные планы и УМК данных образовательных систем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дисциплина «Информатика» не включена как самостоятельный предм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екомендуемый для преподавания информатики УМК: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. 2 (3, 4) кл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view_images"/>
          <p:cNvPicPr/>
          <p:nvPr/>
        </p:nvPicPr>
        <p:blipFill>
          <a:blip r:embed="rId1"/>
          <a:stretch/>
        </p:blipFill>
        <p:spPr>
          <a:xfrm>
            <a:off x="155520" y="15840"/>
            <a:ext cx="2924280" cy="38098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6" name="Picture 7" descr="98657"/>
          <p:cNvPicPr/>
          <p:nvPr/>
        </p:nvPicPr>
        <p:blipFill>
          <a:blip r:embed="rId2"/>
          <a:stretch/>
        </p:blipFill>
        <p:spPr>
          <a:xfrm>
            <a:off x="2411280" y="1341360"/>
            <a:ext cx="3461040" cy="4464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7" name="Picture 11" descr="big-722754"/>
          <p:cNvPicPr/>
          <p:nvPr/>
        </p:nvPicPr>
        <p:blipFill>
          <a:blip r:embed="rId3"/>
          <a:stretch/>
        </p:blipFill>
        <p:spPr>
          <a:xfrm>
            <a:off x="5364000" y="2637000"/>
            <a:ext cx="3065760" cy="3889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я, виды информации (по способу восприятия, по способу представления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онные объекты (текст, изображение, аудиозапись, видеозапись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сточники информации (живая и неживая природа, творения человек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а с информацией (обмен, поиск, преобразование, хранение, использование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ский курс </a:t>
            </a:r>
            <a:br>
              <a:rPr sz="40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вые шаги в мире информатики»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ебно-методический комплект состои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мире информатики. Методическое пособие для учителей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форматика. Рабочая тетрадь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кет педагогических программных средств "Страна "Фантазия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13" descr="00043811big"/>
          <p:cNvPicPr/>
          <p:nvPr/>
        </p:nvPicPr>
        <p:blipFill>
          <a:blip r:embed="rId1"/>
          <a:stretch/>
        </p:blipFill>
        <p:spPr>
          <a:xfrm>
            <a:off x="324000" y="333360"/>
            <a:ext cx="2982600" cy="41752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7" name="Picture 5" descr="105833"/>
          <p:cNvPicPr/>
          <p:nvPr/>
        </p:nvPicPr>
        <p:blipFill>
          <a:blip r:embed="rId2"/>
          <a:stretch/>
        </p:blipFill>
        <p:spPr>
          <a:xfrm>
            <a:off x="2843280" y="1989000"/>
            <a:ext cx="3273480" cy="4537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8" name="Picture 9" descr="om_1860320"/>
          <p:cNvPicPr/>
          <p:nvPr/>
        </p:nvPicPr>
        <p:blipFill>
          <a:blip r:embed="rId3"/>
          <a:stretch/>
        </p:blipFill>
        <p:spPr>
          <a:xfrm>
            <a:off x="5364000" y="549360"/>
            <a:ext cx="3052800" cy="41767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содержательные лин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информации, виды работы с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рс «Информатика»,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 Семенов А.Л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комплект учебных материалов по информатике для каждого класса входя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Книга для учителя (2-4 класс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 Информатика. Рабочая тетрадь проектов для 2 – 4 к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Учебное пособие для 2 - 4 кл. ч.1, 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3851280" y="692280"/>
            <a:ext cx="2665440" cy="1873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7" descr="svalka"/>
          <p:cNvPicPr/>
          <p:nvPr/>
        </p:nvPicPr>
        <p:blipFill>
          <a:blip r:embed="rId1"/>
          <a:stretch/>
        </p:blipFill>
        <p:spPr>
          <a:xfrm>
            <a:off x="1547640" y="260280"/>
            <a:ext cx="5086440" cy="6597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анитарно – гигиенические нормы для работы школьников за компьютером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1600200"/>
          <a:ext cx="6400800" cy="49370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ы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о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ти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4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6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часа в неделю, но не более 45 мин.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1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збираться в психологии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владеть методическими приемами обучения детей младшего школьно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специалистами в области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подаватель  должен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0755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етоды и формы обучения на уроках информатики в начальной школе: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лог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групп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метод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е мину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вристический подх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начальной школ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2002/03 учебного год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отдельный предмет в связи с эксперимен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совершенствованию структуры и содержания общего образования, и 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жет изучать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ступени начального общего образован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 решению правомочного органа управления образовательным учреждение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0" descr=""/>
          <p:cNvPicPr/>
          <p:nvPr/>
        </p:nvPicPr>
        <p:blipFill>
          <a:blip r:embed="rId1">
            <a:lum contrast="36000"/>
          </a:blip>
          <a:srcRect l="7051" t="28311" r="7051" b="44199"/>
          <a:stretch/>
        </p:blipFill>
        <p:spPr>
          <a:xfrm>
            <a:off x="0" y="148428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-4 класс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0-25 часово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ого мод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а «Технолог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_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данному учебному модулю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предел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наличии материально-технического обесп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36:31Z</dcterms:created>
  <dc:creator>Админ</dc:creator>
  <dc:description/>
  <dc:language>en-US</dc:language>
  <cp:lastModifiedBy>LEGION</cp:lastModifiedBy>
  <dcterms:modified xsi:type="dcterms:W3CDTF">2015-04-01T07:39:50Z</dcterms:modified>
  <cp:revision>18</cp:revision>
  <dc:subject/>
  <dc:title>Информатика в современной начальной школе</dc:title>
</cp:coreProperties>
</file>