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C249-9512-4D98-8730-70F3412BCF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современной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проекта Еремеева И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2D55-48FF-4A25-BBA6-9F4CD15166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/поним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источники информ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8643-A6D9-41ED-B19F-CF37487A7A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022F-26F5-4BD5-8EFE-A45868F6AC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учебного модул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2C30-AF37-4F8E-ADFD-10F5E8E909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но лишь на обеспечение компьютерной грамо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ад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на из основных целей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и развитие логического и алгоритмического мыш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0C92-C579-4EDB-9705-F57168EB40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B500-65A5-4191-AE8B-4C5FFADB10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скомпьютерное изучение информатики в рамках 1 урока в интеграции с предмет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 проводит учитель начальных классов без деления класса на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62D7-CC6C-4D58-8772-904B5963A8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учителей начальной шко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пользованию компьютерной поддержки на уроках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31C9-42E5-4BCE-AE4F-4B40991119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 информатики с делением на группы в кабинете информа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влек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оведению урока информатики (1 час)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3F0F-8BE2-4C5C-965B-18BED71F39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ые средства учебного назнач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азбуки и буквари для ознакомления работы с текс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ные тренажеры с ненавязчивой скоростью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раскраски и геометрические конструкт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лабиринты для управления объек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моза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игры на компьютер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энциклопедии, путешеств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9660-162B-4D25-A8D7-A0191874DB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опологические сх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вычислительные игровые и алгоритмические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интезаторы зв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ы-кроссворды и азбуки на компьютере на иностранных язы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реды управления исполни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нструментальные развивающи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F7D6-14A5-4C76-AA82-54CA894E47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цели введения уроков информатики в начальной шко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ых психомоторных и поведенческих навыков общения с компьют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развитие логического и алгоритм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5956-FA9E-48DA-B1C8-6DBD7E09C4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зан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220B-9CAF-4F34-819E-30466502AA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ьютерную поддержку рекомендуется осуществля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«Роботландия» (авторы Ю.А. Первин, А.А. Дувано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4BAD-C536-4CB6-BA67-723931660F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, группы (классы) объек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рассу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1C99-7F91-4EEB-9AD1-1B4CE473B6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ерспективная начальная школ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8FB2-38D3-4687-9202-9BDFB2D375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картина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– универсальная машина для обработки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их сво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нормы при работе с информацией и информационная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C8B5-5DCB-4BF3-B056-6BF829BFB4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Гармония» и друг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ые планы и УМК данных образовательных сис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ая дисциплина «Информатика» не включена как самостоятельный 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419A-C9FC-413F-BD82-48FC37B2EF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ый для преподавания информатики УМК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2 (3, 4) кл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4CB9-47E3-47B9-8AEB-3DEE5641EA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BDA4-D5DA-4D8E-8B1E-B1003E16FD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виды информации (по способу восприятия, по способу представл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объекты (текст, изображение, аудиозапись, видеозапис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(живая и неживая природа, творения челове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информацией (обмен, поиск, преобразование, хранение, использов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BF38-A40E-4CF2-B6EC-40B9BEC2A7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ский курс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ервые шаги в мире информатик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-методический комплект состо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информатики. Методическое пособие для учителей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Рабочая тетрадь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едагогических программных средств "Страна "Фантаз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F22D-ACE2-4825-B367-265E6DCC51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содержательные ли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нформации, виды работы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0642-E5F8-41D3-BFC5-FA227EF1E8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рс «Информатика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 Семенов А.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лект учебных материалов по информатике для каждого класса в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Книга для учителя (2-4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 Информатика. Рабочая тетрадь проектов для 2 – 4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Учебное пособие для 2 - 4 кл. ч.1,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2CFB-7796-40D9-A870-F83E9FC5D4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 – гигиенические нормы для работы школьников за компьюте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4F7C-7F83-42E9-9C6E-5D8678CFE8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1809-0AFF-4EF7-A001-697FF599CE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разбираться в психологии ребе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владеть методическими приемами обучения детей младшего школьного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специалистами в области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2ED9-5656-4770-9838-798541BE94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B8E6-7273-46B1-A514-B27C29C171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ы и формы обучения на уроках информатики в начальной школе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метод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мину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ристический подх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A961-825A-4632-89DD-59D8492796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начальной школ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2002/03 учебного год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тдельный предмет в связи с эксперимен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вершенствованию структуры и содержания общего образования, и нача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жет изуча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тупени начального общего образова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 решению правомочного органа управления образовательным учреждение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3779-D63F-42BE-90C9-3DD95B1A56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-4 класс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ачеств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-25 часово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го моду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мета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A2FB-7433-49D1-9CE2-DAB8F01302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данному учебному модул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 наличии материально-технического обесп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AB0F-0880-41ED-92B6-12DE6CF892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0DC-2123-44EF-897D-19300CA6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FF4-9F7B-4808-83E0-ECDA7AE5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0B2-6BA3-49FB-B652-C3013DBF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CD4-6FD0-487F-B0BC-E5A35E83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5BB8C-AE37-46E4-B9C4-8C7FCEFD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82E79-81C4-4ABE-8367-4F407691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B6F44-A377-481A-841C-926AA8F0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E8F9D-1261-497A-87AE-DFFFEAF3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1ABB8-ABC7-4819-A012-A7827743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C2B55-8B79-4FAD-B1CE-2E527CAE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1F020-F063-49B4-AA35-F699B563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877-76B6-4BD4-834A-6C6ED6AA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1AE97-639F-491D-841C-662C38ED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1A7DE-4342-4F4C-896A-3E657A1B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E2DF0-8856-4D74-A2CF-0FE1F942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88220-EB11-4156-ADD7-ED363DE6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9FDF2-1450-4D68-8011-ED7BC049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C21-6215-44C2-BCA0-F10281C8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2C5-DB06-4D18-98E4-7DE51469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F87-0A18-476A-80DC-551FA2E5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4FA-2477-4381-8A81-16EE46AC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F22-E782-456A-AC3D-0410826A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3D9-E1EF-4410-813A-FD83C7D2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1AF-6EE3-4DE9-9B5E-328BD8AD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DA70-ABA5-44DD-929C-3B50CD29B6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27D0-2F09-406F-99AA-1DD2535E67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Информатика в современной начальной школ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58920" y="50842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оекта Еремеева И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/поним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источни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одержание учебного модул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правленно лишь на обеспечение компьютерной грамот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а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пад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дна из основных целей эт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и развитие логического и алгоритмического мыш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Бескомпьютерное изучение информатики в рамках 1 урока в интеграции с предметами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учение проводит учитель начальных классов без деления класса на групп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готовность учителей начальной школ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использованию компьютерной поддержки на уроках информати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Урок информатики с делением на группы в кабинете информатик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ривлекат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проведению урока информатики (1 час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Электронные средства учебного назначе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азбуки и буквари для ознакомления работы с текс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иатурные тренажеры с ненавязчивой скоростью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раскраски и геометрические конструкто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лабиринты для управления объек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моза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игры на компьютер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энциклопедии, путешеств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топологические сх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вычислительные игровые и алгоритмические сре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интезаторы зву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кроссворды и азбуки на компьютере на иностранных язы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реды управления исполните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инструментальные развивающие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х психомоторных и поведенческих навыков общения с компьюте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развитие логического и алгоритмического мыш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цели введения уроков информатики в начальной школе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ика проведения занятий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79280" y="1268280"/>
          <a:ext cx="8713800" cy="3816360"/>
        </p:xfrm>
        <a:graphic>
          <a:graphicData uri="http://schemas.openxmlformats.org/drawingml/2006/table">
            <a:tbl>
              <a:tblPr/>
              <a:tblGrid>
                <a:gridCol w="1800360"/>
                <a:gridCol w="2152800"/>
                <a:gridCol w="3003480"/>
                <a:gridCol w="1757160"/>
              </a:tblGrid>
              <a:tr h="17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а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мышления, памяти, внимания; проверка усвоения изученного материала, домашнее задание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на компьютер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унки, таблицы, презент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ы, задачи, рисунк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П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20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Школа 2100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омпьютерную поддержку рекомендуется осуществлять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акет «Роботландия» (авторы Ю.А. Первин, А.А. Дуванов и др.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11" descr="930606664"/>
          <p:cNvPicPr/>
          <p:nvPr/>
        </p:nvPicPr>
        <p:blipFill>
          <a:blip r:embed="rId1"/>
          <a:stretch/>
        </p:blipFill>
        <p:spPr>
          <a:xfrm>
            <a:off x="5292720" y="333360"/>
            <a:ext cx="3484440" cy="4564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6" name="Picture 8" descr="2759"/>
          <p:cNvPicPr/>
          <p:nvPr/>
        </p:nvPicPr>
        <p:blipFill>
          <a:blip r:embed="rId2"/>
          <a:stretch/>
        </p:blipFill>
        <p:spPr>
          <a:xfrm>
            <a:off x="3132000" y="1916280"/>
            <a:ext cx="2903760" cy="47178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7" name="Picture 14" descr="1000064670"/>
          <p:cNvPicPr/>
          <p:nvPr/>
        </p:nvPicPr>
        <p:blipFill>
          <a:blip r:embed="rId3"/>
          <a:stretch/>
        </p:blipFill>
        <p:spPr>
          <a:xfrm>
            <a:off x="0" y="189000"/>
            <a:ext cx="3405240" cy="4392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оритм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ы, группы (классы) объект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рассужд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спективная начальная школа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lnSpc>
                <a:spcPct val="8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9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ая картина ми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 – универсальная машина для обработ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ы и их свой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ческие нормы при работе с информацией и информационная безопас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бразовательная система «Гармония» и друг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чебные планы и УМК данных образовательных систем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ая дисциплина «Информатика» не включена как самостоятельный предм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екомендуемый для преподавания информатики УМК: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. 2 (3, 4) кл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view_images"/>
          <p:cNvPicPr/>
          <p:nvPr/>
        </p:nvPicPr>
        <p:blipFill>
          <a:blip r:embed="rId1"/>
          <a:stretch/>
        </p:blipFill>
        <p:spPr>
          <a:xfrm>
            <a:off x="155520" y="15840"/>
            <a:ext cx="2924280" cy="38098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6" name="Picture 7" descr="98657"/>
          <p:cNvPicPr/>
          <p:nvPr/>
        </p:nvPicPr>
        <p:blipFill>
          <a:blip r:embed="rId2"/>
          <a:stretch/>
        </p:blipFill>
        <p:spPr>
          <a:xfrm>
            <a:off x="2411280" y="1341360"/>
            <a:ext cx="3461040" cy="44640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7" name="Picture 11" descr="big-722754"/>
          <p:cNvPicPr/>
          <p:nvPr/>
        </p:nvPicPr>
        <p:blipFill>
          <a:blip r:embed="rId3"/>
          <a:stretch/>
        </p:blipFill>
        <p:spPr>
          <a:xfrm>
            <a:off x="5364000" y="2637000"/>
            <a:ext cx="3065760" cy="3889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я, виды информации (по способу восприятия, по способу представления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онные объекты (текст, изображение, аудиозапись, видеозапись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сточники информации (живая и неживая природа, творения человек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абота с информацией (обмен, поиск, преобразование, хранение, использование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ский курс </a:t>
            </a:r>
            <a:br>
              <a:rPr sz="40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вые шаги в мире информатики»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чебно-методический комплект состои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мире информатики. Методическое пособие для учителей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нформатика. Рабочая тетрадь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кет педагогических программных средств "Страна "Фантазия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13" descr="00043811big"/>
          <p:cNvPicPr/>
          <p:nvPr/>
        </p:nvPicPr>
        <p:blipFill>
          <a:blip r:embed="rId1"/>
          <a:stretch/>
        </p:blipFill>
        <p:spPr>
          <a:xfrm>
            <a:off x="324000" y="333360"/>
            <a:ext cx="2982600" cy="41752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7" name="Picture 5" descr="105833"/>
          <p:cNvPicPr/>
          <p:nvPr/>
        </p:nvPicPr>
        <p:blipFill>
          <a:blip r:embed="rId2"/>
          <a:stretch/>
        </p:blipFill>
        <p:spPr>
          <a:xfrm>
            <a:off x="2843280" y="1989000"/>
            <a:ext cx="3273480" cy="4537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8" name="Picture 9" descr="om_1860320"/>
          <p:cNvPicPr/>
          <p:nvPr/>
        </p:nvPicPr>
        <p:blipFill>
          <a:blip r:embed="rId3"/>
          <a:stretch/>
        </p:blipFill>
        <p:spPr>
          <a:xfrm>
            <a:off x="5364000" y="549360"/>
            <a:ext cx="3052800" cy="417672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содержательные лини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информации, виды работы с информаци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урс «Информатика»,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 Семенов А.Л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 комплект учебных материалов по информатике для каждого класса входят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Книга для учителя (2-4 класс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 Информатика. Рабочая тетрадь проектов для 2 – 4 кл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Учебное пособие для 2 - 4 кл. ч.1, 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3851280" y="692280"/>
            <a:ext cx="2665440" cy="1873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7" descr="svalka"/>
          <p:cNvPicPr/>
          <p:nvPr/>
        </p:nvPicPr>
        <p:blipFill>
          <a:blip r:embed="rId1"/>
          <a:stretch/>
        </p:blipFill>
        <p:spPr>
          <a:xfrm>
            <a:off x="1547640" y="260280"/>
            <a:ext cx="5086440" cy="6597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анитарно – гигиенические нормы для работы школьников за компьютером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438280" y="1600200"/>
          <a:ext cx="6400800" cy="49370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ы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о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ти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реще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– 4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– 6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 часа в неделю, но не более 45 мин.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– 9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– 11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разбираться в психологии ребе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владеть методическими приемами обучения детей младшего школьного возра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специалистами в области информационных техноло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еподаватель  должен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0755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етоды и формы обучения на уроках информатики в начальной школе: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лог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 группа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методи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ые минут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вристический подх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формат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начальной школ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ставле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2002/03 учебного год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к отдельный предмет в связи с эксперимент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совершенствованию структуры и содержания общего образования, и 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жет изучать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ступени начального общего образован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 решению правомочного органа управления образовательным учреждение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50" descr=""/>
          <p:cNvPicPr/>
          <p:nvPr/>
        </p:nvPicPr>
        <p:blipFill>
          <a:blip r:embed="rId1">
            <a:lum contrast="36000"/>
          </a:blip>
          <a:srcRect l="7051" t="28311" r="7051" b="44199"/>
          <a:stretch/>
        </p:blipFill>
        <p:spPr>
          <a:xfrm>
            <a:off x="0" y="1484280"/>
            <a:ext cx="9144000" cy="30970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-4 класс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ачеств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язатель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0-25 часовог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ебного моду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мета «Технолог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_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данному учебному модулю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пределе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 наличии материально-технического обеспе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4:36:31Z</dcterms:created>
  <dc:creator>Админ</dc:creator>
  <dc:description/>
  <dc:language>en-US</dc:language>
  <cp:lastModifiedBy>LEGION</cp:lastModifiedBy>
  <dcterms:modified xsi:type="dcterms:W3CDTF">2015-04-01T07:39:50Z</dcterms:modified>
  <cp:revision>18</cp:revision>
  <dc:subject/>
  <dc:title>Информатика в современной начальной школе</dc:title>
</cp:coreProperties>
</file>