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0000-F3E7-4A73-B75F-FFAAA879F6F4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40FF-ADB4-4748-84F3-7E3EA3C1EB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4028-12D4-4610-BA2C-F3CAE46D80D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Адресация и передача информации в сети Интерне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енцов Л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 работы D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кать нужный компьютер в Интернете пользовательским машинам помогают DNS-серверы - программы, которые при обращении к ним выискивают нужный IP-адрес по введенному URL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6392-1F42-407E-9D8A-F1D3ABE1936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38CC-F3B6-4CC7-B501-1ABF07C91D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ые дом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М - Всемирная коммерческая зона Интернет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OV  - Правительства государств и правительственные учреж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ET - Общесетевы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DU - Сеть учебных заведений и учреждений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L - Военные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RG - Некоммерческие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89F9-D814-4F05-A58F-13FF9A7C2FF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14A9-B69E-4901-A08A-B3D1BC2DF7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учить нов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иться к тесту по теме: Адресация и передача информации в сети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9CCB-E5FD-4A22-A1DD-E29E4AB96899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C563-D2D6-4AFA-BB09-DFBF463148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протоколов при обмене информац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– это единые правила передачи данных в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7CDA-83FC-470C-8D79-4944772CC9CE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7FCF-64BA-46EA-9C70-8B6F241125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компьютера в се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компьютера в сети носит название IP-адр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й вид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ХХ.ХХХ.ХХХ.ХХ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CB31-FA0D-4E9D-AE05-635CB3C01907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77A4-6DD4-4968-B4C4-543F42F773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ответствие классов сетей значению первого октета IP-адре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AFAC-F49F-4705-BFE5-B5B419F25B4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0504-7ED5-479D-A111-B693435C04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начение адресов по класс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А используются в крупных сетях общего поль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В применяют в корпоративных сетях средних разме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С - в локальных сетях небольших предпри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D - для обращения к группам маши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Е пока не используютс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8B6C-5D60-4B48-A14E-9FDCE677307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1F87-77F8-428A-9DB2-476693E4F6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P-адрес компьюте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ст - любой подключенный к Интернету компьютер независимо от его назнач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5.85.102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252A-FFCC-4FEA-B85D-14E824AA658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74E4-1A2F-4E0B-A2D0-1BE4BA1A4F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DNS - доменная система им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Domain Name System (DNS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NS преобразует цифровой IP-адрес хоста (компьютера) в набор симво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FF63-8679-4778-A23D-6E8C19BE29E6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8F67-E70A-49A7-89CF-CF2C56D926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того или иного ресурса Всемирной сети, записанный в стандарте DNS, дробится на несколько составляющих, отделенных друг от друга точкой. Эти элементы носят название "доменов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ое обозначение принято называть URL (Uniform Resource Locator), что можно перевести на русский язык, как "универсальный определитель местонахождения ресурса"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324C-4142-43D7-A7E2-AF6191BB9C0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B807-AEED-4BE5-925B-559900004C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http:// 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токол передачи гипертекстового документа (Hyper TextTransfer Protocol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www 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World Wide Web - Всемирная паут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myhost.mydomain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третьего уровн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spb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второго уровн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Ru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первого уровн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C498-42BB-4EBD-A343-9FA09550584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B262-FC00-483E-AF77-DD7D67E82D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82FF-B2A3-41E2-92DF-DC0CD867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DC769-7E30-443D-99CA-6C138F31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2217-6DFC-4458-9BC8-669A444F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8501-625C-4E94-A6BB-9013C0C7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DE37-AFB3-4542-812F-CC67AB1B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3247-EBCB-4389-AF01-9B9B932E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9006-A653-4A4C-9D20-648DEAAB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AEB1-CD86-493B-8790-EB6AFEC9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7A6E-2BF8-498C-9975-69163AE7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173E-ABD6-445A-B9E2-D6847F46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3471-A964-4C15-B600-777B38E2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7412-3C14-48EE-825B-41CE2A83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7FD3-18BC-4C0E-AB5D-B5716E7B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250A-DEB7-43C1-9C32-71E4C1C9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9EA2-37A5-4E06-8D91-E3058401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1D14-3AF1-4B08-8086-777CCE7DC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EEEE-A499-4D11-829E-DB91B1CF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6D4D-8BC0-4079-9A8D-CA89E31F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7108-F1B7-4735-9C92-95499079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CEA0-44B9-42E4-B024-C4C6805B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B44F-B4D6-41DA-A306-5B6E4CBE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FEFCD-C4ED-49FC-8D95-E0599B09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C7B6-094C-441D-8CFB-823F563A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BBAC-17F5-412B-A19E-EB6509AF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0A98-7B7E-4B6A-BC49-60A9175A99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49E7-82AD-4A6C-909A-E1DAB4E5C346}" type="datetime3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2BBE-A293-479D-92AB-5271059B88F7}" type="datetime3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0938-8BC9-447B-BF5D-154B0181BA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20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5E85-0BD0-4AFE-8107-86AA950A8E16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«Адресация и передача информации в сети Интернет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5791320" y="4952520"/>
            <a:ext cx="3200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венцов Л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4"/>
          <p:cNvSpPr/>
          <p:nvPr/>
        </p:nvSpPr>
        <p:spPr>
          <a:xfrm>
            <a:off x="385200" y="2514600"/>
            <a:ext cx="82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Принцип работы DNS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2" name="Picture 7" descr="архивкккопирование"/>
          <p:cNvPicPr/>
          <p:nvPr/>
        </p:nvPicPr>
        <p:blipFill>
          <a:blip r:embed="rId1"/>
          <a:stretch/>
        </p:blipFill>
        <p:spPr>
          <a:xfrm>
            <a:off x="4419720" y="1752480"/>
            <a:ext cx="399960" cy="32400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9"/>
          <p:cNvSpPr/>
          <p:nvPr/>
        </p:nvSpPr>
        <p:spPr>
          <a:xfrm flipH="1">
            <a:off x="7467480" y="3124080"/>
            <a:ext cx="914400" cy="457200"/>
          </a:xfrm>
          <a:custGeom>
            <a:avLst/>
            <a:gdLst>
              <a:gd name="textAreaLeft" fmla="*/ 159840 w 914400"/>
              <a:gd name="textAreaRight" fmla="*/ 663120 w 914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10"/>
          <p:cNvSpPr/>
          <p:nvPr/>
        </p:nvSpPr>
        <p:spPr>
          <a:xfrm flipH="1">
            <a:off x="5790600" y="3124080"/>
            <a:ext cx="1600200" cy="45720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11"/>
          <p:cNvSpPr/>
          <p:nvPr/>
        </p:nvSpPr>
        <p:spPr>
          <a:xfrm flipH="1">
            <a:off x="3351960" y="3124080"/>
            <a:ext cx="2210040" cy="45720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12" descr="архивкккопирование"/>
          <p:cNvPicPr/>
          <p:nvPr/>
        </p:nvPicPr>
        <p:blipFill>
          <a:blip r:embed="rId2"/>
          <a:stretch/>
        </p:blipFill>
        <p:spPr>
          <a:xfrm>
            <a:off x="7848720" y="3657600"/>
            <a:ext cx="399960" cy="324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3" descr="архивкккопирование"/>
          <p:cNvPicPr/>
          <p:nvPr/>
        </p:nvPicPr>
        <p:blipFill>
          <a:blip r:embed="rId3"/>
          <a:stretch/>
        </p:blipFill>
        <p:spPr>
          <a:xfrm>
            <a:off x="6477120" y="3657600"/>
            <a:ext cx="399960" cy="324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архивкккопирование"/>
          <p:cNvPicPr/>
          <p:nvPr/>
        </p:nvPicPr>
        <p:blipFill>
          <a:blip r:embed="rId4"/>
          <a:stretch/>
        </p:blipFill>
        <p:spPr>
          <a:xfrm>
            <a:off x="4419720" y="3809880"/>
            <a:ext cx="399960" cy="324000"/>
          </a:xfrm>
          <a:prstGeom prst="rect">
            <a:avLst/>
          </a:prstGeom>
          <a:ln w="0">
            <a:noFill/>
          </a:ln>
        </p:spPr>
      </p:pic>
      <p:sp>
        <p:nvSpPr>
          <p:cNvPr id="599" name="Line 15"/>
          <p:cNvSpPr/>
          <p:nvPr/>
        </p:nvSpPr>
        <p:spPr>
          <a:xfrm>
            <a:off x="4952880" y="1981080"/>
            <a:ext cx="33530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16"/>
          <p:cNvSpPr/>
          <p:nvPr/>
        </p:nvSpPr>
        <p:spPr>
          <a:xfrm>
            <a:off x="6402600" y="1828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17"/>
          <p:cNvSpPr/>
          <p:nvPr/>
        </p:nvSpPr>
        <p:spPr>
          <a:xfrm>
            <a:off x="785016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656136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19"/>
          <p:cNvSpPr/>
          <p:nvPr/>
        </p:nvSpPr>
        <p:spPr>
          <a:xfrm>
            <a:off x="442764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20"/>
          <p:cNvSpPr/>
          <p:nvPr/>
        </p:nvSpPr>
        <p:spPr>
          <a:xfrm>
            <a:off x="609480" y="4267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ать нужный компьютер в Интернете пользовательским машинам помогают DNS-серверы - программы, которые при обращении к ним выискивают нужный IP-адрес по введенному URL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7D88-A728-447F-A0E5-E25DEB8B7B94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деленные домен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М - Всемирная коммерческая зона Интернет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GOV  - Правительства государств и правительственные учреж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NET - Общесетевые ресурс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EDU - Сеть учебных заведений и учреждений образ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MIL - Военные организ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ORG - Некоммерческие орган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F6DD-83F9-4F9F-9429-5BF3F09C6BFA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457200" y="4572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fdef6"/>
                </a:solidFill>
                <a:latin typeface="Arial"/>
              </a:rPr>
              <a:t>Домашнее задание: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514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ить новый матери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иться к тесту по теме: Адресация и передача информации в сети Интер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4C60-E08B-4C6A-8D5A-3C49482B24C5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Роль протоколов при обмене информацией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околы – это единые правила передачи данных в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533520" y="3657600"/>
            <a:ext cx="129528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й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5"/>
          <p:cNvSpPr/>
          <p:nvPr/>
        </p:nvSpPr>
        <p:spPr>
          <a:xfrm flipV="1">
            <a:off x="1828800" y="3276360"/>
            <a:ext cx="8380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6"/>
          <p:cNvSpPr/>
          <p:nvPr/>
        </p:nvSpPr>
        <p:spPr>
          <a:xfrm flipV="1">
            <a:off x="1828800" y="3809520"/>
            <a:ext cx="8380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7"/>
          <p:cNvSpPr/>
          <p:nvPr/>
        </p:nvSpPr>
        <p:spPr>
          <a:xfrm>
            <a:off x="1828800" y="4267080"/>
            <a:ext cx="8380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3200400" y="297180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3200400" y="358128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3200400" y="4191120"/>
            <a:ext cx="129528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3200400" y="480060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1828800" y="441972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2666880" y="4800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14"/>
          <p:cNvSpPr/>
          <p:nvPr/>
        </p:nvSpPr>
        <p:spPr>
          <a:xfrm>
            <a:off x="2666880" y="4191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2666880" y="35812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2666880" y="29718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8"/>
          <p:cNvSpPr/>
          <p:nvPr/>
        </p:nvSpPr>
        <p:spPr>
          <a:xfrm>
            <a:off x="4495680" y="29718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4495680" y="35812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20"/>
          <p:cNvSpPr/>
          <p:nvPr/>
        </p:nvSpPr>
        <p:spPr>
          <a:xfrm>
            <a:off x="4495680" y="4191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21"/>
          <p:cNvSpPr/>
          <p:nvPr/>
        </p:nvSpPr>
        <p:spPr>
          <a:xfrm>
            <a:off x="4495680" y="4800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24" descr="Безымянный"/>
          <p:cNvPicPr/>
          <p:nvPr/>
        </p:nvPicPr>
        <p:blipFill>
          <a:blip r:embed="rId1"/>
          <a:stretch/>
        </p:blipFill>
        <p:spPr>
          <a:xfrm>
            <a:off x="5410080" y="3581280"/>
            <a:ext cx="3191040" cy="11052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25"/>
          <p:cNvSpPr/>
          <p:nvPr/>
        </p:nvSpPr>
        <p:spPr>
          <a:xfrm>
            <a:off x="1295280" y="5408640"/>
            <a:ext cx="64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ти Интернет действу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ждународный протокол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TCP/IP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3343-2E08-4A64-912C-34CFBA147A46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дрес компьютера в сети носит название IP-адре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й вид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ХХ.ХХХ.ХХХ.ХХ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Адрес компьютера в сет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3735000" y="57902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те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 flipH="1" flipV="1">
            <a:off x="3200040" y="51811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1"/>
          <p:cNvSpPr/>
          <p:nvPr/>
        </p:nvSpPr>
        <p:spPr>
          <a:xfrm flipH="1" flipV="1">
            <a:off x="4038480" y="518112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12"/>
          <p:cNvSpPr/>
          <p:nvPr/>
        </p:nvSpPr>
        <p:spPr>
          <a:xfrm flipV="1">
            <a:off x="4419720" y="518112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13"/>
          <p:cNvSpPr/>
          <p:nvPr/>
        </p:nvSpPr>
        <p:spPr>
          <a:xfrm flipV="1">
            <a:off x="4876920" y="51811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EC5B-A3B6-4529-88C9-01FABEC5CEAB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Соответствие классов сетей значению первого октета IP-адреса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457200" y="1600200"/>
          <a:ext cx="8229600" cy="4937040"/>
        </p:xfrm>
        <a:graphic>
          <a:graphicData uri="http://schemas.openxmlformats.org/drawingml/2006/table">
            <a:tbl>
              <a:tblPr/>
              <a:tblGrid>
                <a:gridCol w="1447920"/>
                <a:gridCol w="2101680"/>
                <a:gridCol w="2457360"/>
                <a:gridCol w="2222640"/>
              </a:tblGrid>
              <a:tr h="1554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ласс се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иапазон значений первого окте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можное количество подсете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можное количество узл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3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12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8-1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2-22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4-23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-24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38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9715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77721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53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28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2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D1CE-F221-4F54-AD7C-A4997C78EFC3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Назначение адресов по классам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А используются в крупных сетях общего польз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В применяют в корпоративных сетях средних размер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С - в локальных сетях небольших предприят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D - для обращения к группам маши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Е пока не используютс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9914-EAAB-4DC5-B557-E2DEA557F4F1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IP-адрес компьютер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ост - любой подключенный к Интернету компьютер независимо от его назначе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5.85.102.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157680" y="4571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5-я подсеть сети Интерн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994680" y="56379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5-я подсеть 195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4347360" y="61714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2-я подсеть 85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5339160" y="5104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-й компьютер в 102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8"/>
          <p:cNvSpPr/>
          <p:nvPr/>
        </p:nvSpPr>
        <p:spPr>
          <a:xfrm flipH="1">
            <a:off x="1676160" y="41148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9"/>
          <p:cNvSpPr/>
          <p:nvPr/>
        </p:nvSpPr>
        <p:spPr>
          <a:xfrm flipH="1">
            <a:off x="2743200" y="4267080"/>
            <a:ext cx="144792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10"/>
          <p:cNvSpPr/>
          <p:nvPr/>
        </p:nvSpPr>
        <p:spPr>
          <a:xfrm>
            <a:off x="4876920" y="4267080"/>
            <a:ext cx="68580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12"/>
          <p:cNvSpPr/>
          <p:nvPr/>
        </p:nvSpPr>
        <p:spPr>
          <a:xfrm>
            <a:off x="5638680" y="426708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A907-B5EC-4981-A5DF-8A7859B8AC54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DNS - доменная система име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Domain Name System (DNS)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472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72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DNS преобразует цифровой IP-адрес хоста (компьютера) в набор символо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1066680" y="4191120"/>
            <a:ext cx="10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мен - это некий логический уровень Интернета, то есть группа сетевых ресурсов, имеющая собственное имя и управляемая своей сетевой станцие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48ED-539B-40EF-9D22-B82414AE9761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4"/>
          <p:cNvSpPr/>
          <p:nvPr/>
        </p:nvSpPr>
        <p:spPr>
          <a:xfrm>
            <a:off x="228600" y="122076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 того или иного ресурса Всемирной сети, записанный в стандарте DNS, дробится на несколько составляющих, отделенных друг от друга точкой. Эти элементы носят название "доменов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кое обозначение принято называть URL (Uniform Resource Locator), что можно перевести на русский язык, как "универсальный определитель местонахождения ресурса"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6F40-B1EF-4FC1-AA00-67046BB287C8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http:// -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токол передачи гипертекстового документа (Hyper TextTransfer Protocol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www -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World Wide Web - Всемирная паути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myhost.mydomain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третье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spb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второ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Ru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первого уров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4109-0C7F-426E-9C84-AA80440DFCCC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40:2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