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6E83-1E7D-42B0-A81F-AEB2548506C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7C1-7751-408C-8B7C-34E9B71008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8A8-F893-4BA1-BD0B-D79A1B23634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енцов Л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 работы D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9030-1944-4991-AC02-332DB9B402A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E4F-073D-4157-881B-EC662645F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дом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 - Всемирная коммерческая зона Интернет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ET - Общесете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L - Военные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G - Некоммерческие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6D6-3411-4037-805E-DF713713100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125-C15B-421C-83AA-77C3480549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ить нов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049F-0C3E-44FE-A171-FFB80A00ACD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0D20-C012-476F-AD64-1200EFBD7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ротоколов при обмене информа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885-A572-4C9F-B17C-E0027DBA0D8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866-F6CD-4A16-87FB-D467C58A75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й ви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ХХ.ХХХ.ХХХ.ХХ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DD8-A273-4806-A353-7D3438B9BB7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EF5-7CB3-4D29-9D82-606AC7C257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7AC2-0BB2-4273-AFC4-0C745C9ECCE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C50-B5EC-4991-8469-10797930DF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начение адресов по класс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Е пока не используютс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5C5-8F6C-4344-9677-4291187307F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6BD-C9FA-4F5A-8C98-42BEAEC607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P-адрес компью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.85.10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23DC-2FAF-4CBB-9214-D7328E6F0FA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61FF-B040-43BC-938C-2CBF91E68D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NS - доменная система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37F-6BDC-40DB-A614-8BE7C27C587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5EA4-93A2-4913-A0B1-81BA8E7625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7B46-4335-48C8-9816-D12D9FAB1B3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D94-EE31-4342-B295-1FBB5BBBB9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World Wide Web - Всемирная паут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третье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второ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первого уровн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E058-A19C-4C80-A80E-EC49D4EF8AE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067-E0AB-4FB0-BFC3-75867F70D7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BF1C-99B9-474E-9070-CCBBF9CB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2089-657D-497E-8F15-C9894E8A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C5CF-BE53-40E9-8A7C-7CE69A26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1667-889B-465F-ACD8-F2A9EE19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5AA3-1C23-42EC-B81E-E608BAA7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3506-544F-4FFB-B6A7-B6B5795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9400-D439-4B0B-8228-020D042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DB1-1126-451E-8FDF-7E8EDA7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165-7E12-4434-88F9-8671D172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0691-7D04-418B-9F86-7A92AAC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372A-41F9-4720-81FA-83FF9D3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8FD0-4504-424F-A72B-BDA30384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D6FB-8768-46D6-BAE8-D2374F1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BA65-15BA-467B-B9EE-5E34B19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5508-1927-43B4-BC1C-B270EC1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747C-D62D-4540-969D-80FDB60A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A0A2-A7C6-4A8D-93F9-CFD4C901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99E4-3FEE-41ED-A13F-1DF9C93F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727A-E5AF-413C-A37E-7578ED76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FEB9-0471-4C98-9A82-489F31A7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70D4-362A-4066-967A-B930667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8B40-B833-4037-8495-2942286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B54D-E77D-48F0-A36D-E415A7E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43CF-B994-4C93-AF2F-2A6C5C5B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AB1-D047-41F5-83BE-A21C2F35F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7EB0-D6E7-4965-9D5D-F6FDA4CBB335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7DD6-F6B8-425F-8F91-2BD02FBC836F}" type="datetime3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6BD-27A0-4FFD-B3A2-3A45B36E32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61F1-7C70-4072-8A90-3F23079BEFB5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венцов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78C-A4C9-4811-8B74-B09EA19FE94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17A9-38EE-4728-AF4E-38D0BCC8B42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4572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ить нов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BA1-5DEF-474A-93A9-6833136DCC4C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5"/>
          <p:cNvSpPr/>
          <p:nvPr/>
        </p:nvSpPr>
        <p:spPr>
          <a:xfrm>
            <a:off x="1295280" y="5408640"/>
            <a:ext cx="64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C56E-B8FD-445F-9D17-2683CDCC751B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2EFA-6715-4EEB-81A8-C4879EC0B8E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3FF-DD19-4C15-908A-CA027E6E2DF0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7DB-43BE-4075-AB75-F8EC3CDE224F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FE0-1AEC-430A-8C0C-35B6F7A48958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DNS - доменная система име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omain Name System (DNS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066680" y="4191120"/>
            <a:ext cx="10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ен - это некий логический уровень Интернета, то есть группа сетевых ресурсов, имеющая собственное имя и управляемая своей сетевой стан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975F-32C6-4A45-BA32-8935A6589EAB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86F2-7AB1-4F50-AC63-EC9E5956F621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B820-19C2-4204-BE46-F2C675371AE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0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