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C9C8-E6CC-4045-8D9C-4F5543128B6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E381-ACF6-4B88-8485-EE9B4BF1CB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49D0-57A7-4691-84CB-30AEF9B8CD1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енцов Л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 работы D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FB29-499C-4AAD-ABCD-2ED089BD28E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1B18-2C9D-4CF0-9AC3-EA7108DEA0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дом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М - Всемирная коммерческая зона Интернет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ET - Общесете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L - Военные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RG - Некоммерческие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0E61-F702-472A-8B34-0ECCCFFDDD4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54CD-B800-40F5-AE8D-2B6197CFD4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учить нов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59C3-89BF-4C4C-A536-8CAA8B54886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6669-E925-42EC-A75A-839A11E1E9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протоколов при обмене информа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668A-F898-4B1F-91CF-B28143827B3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97CC-5AD0-4C97-B89E-85B0950022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й ви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ХХ.ХХХ.ХХХ.ХХ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B6A2-6296-40E1-AB8D-C739986DA61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51C9-3182-4EE0-8457-12D22A4A65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B589-B8CF-40F3-A670-942225782C3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F84B-FCBC-4B27-BB43-F6F2AEF9D2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начение адресов по класс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Е пока не используютс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5DFF-0A1B-40DF-81F3-06BE8562ED4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16DC-0780-41C1-B3DD-5FF03F9666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P-адрес компью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5.85.10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63EE-AC2A-4DF4-92E9-7A56FEFF269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E637-EFAF-4169-A100-F3BE34713C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DNS - доменная система и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Domain Name System (DNS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0567-236E-4835-9162-2B171CBCC47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BE2C-128E-418F-A2CC-284D4D5644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9970-3998-4CA3-9094-D9072373586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548D-061A-48BE-AB10-2D5AAEC518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World Wide Web - Всемирная паут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третье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второ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первого уровн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9DD1-41F5-4EC7-B990-BECD6D4B3FF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DC1B-5452-4771-9D1E-A05E035FE5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5BF6-0092-48B7-BEAD-1DDC7802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06A0-0DF6-4B44-BDBE-7D6C15CD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112B-B21C-4E5E-AFBE-FB2E651E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556B-8B4F-4268-B0FC-B2D4F159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9BA8-DC4D-49AE-B37C-DC82E211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8522-21EB-4A4A-AD02-4EECF247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4B85-F58E-434A-8C1B-4CC574DF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D4ED-1DB4-48C3-A5F7-0BE97392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87AA-3308-42B2-A449-5AB67E9A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47BA-D597-4A76-89F6-671EE472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5736-2B30-43F0-8186-8CC8A1C8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CB3F-9910-4C73-8288-98DC3B6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A7C2-E6DE-405F-92F2-1C31ABAC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1C49-5AC9-4B98-823E-5FDFDBF0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42AC-5534-450C-8A44-48382B1B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6557-917D-497E-A078-F2F2617E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DF60-2AA6-443B-9FC2-5B477898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9326-285D-41A0-9568-D324CD8E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FA51-B97F-46A3-AFDE-403F2C5F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066E-C8B7-4CCE-8612-D7586844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0CFD-FB46-46B3-AB93-C74171F7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956B-FDC9-4BEC-A906-9A308D2F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0744-B93C-4DB0-AAA6-BE429614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38AB-AECB-46BD-91B5-A110E271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353C-7858-4195-92E4-77CBDAEC0C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A3F1-9AAE-493A-9C27-AD90039D6ED8}" type="datetime3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7104-6D64-42C2-A994-A07C8544C5DA}" type="datetime3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0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EE6B-FCA2-4B08-BDBB-91EB7A7C89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20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3586-5481-4D8A-A525-C00782766EFA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791320" y="49525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венцов Л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385200" y="251460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Принцип работы DNS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2" name="Picture 7" descr="архивкккопирование"/>
          <p:cNvPicPr/>
          <p:nvPr/>
        </p:nvPicPr>
        <p:blipFill>
          <a:blip r:embed="rId1"/>
          <a:stretch/>
        </p:blipFill>
        <p:spPr>
          <a:xfrm>
            <a:off x="4419720" y="17524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9"/>
          <p:cNvSpPr/>
          <p:nvPr/>
        </p:nvSpPr>
        <p:spPr>
          <a:xfrm flipH="1">
            <a:off x="7467480" y="3124080"/>
            <a:ext cx="914400" cy="457200"/>
          </a:xfrm>
          <a:custGeom>
            <a:avLst/>
            <a:gdLst>
              <a:gd name="textAreaLeft" fmla="*/ 159840 w 914400"/>
              <a:gd name="textAreaRight" fmla="*/ 663120 w 914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0"/>
          <p:cNvSpPr/>
          <p:nvPr/>
        </p:nvSpPr>
        <p:spPr>
          <a:xfrm flipH="1">
            <a:off x="5790600" y="3124080"/>
            <a:ext cx="1600200" cy="45720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 flipH="1">
            <a:off x="3351960" y="3124080"/>
            <a:ext cx="2210040" cy="4572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12" descr="архивкккопирование"/>
          <p:cNvPicPr/>
          <p:nvPr/>
        </p:nvPicPr>
        <p:blipFill>
          <a:blip r:embed="rId2"/>
          <a:stretch/>
        </p:blipFill>
        <p:spPr>
          <a:xfrm>
            <a:off x="78487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архивкккопирование"/>
          <p:cNvPicPr/>
          <p:nvPr/>
        </p:nvPicPr>
        <p:blipFill>
          <a:blip r:embed="rId3"/>
          <a:stretch/>
        </p:blipFill>
        <p:spPr>
          <a:xfrm>
            <a:off x="64771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архивкккопирование"/>
          <p:cNvPicPr/>
          <p:nvPr/>
        </p:nvPicPr>
        <p:blipFill>
          <a:blip r:embed="rId4"/>
          <a:stretch/>
        </p:blipFill>
        <p:spPr>
          <a:xfrm>
            <a:off x="4419720" y="38098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9" name="Line 15"/>
          <p:cNvSpPr/>
          <p:nvPr/>
        </p:nvSpPr>
        <p:spPr>
          <a:xfrm>
            <a:off x="4952880" y="1981080"/>
            <a:ext cx="33530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6402600" y="1828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17"/>
          <p:cNvSpPr/>
          <p:nvPr/>
        </p:nvSpPr>
        <p:spPr>
          <a:xfrm>
            <a:off x="78501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65613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9"/>
          <p:cNvSpPr/>
          <p:nvPr/>
        </p:nvSpPr>
        <p:spPr>
          <a:xfrm>
            <a:off x="442764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20"/>
          <p:cNvSpPr/>
          <p:nvPr/>
        </p:nvSpPr>
        <p:spPr>
          <a:xfrm>
            <a:off x="609480" y="4267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921E-DAB2-453D-A2AA-8DEB8435DBE1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деленные домен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М - Всемирная коммерческая зона Интернет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NET - Общесетевые ресур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IL - Военные организ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RG - Некоммерческие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0E00-5B9A-4A75-8D1E-438707156C2E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457200" y="4572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fdef6"/>
                </a:solidFill>
                <a:latin typeface="Arial"/>
              </a:rPr>
              <a:t>Домашнее задание: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514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ить новый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112E-9DB1-4FA0-9476-A0B2A6E734B2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Роль протоколов при обмене информацией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533520" y="3657600"/>
            <a:ext cx="12952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5"/>
          <p:cNvSpPr/>
          <p:nvPr/>
        </p:nvSpPr>
        <p:spPr>
          <a:xfrm flipV="1">
            <a:off x="1828800" y="3276360"/>
            <a:ext cx="8380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V="1">
            <a:off x="1828800" y="380952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1828800" y="4267080"/>
            <a:ext cx="8380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3200400" y="29718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3200400" y="35812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3200400" y="41911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3200400" y="48006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1828800" y="4419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26668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26668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26668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26668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44956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44956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44956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4" descr="Безымянный"/>
          <p:cNvPicPr/>
          <p:nvPr/>
        </p:nvPicPr>
        <p:blipFill>
          <a:blip r:embed="rId1"/>
          <a:stretch/>
        </p:blipFill>
        <p:spPr>
          <a:xfrm>
            <a:off x="5410080" y="3581280"/>
            <a:ext cx="3191040" cy="11052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25"/>
          <p:cNvSpPr/>
          <p:nvPr/>
        </p:nvSpPr>
        <p:spPr>
          <a:xfrm>
            <a:off x="1295280" y="5408640"/>
            <a:ext cx="64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ти Интернет действу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ждународный протоко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TCP/IP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7DDD-A8E7-47D2-A52F-6E9BFE64D8C8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вид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ХХ.ХХХ.ХХХ.ХХ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Адрес компьютера в сет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3735000" y="57902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те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 flipH="1" flipV="1">
            <a:off x="3200040" y="5181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 flipH="1" flipV="1">
            <a:off x="4038480" y="518112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 flipV="1">
            <a:off x="4419720" y="518112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 flipV="1">
            <a:off x="4876920" y="51811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5449-B53F-482A-AB84-B9884815C626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1447920"/>
                <a:gridCol w="2101680"/>
                <a:gridCol w="2457360"/>
                <a:gridCol w="2222640"/>
              </a:tblGrid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ласс се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иапазон значений первого окте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подсет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узл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-1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-22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4-23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-24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38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9715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7721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53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AD7A-93B7-4D56-A8A1-7A9347518AEF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Назначение адресов по классам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Е пока не используют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1AC4-8B4B-4728-AC4B-973B62B17F4B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IP-адрес компьютер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5.85.102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57680" y="4571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-я подсеть сети Интерн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994680" y="56379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5-я подсеть 19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4347360" y="61714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2-я подсеть 8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339160" y="5104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-й компьютер в 102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 flipH="1">
            <a:off x="1676160" y="41148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9"/>
          <p:cNvSpPr/>
          <p:nvPr/>
        </p:nvSpPr>
        <p:spPr>
          <a:xfrm flipH="1">
            <a:off x="2743200" y="4267080"/>
            <a:ext cx="14479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4876920" y="4267080"/>
            <a:ext cx="6858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12"/>
          <p:cNvSpPr/>
          <p:nvPr/>
        </p:nvSpPr>
        <p:spPr>
          <a:xfrm>
            <a:off x="563868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B484-D095-4731-9DD8-B7F09AB709B5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DNS - доменная система име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Domain Name System (DNS)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1066680" y="4191120"/>
            <a:ext cx="10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ен - это некий логический уровень Интернета, то есть группа сетевых ресурсов, имеющая собственное имя и управляемая своей сетевой станци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BBF1-3898-4B3C-AF67-5D8C7C98158D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228600" y="122076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094D-C133-4071-9E97-24800FC6D52E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World Wide Web - Всемирная паути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третье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втор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первого уров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30E8-7423-4941-8E8A-6FAF06A33094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0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