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7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35C8C-22BB-4ABA-A59D-14B8CAB8E6C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336699"/>
                </a:solidFill>
                <a:latin typeface="Calibri"/>
              </a:rPr>
              <a:t>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экономические модели решения социальных пробл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г.Тверь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Calibri"/>
              </a:rPr>
              <a:t>Апрель 2006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1BADB-719B-461E-87D0-4AC7E8C7AB4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DB90C9-5014-4494-8027-123C9DA14EF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4-х летняя Компьютерная школа –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2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E64126-B06D-46EC-9BC0-DA1A6CCC085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Инвестиционный 10-летний проект стоимостью </a:t>
            </a:r>
            <a:r>
              <a:rPr b="0" lang="en-US" sz="1200" spc="-1" strike="noStrike">
                <a:solidFill>
                  <a:srgbClr val="008080"/>
                </a:solidFill>
                <a:latin typeface="Calibri"/>
              </a:rPr>
              <a:t>$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1,5 млн</a:t>
            </a:r>
            <a:r>
              <a:rPr b="0" lang="en-US" sz="1200" spc="-1" strike="noStrike">
                <a:solidFill>
                  <a:srgbClr val="008080"/>
                </a:solidFill>
                <a:latin typeface="Calibri"/>
              </a:rPr>
              <a:t>. 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                 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EEF819-90F9-4222-B0C4-ACFE8C31B17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F20F8C-635C-4929-89CB-EEAD62A1A58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1A334-4208-49A6-B2DD-B183D2E5AB5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Всесоюзный лагерь информационных технологий </a:t>
            </a:r>
            <a:br>
              <a:rPr sz="1200"/>
            </a:b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» -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1FF5C-777D-47F2-9008-4406431869F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Calibri"/>
              </a:rPr>
              <a:t>200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Компьютерная школа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Франчайзинговая сеть из 110 филиалов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сесоюзный лагерь информационных технологий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баз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00E075-45FB-4E24-AE51-988BE8CE6D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6600"/>
                </a:solidFill>
                <a:latin typeface="Calibri"/>
              </a:rPr>
              <a:t>2006 год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Компьютерная школа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Франчайзинговая сеть из 110 филиалов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сесоюзный лагерь информационных технологий «КОМПЬЮТЕРи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» -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3300"/>
                </a:solidFill>
                <a:latin typeface="Calibri"/>
              </a:rPr>
              <a:t>8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 баз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9150E-3773-4949-A66C-B70D21DC7558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Франчайзинговая сеть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Определение франчайзинг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Франчайзинг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-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это такая организация бизнеса, в которой компания (франчайзер) передает независимому человеку или компании (франчайзи) право на продажу продукта и услуг этой компании. Франчайзи обязуется продавать этот продукт или услуги по заранее определенным законам и правилам ведения бизнеса, которые устанавливает франчайзор. В обмен на осуществление всех этих правил франчайзи получает разрешение использовать имя компании, ее репутацию, продукт и услуги, маркетинговые технологии, экспертизу, и механизмы поддержки.</a:t>
            </a:r>
            <a:r>
              <a:rPr b="1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398FA2-0224-4B5D-A3E3-BAC7733126D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чебный центр 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ер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, владеющий торговой маркой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и «ноу-хау», предоставляе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иональному Учебному центру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и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, являющемуся независимым хозяйствующим субъектом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SzPct val="112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право на ведение дела под его товарной маркой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КОМПЬЮТЕРиЯ»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00"/>
              </a:spcBef>
              <a:buClr>
                <a:srgbClr val="000000"/>
              </a:buClr>
              <a:buSzPct val="112000"/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Calibri"/>
              </a:rPr>
              <a:t>определённый набор услуг.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иональный Учебный центр -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и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в свою очередь предоставляет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чебному центру «КОМПЬЮТЕРиЯ»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франчайзеру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,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обязательство соблюдения установленных франчайзером стандартов качества обучения, а также разработанных им методик, право его контролировать и соответствующее вознаграждение(единовременный первоначальный взнос и регулярные отчисления роялти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06D01C-37AA-4CCC-A90A-4E7D4C7B9A5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Фирма «Андреев Софт» с 1991 года успешно работает на Тверском региональном компьютерном рынке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С 1997 года фирма «Андреев Софт» является основой Холдинга «Андреев и Партнеры», в котором сегодня работают более 800 человек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В настоящее время «Андреев Софт» уверенно занимает ведущее место среди компьютерных фирм области по объему и спектру предоставляемых услуг, а также качеству обслуживания клиент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Фирма «Андреев Софт» занимается комплексным обслуживанием заказчиков в области современных информационных технологий, предлагая решения как для оперативных, так и для стратегических задач заказчик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C95D27-489C-463B-9B2A-AD261878FF6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c0504d"/>
                </a:solidFill>
                <a:latin typeface="Calibri"/>
              </a:rPr>
              <a:t>Блок-схема организации взаимодействия франчайзера и франчайзи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7EE3C0-A59A-43DE-9064-7162E4DB372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Эксклюзивное право пользоваться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торговой маркой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«Компьютерная школа «КОМПЬЮТЕРиЯ» для открытия собственного учебного центр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Учебно-Методический Комплекс,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разработанный специалистами Центрального УЦ. В его состав входит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тетрадь для учителя с поурочным планирование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тетрадь ученик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сборник компьютерных практик (на </a:t>
            </a:r>
            <a:r>
              <a:rPr b="1" lang="en-US" sz="1200" spc="-1" strike="noStrike">
                <a:solidFill>
                  <a:srgbClr val="003399"/>
                </a:solidFill>
                <a:latin typeface="Calibri"/>
              </a:rPr>
              <a:t>CD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- сборник практических заданий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мощь в </a:t>
            </a:r>
            <a:r>
              <a:rPr b="1" lang="ru-RU" sz="1200" spc="-1" strike="noStrike" u="sng">
                <a:solidFill>
                  <a:srgbClr val="003399"/>
                </a:solidFill>
                <a:uFillTx/>
                <a:latin typeface="Calibri"/>
              </a:rPr>
              <a:t>разработке бизнес-плана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учебного центра, применимого в условиях функционирования в конкретном регион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3EB8A5-D5E7-49DF-8596-C6558150B3E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Маркетинговая поддержк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«Маркетинг в центре» - масштабные маркетинговые мероприятия, проводимые Франчайзером (Центральным УЦ) по Росс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едоставление рекламной информ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казание консультативной помощи в организации и поддержании связей с региональными СМИ и проведении региональных рекламных камп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2BC3-3357-45D1-B0C4-6E448A3692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Обучение:</a:t>
            </a: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ервоначальный курс обучения, при проведении которого Центральный УЦ передает региональному УЦ свое «ноу-хау» (путем обучения персонала применяемым им самим методам управления и организации процесса обучения)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рное проведение курсов повышения квалификации преподавателей региональных УЦ.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2F6F12-3612-4F72-9C1A-74FE368E0C8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Консультирование: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 оперативному управлению уже работающего Учебного Центр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бухгалтерскому и юридическому сопровожд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7B14C1-17AB-45EF-9D4F-38A04F6491B5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Методическое сопровождение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регулярное обновление методик и своевременное предоставление их региональному УЦ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возможность доработки или изменения методик под специфику регионального УЦ;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оказание консультаций по методическим вопросам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911A40-AF3C-47FE-811E-AF1A59D311B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Центральный УЦ </a:t>
            </a:r>
            <a:r>
              <a:rPr b="1" lang="ru-RU" sz="1200" spc="-1" strike="noStrike">
                <a:solidFill>
                  <a:srgbClr val="c0504d"/>
                </a:solidFill>
                <a:latin typeface="Wingdings"/>
                <a:ea typeface="Wingdings"/>
              </a:rPr>
              <a:t>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 </a:t>
            </a:r>
            <a:br>
              <a:rPr sz="1200"/>
            </a:b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региональному УЦ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Calibri"/>
              </a:rPr>
              <a:t>Преимущества: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лучение испытанных деловых метод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одготовка кад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Устойчивая репутация;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lvl="1" marL="457200">
              <a:spcBef>
                <a:spcPts val="451"/>
              </a:spcBef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снижение финансовых рисков в 6-7 раз</a:t>
            </a:r>
            <a:r>
              <a:rPr b="0" lang="ru-RU" sz="1200" spc="-1" strike="noStrike">
                <a:solidFill>
                  <a:srgbClr val="003399"/>
                </a:solidFill>
                <a:latin typeface="Calibri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664370-1CBF-4E20-B90A-6326F3F7A0C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c0504d"/>
                </a:solidFill>
                <a:latin typeface="Calibri"/>
              </a:rPr>
              <a:t>Финансовая схема франчайз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114E32-1DEF-40B5-AF37-5FC918E793D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Какие выгоды получает  фирма «Андреев Софт» </a:t>
            </a:r>
            <a:br>
              <a:rPr sz="1200"/>
            </a:b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т реализации социально-значимых проектов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A0DB6B-2B87-4E2A-9B87-262DF91748E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Укрепление репутации, укрепление связей с местным сообществом, улучшение отношений с местной власть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Укрепление отношений с клиентами, улучшение финансовых показателей, получение преимуществ перед конкурентами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90000"/>
              </a:lnSpc>
              <a:spcBef>
                <a:spcPts val="451"/>
              </a:spcBef>
              <a:buClr>
                <a:srgbClr val="336699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Повышение лояльности сотрудников, развитие у них новых навыков и умений, выход на новые источники рабочей силы.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5E4BF8-3F03-4596-9B5A-1B6A30E708C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циальная проблема №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Отсутствие системы обучения школьников в области информационных технологий в рамках государственной образовательной програм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Уровень знаний, получаемых школьниками на уроках информатики, не соответствует нормам времен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Низкая зарплата учителей в школе ведет к отсутствию их мотивации и заинтересованности в конечном результате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Уровень подготовки учителей информатики ограничивается рамками школьной программы.</a:t>
            </a: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20113F-59D5-4EB4-B3E7-E66D2C2D196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4. Выход на новые рынки.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5. Снижение рисков, повышение устойчивости при кризисах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6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Дополнительные возможности для продвижения своих основных услуг, </a:t>
            </a:r>
            <a:r>
              <a:rPr b="0" lang="en-US" sz="1200" spc="-1" strike="noStrike">
                <a:solidFill>
                  <a:srgbClr val="336699"/>
                </a:solidFill>
                <a:latin typeface="Calibri"/>
              </a:rPr>
              <a:t>PR,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рекламы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6699"/>
                </a:solidFill>
                <a:latin typeface="Calibri"/>
              </a:rPr>
              <a:t>7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Приобретение новых партнеров. </a:t>
            </a: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25BF2-1606-4AEE-B8C8-B6D6AF4AF8E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Спасибо за внимание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336699"/>
                </a:solidFill>
                <a:latin typeface="Calibri"/>
              </a:rPr>
              <a:t>Будем рады сотрудничеству!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BD2A5-FEDF-4FDF-8229-A48D010F359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Решение социальной проблемы № 1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эффективной экономической модели платного дополнительного образования детей в области информационных технологий –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Компьютерная школа «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6F1FC6-EABC-40BA-AAE0-9172E34B3EE9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Социальная проблема №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облема организации загородного отдыха детей в Тверской области во время школьных каникул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Снижение финансирования из городского бюджета муниципальных лагерей. Как следствие, приведение в упадок материально-технической базы, закрытие части лагерей, низкий уровень квалификации персонала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Государственные деньги – отсутствие ответственн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Родители </a:t>
            </a: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БОЯТС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отправлять своих детей в муниципальные лагер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Отсутствие частных лагерей в Тверской обла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Отсутствие профильных лагерей в Тверской области (лагерей с обучением)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CC36C-9561-48C6-B6EF-E49A3F8D01A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Решение социальной проблемы № 2 -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оздание Всесоюзного лагеря информационных технологий 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«КОМПЬЮТЕРи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Я</a:t>
            </a:r>
            <a:r>
              <a:rPr b="1" lang="ru-RU" sz="1200" spc="-1" strike="noStrike">
                <a:solidFill>
                  <a:srgbClr val="0099ff"/>
                </a:solidFill>
                <a:latin typeface="Calibri"/>
              </a:rPr>
              <a:t>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41C536-1A1A-4BA7-BD3E-0B04F36FF58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1) Создание «Компьютерного клуба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5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Игры + курсы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2) Программа компьютеризации школ –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Курсы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3) 4-х летняя Компьютерная школа –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01.09.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200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истематическое (регулярное)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бразование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4) 4-х летняя Компьютерная школа на базе компьютеров, поставленных в рамках Президентской программы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2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истематическое (регулярное)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бразование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5) Всесоюзный лагерь информационных технологий «КОМПЬЮТЕРиЯ»–</a:t>
            </a:r>
            <a:r>
              <a:rPr b="1" lang="en-US" sz="1200" spc="-1" strike="noStrike">
                <a:solidFill>
                  <a:srgbClr val="003399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en-US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3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Сочетание оздоровительного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	</a:t>
            </a:r>
            <a:r>
              <a:rPr b="1" i="1" lang="ru-RU" sz="1200" spc="-1" strike="noStrike">
                <a:solidFill>
                  <a:srgbClr val="ff6600"/>
                </a:solidFill>
                <a:latin typeface="Calibri"/>
              </a:rPr>
              <a:t>отдыха с обучением в области </a:t>
            </a:r>
            <a:r>
              <a:rPr b="1" i="1" lang="en-US" sz="1200" spc="-1" strike="noStrike">
                <a:solidFill>
                  <a:srgbClr val="ff6600"/>
                </a:solidFill>
                <a:latin typeface="Calibri"/>
              </a:rPr>
              <a:t>I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6) Франчайзинговая сеть, 4-х летняя Компьютерная школа и лагерь под общим брендом «КОМПЬЮТЕРиЯ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с 2003 г.</a:t>
            </a:r>
            <a:r>
              <a:rPr b="1" lang="ru-RU" sz="1200" spc="-1" strike="noStrike">
                <a:solidFill>
                  <a:srgbClr val="ff33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49C580-0C76-4812-9497-7598C476BAC3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1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6600"/>
                </a:solidFill>
                <a:latin typeface="Calibri"/>
              </a:rPr>
              <a:t>Модель </a:t>
            </a:r>
            <a:br>
              <a:rPr sz="1200"/>
            </a:br>
            <a:r>
              <a:rPr b="0" lang="ru-RU" sz="1100" spc="-1" strike="noStrike">
                <a:solidFill>
                  <a:srgbClr val="ff6600"/>
                </a:solidFill>
                <a:latin typeface="Calibri"/>
              </a:rPr>
              <a:t>взаимодействия школы и Учебного Центр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D613E9-611F-4912-B607-A4DCEAD22B9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3300"/>
                </a:solidFill>
                <a:latin typeface="Calibri"/>
              </a:rPr>
              <a:t>Преимуществ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3399"/>
                </a:solidFill>
                <a:latin typeface="Calibri"/>
              </a:rPr>
              <a:t>Программа компьютеризации школ –</a:t>
            </a:r>
            <a:r>
              <a:rPr b="1" lang="ru-RU" sz="1200" spc="-1" strike="noStrike">
                <a:solidFill>
                  <a:srgbClr val="00808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ff6600"/>
                </a:solidFill>
                <a:latin typeface="Calibri"/>
              </a:rPr>
              <a:t>1998-2002 г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r>
              <a:rPr b="0" i="1" lang="ru-RU" sz="1200" spc="-1" strike="noStrike">
                <a:solidFill>
                  <a:srgbClr val="ff3300"/>
                </a:solidFill>
                <a:latin typeface="Calibri"/>
              </a:rPr>
              <a:t>	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9B1376-A175-4A27-B942-5088865BF81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FF649-E0DE-4270-9BB8-171A7172D6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5FFA5-5876-43D8-BB87-D72B8B916B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A03CC-3740-4A41-A2C8-4D275685D7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89C3C-6324-47D2-955E-A9F099812E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3C4-A3E4-4B79-95B4-93A192066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355B23-ECD3-450A-8B20-B9CE4AF6E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EA42-A63F-4029-A631-4ABD16075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97B7E-61AD-4379-8694-2EA9D19D2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528A06-39B7-4BDB-946B-905D5D1D8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CF5481-EE85-48F4-AEFB-DD26D03DE7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0C857-54AE-4717-B21A-EE52E03EE6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05CAE-911E-4DE7-A9B7-A758144867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679E13-14F2-4E43-9CF4-0A647E6A8C9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/>
          </p:nvPr>
        </p:nvSpPr>
        <p:spPr>
          <a:xfrm>
            <a:off x="1187280" y="2204640"/>
            <a:ext cx="6562800" cy="3745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6699"/>
                </a:solidFill>
                <a:latin typeface="Arial"/>
              </a:rPr>
              <a:t>КОМПЬЮТЕРи</a:t>
            </a:r>
            <a:r>
              <a:rPr b="1" lang="ru-RU" sz="32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3200" spc="-1" strike="noStrike">
                <a:solidFill>
                  <a:srgbClr val="336699"/>
                </a:solidFill>
                <a:latin typeface="Arial"/>
              </a:rPr>
              <a:t> 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–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экономические модели решения социальных пробле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г.Твер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прель 200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7715160" cy="457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имущ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892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 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4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Rectangle 6"/>
          <p:cNvSpPr/>
          <p:nvPr/>
        </p:nvSpPr>
        <p:spPr>
          <a:xfrm>
            <a:off x="468360" y="220500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школьных учителей появляется реальная возможность постоянно находиться «на уровне» – владеть именно современными информационными технологиями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школьные учителя получают дополнительный заработок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региональных и муниципальных администраций не возникает проблем с финансированием компьютеризации образования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/>
          </p:nvPr>
        </p:nvSpPr>
        <p:spPr>
          <a:xfrm>
            <a:off x="457200" y="1341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4-х летняя Компьютерная школа –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с 2002 г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"/>
          <p:cNvSpPr/>
          <p:nvPr/>
        </p:nvSpPr>
        <p:spPr>
          <a:xfrm>
            <a:off x="468360" y="1844640"/>
            <a:ext cx="7848720" cy="34455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это авторская программа четырёхлетнего обучения школьников информатике и информационным технологиям по специально разработанным методикам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   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Отработана</a:t>
            </a:r>
            <a:r>
              <a:rPr b="0" lang="ru-RU" sz="22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ff6600"/>
                </a:solidFill>
                <a:latin typeface="Arial"/>
              </a:rPr>
              <a:t>методика переподготовки учителей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. К настоящему времени специалистами учебного центра бесплатно обучено более 200 педагогов, многие из которых успешно работают в компьютерной школе и преподают информатику в школ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5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7283520" cy="2087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Инвестиционный 10-летний проект стоимостью 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$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1,5 млн</a:t>
            </a:r>
            <a:r>
              <a:rPr b="0" lang="en-US" sz="2000" spc="-1" strike="noStrike">
                <a:solidFill>
                  <a:srgbClr val="008080"/>
                </a:solidFill>
                <a:latin typeface="Arial"/>
              </a:rPr>
              <a:t>. 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                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5"/>
          <p:cNvSpPr/>
          <p:nvPr/>
        </p:nvSpPr>
        <p:spPr>
          <a:xfrm>
            <a:off x="539640" y="3141720"/>
            <a:ext cx="8051760" cy="119124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Деловая развивающая игра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в ходе которой дети играют в государство</a:t>
            </a:r>
            <a:r>
              <a:rPr b="0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Страна «КОМПЬЮТЕРиЯ»</a:t>
            </a:r>
            <a:r>
              <a:rPr b="0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о своей Конституцией и </a:t>
            </a:r>
            <a:br>
              <a:rPr sz="1800"/>
            </a:b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организационной структурой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Rectangle 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9" descr="P1010272"/>
          <p:cNvPicPr/>
          <p:nvPr/>
        </p:nvPicPr>
        <p:blipFill>
          <a:blip r:embed="rId1"/>
          <a:stretch/>
        </p:blipFill>
        <p:spPr>
          <a:xfrm>
            <a:off x="4356000" y="4238640"/>
            <a:ext cx="2881440" cy="2160720"/>
          </a:xfrm>
          <a:prstGeom prst="rect">
            <a:avLst/>
          </a:prstGeom>
          <a:ln w="0">
            <a:noFill/>
          </a:ln>
        </p:spPr>
      </p:pic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4"/>
          <p:cNvSpPr/>
          <p:nvPr/>
        </p:nvSpPr>
        <p:spPr>
          <a:xfrm>
            <a:off x="324000" y="2276640"/>
            <a:ext cx="4897440" cy="3501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6600"/>
                </a:solidFill>
                <a:latin typeface="Arial"/>
              </a:rPr>
              <a:t>При такой организации работы летнего лагеря достигаются следующие цели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здоровление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(спорт, отдых в лесу и у реки)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бучение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и практическое использование современных информационных технологий для конкретных задач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риобретение </a:t>
            </a: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пыта юридической и экономической самостоятельности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(на этапе знакомства с Конституцией, выборов в Государственный совет, городских министров, опыт жизни «с паспортом»);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buClr>
                <a:srgbClr val="ff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600" spc="-1" strike="noStrike">
                <a:solidFill>
                  <a:srgbClr val="003399"/>
                </a:solidFill>
                <a:latin typeface="Arial"/>
              </a:rPr>
              <a:t>Опыт коллективной творческой работы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в процессе обучения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Rectangle 5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1" name="Picture 7" descr="Занятия в компьютерных классах"/>
          <p:cNvPicPr/>
          <p:nvPr/>
        </p:nvPicPr>
        <p:blipFill>
          <a:blip r:embed="rId1"/>
          <a:stretch/>
        </p:blipFill>
        <p:spPr>
          <a:xfrm>
            <a:off x="5105520" y="2205000"/>
            <a:ext cx="4038480" cy="3029040"/>
          </a:xfrm>
          <a:prstGeom prst="rect">
            <a:avLst/>
          </a:prstGeom>
          <a:ln w="0">
            <a:noFill/>
          </a:ln>
        </p:spPr>
      </p:pic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4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7" descr="Всероссийская олимпиада по информатике1"/>
          <p:cNvPicPr/>
          <p:nvPr/>
        </p:nvPicPr>
        <p:blipFill>
          <a:blip r:embed="rId1"/>
          <a:stretch/>
        </p:blipFill>
        <p:spPr>
          <a:xfrm>
            <a:off x="2484360" y="2997360"/>
            <a:ext cx="4896000" cy="3671640"/>
          </a:xfrm>
          <a:prstGeom prst="rect">
            <a:avLst/>
          </a:prstGeom>
          <a:ln w="0">
            <a:noFill/>
          </a:ln>
        </p:spPr>
      </p:pic>
      <p:sp>
        <p:nvSpPr>
          <p:cNvPr id="96" name="Text Box 8"/>
          <p:cNvSpPr/>
          <p:nvPr/>
        </p:nvSpPr>
        <p:spPr>
          <a:xfrm>
            <a:off x="545040" y="2276640"/>
            <a:ext cx="7102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прель 2004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XVI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сероссийская олимпиада школьников по информатик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57200" y="1557000"/>
            <a:ext cx="8686800" cy="863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Всесоюзный лагерь информационных технологий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«КОМПЬЮТЕРи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» -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0" lang="ru-RU" sz="2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0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Rectangle 3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Text Box 5"/>
          <p:cNvSpPr/>
          <p:nvPr/>
        </p:nvSpPr>
        <p:spPr>
          <a:xfrm>
            <a:off x="547920" y="2276640"/>
            <a:ext cx="732060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Сентябрь 2004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партакиада воспитанников детских домов Тве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рт 2005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кружные этапы Всероссийских предметных олимпи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школьников (ЦФ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рт 2006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Окружные этапы Всероссийских предметных олимпиад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школьников (ЦФО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Апрель 2006 года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сероссийская олимпиада школьников по географ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Май 2006 года </a:t>
            </a:r>
            <a:r>
              <a:rPr b="0" lang="en-US" sz="1800" spc="-1" strike="noStrike">
                <a:solidFill>
                  <a:srgbClr val="003399"/>
                </a:solidFill>
                <a:latin typeface="Arial"/>
              </a:rPr>
              <a:t>(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планируется) –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партакиада воспитанников детских домов Тверской обла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200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Компьютерная школа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Франчайзинговая сеть из 110 филиалов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Всесоюзный лагерь информационных технологий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баз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26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6600"/>
                </a:solidFill>
                <a:latin typeface="Arial"/>
              </a:rPr>
              <a:t>2006 го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Компьютерная школа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Франчайзинговая сеть из 110 филиалов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Липецкой, Ленинградской , Калужской, Оренбургской областях и Ставропольском кра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Всесоюзный лагерь информационных технологий «КОМПЬЮТЕРи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» -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3300"/>
                </a:solidFill>
                <a:latin typeface="Arial"/>
              </a:rPr>
              <a:t>8</a:t>
            </a: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 баз</a:t>
            </a:r>
            <a:r>
              <a:rPr b="0" lang="ru-RU" sz="2400" spc="-1" strike="noStrike">
                <a:solidFill>
                  <a:srgbClr val="336699"/>
                </a:solidFill>
                <a:latin typeface="Arial"/>
              </a:rPr>
              <a:t> в Твери, Тверской, Московской, Ленинградской областях, Болгарии (г. Обзор), Венгрии (Балатон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3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2124000" y="259920"/>
            <a:ext cx="583272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Франчайзинговая сет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3"/>
          <p:cNvSpPr/>
          <p:nvPr/>
        </p:nvSpPr>
        <p:spPr>
          <a:xfrm>
            <a:off x="179280" y="1413000"/>
            <a:ext cx="8229600" cy="86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6600"/>
                </a:solidFill>
                <a:latin typeface="Arial"/>
              </a:rPr>
              <a:t>Определение франчайзинг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4"/>
          <p:cNvSpPr/>
          <p:nvPr/>
        </p:nvSpPr>
        <p:spPr>
          <a:xfrm>
            <a:off x="395280" y="2205000"/>
            <a:ext cx="7920000" cy="41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Франчайзинг </a:t>
            </a:r>
            <a:r>
              <a:rPr b="0" lang="ru-RU" sz="2200" spc="-1" strike="noStrike">
                <a:solidFill>
                  <a:srgbClr val="003399"/>
                </a:solidFill>
                <a:latin typeface="Arial"/>
              </a:rPr>
              <a:t>-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это такая организация бизнеса, в которой компания (франчайзер) передает независимому человеку или компании (франчайзи) право на продажу продукта и услуг этой компании. Франчайзи обязуется продавать этот продукт или услуги по заранее определенным законам и правилам ведения бизнеса, которые устанавливает франчайзор. В обмен на осуществление всех этих правил франчайзи получает разрешение использовать имя компании, ее репутацию, продукт и услуги, маркетинговые технологии, экспертизу, и механизмы поддержки.</a:t>
            </a:r>
            <a:r>
              <a:rPr b="1" lang="ru-RU" sz="22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Rectangle 2"/>
          <p:cNvSpPr/>
          <p:nvPr/>
        </p:nvSpPr>
        <p:spPr>
          <a:xfrm>
            <a:off x="900000" y="0"/>
            <a:ext cx="6985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Основные субъекты франчайз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3"/>
          <p:cNvSpPr/>
          <p:nvPr/>
        </p:nvSpPr>
        <p:spPr>
          <a:xfrm>
            <a:off x="324000" y="1557360"/>
            <a:ext cx="8229600" cy="362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ый центр 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владеющий торговой маркой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и «ноу-хау», предоставляет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иональному Учебному центру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, являющемуся независимым хозяйствующим субъектом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2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право на ведение дела под его товарной маркой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buClr>
                <a:srgbClr val="000000"/>
              </a:buClr>
              <a:buSzPct val="112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0" lang="ru-RU" sz="1600" spc="-1" strike="noStrike">
                <a:solidFill>
                  <a:srgbClr val="003399"/>
                </a:solidFill>
                <a:latin typeface="Arial"/>
              </a:rPr>
              <a:t>определённый набор услу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иональный Учебный центр -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в свою очередь предоставляет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ому центру «КОМПЬЮТЕРиЯ»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у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обязательство соблюдения установленных франчайзером стандартов качества обучения, а также разработанных им методик, право его контролировать и соответствующее вознаграждение(единовременный первоначальный взнос и регулярные отчисления роялти)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539640" y="1341000"/>
            <a:ext cx="7777440" cy="475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Фирма «Андреев Софт» с 1991 года успешно работает на Тверском региональном компьютерном рынке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С 1997 года фирма «Андреев Софт» является основой Холдинга «Андреев и Партнеры», в котором сегодня работают более 800 человек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В настоящее время «Андреев Софт» уверенно занимает ведущее место среди компьютерных фирм области по объему и спектру предоставляемых услуг, а также качеству обслуживания клиентов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336699"/>
                </a:solidFill>
                <a:latin typeface="Arial"/>
              </a:rPr>
              <a:t>Фирма «Андреев Софт» занимается комплексным обслуживанием заказчиков в области современных информационных технологий, предлагая решения как для оперативных, так и для стратегических задач заказчика.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68360" y="1267920"/>
            <a:ext cx="8229600" cy="129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Блок-схема организации взаимодействия франчайзера и франчайзи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Oval 3"/>
          <p:cNvSpPr/>
          <p:nvPr/>
        </p:nvSpPr>
        <p:spPr>
          <a:xfrm>
            <a:off x="2556000" y="2205000"/>
            <a:ext cx="3816360" cy="1008000"/>
          </a:xfrm>
          <a:prstGeom prst="ellipse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Торговая марка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«КОМПЬЮТЕРиЯ»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набор услуг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Oval 4"/>
          <p:cNvSpPr/>
          <p:nvPr/>
        </p:nvSpPr>
        <p:spPr>
          <a:xfrm>
            <a:off x="2627280" y="4653000"/>
            <a:ext cx="3673440" cy="1152360"/>
          </a:xfrm>
          <a:prstGeom prst="ellipse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ыработка стандартов качества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соблюдение стандартов,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500" spc="-1" strike="noStrike">
                <a:solidFill>
                  <a:srgbClr val="000000"/>
                </a:solidFill>
                <a:latin typeface="Arial"/>
              </a:rPr>
              <a:t>вознаграждение, контроль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5"/>
          <p:cNvSpPr/>
          <p:nvPr/>
        </p:nvSpPr>
        <p:spPr>
          <a:xfrm>
            <a:off x="3492360" y="3645000"/>
            <a:ext cx="1800360" cy="647640"/>
          </a:xfrm>
          <a:prstGeom prst="roundRect">
            <a:avLst>
              <a:gd name="adj" fmla="val 16667"/>
            </a:avLst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Договор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шиз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68360" y="3429000"/>
            <a:ext cx="2448000" cy="1079640"/>
          </a:xfrm>
          <a:prstGeom prst="rect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Учебный центр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КОМПЬЮТЕРиЯ»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е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7"/>
          <p:cNvSpPr/>
          <p:nvPr/>
        </p:nvSpPr>
        <p:spPr>
          <a:xfrm>
            <a:off x="5796000" y="3429000"/>
            <a:ext cx="2448000" cy="1079640"/>
          </a:xfrm>
          <a:prstGeom prst="rect">
            <a:avLst/>
          </a:prstGeom>
          <a:solidFill>
            <a:srgbClr val="66a1f0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Региональный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чебный центр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франчайз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1" name="AutoShape 8"/>
          <p:cNvCxnSpPr/>
          <p:nvPr/>
        </p:nvCxnSpPr>
        <p:spPr>
          <a:xfrm flipV="1">
            <a:off x="755640" y="2707560"/>
            <a:ext cx="2160" cy="577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2" name="AutoShape 9"/>
          <p:cNvCxnSpPr/>
          <p:nvPr/>
        </p:nvCxnSpPr>
        <p:spPr>
          <a:xfrm>
            <a:off x="6443280" y="2781360"/>
            <a:ext cx="13690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3" name="AutoShape 10"/>
          <p:cNvCxnSpPr/>
          <p:nvPr/>
        </p:nvCxnSpPr>
        <p:spPr>
          <a:xfrm>
            <a:off x="7811640" y="2781360"/>
            <a:ext cx="1080" cy="50400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24" name="AutoShape 11"/>
          <p:cNvCxnSpPr/>
          <p:nvPr/>
        </p:nvCxnSpPr>
        <p:spPr>
          <a:xfrm>
            <a:off x="6372000" y="5229000"/>
            <a:ext cx="144036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5" name="AutoShape 12"/>
          <p:cNvCxnSpPr/>
          <p:nvPr/>
        </p:nvCxnSpPr>
        <p:spPr>
          <a:xfrm>
            <a:off x="7811640" y="4581360"/>
            <a:ext cx="1080" cy="6483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6" name="AutoShape 13"/>
          <p:cNvCxnSpPr/>
          <p:nvPr/>
        </p:nvCxnSpPr>
        <p:spPr>
          <a:xfrm>
            <a:off x="684360" y="5229360"/>
            <a:ext cx="17992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7" name="AutoShape 14"/>
          <p:cNvCxnSpPr/>
          <p:nvPr/>
        </p:nvCxnSpPr>
        <p:spPr>
          <a:xfrm flipV="1">
            <a:off x="684000" y="4581360"/>
            <a:ext cx="1080" cy="64836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28" name="AutoShape 15"/>
          <p:cNvCxnSpPr/>
          <p:nvPr/>
        </p:nvCxnSpPr>
        <p:spPr>
          <a:xfrm>
            <a:off x="755640" y="2708280"/>
            <a:ext cx="1799280" cy="2160"/>
          </a:xfrm>
          <a:prstGeom prst="straightConnector1">
            <a:avLst/>
          </a:prstGeom>
          <a:ln w="38160">
            <a:solidFill>
              <a:srgbClr val="ff9900"/>
            </a:solidFill>
            <a:miter/>
          </a:ln>
        </p:spPr>
      </p:cxnSp>
      <p:cxnSp>
        <p:nvCxnSpPr>
          <p:cNvPr id="129" name="AutoShape 16"/>
          <p:cNvCxnSpPr>
            <a:stCxn id="119" idx="3"/>
            <a:endCxn id="118" idx="1"/>
          </p:cNvCxnSpPr>
          <p:nvPr/>
        </p:nvCxnSpPr>
        <p:spPr>
          <a:xfrm>
            <a:off x="2935440" y="3968280"/>
            <a:ext cx="53856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cxnSp>
        <p:nvCxnSpPr>
          <p:cNvPr id="130" name="AutoShape 17"/>
          <p:cNvCxnSpPr>
            <a:stCxn id="120" idx="1"/>
            <a:endCxn id="118" idx="3"/>
          </p:cNvCxnSpPr>
          <p:nvPr/>
        </p:nvCxnSpPr>
        <p:spPr>
          <a:xfrm flipH="1">
            <a:off x="5311440" y="3968280"/>
            <a:ext cx="465840" cy="1080"/>
          </a:xfrm>
          <a:prstGeom prst="straightConnector1">
            <a:avLst/>
          </a:prstGeom>
          <a:ln w="38160">
            <a:solidFill>
              <a:srgbClr val="ff9900"/>
            </a:solidFill>
            <a:miter/>
            <a:tailEnd len="med" type="triangle" w="med"/>
          </a:ln>
        </p:spPr>
      </p:cxnSp>
      <p:sp>
        <p:nvSpPr>
          <p:cNvPr id="131" name="Rectangle 18"/>
          <p:cNvSpPr/>
          <p:nvPr/>
        </p:nvSpPr>
        <p:spPr>
          <a:xfrm>
            <a:off x="900000" y="0"/>
            <a:ext cx="698508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99"/>
                </a:solidFill>
                <a:latin typeface="Arial"/>
              </a:rPr>
              <a:t>Основные субъекты франчайзинга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3"/>
          <p:cNvSpPr/>
          <p:nvPr/>
        </p:nvSpPr>
        <p:spPr>
          <a:xfrm>
            <a:off x="826920" y="1484280"/>
            <a:ext cx="729324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Эксклюзивное право пользоваться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торговой маркой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«Компьютерная школа «КОМПЬЮТЕРиЯ» для открытия собственного учебного центр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Учебно-Методический Комплекс,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разработанный специалистами Центрального УЦ. В его состав входит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тетрадь для учителя с поурочным планированием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тетрадь учени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сборник компьютерных практик (на 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CD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- сборник практических задан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WP IconicSymbolsA"/>
                <a:ea typeface="WP IconicSymbolsA"/>
              </a:rPr>
              <a:t>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мощь в </a:t>
            </a:r>
            <a:r>
              <a:rPr b="1" lang="ru-RU" sz="1800" spc="-1" strike="noStrike" u="sng">
                <a:solidFill>
                  <a:srgbClr val="003399"/>
                </a:solidFill>
                <a:uFillTx/>
                <a:latin typeface="Arial"/>
              </a:rPr>
              <a:t>разработке бизнес-плана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учебного центра, применимого в условиях функционирования в конкретном регион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Text Box 3"/>
          <p:cNvSpPr/>
          <p:nvPr/>
        </p:nvSpPr>
        <p:spPr>
          <a:xfrm>
            <a:off x="826920" y="1484280"/>
            <a:ext cx="7293240" cy="3568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Маркетинговая поддержк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«Маркетинг в центре» - масштабные маркетинговые мероприятия, проводимые Франчайзером (Центральным УЦ) по Росс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редоставление рекламной информации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казание консультативной помощи в организации и поддержании связей с региональными СМИ и проведении региональных рекламных кампаний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Text Box 3"/>
          <p:cNvSpPr/>
          <p:nvPr/>
        </p:nvSpPr>
        <p:spPr>
          <a:xfrm>
            <a:off x="826920" y="1773360"/>
            <a:ext cx="7293240" cy="329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Обучение: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ервоначальный курс обучения, при проведении которого Центральный УЦ передает региональному УЦ свое «ноу-хау» (путем обучения персонала применяемым им самим методам управления и организации процесса обучения)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улярное проведение курсов повышения квалификации преподавателей региональных УЦ.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Text Box 3"/>
          <p:cNvSpPr/>
          <p:nvPr/>
        </p:nvSpPr>
        <p:spPr>
          <a:xfrm>
            <a:off x="755640" y="1989000"/>
            <a:ext cx="72928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Консультирование: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 оперативному управлению уже работающего Учебного Центра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бухгалтерскому и юридическому сопровожд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Text Box 3"/>
          <p:cNvSpPr/>
          <p:nvPr/>
        </p:nvSpPr>
        <p:spPr>
          <a:xfrm>
            <a:off x="826920" y="1484280"/>
            <a:ext cx="729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Методическое сопровождение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регулярное обновление методик и своевременное предоставление их региональному УЦ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возможность доработки или изменения методик под специфику регионального УЦ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оказание консультаций по методическим вопросам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195280" y="549360"/>
            <a:ext cx="5832360" cy="576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Центральный УЦ </a:t>
            </a:r>
            <a:r>
              <a:rPr b="1" lang="ru-RU" sz="3200" spc="-1" strike="noStrike">
                <a:solidFill>
                  <a:srgbClr val="333399"/>
                </a:solidFill>
                <a:latin typeface="Wingdings"/>
                <a:ea typeface="Wingdings"/>
              </a:rPr>
              <a:t>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 </a:t>
            </a:r>
            <a:br>
              <a:rPr sz="3200"/>
            </a:b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333399"/>
                </a:solidFill>
                <a:latin typeface="Arial"/>
              </a:rPr>
              <a:t>	</a:t>
            </a:r>
            <a:r>
              <a:rPr b="1" lang="ru-RU" sz="3200" spc="-1" strike="noStrike">
                <a:solidFill>
                  <a:srgbClr val="ff6600"/>
                </a:solidFill>
                <a:latin typeface="Arial"/>
              </a:rPr>
              <a:t>региональному УЦ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Text Box 3"/>
          <p:cNvSpPr/>
          <p:nvPr/>
        </p:nvSpPr>
        <p:spPr>
          <a:xfrm>
            <a:off x="826920" y="1484280"/>
            <a:ext cx="729324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Преимущества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лучение испытанных деловых метод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подготовка кадров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Устойчивая репутация;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ff6600"/>
              </a:buClr>
              <a:buFont typeface="WP IconicSymbolsA" charset="2"/>
              <a:buChar char="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снижение финансовых рисков в 6-7 раз</a:t>
            </a:r>
            <a:r>
              <a:rPr b="0" lang="ru-RU" sz="1800" spc="-1" strike="noStrike">
                <a:solidFill>
                  <a:srgbClr val="003399"/>
                </a:solidFill>
                <a:latin typeface="Arial"/>
              </a:rPr>
              <a:t>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2268360" y="259920"/>
            <a:ext cx="4824720" cy="5763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bbe0e3"/>
            </a:outerShdw>
          </a:effectLst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333399"/>
                </a:solidFill>
                <a:latin typeface="Arial"/>
              </a:rPr>
              <a:t>Финансовая схема франчайз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Text Box 3"/>
          <p:cNvSpPr/>
          <p:nvPr/>
        </p:nvSpPr>
        <p:spPr>
          <a:xfrm>
            <a:off x="826920" y="1484280"/>
            <a:ext cx="7293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В расчете на 1 группу учащихся (10 человек) за 1 месяц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3" name=""/>
          <p:cNvGraphicFramePr/>
          <p:nvPr/>
        </p:nvGraphicFramePr>
        <p:xfrm>
          <a:off x="971640" y="1989000"/>
          <a:ext cx="6696000" cy="3597480"/>
        </p:xfrm>
        <a:graphic>
          <a:graphicData uri="http://schemas.openxmlformats.org/drawingml/2006/table">
            <a:tbl>
              <a:tblPr/>
              <a:tblGrid>
                <a:gridCol w="4946400"/>
                <a:gridCol w="1749600"/>
              </a:tblGrid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Доход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Плата за обучение (1 чел./мес. - 300 р.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 0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Расходы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Зарплата персонала (3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9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Налоги и обязательные платежи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57888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Компьютеры (аренда или отчисления на содержание и модернизацию) (3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9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660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Роялти (10%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003399"/>
                          </a:solidFill>
                          <a:latin typeface="Arial Cyr"/>
                        </a:rPr>
                        <a:t>3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35160"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Чистая прибыль (20%):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anchor="b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      </a:t>
                      </a:r>
                      <a:r>
                        <a:rPr b="1" lang="ru-RU" sz="1600" spc="-1" strike="noStrike">
                          <a:solidFill>
                            <a:srgbClr val="ff6600"/>
                          </a:solidFill>
                          <a:latin typeface="Arial Cyr"/>
                        </a:rPr>
                        <a:t>600,00р.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b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Какие выгоды получает  фирма «Андреев Софт» </a:t>
            </a:r>
            <a:br>
              <a:rPr sz="4000"/>
            </a:br>
            <a:r>
              <a:rPr b="1" i="1" lang="ru-RU" sz="4000" spc="-1" strike="noStrike">
                <a:solidFill>
                  <a:srgbClr val="ff6600"/>
                </a:solidFill>
                <a:latin typeface="Arial"/>
              </a:rPr>
              <a:t>от реализации социально-значимых проектов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Укрепление репутации, укрепление связей с местным сообществом, улучшение отношений с местной властью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Укрепление отношений с клиентами, улучшение финансовых показателей, получение преимуществ перед конкурентами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-533520">
              <a:lnSpc>
                <a:spcPct val="90000"/>
              </a:lnSpc>
              <a:spcBef>
                <a:spcPts val="700"/>
              </a:spcBef>
              <a:buClr>
                <a:srgbClr val="336699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Повышение лояльности сотрудников, развитие у них новых навыков и умений, выход на новые источники рабочей силы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/>
          </p:nvPr>
        </p:nvSpPr>
        <p:spPr>
          <a:xfrm>
            <a:off x="1187280" y="1557360"/>
            <a:ext cx="6562800" cy="446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Социальная проблема № 1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Отсутствие системы обучения школьников в области информационных технологий в рамках государственной образовательной программы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Уровень знаний, получаемых школьниками на уроках информатики, не соответствует нормам времен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Низкая зарплата учителей в школе ведет к отсутствию их мотивации и заинтересованности в конечном результате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Уровень подготовки учителей информатики ограничивается рамками школьной программы.</a:t>
            </a: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/>
          </p:nvPr>
        </p:nvSpPr>
        <p:spPr>
          <a:xfrm>
            <a:off x="394920" y="1557000"/>
            <a:ext cx="8147160" cy="43196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4. Выход на новые рынки.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5. Снижение рисков, повышение устойчивости при кризисах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6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Дополнительные возможности для продвижения своих основных услуг, </a:t>
            </a: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PR,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реклам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6699"/>
                </a:solidFill>
                <a:latin typeface="Arial"/>
              </a:rPr>
              <a:t>7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Приобретение новых партнеров. </a:t>
            </a: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/>
          </p:nvPr>
        </p:nvSpPr>
        <p:spPr>
          <a:xfrm>
            <a:off x="394920" y="2492280"/>
            <a:ext cx="8147160" cy="244800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Спасибо за внимание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3352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336699"/>
                </a:solidFill>
                <a:latin typeface="Arial"/>
              </a:rPr>
              <a:t>Будем рады сотрудничеству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1116000" y="2393640"/>
            <a:ext cx="71294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Решение социальной проблемы № 1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здание эффективной экономической модели платного дополнительного образования детей в области информационных технологий –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Компьютерная школа «КОМПЬЮТЕР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/>
          </p:nvPr>
        </p:nvSpPr>
        <p:spPr>
          <a:xfrm>
            <a:off x="468360" y="1412640"/>
            <a:ext cx="8136000" cy="460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Социальная проблема № 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Проблема организации загородного отдыха детей в Тверской области во время школьных каникул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1. Снижение финансирования из городского бюджета муниципальных лагерей. Как следствие, приведение в упадок материально-технической базы, закрытие части лагерей, низкий уровень квалификации персонала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Государственные деньги – отсутствие ответственно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Родители </a:t>
            </a:r>
            <a:r>
              <a:rPr b="0" lang="ru-RU" sz="2200" spc="-1" strike="noStrike">
                <a:solidFill>
                  <a:srgbClr val="ff3300"/>
                </a:solidFill>
                <a:latin typeface="Arial"/>
              </a:rPr>
              <a:t>БОЯТСЯ</a:t>
            </a: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 отправлять своих детей в муниципальные лагеря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2. Отсутствие частных лагерей в Тверской области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2220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200" spc="-1" strike="noStrike">
                <a:solidFill>
                  <a:srgbClr val="000000"/>
                </a:solidFill>
                <a:latin typeface="Arial"/>
              </a:rPr>
              <a:t>3. Отсутствие профильных лагерей в Тверской области (лагерей с обучением).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/>
          </p:nvPr>
        </p:nvSpPr>
        <p:spPr>
          <a:xfrm>
            <a:off x="1116000" y="2393640"/>
            <a:ext cx="7129440" cy="348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Решение социальной проблемы № 2 -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000000"/>
                </a:solidFill>
                <a:latin typeface="Arial"/>
              </a:rPr>
              <a:t>Создание Всесоюзного лагеря информационных технологий 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«КОМПЬЮТЕРи</a:t>
            </a:r>
            <a:r>
              <a:rPr b="1" lang="ru-RU" sz="2400" spc="-1" strike="noStrike">
                <a:solidFill>
                  <a:srgbClr val="ff3300"/>
                </a:solidFill>
                <a:latin typeface="Arial"/>
              </a:rPr>
              <a:t>Я</a:t>
            </a:r>
            <a:r>
              <a:rPr b="1" lang="ru-RU" sz="2400" spc="-1" strike="noStrike">
                <a:solidFill>
                  <a:srgbClr val="0099ff"/>
                </a:solidFill>
                <a:latin typeface="Arial"/>
              </a:rPr>
              <a:t>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Rectangle 2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1"/>
          <p:cNvSpPr>
            <a:spLocks noGrp="1"/>
          </p:cNvSpPr>
          <p:nvPr>
            <p:ph/>
          </p:nvPr>
        </p:nvSpPr>
        <p:spPr>
          <a:xfrm>
            <a:off x="468000" y="1341000"/>
            <a:ext cx="8675640" cy="504036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1) Создание «Компьютерного клуба»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995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Игры + кур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2) Программа компьютеризации школ –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Курсы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3) 4-х летняя Компьютерная школа –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01.09.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200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истематическое (регулярное)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бразование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4) 4-х летняя Компьютерная школа на базе компьютеров, поставленных в рамках Президентской программы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2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истематическое (регулярное)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бразование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5) Всесоюзный лагерь информационных технологий «КОМПЬЮТЕРиЯ»–</a:t>
            </a:r>
            <a:r>
              <a:rPr b="1" lang="en-US" sz="1800" spc="-1" strike="noStrike">
                <a:solidFill>
                  <a:srgbClr val="003399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en-US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3 г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Сочетание оздоровитель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	</a:t>
            </a:r>
            <a:r>
              <a:rPr b="1" i="1" lang="ru-RU" sz="1800" spc="-1" strike="noStrike">
                <a:solidFill>
                  <a:srgbClr val="ff6600"/>
                </a:solidFill>
                <a:latin typeface="Arial"/>
              </a:rPr>
              <a:t>отдыха с обучением в области </a:t>
            </a:r>
            <a:r>
              <a:rPr b="1" i="1" lang="en-US" sz="1800" spc="-1" strike="noStrike">
                <a:solidFill>
                  <a:srgbClr val="ff6600"/>
                </a:solidFill>
                <a:latin typeface="Arial"/>
              </a:rPr>
              <a:t>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</a:rPr>
              <a:t>6) Франчайзинговая сеть, 4-х летняя Компьютерная школа и лагерь под общим брендом «КОМПЬЮТЕРиЯ» –</a:t>
            </a:r>
            <a:r>
              <a:rPr b="1" lang="ru-RU" sz="18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с 2003 г.</a:t>
            </a:r>
            <a:r>
              <a:rPr b="1" lang="ru-RU" sz="1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55280" y="1915920"/>
            <a:ext cx="7715160" cy="76248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6600"/>
                </a:solidFill>
                <a:latin typeface="Arial"/>
              </a:rPr>
              <a:t>Модель </a:t>
            </a:r>
            <a:br>
              <a:rPr sz="2400"/>
            </a:br>
            <a:r>
              <a:rPr b="0" lang="ru-RU" sz="2000" spc="-1" strike="noStrike">
                <a:solidFill>
                  <a:srgbClr val="ff6600"/>
                </a:solidFill>
                <a:latin typeface="Arial"/>
              </a:rPr>
              <a:t>взаимодействия школы и Учебного Центр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383840"/>
            <a:ext cx="8686800" cy="89244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684360" y="2781360"/>
          <a:ext cx="7416720" cy="2484360"/>
        </p:xfrm>
        <a:graphic>
          <a:graphicData uri="http://schemas.openxmlformats.org/drawingml/2006/table">
            <a:tbl>
              <a:tblPr/>
              <a:tblGrid>
                <a:gridCol w="2241360"/>
                <a:gridCol w="5175360"/>
              </a:tblGrid>
              <a:tr h="3967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Школ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Андреев Соф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8764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абинет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Электрос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Компьютер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Локальная сеть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Методические материалы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Переподготовка преподавателей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499"/>
                        </a:spcBef>
                        <a:buClr>
                          <a:srgbClr val="003399"/>
                        </a:buClr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3399"/>
                          </a:solidFill>
                          <a:latin typeface="Arial"/>
                        </a:rPr>
                        <a:t>Ремонт и обслуживание техни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6" name="Rectangle 16"/>
          <p:cNvSpPr/>
          <p:nvPr/>
        </p:nvSpPr>
        <p:spPr>
          <a:xfrm>
            <a:off x="108000" y="5438520"/>
            <a:ext cx="8893080" cy="91692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ffffff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При этом школа ничего не платит фирме, </a:t>
            </a:r>
            <a:br>
              <a:rPr sz="1800"/>
            </a:br>
            <a:r>
              <a:rPr b="1" lang="ru-RU" sz="1800" spc="-1" strike="noStrike">
                <a:solidFill>
                  <a:srgbClr val="ff6600"/>
                </a:solidFill>
                <a:latin typeface="Arial"/>
              </a:rPr>
              <a:t>а фирма ничего не платит школе</a:t>
            </a:r>
            <a:r>
              <a:rPr b="1" lang="en-US" sz="1800" spc="-1" strike="noStrike">
                <a:solidFill>
                  <a:srgbClr val="ff3300"/>
                </a:solidFill>
                <a:latin typeface="Arial"/>
              </a:rPr>
              <a:t> </a:t>
            </a: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Rectangle 1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755280" y="1916280"/>
            <a:ext cx="7715160" cy="4575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ffffff"/>
            </a:outerShdw>
          </a:effectLst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3300"/>
                </a:solidFill>
                <a:latin typeface="Arial"/>
              </a:rPr>
              <a:t>Преимущест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413000"/>
            <a:ext cx="8686800" cy="892080"/>
          </a:xfrm>
          <a:prstGeom prst="rect">
            <a:avLst/>
          </a:prstGeom>
          <a:noFill/>
          <a:ln w="0">
            <a:noFill/>
          </a:ln>
          <a:effectLst>
            <a:outerShdw dist="45929" dir="2028877" blurRad="0" rotWithShape="0">
              <a:srgbClr val="ffffff"/>
            </a:outerShdw>
          </a:effectLst>
        </p:spPr>
        <p:txBody>
          <a:bodyPr anchor="t">
            <a:normAutofit/>
          </a:bodyPr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3399"/>
                </a:solidFill>
                <a:latin typeface="Arial"/>
              </a:rPr>
              <a:t>Программа компьютеризации школ –</a:t>
            </a:r>
            <a:r>
              <a:rPr b="1" lang="ru-RU" sz="2400" spc="-1" strike="noStrike">
                <a:solidFill>
                  <a:srgbClr val="00808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ff6600"/>
                </a:solidFill>
                <a:latin typeface="Arial"/>
              </a:rPr>
              <a:t>1998-2002 г г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80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r>
              <a:rPr b="0" i="1" lang="ru-RU" sz="2400" spc="-1" strike="noStrike">
                <a:solidFill>
                  <a:srgbClr val="ff33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Rectangle 7"/>
          <p:cNvSpPr/>
          <p:nvPr/>
        </p:nvSpPr>
        <p:spPr>
          <a:xfrm>
            <a:off x="1258920" y="260280"/>
            <a:ext cx="6480000" cy="432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bbe0e3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3399"/>
                </a:solidFill>
                <a:latin typeface="Arial"/>
              </a:rPr>
              <a:t>Этапы развит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8"/>
          <p:cNvSpPr/>
          <p:nvPr/>
        </p:nvSpPr>
        <p:spPr>
          <a:xfrm>
            <a:off x="468360" y="2205000"/>
            <a:ext cx="8229600" cy="348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у школы не возникает проблем с техническим обслуживанием техники – все проблемы решает фирма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00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школа всегда имеет самую современную технику, ей не приходится решать проблемы морального старения техники </a:t>
            </a:r>
            <a:br>
              <a:rPr sz="2000"/>
            </a:br>
            <a:r>
              <a:rPr b="0" lang="ru-RU" sz="2000" spc="-1" strike="noStrike">
                <a:solidFill>
                  <a:srgbClr val="003399"/>
                </a:solidFill>
                <a:latin typeface="Arial"/>
              </a:rPr>
              <a:t>(а компьютерная техника может считаться современной максимум 2 года) – фирма сама меняет технику на более новую;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000000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0-24T09:40:19Z</dcterms:created>
  <dc:creator>ute</dc:creator>
  <dc:description/>
  <dc:language>en-US</dc:language>
  <cp:lastModifiedBy>LEGION</cp:lastModifiedBy>
  <dcterms:modified xsi:type="dcterms:W3CDTF">2015-04-01T07:41:44Z</dcterms:modified>
  <cp:revision>20</cp:revision>
  <dc:subject/>
  <dc:title>Слайд 1</dc:title>
</cp:coreProperties>
</file>