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95F1-F0FC-4C84-9502-EA637207BB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Calibri"/>
              </a:rPr>
              <a:t>КОМПЬЮТЕРи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модели решения соци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.Твер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прель 2006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DA40-6B8B-4CB0-96B5-1D56D09346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рограмма компьютеризации школ 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1998-2002 г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57A6-1384-4850-9025-48237B6CBD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4-х летняя Компьютерная школа –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с 2002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3924-9698-46A7-9DA5-F66F1CD426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Всесоюзный лагерь информационных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» -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Инвестиционный 10-летний проект стоимостью </a:t>
            </a:r>
            <a:r>
              <a:rPr b="0" lang="en-US" sz="1200" spc="-1" strike="noStrike">
                <a:solidFill>
                  <a:srgbClr val="008080"/>
                </a:solidFill>
                <a:latin typeface="Calibri"/>
              </a:rPr>
              <a:t>$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1,5 млн</a:t>
            </a:r>
            <a:r>
              <a:rPr b="0" lang="en-US" sz="1200" spc="-1" strike="noStrike">
                <a:solidFill>
                  <a:srgbClr val="008080"/>
                </a:solidFill>
                <a:latin typeface="Calibri"/>
              </a:rPr>
              <a:t>.  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 200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9FBD-05FB-4CEE-9000-62904B4F1D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Всесоюзный лагерь информационных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» -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 2003 г.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0629-5D7B-4D88-8D26-2F05090C49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Всесоюзный лагерь информационных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» -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 2003 г.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D2A8-3911-4AD6-BB20-700DD1F084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Всесоюзный лагерь информационных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» -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 2003 г.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6733-F111-4960-8A5A-93F6EF0A91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Calibri"/>
              </a:rPr>
              <a:t>2006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Компьютерная школа 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»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Франчайзинговая сеть из 110 филиалов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в Твери, Тверской, Липецкой, Ленинградской , Калужской, Оренбургской областях и Ставропольском кра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Всесоюзный лагерь информационных технологий 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»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баз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в Твери, Тверской, Московской, Ленинградской областях, Болгарии (г. Обзор), Венгрии (Балат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202A-D131-41C4-B632-F8F23CEA3D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Calibri"/>
              </a:rPr>
              <a:t>2006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Компьютерная школа 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»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Франчайзинговая сеть из 110 филиалов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в Твери, Тверской, Липецкой, Ленинградской , Калужской, Оренбургской областях и Ставропольском кра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Всесоюзный лагерь информационных технологий 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»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баз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в Твери, Тверской, Московской, Ленинградской областях, Болгарии (г. Обзор), Венгрии (Балат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3437-2517-4F46-864B-1552F190DD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Франчайзинговая се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Определение франчайз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Calibri"/>
              </a:rPr>
              <a:t>Франчайзинг </a:t>
            </a: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-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это такая организация бизнеса, в которой компания (франчайзер) передает независимому человеку или компании (франчайзи) право на продажу продукта и услуг этой компании. Франчайзи обязуется продавать этот продукт или услуги по заранее определенным законам и правилам ведения бизнеса, которые устанавливает франчайзор. В обмен на осуществление всех этих правил франчайзи получает разрешение использовать имя компании, ее репутацию, продукт и услуги, маркетинговые технологии, экспертизу, и механизмы поддержки.</a:t>
            </a:r>
            <a:r>
              <a:rPr b="1" lang="ru-RU" sz="16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C6D0-BB37-4749-B05F-A735254F9D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Учебный центр «КОМПЬЮТЕРиЯ»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франчайзер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, владеющий торговой маркой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«КОМПЬЮТЕРиЯ»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и «ноу-хау», предоставляет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егиональному Учебному центру–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франчайзи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, являющемуся независимым хозяйствующим субъект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SzPct val="112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право на ведение дела под его товарной маркой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«КОМПЬЮТЕРиЯ»</a:t>
            </a: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SzPct val="112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определённый набор услу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егиональный Учебный центр -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франчайзи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в свою очередь предоставляет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Учебному центру «КОМПЬЮТЕРиЯ»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франчайзеру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обязательство соблюдения установленных франчайзером стандартов качества обучения, а также разработанных им методик, право его контролировать и соответствующее вознаграждение(единовременный первоначальный взнос и регулярные отчисления роял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2F7C-0B3F-4D0F-A71C-6018E6ED60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Фирма «Андреев Софт» с 1991 года успешно работает на Тверском региональном компьютерном рын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С 1997 года фирма «Андреев Софт» является основой Холдинга «Андреев и Партнеры», в котором сегодня работают более 800 челов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В настоящее время «Андреев Софт» уверенно занимает ведущее место среди компьютерных фирм области по объему и спектру предоставляемых услуг, а также качеству обслуживания кли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Фирма «Андреев Софт» занимается комплексным обслуживанием заказчиков в области современных информационных технологий, предлагая решения как для оперативных, так и для стратегических задач заказч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580C-CFA5-4059-BC62-29F9A3A0DA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Блок-схема организации взаимодействия франчайзера и франчайз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79ED-62C6-430D-B0A6-F0F254851D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Эксклюзивное право пользоваться </a:t>
            </a:r>
            <a:r>
              <a:rPr b="1" lang="ru-RU" sz="1200" spc="-1" strike="noStrike" u="sng">
                <a:solidFill>
                  <a:srgbClr val="003399"/>
                </a:solidFill>
                <a:uFillTx/>
                <a:latin typeface="Calibri"/>
              </a:rPr>
              <a:t>торговой маркой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 «Компьютерная школа «КОМПЬЮТЕРиЯ» для открытия собственного учебного цен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WP IconicSymbolsA"/>
                <a:ea typeface="WP IconicSymbolsA"/>
              </a:rPr>
              <a:t>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3399"/>
                </a:solidFill>
                <a:uFillTx/>
                <a:latin typeface="Calibri"/>
              </a:rPr>
              <a:t>Учебно-Методический Комплекс,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 разработанный специалистами Центрального УЦ. В его состав входи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- тетрадь для учителя с поурочным планиров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- тетрадь уче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- сборник компьютерных практик (на </a:t>
            </a:r>
            <a:r>
              <a:rPr b="1" lang="en-US" sz="1200" spc="-1" strike="noStrike">
                <a:solidFill>
                  <a:srgbClr val="003399"/>
                </a:solidFill>
                <a:latin typeface="Calibri"/>
              </a:rPr>
              <a:t>CD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- сборник практических зад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WP IconicSymbolsA"/>
                <a:ea typeface="WP IconicSymbolsA"/>
              </a:rPr>
              <a:t>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омощь в </a:t>
            </a:r>
            <a:r>
              <a:rPr b="1" lang="ru-RU" sz="1200" spc="-1" strike="noStrike" u="sng">
                <a:solidFill>
                  <a:srgbClr val="003399"/>
                </a:solidFill>
                <a:uFillTx/>
                <a:latin typeface="Calibri"/>
              </a:rPr>
              <a:t>разработке бизнес-плана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 учебного центра, применимого в условиях функционирования в конкретном регио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DDE9-0D4F-4A9C-BFE6-8D79E0E8D0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Маркетинговая поддержк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«Маркетинг в центре» - масштабные маркетинговые мероприятия, проводимые Франчайзером (Центральным УЦ) по Ро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редоставление рекламн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Оказание консультативной помощи в организации и поддержании связей с региональными СМИ и проведении региональных рекламных камп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57B9-5010-4EA2-98D7-3F3F6453AB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Обучение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ервоначальный курс обучения, при проведении которого Центральный УЦ передает региональному УЦ свое «ноу-хау» (путем обучения персонала применяемым им самим методам управления и организации процесса обучения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егулярное проведение курсов повышения квалификации преподавателей региональных УЦ.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F0C5-8E3F-4350-9D93-35FD2F75F1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Консультировани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о оперативному управлению уже работающего Учебного Цент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бухгалтерскому и юридическому сопровожд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DED5-7E38-428D-A8CF-E013947EAA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Методическое сопровождени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егулярное обновление методик и своевременное предоставление их региональному У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возможность доработки или изменения методик под специфику регионального УЦ;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оказание консультаций по методическим вопросам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292E-0A0A-48BB-BBFF-324E77B971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Преимуществ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олучение испытанных деловых мет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одготовка кад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Устойчивая репутация;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снижение финансовых рисков в 6-7 раз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341D-88E2-4E0D-9A1C-8A5126825A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Финансовая схема франчай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3691-3BA6-422A-A9E1-BE730EDBDE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Какие выгоды получает  фирма «Андреев Софт» </a:t>
            </a:r>
            <a:br>
              <a:rPr sz="1200"/>
            </a:b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от реализации социально-значимых проект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078E-95D7-49A0-BC64-AEEE973D38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Укрепление репутации, укрепление связей с местным сообществом, улучшение отношений с местной вла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Укрепление отношений с клиентами, улучшение финансовых показателей, получение преимуществ перед конкурен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Повышение лояльности сотрудников, развитие у них новых навыков и умений, выход на новые источники рабочей силы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0AEA-813E-48E1-86C5-56588D0E67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Социальная проблема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тсутствие системы обучения школьников в области информационных технологий в рамках государственной образовательной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Уровень знаний, получаемых школьниками на уроках информатики, не соответствует нормам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изкая зарплата учителей в школе ведет к отсутствию их мотивации и заинтересованности в конечном результа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Уровень подготовки учителей информатики ограничивается рамками школьной программы.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FAA3-2F4C-487C-984B-C9C6C066DE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4. Выход на новые рынки.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5. Снижение рисков, повышение устойчивости при кризис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6. 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Дополнительные возможности для продвижения своих основных услуг, </a:t>
            </a:r>
            <a:r>
              <a:rPr b="0" lang="en-US" sz="1200" spc="-1" strike="noStrike">
                <a:solidFill>
                  <a:srgbClr val="336699"/>
                </a:solidFill>
                <a:latin typeface="Calibri"/>
              </a:rPr>
              <a:t>PR,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рекла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Calibri"/>
              </a:rPr>
              <a:t>7. 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Приобретение новых партнеров. 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2BD8-975D-4BDC-8A9A-5217BB92F9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Будем рады сотрудничеству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DFE5-1215-4D53-B2F9-434621C967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Решение социальной проблемы № 1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ние эффективной экономической модели платного дополнительного образования детей в области информационных технологий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Компьютерная школа «КОМПЬЮТЕРи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5982-3C60-422D-BA7C-66B28ED1F7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Социальная проблема №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облема организации загородного отдыха детей в Тверской области во время школьных канику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нижение финансирования из городского бюджета муниципальных лагерей. Как следствие, приведение в упадок материально-технической базы, закрытие части лагерей, низкий уровень квалификации персон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Государственные деньги – отсутствие ответ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БОЯ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правлять своих детей в муниципальные лаге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сутствие частных лагерей в Тверской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тсутствие профильных лагерей в Тверской области (лагерей с обучение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7934-2CE2-4609-93E3-D23D220ABD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Решение социальной проблемы № 2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ние Всесоюзного лагеря информационных технологий </a:t>
            </a: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«КОМПЬЮТЕРи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8BE4-1FAF-44DE-B351-6F1AEC5274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1) Создание «Компьютерного клуба» 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1995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Игры + к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2) Программа компьютеризации школ –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1998-2002 г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Курсы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3) 4-х летняя Компьютерная школа –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с </a:t>
            </a:r>
            <a:r>
              <a:rPr b="1" lang="en-US" sz="1200" spc="-1" strike="noStrike">
                <a:solidFill>
                  <a:srgbClr val="ff6600"/>
                </a:solidFill>
                <a:latin typeface="Calibri"/>
              </a:rPr>
              <a:t>01.09.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2003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Систематическое (регулярное) 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образование в области 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4) 4-х летняя Компьютерная школа на базе компьютеров, поставленных в рамках Президентской программы 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с 200</a:t>
            </a:r>
            <a:r>
              <a:rPr b="1" lang="en-US" sz="1200" spc="-1" strike="noStrike">
                <a:solidFill>
                  <a:srgbClr val="ff66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Систематическое (регулярное) 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образование в области 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5) Всесоюзный лагерь информационных технологий «КОМПЬЮТЕРиЯ»–</a:t>
            </a:r>
            <a:r>
              <a:rPr b="1" lang="en-US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с 2003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Сочетание оздоровите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отдыха с обучением в области 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6) Франчайзинговая сеть, 4-х летняя Компьютерная школа и лагерь под общим брендом «КОМПЬЮТЕРиЯ» 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с 2003 г.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3C51-F777-464D-AA51-6D3D9ED3E7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Модель </a:t>
            </a:r>
            <a:br>
              <a:rPr sz="1200"/>
            </a:br>
            <a:r>
              <a:rPr b="0" lang="ru-RU" sz="1100" spc="-1" strike="noStrike">
                <a:solidFill>
                  <a:srgbClr val="ff6600"/>
                </a:solidFill>
                <a:latin typeface="Calibri"/>
              </a:rPr>
              <a:t>взаимодействия школы и Учебного Центр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рограмма компьютеризации школ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1998-2002 г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AC0E-BDD5-40CC-9FEA-59BB5AAB57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рограмма компьютеризации школ 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1998-2002 г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81E6-2DD7-4408-ACEF-D78BC5F74B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25E6-A93A-46A2-B1C8-4CF9C318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63E2-C17E-42CB-8316-1155008D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BC7A-4954-4FC1-A832-5AC381CD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79BD-4C69-43AC-9C22-5AAF5CA3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BAFD-B41A-4427-B323-2BA97431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ABF5-716C-46C7-9C8F-FDB41C2F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E27A-EF07-47FF-9E63-9EB633B9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EF9C-01F0-4241-A8DA-64F1E988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0E5B-E6D1-49A1-9320-9D49D0E7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FF30-88A4-4E4A-991E-2818B2B5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7E9D-CEDB-4C4E-A3DB-D1B379C8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F602-466D-4288-976A-E33F8D5B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DC95-4220-4BD7-8C43-73D56F7F63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87280" y="2204640"/>
            <a:ext cx="6562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КОМПЬЮТЕРи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номические модели решения социальных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в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рель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280" y="1916280"/>
            <a:ext cx="7715160" cy="457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еимуще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686800" cy="892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рограмма компьютеризации школ –</a:t>
            </a: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1998-2002 г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68360" y="2205000"/>
            <a:ext cx="82296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 школьных учителей появляется реальная возможность постоянно находиться «на уровне» – владеть именно современными информационными технология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школьные учителя получают дополнительный заработ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 региональных и муниципальных администраций не возникает проблем с финансированием компьютеризации образ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686800" cy="863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4-х летняя Компьютерная школа –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с 2002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68360" y="1844640"/>
            <a:ext cx="784872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это авторская программа четырёхлетнего обучения школьников информатике и информационным технологиям по специально разработанным методика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Отработана</a:t>
            </a:r>
            <a:r>
              <a:rPr b="0" lang="ru-RU" sz="22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6600"/>
                </a:solidFill>
                <a:latin typeface="Arial"/>
              </a:rPr>
              <a:t>методика переподготовки учителей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. К настоящему времени специалистами учебного центра бесплатно обучено более 200 педагогов, многие из которых успешно работают в компьютерной школе и преподают информатику в школ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7283520" cy="2087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сесоюзный лагерь информационных технологий 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«КОМПЬЮТЕРи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» -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Инвестиционный 10-летний проект стоимостью 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$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1,5 млн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. 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с 200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39640" y="3141720"/>
            <a:ext cx="8051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Деловая развивающая игра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, в ходе которой дети играют в государство</a:t>
            </a:r>
            <a:r>
              <a:rPr b="0" lang="ru-RU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«Страна «КОМПЬЮТЕРиЯ»</a:t>
            </a:r>
            <a:r>
              <a:rPr b="0" lang="ru-RU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со своей Конституцией и </a:t>
            </a:r>
            <a:br>
              <a:rPr sz="1800"/>
            </a:b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организационной структур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P1010272"/>
          <p:cNvPicPr/>
          <p:nvPr/>
        </p:nvPicPr>
        <p:blipFill>
          <a:blip r:embed="rId1"/>
          <a:stretch/>
        </p:blipFill>
        <p:spPr>
          <a:xfrm>
            <a:off x="4356000" y="4238640"/>
            <a:ext cx="2881440" cy="216072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686800" cy="863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сесоюзный лагерь информационных технологий 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«КОМПЬЮТЕРи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» -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с 2003 г.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24000" y="2276640"/>
            <a:ext cx="4897440" cy="350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При такой организации работы летнего лагеря достигаются следующие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Оздоровление 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(спорт, отдых в лесу и у рек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Обучение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и практическое использование современных информационных технологий для конкретных задач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Приобретение </a:t>
            </a: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опыта юридической и экономической самостоятельности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(на этапе знакомства с Конституцией, выборов в Государственный совет, городских министров, опыт жизни «с паспортом»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Опыт коллективной творческой работы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в процессе обу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Занятия в компьютерных классах"/>
          <p:cNvPicPr/>
          <p:nvPr/>
        </p:nvPicPr>
        <p:blipFill>
          <a:blip r:embed="rId1"/>
          <a:stretch/>
        </p:blipFill>
        <p:spPr>
          <a:xfrm>
            <a:off x="5105520" y="22050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686800" cy="863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сесоюзный лагерь информационных технологий 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«КОМПЬЮТЕРи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» -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с 2003 г.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Всероссийская олимпиада по информатике1"/>
          <p:cNvPicPr/>
          <p:nvPr/>
        </p:nvPicPr>
        <p:blipFill>
          <a:blip r:embed="rId1"/>
          <a:stretch/>
        </p:blipFill>
        <p:spPr>
          <a:xfrm>
            <a:off x="2484360" y="2997360"/>
            <a:ext cx="4896000" cy="36716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545040" y="2276640"/>
            <a:ext cx="710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Апрель 2004 го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XVI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сероссийская олимпиада школьников по информа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686800" cy="863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сесоюзный лагерь информационных технологий 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«КОМПЬЮТЕРи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» -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с 2003 г.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47920" y="2276640"/>
            <a:ext cx="7320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Сентябрь 2004 го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партакиада воспитанников детских домов Тве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Март 2005 го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Окружные этапы Всероссийских предметных олимпиа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школьников (ЦФ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Март 2006 го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Окружные этапы Всероссийских предметных олимпиа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школьников (ЦФ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Апрель 2006 го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сероссийская олимпиада школьников по геогра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Май 2006 года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планируется)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партакиада воспитанников детских домов Тве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147160" cy="431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200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Компьютерная школа «КОМПЬЮТЕРи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»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Франчайзинговая сеть из 110 филиалов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 в Твери, Тверской, Липецкой, Ленинградской , Калужской, Оренбургской областях и Ставропольском кр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Всесоюзный лагерь информационных технологий «КОМПЬЮТЕРи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»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баз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 в Твери, Тверской, Московской, Ленинградской областях, Болгарии (г. Обзор), Венгрии (Балато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6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147160" cy="431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200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Компьютерная школа «КОМПЬЮТЕРи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»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Франчайзинговая сеть из 110 филиалов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 в Твери, Тверской, Липецкой, Ленинградской , Калужской, Оренбургской областях и Ставропольском кр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Всесоюзный лагерь информационных технологий «КОМПЬЮТЕРи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»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баз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 в Твери, Тверской, Московской, Ленинградской областях, Болгарии (г. Обзор), Венгрии (Балато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24000" y="259920"/>
            <a:ext cx="5832720" cy="576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Франчайзинговая с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79280" y="1413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Определение франчайзин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95280" y="2205000"/>
            <a:ext cx="79200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Франчайзинг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это такая организация бизнеса, в которой компания (франчайзер) передает независимому человеку или компании (франчайзи) право на продажу продукта и услуг этой компании. Франчайзи обязуется продавать этот продукт или услуги по заранее определенным законам и правилам ведения бизнеса, которые устанавливает франчайзор. В обмен на осуществление всех этих правил франчайзи получает разрешение использовать имя компании, ее репутацию, продукт и услуги, маркетинговые технологии, экспертизу, и механизмы поддержки.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900000" y="0"/>
            <a:ext cx="6985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Основные субъекты франчайзин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24000" y="1557360"/>
            <a:ext cx="82296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Учебный центр «КОМПЬЮТЕРиЯ»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ер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, владеющий торговой маркой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«КОМПЬЮТЕРиЯ»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и «ноу-хау», предоставляет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егиональному Учебному центру–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и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, являющемуся независимым хозяйствующим субъект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12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право на ведение дела под его товарной маркой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«КОМПЬЮТЕРиЯ»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12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определённый набор услу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егиональный Учебный центр -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и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в свою очередь предоставляет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Учебному центру «КОМПЬЮТЕРиЯ»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еру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обязательство соблюдения установленных франчайзером стандартов качества обучения, а также разработанных им методик, право его контролировать и соответствующее вознаграждение(единовременный первоначальный взнос и регулярные отчисления роял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77774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6699"/>
                </a:solidFill>
                <a:latin typeface="Arial"/>
              </a:rPr>
              <a:t>Фирма «Андреев Софт» с 1991 года успешно работает на Тверском региональном компьютерном рынк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6699"/>
                </a:solidFill>
                <a:latin typeface="Arial"/>
              </a:rPr>
              <a:t>С 1997 года фирма «Андреев Софт» является основой Холдинга «Андреев и Партнеры», в котором сегодня работают более 800 челове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6699"/>
                </a:solidFill>
                <a:latin typeface="Arial"/>
              </a:rPr>
              <a:t>В настоящее время «Андреев Софт» уверенно занимает ведущее место среди компьютерных фирм области по объему и спектру предоставляемых услуг, а также качеству обслуживания клиент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6699"/>
                </a:solidFill>
                <a:latin typeface="Arial"/>
              </a:rPr>
              <a:t>Фирма «Андреев Софт» занимается комплексным обслуживанием заказчиков в области современных информационных технологий, предлагая решения как для оперативных, так и для стратегических задач заказчика.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Блок-схема организации взаимодействия франчайзера и франчайз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3"/>
          <p:cNvSpPr/>
          <p:nvPr/>
        </p:nvSpPr>
        <p:spPr>
          <a:xfrm>
            <a:off x="2556000" y="2205000"/>
            <a:ext cx="3816360" cy="1008000"/>
          </a:xfrm>
          <a:prstGeom prst="ellipse">
            <a:avLst/>
          </a:prstGeom>
          <a:solidFill>
            <a:srgbClr val="66a1f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Торговая марка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«КОМПЬЮТЕРиЯ»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абор услу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"/>
          <p:cNvSpPr/>
          <p:nvPr/>
        </p:nvSpPr>
        <p:spPr>
          <a:xfrm>
            <a:off x="2627280" y="4653000"/>
            <a:ext cx="3673440" cy="1152360"/>
          </a:xfrm>
          <a:prstGeom prst="ellipse">
            <a:avLst/>
          </a:prstGeom>
          <a:solidFill>
            <a:srgbClr val="66a1f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ыработка стандартов качества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облюдение стандартов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ознаграждение, контрол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3492360" y="3645000"/>
            <a:ext cx="1800360" cy="647640"/>
          </a:xfrm>
          <a:prstGeom prst="roundRect">
            <a:avLst>
              <a:gd name="adj" fmla="val 16667"/>
            </a:avLst>
          </a:prstGeom>
          <a:solidFill>
            <a:srgbClr val="66a1f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гов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ши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468360" y="3429000"/>
            <a:ext cx="2448000" cy="1079640"/>
          </a:xfrm>
          <a:prstGeom prst="rect">
            <a:avLst/>
          </a:prstGeom>
          <a:solidFill>
            <a:srgbClr val="66a1f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бный цент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«КОМПЬЮТЕРиЯ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5796000" y="3429000"/>
            <a:ext cx="2448000" cy="1079640"/>
          </a:xfrm>
          <a:prstGeom prst="rect">
            <a:avLst/>
          </a:prstGeom>
          <a:solidFill>
            <a:srgbClr val="66a1f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иональ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Учебный цент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AutoShape 8"/>
          <p:cNvCxnSpPr/>
          <p:nvPr/>
        </p:nvCxnSpPr>
        <p:spPr>
          <a:xfrm flipV="1">
            <a:off x="755640" y="2707560"/>
            <a:ext cx="2160" cy="57708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2" name="AutoShape 9"/>
          <p:cNvCxnSpPr/>
          <p:nvPr/>
        </p:nvCxnSpPr>
        <p:spPr>
          <a:xfrm>
            <a:off x="6443280" y="2781360"/>
            <a:ext cx="1369080" cy="21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3" name="AutoShape 10"/>
          <p:cNvCxnSpPr/>
          <p:nvPr/>
        </p:nvCxnSpPr>
        <p:spPr>
          <a:xfrm>
            <a:off x="7811640" y="2781360"/>
            <a:ext cx="1080" cy="50400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24" name="AutoShape 11"/>
          <p:cNvCxnSpPr/>
          <p:nvPr/>
        </p:nvCxnSpPr>
        <p:spPr>
          <a:xfrm>
            <a:off x="6372000" y="5229000"/>
            <a:ext cx="1440360" cy="108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5" name="AutoShape 12"/>
          <p:cNvCxnSpPr/>
          <p:nvPr/>
        </p:nvCxnSpPr>
        <p:spPr>
          <a:xfrm>
            <a:off x="7811640" y="4581360"/>
            <a:ext cx="1080" cy="6483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6" name="AutoShape 13"/>
          <p:cNvCxnSpPr/>
          <p:nvPr/>
        </p:nvCxnSpPr>
        <p:spPr>
          <a:xfrm>
            <a:off x="684360" y="5229360"/>
            <a:ext cx="1799280" cy="21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7" name="AutoShape 14"/>
          <p:cNvCxnSpPr/>
          <p:nvPr/>
        </p:nvCxnSpPr>
        <p:spPr>
          <a:xfrm flipV="1">
            <a:off x="684000" y="4581360"/>
            <a:ext cx="1080" cy="64836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28" name="AutoShape 15"/>
          <p:cNvCxnSpPr/>
          <p:nvPr/>
        </p:nvCxnSpPr>
        <p:spPr>
          <a:xfrm>
            <a:off x="755640" y="2708280"/>
            <a:ext cx="1799280" cy="21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9" name="AutoShape 16"/>
          <p:cNvCxnSpPr>
            <a:stCxn id="119" idx="3"/>
            <a:endCxn id="118" idx="1"/>
          </p:cNvCxnSpPr>
          <p:nvPr/>
        </p:nvCxnSpPr>
        <p:spPr>
          <a:xfrm>
            <a:off x="2935440" y="3968280"/>
            <a:ext cx="538560" cy="108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30" name="AutoShape 17"/>
          <p:cNvCxnSpPr>
            <a:stCxn id="120" idx="1"/>
            <a:endCxn id="118" idx="3"/>
          </p:cNvCxnSpPr>
          <p:nvPr/>
        </p:nvCxnSpPr>
        <p:spPr>
          <a:xfrm flipH="1">
            <a:off x="5311440" y="3968280"/>
            <a:ext cx="465840" cy="108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131" name="Rectangle 18"/>
          <p:cNvSpPr/>
          <p:nvPr/>
        </p:nvSpPr>
        <p:spPr>
          <a:xfrm>
            <a:off x="900000" y="0"/>
            <a:ext cx="6985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Основные субъекты франчайзин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826920" y="1484280"/>
            <a:ext cx="7293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Эксклюзивное право пользоваться </a:t>
            </a:r>
            <a:r>
              <a:rPr b="1" lang="ru-RU" sz="1800" spc="-1" strike="noStrike" u="sng">
                <a:solidFill>
                  <a:srgbClr val="003399"/>
                </a:solidFill>
                <a:uFillTx/>
                <a:latin typeface="Arial"/>
              </a:rPr>
              <a:t>торговой маркой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«Компьютерная школа «КОМПЬЮТЕРиЯ» для открытия собственного учебного цен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WP IconicSymbolsA"/>
                <a:ea typeface="WP IconicSymbolsA"/>
              </a:rPr>
              <a:t>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3399"/>
                </a:solidFill>
                <a:uFillTx/>
                <a:latin typeface="Arial"/>
              </a:rPr>
              <a:t>Учебно-Методический Комплекс,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разработанный специалистами Центрального УЦ. В его состав вход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- тетрадь для учителя с поурочным планиров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- тетрадь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- сборник компьютерных практик (на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D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- сборник практических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WP IconicSymbolsA"/>
                <a:ea typeface="WP IconicSymbolsA"/>
              </a:rPr>
              <a:t>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мощь в </a:t>
            </a:r>
            <a:r>
              <a:rPr b="1" lang="ru-RU" sz="1800" spc="-1" strike="noStrike" u="sng">
                <a:solidFill>
                  <a:srgbClr val="003399"/>
                </a:solidFill>
                <a:uFillTx/>
                <a:latin typeface="Arial"/>
              </a:rPr>
              <a:t>разработке бизнес-плана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учебного центра, применимого в условиях функционирования в конкретном реги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826920" y="1484280"/>
            <a:ext cx="729324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Маркетинговая поддерж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«Маркетинг в центре» - масштабные маркетинговые мероприятия, проводимые Франчайзером (Центральным УЦ) по Росс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редоставление рекламной информ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Оказание консультативной помощи в организации и поддержании связей с региональными СМИ и проведении региональных рекламных камп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826920" y="1773360"/>
            <a:ext cx="72932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Обучение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ервоначальный курс обучения, при проведении которого Центральный УЦ передает региональному УЦ свое «ноу-хау» (путем обучения персонала применяемым им самим методам управления и организации процесса обучения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егулярное проведение курсов повышения квалификации преподавателей региональных УЦ.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755640" y="1989000"/>
            <a:ext cx="729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Консультировани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 оперативному управлению уже работающего Учебного Цент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бухгалтерскому и юридическому сопровожд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826920" y="1484280"/>
            <a:ext cx="7293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Методическое сопровожд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егулярное обновление методик и своевременное предоставление их региональному УЦ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возможность доработки или изменения методик под специфику регионального УЦ;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оказание консультаций по методическим вопросам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826920" y="1484280"/>
            <a:ext cx="7293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Преимущест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лучение испытанных деловых мето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дготовка кадр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Устойчивая репутация;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снижение финансовых рисков в 6-7 раз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4824720" cy="576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инансовая схема франчай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826920" y="1484280"/>
            <a:ext cx="729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 расчете на 1 группу учащихся (10 человек) за 1 меся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71640" y="1989000"/>
          <a:ext cx="6696000" cy="3597480"/>
        </p:xfrm>
        <a:graphic>
          <a:graphicData uri="http://schemas.openxmlformats.org/drawingml/2006/table">
            <a:tbl>
              <a:tblPr/>
              <a:tblGrid>
                <a:gridCol w="4946400"/>
                <a:gridCol w="1749600"/>
              </a:tblGrid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Доход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Плата за обучение (1 чел./мес. - 300 р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3 0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Расход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Зарплата персонала (3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9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Налоги и обязательные платежи (1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3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88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Компьютеры (аренда или отчисления на содержание и модернизацию) (3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9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Роялти (1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3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Чистая прибыль (20%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6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147160" cy="431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6600"/>
                </a:solidFill>
                <a:latin typeface="Arial"/>
              </a:rPr>
              <a:t>Какие выгоды получает  фирма «Андреев Софт» </a:t>
            </a:r>
            <a:br>
              <a:rPr sz="4000"/>
            </a:br>
            <a:r>
              <a:rPr b="1" i="1" lang="ru-RU" sz="4000" spc="-1" strike="noStrike">
                <a:solidFill>
                  <a:srgbClr val="ff6600"/>
                </a:solidFill>
                <a:latin typeface="Arial"/>
              </a:rPr>
              <a:t>от реализации социально-значимых проект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147160" cy="431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Укрепление репутации, укрепление связей с местным сообществом, улучшение отношений с местной вла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Укрепление отношений с клиентами, улучшение финансовых показателей, получение преимуществ перед конкурент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Повышение лояльности сотрудников, развитие у них новых навыков и умений, выход на новые источники рабочей силы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6562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Социальная проблема №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Отсутствие системы обучения школьников в области информационных технологий в рамках государственной образовательной программ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Уровень знаний, получаемых школьниками на уроках информатики, не соответствует нормам време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Низкая зарплата учителей в школе ведет к отсутствию их мотивации и заинтересованности в конечном результа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Уровень подготовки учителей информатики ограничивается рамками школьной программы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147160" cy="431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4. Выход на новые рынки.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5. Снижение рисков, повышение устойчивости при кризис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6. 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Дополнительные возможности для продвижения своих основных услуг,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,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 рекла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7. 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Приобретение новых партнеров. 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4920" y="2492280"/>
            <a:ext cx="8147160" cy="2448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Будем рады сотрудничеств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16000" y="2393640"/>
            <a:ext cx="712944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Решение социальной проблемы № 1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здание эффективной экономической модели платного дополнительного образования детей в области информационных технологий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Компьютерная школа «КОМПЬЮТЕРи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136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Социальная проблема №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Проблема организации загородного отдыха детей в Тверской области во время школьных каникул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Снижение финансирования из городского бюджета муниципальных лагерей. Как следствие, приведение в упадок материально-технической базы, закрытие части лагерей, низкий уровень квалификации персонал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Государственные деньги – отсутствие ответствен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дители 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БОЯТС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тправлять своих детей в муниципальные лагер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Отсутствие частных лагерей в Тверской обла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Отсутствие профильных лагерей в Тверской области (лагерей с обучением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116000" y="2393640"/>
            <a:ext cx="712944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Решение социальной проблемы № 2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здание Всесоюзного лагеря информационных технологий </a:t>
            </a: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«КОМПЬЮТЕРи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675640" cy="5040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1) Создание «Компьютерного клуба» –</a:t>
            </a:r>
            <a:r>
              <a:rPr b="1" lang="ru-RU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199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Игры + к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2) Программа компьютеризации школ –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1998-2002 г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Курсы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3) 4-х летняя Компьютерная школа –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01.09.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2003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Систематическое (регулярное)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образование в области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4) 4-х летняя Компьютерная школа на базе компьютеров, поставленных в рамках Президентской программы –</a:t>
            </a:r>
            <a:r>
              <a:rPr b="1" lang="ru-RU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 200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Систематическое (регулярное)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образование в области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5) Всесоюзный лагерь информационных технологий «КОМПЬЮТЕРиЯ»–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 2003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Сочетание оздоровит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отдыха с обучением в области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6) Франчайзинговая сеть, 4-х летняя Компьютерная школа и лагерь под общим брендом «КОМПЬЮТЕРиЯ» –</a:t>
            </a:r>
            <a:r>
              <a:rPr b="1" lang="ru-RU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 2003 г.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280" y="1915920"/>
            <a:ext cx="7715160" cy="76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Модель </a:t>
            </a:r>
            <a:br>
              <a:rPr sz="2400"/>
            </a:b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взаимодействия школы и Учебного Цен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83840"/>
            <a:ext cx="8686800" cy="8924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рограмма компьютеризации школ</a:t>
            </a: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1998-2002 г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4360" y="2781360"/>
          <a:ext cx="7416720" cy="2484360"/>
        </p:xfrm>
        <a:graphic>
          <a:graphicData uri="http://schemas.openxmlformats.org/drawingml/2006/table">
            <a:tbl>
              <a:tblPr/>
              <a:tblGrid>
                <a:gridCol w="2241360"/>
                <a:gridCol w="51753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Шк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Андреев Соф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Каби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Электросе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Компьют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Локальная се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Методические материа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Переподготовка преподав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Ремонт и обслуживание тех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Rectangle 16"/>
          <p:cNvSpPr/>
          <p:nvPr/>
        </p:nvSpPr>
        <p:spPr>
          <a:xfrm>
            <a:off x="108000" y="5438520"/>
            <a:ext cx="88930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ри этом школа ничего не платит фирме, </a:t>
            </a:r>
            <a:br>
              <a:rPr sz="1800"/>
            </a:b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а фирма ничего не платит школе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1916280"/>
            <a:ext cx="7715160" cy="457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еимуще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686800" cy="892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рограмма компьютеризации школ –</a:t>
            </a: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1998-2002 г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468360" y="2205000"/>
            <a:ext cx="82296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 школы не возникает проблем с техническим обслуживанием техники – все проблемы решает фирм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школа всегда имеет самую современную технику, ей не приходится решать проблемы морального старения техники 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(а компьютерная техника может считаться современной максимум 2 года) – фирма сама меняет технику на более новую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09:40:19Z</dcterms:created>
  <dc:creator>ute</dc:creator>
  <dc:description/>
  <dc:language>en-US</dc:language>
  <cp:lastModifiedBy>LEGION</cp:lastModifiedBy>
  <dcterms:modified xsi:type="dcterms:W3CDTF">2015-04-01T07:41:44Z</dcterms:modified>
  <cp:revision>20</cp:revision>
  <dc:subject/>
  <dc:title>Слайд 1</dc:title>
</cp:coreProperties>
</file>