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4745-89AD-48E2-8AF1-C8EE08D59A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Calibri"/>
              </a:rPr>
              <a:t>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одели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.Твер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прель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C60B-A2B7-4445-BB1E-D70E5AEC71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E0AA-0C3C-487A-83B7-6856E34490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4-х летняя Компьютерная школа –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2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CDD9-3F6E-4E71-8B46-1BA20F54CF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Инвестиционный 10-летний проект стоимостью </a:t>
            </a:r>
            <a:r>
              <a:rPr b="0" lang="en-US" sz="1200" spc="-1" strike="noStrike">
                <a:solidFill>
                  <a:srgbClr val="008080"/>
                </a:solidFill>
                <a:latin typeface="Calibri"/>
              </a:rPr>
              <a:t>$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1,5 млн</a:t>
            </a:r>
            <a:r>
              <a:rPr b="0" lang="en-US" sz="1200" spc="-1" strike="noStrike">
                <a:solidFill>
                  <a:srgbClr val="008080"/>
                </a:solidFill>
                <a:latin typeface="Calibri"/>
              </a:rPr>
              <a:t>. 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B42C-D62D-4435-B394-99BFFBD76F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4D92-3013-485D-B9DF-996D428E01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6EBB-9A68-467A-BF3F-560B415B52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1CF8-DE97-4481-8D45-C6F583D5DF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Calibri"/>
              </a:rPr>
              <a:t>200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Компьютерная школа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Франчайзинговая сеть из 110 филиалов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сесоюзный лагерь информационных технологий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баз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6EBA-BA5F-4F46-B08A-54B5B5D002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Calibri"/>
              </a:rPr>
              <a:t>200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Компьютерная школа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Франчайзинговая сеть из 110 филиалов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сесоюзный лагерь информационных технологий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баз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EA29-B976-412C-8E6C-041A00DA85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Франчайзинговая с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пределение франчайз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Франчайзинг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это такая организация бизнеса, в которой компания (франчайзер) передает независимому человеку или компании (франчайзи) право на продажу продукта и услуг этой компании. Франчайзи обязуется продавать этот продукт или услуги по заранее определенным законам и правилам ведения бизнеса, которые устанавливает франчайзор. В обмен на осуществление всех этих правил франчайзи получает разрешение использовать имя компании, ее репутацию, продукт и услуги, маркетинговые технологии, экспертизу, и механизмы поддержки.</a:t>
            </a: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3AE2-C4F6-4F6C-95EF-2E30F5E832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чебный центр 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ер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, владеющий торговой маркой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и «ноу-хау», предоставляе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иональному Учебному центру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и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, являющемуся независимым хозяйствующим субъек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SzPct val="112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право на ведение дела под его товарной маркой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КОМПЬЮТЕРиЯ»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SzPct val="112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определённый набор услу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иональный Учебный центр -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и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в свою очередь предоставляе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чебному центру 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еру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обязательство соблюдения установленных франчайзером стандартов качества обучения, а также разработанных им методик, право его контролировать и соответствующее вознаграждение(единовременный первоначальный взнос и регулярные отчисления роял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FB75-1013-47F5-9120-F8542D15A9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Фирма «Андреев Софт» с 1991 года успешно работает на Тверском региональном компьютерном ры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С 1997 года фирма «Андреев Софт» является основой Холдинга «Андреев и Партнеры», в котором сегодня работают более 800 челов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 настоящее время «Андреев Софт» уверенно занимает ведущее место среди компьютерных фирм области по объему и спектру предоставляемых услуг, а также качеству обслуживания кли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Фирма «Андреев Софт» занимается комплексным обслуживанием заказчиков в области современных информационных технологий, предлагая решения как для оперативных, так и для стратегических задач заказч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A884-8A42-4E86-80E6-D36CB66BEF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лок-схема организации взаимодействия франчайзера и франчайз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E349-BDCF-4614-B104-D9933B9F79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Эксклюзивное право пользоваться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торговой маркой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«Компьютерная школа «КОМПЬЮТЕРиЯ» для открытия собственного учебного цен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Учебно-Методический Комплекс,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разработанный специалистами Центрального УЦ. В его состав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тетрадь для учителя с поурочным планир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тетрадь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сборник компьютерных практик (на </a:t>
            </a:r>
            <a:r>
              <a:rPr b="1" lang="en-US" sz="1200" spc="-1" strike="noStrike">
                <a:solidFill>
                  <a:srgbClr val="003399"/>
                </a:solidFill>
                <a:latin typeface="Calibri"/>
              </a:rPr>
              <a:t>CD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сборник практически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мощь в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разработке бизнес-плана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учебного центра, применимого в условиях функционирования в конкретном регио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4ADB-6257-46B6-A556-5325685C6E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Маркетинговая поддержк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Маркетинг в центре» - масштабные маркетинговые мероприятия, проводимые Франчайзером (Центральным УЦ) по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едоставление реклам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казание консультативной помощи в организации и поддержании связей с региональными СМИ и проведении региональных рекламных камп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69F8-7019-4B15-9E43-8083881EED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Обучение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ервоначальный курс обучения, при проведении которого Центральный УЦ передает региональному УЦ свое «ноу-хау» (путем обучения персонала применяемым им самим методам управления и организации процесса обучения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рное проведение курсов повышения квалификации преподавателей региональных УЦ.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2FD7-DFCB-4D77-AF57-31BB9A2816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Консультирова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 оперативному управлению уже работающего Учебного Цент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бухгалтерскому и юридическому сопровожд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41E2-4F94-464B-B8A8-ED34CD4F54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Методическое сопровождени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рное обновление методик и своевременное предоставление их региональному У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возможность доработки или изменения методик под специфику регионального УЦ;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казание консультаций по методическим вопросам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69D1-071E-4B47-8E7A-CED9A99F37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Преимуществ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лучение испытанных деловых мет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дготовка кад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стойчивая репутация;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нижение финансовых рисков в 6-7 раз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6CD1-6674-4897-B94F-2140AC3643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Финансовая схема франчай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B879-6E35-494F-BAAD-C2739A9D69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Какие выгоды получает  фирма «Андреев Софт» </a:t>
            </a:r>
            <a:br>
              <a:rPr sz="1200"/>
            </a:b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т реализации социально-значимых проект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14C8-46FF-4CAC-AB02-D3600C4F43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Укрепление репутации, укрепление связей с местным сообществом, улучшение отношений с местной вла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Укрепление отношений с клиентами, улучшение финансовых показателей, получение преимуществ перед конкурен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Повышение лояльности сотрудников, развитие у них новых навыков и умений, выход на новые источники рабочей сил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2D95-99C5-4488-84DE-F04DB23597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циальная проблема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тсутствие системы обучения школьников в области информационных технологий в рамках государственной образовательной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ровень знаний, получаемых школьниками на уроках информатики, не соответствует нормам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изкая зарплата учителей в школе ведет к отсутствию их мотивации и заинтересованности в конечном результа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ень подготовки учителей информатики ограничивается рамками школьной программы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B53A-D193-4BFF-85F1-C03A0CF10E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4. Выход на новые рынки.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5. Снижение рисков, повышение устойчивости при кризис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6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Дополнительные возможности для продвижения своих основных услуг, </a:t>
            </a:r>
            <a:r>
              <a:rPr b="0" lang="en-US" sz="1200" spc="-1" strike="noStrike">
                <a:solidFill>
                  <a:srgbClr val="336699"/>
                </a:solidFill>
                <a:latin typeface="Calibri"/>
              </a:rPr>
              <a:t>PR,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рекла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Calibri"/>
              </a:rPr>
              <a:t>7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Приобретение новых партнеров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6D5D-FEB4-46AB-A12A-D5AD48C1DE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Будем рады сотрудничеств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47EC-1FFC-4789-A3F8-BD25D3B639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Решение социальной проблемы № 1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экономической модели платного дополнительного образования детей в области информационных технологий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Компьютерная школа «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8A57-CFB3-4D10-8544-48F2421FE3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циальная проблема №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облема организации загородного отдыха детей в Тверской области во время школьных канику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нижение финансирования из городского бюджета муниципальных лагерей. Как следствие, приведение в упадок материально-технической базы, закрытие части лагерей, низкий уровень квалификации персон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осударственные деньги – отсутствие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БО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правлять своих детей в муниципальные лаг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сутствие частных лагерей в Твер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тсутствие профильных лагерей в Тверской области (лагерей с обучение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D73A-67C6-4AC2-A514-60E58D1512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Решение социальной проблемы № 2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Всесоюзного лагеря информационных технологий 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«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3A01-2FF4-4E15-92ED-1FE90BD316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1) Создание «Компьютерного клуба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5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Игры +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2) Программа компьютеризации школ 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Курсы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3) 4-х летняя Компьютерная школа –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01.09.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200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истематическое (регулярное)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бразование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4) 4-х летняя Компьютерная школа на базе компьютеров, поставленных в рамках Президентской программы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истематическое (регулярное)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бразование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5) Всесоюзный лагерь информационных технологий «КОМПЬЮТЕРиЯ»–</a:t>
            </a:r>
            <a:r>
              <a:rPr b="1" lang="en-US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очетание оздоровите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тдыха с обучением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6) Франчайзинговая сеть, 4-х летняя Компьютерная школа и лагерь под общим брендом «КОМПЬЮТЕРиЯ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D22F-A1AA-4D77-B720-692E6D5DCE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Модель </a:t>
            </a:r>
            <a:br>
              <a:rPr sz="1200"/>
            </a:br>
            <a:r>
              <a:rPr b="0" lang="ru-RU" sz="1100" spc="-1" strike="noStrike">
                <a:solidFill>
                  <a:srgbClr val="ff6600"/>
                </a:solidFill>
                <a:latin typeface="Calibri"/>
              </a:rPr>
              <a:t>взаимодействия школы и Учебного Цент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79E7-C7B2-42D2-A61F-5D65A4FCB6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46DE-08B9-4641-BD9D-2688BA80F4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007E-8C1E-4E22-9CCA-1333D62D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386C-A1B9-41CD-AFAB-4651891F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6F4-A2A1-49C2-B40F-B27E3BCE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7810-CDE5-4926-BFB2-8264738B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75D-DF2D-4CFD-B5C1-0ABD5247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DCA-F2E6-4469-9F12-5A27F543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1D9-B6A9-410C-801B-64387458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DEC-705D-4864-AB8C-8EA3F903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4DB7-5FAE-4A52-A589-C9393EC5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BE6-4588-4FF4-BC08-F8D78879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21F-FCEE-468D-926D-FC8EDD06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F4C-2426-4C72-B6BA-A619F016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C7F9-B57F-41A4-ADF6-25C5801ED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87280" y="2204640"/>
            <a:ext cx="6562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КОМПЬЮТЕРи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ие модели решения социальных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ь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7715160" cy="457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имущ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892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 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20500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школьных учителей появляется реальная возможность постоянно находиться «на уровне» – владеть именно современными информационными технологи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школьные учителя получают дополнительный зарабо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региональных и муниципальных администраций не возникает проблем с финансированием компьютеризации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4-х летняя Компьютерная школа 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с 2002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68360" y="1844640"/>
            <a:ext cx="784872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это авторская программа четырёхлетнего обучения школьников информатике и информационным технологиям по специально разработанным методик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тработана</a:t>
            </a:r>
            <a:r>
              <a:rPr b="0" lang="ru-RU" sz="2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6600"/>
                </a:solidFill>
                <a:latin typeface="Arial"/>
              </a:rPr>
              <a:t>методика переподготовки учителей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. К настоящему времени специалистами учебного центра бесплатно обучено более 200 педагогов, многие из которых успешно работают в компьютерной школе и преподают информатику в школ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7283520" cy="2087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Инвестиционный 10-летний проект стоимостью 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1,5 млн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. 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39640" y="3141720"/>
            <a:ext cx="8051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Деловая развивающая игра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в ходе которой дети играют в государство</a:t>
            </a:r>
            <a:r>
              <a:rPr b="0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Страна «КОМПЬЮТЕРиЯ»</a:t>
            </a:r>
            <a:r>
              <a:rPr b="0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о своей Конституцией и </a:t>
            </a:r>
            <a:br>
              <a:rPr sz="1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организационной структу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P1010272"/>
          <p:cNvPicPr/>
          <p:nvPr/>
        </p:nvPicPr>
        <p:blipFill>
          <a:blip r:embed="rId1"/>
          <a:stretch/>
        </p:blipFill>
        <p:spPr>
          <a:xfrm>
            <a:off x="4356000" y="4238640"/>
            <a:ext cx="2881440" cy="21607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24000" y="2276640"/>
            <a:ext cx="4897440" cy="350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При такой организации работы летнего лагеря достигаются следующие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здоровление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(спорт, отдых в лесу и у рек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бучение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и практическое использование современных информационных технологий для конкретных задач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риобретение </a:t>
            </a: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пыта юридической и экономической самостоятельности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(на этапе знакомства с Конституцией, выборов в Государственный совет, городских министров, опыт жизни «с паспортом»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пыт коллективной творческой работы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в процессе об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Занятия в компьютерных классах"/>
          <p:cNvPicPr/>
          <p:nvPr/>
        </p:nvPicPr>
        <p:blipFill>
          <a:blip r:embed="rId1"/>
          <a:stretch/>
        </p:blipFill>
        <p:spPr>
          <a:xfrm>
            <a:off x="5105520" y="22050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Всероссийская олимпиада по информатике1"/>
          <p:cNvPicPr/>
          <p:nvPr/>
        </p:nvPicPr>
        <p:blipFill>
          <a:blip r:embed="rId1"/>
          <a:stretch/>
        </p:blipFill>
        <p:spPr>
          <a:xfrm>
            <a:off x="2484360" y="2997360"/>
            <a:ext cx="4896000" cy="3671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545040" y="227664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прель 2004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XVI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сероссийская олимпиада школьников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47920" y="2276640"/>
            <a:ext cx="732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ентябрь 2004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партакиада воспитанников детских домов Тве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рт 2005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кружные этапы Всероссийских предметных олимпи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школьников (ЦФ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рт 2006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кружные этапы Всероссийских предметных олимпи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школьников (ЦФ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прель 2006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сероссийская олимпиада школьников по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й 2006 года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планируется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партакиада воспитанников детских домов Тве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200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Компьютерная школа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Франчайзинговая сеть из 110 филиалов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Всесоюзный лагерь информационных технологий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баз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200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Компьютерная школа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Франчайзинговая сеть из 110 филиалов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Всесоюзный лагерь информационных технологий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баз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583272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ранчайзингов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79280" y="1413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Определение франчайз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95280" y="2205000"/>
            <a:ext cx="79200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Франчайзинг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это такая организация бизнеса, в которой компания (франчайзер) передает независимому человеку или компании (франчайзи) право на продажу продукта и услуг этой компании. Франчайзи обязуется продавать этот продукт или услуги по заранее определенным законам и правилам ведения бизнеса, которые устанавливает франчайзор. В обмен на осуществление всех этих правил франчайзи получает разрешение использовать имя компании, ее репутацию, продукт и услуги, маркетинговые технологии, экспертизу, и механизмы поддержки.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900000" y="0"/>
            <a:ext cx="6985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Основные субъекты франчайз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24000" y="1557360"/>
            <a:ext cx="82296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ый центр 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владеющий торговой маркой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и «ноу-хау», предоставляет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иональному Учебному центру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являющемуся независимым хозяйствующим субъек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2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раво на ведение дела под его товарной маркой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2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определённый набор усл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иональный Учебный центр -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в свою очередь предоставляет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ому центру 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у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обязательство соблюдения установленных франчайзером стандартов качества обучения, а также разработанных им методик, право его контролировать и соответствующее вознаграждение(единовременный первоначальный взнос и регулярные отчисления роял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77774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Фирма «Андреев Софт» с 1991 года успешно работает на Тверском региональном компьютерном рынк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С 1997 года фирма «Андреев Софт» является основой Холдинга «Андреев и Партнеры», в котором сегодня работают более 800 челове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В настоящее время «Андреев Софт» уверенно занимает ведущее место среди компьютерных фирм области по объему и спектру предоставляемых услуг, а также качеству обслуживания клиен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Фирма «Андреев Софт» занимается комплексным обслуживанием заказчиков в области современных информационных технологий, предлагая решения как для оперативных, так и для стратегических задач заказчика.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лок-схема организации взаимодействия франчайзера и франчайз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"/>
          <p:cNvSpPr/>
          <p:nvPr/>
        </p:nvSpPr>
        <p:spPr>
          <a:xfrm>
            <a:off x="2556000" y="2205000"/>
            <a:ext cx="3816360" cy="1008000"/>
          </a:xfrm>
          <a:prstGeom prst="ellipse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орговая марка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КОМПЬЮТЕРиЯ»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бор услу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2627280" y="4653000"/>
            <a:ext cx="3673440" cy="1152360"/>
          </a:xfrm>
          <a:prstGeom prst="ellipse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работка стандартов качества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блюдение стандартов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ознаграждение, контрол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492360" y="3645000"/>
            <a:ext cx="1800360" cy="647640"/>
          </a:xfrm>
          <a:prstGeom prst="roundRect">
            <a:avLst>
              <a:gd name="adj" fmla="val 16667"/>
            </a:avLst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ши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68360" y="3429000"/>
            <a:ext cx="2448000" cy="1079640"/>
          </a:xfrm>
          <a:prstGeom prst="rect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цент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5796000" y="3429000"/>
            <a:ext cx="2448000" cy="1079640"/>
          </a:xfrm>
          <a:prstGeom prst="rect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она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ый цент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8"/>
          <p:cNvCxnSpPr/>
          <p:nvPr/>
        </p:nvCxnSpPr>
        <p:spPr>
          <a:xfrm flipV="1">
            <a:off x="755640" y="2707560"/>
            <a:ext cx="2160" cy="577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2" name="AutoShape 9"/>
          <p:cNvCxnSpPr/>
          <p:nvPr/>
        </p:nvCxnSpPr>
        <p:spPr>
          <a:xfrm>
            <a:off x="6443280" y="2781360"/>
            <a:ext cx="13690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3" name="AutoShape 10"/>
          <p:cNvCxnSpPr/>
          <p:nvPr/>
        </p:nvCxnSpPr>
        <p:spPr>
          <a:xfrm>
            <a:off x="7811640" y="2781360"/>
            <a:ext cx="1080" cy="5040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24" name="AutoShape 11"/>
          <p:cNvCxnSpPr/>
          <p:nvPr/>
        </p:nvCxnSpPr>
        <p:spPr>
          <a:xfrm>
            <a:off x="6372000" y="5229000"/>
            <a:ext cx="144036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5" name="AutoShape 12"/>
          <p:cNvCxnSpPr/>
          <p:nvPr/>
        </p:nvCxnSpPr>
        <p:spPr>
          <a:xfrm>
            <a:off x="7811640" y="4581360"/>
            <a:ext cx="1080" cy="6483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6" name="AutoShape 13"/>
          <p:cNvCxnSpPr/>
          <p:nvPr/>
        </p:nvCxnSpPr>
        <p:spPr>
          <a:xfrm>
            <a:off x="684360" y="5229360"/>
            <a:ext cx="17992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7" name="AutoShape 14"/>
          <p:cNvCxnSpPr/>
          <p:nvPr/>
        </p:nvCxnSpPr>
        <p:spPr>
          <a:xfrm flipV="1">
            <a:off x="684000" y="4581360"/>
            <a:ext cx="1080" cy="6483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28" name="AutoShape 15"/>
          <p:cNvCxnSpPr/>
          <p:nvPr/>
        </p:nvCxnSpPr>
        <p:spPr>
          <a:xfrm>
            <a:off x="755640" y="2708280"/>
            <a:ext cx="17992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9" name="AutoShape 16"/>
          <p:cNvCxnSpPr>
            <a:stCxn id="119" idx="3"/>
            <a:endCxn id="118" idx="1"/>
          </p:cNvCxnSpPr>
          <p:nvPr/>
        </p:nvCxnSpPr>
        <p:spPr>
          <a:xfrm>
            <a:off x="2935440" y="3968280"/>
            <a:ext cx="53856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30" name="AutoShape 17"/>
          <p:cNvCxnSpPr>
            <a:stCxn id="120" idx="1"/>
            <a:endCxn id="118" idx="3"/>
          </p:cNvCxnSpPr>
          <p:nvPr/>
        </p:nvCxnSpPr>
        <p:spPr>
          <a:xfrm flipH="1">
            <a:off x="5311440" y="3968280"/>
            <a:ext cx="46584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31" name="Rectangle 18"/>
          <p:cNvSpPr/>
          <p:nvPr/>
        </p:nvSpPr>
        <p:spPr>
          <a:xfrm>
            <a:off x="900000" y="0"/>
            <a:ext cx="6985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Основные субъекты франчайз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826920" y="1484280"/>
            <a:ext cx="7293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Эксклюзивное право пользоваться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торговой маркой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«Компьютерная школа «КОМПЬЮТЕРиЯ» для открытия собственного учебного цен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Учебно-Методический Комплекс,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разработанный специалистами Центрального УЦ. В его состав в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тетрадь для учителя с поурочным планиров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тетрадь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сборник компьютерных практик (на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D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сборник практически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мощь в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разработке бизнес-плана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учебного центра, применимого в условиях функционирования в конкретном реги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26920" y="1484280"/>
            <a:ext cx="72932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Маркетинговая поддерж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Маркетинг в центре» - масштабные маркетинговые мероприятия, проводимые Франчайзером (Центральным УЦ) по Ро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едоставление рекламной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казание консультативной помощи в организации и поддержании связей с региональными СМИ и проведении региональных рекламных камп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26920" y="1773360"/>
            <a:ext cx="72932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Обуче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ервоначальный курс обучения, при проведении которого Центральный УЦ передает региональному УЦ свое «ноу-хау» (путем обучения персонала применяемым им самим методам управления и организации процесса обучен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улярное проведение курсов повышения квалификации преподавателей региональных УЦ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755640" y="1989000"/>
            <a:ext cx="729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Консультиров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 оперативному управлению уже работающего Учебного Цент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бухгалтерскому и юридическому сопровож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826920" y="1484280"/>
            <a:ext cx="729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Методическое сопровожд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улярное обновление методик и своевременное предоставление их региональному У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озможность доработки или изменения методик под специфику регионального УЦ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казание консультаций по методическим вопросам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826920" y="1484280"/>
            <a:ext cx="729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Преимуще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лучение испытанных деловых мето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дготовка кад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стойчивая репутация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снижение финансовых рисков в 6-7 раз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482472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инансовая схема франчай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826920" y="1484280"/>
            <a:ext cx="72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расчете на 1 группу учащихся (10 человек) за 1 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71640" y="1989000"/>
          <a:ext cx="6696000" cy="3597480"/>
        </p:xfrm>
        <a:graphic>
          <a:graphicData uri="http://schemas.openxmlformats.org/drawingml/2006/table">
            <a:tbl>
              <a:tblPr/>
              <a:tblGrid>
                <a:gridCol w="4946400"/>
                <a:gridCol w="1749600"/>
              </a:tblGrid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Доход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Плата за обучение (1 чел./мес. - 300 р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 0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Расход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Зарплата персонала (3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9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Налоги и обязательные платежи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Компьютеры (аренда или отчисления на содержание и модернизацию) (3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9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Роялти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Чистая прибыль (20%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6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Какие выгоды получает  фирма «Андреев Софт» </a:t>
            </a:r>
            <a:br>
              <a:rPr sz="4000"/>
            </a:b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от реализации социально-значимых проект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Укрепление репутации, укрепление связей с местным сообществом, улучшение отношений с местной вла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Укрепление отношений с клиентами, улучшение финансовых показателей, получение преимуществ перед конкурент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Повышение лояльности сотрудников, развитие у них новых навыков и умений, выход на новые источники рабочей сил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65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Социальная проблема №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Отсутствие системы обучения школьников в области информационных технологий в рамках государственной образовательной програм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Уровень знаний, получаемых школьниками на уроках информатики, не соответствует нормам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Низкая зарплата учителей в школе ведет к отсутствию их мотивации и заинтересованности в конечном результа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Уровень подготовки учителей информатики ограничивается рамками школьной программы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4. Выход на новые рынки.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5. Снижение рисков, повышение устойчивости при кризис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6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Дополнительные возможности для продвижения своих основных услуг,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,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рекла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7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Приобретение новых партнеров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2492280"/>
            <a:ext cx="8147160" cy="2448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Будем рады сотрудничеств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16000" y="2393640"/>
            <a:ext cx="71294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Решение социальной проблемы № 1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здание эффективной экономической модели платного дополнительного образования детей в области информационных технологий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Компьютерная школа «КОМПЬЮТЕР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Социальная проблема №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Проблема организации загородного отдыха детей в Тверской области во время школьных канику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Снижение финансирования из городского бюджета муниципальных лагерей. Как следствие, приведение в упадок материально-технической базы, закрытие части лагерей, низкий уровень квалификации персона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Государственные деньги – отсутствие ответств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дители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БОЯТС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тправлять своих детей в муниципальные лагер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Отсутствие частных лагерей в Тверской обла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Отсутствие профильных лагерей в Тверской области (лагерей с обучением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116000" y="2393640"/>
            <a:ext cx="71294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Решение социальной проблемы № 2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здание Всесоюзного лагеря информационных технологий 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«КОМПЬЮТЕР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675640" cy="504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1) Создание «Компьютерного клуба»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Игры + 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2) Программа компьютеризации школ 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Курсы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3) 4-х летняя Компьютерная школа –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01.09.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200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истематическое (регулярное)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бразование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4) 4-х летняя Компьютерная школа на базе компьютеров, поставленных в рамках Президентской программы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истематическое (регулярное)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бразование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5) Всесоюзный лагерь информационных технологий «КОМПЬЮТЕРиЯ»–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очетание оздоров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тдыха с обучением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6) Франчайзинговая сеть, 4-х летняя Компьютерная школа и лагерь под общим брендом «КОМПЬЮТЕРиЯ»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1915920"/>
            <a:ext cx="7715160" cy="76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Модель </a:t>
            </a:r>
            <a:br>
              <a:rPr sz="2400"/>
            </a:b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взаимодействия школы и Учебного Цен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83840"/>
            <a:ext cx="8686800" cy="892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4360" y="2781360"/>
          <a:ext cx="7416720" cy="2484360"/>
        </p:xfrm>
        <a:graphic>
          <a:graphicData uri="http://schemas.openxmlformats.org/drawingml/2006/table">
            <a:tbl>
              <a:tblPr/>
              <a:tblGrid>
                <a:gridCol w="2241360"/>
                <a:gridCol w="5175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Шк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Андреев Соф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аби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Электрос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омпьют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Локальная с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Методические матери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Переподготовка преподав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Ремонт и обслуживание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6"/>
          <p:cNvSpPr/>
          <p:nvPr/>
        </p:nvSpPr>
        <p:spPr>
          <a:xfrm>
            <a:off x="108000" y="5438520"/>
            <a:ext cx="8893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ри этом школа ничего не платит фирме, 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а фирма ничего не платит школе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7715160" cy="457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имущ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892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 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68360" y="220500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школы не возникает проблем с техническим обслуживанием техники – все проблемы решает фир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школа всегда имеет самую современную технику, ей не приходится решать проблемы морального старения техники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а компьютерная техника может считаться современной максимум 2 года) – фирма сама меняет технику на более нову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09:40:19Z</dcterms:created>
  <dc:creator>ute</dc:creator>
  <dc:description/>
  <dc:language>en-US</dc:language>
  <cp:lastModifiedBy>LEGION</cp:lastModifiedBy>
  <dcterms:modified xsi:type="dcterms:W3CDTF">2015-04-01T07:41:44Z</dcterms:modified>
  <cp:revision>20</cp:revision>
  <dc:subject/>
  <dc:title>Слайд 1</dc:title>
</cp:coreProperties>
</file>