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CED6-5E88-40F1-82E6-D5D968FDDE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уМ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ела ученица 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жеваткина Анто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27DB-AEBA-4FC0-B335-B6ACC85C20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23E4-2743-4834-9FBB-D16576121F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ир (Комплект Учебных МИР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F713-C061-4B74-B706-024A142D7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0B00-D39D-445E-81A3-6492D13976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2045-1B0F-4D8E-893C-55785E5B2F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A6BD-5939-4262-BD7E-1F2A968EE1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мир работает в операционных системах Windows или Lin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707B-C4F3-4938-BD01-0E77CB7331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598-D18C-4DB8-ABCC-8FB02B00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943-0A0C-4C42-8697-EDD12CA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5E6-017F-4765-9329-BE81270F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936-DE36-4126-8DAE-8D686ECD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1B9-0415-4E9B-A533-6974E9E9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79D-DE8A-4848-BD0F-21DC9AF6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FC7-3757-4038-BE39-E2B1ADEF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753-3459-4B04-BA0C-A4D982FB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E9E-D95F-4437-BF87-894F6CD5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822-08A0-42FB-82C0-3FFAA8DD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223-FC59-4499-B5E3-6A8300AE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BAA-D60F-4A52-9A8B-5510B5CB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F3FE-237C-4B69-86DE-AFE51DBB5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уМи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ела ученица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жеваткина Анто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(Комплект Учебных МИР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7964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4-0"/>
          <p:cNvPicPr/>
          <p:nvPr/>
        </p:nvPicPr>
        <p:blipFill>
          <a:blip r:embed="rId2"/>
          <a:stretch/>
        </p:blipFill>
        <p:spPr>
          <a:xfrm>
            <a:off x="1908000" y="9828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8-0"/>
          <p:cNvPicPr/>
          <p:nvPr/>
        </p:nvPicPr>
        <p:blipFill>
          <a:blip r:embed="rId2"/>
          <a:stretch/>
        </p:blipFill>
        <p:spPr>
          <a:xfrm>
            <a:off x="971640" y="0"/>
            <a:ext cx="705636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age004"/>
          <p:cNvPicPr/>
          <p:nvPr/>
        </p:nvPicPr>
        <p:blipFill>
          <a:blip r:embed="rId2"/>
          <a:stretch/>
        </p:blipFill>
        <p:spPr>
          <a:xfrm>
            <a:off x="755640" y="2647800"/>
            <a:ext cx="7704000" cy="42102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KuMir"/>
          <p:cNvPicPr/>
          <p:nvPr/>
        </p:nvPicPr>
        <p:blipFill>
          <a:blip r:embed="rId2"/>
          <a:stretch/>
        </p:blipFill>
        <p:spPr>
          <a:xfrm>
            <a:off x="250920" y="0"/>
            <a:ext cx="860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%D1%84%D0%BE%D0%BD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работает в операционных системах Windows или Linu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002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age004 (1)"/>
          <p:cNvPicPr/>
          <p:nvPr/>
        </p:nvPicPr>
        <p:blipFill>
          <a:blip r:embed="rId2"/>
          <a:stretch/>
        </p:blipFill>
        <p:spPr>
          <a:xfrm>
            <a:off x="0" y="34452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56:46Z</dcterms:created>
  <dc:creator>Portable</dc:creator>
  <dc:description/>
  <dc:language>en-US</dc:language>
  <cp:lastModifiedBy>LEGION</cp:lastModifiedBy>
  <dcterms:modified xsi:type="dcterms:W3CDTF">2015-04-01T07:42:03Z</dcterms:modified>
  <cp:revision>11</cp:revision>
  <dc:subject/>
  <dc:title>Слайд 1</dc:title>
</cp:coreProperties>
</file>