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9647-AD9A-4677-83F2-F7F05AB867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уМ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ела ученица 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жеваткина Анто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8583-F693-4C70-ADDA-D3C1F2DD78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4815-F59B-4B4A-AE36-322D4891F6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ир (Комплект Учебных МИР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397D-12C0-402E-9597-76AB95F186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89E6-17ED-49F1-9412-9C856E4BC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2C7-5B65-4F04-A1F1-A336EF88A8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232C-2E6A-46CE-AE00-EA2BFA2D54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мир работает в операционных системах Windows или Lin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3922-0537-494A-BA05-2278B198E3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F57-D1E8-4612-B47E-DEEF61BF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D86-F473-420C-8B4B-00BBB352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2AA-7C2D-4850-994D-D6EC8637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604-144C-4FEB-861D-B0BF915B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5E6-75D0-49F0-AE2D-185FD917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EC8-9AED-4B04-93B4-05D2AD3D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866-CF33-438A-A1FD-FC48366C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6B9-6A95-49CF-90C8-2A97D8E5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FBE-C5FB-4DF7-9CB0-891DAFBC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B79-4C15-46BB-B62A-455482FE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37D-5DE0-46E8-8516-0531AEF9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14C-13F7-4D40-8FDB-666CA628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6E2B-2781-43CA-B586-E7C289F2A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уМи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ела ученица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жеваткина Анто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(Комплект Учебных МИР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7964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4-0"/>
          <p:cNvPicPr/>
          <p:nvPr/>
        </p:nvPicPr>
        <p:blipFill>
          <a:blip r:embed="rId2"/>
          <a:stretch/>
        </p:blipFill>
        <p:spPr>
          <a:xfrm>
            <a:off x="1908000" y="9828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8-0"/>
          <p:cNvPicPr/>
          <p:nvPr/>
        </p:nvPicPr>
        <p:blipFill>
          <a:blip r:embed="rId2"/>
          <a:stretch/>
        </p:blipFill>
        <p:spPr>
          <a:xfrm>
            <a:off x="971640" y="0"/>
            <a:ext cx="705636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age004"/>
          <p:cNvPicPr/>
          <p:nvPr/>
        </p:nvPicPr>
        <p:blipFill>
          <a:blip r:embed="rId2"/>
          <a:stretch/>
        </p:blipFill>
        <p:spPr>
          <a:xfrm>
            <a:off x="755640" y="2647800"/>
            <a:ext cx="7704000" cy="42102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KuMir"/>
          <p:cNvPicPr/>
          <p:nvPr/>
        </p:nvPicPr>
        <p:blipFill>
          <a:blip r:embed="rId2"/>
          <a:stretch/>
        </p:blipFill>
        <p:spPr>
          <a:xfrm>
            <a:off x="250920" y="0"/>
            <a:ext cx="860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%D1%84%D0%BE%D0%BD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работает в операционных системах Windows или Linu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002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age004 (1)"/>
          <p:cNvPicPr/>
          <p:nvPr/>
        </p:nvPicPr>
        <p:blipFill>
          <a:blip r:embed="rId2"/>
          <a:stretch/>
        </p:blipFill>
        <p:spPr>
          <a:xfrm>
            <a:off x="0" y="34452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56:46Z</dcterms:created>
  <dc:creator>Portable</dc:creator>
  <dc:description/>
  <dc:language>en-US</dc:language>
  <cp:lastModifiedBy>LEGION</cp:lastModifiedBy>
  <dcterms:modified xsi:type="dcterms:W3CDTF">2015-04-01T07:42:03Z</dcterms:modified>
  <cp:revision>11</cp:revision>
  <dc:subject/>
  <dc:title>Слайд 1</dc:title>
</cp:coreProperties>
</file>