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5.jpeg" ContentType="image/jpe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32.wmf" ContentType="image/x-wmf"/>
  <Override PartName="/ppt/media/image12.png" ContentType="image/png"/>
  <Override PartName="/ppt/media/image10.png" ContentType="image/png"/>
  <Override PartName="/ppt/media/image11.png" ContentType="image/png"/>
  <Override PartName="/ppt/media/image34.wmf" ContentType="image/x-wmf"/>
  <Override PartName="/ppt/media/image7.png" ContentType="image/png"/>
  <Override PartName="/ppt/media/image35.wmf" ContentType="image/x-wmf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FE58-E960-43E0-9CEE-B269F52701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пособы представления учеб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90E6-27D1-4A38-8626-7C496EB00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Результат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4154-88EA-467B-A9C4-ED18C9FDF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олее точ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берите глаголы, связывающие ключевое понятие и его существенные призна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ируйте в прямоугольниках следующего уровн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выбранных вами глаго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более полного раскрытия ключевого по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едованием име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го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D77-77B9-4DFF-88AB-084F3F6727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8412-066D-438C-A3CD-60990ADFB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группы причин распределяют как рыбий ске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ACD3-33B0-4A34-ADA9-465045D7D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«шести 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существуют следующие шесть возможных причин тех или ины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teria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chin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asur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C68E-F35D-4412-8ACE-BA77C7981C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0038-9D0E-45A7-8EF4-7F8AB426F7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, интеллект-карта или ментальная карта (Mind maps) – э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 изображения информации в графическом виде, отражающая связ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мысловые, ассоциативные, причинно-следственные и други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жду понятиями, частями, составляющ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ой области, которую мы изучаем (рассматрива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 строгих прави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я интеллект-карт, как нет и неправильных ка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9DA7-A036-4F9A-856C-3DF248014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изаци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2BB3-7D17-4E88-8D6E-4E8B6199D2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. 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5A8B-D8E7-429B-9A8C-5B55EA8067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ь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 (коллективное творчество, мозговой штур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ирование или аннотирование текстовых матери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думывание проблем, анализ слож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AE93-0598-4F06-B74F-BF968A35D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графических сх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графических сх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схем-опорных консп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025B-8136-4A8E-BFFF-DE4AB0DF7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и графических сх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ют представить тему целиком, наглядно и понят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обеспечивает повышение мотивация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готовые графические схемы (в учебниках или на плакатах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ь графические схемы непосредственно на уроке по ходу изложения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8D74-005D-4A62-A76B-B12A012C2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ческие схемы использую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ложении нов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мысления и закрепления изучаем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бщении и систематизации изучен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апе контроля знаний, умений и навыков, присвоенных уче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E38E-B61D-43E5-A038-E1A95E27B3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запоми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7E35-BAAE-4BFC-958D-640F3BDDAE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аглядности  – инструмент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наглядно-образ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я навыков работы с графической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ации внимания при усвоении учеб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ации учебно-познаватель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и изучаемых вопро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й систематиза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73E8-886F-4F9A-ABEC-A69F6BF9C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br>
              <a:rPr sz="11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осмысленно учить материал, выделяя в нем главное и отбрасывая второстепенно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построения рассказа, ответа, речи, аргументирования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2ADD-6035-4B6A-A71D-935B2CE25E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кластер» происходит от английского «cluster» – гроздь,  скоп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строении клас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нтральном ова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ют ключевое понят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валах втор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нятия, раскрывающие смысл ключев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овалах третье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детализация понятий, упомянутых на предыдуще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D9E3-3F0D-4CF8-BC19-D2B07D562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достающие надписи в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958D-8CBD-41FE-A24A-81289A5CA1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2274-7576-4464-A7F3-B32788DA1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Методика постро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располагают ключевое поняти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располагают в центральном ова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понятия раскрывают смысл ключевого понятия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 эти понятия мы разместим на схем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е из понятий второго уровня детализировано в данном фрагмент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ьзовательский интерфей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ответствующую информацию разместим в овалах третье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3B2E-0785-4AF2-A919-2B85F93302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FA3-C1BF-412F-B5B8-6F8B53E0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226-1207-43FB-B2FF-538A592E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E27-43A1-4557-AB46-1C95F153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A63-873D-43D0-9934-755507B2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D3A1-40CF-484A-A101-B22D5592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8536-579B-4BDA-B87B-1FD3C262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848A-09B2-4EF4-8A3C-CB7FEDDB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0DD1-5ED4-4B40-A1CA-411EC9FD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E7DE-D070-4132-9500-FD54B32E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7BE3-0A45-45CE-A905-02ADA009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74F7-0973-4F4A-9BF4-6FF14C29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E01-848E-459B-91AF-838FDC08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C57E-B4CF-4552-94B6-303F9574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6FEB-29DC-4319-9D6E-175AA0F6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29F2-FF44-4FF9-B540-35641189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FD15-8816-4EC6-904F-C2DDAAAB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4212-E90C-49D8-BB1F-301FEA5F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15BCE-0175-4150-B9CB-AB3C4708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776F0-1FB3-4403-9C99-8546D1BD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01D91-F967-4DE0-9392-2B24FEF1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966C9-DA7D-4861-8C29-BE87D827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DD7BB-A6C5-4D12-B49F-B5012C0D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4B03-4FCF-47D8-9946-BF00059E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E8FB-0833-4F3B-97B5-AA58A8F3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DD70-9564-44F4-8F72-B2E4DA4B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36350-E70D-4800-A724-B72ACA41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DE5EA-20C0-4BF7-A030-D6CB78E8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CB5E9-0E4D-4117-A5E6-93DCA743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2DF71-6791-4561-A810-B47684E9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53B93-B3B2-4818-B301-B676873B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DE156-2592-4E1A-A32F-C3E1D710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7007C-2C0A-42F5-A764-F9AF06DA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E1A7A-8BA4-423C-8FF7-84CC3CE4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5A88-5750-454C-80B9-08364A26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CE592-EAB3-4BD4-9C04-F344A096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603BA-1B50-4024-8B28-07C6D0E2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DD375-83E6-4259-A084-26273123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01BCF-F97B-4EC6-B3FF-127F496D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A65E-6BD8-44C3-8949-AE1D7D11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65E74-719F-4860-965B-0EEAC066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E14B6-DB91-4AA7-9F5A-E928F706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77272-9432-4F54-A97B-AAA80C98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95EE9-ADF0-441C-9392-6C9C8E82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E1E15-670F-4600-A4A8-B13FB39D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812-A6C1-4F5A-8812-96C1295B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67E09-7293-4889-AD72-49D171E5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A3589-F8BF-4C76-9E9B-06F5C00C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36972-40C1-4EC9-B0B2-B3053F4A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6FAB-D386-41D0-9D19-9C699AC0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6D2EB-A8CF-4EFC-84D8-0820B9B1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D3CA5-D478-4712-A4E8-A9B074CA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2C81C-39A1-4A9D-B38D-C5295C7C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E2360-A01B-4EC2-8042-CA0470DA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A0A18-AF0C-4927-A0B1-F320F22E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0CAAE-0871-4F39-AB9F-CD697BE7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F2A-14C5-412C-8C8B-C9D8F93F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952F5-E16F-4BD1-AF21-433C4903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BE019-3A21-48BC-8712-85909D18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07D8-927B-4FAD-9600-4BE29435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F7023-2730-4B26-B795-DD3BB72C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145E0-31CA-4B3F-9FAA-93920FD2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C5689-DE38-4101-9A6F-4D414F63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A665F-892C-401E-9914-3BC14F37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7A1F3-12D7-40A8-AF64-B5BCA11D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E666C-AEDB-4DBC-AE0A-46E097D0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CD5BE-12F4-4B3C-9D53-2B3F6D9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29A-BF11-450A-9191-17E7F826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0E88E-88FD-4982-B38B-ECBC737C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0F2D7-5D33-4909-951C-26FA658B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C35FB-017B-460C-B5A2-DAF4BBBD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6312C-1B05-4BC4-AEAF-1368F8A7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B170D-047D-4B70-881E-62A40A38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9AFD7-5765-4C9E-B8F6-BA9C4590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A895F-6C40-4E5A-B186-5B3E2E46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FDC23-E75C-4838-8A71-708F9842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817A1-70CB-4F35-89BF-42348C54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5DB07-EEF4-4405-8775-9B5687C2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704-060E-43CC-8E1F-25928892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B12DA-B0E7-4E1A-B086-BCE8A15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B80BC-A5C7-43DB-9383-24F5BCF1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A006D-1BE3-4615-A81C-7DB170D7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B2841-6EA8-4DAC-A555-2747002E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07833-342A-4E07-AF89-16939BF0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F0735-C4E8-4C59-983F-E4416146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77F6F-5131-4DC4-BFEC-8946DA66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59E59-0179-4B53-A295-5F377FD4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89BD1-FA8F-45BC-A8ED-18274BB8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68E7F-BF17-459D-B693-78E44AAE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52F-BBDF-485E-AFBF-478F5658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216D7-D5D0-4715-BC91-9935A610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0C9AD-F21D-4409-BD05-5B4F3B16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6AD66-030A-4174-86C8-7E72AE3E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09B43-8BCA-4818-AED4-00BF16D6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E6B27-F2BC-49F4-94C8-B2E56979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D636F-7A07-407D-AB98-005081D1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A26BD-342C-461E-9FE1-CC523EF3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9E22-4F62-4852-BDC3-E060782FEEB0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6314-2736-48A9-9F89-32980C08CF4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0D28-595F-4476-AC95-156E07B1DBB3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f0f4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464A-0CC7-439E-A883-95AEA1FD328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A1A5-DA89-4078-A1DF-BC02EFB6AF22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7D8C-200F-479D-B0F2-5E3B1D8FDE7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9672-F4B4-45AB-A762-6658F693FDEC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556F-2182-428D-9DF2-DD6E8FEB38E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21E3-CB5C-4161-A543-0BAF3DD9AB68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B1D3-8AC1-48F1-A452-D787392C32B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74C6-0CFD-4B1D-93C0-00C4BF48B5E8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2463-3356-4086-9D0F-C790C59E9BC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7CAF-C712-4DDC-98A0-5FDDEC508725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855A-9FC2-4C05-927A-6F8C48CCB03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CA81-C54C-40A6-8D24-68F6FF243F32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D45C-A777-4CAD-A804-73ABDF7498D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000080" y="1633680"/>
            <a:ext cx="8199360" cy="2536560"/>
          </a:xfrm>
          <a:prstGeom prst="rect">
            <a:avLst/>
          </a:prstGeom>
          <a:ln w="0">
            <a:noFill/>
          </a:ln>
        </p:spPr>
      </p:pic>
      <p:sp>
        <p:nvSpPr>
          <p:cNvPr id="378" name="Подзаголовок 2"/>
          <p:cNvSpPr/>
          <p:nvPr/>
        </p:nvSpPr>
        <p:spPr>
          <a:xfrm>
            <a:off x="714240" y="1429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Lucida Sans Unicode"/>
              </a:rPr>
              <a:t>Босова Людмил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kulll@mail.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3"/>
          <p:cNvGrpSpPr/>
          <p:nvPr/>
        </p:nvGrpSpPr>
        <p:grpSpPr>
          <a:xfrm>
            <a:off x="642960" y="1214280"/>
            <a:ext cx="7429320" cy="4357440"/>
            <a:chOff x="642960" y="1214280"/>
            <a:chExt cx="7429320" cy="4357440"/>
          </a:xfrm>
        </p:grpSpPr>
        <p:grpSp>
          <p:nvGrpSpPr>
            <p:cNvPr id="450" name="Group 14"/>
            <p:cNvGrpSpPr/>
            <p:nvPr/>
          </p:nvGrpSpPr>
          <p:grpSpPr>
            <a:xfrm>
              <a:off x="1357200" y="1214280"/>
              <a:ext cx="6512400" cy="3445920"/>
              <a:chOff x="1357200" y="1214280"/>
              <a:chExt cx="6512400" cy="3445920"/>
            </a:xfrm>
          </p:grpSpPr>
          <p:sp>
            <p:nvSpPr>
              <p:cNvPr id="451" name="Oval 15"/>
              <p:cNvSpPr/>
              <p:nvPr/>
            </p:nvSpPr>
            <p:spPr>
              <a:xfrm>
                <a:off x="3666960" y="2451600"/>
                <a:ext cx="1857240" cy="879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16"/>
              <p:cNvSpPr/>
              <p:nvPr/>
            </p:nvSpPr>
            <p:spPr>
              <a:xfrm>
                <a:off x="3916800" y="2591280"/>
                <a:ext cx="128592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нтерфей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17"/>
              <p:cNvSpPr/>
              <p:nvPr/>
            </p:nvSpPr>
            <p:spPr>
              <a:xfrm>
                <a:off x="1369080" y="254700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18"/>
              <p:cNvSpPr/>
              <p:nvPr/>
            </p:nvSpPr>
            <p:spPr>
              <a:xfrm>
                <a:off x="1357200" y="2754360"/>
                <a:ext cx="14166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9"/>
              <p:cNvSpPr/>
              <p:nvPr/>
            </p:nvSpPr>
            <p:spPr>
              <a:xfrm>
                <a:off x="3835800" y="121428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0"/>
              <p:cNvSpPr/>
              <p:nvPr/>
            </p:nvSpPr>
            <p:spPr>
              <a:xfrm>
                <a:off x="3717000" y="1307520"/>
                <a:ext cx="1619280" cy="62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о-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1"/>
              <p:cNvSpPr/>
              <p:nvPr/>
            </p:nvSpPr>
            <p:spPr>
              <a:xfrm>
                <a:off x="6476760" y="2340000"/>
                <a:ext cx="1357200" cy="828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22"/>
              <p:cNvSpPr/>
              <p:nvPr/>
            </p:nvSpPr>
            <p:spPr>
              <a:xfrm>
                <a:off x="6512400" y="2573280"/>
                <a:ext cx="13572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3"/>
              <p:cNvSpPr/>
              <p:nvPr/>
            </p:nvSpPr>
            <p:spPr>
              <a:xfrm>
                <a:off x="3856680" y="3831840"/>
                <a:ext cx="150012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4"/>
              <p:cNvSpPr/>
              <p:nvPr/>
            </p:nvSpPr>
            <p:spPr>
              <a:xfrm>
                <a:off x="3761280" y="4064760"/>
                <a:ext cx="176184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льзовательски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25"/>
              <p:cNvSpPr/>
              <p:nvPr/>
            </p:nvSpPr>
            <p:spPr>
              <a:xfrm flipV="1">
                <a:off x="4536000" y="2042640"/>
                <a:ext cx="0" cy="40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6"/>
              <p:cNvSpPr/>
              <p:nvPr/>
            </p:nvSpPr>
            <p:spPr>
              <a:xfrm flipH="1">
                <a:off x="2738160" y="2909520"/>
                <a:ext cx="91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27"/>
              <p:cNvSpPr/>
              <p:nvPr/>
            </p:nvSpPr>
            <p:spPr>
              <a:xfrm>
                <a:off x="5512320" y="2857680"/>
                <a:ext cx="96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28"/>
              <p:cNvSpPr/>
              <p:nvPr/>
            </p:nvSpPr>
            <p:spPr>
              <a:xfrm>
                <a:off x="4619520" y="3362400"/>
                <a:ext cx="0" cy="47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Oval 29"/>
            <p:cNvSpPr/>
            <p:nvPr/>
          </p:nvSpPr>
          <p:spPr>
            <a:xfrm>
              <a:off x="642960" y="474372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30"/>
            <p:cNvSpPr/>
            <p:nvPr/>
          </p:nvSpPr>
          <p:spPr>
            <a:xfrm>
              <a:off x="3893400" y="492516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1"/>
            <p:cNvSpPr/>
            <p:nvPr/>
          </p:nvSpPr>
          <p:spPr>
            <a:xfrm>
              <a:off x="6512760" y="471780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32"/>
            <p:cNvSpPr/>
            <p:nvPr/>
          </p:nvSpPr>
          <p:spPr>
            <a:xfrm flipH="1">
              <a:off x="1702440" y="4316760"/>
              <a:ext cx="215496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33"/>
            <p:cNvSpPr/>
            <p:nvPr/>
          </p:nvSpPr>
          <p:spPr>
            <a:xfrm>
              <a:off x="5333760" y="4251960"/>
              <a:ext cx="2059920" cy="4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34"/>
            <p:cNvSpPr/>
            <p:nvPr/>
          </p:nvSpPr>
          <p:spPr>
            <a:xfrm>
              <a:off x="4619520" y="467928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5"/>
            <p:cNvSpPr/>
            <p:nvPr/>
          </p:nvSpPr>
          <p:spPr>
            <a:xfrm>
              <a:off x="842760" y="4782600"/>
              <a:ext cx="1214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на основе мен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6"/>
            <p:cNvSpPr/>
            <p:nvPr/>
          </p:nvSpPr>
          <p:spPr>
            <a:xfrm>
              <a:off x="3938400" y="4989600"/>
              <a:ext cx="1357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графиче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7"/>
            <p:cNvSpPr/>
            <p:nvPr/>
          </p:nvSpPr>
          <p:spPr>
            <a:xfrm>
              <a:off x="6522120" y="4769640"/>
              <a:ext cx="1452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трехмер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28400" y="857160"/>
            <a:ext cx="84294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делите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ключевое понятие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ак можно более точно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одберите глаголы, связывающие ключевое понятие и его существенные признаки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онкретизируйте в прямоугольниках следующего уровня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смысл выбранных вами глаголов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для более полного раскрытия ключевого понятия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ледите за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чередованием имени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глагола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1"/>
          <p:cNvGraphicFramePr/>
          <p:nvPr/>
        </p:nvGraphicFramePr>
        <p:xfrm>
          <a:off x="214200" y="1071720"/>
          <a:ext cx="8643960" cy="47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071720"/>
                    <a:ext cx="864396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сновные группы причин распределяют как рыбий скелет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2"/>
          <a:stretch/>
        </p:blipFill>
        <p:spPr>
          <a:xfrm>
            <a:off x="6645240" y="5645160"/>
            <a:ext cx="2084400" cy="852480"/>
          </a:xfrm>
          <a:prstGeom prst="rect">
            <a:avLst/>
          </a:prstGeom>
          <a:ln w="0">
            <a:noFill/>
          </a:ln>
        </p:spPr>
      </p:pic>
      <p:sp>
        <p:nvSpPr>
          <p:cNvPr id="49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143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 общем случае существуют следующие шесть возможных причин тех или иных результатов: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атериал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terial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оборудова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chine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измере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тод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thod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люди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неджмент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ag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8"/>
          <p:cNvGrpSpPr/>
          <p:nvPr/>
        </p:nvGrpSpPr>
        <p:grpSpPr>
          <a:xfrm>
            <a:off x="1000080" y="3429000"/>
            <a:ext cx="7571520" cy="2927520"/>
            <a:chOff x="1000080" y="3429000"/>
            <a:chExt cx="7571520" cy="2927520"/>
          </a:xfrm>
        </p:grpSpPr>
        <p:sp>
          <p:nvSpPr>
            <p:cNvPr id="497" name="Line 49"/>
            <p:cNvSpPr/>
            <p:nvPr/>
          </p:nvSpPr>
          <p:spPr>
            <a:xfrm>
              <a:off x="4716360" y="52887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50"/>
            <p:cNvSpPr/>
            <p:nvPr/>
          </p:nvSpPr>
          <p:spPr>
            <a:xfrm>
              <a:off x="4446720" y="55540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1"/>
            <p:cNvSpPr/>
            <p:nvPr/>
          </p:nvSpPr>
          <p:spPr>
            <a:xfrm>
              <a:off x="3941640" y="545220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52"/>
            <p:cNvGrpSpPr/>
            <p:nvPr/>
          </p:nvGrpSpPr>
          <p:grpSpPr>
            <a:xfrm>
              <a:off x="1000080" y="3429000"/>
              <a:ext cx="7571520" cy="2927520"/>
              <a:chOff x="1000080" y="3429000"/>
              <a:chExt cx="7571520" cy="2927520"/>
            </a:xfrm>
          </p:grpSpPr>
          <p:grpSp>
            <p:nvGrpSpPr>
              <p:cNvPr id="501" name="Group 53"/>
              <p:cNvGrpSpPr/>
              <p:nvPr/>
            </p:nvGrpSpPr>
            <p:grpSpPr>
              <a:xfrm>
                <a:off x="1795680" y="3690000"/>
                <a:ext cx="6775920" cy="2355840"/>
                <a:chOff x="1795680" y="3690000"/>
                <a:chExt cx="6775920" cy="2355840"/>
              </a:xfrm>
            </p:grpSpPr>
            <p:grpSp>
              <p:nvGrpSpPr>
                <p:cNvPr id="502" name="Group 54"/>
                <p:cNvGrpSpPr/>
                <p:nvPr/>
              </p:nvGrpSpPr>
              <p:grpSpPr>
                <a:xfrm>
                  <a:off x="2098800" y="3974040"/>
                  <a:ext cx="6472800" cy="1734120"/>
                  <a:chOff x="2098800" y="3974040"/>
                  <a:chExt cx="6472800" cy="1734120"/>
                </a:xfrm>
              </p:grpSpPr>
              <p:sp>
                <p:nvSpPr>
                  <p:cNvPr id="503" name="Line 55"/>
                  <p:cNvSpPr/>
                  <p:nvPr/>
                </p:nvSpPr>
                <p:spPr>
                  <a:xfrm>
                    <a:off x="2098800" y="4866120"/>
                    <a:ext cx="4951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utoShape 56"/>
                  <p:cNvSpPr/>
                  <p:nvPr/>
                </p:nvSpPr>
                <p:spPr>
                  <a:xfrm rot="5400000">
                    <a:off x="6953040" y="4089600"/>
                    <a:ext cx="1734120" cy="1503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Text Box 57"/>
                  <p:cNvSpPr/>
                  <p:nvPr/>
                </p:nvSpPr>
                <p:spPr>
                  <a:xfrm>
                    <a:off x="6999840" y="4559400"/>
                    <a:ext cx="1515960" cy="59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изкая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100" spc="-1" strike="noStrike">
                        <a:solidFill>
                          <a:srgbClr val="000000"/>
                        </a:solidFill>
                        <a:latin typeface="Calibri"/>
                      </a:rPr>
                      <a:t>успеваемость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Line 58"/>
                <p:cNvSpPr/>
                <p:nvPr/>
              </p:nvSpPr>
              <p:spPr>
                <a:xfrm>
                  <a:off x="5117760" y="369000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59"/>
                <p:cNvSpPr/>
                <p:nvPr/>
              </p:nvSpPr>
              <p:spPr>
                <a:xfrm>
                  <a:off x="3930480" y="370008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60"/>
                <p:cNvSpPr/>
                <p:nvPr/>
              </p:nvSpPr>
              <p:spPr>
                <a:xfrm>
                  <a:off x="2667240" y="370008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1"/>
                <p:cNvSpPr/>
                <p:nvPr/>
              </p:nvSpPr>
              <p:spPr>
                <a:xfrm flipV="1">
                  <a:off x="2654640" y="48423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62"/>
                <p:cNvSpPr/>
                <p:nvPr/>
              </p:nvSpPr>
              <p:spPr>
                <a:xfrm flipV="1">
                  <a:off x="3892320" y="48729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3"/>
                <p:cNvSpPr/>
                <p:nvPr/>
              </p:nvSpPr>
              <p:spPr>
                <a:xfrm flipV="1">
                  <a:off x="5054760" y="487296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64"/>
                <p:cNvSpPr/>
                <p:nvPr/>
              </p:nvSpPr>
              <p:spPr>
                <a:xfrm>
                  <a:off x="1795680" y="457740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65"/>
                <p:cNvSpPr/>
                <p:nvPr/>
              </p:nvSpPr>
              <p:spPr>
                <a:xfrm flipV="1">
                  <a:off x="1833480" y="483228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Text Box 66"/>
              <p:cNvSpPr/>
              <p:nvPr/>
            </p:nvSpPr>
            <p:spPr>
              <a:xfrm>
                <a:off x="3475800" y="4910040"/>
                <a:ext cx="241272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Учебный процес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7"/>
              <p:cNvSpPr/>
              <p:nvPr/>
            </p:nvSpPr>
            <p:spPr>
              <a:xfrm>
                <a:off x="3492720" y="6071040"/>
                <a:ext cx="921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Люд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68"/>
              <p:cNvSpPr/>
              <p:nvPr/>
            </p:nvSpPr>
            <p:spPr>
              <a:xfrm>
                <a:off x="5168520" y="3481200"/>
                <a:ext cx="135072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атериал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69"/>
              <p:cNvSpPr/>
              <p:nvPr/>
            </p:nvSpPr>
            <p:spPr>
              <a:xfrm>
                <a:off x="5055120" y="6034320"/>
                <a:ext cx="166788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Оборудова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70"/>
              <p:cNvSpPr/>
              <p:nvPr/>
            </p:nvSpPr>
            <p:spPr>
              <a:xfrm>
                <a:off x="1163160" y="3429000"/>
                <a:ext cx="1515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змер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71"/>
              <p:cNvSpPr/>
              <p:nvPr/>
            </p:nvSpPr>
            <p:spPr>
              <a:xfrm>
                <a:off x="3349440" y="3516120"/>
                <a:ext cx="102384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то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2"/>
              <p:cNvSpPr/>
              <p:nvPr/>
            </p:nvSpPr>
            <p:spPr>
              <a:xfrm>
                <a:off x="1000080" y="6024600"/>
                <a:ext cx="166644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неджмен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Text Box 73"/>
            <p:cNvSpPr/>
            <p:nvPr/>
          </p:nvSpPr>
          <p:spPr>
            <a:xfrm>
              <a:off x="4435560" y="567432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оди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4"/>
            <p:cNvSpPr/>
            <p:nvPr/>
          </p:nvSpPr>
          <p:spPr>
            <a:xfrm>
              <a:off x="4862160" y="529920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5"/>
            <p:cNvSpPr/>
            <p:nvPr/>
          </p:nvSpPr>
          <p:spPr>
            <a:xfrm>
              <a:off x="3175920" y="5319360"/>
              <a:ext cx="92052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ител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6"/>
            <p:cNvSpPr/>
            <p:nvPr/>
          </p:nvSpPr>
          <p:spPr>
            <a:xfrm>
              <a:off x="5872680" y="5309280"/>
              <a:ext cx="381600" cy="34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77"/>
            <p:cNvSpPr/>
            <p:nvPr/>
          </p:nvSpPr>
          <p:spPr>
            <a:xfrm>
              <a:off x="5827680" y="565596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78"/>
            <p:cNvSpPr/>
            <p:nvPr/>
          </p:nvSpPr>
          <p:spPr>
            <a:xfrm flipH="1">
              <a:off x="6030000" y="428904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79"/>
            <p:cNvSpPr/>
            <p:nvPr/>
          </p:nvSpPr>
          <p:spPr>
            <a:xfrm>
              <a:off x="6007680" y="4044240"/>
              <a:ext cx="102168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б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80"/>
            <p:cNvSpPr/>
            <p:nvPr/>
          </p:nvSpPr>
          <p:spPr>
            <a:xfrm flipH="1">
              <a:off x="4671360" y="41464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1"/>
            <p:cNvSpPr/>
            <p:nvPr/>
          </p:nvSpPr>
          <p:spPr>
            <a:xfrm flipH="1">
              <a:off x="5041800" y="45136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82"/>
            <p:cNvSpPr/>
            <p:nvPr/>
          </p:nvSpPr>
          <p:spPr>
            <a:xfrm>
              <a:off x="5097960" y="4360680"/>
              <a:ext cx="80820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рие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83"/>
            <p:cNvSpPr/>
            <p:nvPr/>
          </p:nvSpPr>
          <p:spPr>
            <a:xfrm>
              <a:off x="4604040" y="3940200"/>
              <a:ext cx="81936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Фор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84"/>
            <p:cNvSpPr/>
            <p:nvPr/>
          </p:nvSpPr>
          <p:spPr>
            <a:xfrm flipV="1">
              <a:off x="4547880" y="4513680"/>
              <a:ext cx="23256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85"/>
            <p:cNvSpPr/>
            <p:nvPr/>
          </p:nvSpPr>
          <p:spPr>
            <a:xfrm>
              <a:off x="3582360" y="4289040"/>
              <a:ext cx="976680" cy="417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Домашня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бо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86"/>
            <p:cNvSpPr/>
            <p:nvPr/>
          </p:nvSpPr>
          <p:spPr>
            <a:xfrm flipV="1">
              <a:off x="2583000" y="384012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87"/>
            <p:cNvSpPr/>
            <p:nvPr/>
          </p:nvSpPr>
          <p:spPr>
            <a:xfrm flipV="1">
              <a:off x="2998440" y="422784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88"/>
            <p:cNvSpPr/>
            <p:nvPr/>
          </p:nvSpPr>
          <p:spPr>
            <a:xfrm>
              <a:off x="1437840" y="393228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нтрольн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89"/>
            <p:cNvSpPr/>
            <p:nvPr/>
          </p:nvSpPr>
          <p:spPr>
            <a:xfrm>
              <a:off x="2392200" y="4370760"/>
              <a:ext cx="6847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с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90"/>
            <p:cNvSpPr/>
            <p:nvPr/>
          </p:nvSpPr>
          <p:spPr>
            <a:xfrm>
              <a:off x="2897280" y="51969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91"/>
            <p:cNvSpPr/>
            <p:nvPr/>
          </p:nvSpPr>
          <p:spPr>
            <a:xfrm>
              <a:off x="2481840" y="56458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92"/>
            <p:cNvSpPr/>
            <p:nvPr/>
          </p:nvSpPr>
          <p:spPr>
            <a:xfrm>
              <a:off x="2032920" y="4972680"/>
              <a:ext cx="1145160" cy="27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жим д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93"/>
            <p:cNvSpPr/>
            <p:nvPr/>
          </p:nvSpPr>
          <p:spPr>
            <a:xfrm>
              <a:off x="1482480" y="5380560"/>
              <a:ext cx="1066320" cy="44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спис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ро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1000080" y="2000160"/>
            <a:ext cx="7143840" cy="2700360"/>
            <a:chOff x="1000080" y="2000160"/>
            <a:chExt cx="7143840" cy="2700360"/>
          </a:xfrm>
        </p:grpSpPr>
        <p:sp>
          <p:nvSpPr>
            <p:cNvPr id="547" name="AutoShape 3"/>
            <p:cNvSpPr/>
            <p:nvPr/>
          </p:nvSpPr>
          <p:spPr>
            <a:xfrm rot="5400000">
              <a:off x="6309360" y="2865960"/>
              <a:ext cx="2197440" cy="1471680"/>
            </a:xfrm>
            <a:prstGeom prst="triangle">
              <a:avLst>
                <a:gd name="adj" fmla="val 50000"/>
              </a:avLst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"/>
            <p:cNvSpPr/>
            <p:nvPr/>
          </p:nvSpPr>
          <p:spPr>
            <a:xfrm>
              <a:off x="6641640" y="3143520"/>
              <a:ext cx="13593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Достоинства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 и недостатки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графических 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хе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"/>
            <p:cNvSpPr/>
            <p:nvPr/>
          </p:nvSpPr>
          <p:spPr>
            <a:xfrm>
              <a:off x="1613160" y="3485160"/>
              <a:ext cx="504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6"/>
            <p:cNvSpPr/>
            <p:nvPr/>
          </p:nvSpPr>
          <p:spPr>
            <a:xfrm>
              <a:off x="56296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7"/>
            <p:cNvSpPr/>
            <p:nvPr/>
          </p:nvSpPr>
          <p:spPr>
            <a:xfrm>
              <a:off x="46792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8"/>
            <p:cNvSpPr/>
            <p:nvPr/>
          </p:nvSpPr>
          <p:spPr>
            <a:xfrm>
              <a:off x="3697920" y="2409480"/>
              <a:ext cx="909360" cy="10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9"/>
            <p:cNvSpPr/>
            <p:nvPr/>
          </p:nvSpPr>
          <p:spPr>
            <a:xfrm>
              <a:off x="2941560" y="249120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0"/>
            <p:cNvSpPr/>
            <p:nvPr/>
          </p:nvSpPr>
          <p:spPr>
            <a:xfrm flipH="1">
              <a:off x="3043800" y="348516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1"/>
            <p:cNvSpPr/>
            <p:nvPr/>
          </p:nvSpPr>
          <p:spPr>
            <a:xfrm flipH="1">
              <a:off x="5087880" y="347364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4147920" y="2479320"/>
              <a:ext cx="12045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Нагляд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360600" y="2000160"/>
              <a:ext cx="13284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Компакт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1695600" y="2010960"/>
              <a:ext cx="12366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бозрим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2451240" y="2468520"/>
              <a:ext cx="1328400" cy="4082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Разнообраз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6"/>
            <p:cNvSpPr/>
            <p:nvPr/>
          </p:nvSpPr>
          <p:spPr>
            <a:xfrm>
              <a:off x="5373360" y="2070000"/>
              <a:ext cx="18190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Привлекате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7"/>
            <p:cNvSpPr/>
            <p:nvPr/>
          </p:nvSpPr>
          <p:spPr>
            <a:xfrm>
              <a:off x="4136760" y="4151520"/>
              <a:ext cx="187164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точ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8"/>
            <p:cNvSpPr/>
            <p:nvPr/>
          </p:nvSpPr>
          <p:spPr>
            <a:xfrm>
              <a:off x="1602720" y="4162680"/>
              <a:ext cx="21664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подробност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9"/>
            <p:cNvSpPr/>
            <p:nvPr/>
          </p:nvSpPr>
          <p:spPr>
            <a:xfrm flipH="1" flipV="1">
              <a:off x="2011320" y="2420640"/>
              <a:ext cx="919800" cy="10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0"/>
            <p:cNvSpPr/>
            <p:nvPr/>
          </p:nvSpPr>
          <p:spPr>
            <a:xfrm flipH="1" flipV="1">
              <a:off x="1715400" y="2970720"/>
              <a:ext cx="439200" cy="50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1000080" y="2701800"/>
              <a:ext cx="12063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истем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рта памяти, интеллект-карта или ментальная карта (Mind maps) – это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технология изображения информации в графическом виде, отражающая связ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смысловые, ассоциативные, причинно-следственные и другие)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ежду понятиями, частями, составляющим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метной области, которую мы изучаем (рассматриваем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т строгих правил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троения интеллект-карт, как нет и неправильных кар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8" name="Заголовок 2" descr=""/>
          <p:cNvPicPr/>
          <p:nvPr/>
        </p:nvPicPr>
        <p:blipFill>
          <a:blip r:embed="rId1"/>
          <a:stretch/>
        </p:blipFill>
        <p:spPr>
          <a:xfrm>
            <a:off x="231840" y="60480"/>
            <a:ext cx="8454960" cy="104904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213840" y="928800"/>
            <a:ext cx="8543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Заголовок 2" descr=""/>
          <p:cNvPicPr/>
          <p:nvPr/>
        </p:nvPicPr>
        <p:blipFill>
          <a:blip r:embed="rId1"/>
          <a:stretch/>
        </p:blipFill>
        <p:spPr>
          <a:xfrm>
            <a:off x="274680" y="103320"/>
            <a:ext cx="8454960" cy="1055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3" descr=""/>
          <p:cNvPicPr/>
          <p:nvPr/>
        </p:nvPicPr>
        <p:blipFill>
          <a:blip r:embed="rId2"/>
          <a:stretch/>
        </p:blipFill>
        <p:spPr>
          <a:xfrm>
            <a:off x="6929280" y="4929120"/>
            <a:ext cx="1386000" cy="1602000"/>
          </a:xfrm>
          <a:prstGeom prst="rect">
            <a:avLst/>
          </a:prstGeom>
          <a:ln w="0">
            <a:noFill/>
          </a:ln>
        </p:spPr>
      </p:pic>
      <p:sp>
        <p:nvSpPr>
          <p:cNvPr id="57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Ментальная карта"/>
          <p:cNvPicPr/>
          <p:nvPr/>
        </p:nvPicPr>
        <p:blipFill>
          <a:blip r:embed="rId1"/>
          <a:stretch/>
        </p:blipFill>
        <p:spPr>
          <a:xfrm>
            <a:off x="1214280" y="1357200"/>
            <a:ext cx="7380360" cy="4741920"/>
          </a:xfrm>
          <a:prstGeom prst="rect">
            <a:avLst/>
          </a:prstGeom>
          <a:ln w="0">
            <a:noFill/>
          </a:ln>
        </p:spPr>
      </p:pic>
      <p:pic>
        <p:nvPicPr>
          <p:cNvPr id="577" name="Заголовок 5" descr=""/>
          <p:cNvPicPr/>
          <p:nvPr/>
        </p:nvPicPr>
        <p:blipFill>
          <a:blip r:embed="rId2"/>
          <a:stretch/>
        </p:blipFill>
        <p:spPr>
          <a:xfrm>
            <a:off x="231840" y="9684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рупповая работа (коллективное творчество, мозговой штурм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конспектирование или аннотирование текстовых материалов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бдумывание проблем, анализ сложных ситуаций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ланиров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инятие решени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0" name="Заголовок 2" descr=""/>
          <p:cNvPicPr/>
          <p:nvPr/>
        </p:nvPicPr>
        <p:blipFill>
          <a:blip r:embed="rId1"/>
          <a:stretch/>
        </p:blipFill>
        <p:spPr>
          <a:xfrm>
            <a:off x="208080" y="55440"/>
            <a:ext cx="8478720" cy="113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"/>
          <p:cNvPicPr/>
          <p:nvPr/>
        </p:nvPicPr>
        <p:blipFill>
          <a:blip r:embed="rId2"/>
          <a:stretch/>
        </p:blipFill>
        <p:spPr>
          <a:xfrm>
            <a:off x="5643720" y="3857760"/>
            <a:ext cx="3112920" cy="2484360"/>
          </a:xfrm>
          <a:prstGeom prst="rect">
            <a:avLst/>
          </a:prstGeom>
          <a:ln w="0">
            <a:noFill/>
          </a:ln>
        </p:spPr>
      </p:pic>
      <p:sp>
        <p:nvSpPr>
          <p:cNvPr id="58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6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ческие схемы как инструмент работы с информаци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ипы графических схем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ластер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денотатный граф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чинная карт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арта памяти (интеллект-карта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сто графических схем на урок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ы схем-опорных конспек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-103320" y="55440"/>
            <a:ext cx="8899560" cy="113364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Графические схемы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зволяют представить тему целиком, наглядно и понятно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то обеспечивает повышение мотивация учащихся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читель может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спользовать готовые графические схемы (в учебниках или на плакатах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троить графические схемы непосредственно на уроке по ходу изложения материал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10238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285840" y="114264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изложении нов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осмысления и закрепления изучаем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обобщении и систематизации изученн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этапе контроля знаний, умений и навыков, присвоенных ученик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2960640" cy="2357280"/>
          </a:xfrm>
          <a:prstGeom prst="rect">
            <a:avLst/>
          </a:prstGeom>
          <a:ln w="0">
            <a:noFill/>
          </a:ln>
        </p:spPr>
      </p:pic>
      <p:sp>
        <p:nvSpPr>
          <p:cNvPr id="589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Object 2"/>
          <p:cNvGraphicFramePr/>
          <p:nvPr/>
        </p:nvGraphicFramePr>
        <p:xfrm>
          <a:off x="142920" y="0"/>
          <a:ext cx="87804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0"/>
                    <a:ext cx="87804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Object 2"/>
          <p:cNvGraphicFramePr/>
          <p:nvPr/>
        </p:nvGraphicFramePr>
        <p:xfrm>
          <a:off x="142920" y="142920"/>
          <a:ext cx="8780400" cy="56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8780400" cy="56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Object 2"/>
          <p:cNvGraphicFramePr/>
          <p:nvPr/>
        </p:nvGraphicFramePr>
        <p:xfrm>
          <a:off x="88920" y="0"/>
          <a:ext cx="896616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01600" y="189000"/>
            <a:ext cx="8485200" cy="1182600"/>
          </a:xfrm>
          <a:prstGeom prst="rect">
            <a:avLst/>
          </a:prstGeom>
          <a:ln w="0">
            <a:noFill/>
          </a:ln>
        </p:spPr>
      </p:pic>
      <p:pic>
        <p:nvPicPr>
          <p:cNvPr id="383" name="Схема 1" descr=""/>
          <p:cNvPicPr/>
          <p:nvPr/>
        </p:nvPicPr>
        <p:blipFill>
          <a:blip r:embed="rId2"/>
          <a:stretch/>
        </p:blipFill>
        <p:spPr>
          <a:xfrm>
            <a:off x="360360" y="1500120"/>
            <a:ext cx="8345520" cy="399888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71360" y="244440"/>
            <a:ext cx="8515440" cy="1382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14240" y="1356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наглядно-образного мышлени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я навыков работы с графической информацией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иксации внимания при усвоении учебного материал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ктивизации учебно-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кретизации изучаемых вопросо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глядной систематизации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классификац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осмысленно учить материал, выделяя в нем главное и отбрасывая второстепенное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построения рассказа, ответа, речи, аргументирования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274680" y="-60480"/>
            <a:ext cx="8412120" cy="1481400"/>
          </a:xfrm>
          <a:prstGeom prst="rect">
            <a:avLst/>
          </a:prstGeom>
          <a:ln w="0">
            <a:noFill/>
          </a:ln>
        </p:spPr>
      </p:pic>
      <p:sp>
        <p:nvSpPr>
          <p:cNvPr id="390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42920" y="107172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рмин «кластер» происходит от английского «cluster» – гроздь,  скопление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 построении кластер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в центральном овале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сполагают ключевое понятие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 овалах второ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– понятия, раскрывающие смысл ключевого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овалах третье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дет детализация понятий, упомянутых на предыдущем уровн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2"/>
          <p:cNvGrpSpPr/>
          <p:nvPr/>
        </p:nvGrpSpPr>
        <p:grpSpPr>
          <a:xfrm>
            <a:off x="1428840" y="4000680"/>
            <a:ext cx="6962760" cy="2547720"/>
            <a:chOff x="1428840" y="4000680"/>
            <a:chExt cx="6962760" cy="2547720"/>
          </a:xfrm>
        </p:grpSpPr>
        <p:grpSp>
          <p:nvGrpSpPr>
            <p:cNvPr id="394" name="Group 3"/>
            <p:cNvGrpSpPr/>
            <p:nvPr/>
          </p:nvGrpSpPr>
          <p:grpSpPr>
            <a:xfrm>
              <a:off x="1428840" y="4000680"/>
              <a:ext cx="6962760" cy="2547720"/>
              <a:chOff x="1428840" y="4000680"/>
              <a:chExt cx="6962760" cy="2547720"/>
            </a:xfrm>
          </p:grpSpPr>
          <p:sp>
            <p:nvSpPr>
              <p:cNvPr id="395" name="Oval 4"/>
              <p:cNvSpPr/>
              <p:nvPr/>
            </p:nvSpPr>
            <p:spPr>
              <a:xfrm>
                <a:off x="4465080" y="4911120"/>
                <a:ext cx="1734840" cy="647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5"/>
              <p:cNvSpPr/>
              <p:nvPr/>
            </p:nvSpPr>
            <p:spPr>
              <a:xfrm>
                <a:off x="4698720" y="5014080"/>
                <a:ext cx="120096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Признаки объект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6"/>
              <p:cNvGrpSpPr/>
              <p:nvPr/>
            </p:nvGrpSpPr>
            <p:grpSpPr>
              <a:xfrm>
                <a:off x="2318400" y="4981680"/>
                <a:ext cx="1267920" cy="609480"/>
                <a:chOff x="2318400" y="4981680"/>
                <a:chExt cx="1267920" cy="609480"/>
              </a:xfrm>
            </p:grpSpPr>
            <p:sp>
              <p:nvSpPr>
                <p:cNvPr id="398" name="Oval 7"/>
                <p:cNvSpPr/>
                <p:nvPr/>
              </p:nvSpPr>
              <p:spPr>
                <a:xfrm>
                  <a:off x="2318400" y="4981680"/>
                  <a:ext cx="126792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8"/>
                <p:cNvSpPr/>
                <p:nvPr/>
              </p:nvSpPr>
              <p:spPr>
                <a:xfrm>
                  <a:off x="2485080" y="5153040"/>
                  <a:ext cx="94536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свойства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Oval 9"/>
              <p:cNvSpPr/>
              <p:nvPr/>
            </p:nvSpPr>
            <p:spPr>
              <a:xfrm>
                <a:off x="4623120" y="4000680"/>
                <a:ext cx="126792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10"/>
              <p:cNvSpPr/>
              <p:nvPr/>
            </p:nvSpPr>
            <p:spPr>
              <a:xfrm>
                <a:off x="4790160" y="4173840"/>
                <a:ext cx="10677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вед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" name="Group 11"/>
              <p:cNvGrpSpPr/>
              <p:nvPr/>
            </p:nvGrpSpPr>
            <p:grpSpPr>
              <a:xfrm>
                <a:off x="7090200" y="4829400"/>
                <a:ext cx="1267560" cy="609480"/>
                <a:chOff x="7090200" y="4829400"/>
                <a:chExt cx="1267560" cy="609480"/>
              </a:xfrm>
            </p:grpSpPr>
            <p:sp>
              <p:nvSpPr>
                <p:cNvPr id="403" name="Oval 12"/>
                <p:cNvSpPr/>
                <p:nvPr/>
              </p:nvSpPr>
              <p:spPr>
                <a:xfrm>
                  <a:off x="7090200" y="4829400"/>
                  <a:ext cx="126756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13"/>
                <p:cNvSpPr/>
                <p:nvPr/>
              </p:nvSpPr>
              <p:spPr>
                <a:xfrm>
                  <a:off x="7256880" y="5000760"/>
                  <a:ext cx="94500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действия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Oval 14"/>
              <p:cNvSpPr/>
              <p:nvPr/>
            </p:nvSpPr>
            <p:spPr>
              <a:xfrm>
                <a:off x="4689360" y="5938920"/>
                <a:ext cx="126756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15"/>
              <p:cNvSpPr/>
              <p:nvPr/>
            </p:nvSpPr>
            <p:spPr>
              <a:xfrm>
                <a:off x="4844880" y="6091200"/>
                <a:ext cx="101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состоя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6"/>
              <p:cNvSpPr/>
              <p:nvPr/>
            </p:nvSpPr>
            <p:spPr>
              <a:xfrm flipV="1">
                <a:off x="5277240" y="4610160"/>
                <a:ext cx="0" cy="2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7"/>
              <p:cNvSpPr/>
              <p:nvPr/>
            </p:nvSpPr>
            <p:spPr>
              <a:xfrm flipH="1">
                <a:off x="3597840" y="5248440"/>
                <a:ext cx="85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18"/>
              <p:cNvSpPr/>
              <p:nvPr/>
            </p:nvSpPr>
            <p:spPr>
              <a:xfrm>
                <a:off x="6189120" y="5210280"/>
                <a:ext cx="90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9"/>
              <p:cNvSpPr/>
              <p:nvPr/>
            </p:nvSpPr>
            <p:spPr>
              <a:xfrm>
                <a:off x="5299560" y="5581800"/>
                <a:ext cx="0" cy="35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0"/>
              <p:cNvSpPr/>
              <p:nvPr/>
            </p:nvSpPr>
            <p:spPr>
              <a:xfrm>
                <a:off x="7145640" y="42386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21"/>
              <p:cNvSpPr/>
              <p:nvPr/>
            </p:nvSpPr>
            <p:spPr>
              <a:xfrm>
                <a:off x="7212600" y="569628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2"/>
              <p:cNvSpPr/>
              <p:nvPr/>
            </p:nvSpPr>
            <p:spPr>
              <a:xfrm>
                <a:off x="1428840" y="5772600"/>
                <a:ext cx="1179000" cy="371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23"/>
              <p:cNvSpPr/>
              <p:nvPr/>
            </p:nvSpPr>
            <p:spPr>
              <a:xfrm>
                <a:off x="3186000" y="58010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24"/>
            <p:cNvSpPr/>
            <p:nvPr/>
          </p:nvSpPr>
          <p:spPr>
            <a:xfrm>
              <a:off x="3330720" y="5858280"/>
              <a:ext cx="9118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зна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540080" y="58294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величи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7234560" y="42670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ак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7301520" y="5743800"/>
              <a:ext cx="10900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пасс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 flipH="1">
              <a:off x="2229120" y="5572440"/>
              <a:ext cx="38916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9"/>
            <p:cNvSpPr/>
            <p:nvPr/>
          </p:nvSpPr>
          <p:spPr>
            <a:xfrm>
              <a:off x="3319560" y="5543640"/>
              <a:ext cx="3780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0"/>
            <p:cNvSpPr/>
            <p:nvPr/>
          </p:nvSpPr>
          <p:spPr>
            <a:xfrm flipV="1">
              <a:off x="7735320" y="460080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1"/>
            <p:cNvSpPr/>
            <p:nvPr/>
          </p:nvSpPr>
          <p:spPr>
            <a:xfrm>
              <a:off x="7757640" y="544860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icture 3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39800" cy="22860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28760" y="1642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несите недостающие надписи в схем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Organization Chart 3"/>
          <p:cNvGrpSpPr/>
          <p:nvPr/>
        </p:nvGrpSpPr>
        <p:grpSpPr>
          <a:xfrm>
            <a:off x="1428840" y="2500200"/>
            <a:ext cx="6429240" cy="2571480"/>
            <a:chOff x="1428840" y="2500200"/>
            <a:chExt cx="6429240" cy="2571480"/>
          </a:xfrm>
        </p:grpSpPr>
        <p:cxnSp>
          <p:nvCxnSpPr>
            <p:cNvPr id="429" name="_s1028"/>
            <p:cNvCxnSpPr>
              <a:stCxn id="430" idx="0"/>
              <a:endCxn id="431" idx="2"/>
            </p:cNvCxnSpPr>
            <p:nvPr/>
          </p:nvCxnSpPr>
          <p:spPr>
            <a:xfrm flipV="1" rot="16200000">
              <a:off x="5668200" y="2536200"/>
              <a:ext cx="450720" cy="2500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2" name="_s1029"/>
            <p:cNvCxnSpPr>
              <a:stCxn id="433" idx="0"/>
              <a:endCxn id="431" idx="2"/>
            </p:cNvCxnSpPr>
            <p:nvPr/>
          </p:nvCxnSpPr>
          <p:spPr>
            <a:xfrm flipV="1" rot="16200000">
              <a:off x="4834440" y="3369960"/>
              <a:ext cx="450720" cy="8334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4" name="_s1030"/>
            <p:cNvCxnSpPr>
              <a:stCxn id="435" idx="0"/>
              <a:endCxn id="431" idx="2"/>
            </p:cNvCxnSpPr>
            <p:nvPr/>
          </p:nvCxnSpPr>
          <p:spPr>
            <a:xfrm flipH="1" flipV="1" rot="5400000">
              <a:off x="4001400" y="3369600"/>
              <a:ext cx="450720" cy="8341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6" name="_s1031"/>
            <p:cNvCxnSpPr>
              <a:stCxn id="437" idx="0"/>
              <a:endCxn id="431" idx="2"/>
            </p:cNvCxnSpPr>
            <p:nvPr/>
          </p:nvCxnSpPr>
          <p:spPr>
            <a:xfrm flipH="1" flipV="1" rot="5400000">
              <a:off x="3167640" y="2536200"/>
              <a:ext cx="450720" cy="25009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31" name="_s1032"/>
            <p:cNvSpPr/>
            <p:nvPr/>
          </p:nvSpPr>
          <p:spPr>
            <a:xfrm>
              <a:off x="3928680" y="250020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и объек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3"/>
            <p:cNvSpPr/>
            <p:nvPr/>
          </p:nvSpPr>
          <p:spPr>
            <a:xfrm>
              <a:off x="14288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4"/>
            <p:cNvSpPr/>
            <p:nvPr/>
          </p:nvSpPr>
          <p:spPr>
            <a:xfrm>
              <a:off x="30956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5"/>
            <p:cNvSpPr/>
            <p:nvPr/>
          </p:nvSpPr>
          <p:spPr>
            <a:xfrm>
              <a:off x="476280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6"/>
            <p:cNvSpPr/>
            <p:nvPr/>
          </p:nvSpPr>
          <p:spPr>
            <a:xfrm>
              <a:off x="6429960" y="4043160"/>
              <a:ext cx="142812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2876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2876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2. Как располагают ключевое поняти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Ключевое понятие располагают в центральном овале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3. Какие понятия раскрывают смысл ключевого понятия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4. Как эти понятия мы разместим на схем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5. Какое из понятий второго уровня детализировано в данном фрагмент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Соответствующую информацию разместим в овалах третье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4:57:46Z</dcterms:created>
  <dc:creator>Владелец</dc:creator>
  <dc:description/>
  <dc:language>en-US</dc:language>
  <cp:lastModifiedBy>LEGION</cp:lastModifiedBy>
  <dcterms:modified xsi:type="dcterms:W3CDTF">2015-04-01T07:43:30Z</dcterms:modified>
  <cp:revision>25</cp:revision>
  <dc:subject/>
  <dc:title>Графические способы представления учебной информации</dc:title>
</cp:coreProperties>
</file>