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5.jpeg" ContentType="image/jpe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32.wmf" ContentType="image/x-wmf"/>
  <Override PartName="/ppt/media/image12.png" ContentType="image/png"/>
  <Override PartName="/ppt/media/image10.png" ContentType="image/png"/>
  <Override PartName="/ppt/media/image11.png" ContentType="image/png"/>
  <Override PartName="/ppt/media/image34.wmf" ContentType="image/x-wmf"/>
  <Override PartName="/ppt/media/image7.png" ContentType="image/png"/>
  <Override PartName="/ppt/media/image35.wmf" ContentType="image/x-wmf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DC81-CD05-4AEB-852D-2C22B66B47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пособы представления учеб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BC76-ED40-4150-8014-0C0A9B19FC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Результат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E125-1A8A-464B-B50B-94D8FA18A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олее точ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берите глаголы, связывающие ключевое понятие и его существенные призна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ируйте в прямоугольниках следующего уровн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выбранных вами глаго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более полного раскрытия ключевого по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едованием име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го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43E0-5142-4194-94CB-0F5136224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EFB2-0174-45FF-B758-14FF3FF58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группы причин распределяют как рыбий ске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062B-BD01-4573-9C0D-0FDE0A732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«шести 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существуют следующие шесть возможных причин тех или ины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teria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chin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asur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48EF-D04A-4452-906A-99FE11923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4549-95FF-4970-8DA6-5191D4BD4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, интеллект-карта или ментальная карта (Mind maps) – э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 изображения информации в графическом виде, отражающая связ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мысловые, ассоциативные, причинно-следственные и други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жду понятиями, частями, составляющ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ой области, которую мы изучаем (рассматрива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 строгих прави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я интеллект-карт, как нет и неправильных ка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F30F-89DC-4882-8888-ED76DA58A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изаци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978E-AEF7-4450-BA8C-264FEDC81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. 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52A6-09D3-4A40-9A07-7666DA93A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ь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 (коллективное творчество, мозговой штур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ирование или аннотирование текстовых матери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думывание проблем, анализ слож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0CDE-F9E7-409D-BCA7-C2F483094B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графических сх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графических сх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схем-опорных консп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3705-98D6-4F4A-9CAD-698A4C21D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и графических сх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ют представить тему целиком, наглядно и понят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обеспечивает повышение мотивация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готовые графические схемы (в учебниках или на плакатах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ь графические схемы непосредственно на уроке по ходу изложения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54DE-735C-4928-AB29-0552D257D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ческие схемы использую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ложении нов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мысления и закрепления изучаем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бщении и систематизации изучен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апе контроля знаний, умений и навыков, присвоенных уче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2400-7EE9-4599-B5CF-BAA04B93A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запоми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9246-C64E-4251-BA74-26B52E940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аглядности  – инструмент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наглядно-образ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я навыков работы с графической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ации внимания при усвоении учеб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ации учебно-познаватель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и изучаемых вопро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й систематиза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F6CE-360E-493D-98F6-230E16303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br>
              <a:rPr sz="11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осмысленно учить материал, выделяя в нем главное и отбрасывая второстепенно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построения рассказа, ответа, речи, аргументирования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A250-B9F9-4F9A-A439-8427A0D62D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кластер» происходит от английского «cluster» – гроздь,  скоп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строении клас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нтральном ова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ют ключевое понят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валах втор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нятия, раскрывающие смысл ключев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овалах третье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детализация понятий, упомянутых на предыдуще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CEDA-523F-4FE3-8947-48FA2D8A8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достающие надписи в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B49D-B379-4A6F-B4A5-6EF46322D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6887-43B5-42B7-9640-38253D27B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Методика постро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располагают ключевое поняти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располагают в центральном ова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понятия раскрывают смысл ключевого понятия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 эти понятия мы разместим на схем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е из понятий второго уровня детализировано в данном фрагмент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ьзовательский интерфей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ответствующую информацию разместим в овалах третье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35D4-9C56-4C00-884F-C6E178BE5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671-BADC-40A2-9C10-23496974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86D-8709-43D7-B1F8-0D04CA80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F43-3789-46C0-8AD9-085EBBD8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F59-0C0F-4212-8289-8054BDB4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E2CC-E55D-460C-A3CF-C7A8AE98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2D44-FCF8-4455-88B2-01291582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0217-64AE-48EC-AFEE-D7AEACBB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C9B4-756B-42A9-8A3A-3CA90838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3EFC-6069-4937-91C0-F7639A81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C8AE-3F24-4E00-989C-BF2CB036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3239-60AA-4933-97F6-900027C9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AFE-6064-4558-AF2B-52560BC4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87B9-4B18-4A43-8433-3D503ED7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A08E-F0EB-496B-AAE9-84963730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55EA-0AED-4519-9652-EDBCAB87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27EC-0E25-4492-9CB0-4668E513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2D1E-0275-409E-B1A9-A7D9E1A9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5A99-CFE5-4CCA-8208-28A7AF53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CDF2-1BDE-47AE-AB7C-D15AAF42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55F8-C599-41A5-86D1-329BE816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A839-BE23-4BC8-AACE-1C9106C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2F92B-0CD4-4CB0-8858-582860E5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458-A948-409E-BB33-00338EA0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E49B-7940-405C-85B8-9297394D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54BA-4BB5-476C-9307-5348055E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D584-98AD-480F-B52E-F9736333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E084-86DA-4510-AF47-8E5F9253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34D3-50D1-47F5-A724-963CE8EE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800A-3320-4D32-8834-F7FE9018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92A2-10FA-46AD-8883-C886EB33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370BE-1409-46DF-BC12-725A38DD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8E867-CF40-4B47-ADA8-E14E20E4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7B1E1-BC71-4230-B9EA-D7BC1B4F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783-A2FE-43D8-90A2-B175835E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6917A-738D-49AB-939D-0A66A885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C4AD3-6596-427F-B8A0-C6691BBB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B323-BB7B-4E88-97FC-B56F73DE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A644-7C69-4188-A4C4-0C1D9824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26EB-D56B-4373-BA81-EF9CB35A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F7C0-CF65-426D-ABEC-970038FF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6658-E065-4CFD-B20F-80F71BD9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D95E-3AFC-406E-B75B-EFBCD616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5D3C-D73F-4C8E-B041-3C2E178C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C809C-7D11-47E6-9B95-1DC48EBB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6CB-84AB-42B9-83E5-E47A7FA9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0E96C-A8B2-4372-B62E-8140EFF7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1737D-1358-4249-9AE7-EFD6120F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29110-3F64-4FF6-9F26-145DAF69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0F972-D944-46DC-AFA5-100C4A68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54F00-74F7-40D9-8892-3B77913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0F8E3-2C9B-4FF6-9D0B-015158C2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C16F9-2E17-4FD9-824F-D495F8B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EB6A8-5A56-432C-A279-9A695864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A849F-93B8-410C-8934-F4279575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4D55A-F9FC-44A6-8C5A-C0DCE831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409-A4B0-47B5-B8D5-C33E357D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F29E-3F61-4D4B-9CEB-93D4340B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A9850-F695-4177-8A5A-05D4D65E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F87F3-762A-40FC-A430-9D6E2F1F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AC7E0-4EB6-4BEF-B1E0-F52ECC76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8D916-9021-4856-8C38-C4E0FE9D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09A06-78FA-4308-91B9-1366A8D9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812A0-81DA-4D61-B189-A8B9E208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B6CAD-1082-416E-9795-421B3471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4071B-E1B5-437D-A08F-D0171B2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6D5F8-85F9-422D-998F-CEFA7962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3EE-64BF-4091-8CEF-D2FCDDC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BDECB-72E2-49CE-AC1E-BC277C71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63BE6-68F7-40D9-8794-E0F114CD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C69A2-82F1-4E7F-B78A-B9F8365D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11C0F-A4DD-482D-8F30-1F09D087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0C17B-572D-4273-82D3-4E0C2211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690AB-7644-4102-ADE9-B5FA1A0E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49A12-1DB6-4FC3-851A-D4C80F02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87AD9-950E-4807-AB46-42DBD7CC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A84BF-0377-46B1-BA92-18CD691C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F9323-75B2-40C9-9E1B-353CBC6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193-51AD-4E4B-8F79-41D6F21A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424BB-3549-4B11-994B-601620C0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847AB-EC86-4AEB-A1B6-49D0FE7D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8A4EB-6574-4B1F-9557-02791471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D4F4C-C360-437C-9297-21304812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32BB9-3152-4059-BCEE-31B810D2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6EE7B-E067-4DED-8CE0-F5AEC863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B5952-0E67-4D2F-A683-8924A8EB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CF1AA-C1B7-4E4D-AF81-4B8605A6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DB96E-B230-43CF-8990-8B82BA22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EA2BC-977A-4CFE-9DDB-F20DE804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0C5-2541-470D-AC40-A4C271A8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F1D2-F54B-451D-AACF-F0C2BCFD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35C1-FEA6-4C8F-B2DC-58F85F1E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E2309-BD14-4D07-8FE0-F190A52E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939EC-6328-4BFC-8F2C-024D5C4F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6F3FE-1B4C-43FB-A43D-4D7F4FD4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D9F27-1B70-4D31-A653-C6D23C48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19DD2-17E5-4311-B79A-59F5EBC6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19A0-B987-4220-BEFC-843EE5AEDA33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AE13-ABC0-47A8-A4F9-749CBCD8707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D0AB-0FD0-492B-92FD-928E14DBA1DE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f0f4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9E9F-0A31-4DDF-B543-06754C53E82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1C98-60F5-4BF9-B9F9-47F865095789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B086-2670-455E-AB5E-199D0F522B0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2308-B7DF-4C04-9D1F-A8AF7D49227C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2D96-3EC3-4A02-B8AE-918408378DF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C596-795E-47F8-9C87-739A23A0E642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6807-5D39-4441-9BC2-FB6BEB76448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7619-55F1-472C-B41B-663BD14F70E2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ABB5-F205-42AB-83A0-4FFF8DD2E7F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45E3-16E6-4CC3-A119-A9F1A4D6BBEB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1E1-A1FA-4F59-AF1D-A0EAA192700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8E9A-A7D9-4D09-80D1-ECA5B89E7056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1A2C-0530-431B-98A7-CBBC9623850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000080" y="1633680"/>
            <a:ext cx="8199360" cy="2536560"/>
          </a:xfrm>
          <a:prstGeom prst="rect">
            <a:avLst/>
          </a:prstGeom>
          <a:ln w="0">
            <a:noFill/>
          </a:ln>
        </p:spPr>
      </p:pic>
      <p:sp>
        <p:nvSpPr>
          <p:cNvPr id="378" name="Подзаголовок 2"/>
          <p:cNvSpPr/>
          <p:nvPr/>
        </p:nvSpPr>
        <p:spPr>
          <a:xfrm>
            <a:off x="714240" y="1429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Lucida Sans Unicode"/>
              </a:rPr>
              <a:t>Босова Людмил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kulll@mail.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3"/>
          <p:cNvGrpSpPr/>
          <p:nvPr/>
        </p:nvGrpSpPr>
        <p:grpSpPr>
          <a:xfrm>
            <a:off x="642960" y="1214280"/>
            <a:ext cx="7429320" cy="4357440"/>
            <a:chOff x="642960" y="1214280"/>
            <a:chExt cx="7429320" cy="4357440"/>
          </a:xfrm>
        </p:grpSpPr>
        <p:grpSp>
          <p:nvGrpSpPr>
            <p:cNvPr id="450" name="Group 14"/>
            <p:cNvGrpSpPr/>
            <p:nvPr/>
          </p:nvGrpSpPr>
          <p:grpSpPr>
            <a:xfrm>
              <a:off x="1357200" y="1214280"/>
              <a:ext cx="6512400" cy="3445920"/>
              <a:chOff x="1357200" y="1214280"/>
              <a:chExt cx="6512400" cy="3445920"/>
            </a:xfrm>
          </p:grpSpPr>
          <p:sp>
            <p:nvSpPr>
              <p:cNvPr id="451" name="Oval 15"/>
              <p:cNvSpPr/>
              <p:nvPr/>
            </p:nvSpPr>
            <p:spPr>
              <a:xfrm>
                <a:off x="3666960" y="2451600"/>
                <a:ext cx="1857240" cy="879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16"/>
              <p:cNvSpPr/>
              <p:nvPr/>
            </p:nvSpPr>
            <p:spPr>
              <a:xfrm>
                <a:off x="3916800" y="2591280"/>
                <a:ext cx="128592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нтерфей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17"/>
              <p:cNvSpPr/>
              <p:nvPr/>
            </p:nvSpPr>
            <p:spPr>
              <a:xfrm>
                <a:off x="1369080" y="254700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18"/>
              <p:cNvSpPr/>
              <p:nvPr/>
            </p:nvSpPr>
            <p:spPr>
              <a:xfrm>
                <a:off x="1357200" y="2754360"/>
                <a:ext cx="14166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9"/>
              <p:cNvSpPr/>
              <p:nvPr/>
            </p:nvSpPr>
            <p:spPr>
              <a:xfrm>
                <a:off x="3835800" y="121428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0"/>
              <p:cNvSpPr/>
              <p:nvPr/>
            </p:nvSpPr>
            <p:spPr>
              <a:xfrm>
                <a:off x="3717000" y="1307520"/>
                <a:ext cx="1619280" cy="62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о-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1"/>
              <p:cNvSpPr/>
              <p:nvPr/>
            </p:nvSpPr>
            <p:spPr>
              <a:xfrm>
                <a:off x="6476760" y="2340000"/>
                <a:ext cx="1357200" cy="828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22"/>
              <p:cNvSpPr/>
              <p:nvPr/>
            </p:nvSpPr>
            <p:spPr>
              <a:xfrm>
                <a:off x="6512400" y="2573280"/>
                <a:ext cx="13572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3"/>
              <p:cNvSpPr/>
              <p:nvPr/>
            </p:nvSpPr>
            <p:spPr>
              <a:xfrm>
                <a:off x="3856680" y="3831840"/>
                <a:ext cx="150012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4"/>
              <p:cNvSpPr/>
              <p:nvPr/>
            </p:nvSpPr>
            <p:spPr>
              <a:xfrm>
                <a:off x="3761280" y="4064760"/>
                <a:ext cx="176184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льзовательски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25"/>
              <p:cNvSpPr/>
              <p:nvPr/>
            </p:nvSpPr>
            <p:spPr>
              <a:xfrm flipV="1">
                <a:off x="4536000" y="2042640"/>
                <a:ext cx="0" cy="40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6"/>
              <p:cNvSpPr/>
              <p:nvPr/>
            </p:nvSpPr>
            <p:spPr>
              <a:xfrm flipH="1">
                <a:off x="2738160" y="2909520"/>
                <a:ext cx="91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27"/>
              <p:cNvSpPr/>
              <p:nvPr/>
            </p:nvSpPr>
            <p:spPr>
              <a:xfrm>
                <a:off x="5512320" y="2857680"/>
                <a:ext cx="96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28"/>
              <p:cNvSpPr/>
              <p:nvPr/>
            </p:nvSpPr>
            <p:spPr>
              <a:xfrm>
                <a:off x="4619520" y="3362400"/>
                <a:ext cx="0" cy="47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Oval 29"/>
            <p:cNvSpPr/>
            <p:nvPr/>
          </p:nvSpPr>
          <p:spPr>
            <a:xfrm>
              <a:off x="642960" y="474372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30"/>
            <p:cNvSpPr/>
            <p:nvPr/>
          </p:nvSpPr>
          <p:spPr>
            <a:xfrm>
              <a:off x="3893400" y="492516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1"/>
            <p:cNvSpPr/>
            <p:nvPr/>
          </p:nvSpPr>
          <p:spPr>
            <a:xfrm>
              <a:off x="6512760" y="471780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32"/>
            <p:cNvSpPr/>
            <p:nvPr/>
          </p:nvSpPr>
          <p:spPr>
            <a:xfrm flipH="1">
              <a:off x="1702440" y="4316760"/>
              <a:ext cx="215496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33"/>
            <p:cNvSpPr/>
            <p:nvPr/>
          </p:nvSpPr>
          <p:spPr>
            <a:xfrm>
              <a:off x="5333760" y="4251960"/>
              <a:ext cx="2059920" cy="4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34"/>
            <p:cNvSpPr/>
            <p:nvPr/>
          </p:nvSpPr>
          <p:spPr>
            <a:xfrm>
              <a:off x="4619520" y="467928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5"/>
            <p:cNvSpPr/>
            <p:nvPr/>
          </p:nvSpPr>
          <p:spPr>
            <a:xfrm>
              <a:off x="842760" y="4782600"/>
              <a:ext cx="1214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на основе мен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6"/>
            <p:cNvSpPr/>
            <p:nvPr/>
          </p:nvSpPr>
          <p:spPr>
            <a:xfrm>
              <a:off x="3938400" y="4989600"/>
              <a:ext cx="1357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графиче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7"/>
            <p:cNvSpPr/>
            <p:nvPr/>
          </p:nvSpPr>
          <p:spPr>
            <a:xfrm>
              <a:off x="6522120" y="4769640"/>
              <a:ext cx="1452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трехмер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28400" y="857160"/>
            <a:ext cx="84294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делите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ключевое понятие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ак можно более точно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одберите глаголы, связывающие ключевое понятие и его существенные признаки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онкретизируйте в прямоугольниках следующего уровня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смысл выбранных вами глаголов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для более полного раскрытия ключевого понятия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ледите за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чередованием имени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глагола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1"/>
          <p:cNvGraphicFramePr/>
          <p:nvPr/>
        </p:nvGraphicFramePr>
        <p:xfrm>
          <a:off x="214200" y="1071720"/>
          <a:ext cx="8643960" cy="47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071720"/>
                    <a:ext cx="864396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сновные группы причин распределяют как рыбий скелет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2"/>
          <a:stretch/>
        </p:blipFill>
        <p:spPr>
          <a:xfrm>
            <a:off x="6645240" y="5645160"/>
            <a:ext cx="2084400" cy="852480"/>
          </a:xfrm>
          <a:prstGeom prst="rect">
            <a:avLst/>
          </a:prstGeom>
          <a:ln w="0">
            <a:noFill/>
          </a:ln>
        </p:spPr>
      </p:pic>
      <p:sp>
        <p:nvSpPr>
          <p:cNvPr id="49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143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 общем случае существуют следующие шесть возможных причин тех или иных результатов: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атериал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terial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оборудова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chine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измере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тод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thod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люди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неджмент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ag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8"/>
          <p:cNvGrpSpPr/>
          <p:nvPr/>
        </p:nvGrpSpPr>
        <p:grpSpPr>
          <a:xfrm>
            <a:off x="1000080" y="3429000"/>
            <a:ext cx="7571520" cy="2927520"/>
            <a:chOff x="1000080" y="3429000"/>
            <a:chExt cx="7571520" cy="2927520"/>
          </a:xfrm>
        </p:grpSpPr>
        <p:sp>
          <p:nvSpPr>
            <p:cNvPr id="497" name="Line 49"/>
            <p:cNvSpPr/>
            <p:nvPr/>
          </p:nvSpPr>
          <p:spPr>
            <a:xfrm>
              <a:off x="4716360" y="52887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50"/>
            <p:cNvSpPr/>
            <p:nvPr/>
          </p:nvSpPr>
          <p:spPr>
            <a:xfrm>
              <a:off x="4446720" y="55540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1"/>
            <p:cNvSpPr/>
            <p:nvPr/>
          </p:nvSpPr>
          <p:spPr>
            <a:xfrm>
              <a:off x="3941640" y="545220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52"/>
            <p:cNvGrpSpPr/>
            <p:nvPr/>
          </p:nvGrpSpPr>
          <p:grpSpPr>
            <a:xfrm>
              <a:off x="1000080" y="3429000"/>
              <a:ext cx="7571520" cy="2927520"/>
              <a:chOff x="1000080" y="3429000"/>
              <a:chExt cx="7571520" cy="2927520"/>
            </a:xfrm>
          </p:grpSpPr>
          <p:grpSp>
            <p:nvGrpSpPr>
              <p:cNvPr id="501" name="Group 53"/>
              <p:cNvGrpSpPr/>
              <p:nvPr/>
            </p:nvGrpSpPr>
            <p:grpSpPr>
              <a:xfrm>
                <a:off x="1795680" y="3690000"/>
                <a:ext cx="6775920" cy="2355840"/>
                <a:chOff x="1795680" y="3690000"/>
                <a:chExt cx="6775920" cy="2355840"/>
              </a:xfrm>
            </p:grpSpPr>
            <p:grpSp>
              <p:nvGrpSpPr>
                <p:cNvPr id="502" name="Group 54"/>
                <p:cNvGrpSpPr/>
                <p:nvPr/>
              </p:nvGrpSpPr>
              <p:grpSpPr>
                <a:xfrm>
                  <a:off x="2098800" y="3974040"/>
                  <a:ext cx="6472800" cy="1734120"/>
                  <a:chOff x="2098800" y="3974040"/>
                  <a:chExt cx="6472800" cy="1734120"/>
                </a:xfrm>
              </p:grpSpPr>
              <p:sp>
                <p:nvSpPr>
                  <p:cNvPr id="503" name="Line 55"/>
                  <p:cNvSpPr/>
                  <p:nvPr/>
                </p:nvSpPr>
                <p:spPr>
                  <a:xfrm>
                    <a:off x="2098800" y="4866120"/>
                    <a:ext cx="4951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utoShape 56"/>
                  <p:cNvSpPr/>
                  <p:nvPr/>
                </p:nvSpPr>
                <p:spPr>
                  <a:xfrm rot="5400000">
                    <a:off x="6953040" y="4089600"/>
                    <a:ext cx="1734120" cy="1503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Text Box 57"/>
                  <p:cNvSpPr/>
                  <p:nvPr/>
                </p:nvSpPr>
                <p:spPr>
                  <a:xfrm>
                    <a:off x="6999840" y="4559400"/>
                    <a:ext cx="1515960" cy="59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изкая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100" spc="-1" strike="noStrike">
                        <a:solidFill>
                          <a:srgbClr val="000000"/>
                        </a:solidFill>
                        <a:latin typeface="Calibri"/>
                      </a:rPr>
                      <a:t>успеваемость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Line 58"/>
                <p:cNvSpPr/>
                <p:nvPr/>
              </p:nvSpPr>
              <p:spPr>
                <a:xfrm>
                  <a:off x="5117760" y="369000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59"/>
                <p:cNvSpPr/>
                <p:nvPr/>
              </p:nvSpPr>
              <p:spPr>
                <a:xfrm>
                  <a:off x="3930480" y="370008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60"/>
                <p:cNvSpPr/>
                <p:nvPr/>
              </p:nvSpPr>
              <p:spPr>
                <a:xfrm>
                  <a:off x="2667240" y="370008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1"/>
                <p:cNvSpPr/>
                <p:nvPr/>
              </p:nvSpPr>
              <p:spPr>
                <a:xfrm flipV="1">
                  <a:off x="2654640" y="48423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62"/>
                <p:cNvSpPr/>
                <p:nvPr/>
              </p:nvSpPr>
              <p:spPr>
                <a:xfrm flipV="1">
                  <a:off x="3892320" y="48729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3"/>
                <p:cNvSpPr/>
                <p:nvPr/>
              </p:nvSpPr>
              <p:spPr>
                <a:xfrm flipV="1">
                  <a:off x="5054760" y="487296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64"/>
                <p:cNvSpPr/>
                <p:nvPr/>
              </p:nvSpPr>
              <p:spPr>
                <a:xfrm>
                  <a:off x="1795680" y="457740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65"/>
                <p:cNvSpPr/>
                <p:nvPr/>
              </p:nvSpPr>
              <p:spPr>
                <a:xfrm flipV="1">
                  <a:off x="1833480" y="483228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Text Box 66"/>
              <p:cNvSpPr/>
              <p:nvPr/>
            </p:nvSpPr>
            <p:spPr>
              <a:xfrm>
                <a:off x="3475800" y="4910040"/>
                <a:ext cx="241272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Учебный процес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7"/>
              <p:cNvSpPr/>
              <p:nvPr/>
            </p:nvSpPr>
            <p:spPr>
              <a:xfrm>
                <a:off x="3492720" y="6071040"/>
                <a:ext cx="921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Люд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68"/>
              <p:cNvSpPr/>
              <p:nvPr/>
            </p:nvSpPr>
            <p:spPr>
              <a:xfrm>
                <a:off x="5168520" y="3481200"/>
                <a:ext cx="135072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атериал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69"/>
              <p:cNvSpPr/>
              <p:nvPr/>
            </p:nvSpPr>
            <p:spPr>
              <a:xfrm>
                <a:off x="5055120" y="6034320"/>
                <a:ext cx="166788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Оборудова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70"/>
              <p:cNvSpPr/>
              <p:nvPr/>
            </p:nvSpPr>
            <p:spPr>
              <a:xfrm>
                <a:off x="1163160" y="3429000"/>
                <a:ext cx="1515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змер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71"/>
              <p:cNvSpPr/>
              <p:nvPr/>
            </p:nvSpPr>
            <p:spPr>
              <a:xfrm>
                <a:off x="3349440" y="3516120"/>
                <a:ext cx="102384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то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2"/>
              <p:cNvSpPr/>
              <p:nvPr/>
            </p:nvSpPr>
            <p:spPr>
              <a:xfrm>
                <a:off x="1000080" y="6024600"/>
                <a:ext cx="166644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неджмен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Text Box 73"/>
            <p:cNvSpPr/>
            <p:nvPr/>
          </p:nvSpPr>
          <p:spPr>
            <a:xfrm>
              <a:off x="4435560" y="567432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оди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4"/>
            <p:cNvSpPr/>
            <p:nvPr/>
          </p:nvSpPr>
          <p:spPr>
            <a:xfrm>
              <a:off x="4862160" y="529920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5"/>
            <p:cNvSpPr/>
            <p:nvPr/>
          </p:nvSpPr>
          <p:spPr>
            <a:xfrm>
              <a:off x="3175920" y="5319360"/>
              <a:ext cx="92052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ител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6"/>
            <p:cNvSpPr/>
            <p:nvPr/>
          </p:nvSpPr>
          <p:spPr>
            <a:xfrm>
              <a:off x="5872680" y="5309280"/>
              <a:ext cx="381600" cy="34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77"/>
            <p:cNvSpPr/>
            <p:nvPr/>
          </p:nvSpPr>
          <p:spPr>
            <a:xfrm>
              <a:off x="5827680" y="565596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78"/>
            <p:cNvSpPr/>
            <p:nvPr/>
          </p:nvSpPr>
          <p:spPr>
            <a:xfrm flipH="1">
              <a:off x="6030000" y="428904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79"/>
            <p:cNvSpPr/>
            <p:nvPr/>
          </p:nvSpPr>
          <p:spPr>
            <a:xfrm>
              <a:off x="6007680" y="4044240"/>
              <a:ext cx="102168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б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80"/>
            <p:cNvSpPr/>
            <p:nvPr/>
          </p:nvSpPr>
          <p:spPr>
            <a:xfrm flipH="1">
              <a:off x="4671360" y="41464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1"/>
            <p:cNvSpPr/>
            <p:nvPr/>
          </p:nvSpPr>
          <p:spPr>
            <a:xfrm flipH="1">
              <a:off x="5041800" y="45136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82"/>
            <p:cNvSpPr/>
            <p:nvPr/>
          </p:nvSpPr>
          <p:spPr>
            <a:xfrm>
              <a:off x="5097960" y="4360680"/>
              <a:ext cx="80820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рие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83"/>
            <p:cNvSpPr/>
            <p:nvPr/>
          </p:nvSpPr>
          <p:spPr>
            <a:xfrm>
              <a:off x="4604040" y="3940200"/>
              <a:ext cx="81936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Фор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84"/>
            <p:cNvSpPr/>
            <p:nvPr/>
          </p:nvSpPr>
          <p:spPr>
            <a:xfrm flipV="1">
              <a:off x="4547880" y="4513680"/>
              <a:ext cx="23256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85"/>
            <p:cNvSpPr/>
            <p:nvPr/>
          </p:nvSpPr>
          <p:spPr>
            <a:xfrm>
              <a:off x="3582360" y="4289040"/>
              <a:ext cx="976680" cy="417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Домашня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бо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86"/>
            <p:cNvSpPr/>
            <p:nvPr/>
          </p:nvSpPr>
          <p:spPr>
            <a:xfrm flipV="1">
              <a:off x="2583000" y="384012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87"/>
            <p:cNvSpPr/>
            <p:nvPr/>
          </p:nvSpPr>
          <p:spPr>
            <a:xfrm flipV="1">
              <a:off x="2998440" y="422784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88"/>
            <p:cNvSpPr/>
            <p:nvPr/>
          </p:nvSpPr>
          <p:spPr>
            <a:xfrm>
              <a:off x="1437840" y="393228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нтрольн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89"/>
            <p:cNvSpPr/>
            <p:nvPr/>
          </p:nvSpPr>
          <p:spPr>
            <a:xfrm>
              <a:off x="2392200" y="4370760"/>
              <a:ext cx="6847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с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90"/>
            <p:cNvSpPr/>
            <p:nvPr/>
          </p:nvSpPr>
          <p:spPr>
            <a:xfrm>
              <a:off x="2897280" y="51969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91"/>
            <p:cNvSpPr/>
            <p:nvPr/>
          </p:nvSpPr>
          <p:spPr>
            <a:xfrm>
              <a:off x="2481840" y="56458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92"/>
            <p:cNvSpPr/>
            <p:nvPr/>
          </p:nvSpPr>
          <p:spPr>
            <a:xfrm>
              <a:off x="2032920" y="4972680"/>
              <a:ext cx="1145160" cy="27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жим д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93"/>
            <p:cNvSpPr/>
            <p:nvPr/>
          </p:nvSpPr>
          <p:spPr>
            <a:xfrm>
              <a:off x="1482480" y="5380560"/>
              <a:ext cx="1066320" cy="44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спис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ро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1000080" y="2000160"/>
            <a:ext cx="7143840" cy="2700360"/>
            <a:chOff x="1000080" y="2000160"/>
            <a:chExt cx="7143840" cy="2700360"/>
          </a:xfrm>
        </p:grpSpPr>
        <p:sp>
          <p:nvSpPr>
            <p:cNvPr id="547" name="AutoShape 3"/>
            <p:cNvSpPr/>
            <p:nvPr/>
          </p:nvSpPr>
          <p:spPr>
            <a:xfrm rot="5400000">
              <a:off x="6309360" y="2865960"/>
              <a:ext cx="2197440" cy="1471680"/>
            </a:xfrm>
            <a:prstGeom prst="triangle">
              <a:avLst>
                <a:gd name="adj" fmla="val 50000"/>
              </a:avLst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"/>
            <p:cNvSpPr/>
            <p:nvPr/>
          </p:nvSpPr>
          <p:spPr>
            <a:xfrm>
              <a:off x="6641640" y="3143520"/>
              <a:ext cx="13593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Достоинства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 и недостатки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графических 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хе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"/>
            <p:cNvSpPr/>
            <p:nvPr/>
          </p:nvSpPr>
          <p:spPr>
            <a:xfrm>
              <a:off x="1613160" y="3485160"/>
              <a:ext cx="504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6"/>
            <p:cNvSpPr/>
            <p:nvPr/>
          </p:nvSpPr>
          <p:spPr>
            <a:xfrm>
              <a:off x="56296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7"/>
            <p:cNvSpPr/>
            <p:nvPr/>
          </p:nvSpPr>
          <p:spPr>
            <a:xfrm>
              <a:off x="46792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8"/>
            <p:cNvSpPr/>
            <p:nvPr/>
          </p:nvSpPr>
          <p:spPr>
            <a:xfrm>
              <a:off x="3697920" y="2409480"/>
              <a:ext cx="909360" cy="10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9"/>
            <p:cNvSpPr/>
            <p:nvPr/>
          </p:nvSpPr>
          <p:spPr>
            <a:xfrm>
              <a:off x="2941560" y="249120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0"/>
            <p:cNvSpPr/>
            <p:nvPr/>
          </p:nvSpPr>
          <p:spPr>
            <a:xfrm flipH="1">
              <a:off x="3043800" y="348516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1"/>
            <p:cNvSpPr/>
            <p:nvPr/>
          </p:nvSpPr>
          <p:spPr>
            <a:xfrm flipH="1">
              <a:off x="5087880" y="347364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4147920" y="2479320"/>
              <a:ext cx="12045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Нагляд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360600" y="2000160"/>
              <a:ext cx="13284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Компакт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1695600" y="2010960"/>
              <a:ext cx="12366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бозрим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2451240" y="2468520"/>
              <a:ext cx="1328400" cy="4082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Разнообраз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6"/>
            <p:cNvSpPr/>
            <p:nvPr/>
          </p:nvSpPr>
          <p:spPr>
            <a:xfrm>
              <a:off x="5373360" y="2070000"/>
              <a:ext cx="18190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Привлекате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7"/>
            <p:cNvSpPr/>
            <p:nvPr/>
          </p:nvSpPr>
          <p:spPr>
            <a:xfrm>
              <a:off x="4136760" y="4151520"/>
              <a:ext cx="187164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точ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8"/>
            <p:cNvSpPr/>
            <p:nvPr/>
          </p:nvSpPr>
          <p:spPr>
            <a:xfrm>
              <a:off x="1602720" y="4162680"/>
              <a:ext cx="21664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подробност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9"/>
            <p:cNvSpPr/>
            <p:nvPr/>
          </p:nvSpPr>
          <p:spPr>
            <a:xfrm flipH="1" flipV="1">
              <a:off x="2011320" y="2420640"/>
              <a:ext cx="919800" cy="10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0"/>
            <p:cNvSpPr/>
            <p:nvPr/>
          </p:nvSpPr>
          <p:spPr>
            <a:xfrm flipH="1" flipV="1">
              <a:off x="1715400" y="2970720"/>
              <a:ext cx="439200" cy="50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1000080" y="2701800"/>
              <a:ext cx="12063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истем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рта памяти, интеллект-карта или ментальная карта (Mind maps) – это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технология изображения информации в графическом виде, отражающая связ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смысловые, ассоциативные, причинно-следственные и другие)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ежду понятиями, частями, составляющим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метной области, которую мы изучаем (рассматриваем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т строгих правил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троения интеллект-карт, как нет и неправильных кар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8" name="Заголовок 2" descr=""/>
          <p:cNvPicPr/>
          <p:nvPr/>
        </p:nvPicPr>
        <p:blipFill>
          <a:blip r:embed="rId1"/>
          <a:stretch/>
        </p:blipFill>
        <p:spPr>
          <a:xfrm>
            <a:off x="231840" y="60480"/>
            <a:ext cx="8454960" cy="104904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213840" y="928800"/>
            <a:ext cx="8543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Заголовок 2" descr=""/>
          <p:cNvPicPr/>
          <p:nvPr/>
        </p:nvPicPr>
        <p:blipFill>
          <a:blip r:embed="rId1"/>
          <a:stretch/>
        </p:blipFill>
        <p:spPr>
          <a:xfrm>
            <a:off x="274680" y="103320"/>
            <a:ext cx="8454960" cy="1055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3" descr=""/>
          <p:cNvPicPr/>
          <p:nvPr/>
        </p:nvPicPr>
        <p:blipFill>
          <a:blip r:embed="rId2"/>
          <a:stretch/>
        </p:blipFill>
        <p:spPr>
          <a:xfrm>
            <a:off x="6929280" y="4929120"/>
            <a:ext cx="1386000" cy="1602000"/>
          </a:xfrm>
          <a:prstGeom prst="rect">
            <a:avLst/>
          </a:prstGeom>
          <a:ln w="0">
            <a:noFill/>
          </a:ln>
        </p:spPr>
      </p:pic>
      <p:sp>
        <p:nvSpPr>
          <p:cNvPr id="57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Ментальная карта"/>
          <p:cNvPicPr/>
          <p:nvPr/>
        </p:nvPicPr>
        <p:blipFill>
          <a:blip r:embed="rId1"/>
          <a:stretch/>
        </p:blipFill>
        <p:spPr>
          <a:xfrm>
            <a:off x="1214280" y="1357200"/>
            <a:ext cx="7380360" cy="4741920"/>
          </a:xfrm>
          <a:prstGeom prst="rect">
            <a:avLst/>
          </a:prstGeom>
          <a:ln w="0">
            <a:noFill/>
          </a:ln>
        </p:spPr>
      </p:pic>
      <p:pic>
        <p:nvPicPr>
          <p:cNvPr id="577" name="Заголовок 5" descr=""/>
          <p:cNvPicPr/>
          <p:nvPr/>
        </p:nvPicPr>
        <p:blipFill>
          <a:blip r:embed="rId2"/>
          <a:stretch/>
        </p:blipFill>
        <p:spPr>
          <a:xfrm>
            <a:off x="231840" y="9684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рупповая работа (коллективное творчество, мозговой штурм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конспектирование или аннотирование текстовых материалов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бдумывание проблем, анализ сложных ситуаций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ланиров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инятие решени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0" name="Заголовок 2" descr=""/>
          <p:cNvPicPr/>
          <p:nvPr/>
        </p:nvPicPr>
        <p:blipFill>
          <a:blip r:embed="rId1"/>
          <a:stretch/>
        </p:blipFill>
        <p:spPr>
          <a:xfrm>
            <a:off x="208080" y="55440"/>
            <a:ext cx="8478720" cy="113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"/>
          <p:cNvPicPr/>
          <p:nvPr/>
        </p:nvPicPr>
        <p:blipFill>
          <a:blip r:embed="rId2"/>
          <a:stretch/>
        </p:blipFill>
        <p:spPr>
          <a:xfrm>
            <a:off x="5643720" y="3857760"/>
            <a:ext cx="3112920" cy="2484360"/>
          </a:xfrm>
          <a:prstGeom prst="rect">
            <a:avLst/>
          </a:prstGeom>
          <a:ln w="0">
            <a:noFill/>
          </a:ln>
        </p:spPr>
      </p:pic>
      <p:sp>
        <p:nvSpPr>
          <p:cNvPr id="58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6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ческие схемы как инструмент работы с информаци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ипы графических схем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ластер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денотатный граф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чинная карт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арта памяти (интеллект-карта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сто графических схем на урок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ы схем-опорных конспек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-103320" y="55440"/>
            <a:ext cx="8899560" cy="113364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Графические схемы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зволяют представить тему целиком, наглядно и понятно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то обеспечивает повышение мотивация учащихся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читель может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спользовать готовые графические схемы (в учебниках или на плакатах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троить графические схемы непосредственно на уроке по ходу изложения материал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10238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285840" y="114264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изложении нов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осмысления и закрепления изучаем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обобщении и систематизации изученн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этапе контроля знаний, умений и навыков, присвоенных ученик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2960640" cy="2357280"/>
          </a:xfrm>
          <a:prstGeom prst="rect">
            <a:avLst/>
          </a:prstGeom>
          <a:ln w="0">
            <a:noFill/>
          </a:ln>
        </p:spPr>
      </p:pic>
      <p:sp>
        <p:nvSpPr>
          <p:cNvPr id="589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Object 2"/>
          <p:cNvGraphicFramePr/>
          <p:nvPr/>
        </p:nvGraphicFramePr>
        <p:xfrm>
          <a:off x="142920" y="0"/>
          <a:ext cx="87804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0"/>
                    <a:ext cx="87804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Object 2"/>
          <p:cNvGraphicFramePr/>
          <p:nvPr/>
        </p:nvGraphicFramePr>
        <p:xfrm>
          <a:off x="142920" y="142920"/>
          <a:ext cx="8780400" cy="56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8780400" cy="56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Object 2"/>
          <p:cNvGraphicFramePr/>
          <p:nvPr/>
        </p:nvGraphicFramePr>
        <p:xfrm>
          <a:off x="88920" y="0"/>
          <a:ext cx="896616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01600" y="189000"/>
            <a:ext cx="8485200" cy="1182600"/>
          </a:xfrm>
          <a:prstGeom prst="rect">
            <a:avLst/>
          </a:prstGeom>
          <a:ln w="0">
            <a:noFill/>
          </a:ln>
        </p:spPr>
      </p:pic>
      <p:pic>
        <p:nvPicPr>
          <p:cNvPr id="383" name="Схема 1" descr=""/>
          <p:cNvPicPr/>
          <p:nvPr/>
        </p:nvPicPr>
        <p:blipFill>
          <a:blip r:embed="rId2"/>
          <a:stretch/>
        </p:blipFill>
        <p:spPr>
          <a:xfrm>
            <a:off x="360360" y="1500120"/>
            <a:ext cx="8345520" cy="399888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71360" y="244440"/>
            <a:ext cx="8515440" cy="1382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14240" y="1356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наглядно-образного мышлени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я навыков работы с графической информацией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иксации внимания при усвоении учебного материал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ктивизации учебно-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кретизации изучаемых вопросо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глядной систематизации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классификац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осмысленно учить материал, выделяя в нем главное и отбрасывая второстепенное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построения рассказа, ответа, речи, аргументирования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274680" y="-60480"/>
            <a:ext cx="8412120" cy="1481400"/>
          </a:xfrm>
          <a:prstGeom prst="rect">
            <a:avLst/>
          </a:prstGeom>
          <a:ln w="0">
            <a:noFill/>
          </a:ln>
        </p:spPr>
      </p:pic>
      <p:sp>
        <p:nvSpPr>
          <p:cNvPr id="390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42920" y="107172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рмин «кластер» происходит от английского «cluster» – гроздь,  скопление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 построении кластер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в центральном овале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сполагают ключевое понятие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 овалах второ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– понятия, раскрывающие смысл ключевого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овалах третье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дет детализация понятий, упомянутых на предыдущем уровн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2"/>
          <p:cNvGrpSpPr/>
          <p:nvPr/>
        </p:nvGrpSpPr>
        <p:grpSpPr>
          <a:xfrm>
            <a:off x="1428840" y="4000680"/>
            <a:ext cx="6962760" cy="2547720"/>
            <a:chOff x="1428840" y="4000680"/>
            <a:chExt cx="6962760" cy="2547720"/>
          </a:xfrm>
        </p:grpSpPr>
        <p:grpSp>
          <p:nvGrpSpPr>
            <p:cNvPr id="394" name="Group 3"/>
            <p:cNvGrpSpPr/>
            <p:nvPr/>
          </p:nvGrpSpPr>
          <p:grpSpPr>
            <a:xfrm>
              <a:off x="1428840" y="4000680"/>
              <a:ext cx="6962760" cy="2547720"/>
              <a:chOff x="1428840" y="4000680"/>
              <a:chExt cx="6962760" cy="2547720"/>
            </a:xfrm>
          </p:grpSpPr>
          <p:sp>
            <p:nvSpPr>
              <p:cNvPr id="395" name="Oval 4"/>
              <p:cNvSpPr/>
              <p:nvPr/>
            </p:nvSpPr>
            <p:spPr>
              <a:xfrm>
                <a:off x="4465080" y="4911120"/>
                <a:ext cx="1734840" cy="647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5"/>
              <p:cNvSpPr/>
              <p:nvPr/>
            </p:nvSpPr>
            <p:spPr>
              <a:xfrm>
                <a:off x="4698720" y="5014080"/>
                <a:ext cx="120096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Признаки объект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6"/>
              <p:cNvGrpSpPr/>
              <p:nvPr/>
            </p:nvGrpSpPr>
            <p:grpSpPr>
              <a:xfrm>
                <a:off x="2318400" y="4981680"/>
                <a:ext cx="1267920" cy="609480"/>
                <a:chOff x="2318400" y="4981680"/>
                <a:chExt cx="1267920" cy="609480"/>
              </a:xfrm>
            </p:grpSpPr>
            <p:sp>
              <p:nvSpPr>
                <p:cNvPr id="398" name="Oval 7"/>
                <p:cNvSpPr/>
                <p:nvPr/>
              </p:nvSpPr>
              <p:spPr>
                <a:xfrm>
                  <a:off x="2318400" y="4981680"/>
                  <a:ext cx="126792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8"/>
                <p:cNvSpPr/>
                <p:nvPr/>
              </p:nvSpPr>
              <p:spPr>
                <a:xfrm>
                  <a:off x="2485080" y="5153040"/>
                  <a:ext cx="94536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свойства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Oval 9"/>
              <p:cNvSpPr/>
              <p:nvPr/>
            </p:nvSpPr>
            <p:spPr>
              <a:xfrm>
                <a:off x="4623120" y="4000680"/>
                <a:ext cx="126792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10"/>
              <p:cNvSpPr/>
              <p:nvPr/>
            </p:nvSpPr>
            <p:spPr>
              <a:xfrm>
                <a:off x="4790160" y="4173840"/>
                <a:ext cx="10677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вед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" name="Group 11"/>
              <p:cNvGrpSpPr/>
              <p:nvPr/>
            </p:nvGrpSpPr>
            <p:grpSpPr>
              <a:xfrm>
                <a:off x="7090200" y="4829400"/>
                <a:ext cx="1267560" cy="609480"/>
                <a:chOff x="7090200" y="4829400"/>
                <a:chExt cx="1267560" cy="609480"/>
              </a:xfrm>
            </p:grpSpPr>
            <p:sp>
              <p:nvSpPr>
                <p:cNvPr id="403" name="Oval 12"/>
                <p:cNvSpPr/>
                <p:nvPr/>
              </p:nvSpPr>
              <p:spPr>
                <a:xfrm>
                  <a:off x="7090200" y="4829400"/>
                  <a:ext cx="126756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13"/>
                <p:cNvSpPr/>
                <p:nvPr/>
              </p:nvSpPr>
              <p:spPr>
                <a:xfrm>
                  <a:off x="7256880" y="5000760"/>
                  <a:ext cx="94500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действия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Oval 14"/>
              <p:cNvSpPr/>
              <p:nvPr/>
            </p:nvSpPr>
            <p:spPr>
              <a:xfrm>
                <a:off x="4689360" y="5938920"/>
                <a:ext cx="126756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15"/>
              <p:cNvSpPr/>
              <p:nvPr/>
            </p:nvSpPr>
            <p:spPr>
              <a:xfrm>
                <a:off x="4844880" y="6091200"/>
                <a:ext cx="101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состоя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6"/>
              <p:cNvSpPr/>
              <p:nvPr/>
            </p:nvSpPr>
            <p:spPr>
              <a:xfrm flipV="1">
                <a:off x="5277240" y="4610160"/>
                <a:ext cx="0" cy="2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7"/>
              <p:cNvSpPr/>
              <p:nvPr/>
            </p:nvSpPr>
            <p:spPr>
              <a:xfrm flipH="1">
                <a:off x="3597840" y="5248440"/>
                <a:ext cx="85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18"/>
              <p:cNvSpPr/>
              <p:nvPr/>
            </p:nvSpPr>
            <p:spPr>
              <a:xfrm>
                <a:off x="6189120" y="5210280"/>
                <a:ext cx="90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9"/>
              <p:cNvSpPr/>
              <p:nvPr/>
            </p:nvSpPr>
            <p:spPr>
              <a:xfrm>
                <a:off x="5299560" y="5581800"/>
                <a:ext cx="0" cy="35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0"/>
              <p:cNvSpPr/>
              <p:nvPr/>
            </p:nvSpPr>
            <p:spPr>
              <a:xfrm>
                <a:off x="7145640" y="42386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21"/>
              <p:cNvSpPr/>
              <p:nvPr/>
            </p:nvSpPr>
            <p:spPr>
              <a:xfrm>
                <a:off x="7212600" y="569628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2"/>
              <p:cNvSpPr/>
              <p:nvPr/>
            </p:nvSpPr>
            <p:spPr>
              <a:xfrm>
                <a:off x="1428840" y="5772600"/>
                <a:ext cx="1179000" cy="371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23"/>
              <p:cNvSpPr/>
              <p:nvPr/>
            </p:nvSpPr>
            <p:spPr>
              <a:xfrm>
                <a:off x="3186000" y="58010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24"/>
            <p:cNvSpPr/>
            <p:nvPr/>
          </p:nvSpPr>
          <p:spPr>
            <a:xfrm>
              <a:off x="3330720" y="5858280"/>
              <a:ext cx="9118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зна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540080" y="58294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величи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7234560" y="42670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ак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7301520" y="5743800"/>
              <a:ext cx="10900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пасс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 flipH="1">
              <a:off x="2229120" y="5572440"/>
              <a:ext cx="38916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9"/>
            <p:cNvSpPr/>
            <p:nvPr/>
          </p:nvSpPr>
          <p:spPr>
            <a:xfrm>
              <a:off x="3319560" y="5543640"/>
              <a:ext cx="3780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0"/>
            <p:cNvSpPr/>
            <p:nvPr/>
          </p:nvSpPr>
          <p:spPr>
            <a:xfrm flipV="1">
              <a:off x="7735320" y="460080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1"/>
            <p:cNvSpPr/>
            <p:nvPr/>
          </p:nvSpPr>
          <p:spPr>
            <a:xfrm>
              <a:off x="7757640" y="544860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icture 3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39800" cy="22860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28760" y="1642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несите недостающие надписи в схем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Organization Chart 3"/>
          <p:cNvGrpSpPr/>
          <p:nvPr/>
        </p:nvGrpSpPr>
        <p:grpSpPr>
          <a:xfrm>
            <a:off x="1428840" y="2500200"/>
            <a:ext cx="6429240" cy="2571480"/>
            <a:chOff x="1428840" y="2500200"/>
            <a:chExt cx="6429240" cy="2571480"/>
          </a:xfrm>
        </p:grpSpPr>
        <p:cxnSp>
          <p:nvCxnSpPr>
            <p:cNvPr id="429" name="_s1028"/>
            <p:cNvCxnSpPr>
              <a:stCxn id="430" idx="0"/>
              <a:endCxn id="431" idx="2"/>
            </p:cNvCxnSpPr>
            <p:nvPr/>
          </p:nvCxnSpPr>
          <p:spPr>
            <a:xfrm flipV="1" rot="16200000">
              <a:off x="5668200" y="2536200"/>
              <a:ext cx="450720" cy="2500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2" name="_s1029"/>
            <p:cNvCxnSpPr>
              <a:stCxn id="433" idx="0"/>
              <a:endCxn id="431" idx="2"/>
            </p:cNvCxnSpPr>
            <p:nvPr/>
          </p:nvCxnSpPr>
          <p:spPr>
            <a:xfrm flipV="1" rot="16200000">
              <a:off x="4834440" y="3369960"/>
              <a:ext cx="450720" cy="8334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4" name="_s1030"/>
            <p:cNvCxnSpPr>
              <a:stCxn id="435" idx="0"/>
              <a:endCxn id="431" idx="2"/>
            </p:cNvCxnSpPr>
            <p:nvPr/>
          </p:nvCxnSpPr>
          <p:spPr>
            <a:xfrm flipH="1" flipV="1" rot="5400000">
              <a:off x="4001400" y="3369600"/>
              <a:ext cx="450720" cy="8341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6" name="_s1031"/>
            <p:cNvCxnSpPr>
              <a:stCxn id="437" idx="0"/>
              <a:endCxn id="431" idx="2"/>
            </p:cNvCxnSpPr>
            <p:nvPr/>
          </p:nvCxnSpPr>
          <p:spPr>
            <a:xfrm flipH="1" flipV="1" rot="5400000">
              <a:off x="3167640" y="2536200"/>
              <a:ext cx="450720" cy="25009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31" name="_s1032"/>
            <p:cNvSpPr/>
            <p:nvPr/>
          </p:nvSpPr>
          <p:spPr>
            <a:xfrm>
              <a:off x="3928680" y="250020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и объек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3"/>
            <p:cNvSpPr/>
            <p:nvPr/>
          </p:nvSpPr>
          <p:spPr>
            <a:xfrm>
              <a:off x="14288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4"/>
            <p:cNvSpPr/>
            <p:nvPr/>
          </p:nvSpPr>
          <p:spPr>
            <a:xfrm>
              <a:off x="30956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5"/>
            <p:cNvSpPr/>
            <p:nvPr/>
          </p:nvSpPr>
          <p:spPr>
            <a:xfrm>
              <a:off x="476280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6"/>
            <p:cNvSpPr/>
            <p:nvPr/>
          </p:nvSpPr>
          <p:spPr>
            <a:xfrm>
              <a:off x="6429960" y="4043160"/>
              <a:ext cx="142812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2876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2876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2. Как располагают ключевое поняти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Ключевое понятие располагают в центральном овале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3. Какие понятия раскрывают смысл ключевого понятия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4. Как эти понятия мы разместим на схем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5. Какое из понятий второго уровня детализировано в данном фрагмент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Соответствующую информацию разместим в овалах третье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4:57:46Z</dcterms:created>
  <dc:creator>Владелец</dc:creator>
  <dc:description/>
  <dc:language>en-US</dc:language>
  <cp:lastModifiedBy>LEGION</cp:lastModifiedBy>
  <dcterms:modified xsi:type="dcterms:W3CDTF">2015-04-01T07:43:30Z</dcterms:modified>
  <cp:revision>25</cp:revision>
  <dc:subject/>
  <dc:title>Графические способы представления учебной информации</dc:title>
</cp:coreProperties>
</file>