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5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5.jpeg" ContentType="image/jpeg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30.png" ContentType="image/png"/>
  <Override PartName="/ppt/media/image32.wmf" ContentType="image/x-wmf"/>
  <Override PartName="/ppt/media/image12.png" ContentType="image/png"/>
  <Override PartName="/ppt/media/image10.png" ContentType="image/png"/>
  <Override PartName="/ppt/media/image11.png" ContentType="image/png"/>
  <Override PartName="/ppt/media/image34.wmf" ContentType="image/x-wmf"/>
  <Override PartName="/ppt/media/image7.png" ContentType="image/png"/>
  <Override PartName="/ppt/media/image35.wmf" ContentType="image/x-wmf"/>
  <Override PartName="/ppt/media/image1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14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B6D6B-9A80-4917-80B9-7065355990D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ие способы представления учебн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0969-F264-4228-8FD3-022DD917C9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. Результат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4335-4AAC-41D9-95A4-7C971DBB26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отатный 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отатный граф (от лат. denoto — обозначаю) — очень эффективный способ вычленения из текста существенных признаков ключевого понятия. Правила постро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т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ючевое понят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лово или словосочетание) и проанализируйте его существенные признаки. Впишите ключевое понятие в верхний прямоуголь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можно более точн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берите глаголы, связывающие ключевое понятие и его существенные призна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тражающие движение от понятия к его существенным признакам. Это могут быть самые разнообразные глаголы-связки, с помощью которых осуществляется выход на определение понятия. Впишите глаголы в прямоугольники второго уров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изируйте в прямоугольниках следующего уровн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мысл выбранных вами глагол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ля более полного раскрытия ключевого пон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ите з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едованием имен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менем может быть одно существительное или группа существительных в сочетании с другими именными частями речи) и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лагол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яйте каждый блок включенной в граф информации  с целью исключения возможных ошибок, несоответствий и противореч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23E0B-9D28-42BC-91AA-5BC6165529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отатный 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7073-60D8-42C7-8CDA-9B541C4186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ная ка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ная карта (причинно-следственная диаграмма или диаграмма Исикавы) – графическое изображением, помогающее идентифицировать и наглядно представить причины конкретных событий, явлений, проблем или результа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уемую проблему помещают на правом конце горизонтального отрезка (голова рыб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группы причин распределяют как рыбий ске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каждой первичной причине подводят линии (стрелки) второго порядка, к которым, в свою очередь можно подвести линии третьего порядка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линий, нанесенная на схему, должна представлять собой  в зависимости от ее положения либо причину, либо следствие: предыдущая линия по отношению к последующей всегда выступает как причина, а последующая как следств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F322-2700-4BE5-944A-E04A9E77A3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«шести 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щем случае существуют следующие шесть возможных причин тех или иных результат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materia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удование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machin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рение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measuremen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method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ди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man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managemen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1BB4-33EF-4082-B444-87DCC1A5C6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ная кар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524C-8E9B-4E2A-8833-B68F53998C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памяти (интеллект-кар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памяти, интеллект-карта или ментальная карта (Mind maps) – эт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хнология изображения информации в графическом виде, отражающая связ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мысловые, ассоциативные, причинно-следственные и другие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жду понятиями, частями, составляющим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ной области, которую мы изучаем (рассматривае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т строгих прави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ия интеллект-карт, как нет и неправильных ка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2659-BD4F-447F-9D39-778C6AC8A5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зуализация мыш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 идея: каждую мысль, каждый образ или эмоцию можно представить себе как объект (узел), от которого расходятся во все стороны многочисленные ниточки-связи, ведущие к другим объектам (мыслям, образам, эмоция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зг – хранилище информации – выглядит как огромная система таких объектов и связей между ними, а мышление можно себе представить, как электрический ток, бегущий по связующим ниточкам, будто по проводам, от одного объекта к друго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ление «разбегается» от центрального объекта в разные стороны. Своеобразной моделью такого процесса и является карта памя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F23F-C9E0-488A-A09C-4D047B18D0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памяти. Прим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11998-2955-4F87-AF74-783348207B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ласть примен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ая работа (коллективное творчество, мозговой штурм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пектирование или аннотирование текстовых материал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думывание проблем, анализ сложных ситу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D387-896B-48FC-90AD-86E738AC05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ие схемы как инструмент работы с информа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графических сх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отатный гра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ная кар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а памяти (интеллект-кар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графических схем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ы схем-опорных консп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EC9B-A9F6-42A4-8DA0-F904E92E8C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можности графических сх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фические схе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воляют представить тему целиком, наглядно и понятно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то обеспечивает повышение мотивация учащих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ют скорость, точность и прочность восприятия, запоминания и переработки информации учащимся, что служит основой для генерации идей и принятия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ож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ть готовые графические схемы (в учебниках или на плакатах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ранее готовить к уроку собственные графические схемы (презентации, опорные конспект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ь графические схемы непосредственно на уроке по ходу изложения матер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ть разнообразные виды индивидуальной и коллективной деятельности учащихся по использованию готовых и созданию (под руководством учителя и самостоятельно) собственных графических сх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BB33-4489-43CE-A519-F23DA65D86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рафические схемы используются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зложении нового матер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смысления и закрепления изучаемого матер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общении и систематизации изученного матер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апе контроля знаний, умений и навыков, присвоенных учени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C855-251E-4A67-BC21-92D7CB6D02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запомина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2761-0073-4486-9BF8-1334BE62EF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редства наглядности  – инструмент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я наглядно-образного мыш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я навыков работы с графической информац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ксации внимания при усвоении учебного материа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я познавательного интер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изации учебно-познаватель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ретизации изучаемых вопро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глядной систематизации 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лассиф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ACC8-73DA-4D2C-90A8-FAAC6A65C3B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libri"/>
              </a:rPr>
              <a:t>Графические схемы как инструмент работы с информацией</a:t>
            </a:r>
            <a:br>
              <a:rPr sz="1100"/>
            </a:b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Лавинообразный рост информации требует от человека навыков работы с книгой, справочной и другой литературой, с цифровыми информационными источниками, с распределенным информационным ресурсом сети Интернет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Эффективная работа с большими информационными объемами требует развития мыслительных умений высокого уровня, включающих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620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мение осмысленно учить материал, выделяя в нем главное и отбрасывая второстепенное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620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мение анализировать, сравнивать, классифицировать, устанавливать причинно-следственные связи и т.д.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620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мение построения рассказа, ответа, речи, аргументирования;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6206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умение формулирования выводов, умозаключений; умение построения плана действий, самостоятельного принятия решения и т.д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ощным визуальным инструментом развития перечисленных умений и навыков являются разнообразные графические схемы - разновидность информационных моделей, навыки построения и исследования которых в наши дни относятся к разряду общеучебных и систематически формируются на уроках информатики и ИКТ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DF93-98E6-4AD3-B297-676BB8B6F9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н «кластер» происходит от английского «cluster» – гроздь,  скопл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строении класте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 центральном овал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олагают ключевое понят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овалах второго уровн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понятия, раскрывающие смысл ключевог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 овалах третьего уровн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дет детализация понятий, упомянутых на предыдущем уров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8CCBD-3C3D-459F-860D-A7C4F0CB07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. Пример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сите недостающие надписи в сх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D667-1ACA-458C-8BC9-B6240ECA17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Кластер. Пример зада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38"/>
              </a:spcBef>
              <a:buClr>
                <a:srgbClr val="000000"/>
              </a:buClr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</a:rPr>
              <a:t>Проанализируйте текст, выделите в нем ключевые слова и постройте кластер, визуализирующий основные положения изучаемого материала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ерсональный компьютер является частью системы «человек – компьютер». Средства, обеспечивающие взаимосвязь между объектами этой системы, называют интерфейсом. Различают аппаратный, программный, аппаратно-программный и пользовательский интерфейс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ппаратный интерфейс — взаимодействие между устройствами компьютера; обеспечивается производителями этого оборудова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ограммный интерфейс — взаимодействие (совместимость) программ между собой, а также программного обеспечения и информационных ресурсов; обеспечивается разработчиками программного обеспечения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ппаратно-программный и пользовательский интерфейс обеспечивается операционной системой компьютер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Аппаратно-программный интерфейс — взаимодействие аппаратного и программного обеспечения компьютера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ользовательский интерфейс — взаимодействие человека и компьютера. Пользовательский интерфейс на основе меню предлагает возможность выбора управляющей команды из меню (списка команд). В графическом интерфейсе компьютерные объекты представляются небольшими рисунками (значками). Нужный значок выбирают с помощью мыши. Кроме значков используются также тексты (для подсказок) и меню (для выбора команд). Трехмерный интерфейс позволяет осуществлять навигацию в трехмерном компьютерном пространстве. Указав мышью на дверь виртуального музея, можно в него войти. В виртуальном зале можно оглядеться, подойти к любой картине и рассмотреть ее более подробно. Такой интерфейс имитирует реальный мир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5A21-9F6C-4C38-9AB3-898FD79ED0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тер. Методика постро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Какое понятие в представленном фрагменте является самым главным, ключевым?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нтерфей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ак располагают ключевое понятие?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лючевое понятие располагают в центральном овал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акие понятия раскрывают смысл ключевого понятия?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то понятия: аппаратный интерфейс, программный интерфейс, аппаратно-программный интерфейс, пользовательский интерфей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ак эти понятия мы разместим на схеме?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нятия, раскрывающие смысл ключевого, следует размещать в овалах второго уров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акое из понятий второго уровня детализировано в данном фрагменте?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ьзовательский интерфейс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ак мы на схеме отразим детализацию понятия «пользовательский интерфейс»?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ответствующую информацию разместим в овалах третьего уровн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227E-F9D9-4E5D-9BDF-929D7F1E86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31C9-C7CA-4ADC-B4C4-048C42053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6B52-0DBE-4060-8DAC-10BD62C1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112C-122D-4679-A85C-B6D676C9C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6D6D-1143-4486-9993-9E19A93E4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FB9E-B33F-4321-9AC7-C5324B0A1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2068-CFFC-4535-B449-289F9A93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1A65-130B-4F65-A89E-EBBF1066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5BC1-61AF-4A72-B44B-98C8320AE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656B-1290-4745-A62A-BF0BB1616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2821-B19C-43B7-9282-848039E9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B91A-37E4-49D7-841C-BF8A23AD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E5DF-C61A-4C63-BB70-42DEE7B75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52D2-0908-4826-AB9E-E36A7F8C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6D95-4A97-4E32-B39E-DF31720F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22E9-72CF-4114-9033-0469BC128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E2406-2B9A-410B-A974-162568D9A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02114-CB42-48E4-8715-2A1176577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D27AE-89A4-4E1C-A6F6-5CAAA47AB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428FF-778A-47B1-B8E4-A83A8086A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F0223-C92C-4EA7-A22E-C2E2D517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61399-2B5E-4A7D-8762-A64C4F31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21BD7-F623-4488-AEC1-6C8DD669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E12A-326C-4674-BD0C-9DB44C71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E6937-F31E-41BC-85EB-FCB2AE73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D6C2B-6229-4AAE-8DBC-1A439B4C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A03AA-2BD3-4853-8D99-A675BD0D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B5884-9D33-4993-8748-502A67BC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3A55E-A169-4775-BE9B-711243F3C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2A7E5-C780-4430-B84C-5C8C2C212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FF6BB-C8E1-4EE8-8070-68C13E647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28392-361A-4023-8626-E545C378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5EBB0-6912-4BD7-9FED-6124439B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64FBE-5EB5-4A7A-997B-50974AF8C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4D8A-54AF-4F2E-B634-6C3DDD60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D837F-E426-41CD-9300-490C6C7E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BAC62-662C-4399-A837-8E314CCB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BA9B3-FB69-43A1-9B1A-A13BE016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A2BC3-FC48-4158-AE83-F3756455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BD5C9-41AE-4887-A377-EA0EFC5F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1FAF3-A40B-4136-A506-DE07174D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A3C98-7E27-4160-A1E9-7153F4E29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FFF62-98D5-4814-8F87-E42F4E3CC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6AFCF-977B-48D6-BCDF-7629B55E2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F89F1-7D00-44E1-9BF8-8CC3B101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6A44-B32D-40C9-9EE1-261E8553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8889E-DC85-4613-A649-96C110C7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6C704-5049-4888-8E78-DED72564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73ED4-4D5A-4720-9F67-57BDB26B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DEA3B-D99C-4D1E-ABF0-A85BF470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F0C40-C354-49C9-B2DF-5953498A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873CC-FCFE-495A-817F-4374EBFD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A54C0-341E-42FC-B18F-EDE8AC01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F5EEE-02F0-401F-AEE1-0E706502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7B339-A6A4-4811-96D3-29F86FAE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EE01E1-C304-4A08-AF7E-14CEF17D1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5E69-8FAB-408C-928A-459A6934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F2A7F-D9C9-4849-9879-265A72EAF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7F661-EB23-4FF1-BDCC-F623E5C9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4A6D3-B754-4CE6-A56B-E09CA79E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480E7-75EB-4397-AC49-B1AE70E44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3CF0C7-80D0-4B27-B8D0-A5A6F348B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57212-2A32-48B5-B414-3C476C19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A562D-2398-4CE6-B077-E815147F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8A569-B88F-43F6-8928-74B686BC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5D1AF-CC2D-4BE4-8438-14845955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E1C29-DFBC-4625-8F0B-359A095F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5B5A-219E-4603-A523-88346B3F3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9080A-CCA4-4700-8A27-46065FD5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FDD75-BD16-47A9-B704-1ED87074A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FCD0D-5A21-4CD2-B79D-BF1B2EEA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4DAF1-7D97-491F-880E-57D7638D2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D02F39-C76D-4F7C-9EB2-F8F7B2FD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88B60-D3C3-48A3-BDCD-F2D13D1D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8BA23-3784-4740-9527-A4E26A3DF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DEC6A-171F-4163-8448-17080C52C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3B930-31D1-46E4-889E-A5341748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01CC3D-B02B-456D-9740-7F24492A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A741-F530-4A74-B99B-21EF726F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45875-A728-489E-B9DF-FC00D4C5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6FAFC-4C74-4186-AE5A-81858222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B299D-493E-4A07-83EF-B8ACA3130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41654-B76D-4A5C-BA06-CF5CDAC2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7C9B1-72D1-467D-81A3-948B1A605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7DF32-9CA2-4FDF-B1A7-6BA81148A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12BF1C-4F9F-440A-8577-857A5886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649D6-9793-48FD-AD21-D998E966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9B895-2525-43D8-A652-A9C9F14C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FCC35-9089-49D4-915D-BB1AEED81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4F07-F6A7-4B81-849F-6EAE4EA3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41CD81-C96F-4220-A9F4-F644FFA69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21F153-CA21-4E04-A761-2E274792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00DFF-6825-4A30-AE16-F7F270D7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E9F61-C75A-4262-9661-6EAD4149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62BE40-AD6E-41B0-BEF1-F3AEAC80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82332-6497-4069-9CEF-8D9E6E10D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000C9C-DE17-4D1B-B87D-3AF2A578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A465-8191-438F-AC71-70BBE3476BCC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9818-1871-4763-96B1-35AA7498FCC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41DC-372F-400B-A601-8E70EDFE92F7}" type="datetime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e8f0f4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8f0f4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C2A2-660B-490D-8BEA-9ADD85A3AA62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3838-BB93-48CE-A374-22A62B4BFC61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FC50-5DC5-4556-8D92-4A43AD98BBEE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5D39-1089-4B0E-A940-FEF2D3A6484C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3594-B32D-419E-94B4-085D0001E324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9194-CB81-4DAC-AD9A-2F05A8CA9930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E695-F1E3-403E-8852-FE7C8400D29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16C5-46EE-45C9-8CFF-DFDED61F6E5B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C511-317D-4550-BB71-48FC262C799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1C89-ECAA-4A9B-A8EA-29F211B92CCE}" type="datetime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DAF0-9C4A-4B1A-A127-85A597F02302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B6E2-1FA0-4BE0-B0C1-1A4E3E65EA14}" type="datetime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5B4C-0234-4220-A2E2-2456154AF539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1000080" y="1633680"/>
            <a:ext cx="8199360" cy="2536560"/>
          </a:xfrm>
          <a:prstGeom prst="rect">
            <a:avLst/>
          </a:prstGeom>
          <a:ln w="0">
            <a:noFill/>
          </a:ln>
        </p:spPr>
      </p:pic>
      <p:sp>
        <p:nvSpPr>
          <p:cNvPr id="378" name="Подзаголовок 2"/>
          <p:cNvSpPr/>
          <p:nvPr/>
        </p:nvSpPr>
        <p:spPr>
          <a:xfrm>
            <a:off x="714240" y="142920"/>
            <a:ext cx="777240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64646"/>
                </a:solidFill>
                <a:latin typeface="Lucida Sans Unicode"/>
              </a:rPr>
              <a:t>Босова Людмила Леонид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akulll@mail.r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13"/>
          <p:cNvGrpSpPr/>
          <p:nvPr/>
        </p:nvGrpSpPr>
        <p:grpSpPr>
          <a:xfrm>
            <a:off x="642960" y="1214280"/>
            <a:ext cx="7429320" cy="4357440"/>
            <a:chOff x="642960" y="1214280"/>
            <a:chExt cx="7429320" cy="4357440"/>
          </a:xfrm>
        </p:grpSpPr>
        <p:grpSp>
          <p:nvGrpSpPr>
            <p:cNvPr id="450" name="Group 14"/>
            <p:cNvGrpSpPr/>
            <p:nvPr/>
          </p:nvGrpSpPr>
          <p:grpSpPr>
            <a:xfrm>
              <a:off x="1357200" y="1214280"/>
              <a:ext cx="6512400" cy="3445920"/>
              <a:chOff x="1357200" y="1214280"/>
              <a:chExt cx="6512400" cy="3445920"/>
            </a:xfrm>
          </p:grpSpPr>
          <p:sp>
            <p:nvSpPr>
              <p:cNvPr id="451" name="Oval 15"/>
              <p:cNvSpPr/>
              <p:nvPr/>
            </p:nvSpPr>
            <p:spPr>
              <a:xfrm>
                <a:off x="3666960" y="2451600"/>
                <a:ext cx="1857240" cy="8798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Text Box 16"/>
              <p:cNvSpPr/>
              <p:nvPr/>
            </p:nvSpPr>
            <p:spPr>
              <a:xfrm>
                <a:off x="3916800" y="2591280"/>
                <a:ext cx="1285920" cy="72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Интерфей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Oval 17"/>
              <p:cNvSpPr/>
              <p:nvPr/>
            </p:nvSpPr>
            <p:spPr>
              <a:xfrm>
                <a:off x="1369080" y="2547000"/>
                <a:ext cx="1357200" cy="828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18"/>
              <p:cNvSpPr/>
              <p:nvPr/>
            </p:nvSpPr>
            <p:spPr>
              <a:xfrm>
                <a:off x="1357200" y="2754360"/>
                <a:ext cx="1416600" cy="40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Calibri"/>
                  </a:rPr>
                  <a:t>аппаратный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Oval 19"/>
              <p:cNvSpPr/>
              <p:nvPr/>
            </p:nvSpPr>
            <p:spPr>
              <a:xfrm>
                <a:off x="3835800" y="1214280"/>
                <a:ext cx="1357200" cy="828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20"/>
              <p:cNvSpPr/>
              <p:nvPr/>
            </p:nvSpPr>
            <p:spPr>
              <a:xfrm>
                <a:off x="3717000" y="1307520"/>
                <a:ext cx="1619280" cy="62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Calibri"/>
                  </a:rPr>
                  <a:t>аппаратно-программный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Oval 21"/>
              <p:cNvSpPr/>
              <p:nvPr/>
            </p:nvSpPr>
            <p:spPr>
              <a:xfrm>
                <a:off x="6476760" y="2340000"/>
                <a:ext cx="1357200" cy="8280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Text Box 22"/>
              <p:cNvSpPr/>
              <p:nvPr/>
            </p:nvSpPr>
            <p:spPr>
              <a:xfrm>
                <a:off x="6512400" y="2573280"/>
                <a:ext cx="1357200" cy="40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Calibri"/>
                  </a:rPr>
                  <a:t>программный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Oval 23"/>
              <p:cNvSpPr/>
              <p:nvPr/>
            </p:nvSpPr>
            <p:spPr>
              <a:xfrm>
                <a:off x="3856680" y="3831840"/>
                <a:ext cx="1500120" cy="8283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Text Box 24"/>
              <p:cNvSpPr/>
              <p:nvPr/>
            </p:nvSpPr>
            <p:spPr>
              <a:xfrm>
                <a:off x="3761280" y="4064760"/>
                <a:ext cx="1761840" cy="40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Calibri"/>
                  </a:rPr>
                  <a:t>пользовательский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25"/>
              <p:cNvSpPr/>
              <p:nvPr/>
            </p:nvSpPr>
            <p:spPr>
              <a:xfrm flipV="1">
                <a:off x="4536000" y="2042640"/>
                <a:ext cx="0" cy="401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26"/>
              <p:cNvSpPr/>
              <p:nvPr/>
            </p:nvSpPr>
            <p:spPr>
              <a:xfrm flipH="1">
                <a:off x="2738160" y="2909520"/>
                <a:ext cx="916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27"/>
              <p:cNvSpPr/>
              <p:nvPr/>
            </p:nvSpPr>
            <p:spPr>
              <a:xfrm>
                <a:off x="5512320" y="2857680"/>
                <a:ext cx="964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28"/>
              <p:cNvSpPr/>
              <p:nvPr/>
            </p:nvSpPr>
            <p:spPr>
              <a:xfrm>
                <a:off x="4619520" y="3362400"/>
                <a:ext cx="0" cy="478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" name="Oval 29"/>
            <p:cNvSpPr/>
            <p:nvPr/>
          </p:nvSpPr>
          <p:spPr>
            <a:xfrm>
              <a:off x="642960" y="4743720"/>
              <a:ext cx="1559520" cy="59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30"/>
            <p:cNvSpPr/>
            <p:nvPr/>
          </p:nvSpPr>
          <p:spPr>
            <a:xfrm>
              <a:off x="3893400" y="4925160"/>
              <a:ext cx="1559520" cy="59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31"/>
            <p:cNvSpPr/>
            <p:nvPr/>
          </p:nvSpPr>
          <p:spPr>
            <a:xfrm>
              <a:off x="6512760" y="4717800"/>
              <a:ext cx="1559520" cy="595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32"/>
            <p:cNvSpPr/>
            <p:nvPr/>
          </p:nvSpPr>
          <p:spPr>
            <a:xfrm flipH="1">
              <a:off x="1702440" y="4316760"/>
              <a:ext cx="2154960" cy="43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33"/>
            <p:cNvSpPr/>
            <p:nvPr/>
          </p:nvSpPr>
          <p:spPr>
            <a:xfrm>
              <a:off x="5333760" y="4251960"/>
              <a:ext cx="2059920" cy="45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34"/>
            <p:cNvSpPr/>
            <p:nvPr/>
          </p:nvSpPr>
          <p:spPr>
            <a:xfrm>
              <a:off x="4619520" y="4679280"/>
              <a:ext cx="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 Box 35"/>
            <p:cNvSpPr/>
            <p:nvPr/>
          </p:nvSpPr>
          <p:spPr>
            <a:xfrm>
              <a:off x="842760" y="4782600"/>
              <a:ext cx="121428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на основе меню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Text Box 36"/>
            <p:cNvSpPr/>
            <p:nvPr/>
          </p:nvSpPr>
          <p:spPr>
            <a:xfrm>
              <a:off x="3938400" y="4989600"/>
              <a:ext cx="135720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графически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Text Box 37"/>
            <p:cNvSpPr/>
            <p:nvPr/>
          </p:nvSpPr>
          <p:spPr>
            <a:xfrm>
              <a:off x="6522120" y="4769640"/>
              <a:ext cx="1452240" cy="58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трехмерны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28400" y="857160"/>
            <a:ext cx="84294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Денотатный граф (от лат. denoto — обозначаю) — очень эффективный способ вычленения из текста существенных признаков ключевого понятия. Правила построения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Выделите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ключевое понятие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(слово или словосочетание) и проанализируйте его существенные признаки. Впишите ключевое понятие в верхний прямоугольник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Как можно более точно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подберите глаголы, связывающие ключевое понятие и его существенные признаки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, отражающие движение от понятия к его существенным признакам. Это могут быть самые разнообразные глаголы-связки, с помощью которых осуществляется выход на определение понятия. Впишите глаголы в прямоугольники второго уровня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Конкретизируйте в прямоугольниках следующего уровня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смысл выбранных вами глаголов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 для более полного раскрытия ключевого понятия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Следите за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чередованием имени 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(именем может быть одно существительное или группа существительных в сочетании с другими именными частями речи) и </a:t>
            </a: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глагола</a:t>
            </a: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Проверяйте каждый блок включенной в граф информации  с целью исключения возможных ошибок, несоответствий и противоречий.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6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80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3" name="Object 1"/>
          <p:cNvGraphicFramePr/>
          <p:nvPr/>
        </p:nvGraphicFramePr>
        <p:xfrm>
          <a:off x="214200" y="1071720"/>
          <a:ext cx="8643960" cy="478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4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200" y="1071720"/>
                    <a:ext cx="8643960" cy="47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5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8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7200" y="114300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Причинная карта (причинно-следственная диаграмма или диаграмма Исикавы) – графическое изображением, помогающее идентифицировать и наглядно представить причины конкретных событий, явлений, проблем или результатов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Анализируемую проблему помещают на правом конце горизонтального отрезка (голова рыбы)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Основные группы причин распределяют как рыбий скелет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К каждой первичной причине подводят линии (стрелки) второго порядка, к которым, в свою очередь можно подвести линии третьего порядка и т. д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Каждая из линий, нанесенная на схему, должна представлять собой  в зависимости от ее положения либо причину, либо следствие: предыдущая линия по отношению к последующей всегда выступает как причина, а последующая как следствие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2"/>
          <a:stretch/>
        </p:blipFill>
        <p:spPr>
          <a:xfrm>
            <a:off x="6645240" y="5645160"/>
            <a:ext cx="2084400" cy="852480"/>
          </a:xfrm>
          <a:prstGeom prst="rect">
            <a:avLst/>
          </a:prstGeom>
          <a:ln w="0">
            <a:noFill/>
          </a:ln>
        </p:spPr>
      </p:pic>
      <p:sp>
        <p:nvSpPr>
          <p:cNvPr id="491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9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114300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В общем случае существуют следующие шесть возможных причин тех или иных результатов: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материал (</a:t>
            </a: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material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),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оборудование (</a:t>
            </a: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machine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),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измерение (</a:t>
            </a: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measurement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),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метод (</a:t>
            </a: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method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),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люди (</a:t>
            </a: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man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),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менеджмент (</a:t>
            </a:r>
            <a:r>
              <a:rPr b="1" lang="ru-RU" sz="1700" spc="-1" strike="noStrike">
                <a:solidFill>
                  <a:srgbClr val="000000"/>
                </a:solidFill>
                <a:latin typeface="Lucida Sans Unicode"/>
              </a:rPr>
              <a:t>management</a:t>
            </a: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).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Group 48"/>
          <p:cNvGrpSpPr/>
          <p:nvPr/>
        </p:nvGrpSpPr>
        <p:grpSpPr>
          <a:xfrm>
            <a:off x="1000080" y="3429000"/>
            <a:ext cx="7571520" cy="2927520"/>
            <a:chOff x="1000080" y="3429000"/>
            <a:chExt cx="7571520" cy="2927520"/>
          </a:xfrm>
        </p:grpSpPr>
        <p:sp>
          <p:nvSpPr>
            <p:cNvPr id="497" name="Line 49"/>
            <p:cNvSpPr/>
            <p:nvPr/>
          </p:nvSpPr>
          <p:spPr>
            <a:xfrm>
              <a:off x="4716360" y="5288760"/>
              <a:ext cx="280440" cy="25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50"/>
            <p:cNvSpPr/>
            <p:nvPr/>
          </p:nvSpPr>
          <p:spPr>
            <a:xfrm>
              <a:off x="4446720" y="5554080"/>
              <a:ext cx="280440" cy="25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51"/>
            <p:cNvSpPr/>
            <p:nvPr/>
          </p:nvSpPr>
          <p:spPr>
            <a:xfrm>
              <a:off x="3941640" y="5452200"/>
              <a:ext cx="280440" cy="25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Group 52"/>
            <p:cNvGrpSpPr/>
            <p:nvPr/>
          </p:nvGrpSpPr>
          <p:grpSpPr>
            <a:xfrm>
              <a:off x="1000080" y="3429000"/>
              <a:ext cx="7571520" cy="2927520"/>
              <a:chOff x="1000080" y="3429000"/>
              <a:chExt cx="7571520" cy="2927520"/>
            </a:xfrm>
          </p:grpSpPr>
          <p:grpSp>
            <p:nvGrpSpPr>
              <p:cNvPr id="501" name="Group 53"/>
              <p:cNvGrpSpPr/>
              <p:nvPr/>
            </p:nvGrpSpPr>
            <p:grpSpPr>
              <a:xfrm>
                <a:off x="1795680" y="3690000"/>
                <a:ext cx="6775920" cy="2355840"/>
                <a:chOff x="1795680" y="3690000"/>
                <a:chExt cx="6775920" cy="2355840"/>
              </a:xfrm>
            </p:grpSpPr>
            <p:grpSp>
              <p:nvGrpSpPr>
                <p:cNvPr id="502" name="Group 54"/>
                <p:cNvGrpSpPr/>
                <p:nvPr/>
              </p:nvGrpSpPr>
              <p:grpSpPr>
                <a:xfrm>
                  <a:off x="2098800" y="3974040"/>
                  <a:ext cx="6472800" cy="1734120"/>
                  <a:chOff x="2098800" y="3974040"/>
                  <a:chExt cx="6472800" cy="1734120"/>
                </a:xfrm>
              </p:grpSpPr>
              <p:sp>
                <p:nvSpPr>
                  <p:cNvPr id="503" name="Line 55"/>
                  <p:cNvSpPr/>
                  <p:nvPr/>
                </p:nvSpPr>
                <p:spPr>
                  <a:xfrm>
                    <a:off x="2098800" y="4866120"/>
                    <a:ext cx="4951800" cy="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AutoShape 56"/>
                  <p:cNvSpPr/>
                  <p:nvPr/>
                </p:nvSpPr>
                <p:spPr>
                  <a:xfrm rot="5400000">
                    <a:off x="6953040" y="4089600"/>
                    <a:ext cx="1734120" cy="15030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Text Box 57"/>
                  <p:cNvSpPr/>
                  <p:nvPr/>
                </p:nvSpPr>
                <p:spPr>
                  <a:xfrm>
                    <a:off x="6999840" y="4559400"/>
                    <a:ext cx="1515960" cy="591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spcBef>
                        <a:spcPts val="499"/>
                      </a:spcBef>
                      <a:spcAft>
                        <a:spcPts val="499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Низкая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spcAft>
                        <a:spcPts val="1001"/>
                      </a:spcAft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ru-RU" sz="1100" spc="-1" strike="noStrike">
                        <a:solidFill>
                          <a:srgbClr val="000000"/>
                        </a:solidFill>
                        <a:latin typeface="Calibri"/>
                      </a:rPr>
                      <a:t>успеваемость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6" name="Line 58"/>
                <p:cNvSpPr/>
                <p:nvPr/>
              </p:nvSpPr>
              <p:spPr>
                <a:xfrm>
                  <a:off x="5117760" y="3690000"/>
                  <a:ext cx="1263240" cy="1172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Line 59"/>
                <p:cNvSpPr/>
                <p:nvPr/>
              </p:nvSpPr>
              <p:spPr>
                <a:xfrm>
                  <a:off x="3930480" y="3700080"/>
                  <a:ext cx="1262880" cy="1172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Line 60"/>
                <p:cNvSpPr/>
                <p:nvPr/>
              </p:nvSpPr>
              <p:spPr>
                <a:xfrm>
                  <a:off x="2667240" y="3700080"/>
                  <a:ext cx="1263240" cy="1172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Line 61"/>
                <p:cNvSpPr/>
                <p:nvPr/>
              </p:nvSpPr>
              <p:spPr>
                <a:xfrm flipV="1">
                  <a:off x="2654640" y="4842360"/>
                  <a:ext cx="1263240" cy="1172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Line 62"/>
                <p:cNvSpPr/>
                <p:nvPr/>
              </p:nvSpPr>
              <p:spPr>
                <a:xfrm flipV="1">
                  <a:off x="3892320" y="4872960"/>
                  <a:ext cx="1263240" cy="1172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Line 63"/>
                <p:cNvSpPr/>
                <p:nvPr/>
              </p:nvSpPr>
              <p:spPr>
                <a:xfrm flipV="1">
                  <a:off x="5054760" y="4872960"/>
                  <a:ext cx="1262880" cy="11728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Line 64"/>
                <p:cNvSpPr/>
                <p:nvPr/>
              </p:nvSpPr>
              <p:spPr>
                <a:xfrm>
                  <a:off x="1795680" y="4577400"/>
                  <a:ext cx="303120" cy="264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Line 65"/>
                <p:cNvSpPr/>
                <p:nvPr/>
              </p:nvSpPr>
              <p:spPr>
                <a:xfrm flipV="1">
                  <a:off x="1833480" y="4832280"/>
                  <a:ext cx="303120" cy="2649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4" name="Text Box 66"/>
              <p:cNvSpPr/>
              <p:nvPr/>
            </p:nvSpPr>
            <p:spPr>
              <a:xfrm>
                <a:off x="3475800" y="4910040"/>
                <a:ext cx="2412720" cy="2854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Учебный процесс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Text Box 67"/>
              <p:cNvSpPr/>
              <p:nvPr/>
            </p:nvSpPr>
            <p:spPr>
              <a:xfrm>
                <a:off x="3492720" y="6071040"/>
                <a:ext cx="921960" cy="2854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69696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Люди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Text Box 68"/>
              <p:cNvSpPr/>
              <p:nvPr/>
            </p:nvSpPr>
            <p:spPr>
              <a:xfrm>
                <a:off x="5168520" y="3481200"/>
                <a:ext cx="1350720" cy="284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69696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Материал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Text Box 69"/>
              <p:cNvSpPr/>
              <p:nvPr/>
            </p:nvSpPr>
            <p:spPr>
              <a:xfrm>
                <a:off x="5055120" y="6034320"/>
                <a:ext cx="1667880" cy="2854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69696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Оборудовани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70"/>
              <p:cNvSpPr/>
              <p:nvPr/>
            </p:nvSpPr>
            <p:spPr>
              <a:xfrm>
                <a:off x="1163160" y="3429000"/>
                <a:ext cx="1515960" cy="2854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69696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Измерени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71"/>
              <p:cNvSpPr/>
              <p:nvPr/>
            </p:nvSpPr>
            <p:spPr>
              <a:xfrm>
                <a:off x="3349440" y="3516120"/>
                <a:ext cx="1023840" cy="2854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69696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Метод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2"/>
              <p:cNvSpPr/>
              <p:nvPr/>
            </p:nvSpPr>
            <p:spPr>
              <a:xfrm>
                <a:off x="1000080" y="6024600"/>
                <a:ext cx="1666440" cy="28404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969696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Менеджмент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1" name="Text Box 73"/>
            <p:cNvSpPr/>
            <p:nvPr/>
          </p:nvSpPr>
          <p:spPr>
            <a:xfrm>
              <a:off x="4435560" y="5674320"/>
              <a:ext cx="920520" cy="295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одител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74"/>
            <p:cNvSpPr/>
            <p:nvPr/>
          </p:nvSpPr>
          <p:spPr>
            <a:xfrm>
              <a:off x="4862160" y="5299200"/>
              <a:ext cx="920520" cy="295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Ученик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75"/>
            <p:cNvSpPr/>
            <p:nvPr/>
          </p:nvSpPr>
          <p:spPr>
            <a:xfrm>
              <a:off x="3175920" y="5319360"/>
              <a:ext cx="920520" cy="295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Учител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76"/>
            <p:cNvSpPr/>
            <p:nvPr/>
          </p:nvSpPr>
          <p:spPr>
            <a:xfrm>
              <a:off x="5872680" y="5309280"/>
              <a:ext cx="381600" cy="34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Text Box 77"/>
            <p:cNvSpPr/>
            <p:nvPr/>
          </p:nvSpPr>
          <p:spPr>
            <a:xfrm>
              <a:off x="5827680" y="5655960"/>
              <a:ext cx="1223640" cy="295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Компьютер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78"/>
            <p:cNvSpPr/>
            <p:nvPr/>
          </p:nvSpPr>
          <p:spPr>
            <a:xfrm flipH="1">
              <a:off x="6030000" y="4289040"/>
              <a:ext cx="269280" cy="24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79"/>
            <p:cNvSpPr/>
            <p:nvPr/>
          </p:nvSpPr>
          <p:spPr>
            <a:xfrm>
              <a:off x="6007680" y="4044240"/>
              <a:ext cx="1021680" cy="295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Учебник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80"/>
            <p:cNvSpPr/>
            <p:nvPr/>
          </p:nvSpPr>
          <p:spPr>
            <a:xfrm flipH="1">
              <a:off x="4671360" y="4146480"/>
              <a:ext cx="269280" cy="24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81"/>
            <p:cNvSpPr/>
            <p:nvPr/>
          </p:nvSpPr>
          <p:spPr>
            <a:xfrm flipH="1">
              <a:off x="5041800" y="4513680"/>
              <a:ext cx="269280" cy="24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82"/>
            <p:cNvSpPr/>
            <p:nvPr/>
          </p:nvSpPr>
          <p:spPr>
            <a:xfrm>
              <a:off x="5097960" y="4360680"/>
              <a:ext cx="808200" cy="295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Прием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83"/>
            <p:cNvSpPr/>
            <p:nvPr/>
          </p:nvSpPr>
          <p:spPr>
            <a:xfrm>
              <a:off x="4604040" y="3940200"/>
              <a:ext cx="819360" cy="295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Форм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84"/>
            <p:cNvSpPr/>
            <p:nvPr/>
          </p:nvSpPr>
          <p:spPr>
            <a:xfrm flipV="1">
              <a:off x="4547880" y="4513680"/>
              <a:ext cx="232560" cy="12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 Box 85"/>
            <p:cNvSpPr/>
            <p:nvPr/>
          </p:nvSpPr>
          <p:spPr>
            <a:xfrm>
              <a:off x="3582360" y="4289040"/>
              <a:ext cx="976680" cy="417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Домашня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абот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86"/>
            <p:cNvSpPr/>
            <p:nvPr/>
          </p:nvSpPr>
          <p:spPr>
            <a:xfrm flipV="1">
              <a:off x="2583000" y="3840120"/>
              <a:ext cx="224280" cy="20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87"/>
            <p:cNvSpPr/>
            <p:nvPr/>
          </p:nvSpPr>
          <p:spPr>
            <a:xfrm flipV="1">
              <a:off x="2998440" y="4227840"/>
              <a:ext cx="224280" cy="20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 Box 88"/>
            <p:cNvSpPr/>
            <p:nvPr/>
          </p:nvSpPr>
          <p:spPr>
            <a:xfrm>
              <a:off x="1437840" y="3932280"/>
              <a:ext cx="1223640" cy="295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Контрольны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 Box 89"/>
            <p:cNvSpPr/>
            <p:nvPr/>
          </p:nvSpPr>
          <p:spPr>
            <a:xfrm>
              <a:off x="2392200" y="4370760"/>
              <a:ext cx="684720" cy="295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Тест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90"/>
            <p:cNvSpPr/>
            <p:nvPr/>
          </p:nvSpPr>
          <p:spPr>
            <a:xfrm>
              <a:off x="2897280" y="5196960"/>
              <a:ext cx="280440" cy="25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91"/>
            <p:cNvSpPr/>
            <p:nvPr/>
          </p:nvSpPr>
          <p:spPr>
            <a:xfrm>
              <a:off x="2481840" y="5645880"/>
              <a:ext cx="280440" cy="25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92"/>
            <p:cNvSpPr/>
            <p:nvPr/>
          </p:nvSpPr>
          <p:spPr>
            <a:xfrm>
              <a:off x="2032920" y="4972680"/>
              <a:ext cx="1145160" cy="275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ежим дн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93"/>
            <p:cNvSpPr/>
            <p:nvPr/>
          </p:nvSpPr>
          <p:spPr>
            <a:xfrm>
              <a:off x="1482480" y="5380560"/>
              <a:ext cx="1066320" cy="4489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Расписан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imes New Roman"/>
                </a:rPr>
                <a:t>урок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"/>
          <p:cNvGrpSpPr/>
          <p:nvPr/>
        </p:nvGrpSpPr>
        <p:grpSpPr>
          <a:xfrm>
            <a:off x="1000080" y="2000160"/>
            <a:ext cx="7143840" cy="2700360"/>
            <a:chOff x="1000080" y="2000160"/>
            <a:chExt cx="7143840" cy="2700360"/>
          </a:xfrm>
        </p:grpSpPr>
        <p:sp>
          <p:nvSpPr>
            <p:cNvPr id="547" name="AutoShape 3"/>
            <p:cNvSpPr/>
            <p:nvPr/>
          </p:nvSpPr>
          <p:spPr>
            <a:xfrm rot="5400000">
              <a:off x="6309360" y="2865960"/>
              <a:ext cx="2197440" cy="1471680"/>
            </a:xfrm>
            <a:prstGeom prst="triangle">
              <a:avLst>
                <a:gd name="adj" fmla="val 50000"/>
              </a:avLst>
            </a:prstGeom>
            <a:solidFill>
              <a:srgbClr val="2da2bf"/>
            </a:solidFill>
            <a:ln w="55080">
              <a:solidFill>
                <a:srgbClr val="1e76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4"/>
            <p:cNvSpPr/>
            <p:nvPr/>
          </p:nvSpPr>
          <p:spPr>
            <a:xfrm>
              <a:off x="6641640" y="3143520"/>
              <a:ext cx="1359360" cy="12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Достоинства</a:t>
              </a:r>
              <a:br>
                <a:rPr sz="1100"/>
              </a:b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 и недостатки</a:t>
              </a:r>
              <a:br>
                <a:rPr sz="1100"/>
              </a:b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графических </a:t>
              </a:r>
              <a:br>
                <a:rPr sz="1100"/>
              </a:b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схем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5"/>
            <p:cNvSpPr/>
            <p:nvPr/>
          </p:nvSpPr>
          <p:spPr>
            <a:xfrm>
              <a:off x="1613160" y="3485160"/>
              <a:ext cx="5048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6"/>
            <p:cNvSpPr/>
            <p:nvPr/>
          </p:nvSpPr>
          <p:spPr>
            <a:xfrm>
              <a:off x="5629680" y="2479320"/>
              <a:ext cx="848160" cy="97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7"/>
            <p:cNvSpPr/>
            <p:nvPr/>
          </p:nvSpPr>
          <p:spPr>
            <a:xfrm>
              <a:off x="4679280" y="2479320"/>
              <a:ext cx="848160" cy="970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8"/>
            <p:cNvSpPr/>
            <p:nvPr/>
          </p:nvSpPr>
          <p:spPr>
            <a:xfrm>
              <a:off x="3697920" y="2409480"/>
              <a:ext cx="909360" cy="104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9"/>
            <p:cNvSpPr/>
            <p:nvPr/>
          </p:nvSpPr>
          <p:spPr>
            <a:xfrm>
              <a:off x="2941560" y="2491200"/>
              <a:ext cx="848160" cy="97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10"/>
            <p:cNvSpPr/>
            <p:nvPr/>
          </p:nvSpPr>
          <p:spPr>
            <a:xfrm flipH="1">
              <a:off x="3043800" y="3485160"/>
              <a:ext cx="848160" cy="97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11"/>
            <p:cNvSpPr/>
            <p:nvPr/>
          </p:nvSpPr>
          <p:spPr>
            <a:xfrm flipH="1">
              <a:off x="5087880" y="3473640"/>
              <a:ext cx="848160" cy="97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Text Box 12"/>
            <p:cNvSpPr/>
            <p:nvPr/>
          </p:nvSpPr>
          <p:spPr>
            <a:xfrm>
              <a:off x="4147920" y="2479320"/>
              <a:ext cx="1204560" cy="4100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Наглядност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Text Box 13"/>
            <p:cNvSpPr/>
            <p:nvPr/>
          </p:nvSpPr>
          <p:spPr>
            <a:xfrm>
              <a:off x="3360600" y="2000160"/>
              <a:ext cx="1328400" cy="4100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Компактност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 Box 14"/>
            <p:cNvSpPr/>
            <p:nvPr/>
          </p:nvSpPr>
          <p:spPr>
            <a:xfrm>
              <a:off x="1695600" y="2010960"/>
              <a:ext cx="1236600" cy="4100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Обозримост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15"/>
            <p:cNvSpPr/>
            <p:nvPr/>
          </p:nvSpPr>
          <p:spPr>
            <a:xfrm>
              <a:off x="2451240" y="2468520"/>
              <a:ext cx="1328400" cy="4082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Разнообраз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 Box 16"/>
            <p:cNvSpPr/>
            <p:nvPr/>
          </p:nvSpPr>
          <p:spPr>
            <a:xfrm>
              <a:off x="5373360" y="2070000"/>
              <a:ext cx="1819080" cy="4100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Привлекательност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 Box 17"/>
            <p:cNvSpPr/>
            <p:nvPr/>
          </p:nvSpPr>
          <p:spPr>
            <a:xfrm>
              <a:off x="4136760" y="4151520"/>
              <a:ext cx="1871640" cy="4100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Отсутствие точности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 Box 18"/>
            <p:cNvSpPr/>
            <p:nvPr/>
          </p:nvSpPr>
          <p:spPr>
            <a:xfrm>
              <a:off x="1602720" y="4162680"/>
              <a:ext cx="2166480" cy="4100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Отсутствие подробносте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19"/>
            <p:cNvSpPr/>
            <p:nvPr/>
          </p:nvSpPr>
          <p:spPr>
            <a:xfrm flipH="1" flipV="1">
              <a:off x="2011320" y="2420640"/>
              <a:ext cx="919800" cy="10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20"/>
            <p:cNvSpPr/>
            <p:nvPr/>
          </p:nvSpPr>
          <p:spPr>
            <a:xfrm flipH="1" flipV="1">
              <a:off x="1715400" y="2970720"/>
              <a:ext cx="439200" cy="50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 Box 21"/>
            <p:cNvSpPr/>
            <p:nvPr/>
          </p:nvSpPr>
          <p:spPr>
            <a:xfrm>
              <a:off x="1000080" y="2701800"/>
              <a:ext cx="1206360" cy="410040"/>
            </a:xfrm>
            <a:prstGeom prst="rect">
              <a:avLst/>
            </a:prstGeom>
            <a:gradFill rotWithShape="0">
              <a:gsLst>
                <a:gs pos="0">
                  <a:srgbClr val="95d4ee"/>
                </a:gs>
                <a:gs pos="100000">
                  <a:srgbClr val="d6f3ff"/>
                </a:gs>
              </a:gsLst>
              <a:lin ang="16200000"/>
            </a:gradFill>
            <a:ln w="9360">
              <a:solidFill>
                <a:srgbClr val="2da2bf"/>
              </a:solidFill>
              <a:miter/>
            </a:ln>
            <a:effectLst>
              <a:outerShdw dist="3816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Calibri"/>
                </a:rPr>
                <a:t>Системность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Карта памяти, интеллект-карта или ментальная карта (Mind maps) – это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технология изображения информации в графическом виде, отражающая связи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смысловые, ассоциативные, причинно-следственные и другие)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между понятиями, частями, составляющими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едметной области, которую мы изучаем (рассматриваем)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Нет строгих правил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строения интеллект-карт, как нет и неправильных карт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8" name="Заголовок 2" descr=""/>
          <p:cNvPicPr/>
          <p:nvPr/>
        </p:nvPicPr>
        <p:blipFill>
          <a:blip r:embed="rId1"/>
          <a:stretch/>
        </p:blipFill>
        <p:spPr>
          <a:xfrm>
            <a:off x="231840" y="60480"/>
            <a:ext cx="8454960" cy="104904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 txBox="1"/>
          <p:nvPr/>
        </p:nvSpPr>
        <p:spPr>
          <a:xfrm>
            <a:off x="213840" y="928800"/>
            <a:ext cx="854388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Основная идея: каждую мысль, каждый образ или эмоцию можно представить себе как объект (узел), от которого расходятся во все стороны многочисленные ниточки-связи, ведущие к другим объектам (мыслям, образам, эмоциям)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Мозг – хранилище информации – выглядит как огромная система таких объектов и связей между ними, а мышление можно себе представить, как электрический ток, бегущий по связующим ниточкам, будто по проводам, от одного объекта к другому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Мышление «разбегается» от центрального объекта в разные стороны. Своеобразной моделью такого процесса и является карта памяти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3" name="Заголовок 2" descr=""/>
          <p:cNvPicPr/>
          <p:nvPr/>
        </p:nvPicPr>
        <p:blipFill>
          <a:blip r:embed="rId1"/>
          <a:stretch/>
        </p:blipFill>
        <p:spPr>
          <a:xfrm>
            <a:off x="274680" y="103320"/>
            <a:ext cx="8454960" cy="10555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23" descr=""/>
          <p:cNvPicPr/>
          <p:nvPr/>
        </p:nvPicPr>
        <p:blipFill>
          <a:blip r:embed="rId2"/>
          <a:stretch/>
        </p:blipFill>
        <p:spPr>
          <a:xfrm>
            <a:off x="6929280" y="4929120"/>
            <a:ext cx="1386000" cy="1602000"/>
          </a:xfrm>
          <a:prstGeom prst="rect">
            <a:avLst/>
          </a:prstGeom>
          <a:ln w="0">
            <a:noFill/>
          </a:ln>
        </p:spPr>
      </p:pic>
      <p:sp>
        <p:nvSpPr>
          <p:cNvPr id="575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Picture 2" descr="Ментальная карта"/>
          <p:cNvPicPr/>
          <p:nvPr/>
        </p:nvPicPr>
        <p:blipFill>
          <a:blip r:embed="rId1"/>
          <a:stretch/>
        </p:blipFill>
        <p:spPr>
          <a:xfrm>
            <a:off x="1214280" y="1357200"/>
            <a:ext cx="7380360" cy="4741920"/>
          </a:xfrm>
          <a:prstGeom prst="rect">
            <a:avLst/>
          </a:prstGeom>
          <a:ln w="0">
            <a:noFill/>
          </a:ln>
        </p:spPr>
      </p:pic>
      <p:pic>
        <p:nvPicPr>
          <p:cNvPr id="577" name="Заголовок 5" descr=""/>
          <p:cNvPicPr/>
          <p:nvPr/>
        </p:nvPicPr>
        <p:blipFill>
          <a:blip r:embed="rId2"/>
          <a:stretch/>
        </p:blipFill>
        <p:spPr>
          <a:xfrm>
            <a:off x="231840" y="96840"/>
            <a:ext cx="8454960" cy="1049400"/>
          </a:xfrm>
          <a:prstGeom prst="rect">
            <a:avLst/>
          </a:prstGeom>
          <a:ln w="0">
            <a:noFill/>
          </a:ln>
        </p:spPr>
      </p:pic>
      <p:sp>
        <p:nvSpPr>
          <p:cNvPr id="578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групповая работа (коллективное творчество, мозговой штурм)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конспектирование или аннотирование текстовых материалов;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обдумывание проблем, анализ сложных ситуаций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планирование;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Lucida Sans Unicode"/>
              </a:rPr>
              <a:t>принятие решений.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0" name="Заголовок 2" descr=""/>
          <p:cNvPicPr/>
          <p:nvPr/>
        </p:nvPicPr>
        <p:blipFill>
          <a:blip r:embed="rId1"/>
          <a:stretch/>
        </p:blipFill>
        <p:spPr>
          <a:xfrm>
            <a:off x="208080" y="55440"/>
            <a:ext cx="8478720" cy="113364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2" descr=""/>
          <p:cNvPicPr/>
          <p:nvPr/>
        </p:nvPicPr>
        <p:blipFill>
          <a:blip r:embed="rId2"/>
          <a:stretch/>
        </p:blipFill>
        <p:spPr>
          <a:xfrm>
            <a:off x="5643720" y="3857760"/>
            <a:ext cx="3112920" cy="2484360"/>
          </a:xfrm>
          <a:prstGeom prst="rect">
            <a:avLst/>
          </a:prstGeom>
          <a:ln w="0">
            <a:noFill/>
          </a:ln>
        </p:spPr>
      </p:pic>
      <p:sp>
        <p:nvSpPr>
          <p:cNvPr id="582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Заголовок 6" descr=""/>
          <p:cNvPicPr/>
          <p:nvPr/>
        </p:nvPicPr>
        <p:blipFill>
          <a:blip r:embed="rId1"/>
          <a:stretch/>
        </p:blipFill>
        <p:spPr>
          <a:xfrm>
            <a:off x="201600" y="152280"/>
            <a:ext cx="8485200" cy="115884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рафические схемы как инструмент работы с информацией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Типы графических схем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кластер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денотатный граф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причинная карта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карта памяти (интеллект-карта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Место графических схем на уроке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меры схем-опорных конспектов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Rectangle 2" descr=""/>
          <p:cNvPicPr/>
          <p:nvPr/>
        </p:nvPicPr>
        <p:blipFill>
          <a:blip r:embed="rId1"/>
          <a:stretch/>
        </p:blipFill>
        <p:spPr>
          <a:xfrm>
            <a:off x="-103320" y="55440"/>
            <a:ext cx="8899560" cy="113364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457200" y="1285920"/>
            <a:ext cx="822960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Графические схемы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озволяют представить тему целиком, наглядно и понятно</a:t>
            </a:r>
            <a:r>
              <a:rPr b="1" lang="ru-RU" sz="1800" spc="-1" strike="noStrike">
                <a:solidFill>
                  <a:srgbClr val="000000"/>
                </a:solidFill>
                <a:latin typeface="Lucida Sans Unicode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что обеспечивает повышение мотивация учащихся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обеспечивают скорость, точность и прочность восприятия, запоминания и переработки информации учащимся, что служит основой для генерации идей и принятия решений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Учитель может: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использовать готовые графические схемы (в учебниках или на плакатах)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заранее готовить к уроку собственные графические схемы (презентации, опорные конспекты)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строить графические схемы непосредственно на уроке по ходу изложения материала;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организовать разнообразные виды индивидуальной и коллективной деятельности учащихся по использованию готовых и созданию (под руководством учителя и самостоятельно) собственных графических схем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5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Rectangle 2" descr=""/>
          <p:cNvPicPr/>
          <p:nvPr/>
        </p:nvPicPr>
        <p:blipFill>
          <a:blip r:embed="rId1"/>
          <a:stretch/>
        </p:blipFill>
        <p:spPr>
          <a:xfrm>
            <a:off x="0" y="-66600"/>
            <a:ext cx="9144000" cy="102384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285840" y="1142640"/>
            <a:ext cx="822960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 изложении нового материал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для осмысления и закрепления изучаемого материал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и обобщении и систематизации изученного материала;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на этапе контроля знаний, умений и навыков, присвоенных ученико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88" name="Picture 2" descr=""/>
          <p:cNvPicPr/>
          <p:nvPr/>
        </p:nvPicPr>
        <p:blipFill>
          <a:blip r:embed="rId2"/>
          <a:stretch/>
        </p:blipFill>
        <p:spPr>
          <a:xfrm>
            <a:off x="5857920" y="4214880"/>
            <a:ext cx="2960640" cy="2357280"/>
          </a:xfrm>
          <a:prstGeom prst="rect">
            <a:avLst/>
          </a:prstGeom>
          <a:ln w="0">
            <a:noFill/>
          </a:ln>
        </p:spPr>
      </p:pic>
      <p:sp>
        <p:nvSpPr>
          <p:cNvPr id="589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0" name="Object 2"/>
          <p:cNvGraphicFramePr/>
          <p:nvPr/>
        </p:nvGraphicFramePr>
        <p:xfrm>
          <a:off x="142920" y="0"/>
          <a:ext cx="8780400" cy="619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0"/>
                    <a:ext cx="8780400" cy="61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2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3" name="Object 2"/>
          <p:cNvGraphicFramePr/>
          <p:nvPr/>
        </p:nvGraphicFramePr>
        <p:xfrm>
          <a:off x="142920" y="142920"/>
          <a:ext cx="8780400" cy="568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142920"/>
                    <a:ext cx="8780400" cy="56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6" name="Object 2"/>
          <p:cNvGraphicFramePr/>
          <p:nvPr/>
        </p:nvGraphicFramePr>
        <p:xfrm>
          <a:off x="88920" y="0"/>
          <a:ext cx="8966160" cy="628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0"/>
                    <a:ext cx="8966160" cy="628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Rectangle 2" descr=""/>
          <p:cNvPicPr/>
          <p:nvPr/>
        </p:nvPicPr>
        <p:blipFill>
          <a:blip r:embed="rId1"/>
          <a:stretch/>
        </p:blipFill>
        <p:spPr>
          <a:xfrm>
            <a:off x="201600" y="189000"/>
            <a:ext cx="8485200" cy="1182600"/>
          </a:xfrm>
          <a:prstGeom prst="rect">
            <a:avLst/>
          </a:prstGeom>
          <a:ln w="0">
            <a:noFill/>
          </a:ln>
        </p:spPr>
      </p:pic>
      <p:pic>
        <p:nvPicPr>
          <p:cNvPr id="383" name="Схема 1" descr=""/>
          <p:cNvPicPr/>
          <p:nvPr/>
        </p:nvPicPr>
        <p:blipFill>
          <a:blip r:embed="rId2"/>
          <a:stretch/>
        </p:blipFill>
        <p:spPr>
          <a:xfrm>
            <a:off x="360360" y="1500120"/>
            <a:ext cx="8345520" cy="3998880"/>
          </a:xfrm>
          <a:prstGeom prst="rect">
            <a:avLst/>
          </a:prstGeom>
          <a:ln w="0">
            <a:noFill/>
          </a:ln>
        </p:spPr>
      </p:pic>
      <p:sp>
        <p:nvSpPr>
          <p:cNvPr id="384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71360" y="244440"/>
            <a:ext cx="8515440" cy="1382760"/>
          </a:xfrm>
          <a:prstGeom prst="rect">
            <a:avLst/>
          </a:prstGeom>
          <a:ln w="0">
            <a:noFill/>
          </a:ln>
        </p:spPr>
      </p:pic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714240" y="1356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развития наглядно-образного мышления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формирования навыков работы с графической информацией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фиксации внимания при усвоении учебного материала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развития познавательного интереса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активизации учебно-познавательной деятельности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конкретизации изучаемых вопросов;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наглядной систематизации 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 классификаци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26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Лавинообразный рост информации требует от человека навыков работы с книгой, справочной и другой литературой, с цифровыми информационными источниками, с распределенным информационным ресурсом сети Интернет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Эффективная работа с большими информационными объемами требует развития мыслительных умений высокого уровня, включающих: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умение осмысленно учить материал, выделяя в нем главное и отбрасывая второстепенное;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умение анализировать, сравнивать, классифицировать, устанавливать причинно-следственные связи и т.д.;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умение построения рассказа, ответа, речи, аргументирования;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Lucida Sans Unicode"/>
              </a:rPr>
              <a:t>умение формулирования выводов, умозаключений; умение построения плана действий, самостоятельного принятия решения и т.д.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Мощным визуальным инструментом развития перечисленных умений и навыков являются разнообразные графические схемы - разновидность информационных моделей, навыки построения и исследования которых в наши дни относятся к разряду общеучебных и систематически формируются на уроках информатики и ИКТ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Заголовок 2" descr=""/>
          <p:cNvPicPr/>
          <p:nvPr/>
        </p:nvPicPr>
        <p:blipFill>
          <a:blip r:embed="rId1"/>
          <a:stretch/>
        </p:blipFill>
        <p:spPr>
          <a:xfrm>
            <a:off x="274680" y="-60480"/>
            <a:ext cx="8412120" cy="1481400"/>
          </a:xfrm>
          <a:prstGeom prst="rect">
            <a:avLst/>
          </a:prstGeom>
          <a:ln w="0">
            <a:noFill/>
          </a:ln>
        </p:spPr>
      </p:pic>
      <p:sp>
        <p:nvSpPr>
          <p:cNvPr id="390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142920" y="1071720"/>
            <a:ext cx="8229600" cy="30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Термин «кластер» происходит от английского «cluster» – гроздь,  скопление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При построении кластера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Lucida Sans Unicode"/>
              </a:rPr>
              <a:t>в центральном овале 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располагают ключевое понятие;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в овалах второго уровня 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– понятия, раскрывающие смысл ключевого;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в овалах третьего уровня </a:t>
            </a: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идет детализация понятий, упомянутых на предыдущем уровне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grpSp>
        <p:nvGrpSpPr>
          <p:cNvPr id="393" name="Group 2"/>
          <p:cNvGrpSpPr/>
          <p:nvPr/>
        </p:nvGrpSpPr>
        <p:grpSpPr>
          <a:xfrm>
            <a:off x="1428840" y="4000680"/>
            <a:ext cx="6962760" cy="2547720"/>
            <a:chOff x="1428840" y="4000680"/>
            <a:chExt cx="6962760" cy="2547720"/>
          </a:xfrm>
        </p:grpSpPr>
        <p:grpSp>
          <p:nvGrpSpPr>
            <p:cNvPr id="394" name="Group 3"/>
            <p:cNvGrpSpPr/>
            <p:nvPr/>
          </p:nvGrpSpPr>
          <p:grpSpPr>
            <a:xfrm>
              <a:off x="1428840" y="4000680"/>
              <a:ext cx="6962760" cy="2547720"/>
              <a:chOff x="1428840" y="4000680"/>
              <a:chExt cx="6962760" cy="2547720"/>
            </a:xfrm>
          </p:grpSpPr>
          <p:sp>
            <p:nvSpPr>
              <p:cNvPr id="395" name="Oval 4"/>
              <p:cNvSpPr/>
              <p:nvPr/>
            </p:nvSpPr>
            <p:spPr>
              <a:xfrm>
                <a:off x="4465080" y="4911120"/>
                <a:ext cx="1734840" cy="64764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Text Box 5"/>
              <p:cNvSpPr/>
              <p:nvPr/>
            </p:nvSpPr>
            <p:spPr>
              <a:xfrm>
                <a:off x="4698720" y="5014080"/>
                <a:ext cx="120096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100" spc="-1" strike="noStrike">
                    <a:solidFill>
                      <a:srgbClr val="000000"/>
                    </a:solidFill>
                    <a:latin typeface="Calibri"/>
                  </a:rPr>
                  <a:t>Признаки объект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7" name="Group 6"/>
              <p:cNvGrpSpPr/>
              <p:nvPr/>
            </p:nvGrpSpPr>
            <p:grpSpPr>
              <a:xfrm>
                <a:off x="2318400" y="4981680"/>
                <a:ext cx="1267920" cy="609480"/>
                <a:chOff x="2318400" y="4981680"/>
                <a:chExt cx="1267920" cy="609480"/>
              </a:xfrm>
            </p:grpSpPr>
            <p:sp>
              <p:nvSpPr>
                <p:cNvPr id="398" name="Oval 7"/>
                <p:cNvSpPr/>
                <p:nvPr/>
              </p:nvSpPr>
              <p:spPr>
                <a:xfrm>
                  <a:off x="2318400" y="4981680"/>
                  <a:ext cx="1267920" cy="6094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Text Box 8"/>
                <p:cNvSpPr/>
                <p:nvPr/>
              </p:nvSpPr>
              <p:spPr>
                <a:xfrm>
                  <a:off x="2485080" y="5153040"/>
                  <a:ext cx="945360" cy="2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100" spc="-1" strike="noStrike">
                      <a:solidFill>
                        <a:srgbClr val="000000"/>
                      </a:solidFill>
                      <a:latin typeface="Calibri"/>
                    </a:rPr>
                    <a:t>свойства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Oval 9"/>
              <p:cNvSpPr/>
              <p:nvPr/>
            </p:nvSpPr>
            <p:spPr>
              <a:xfrm>
                <a:off x="4623120" y="4000680"/>
                <a:ext cx="1267920" cy="609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10"/>
              <p:cNvSpPr/>
              <p:nvPr/>
            </p:nvSpPr>
            <p:spPr>
              <a:xfrm>
                <a:off x="4790160" y="4173840"/>
                <a:ext cx="106776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Calibri"/>
                  </a:rPr>
                  <a:t>поведени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2" name="Group 11"/>
              <p:cNvGrpSpPr/>
              <p:nvPr/>
            </p:nvGrpSpPr>
            <p:grpSpPr>
              <a:xfrm>
                <a:off x="7090200" y="4829400"/>
                <a:ext cx="1267560" cy="609480"/>
                <a:chOff x="7090200" y="4829400"/>
                <a:chExt cx="1267560" cy="609480"/>
              </a:xfrm>
            </p:grpSpPr>
            <p:sp>
              <p:nvSpPr>
                <p:cNvPr id="403" name="Oval 12"/>
                <p:cNvSpPr/>
                <p:nvPr/>
              </p:nvSpPr>
              <p:spPr>
                <a:xfrm>
                  <a:off x="7090200" y="4829400"/>
                  <a:ext cx="1267560" cy="6094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Text Box 13"/>
                <p:cNvSpPr/>
                <p:nvPr/>
              </p:nvSpPr>
              <p:spPr>
                <a:xfrm>
                  <a:off x="7256880" y="5000760"/>
                  <a:ext cx="945000" cy="2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spcAft>
                      <a:spcPts val="1001"/>
                    </a:spcAft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100" spc="-1" strike="noStrike">
                      <a:solidFill>
                        <a:srgbClr val="000000"/>
                      </a:solidFill>
                      <a:latin typeface="Calibri"/>
                    </a:rPr>
                    <a:t>действия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Oval 14"/>
              <p:cNvSpPr/>
              <p:nvPr/>
            </p:nvSpPr>
            <p:spPr>
              <a:xfrm>
                <a:off x="4689360" y="5938920"/>
                <a:ext cx="1267560" cy="609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Text Box 15"/>
              <p:cNvSpPr/>
              <p:nvPr/>
            </p:nvSpPr>
            <p:spPr>
              <a:xfrm>
                <a:off x="4844880" y="6091200"/>
                <a:ext cx="101196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100" spc="-1" strike="noStrike">
                    <a:solidFill>
                      <a:srgbClr val="000000"/>
                    </a:solidFill>
                    <a:latin typeface="Calibri"/>
                  </a:rPr>
                  <a:t>состояние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Line 16"/>
              <p:cNvSpPr/>
              <p:nvPr/>
            </p:nvSpPr>
            <p:spPr>
              <a:xfrm flipV="1">
                <a:off x="5277240" y="4610160"/>
                <a:ext cx="0" cy="29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Line 17"/>
              <p:cNvSpPr/>
              <p:nvPr/>
            </p:nvSpPr>
            <p:spPr>
              <a:xfrm flipH="1">
                <a:off x="3597840" y="5248440"/>
                <a:ext cx="856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Line 18"/>
              <p:cNvSpPr/>
              <p:nvPr/>
            </p:nvSpPr>
            <p:spPr>
              <a:xfrm>
                <a:off x="6189120" y="5210280"/>
                <a:ext cx="90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Line 19"/>
              <p:cNvSpPr/>
              <p:nvPr/>
            </p:nvSpPr>
            <p:spPr>
              <a:xfrm>
                <a:off x="5299560" y="5581800"/>
                <a:ext cx="0" cy="35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Oval 20"/>
              <p:cNvSpPr/>
              <p:nvPr/>
            </p:nvSpPr>
            <p:spPr>
              <a:xfrm>
                <a:off x="7145640" y="4238640"/>
                <a:ext cx="117900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Oval 21"/>
              <p:cNvSpPr/>
              <p:nvPr/>
            </p:nvSpPr>
            <p:spPr>
              <a:xfrm>
                <a:off x="7212600" y="5696280"/>
                <a:ext cx="117900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Oval 22"/>
              <p:cNvSpPr/>
              <p:nvPr/>
            </p:nvSpPr>
            <p:spPr>
              <a:xfrm>
                <a:off x="1428840" y="5772600"/>
                <a:ext cx="1179000" cy="3711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Oval 23"/>
              <p:cNvSpPr/>
              <p:nvPr/>
            </p:nvSpPr>
            <p:spPr>
              <a:xfrm>
                <a:off x="3186000" y="5801040"/>
                <a:ext cx="1179000" cy="3715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Text Box 24"/>
            <p:cNvSpPr/>
            <p:nvPr/>
          </p:nvSpPr>
          <p:spPr>
            <a:xfrm>
              <a:off x="3330720" y="5858280"/>
              <a:ext cx="9118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100" spc="-1" strike="noStrike">
                  <a:solidFill>
                    <a:srgbClr val="000000"/>
                  </a:solidFill>
                  <a:latin typeface="Calibri"/>
                </a:rPr>
                <a:t>значени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25"/>
            <p:cNvSpPr/>
            <p:nvPr/>
          </p:nvSpPr>
          <p:spPr>
            <a:xfrm>
              <a:off x="1540080" y="5829480"/>
              <a:ext cx="9896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100" spc="-1" strike="noStrike">
                  <a:solidFill>
                    <a:srgbClr val="000000"/>
                  </a:solidFill>
                  <a:latin typeface="Calibri"/>
                </a:rPr>
                <a:t>величин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26"/>
            <p:cNvSpPr/>
            <p:nvPr/>
          </p:nvSpPr>
          <p:spPr>
            <a:xfrm>
              <a:off x="7234560" y="4267080"/>
              <a:ext cx="98964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100" spc="-1" strike="noStrike">
                  <a:solidFill>
                    <a:srgbClr val="000000"/>
                  </a:solidFill>
                  <a:latin typeface="Calibri"/>
                </a:rPr>
                <a:t>актив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Text Box 27"/>
            <p:cNvSpPr/>
            <p:nvPr/>
          </p:nvSpPr>
          <p:spPr>
            <a:xfrm>
              <a:off x="7301520" y="5743800"/>
              <a:ext cx="10900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100" spc="-1" strike="noStrike">
                  <a:solidFill>
                    <a:srgbClr val="000000"/>
                  </a:solidFill>
                  <a:latin typeface="Calibri"/>
                </a:rPr>
                <a:t>пассивные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28"/>
            <p:cNvSpPr/>
            <p:nvPr/>
          </p:nvSpPr>
          <p:spPr>
            <a:xfrm flipH="1">
              <a:off x="2229120" y="5572440"/>
              <a:ext cx="38916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29"/>
            <p:cNvSpPr/>
            <p:nvPr/>
          </p:nvSpPr>
          <p:spPr>
            <a:xfrm>
              <a:off x="3319560" y="5543640"/>
              <a:ext cx="378000" cy="2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30"/>
            <p:cNvSpPr/>
            <p:nvPr/>
          </p:nvSpPr>
          <p:spPr>
            <a:xfrm flipV="1">
              <a:off x="7735320" y="4600800"/>
              <a:ext cx="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31"/>
            <p:cNvSpPr/>
            <p:nvPr/>
          </p:nvSpPr>
          <p:spPr>
            <a:xfrm>
              <a:off x="7757640" y="5448600"/>
              <a:ext cx="0" cy="2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3" name="Picture 32" descr=""/>
          <p:cNvPicPr/>
          <p:nvPr/>
        </p:nvPicPr>
        <p:blipFill>
          <a:blip r:embed="rId2"/>
          <a:stretch/>
        </p:blipFill>
        <p:spPr>
          <a:xfrm>
            <a:off x="7358040" y="214200"/>
            <a:ext cx="1639800" cy="2286000"/>
          </a:xfrm>
          <a:prstGeom prst="rect">
            <a:avLst/>
          </a:prstGeom>
          <a:ln w="0">
            <a:noFill/>
          </a:ln>
        </p:spPr>
      </p:pic>
      <p:sp>
        <p:nvSpPr>
          <p:cNvPr id="424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28760" y="164268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Lucida Sans Unicode"/>
              </a:rPr>
              <a:t>Внесите недостающие надписи в схему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Organization Chart 3"/>
          <p:cNvGrpSpPr/>
          <p:nvPr/>
        </p:nvGrpSpPr>
        <p:grpSpPr>
          <a:xfrm>
            <a:off x="1428840" y="2500200"/>
            <a:ext cx="6429240" cy="2571480"/>
            <a:chOff x="1428840" y="2500200"/>
            <a:chExt cx="6429240" cy="2571480"/>
          </a:xfrm>
        </p:grpSpPr>
        <p:cxnSp>
          <p:nvCxnSpPr>
            <p:cNvPr id="429" name="_s1028"/>
            <p:cNvCxnSpPr>
              <a:stCxn id="430" idx="0"/>
              <a:endCxn id="431" idx="2"/>
            </p:cNvCxnSpPr>
            <p:nvPr/>
          </p:nvCxnSpPr>
          <p:spPr>
            <a:xfrm flipV="1" rot="16200000">
              <a:off x="5668200" y="2536200"/>
              <a:ext cx="450720" cy="250056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666699"/>
              </a:solidFill>
              <a:miter/>
            </a:ln>
          </p:spPr>
        </p:cxnSp>
        <p:cxnSp>
          <p:nvCxnSpPr>
            <p:cNvPr id="432" name="_s1029"/>
            <p:cNvCxnSpPr>
              <a:stCxn id="433" idx="0"/>
              <a:endCxn id="431" idx="2"/>
            </p:cNvCxnSpPr>
            <p:nvPr/>
          </p:nvCxnSpPr>
          <p:spPr>
            <a:xfrm flipV="1" rot="16200000">
              <a:off x="4834440" y="3369960"/>
              <a:ext cx="450720" cy="83340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666699"/>
              </a:solidFill>
              <a:miter/>
            </a:ln>
          </p:spPr>
        </p:cxnSp>
        <p:cxnSp>
          <p:nvCxnSpPr>
            <p:cNvPr id="434" name="_s1030"/>
            <p:cNvCxnSpPr>
              <a:stCxn id="435" idx="0"/>
              <a:endCxn id="431" idx="2"/>
            </p:cNvCxnSpPr>
            <p:nvPr/>
          </p:nvCxnSpPr>
          <p:spPr>
            <a:xfrm flipH="1" flipV="1" rot="5400000">
              <a:off x="4001400" y="3369600"/>
              <a:ext cx="450720" cy="83412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666699"/>
              </a:solidFill>
              <a:miter/>
            </a:ln>
          </p:spPr>
        </p:cxnSp>
        <p:cxnSp>
          <p:nvCxnSpPr>
            <p:cNvPr id="436" name="_s1031"/>
            <p:cNvCxnSpPr>
              <a:stCxn id="437" idx="0"/>
              <a:endCxn id="431" idx="2"/>
            </p:cNvCxnSpPr>
            <p:nvPr/>
          </p:nvCxnSpPr>
          <p:spPr>
            <a:xfrm flipH="1" flipV="1" rot="5400000">
              <a:off x="3167640" y="2536200"/>
              <a:ext cx="450720" cy="250092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666699"/>
              </a:solidFill>
              <a:miter/>
            </a:ln>
          </p:spPr>
        </p:cxnSp>
        <p:sp>
          <p:nvSpPr>
            <p:cNvPr id="431" name="_s1032"/>
            <p:cNvSpPr/>
            <p:nvPr/>
          </p:nvSpPr>
          <p:spPr>
            <a:xfrm>
              <a:off x="3928680" y="2500200"/>
              <a:ext cx="1428840" cy="10285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ризнаки объект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_s1033"/>
            <p:cNvSpPr/>
            <p:nvPr/>
          </p:nvSpPr>
          <p:spPr>
            <a:xfrm>
              <a:off x="1428840" y="4043160"/>
              <a:ext cx="1428840" cy="10285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4c6d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_s1034"/>
            <p:cNvSpPr/>
            <p:nvPr/>
          </p:nvSpPr>
          <p:spPr>
            <a:xfrm>
              <a:off x="3095640" y="4043160"/>
              <a:ext cx="1428840" cy="10285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4c6d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_s1035"/>
            <p:cNvSpPr/>
            <p:nvPr/>
          </p:nvSpPr>
          <p:spPr>
            <a:xfrm>
              <a:off x="4762800" y="4043160"/>
              <a:ext cx="1428840" cy="10285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4c6d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_s1036"/>
            <p:cNvSpPr/>
            <p:nvPr/>
          </p:nvSpPr>
          <p:spPr>
            <a:xfrm>
              <a:off x="6429960" y="4043160"/>
              <a:ext cx="1428120" cy="1028520"/>
            </a:xfrm>
            <a:prstGeom prst="roundRect">
              <a:avLst>
                <a:gd name="adj" fmla="val 50000"/>
              </a:avLst>
            </a:prstGeom>
            <a:noFill/>
            <a:ln w="28440">
              <a:solidFill>
                <a:srgbClr val="4c6d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28760" y="7855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Проанализируйте текст, выделите в нем ключевые слова и постройте кластер, визуализирующий основные положения изучаемого материала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Персональный компьютер является частью системы «человек – компьютер». Средства, обеспечивающие взаимосвязь между объектами этой системы, называют интерфейсом. Различают аппаратный, программный, аппаратно-программный и пользовательский интерфейс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ппаратный интерфейс — взаимодействие между устройствами компьютера; обеспечивается производителями этого оборудования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Программный интерфейс — взаимодействие (совместимость) программ между собой, а также программного обеспечения и информационных ресурсов; обеспечивается разработчиками программного обеспечения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ппаратно-программный и пользовательский интерфейс обеспечивается операционной системой компьютера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ппаратно-программный интерфейс — взаимодействие аппаратного и программного обеспечения компьютера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Пользовательский интерфейс — взаимодействие человека и компьютера. Пользовательский интерфейс на основе меню предлагает возможность выбора управляющей команды из меню (списка команд). В графическом интерфейсе компьютерные объекты представляются небольшими рисунками (значками). Нужный значок выбирают с помощью мыши. Кроме значков используются также тексты (для подсказок) и меню (для выбора команд). Трехмерный интерфейс позволяет осуществлять навигацию в трехмерном компьютерном пространстве. Указав мышью на дверь виртуального музея, можно в него войти. В виртуальном зале можно оглядеться, подойти к любой картине и рассмотреть ее более подробно. Такой интерфейс имитирует реальный мир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41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428760" y="99972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1. Какое понятие в представленном фрагменте является самым главным, ключевым? (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Интерфейс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2. Как располагают ключевое понятие? (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Ключевое понятие располагают в центральном овале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3. Какие понятия раскрывают смысл ключевого понятия? (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Это понятия: аппаратный интерфейс, программный интерфейс, аппаратно-программный интерфейс, пользовательский интерфейс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4. Как эти понятия мы разместим на схеме? (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Понятия, раскрывающие смысл ключевого, следует размещать в овалах второго уровня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5. Какое из понятий второго уровня детализировано в данном фрагменте? (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Пользовательский интерфейс.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6. Как мы на схеме отразим детализацию понятия «пользовательский интерфейс»? (</a:t>
            </a:r>
            <a:r>
              <a:rPr b="0" i="1" lang="ru-RU" sz="2200" spc="-1" strike="noStrike">
                <a:solidFill>
                  <a:srgbClr val="000000"/>
                </a:solidFill>
                <a:latin typeface="Lucida Sans Unicode"/>
              </a:rPr>
              <a:t>Соответствующую информацию разместим в овалах третьего уровня</a:t>
            </a:r>
            <a:r>
              <a:rPr b="0" lang="ru-RU" sz="2200" spc="-1" strike="noStrike">
                <a:solidFill>
                  <a:srgbClr val="000000"/>
                </a:solidFill>
                <a:latin typeface="Lucida Sans Unicode"/>
              </a:rPr>
              <a:t>.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4" name="Заголовок 2" descr=""/>
          <p:cNvPicPr/>
          <p:nvPr/>
        </p:nvPicPr>
        <p:blipFill>
          <a:blip r:embed="rId1"/>
          <a:stretch/>
        </p:blipFill>
        <p:spPr>
          <a:xfrm>
            <a:off x="231840" y="165240"/>
            <a:ext cx="8454960" cy="105408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Нижний колонтитул 4"/>
          <p:cNvSpPr/>
          <p:nvPr/>
        </p:nvSpPr>
        <p:spPr>
          <a:xfrm>
            <a:off x="4379760" y="6408720"/>
            <a:ext cx="4407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Lucida Sans Unicode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2T14:57:46Z</dcterms:created>
  <dc:creator>Владелец</dc:creator>
  <dc:description/>
  <dc:language>en-US</dc:language>
  <cp:lastModifiedBy>LEGION</cp:lastModifiedBy>
  <dcterms:modified xsi:type="dcterms:W3CDTF">2015-04-01T07:43:30Z</dcterms:modified>
  <cp:revision>25</cp:revision>
  <dc:subject/>
  <dc:title>Графические способы представления учебной информации</dc:title>
</cp:coreProperties>
</file>