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5BC6-31A1-4967-8967-7203CC7282D7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сновы информатики и програм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1 курс экономический факульт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8ED-2533-4E87-8FC7-F47D43B852B5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дел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OC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екстов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абличн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УБД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граммирование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V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зентации в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4558-C881-4F49-A3C6-A81C39B32BE1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1. Основные принципы работы в </a:t>
            </a:r>
            <a:r>
              <a:rPr b="0" lang="en-US" sz="1200" spc="-1" strike="noStrike">
                <a:solidFill>
                  <a:srgbClr val="00ff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(окна, при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2. Работа с файлами и папками (проводник, мой компьютер, корз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A101-A4FF-4CFE-8D12-9A0E9F04B58A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ия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98B9-7A43-4FE2-8258-AF6AB96DD987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иалоговые  о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нсо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4B59-8C68-49EA-9C65-B4ED98A8B733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1. Создание баз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2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ЗАПРО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A529-119D-4EBA-8219-732DBCE3D788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VBA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№5_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работка  функций для реализаци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ейных и разветвляющихся 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7A11-39C2-4327-849C-0F789A810952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6_1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Создание презентации по курсу "Основы информатики и программир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B4CF-8301-427D-9918-DE1A65DBD652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ccff"/>
                </a:solidFill>
                <a:latin typeface="Calibri"/>
              </a:rPr>
              <a:t>Об ав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Кардаш Татьяна </a:t>
            </a: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И</a:t>
            </a: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в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A79C-D36B-44B7-B5B4-25A0D324F655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F70-D2AF-4BB1-930E-0456E3A3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E83-EEEA-423D-99E9-6EB5461F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FE5-EE3B-405E-B4D3-E2562838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FD1-6966-4B67-882B-6B4B071F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9B4-2873-4A59-BC0B-2DDA8F37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075-B1D1-4604-9F2E-8EAA6BB6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532-A6DC-4D54-ADB7-53152704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A78-90D4-4046-BCAD-0900F47E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0DE-7521-48ED-BCDA-71F24097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EC7-FBD2-4F30-AD5C-40ACEAC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6B5-7FC0-4F0A-A8D2-41C69D6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10C-E9D1-4847-B9C6-E1839F5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A1E7-74A5-471A-9AF9-813CC2B06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сновы информатики и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 курс экономический факуль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Разделы кур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C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кстов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абличн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УБД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граммирование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езентации в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1. Основные принципы работы в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(окна, при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2. Работа с файлами и папками (проводник, мой компьютер, корз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nnected_multiple_big"/>
          <p:cNvPicPr/>
          <p:nvPr/>
        </p:nvPicPr>
        <p:blipFill>
          <a:blip r:embed="rId1"/>
          <a:stretch/>
        </p:blipFill>
        <p:spPr>
          <a:xfrm>
            <a:off x="5003640" y="2133720"/>
            <a:ext cx="1155960" cy="13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4859280" y="3645000"/>
          <a:ext cx="4038480" cy="260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645000"/>
                    <a:ext cx="403848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алоговые 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оли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3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1. Создание баз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ЗАПРОС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458640" y="251604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51604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VBA</a:t>
            </a:r>
            <a:br>
              <a:rPr sz="54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5_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аботка  функций для реализаци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инейных и разветвляющихся  алгоритм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6821640" cy="2565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6_1.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Создание презентации по курсу "Основы информатики и программиров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"/>
          <p:cNvPicPr/>
          <p:nvPr/>
        </p:nvPicPr>
        <p:blipFill>
          <a:blip r:embed="rId2"/>
          <a:stretch/>
        </p:blipFill>
        <p:spPr>
          <a:xfrm>
            <a:off x="5508720" y="1557360"/>
            <a:ext cx="331920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73640" y="5916600"/>
            <a:ext cx="118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ccff"/>
                </a:solidFill>
                <a:latin typeface="Arial"/>
              </a:rPr>
              <a:t>Об ав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Кардаш Татьяна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i"/>
          <p:cNvPicPr/>
          <p:nvPr/>
        </p:nvPicPr>
        <p:blipFill>
          <a:blip r:embed="rId1"/>
          <a:stretch/>
        </p:blipFill>
        <p:spPr>
          <a:xfrm>
            <a:off x="971640" y="1628640"/>
            <a:ext cx="2585880" cy="25862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7:39Z</dcterms:created>
  <dc:creator>Owner</dc:creator>
  <dc:description/>
  <dc:language>en-US</dc:language>
  <cp:lastModifiedBy>LEGION</cp:lastModifiedBy>
  <dcterms:modified xsi:type="dcterms:W3CDTF">2015-04-01T07:43:49Z</dcterms:modified>
  <cp:revision>11</cp:revision>
  <dc:subject/>
  <dc:title>Основы информатики и программирования</dc:title>
</cp:coreProperties>
</file>