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8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60BF-A5BF-4834-970F-0D191ACFEC91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сновы информатики и программ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1 курс экономический факульт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4BF5-98F4-487C-902A-120DD77B34B8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Разделы кур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OC Wind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Текстовый процессор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Табличный процессор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УБД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ограммирование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V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езентации в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Power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D60A-62BD-41C8-9B13-D89D2E1452CB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alibri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1.1. Основные принципы работы в </a:t>
            </a:r>
            <a:r>
              <a:rPr b="0" lang="en-US" sz="1200" spc="-1" strike="noStrike">
                <a:solidFill>
                  <a:srgbClr val="00ff00"/>
                </a:solidFill>
                <a:latin typeface="Calibri"/>
              </a:rPr>
              <a:t>Windows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(окна, прило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1.2. Работа с файлами и папками (проводник, мой компьютер, корзи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A858-711D-4D02-8ECC-26A492A43FA1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абл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лия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п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8975-C392-403B-A952-D5BEC0705DA9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иалоговые  ок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онсолид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996F-2064-441B-8D72-7331E108B198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4-1. Создание баз да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4-2.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ЗАПРОС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8D9A-DF83-41D0-B1DB-F1EF2EF7DE5A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VBA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№5_1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работка  функций для реализации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нейных и разветвляющихся  алгорит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18DC-71DF-4F5C-8184-E32EFD8BE0A6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Power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6_1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Создание презентации по курсу "Основы информатики и программирования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ED38-6317-4049-97AE-60199E994240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ccff"/>
                </a:solidFill>
                <a:latin typeface="Calibri"/>
              </a:rPr>
              <a:t>Об авто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66ff"/>
                </a:solidFill>
                <a:latin typeface="Calibri"/>
              </a:rPr>
              <a:t>Кардаш Татьяна </a:t>
            </a: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И</a:t>
            </a:r>
            <a:r>
              <a:rPr b="0" lang="be-BY" sz="1200" spc="-1" strike="noStrike">
                <a:solidFill>
                  <a:srgbClr val="0066ff"/>
                </a:solidFill>
                <a:latin typeface="Calibri"/>
              </a:rPr>
              <a:t>ван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A6FD-7801-42AF-9854-E56EDE35F7F8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27A5-23A6-4B44-A575-1312A458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2066-B8E8-439D-9B97-9FE7C1DE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F50D-D119-414A-A248-9BE2B775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45DB-05CE-4E04-8DAF-9D9F8F10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746F-709B-483C-8D7D-56DB051F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4242-8B95-45AE-B673-93B4BB42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D8ED-BE0D-4492-A02C-4C4E008B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1473-F524-44FC-B4CD-4B225B7F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E91F-02DD-4B1B-9884-EA7C6646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2129-9A4B-4554-99B0-5813F359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FAF8-B859-4B4F-9C82-E72CE2B7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2978-5935-45CA-88D4-BAFAABCA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B781-3167-4638-AB91-CBFD9706FF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Основы информатики и программиров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ffff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1 курс экономический факульт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2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Arial"/>
              </a:rPr>
              <a:t>Разделы курс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OC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екстовый процессор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абличный процессор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Exc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СУБД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Программирование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V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Презентации в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1000">
    <p:cover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75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00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"/>
              </a:rPr>
              <a:t>Window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1.1. Основные принципы работы в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Windows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(окна, прилож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1.2. Работа с файлами и папками (проводник, мой компьютер, корзи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2000">
    <p:strips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Wor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Слия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Спи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connected_multiple_big"/>
          <p:cNvPicPr/>
          <p:nvPr/>
        </p:nvPicPr>
        <p:blipFill>
          <a:blip r:embed="rId1"/>
          <a:stretch/>
        </p:blipFill>
        <p:spPr>
          <a:xfrm>
            <a:off x="5003640" y="2133720"/>
            <a:ext cx="1155960" cy="136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8"/>
          <p:cNvGraphicFramePr/>
          <p:nvPr/>
        </p:nvGraphicFramePr>
        <p:xfrm>
          <a:off x="4859280" y="3645000"/>
          <a:ext cx="4038480" cy="2601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3645000"/>
                    <a:ext cx="4038480" cy="26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1000">
    <p:pull dir="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75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75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75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Exc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Диалоговые  ок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п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онсолид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6"/>
          <p:cNvGraphicFramePr/>
          <p:nvPr/>
        </p:nvGraphicFramePr>
        <p:xfrm>
          <a:off x="4651200" y="1600200"/>
          <a:ext cx="403236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51200" y="1600200"/>
                    <a:ext cx="4032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3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3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3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cc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№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-1. Создание баз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№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-2.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«ЗАПРОС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9"/>
          <p:cNvGraphicFramePr/>
          <p:nvPr/>
        </p:nvGraphicFramePr>
        <p:xfrm>
          <a:off x="458640" y="2516040"/>
          <a:ext cx="403560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2516040"/>
                    <a:ext cx="40356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VBA</a:t>
            </a:r>
            <a:br>
              <a:rPr sz="54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№5_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азработка  функций для реализации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инейных и разветвляющихся  алгоритм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1187280" y="3789360"/>
            <a:ext cx="6821640" cy="2565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wipe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6_1.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Создание презентации по курсу "Основы информатики и программирования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12"/>
          <p:cNvPicPr/>
          <p:nvPr/>
        </p:nvPicPr>
        <p:blipFill>
          <a:blip r:embed="rId2"/>
          <a:stretch/>
        </p:blipFill>
        <p:spPr>
          <a:xfrm>
            <a:off x="5508720" y="1557360"/>
            <a:ext cx="3319200" cy="3816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3473640" y="5916600"/>
            <a:ext cx="1183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3300"/>
                </a:solidFill>
                <a:latin typeface="Arial"/>
              </a:rPr>
              <a:t>Конец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zoom dir="in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6000" spc="-1" strike="noStrike">
                <a:solidFill>
                  <a:srgbClr val="00ccff"/>
                </a:solidFill>
                <a:latin typeface="Arial"/>
              </a:rPr>
              <a:t>Об автор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66ff"/>
                </a:solidFill>
                <a:latin typeface="Arial"/>
              </a:rPr>
              <a:t>Кардаш Татьяна 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И</a:t>
            </a:r>
            <a:r>
              <a:rPr b="0" lang="be-BY" sz="3200" spc="-1" strike="noStrike">
                <a:solidFill>
                  <a:srgbClr val="0066ff"/>
                </a:solidFill>
                <a:latin typeface="Arial"/>
              </a:rPr>
              <a:t>ван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i"/>
          <p:cNvPicPr/>
          <p:nvPr/>
        </p:nvPicPr>
        <p:blipFill>
          <a:blip r:embed="rId1"/>
          <a:stretch/>
        </p:blipFill>
        <p:spPr>
          <a:xfrm>
            <a:off x="971640" y="1628640"/>
            <a:ext cx="2585880" cy="25862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16:37:39Z</dcterms:created>
  <dc:creator>Owner</dc:creator>
  <dc:description/>
  <dc:language>en-US</dc:language>
  <cp:lastModifiedBy>LEGION</cp:lastModifiedBy>
  <dcterms:modified xsi:type="dcterms:W3CDTF">2015-04-01T07:43:49Z</dcterms:modified>
  <cp:revision>11</cp:revision>
  <dc:subject/>
  <dc:title>Основы информатики и программирования</dc:title>
</cp:coreProperties>
</file>