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3FA6-0C97-4498-B1A3-A6A624141E4C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сновы информатики и програм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1 курс экономический факульт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FC3E-7C73-4096-8F53-9D04CE30EEBB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Разделы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OC 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екстов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абличн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УБД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граммирование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V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зентации в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5632-DC15-4238-B701-D07B870C7517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1. Основные принципы работы в </a:t>
            </a:r>
            <a:r>
              <a:rPr b="0" lang="en-US" sz="1200" spc="-1" strike="noStrike">
                <a:solidFill>
                  <a:srgbClr val="00ff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(окна, при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2. Работа с файлами и папками (проводник, мой компьютер, корз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4666-7A9F-4B52-8670-945C19855732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ия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5DBE-CB60-48C8-AC70-18D06B2BCAF7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иалоговые  ок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нсо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1276-F85F-4C46-8D37-ABBAA330DD61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1. Создание баз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2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ЗАПРОС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ED5C-9260-45B7-8908-BA98E61BD1E2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VBA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№5_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работка  функций для реализаци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ейных и разветвляющихся 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67C5-9D78-4593-9DA5-1C2453367CD3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6_1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Создание презентации по курсу "Основы информатики и программир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A894-A789-48D9-A03F-CF305AAABB0D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ccff"/>
                </a:solidFill>
                <a:latin typeface="Calibri"/>
              </a:rPr>
              <a:t>Об ав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Кардаш Татьяна </a:t>
            </a: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И</a:t>
            </a: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в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58DB-9315-48A9-9EB6-C005DBFB90E9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211-57EA-45BF-8DB0-977D6BCC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12C-B010-4D22-9DDF-DBD30E34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131-1226-4A47-903F-E7E10FD3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E0F-FB70-4D66-8BA6-B3E841EF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8BA-95AA-4A33-98A3-8F4C9CB9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0C5-6CC3-4F2D-AF42-F671C8ED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069-3AC1-4478-BB0A-3B37A3F3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074-469A-4153-A210-BE2498BE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2A1-B7CC-4252-AA0E-76D9C086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D5F-BCF9-4DCE-82E3-490363AE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888-A291-4440-B650-90F82F93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330-9812-4DDD-836B-89873183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66DA-E8B8-4132-A3C0-F67BD7C96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сновы информатики и программ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1 курс экономический факуль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Разделы кур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C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кстов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абличн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УБД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ограммирование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езентации в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Wind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1. Основные принципы работы в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(окна, прил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2. Работа с файлами и папками (проводник, мой компьютер, корз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п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onnected_multiple_big"/>
          <p:cNvPicPr/>
          <p:nvPr/>
        </p:nvPicPr>
        <p:blipFill>
          <a:blip r:embed="rId1"/>
          <a:stretch/>
        </p:blipFill>
        <p:spPr>
          <a:xfrm>
            <a:off x="5003640" y="2133720"/>
            <a:ext cx="1155960" cy="13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4859280" y="3645000"/>
          <a:ext cx="4038480" cy="260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645000"/>
                    <a:ext cx="403848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Exc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иалоговые 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олид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3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3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3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1. Создание баз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2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ЗАПРОС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9"/>
          <p:cNvGraphicFramePr/>
          <p:nvPr/>
        </p:nvGraphicFramePr>
        <p:xfrm>
          <a:off x="458640" y="251604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251604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VBA</a:t>
            </a:r>
            <a:br>
              <a:rPr sz="54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5_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работка  функций для реализаци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инейных и разветвляющихся  алгоритм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6821640" cy="2565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6_1.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Создание презентации по курсу "Основы информатики и программирова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2"/>
          <p:cNvPicPr/>
          <p:nvPr/>
        </p:nvPicPr>
        <p:blipFill>
          <a:blip r:embed="rId2"/>
          <a:stretch/>
        </p:blipFill>
        <p:spPr>
          <a:xfrm>
            <a:off x="5508720" y="1557360"/>
            <a:ext cx="331920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73640" y="5916600"/>
            <a:ext cx="1183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00ccff"/>
                </a:solidFill>
                <a:latin typeface="Arial"/>
              </a:rPr>
              <a:t>Об авто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Кардаш Татьяна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i"/>
          <p:cNvPicPr/>
          <p:nvPr/>
        </p:nvPicPr>
        <p:blipFill>
          <a:blip r:embed="rId1"/>
          <a:stretch/>
        </p:blipFill>
        <p:spPr>
          <a:xfrm>
            <a:off x="971640" y="1628640"/>
            <a:ext cx="2585880" cy="25862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6:37:39Z</dcterms:created>
  <dc:creator>Owner</dc:creator>
  <dc:description/>
  <dc:language>en-US</dc:language>
  <cp:lastModifiedBy>LEGION</cp:lastModifiedBy>
  <dcterms:modified xsi:type="dcterms:W3CDTF">2015-04-01T07:43:49Z</dcterms:modified>
  <cp:revision>11</cp:revision>
  <dc:subject/>
  <dc:title>Основы информатики и программирования</dc:title>
</cp:coreProperties>
</file>