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8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629D-3EB5-4C2D-97BF-DEA50C27DE8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сновы информатики и программ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1 курс экономический факульт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C76B-54AF-4FDC-B3AE-B3FEFA761662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Calibri"/>
              </a:rPr>
              <a:t>Разделы курс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OC 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екстов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W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Табличный процессор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Exc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УБД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Ac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граммирование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V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зентации в </a:t>
            </a: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Power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A475-71BE-44E7-A8C5-3184604CDB60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Calibri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1. Основные принципы работы в </a:t>
            </a:r>
            <a:r>
              <a:rPr b="0" lang="en-US" sz="1200" spc="-1" strike="noStrike">
                <a:solidFill>
                  <a:srgbClr val="00ff00"/>
                </a:solidFill>
                <a:latin typeface="Calibri"/>
              </a:rPr>
              <a:t>Windows</a:t>
            </a: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 (окна, прило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00"/>
                </a:solidFill>
                <a:latin typeface="Calibri"/>
              </a:rPr>
              <a:t>1.2. Работа с файлами и папками (проводник, мой компьютер, корзин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4374-B8FA-426F-9CCE-5C0B08F70C0E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W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Табл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лия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BF68-037E-4E73-B680-CC793A533B2C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Calibri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иалоговые  ок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с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онсолид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A773-9CF2-45D6-BBFB-B8F001467A6A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1. Создание баз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4-2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ЗАПРОС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8BB1-180C-4CA7-A788-64DB1303A8FB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VBA</a:t>
            </a:r>
            <a:br>
              <a:rPr sz="18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№5_1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работка  функций для реализации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инейных и разветвляющихся  алгоритм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C722-807D-4283-9972-D748D15315A3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Power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6_1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 Создание презентации по курсу "Основы информатики и программирован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CCF1-21D6-4BC6-BB0B-E93D31813C00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00ccff"/>
                </a:solidFill>
                <a:latin typeface="Calibri"/>
              </a:rPr>
              <a:t>Об авт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Кардаш Татьяна </a:t>
            </a:r>
            <a:r>
              <a:rPr b="0" lang="ru-RU" sz="1200" spc="-1" strike="noStrike">
                <a:solidFill>
                  <a:srgbClr val="0066ff"/>
                </a:solidFill>
                <a:latin typeface="Calibri"/>
              </a:rPr>
              <a:t>И</a:t>
            </a:r>
            <a:r>
              <a:rPr b="0" lang="be-BY" sz="1200" spc="-1" strike="noStrike">
                <a:solidFill>
                  <a:srgbClr val="0066ff"/>
                </a:solidFill>
                <a:latin typeface="Calibri"/>
              </a:rPr>
              <a:t>в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DD70-4198-4B9C-A97B-E859ABACFA55}" type="slidenum">
              <a:rPr b="0" lang="uk-UA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A7C-42BC-46FC-B60B-14D0769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F11-4277-4FF2-8DAC-32F8B912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C125-5BD1-444E-8125-D75460BE9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B7F-DF8D-4991-8884-EA00F594A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C1D-4A26-4959-B6E6-FC59FC86B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4C91-9977-4129-A508-81BE6220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600-2C01-4993-B95E-D6839C09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1B8-841F-4927-A89A-FA4894DD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972D-3942-431C-A1F7-A22B38C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9846-CE04-467B-B306-E8E134A14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FA64-AD73-45C4-94D5-EB9DCB3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5F6-AC4E-4C83-8BD9-ACCFAC4A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C2E0-C6BC-45BD-80D9-B1DF2DDF69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ffff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3300"/>
                </a:solidFill>
                <a:latin typeface="Arial"/>
              </a:rPr>
              <a:t>Основы информатики и программир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1 курс экономический факульт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Arial"/>
              </a:rPr>
              <a:t>Разделы курс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OC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екстов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Табличный процессор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Exc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УБД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ограммирование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VB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Презентации в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"/>
              </a:rPr>
              <a:t>Window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1. Основные принципы работы в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Windows</a:t>
            </a: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 (окна, приложен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ff00"/>
                </a:solidFill>
                <a:latin typeface="Arial"/>
              </a:rPr>
              <a:t>1.2. Работа с файлами и папками (проводник, мой компьютер, корзин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2000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Wor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лия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пи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connected_multiple_big"/>
          <p:cNvPicPr/>
          <p:nvPr/>
        </p:nvPicPr>
        <p:blipFill>
          <a:blip r:embed="rId1"/>
          <a:stretch/>
        </p:blipFill>
        <p:spPr>
          <a:xfrm>
            <a:off x="5003640" y="2133720"/>
            <a:ext cx="1155960" cy="136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Object 8"/>
          <p:cNvGraphicFramePr/>
          <p:nvPr/>
        </p:nvGraphicFramePr>
        <p:xfrm>
          <a:off x="4859280" y="3645000"/>
          <a:ext cx="4038480" cy="2601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59280" y="3645000"/>
                    <a:ext cx="4038480" cy="260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1000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75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75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75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Exce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Диалоговые  ок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пи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Консолид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4651200" y="1600200"/>
          <a:ext cx="4032360" cy="452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51200" y="1600200"/>
                    <a:ext cx="4032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d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3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3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3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Acces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1. Создание баз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№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4-2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«ЗАПРОСЫ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9"/>
          <p:cNvGraphicFramePr/>
          <p:nvPr/>
        </p:nvGraphicFramePr>
        <p:xfrm>
          <a:off x="458640" y="2516040"/>
          <a:ext cx="403560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2516040"/>
                    <a:ext cx="403560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75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6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VBA</a:t>
            </a:r>
            <a:br>
              <a:rPr sz="54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№5_1.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азработка  функций для реализаци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инейных и разветвляющихся  алгоритмо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6821640" cy="2565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wipe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ff"/>
                </a:solidFill>
                <a:latin typeface="Arial"/>
              </a:rPr>
              <a:t>Power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ccff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Arial"/>
              </a:rPr>
              <a:t>6_1.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 Создание презентации по курсу "Основы информатики и программирования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12"/>
          <p:cNvPicPr/>
          <p:nvPr/>
        </p:nvPicPr>
        <p:blipFill>
          <a:blip r:embed="rId2"/>
          <a:stretch/>
        </p:blipFill>
        <p:spPr>
          <a:xfrm>
            <a:off x="5508720" y="1557360"/>
            <a:ext cx="3319200" cy="38163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473640" y="5916600"/>
            <a:ext cx="1183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33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advTm="3000">
    <p:zoom dir="in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75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75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00ccff"/>
                </a:solidFill>
                <a:latin typeface="Arial"/>
              </a:rPr>
              <a:t>Об авто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Кардаш Татьяна </a:t>
            </a:r>
            <a:r>
              <a:rPr b="0" lang="ru-RU" sz="3200" spc="-1" strike="noStrike">
                <a:solidFill>
                  <a:srgbClr val="0066ff"/>
                </a:solidFill>
                <a:latin typeface="Arial"/>
              </a:rPr>
              <a:t>И</a:t>
            </a:r>
            <a:r>
              <a:rPr b="0" lang="be-BY" sz="3200" spc="-1" strike="noStrike">
                <a:solidFill>
                  <a:srgbClr val="0066ff"/>
                </a:solidFill>
                <a:latin typeface="Arial"/>
              </a:rPr>
              <a:t>ван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i"/>
          <p:cNvPicPr/>
          <p:nvPr/>
        </p:nvPicPr>
        <p:blipFill>
          <a:blip r:embed="rId1"/>
          <a:stretch/>
        </p:blipFill>
        <p:spPr>
          <a:xfrm>
            <a:off x="971640" y="1628640"/>
            <a:ext cx="2585880" cy="25862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8T16:37:39Z</dcterms:created>
  <dc:creator>Owner</dc:creator>
  <dc:description/>
  <dc:language>en-US</dc:language>
  <cp:lastModifiedBy>LEGION</cp:lastModifiedBy>
  <dcterms:modified xsi:type="dcterms:W3CDTF">2015-04-01T07:43:49Z</dcterms:modified>
  <cp:revision>11</cp:revision>
  <dc:subject/>
  <dc:title>Основы информатики и программирования</dc:title>
</cp:coreProperties>
</file>