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82FB-ECD3-4F43-BE35-D3216CDFC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город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2010 -2011 уч.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B68A-4C8C-4743-A784-7425799A4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3-4 классах «Информатика и ИКТ» может изучаться в качестве модуля в рамках предмета «Технология»[1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ча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67F3-279B-4F2F-A608-CFB1EAD3C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07C-C831-4C1B-96EB-5678BC6FF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1B7-9A9A-4BD0-8060-D72D469F4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информатики и ИКТ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фильном уров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в 10-11 классах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ко-математического и информационно-технологического проф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68AA-9E0B-4ECB-8826-FB51E26C20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учебников в условиях перехода на О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учителям информатики и ИК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стоятельно адаптирова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ложение №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работая по выбранной ранее авторской ли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ики переиздаваться в ближайшее время не буд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е прикладным программ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A6BE-6026-4285-BB0E-F1024332F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абочих программ учебных курсов, предметов, дисциплин (модулей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ходит в компетенцию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. 2. ст. 32 Закона РФ «Об образовании»).  Рабочая програм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атывается педагог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ая программа обновляется ежего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програм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ся на осно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 28 Закона РФ «Об образовании»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232-856B-412A-AE1D-CC568AB8C5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сти изменения в составляемую рабочую програм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чем на 20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ая примерная структура Рабочей программы включает следующие компон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итульный ли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ребования к уровню подготовки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лендарно-тематическое планирование (учебно-тематический пл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держание программы учебного предмета, курса, дисциплины (моду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формы и средства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еречень учебно-методических средств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BA32-F7A6-421F-8301-B5AA573BE2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рабоче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итульный ли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бочей программы должен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именование образовательного учре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иф утверждения и согласования программы (таблица №1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го курса, предмета, дисциплины (моду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асс (параллель), в котором изучается учебный курс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мет, курс, дисциплина (модул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д составл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3C89-481D-4409-84CA-117B00E603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ксте пояснительной запис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абочей программе указыва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2E83-88CD-4DDF-99DC-85837C47D9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структуры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 «Требования к уровню подготовки учащихс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60C8-D557-416B-8E3B-CD90AD71B5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документы, регламентирующие деятельность учителя – предме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стандартов второго поколения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 – методическое обеспечение и контроль по предмету в 2010-2011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ставлению КТП с учетом подготовки к ГИА и ЕГ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ведению записей в классных журнал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одготовке школьников к олимпиадам и кон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C23-6F6E-4C69-AFD6-BBFC1F5A2E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формляется в виде таблицы на весь срок обучения (таблица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5F38-38D6-4411-A220-E451C0904E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держание учебного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й компонент Рабочей программы 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ормы и средства контроля»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учебно-методических средств обучения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компонент Рабочей программы,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и приборы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AE4-281D-4054-8AAD-F1591B141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н работы ГМ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2010-2011 уч.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тематических семинара по плану НМИЦ г. Бел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и перспективная работа с аттестующимися для адекватной оценки их дост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ая поддержка молодых уч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сохранению высокого уровня олимпиадного движения по информатике в 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7A32-EF70-4576-8393-A9AD369BE6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 от 10 июля 1992 года № 3266-1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830-FCFA-455C-8CA7-E584DD9DC5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зов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реднего (полного) общего образования по информатике и ИКТ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ильный уров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начального общего образования по технологии (тру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основного общего образования по информатике и И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BDD-EDF0-4896-8FD3-ED3EDC651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перечень учебников на 2010-2011 учебный год (Приказ Министерства образования и науки Российской Федерации от «23 » декабря 2009 г. № 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C3A1-D25E-4321-A446-AE7A2F6A3B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1AAF-4C2A-4B1A-8EC4-CAB9FBE19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ундаментальным ядром по предмету «Информатика» можно подробнее ознакомиться на сайте ФГОС по ссылке http://www.standart.edu.ru/catalog.aspx?CatalogId=82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192E-0CFD-4D88-8C54-E2B2D6F5EF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чальной школы по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ьном звене не 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ого модуля в рамках учебных предметов «Математика» и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B292-48DA-4F1F-A17E-6AB8C780AD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ткая характеристика стандартов второго поко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сновной школы по информат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7, 8, 9 классе  по 1 часу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атематика и информатика» без четкого разграничения изучаемых тем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C2E-E2FA-47A5-B06A-3AEEB813F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12B-D620-454E-85AA-9572FA69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F36-CFB7-4556-8E08-CE2FBCE2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B98-BE08-4C79-835B-F3D0DCC6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17C-233E-4110-B291-FAE873E9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998-AF7A-4B91-BE1B-89B1023C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A1B-6AA9-4BA4-BD45-76CE1C6E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233-24CB-498A-8AAB-F846D929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628-FFA0-4CC0-A42C-5EE2514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31D-50D8-44CA-B549-15C59F7A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F9C-55AD-4BA7-B923-A609FAA0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A9B-DAB1-4130-AFE3-4881E3E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274-6BBD-4064-9E13-DD10476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BDB4-18C5-40B2-A81E-A4ED78B9E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/mo/Data/d_08/m379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andart.edu.ru/catalog.aspx?CatalogId=82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ложения инструктивно – методического письма « О преподавании предмета «Информатика и ИКТ»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бщеобразовательных учреждения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городской обла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в 2010 -2011 уч. год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79280" y="189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«Информатика и ИКТ» в общеобразовательных учреждениях Белгородской области в 2010-2011 учебном году осуществляется (согласно ГОС – 2004 г. и областного БУП-2006) следующими этап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 3-4 классах «Информатика и ИКТ» может изучаться в качестве модуля в рамках предмета «Технология»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в качестве самостоятельного учебного предмета «Информатика и ИКТ» изучается в 8 и 9 клас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 10–11 классах предмет "Информатика и ИКТ" может быть представлен на двух уровнях: базовом или профильном.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4508640"/>
          <a:ext cx="8424720" cy="1096920"/>
        </p:xfrm>
        <a:graphic>
          <a:graphicData uri="http://schemas.openxmlformats.org/drawingml/2006/table">
            <a:tbl>
              <a:tblPr/>
              <a:tblGrid>
                <a:gridCol w="5956200"/>
                <a:gridCol w="1235160"/>
                <a:gridCol w="1233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«Практика работы на компьютере» в рамках предмета «Технолог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25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два года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41"/>
          <p:cNvSpPr/>
          <p:nvPr/>
        </p:nvSpPr>
        <p:spPr>
          <a:xfrm>
            <a:off x="399960" y="414972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5"/>
          <p:cNvSpPr/>
          <p:nvPr/>
        </p:nvSpPr>
        <p:spPr>
          <a:xfrm>
            <a:off x="179280" y="595008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404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городской области рекомендуется в начальной школе учебный предмет «Информатика и ИКТ» изучать в III-IV классах в качестве учебного модуля в рамках учебного предмета «Технология (Труд)»  с целью обеспечить всеобщую компьютерную грамотность. Согласно примерной программе начального общего образования по технологии (труд) модуль называется «Практика работы на компьютере» и на его изучение рекомендовано 20-25 часов. К этому времени можно прибавить 10% резервного времени предмета «Технология» и получится 35 ча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ном журнале все записи по изучению модуля производятся на странице предмета «Технология» и выставлением оценки по предмету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ловии выполнения программы по предмету «Технология» за 1 ч. в 3 кл., и 1 ч. в 4 кл.,  общеобразовательное учреждение может организовать изучение предмета «Информатика и ИКТ» по 1 часу в неделю в 3 классе и по 1 часу в неделю в 4 классе как самостоятельный предмет (за счет часов предмета Технология),  с отдельной страницей в журнале и выставлением оценки за год по предмету «Информатика и ИК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4"/>
          <p:cNvSpPr/>
          <p:nvPr/>
        </p:nvSpPr>
        <p:spPr>
          <a:xfrm>
            <a:off x="5424480" y="357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04640"/>
          <a:ext cx="6732360" cy="1204920"/>
        </p:xfrm>
        <a:graphic>
          <a:graphicData uri="http://schemas.openxmlformats.org/drawingml/2006/table">
            <a:tbl>
              <a:tblPr/>
              <a:tblGrid>
                <a:gridCol w="3306600"/>
                <a:gridCol w="687600"/>
                <a:gridCol w="687240"/>
                <a:gridCol w="684360"/>
                <a:gridCol w="684000"/>
                <a:gridCol w="6825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школьного компон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Text Box 106"/>
          <p:cNvSpPr/>
          <p:nvPr/>
        </p:nvSpPr>
        <p:spPr>
          <a:xfrm>
            <a:off x="0" y="182232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учебный предмет федерального компонента государственного стандарта общего образования, областного базисного учебного плана «Информатика и ИКТ» изучается в 8 классе по 1 часу в неделю и в 9 классе – по 2 часа в неделю. Всего за два года обучения в основной школе – 105 часов. В 9 классе в системе предпрофильной подготовки возможно расширить границы предмета за счет элективных курсов по выбору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компонент государственного стандарта общего образования не предусматривает изучение «Информатики и ИКТ» в 5-7 классах, но за счет компонента образовательного учреждения возможно изучать этот предмет в 5, 6, 7 классе. Это позволит реализовать непрерывный курс информати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прерывного изучения предмета «Информатика и ИКТ» общеобразовательные учреждения должны при составлении учебных планов учитывать выделение часов на изучение предмета при переходе одного класса в другой из года в год т.е., если 5 класс в  2008-2009 учебном году изучал предмет «Информатика и ИКТ», следовательно, в 2009-2010 учебном году этот класс уже став 6,  также должен изучать предмет «Информатика и ИКТ», а в 2010-2011 учебном году,  перейдя из 6 класса в 7 класс, учащиеся  продолжают обучение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5092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ш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907920"/>
          <a:ext cx="8172360" cy="1006560"/>
        </p:xfrm>
        <a:graphic>
          <a:graphicData uri="http://schemas.openxmlformats.org/drawingml/2006/table">
            <a:tbl>
              <a:tblPr/>
              <a:tblGrid>
                <a:gridCol w="5778360"/>
                <a:gridCol w="1197000"/>
                <a:gridCol w="11970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63"/>
          <p:cNvSpPr/>
          <p:nvPr/>
        </p:nvSpPr>
        <p:spPr>
          <a:xfrm>
            <a:off x="0" y="220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шей школе вводится профильное обучение. Каждое общеобразовательное учреждение реализует свой профиль или несколько  профильных направлений. В выбравших профилях предмет «Информатика и ИКТ» может быть представлен на одном из двух уровней – базовом или профиль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ние информатики и ИКТ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ильном уров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ся в 10-11 класс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о-математического и информационно-технологического профи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учебный предмет «Информатика и ИКТ» является одним из профильных предметов. Преподается предмет «Информатика и ИКТ» из расчета 4 часа в неделю, всего - 280 ч. за два года обучения. Это означает, что обучение информатике и информационным технологиям осуществляется на повышенном уров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редмета на профильном уровне  может быть расширено за счет часов, отводимых на элективные кур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учебников в условиях перехода на О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сложилась следующая ситуация: в нормативных документах (государственный образовательный стандарт по информатике, примерные программы по информатике) не указывается название изучаемых операционных систем и прикладных программ, а в авторских программах и содержании учебников рассматривается изучение содержания информатики на пример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х программ. На территории Российской Федерации в общеобразовательных учреждениях лицензия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канчивается 31 декабря 2010 г.  С 1 января 2011 года реализуется  переход на операцион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учителям информатики и ИКТ при выборе учебников необходимо учесть, что все представленные УМК в Федеральном перечне ориентированы на изучение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е программы. Из всех УМК в учебнике автора Угриновича Н.Д. есть практикум для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этим учителям информатики и ИК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адаптиров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теоретических сведений (в сравнении двух операционных систем) и практических работ по изучаемым темам с учетом используемого программного обеспечения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работая по выбранной ранее авторск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ики переиздаваться в ближайшее время не бу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мощь учителям информатики рекомендуется с сайта ПСПО для учреждений России по ссылке http://linux.armd.ru/ru/documentation/metod/#2 скачать учебные пособия, оформленные как  практические руководства  по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е прикладным програм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абочим программам относятся: программы по учебным предметам; программы элективных курсов; программы факультативных курсов; дополнительных образовательных к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бочих программ учебных курсов, предметов, дисциплин (модулей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ит в компетенцию образовательного учре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. 2. ст. 32 Закона РФ «Об образовании»).  Рабочая 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атывается педагог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группой педагогов и проходит экспертизу на уровне общеобразовательного учреждения. Общеобразовательное учреждение несет ответственность за качество реализуемых рабочих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ая программа обновляется ежег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ю разработки Рабочей программы является сохранение единого образовательного пространства учреждения и предоставление широких возможностей для реализации различных технологий, подходов к построению учебного курса, предмета, дисциплины (модул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и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ются на осн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8 Закона РФ «Об образовании»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авторских программ к линиям учебников, входящих в федеральный перечень УМК, рекомендованных Минобразования РФ к использованию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ых программ по отдельным учебным предметам общего образования и материалам авторского учебно-методического комплекса (при отсутствии соответствующих авторских программ к линии учебников, имеющихся в федеральном перечн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ж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сти изменения в составляемую рабочую програм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более чем на 20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ышеназванных программ. Например, определять новый порядок изучения материала, изменять количество часов, вносить изменения в содержание изучаемой темы, дополнять требования к уровню подготовк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содержания каждой Рабочей программы устанавливается в соответствии с примерной образовательной программой и государственным образовательным станда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, отводимых на освоение Рабочей программы, должно соответствовать Базисному учебному плану общеобразовательных учреждений Российской Федерации, утвержденному приказом Минобразования РФ № 1312 от 09.03.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ая примерная структура Рабочей программы включает следующие компон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титульный ли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яснительная запи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ребования к уровню подготовк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лендарно-тематическое планирование (учебно-тематический пла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одержание программы учебного предмета, курса, дисциплины (модул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формы и средства контро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еречень учебно-методически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рабоче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чей программы должен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именование образовательного учре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риф утверждения и согласования программы (таблица №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го курса, предмета, дисциплины (модул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.И.О. педагога, разработавшего и реализующего учебный курс, предмет, дисциплину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ласс (параллель), в котором изучается учебный кур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мет, курс, дисциплина (модул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од составления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3716280"/>
          <a:ext cx="8642160" cy="1463760"/>
        </p:xfrm>
        <a:graphic>
          <a:graphicData uri="http://schemas.openxmlformats.org/drawingml/2006/table">
            <a:tbl>
              <a:tblPr/>
              <a:tblGrid>
                <a:gridCol w="2601720"/>
                <a:gridCol w="3013200"/>
                <a:gridCol w="302724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Шашаев А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окол № ___ 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гласован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 школы по УВР МОУ СОШ № ___ г. 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 Королёва Н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________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твержда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МОУ СОШ №__ г.Бел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Головинкина И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8975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№ ___ от «___»____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тексте пояснительной запи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Рабочей программе ук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, автор и год издания предметной учебной программы (примерной, авторской), на основе которой разработана Рабочая програм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ели и задачи данной программы обучения в области формирования системы знаний, умений[1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менения, внесенные в примерную (типовую) и авторскую учебную программу и их обосн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учебно-методического комплекта (учебник, рабочая тетрадь, тетрадь для контрольных работ, атлас, контурная карта и др. согласно перечню учебников, утвержденных приказом Минобрнауки РФ), используемого для достижения поставленной цели в соответствии с образовательной программой учреждения[2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личество учебных часов, на которое рассчитана Рабочая программа, в т.ч. количество часов для проведения контрольных, лабораторных, практических работ, экскурсий, проектов исследов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1] Задачи формулируются в соответствии с ФГОС и с учетом особенностей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[2] Учебники, рабочие тетради, пособия, входящие в учебно-методический комплект, обозначаются с указанием их названия, класса, ФИО автора, издательства, года из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ы организации учебного процесса и их сочетание, а также преобладающие формы текущего контроля знаний, умений, навыков (в соответствии с Положением о текущем контроле учащихся в образовательном учреждении), промежуточной и итоговой аттестации учащихся (в соответствии с соответствующими Положения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структуры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ся, если авторская учебная программа отсутствует, а Рабочая программа составлена на основе примерной (типовой) учебной программы и авторскому учебно-методическому компл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«Требования к уровню подготовки учащихс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собой описание целей-результатов обучения, выраженных в действиях учащихся (операциональных) и реально опознаваемых с помощью диагностических инструментов. Данный перечень целей-результатов обучения включает специальные предметные и общие учебные умения и способ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к уровню подготовки учащихся, прописанные в Рабочей программе, должны соответствовать требованиям, сформулированных в федеральном государственном стандарте общего образования и примерной (типовой) учебной программе (Закон РФ «Об образовании» ст. 12, 13, 15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ые документы, регламентирующие деятельность учителя – предме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стандартов второго поколения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 – методическое обеспечение и контроль по предмету в 2010-2011 учеб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рабочих программ учебных курсов, предметов, дисциплин (модулей) обще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составлению КТП с учетом подготовки к ГИА 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ень обязательного оборудования, необходимого для реализации общеобразовательных программ на базовом и профильном уровнях по предметам инвариантной части учебного плана (по ступеням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ведению записей в классных жур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омендации по подготовке школьников к олимпиадам и конкур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лендарно-тематический пл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формляется в виде таблицы на весь срок обучения (таблица 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" y="836640"/>
          <a:ext cx="6227640" cy="1341360"/>
        </p:xfrm>
        <a:graphic>
          <a:graphicData uri="http://schemas.openxmlformats.org/drawingml/2006/table">
            <a:tbl>
              <a:tblPr/>
              <a:tblGrid>
                <a:gridCol w="466560"/>
                <a:gridCol w="1940040"/>
                <a:gridCol w="1092240"/>
                <a:gridCol w="1052280"/>
                <a:gridCol w="1676520"/>
              </a:tblGrid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 и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ы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сроки про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"/>
          <p:cNvSpPr/>
          <p:nvPr/>
        </p:nvSpPr>
        <p:spPr>
          <a:xfrm>
            <a:off x="0" y="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учебного кур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мета, дисциплины (модуля) Рабочей программы включает краткое описание каждой темы (3-4 предложения). Изложение учебного материала в заданной последовательности предусматривает конкретизацию всех дидактических единиц со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ый компонент Рабочей программы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рмы и средства контроля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материалы в виде тестовых, контрольных работ, вопросов для зачета и др. для оценки освоения школьниками содержания учебного материала. Количество контрольных работ определяется инструктивно-методическими документами о преподавании учебных предметов и дисциплин, принятыми на уровне реги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чень учебно-методических средств обучени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компонент Рабочей программы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ую и дополнительную учебную литературу (учебники, учебные пособия, сборники упражнений и задач, контрольных заданий, тестов, практических работ и лабораторных практикумов, хрестомат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очные пособия (словари, справочники); наглядный материал (альбомы, атласы, карты, таблиц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рудование и приборы и т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оформляется в соответствии с ГОСТом: элементы описания каждого учебно-методического средства должны приводиться в алфавитном порядке и соответствовать требованиям к библиографическому опис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работы ГМ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2010-2011 уч.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тематических семинара по плану НМИЦ г. Бел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и перспективная работа с аттестующимися для адекватной оценки их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поддержка молодых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по сохранению высокого уровня олимпиадного движения по информатике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поддержка учителей информатики, имеющих лучшие показатели по результатам ГИА и ЕГЭ, распространение их опыт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нформационной базы по разделам сайта ГМО, развитие новых технологий взаимодействия пользователей городской Интра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602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«Об образовании» от 10 июля 1992 года № 3266-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Российской Федерации от 05 марта 2004 г.  № 1089 "Об утверждении федерального компонента государственных стандартов начального общего, основного общего и среднего (полного) общего образования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базисный учебный план и примерные учебные планы для общеобразовательных учреждений РФ, реализующих программу общего образования (приказ Министерства образования Российской Федерации от 09.03.2004г. №13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от 20.08.2008 года № 241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ённые приказом Министерства образования Российской Федерации от 9 марта 2004 года № 1312 «Об утверждении федерального базисного учебного плана и примерных учебных планов для образовательных учреждений Российской Федерации, реализующих программы обще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начального общего образования по технологии (приказ Минобразования России «Об утверждении федерального компонента государственных стандартов начального общего, основного общего и среднего (полного) общего образования» от 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основного общего образования по информатике и ИКТ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 среднего (полного) общего образования по информатике и ИК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(приложение из приказа Министерства образования Российской Федерации от 05 марта 2004 г. № 108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начального общего образования по технологии (тру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основного общего образования по информатике и И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(базовый уров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ая программа среднего (полного) общего образования по информатике и ИКТ  (профильный уровен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перечень учебников на 2010-2011 учебный год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истерства образования и науки Российской Федерации от «23 » декабря 2009 г.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22  г. Москва "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0/2011 учебный год"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Министерства образования и науки РФ от 09 ноября 2009 г. № 03-2235 «Об использовании учебников разных лет выпус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областного экспертного совета Департамента образования, культуры и молодежной политики Белгородской области по вопросам научно-методического обеспечения образовательного процесса и инновационной деятельности в сфере образования от 9 февраля 2010 года «Об итогах экспертизы учебно-методических комплексов по общеобразовательным предметам и рекомендуемом перечне на 2010-2011 учебный г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управления образования и науки Белгородской области от 26 апреля 2006 г. № 656 «Об утверждении базисного учебного плана и примерных учебных планов для общеобразовательных учреждений Белгородской области, реализующих программы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54936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13.05.2010 г. №9-06/2729-ВА «Об использовании БУП в общеобразовательных учреждений области в 2010-2011 учебном г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Департамента образования, культуры и молодёжной политики Белгородской области от 23.03.2010 г. № 819 «Об утверждении положения 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ей программе учебных курсов, предметов, дисциплин (модулей) общеобразователь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   политики   Белгородской    области  от  13.05.2009 г. № 9-06/1674-ВА  «О реализации программ  углублённого уровня в общеобразовательных учреждениях обла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Департамента образования, культуры и молодежной политики Белгородской области от 27 февраля 2009 года № 9-06/547-ИВ «Об использовании в работе инструктивно-методического письма по ведению классных журнал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ивное письмо Департамента образования, культуры и молодёжной политики Белгородской области от  05.05.2008г. № 9-06/1847-ЛИ «Об организации начальной профессиональной подготовки в условиях реализации универсального и профильного обуч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стандарты общего образования разрабатываются Министерством образования и науки Российской Федерации не реже чем раз в 10 лет.  В 2012 году на территории РФ вступят в силу новые стандар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148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ое отличие  нового образовательного стандарта от предшествующих разработок заключается в том, что суть его идеологии составляет  переход от минимизационного подхода к конструированию образовательного пространства на основе принципа фундаментальност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78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фундаментальным ядром по предмету «Информатика» можно подробнее ознакомиться на сайте ФГОС по ссылк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tandart.edu.ru/catalog.aspx?CatalogId=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чальной школы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7650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 сентября 2010 года экспериментально некоторые образовательные учреждения начинают работу в начальной школе по стандартам второго пок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екте стандартов второго поколения информатика, как самостоятельный учебный предм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ьном звене не представ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базисного учебного плана для образовательных учреждений РФ, реализующих основную образовательную программу начального общего образования: «Учебный курс «Информатика» в начальной школе изучается во 2–4 классах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го модуля в рамках учебных предметов «Математика» и «Техн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по предмету «Математика» четко не выделены часы и темы, связанные с информатико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часов на изучение модуля по информатике в программе по «Технологии» так же не представл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кая характеристика стандартов второго поко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ной школы по информат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0" y="9079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едложенному проекту БУП основной школы на сайте ФГОС  в основной школе на изучение предмета «Информатика и ИКТ» предусмотрен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, 8, 9 классе  по 1 часу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исный учебный план вечерних (сменных) общеобразовательных учреждений Российской Федерации (основное общее образование, очная форма обучения) изучение предмета «Информатика и ИКТ» предполагает в 8 классе1 час в неделю, в 9 классе 1 час в нед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оекту ФГО стандарта основного общего образования, разработанного к апрелю 2010 года,  информатика включена в предметную область с назван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тематика и информатика» без четкого разграничения изучаемых тем по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39:14Z</dcterms:created>
  <dc:creator>МАМА</dc:creator>
  <dc:description/>
  <dc:language>en-US</dc:language>
  <cp:lastModifiedBy>LEGION</cp:lastModifiedBy>
  <dcterms:modified xsi:type="dcterms:W3CDTF">2015-04-01T07:45:09Z</dcterms:modified>
  <cp:revision>7</cp:revision>
  <dc:subject/>
  <dc:title>Основные положения инструктивно – методического письма « О преподавании предмета «Информатика и ИКТ» в общеобразовательных учреждениях  Белгородской области  в 2010 -2011 уч. году».</dc:title>
</cp:coreProperties>
</file>