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CFDA-DB52-418B-B246-2539D55A2F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общеобразовательных учрежде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городской обл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2010 -2011 уч.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753B-E96B-4593-BC79-BA70A67076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3-4 классах «Информатика и ИКТ» может изучаться в качестве модуля в рамках предмета «Технология»[1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ча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466B-BA16-4E88-B3A6-1C2335E041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A0E9-236E-42F9-9D2D-B57DA66E4E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73B4-4447-417A-9307-19238EADB3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и ИКТ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фильном уров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в 10-11 класса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ко-математического и информационно-технологического проф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5F3F-02A3-4932-9C31-3CBE80E230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учебников в условиях перехода на О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учителям информатики и И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о адаптирова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ложение №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работая по выбранной ранее авторской ли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ики переиздаваться в ближайшее время не буд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м программ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E9A8-5F5A-4209-A9E6-DA11F9566F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абочих программ учебных курсов, предметов, дисциплин (модулей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ходит в компетенцию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. 2. ст. 32 Закона РФ «Об образовании»).  Рабочая програм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атывается педаго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ая программа обновляется ежего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програм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ся на осно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 28 Закона РФ «Об образовании»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D4F1-C281-4BFF-9661-13EA7B2121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сти изменения в составляемую рабочую програм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более чем на 20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ая примерная структура Рабочей программы включает следующие компон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итульный ли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ребования к уровню подготовки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лендарно-тематическое планирование (учебно-тематический пл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держание программы учебного предмета, курса, дисциплины (моду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формы и средства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еречень учебно-методических средств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472C-9342-4CD0-929C-B026F5A12E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формление рабоче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итульный ли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бочей программы должен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именование образовательного учре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иф утверждения и согласования программы (таблица №1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го курса, предмета, дисциплины (моду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ласс (параллель), в котором изучается учебный курс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мет, курс, дисциплина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д составл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703F-9E30-47FD-B52F-D879725A5B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ксте пояснительной запис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абочей программе указыва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859B-487D-4047-9D0D-3021C8CCD4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структуры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«Требования к уровню подготовки учащихс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0182-419E-420B-8952-C66A42F26E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документы, регламентирующие деятельность учителя – предме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стандартов второго поколения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 – методическое обеспечение и контроль по предмету в 2010-2011 учебно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КТП с учетом подготовки к ГИА и ЕГ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ведению записей в классных журнал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одготовке школьников к олимпиадам и кон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1E20-EEC9-4952-82E4-110D5838E2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формляется в виде таблицы на весь срок обучения (таблица 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477B-D230-4C54-B5B7-7437EFDE5C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ого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й компонент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ормы и средства контрол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чень учебно-методических средств обучения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компонент Рабочей программы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и приборы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A44E-6782-4F1D-B864-74BA2C8FAE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 работы ГМ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2010-2011 уч.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тематических семинара по плану НМИЦ г. Бел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и перспективная работа с аттестующимися для адекватной оценки их дост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ая поддержка молодых уч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сохранению высокого уровня олимпиадного движения по информатике в 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0DBE-2330-44EF-B09E-A7243D00CE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 от 10 июля 1992 года № 3266-1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1B76-39C9-4A2E-83D6-05B8AE7CEC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зов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фильн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начального общего образования по технологии (тру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основного общего образования по информатике и И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66C6-9215-4004-9ECD-6744CC45BB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перечень учебников на 2010-2011 учебный год (Приказ Министерства образования и науки Российской Федерации от «23 » декабря 2009 г. № 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8854-F370-4898-8061-CAA5F43796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11EB-C31E-4223-BC36-8EAABD3664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даментальным ядром по предмету «Информатика» можно подробнее ознакомиться на сайте ФГОС по ссылке http://www.standart.edu.ru/catalog.aspx?CatalogId=82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FC21-DF25-4FA0-8847-8FA0134F01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чальной школы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ьном звене не 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ого модуля в рамках учебных предметов «Математика» и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20AD-24A1-43B6-91BF-BE8439BFB9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сновной школы по информат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7, 8, 9 классе  по 1 часу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атематика и информатика» без четкого разграничения изучаемых тем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F384-4368-4F25-B15B-870D278251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556-900A-4305-B733-F76A61A3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AD7-1CE2-4D8E-9158-91CECDD0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F49-12C9-4550-AD88-B99D8188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284-9F4B-4926-B67E-FEA567C4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19B-8F6E-4C1F-B0EE-AF0B1B72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B64-1902-4802-AE8D-AA055F4A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A35-A855-4C53-A8E5-E906510D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A93-1420-4140-8A02-4B143AB8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B49-6BED-4606-98D3-3C1F0BE0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56E-5F96-4F38-9253-EAE187E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18C-7C8E-45FF-8D9A-10E9F540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530-07A8-4A24-AEA2-8F709FB6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7B1D-DC51-440F-998B-4120ED103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u.ru/db/mo/Data/d_08/m379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ndart.edu.ru/catalog.aspx?CatalogId=82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бщеобразовательных учреждения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городской обла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2010 -2011 уч. году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79280" y="18900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 3-4 классах «Информатика и ИКТ» может изучаться в качестве модуля в рамках предмета «Технология»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4508640"/>
          <a:ext cx="8424720" cy="1096920"/>
        </p:xfrm>
        <a:graphic>
          <a:graphicData uri="http://schemas.openxmlformats.org/drawingml/2006/table">
            <a:tbl>
              <a:tblPr/>
              <a:tblGrid>
                <a:gridCol w="5956200"/>
                <a:gridCol w="1235160"/>
                <a:gridCol w="1233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«Практика работы на компьютере» в рамках предмета «Технолог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5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два года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Rectangle 41"/>
          <p:cNvSpPr/>
          <p:nvPr/>
        </p:nvSpPr>
        <p:spPr>
          <a:xfrm>
            <a:off x="399960" y="414972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179280" y="595008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404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4"/>
          <p:cNvSpPr/>
          <p:nvPr/>
        </p:nvSpPr>
        <p:spPr>
          <a:xfrm>
            <a:off x="5424480" y="357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404640"/>
          <a:ext cx="6732360" cy="1204920"/>
        </p:xfrm>
        <a:graphic>
          <a:graphicData uri="http://schemas.openxmlformats.org/drawingml/2006/table">
            <a:tbl>
              <a:tblPr/>
              <a:tblGrid>
                <a:gridCol w="3306600"/>
                <a:gridCol w="687600"/>
                <a:gridCol w="687240"/>
                <a:gridCol w="684360"/>
                <a:gridCol w="684000"/>
                <a:gridCol w="6825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школьного компон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Text Box 106"/>
          <p:cNvSpPr/>
          <p:nvPr/>
        </p:nvSpPr>
        <p:spPr>
          <a:xfrm>
            <a:off x="0" y="182232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50920" y="26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рш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907920"/>
          <a:ext cx="8172360" cy="1006560"/>
        </p:xfrm>
        <a:graphic>
          <a:graphicData uri="http://schemas.openxmlformats.org/drawingml/2006/table">
            <a:tbl>
              <a:tblPr/>
              <a:tblGrid>
                <a:gridCol w="5778360"/>
                <a:gridCol w="1197000"/>
                <a:gridCol w="11970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63"/>
          <p:cNvSpPr/>
          <p:nvPr/>
        </p:nvSpPr>
        <p:spPr>
          <a:xfrm>
            <a:off x="0" y="220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ние информатики и ИКТ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ильном уров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ся в 10-11 класс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ко-математического и информационно-технологического профи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учебников в условиях перехода на О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этим учителям информатики и ИК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 адаптирова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работая по выбранной ранее авторской ли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и переиздаваться в ближайшее время не буд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м программ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абочих программ учебных курсов, предметов, дисциплин (модулей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ит в компетенцию образовательного учре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. 2. ст. 32 Закона РФ «Об образовании»).  Рабочая програм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атывается педагог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ая программа обновляется ежего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ие программ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ются на осно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28 Закона РФ «Об образовании»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ж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ти изменения в составляемую рабочую програм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олее чем на 20 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ая примерная структура Рабочей программы включает следующие компон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титульный ли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яснительная запи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ребования к уровню подготовк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алендарно-тематическое планирование (учебно-тематический пла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одержание программы учебного предмета, курса, дисциплины (модул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формы и средства контр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еречень учебно-методических средст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ормление рабоче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чей программы должен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именование образовательного учрежд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риф утверждения и согласования программы (таблица №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го курса, предмета, дисциплины (модул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ласс (параллель), в котором изучается учебный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мет, курс, дисциплина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од составления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3716280"/>
          <a:ext cx="8642160" cy="1463760"/>
        </p:xfrm>
        <a:graphic>
          <a:graphicData uri="http://schemas.openxmlformats.org/drawingml/2006/table">
            <a:tbl>
              <a:tblPr/>
              <a:tblGrid>
                <a:gridCol w="2601720"/>
                <a:gridCol w="3013200"/>
                <a:gridCol w="302724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Шашаев А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кол № ___ 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 школы по УВР МОУ СОШ № ___ г. 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 Королёва Н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тверждаю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ОУ СОШ №__ г.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Головинкина И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№ ___ от «___»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тексте пояснительной запи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 Рабочей программе указывае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структуры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«Требования к уровню подготовки учащихс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ые документы, регламентирующие деятельность учителя – предме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а стандартов второго поколения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 – методическое обеспечение и контроль по предмету в 2010-2011 учеб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КТП с учетом подготовки к ГИА 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ведению записей в классных журна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подготовке школьников к олимпиадам и конкур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лендарно-тематический пл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формляется в виде таблицы на весь срок обучения (таблица 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836640"/>
          <a:ext cx="6227640" cy="1341360"/>
        </p:xfrm>
        <a:graphic>
          <a:graphicData uri="http://schemas.openxmlformats.org/drawingml/2006/table">
            <a:tbl>
              <a:tblPr/>
              <a:tblGrid>
                <a:gridCol w="466560"/>
                <a:gridCol w="1940040"/>
                <a:gridCol w="1092240"/>
                <a:gridCol w="1052280"/>
                <a:gridCol w="167652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 и 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ы учебного вре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е сроки про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"/>
          <p:cNvSpPr/>
          <p:nvPr/>
        </p:nvSpPr>
        <p:spPr>
          <a:xfrm>
            <a:off x="0" y="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держание учебного кур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ый компонент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ы и средства контрол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чень учебно-методических средств обучения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компонент Рабочей программы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удование и приборы и т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работы ГМ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2010-2011 уч.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тематических семинара по плану НМИЦ г. Бел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и перспективная работа с аттестующимися для адекватной оценки их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поддержка молодых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о сохранению высокого уровня олимпиадного движения по информатике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26028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 «Об образовании» от 10 июля 1992 года № 3266-1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602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начального общего образования по технологии (тру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основного общего образования по информатике и И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перечень учебников на 2010-2011 учебный год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истерства образования и науки Российской Федерации от «23 » декабря 2009 г.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0" y="148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78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фундаментальным ядром по предмету «Информатика» можно подробнее ознакомиться на сайте ФГОС по ссылк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ndart.edu.ru/catalog.aspx?CatalogId=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чальной школы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76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ьном звене не представ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го модуля в рамках учебных предметов «Математика» и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ной школы по информат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0" y="9079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7, 8, 9 классе  по 1 часу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32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тематика и информатика» без четкого разграничения изучаемых тем по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39:14Z</dcterms:created>
  <dc:creator>МАМА</dc:creator>
  <dc:description/>
  <dc:language>en-US</dc:language>
  <cp:lastModifiedBy>LEGION</cp:lastModifiedBy>
  <dcterms:modified xsi:type="dcterms:W3CDTF">2015-04-01T07:45:09Z</dcterms:modified>
  <cp:revision>7</cp:revision>
  <dc:subject/>
  <dc:title>Основные положения инструктивно – методического письма « О преподавании предмета «Информатика и ИКТ» в общеобразовательных учреждениях  Белгородской области  в 2010 -2011 уч. году».</dc:title>
</cp:coreProperties>
</file>