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CFBC-216B-4A14-8145-9C8E1F6E04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ложения инструктивно – методического письма « О преподавании предмета «Информатика и ИКТ»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 общеобразовательных учрежден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городской обла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2010 -2011 уч. год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3B47-051E-48E3-A6EA-E33F946B4A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предмета «Информатика и ИКТ» в общеобразовательных учреждениях Белгородской области в 2010-2011 учебном году осуществляется (согласно ГОС – 2004 г. и областного БУП-2006) следующими этап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в 3-4 классах «Информатика и ИКТ» может изучаться в качестве модуля в рамках предмета «Технология»[1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в качестве самостоятельного учебного предмета «Информатика и ИКТ» изучается в 8 и 9 класс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в 10–11 классах предмет "Информатика и ИКТ" может быть представлен на двух уровнях: базовом или профильно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[1] Приказ управления образования и науки Белгородской области от 26 апреля 2006 г. № 656 «Об утверждении базисного учебного плана и примерных учебных планов для общеобразовательных учреждений Белгородской области, реализующих программы общего образова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чальн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CAB6-F97E-42DB-B585-0156AFBF1F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елгородской области рекомендуется в начальной школе учебный предмет «Информатика и ИКТ» изучать в III-IV классах в качестве учебного модуля в рамках учебного предмета «Технология (Труд)»  с целью обеспечить всеобщую компьютерную грамотность. Согласно примерной программе начального общего образования по технологии (труд) модуль называется «Практика работы на компьютере» и на его изучение рекомендовано 20-25 часов. К этому времени можно прибавить 10% резервного времени предмета «Технология» и получится 35 ча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лассном журнале все записи по изучению модуля производятся на странице предмета «Технология» и выставлением оценки по предмету «Технолог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условии выполнения программы по предмету «Технология» за 1 ч. в 3 кл., и 1 ч. в 4 кл.,  общеобразовательное учреждение может организовать изучение предмета «Информатика и ИКТ» по 1 часу в неделю в 3 классе и по 1 часу в неделю в 4 классе как самостоятельный предмет (за счет часов предмета Технология),  с отдельной страницей в журнале и выставлением оценки за год по предмету «Информатика и ИКТ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3B56-48B6-4806-A661-528F3ECFC2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новн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амостоятельный учебный предмет федерального компонента государственного стандарта общего образования, областного базисного учебного плана «Информатика и ИКТ» изучается в 8 классе по 1 часу в неделю и в 9 классе – по 2 часа в неделю. Всего за два года обучения в основной школе – 105 часов. В 9 классе в системе предпрофильной подготовки возможно расширить границы предмета за счет элективных курсов по выбору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компонент государственного стандарта общего образования не предусматривает изучение «Информатики и ИКТ» в 5-7 классах, но за счет компонента образовательного учреждения возможно изучать этот предмет в 5, 6, 7 классе. Это позволит реализовать непрерывный курс информатик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епрерывного изучения предмета «Информатика и ИКТ» общеобразовательные учреждения должны при составлении учебных планов учитывать выделение часов на изучение предмета при переходе одного класса в другой из года в год т.е., если 5 класс в  2008-2009 учебном году изучал предмет «Информатика и ИКТ», следовательно, в 2009-2010 учебном году этот класс уже став 6,  также должен изучать предмет «Информатика и ИКТ», а в 2010-2011 учебном году,  перейдя из 6 класса в 7 класс, учащиеся  продолжают обучение информат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C3A1-4A82-43C7-B03D-55CDA854AB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тарш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аршей школе вводится профильное обучение. Каждое общеобразовательное учреждение реализует свой профиль или несколько  профильных направлений. В выбравших профилях предмет «Информатика и ИКТ» может быть представлен на одном из двух уровней – базовом или профильн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ние информатики и ИКТ на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офильном уровн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существляется в 10-11 классах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изико-математического и информационно-технологического профил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где учебный предмет «Информатика и ИКТ» является одним из профильных предметов. Преподается предмет «Информатика и ИКТ» из расчета 4 часа в неделю, всего - 280 ч. за два года обучения. Это означает, что обучение информатике и информационным технологиям осуществляется на повышенном уров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предмета на профильном уровне  может быть расширено за счет часов, отводимых на элективные курс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2FBB-9C5E-4D34-8EB0-8BE283D836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бор учебников в условиях перехода на ОС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Linux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егодняшний день сложилась следующая ситуация: в нормативных документах (государственный образовательный стандарт по информатике, примерные программы по информатике) не указывается название изучаемых операционных систем и прикладных программ, а в авторских программах и содержании учебников рассматривается изучение содержания информатики на примере О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ее прикладных программ. На территории Российской Федерации в общеобразовательных учреждениях лицензия по О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канчивается 31 декабря 2010 г.  С 1 января 2011 года реализуется  переход на операционную систем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u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учителям информатики и ИКТ при выборе учебников необходимо учесть, что все представленные УМК в Федеральном перечне ориентированы на изучение О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ее прикладные программы. Из всех УМК в учебнике автора Угриновича Н.Д. есть практикум для О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u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язи с этим учителям информатики и ИК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обходим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мостоятельно адаптирова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теоретических сведений (в сравнении двух операционных систем) и практических работ по изучаемым темам с учетом используемого программного обеспечения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ложение № 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, работая по выбранной ранее авторской ли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бники переиздаваться в ближайшее время не буду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мощь учителям информатики рекомендуется с сайта ПСПО для учреждений России по ссылке http://linux.armd.ru/ru/documentation/metod/#2 скачать учебные пособия, оформленные как  практические руководства  по О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u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ее прикладным программ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24ED-A0B9-4013-9267-93571640A7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рабочим программам относятся: программы по учебным предметам; программы элективных курсов; программы факультативных курсов; дополнительных образовательных к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рабочих программ учебных курсов, предметов, дисциплин (модулей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ходит в компетенцию образовательного учрежд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п. 2. ст. 32 Закона РФ «Об образовании»).  Рабочая программ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рабатывается педагог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группой педагогов и проходит экспертизу на уровне общеобразовательного учреждения. Общеобразовательное учреждение несет ответственность за качество реализуемых рабочих програм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чая программа обновляется ежегод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ю разработки Рабочей программы является сохранение единого образовательного пространства учреждения и предоставление широких возможностей для реализации различных технологий, подходов к построению учебного курса, предмета, дисциплины (модул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ие программ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ставляются на основ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т. 28 Закона РФ «Об образовании»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ых программ по отдельным учебным предметам общего образ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ых программ по отдельным учебным предметам общего образования и авторских программ к линиям учебников, входящих в федеральный перечень УМК, рекомендованных Минобразования РФ к использованию в образовательном процесс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ых программ по отдельным учебным предметам общего образования и материалам авторского учебно-методического комплекса (при отсутствии соответствующих авторских программ к линии учебников, имеющихся в федеральном перечне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76B3-F0AC-4134-ABC8-8C7F67215B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ож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ести изменения в составляемую рабочую программ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более чем на 20 %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 вышеназванных программ. Например, определять новый порядок изучения материала, изменять количество часов, вносить изменения в содержание изучаемой темы, дополнять требования к уровню подготовки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й минимум содержания каждой Рабочей программы устанавливается в соответствии с примерной образовательной программой и государственным образовательным стандарт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часов, отводимых на освоение Рабочей программы, должно соответствовать Базисному учебному плану общеобразовательных учреждений Российской Федерации, утвержденному приказом Минобразования РФ № 1312 от 09.03.200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комендуемая примерная структура Рабочей программы включает следующие компоне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титульный лис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яснительная зап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требования к уровню подготовки учащих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лендарно-тематическое планирование (учебно-тематический пла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содержание программы учебного предмета, курса, дисциплины (модул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формы и средства контро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перечень учебно-методических средств 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8E3A-286B-418C-840C-92E24EE736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формление рабочей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итульный лис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бочей программы должен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ь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именование образовательного учрежд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гриф утверждения и согласования программы (таблица №1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звание учебного курса, предмета, дисциплины (модул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.И.О. педагога, разработавшего и реализующего учебный курс, предмет, дисциплину (модуль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ласс (параллель), в котором изучается учебный курс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едмет, курс, дисциплина (модуль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год составления програм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8345-1F29-4FE6-A6A9-7305BFE047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тексте пояснительной запис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Рабочей программе указывае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звание, автор и год издания предметной учебной программы (примерной, авторской), на основе которой разработана Рабочая программ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цели и задачи данной программы обучения в области формирования системы знаний, умений[1]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менения, внесенные в примерную (типовую) и авторскую учебную программу и их обоснова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звание учебно-методического комплекта (учебник, рабочая тетрадь, тетрадь для контрольных работ, атлас, контурная карта и др. согласно перечню учебников, утвержденных приказом Минобрнауки РФ), используемого для достижения поставленной цели в соответствии с образовательной программой учреждения[2]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оличество учебных часов, на которое рассчитана Рабочая программа, в т.ч. количество часов для проведения контрольных, лабораторных, практических работ, экскурсий, проектов исследов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[1] Задачи формулируются в соответствии с ФГОС и с учетом особенностей общеобразовательного учре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[2] Учебники, рабочие тетради, пособия, входящие в учебно-методический комплект, обозначаются с указанием их названия, класса, ФИО автора, издательства, года из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DBCA-BC75-42C7-9CA6-A8F2A0EA12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ормы организации учебного процесса и их сочетание, а также преобладающие формы текущего контроля знаний, умений, навыков (в соответствии с Положением о текущем контроле учащихся в образовательном учреждении), промежуточной и итоговой аттестации учащихся (в соответствии с соответствующими Положениям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онент структуры Рабочей программы «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ребования к уровню подготовки учащих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ется, если авторская учебная программа отсутствует, а Рабочая программа составлена на основе примерной (типовой) учебной программы и авторскому учебно-методическому комплек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онент «Требования к уровню подготовки учащихся»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ет собой описание целей-результатов обучения, выраженных в действиях учащихся (операциональных) и реально опознаваемых с помощью диагностических инструментов. Данный перечень целей-результатов обучения включает специальные предметные и общие учебные умения и способы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к уровню подготовки учащихся, прописанные в Рабочей программе, должны соответствовать требованиям, сформулированных в федеральном государственном стандарте общего образования и примерной (типовой) учебной программе (Закон РФ «Об образовании» ст. 12, 13, 15, 3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4342-90C4-4178-8941-62F42E549B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ые документы, регламентирующие деятельность учителя – предмет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а стандартов второго поколения по информа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но – методическое обеспечение и контроль по предмету в 2010-2011 учебном г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ации по составлению рабочих программ учебных курсов, предметов, дисциплин (модулей) общеобразовательного учре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ации по составлению КТП с учетом подготовки к ГИА и ЕГЭ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ень обязательного оборудования, необходимого для реализации общеобразовательных программ на базовом и профильном уровнях по предметам инвариантной части учебного плана (по ступеням обуч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ации по ведению записей в классных журнал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ации по подготовке школьников к олимпиадам и конкур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04FF-49BF-4541-8886-C733E4505C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алендарно-тематический пл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формляется в виде таблицы на весь срок обучения (таблица 2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01F1-E338-4AD2-8D6C-E6B0AC39D2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держание учебного курс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едмета, дисциплины (модуля) Рабочей программы включает краткое описание каждой темы (3-4 предложения). Изложение учебного материала в заданной последовательности предусматривает конкретизацию всех дидактических единиц содерж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ый компонент Рабочей программы «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ормы и средства контроля»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ет материалы в виде тестовых, контрольных работ, вопросов для зачета и др. для оценки освоения школьниками содержания учебного материала. Количество контрольных работ определяется инструктивно-методическими документами о преподавании учебных предметов и дисциплин, принятыми на уровне регио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ечень учебно-методических средств обучения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ак компонент Рабочей программы,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ую и дополнительную учебную литературу (учебники, учебные пособия, сборники упражнений и задач, контрольных заданий, тестов, практических работ и лабораторных практикумов, хрестоматии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очные пособия (словари, справочники); наглядный материал (альбомы, атласы, карты, таблицы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удование и приборы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оформляется в соответствии с ГОСТом: элементы описания каждого учебно-методического средства должны приводиться в алфавитном порядке и соответствовать требованиям к библиографическому опис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6BCC-6358-444F-A553-5D7907140A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лан работы ГМ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на 2010-2011 уч. 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тематических семинара по плану НМИЦ г. Белг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ущая и перспективная работа с аттестующимися для адекватной оценки их достиж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ая поддержка молодых уч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о сохранению высокого уровня олимпиадного движения по информатике в гор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и поддержка учителей информатики, имеющих лучшие показатели по результатам ГИА и ЕГЭ, распространение их опыта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нформационной базы по разделам сайта ГМО, развитие новых технологий взаимодействия пользователей городской Интрасе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F294-4D72-4197-B9F7-56C8BE5562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«Об образовании» от 10 июля 1992 года № 3266-1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 Министерства образования Российской Федерации от 05 марта 2004 г.  № 1089 "Об утверждении федерального компонента государственных стандартов начального общего, основного общего и среднего (полного) общего образования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базисный учебный план и примерные учебные планы для общеобразовательных учреждений РФ, реализующих программу общего образования (приказ Министерства образования Российской Федерации от 09.03.2004г. №131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 Министерства образования и науки РФ от 20.08.2008 года № 241 «О внесении изменений в федеральный базисный учебный план и примерные учебные планы для образовательных учреждений Российской Федерации, реализующих программы общего образования, утверждённые приказом Министерства образования Российской Федерации от 9 марта 2004 года № 1312 «Об утверждении федерального базисного учебного плана и примерных учебных планов для образовательных учреждений Российской Федерации, реализующих программы общего образован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C94E-25C1-49D2-A310-077CE38431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 начального общего образования по технологии (приказ Минобразования России «Об утверждении федерального компонента государственных стандартов начального общего, основного общего и среднего (полного) общего образования» от 5 марта 2004 г. № 1089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 основного общего образования по информатике и ИКТ (приложение из приказа Министерства образования Российской Федерации от 05 марта 2004 г. № 1089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 среднего (полного) общего образования по информатике и ИКТ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азовый уровен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(приложение из приказа Министерства образования Российской Федерации от 05 марта 2004 г. № 1089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 среднего (полного) общего образования по информатике и ИКТ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фильный уровен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(приложение из приказа Министерства образования Российской Федерации от 05 марта 2004 г. № 1089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ая программа начального общего образования по технологии (тру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ая программа основного общего образования по информатике и ИК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ая программа среднего (полного) общего образования по информатике и ИКТ (базовый уровен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ая программа среднего (полного) общего образования по информатике и ИКТ  (профильный уровен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EE3E-27C7-47C1-8F3E-E0FCA84C41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перечень учебников на 2010-2011 учебный год (Приказ Министерства образования и науки Российской Федерации от «23 » декабря 2009 г. № 822  г. Москва "Об утверждении федеральных перечней учебников, рекомендованных (допущенных) к использованию в образовательном процессе в образовательных учреждениях, реализующих образовательные программы общего образования и имеющих государственную аккредитацию, на 2010/2011 учебный год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ьмо Министерства образования и науки РФ от 09 ноября 2009 г. № 03-2235 «Об использовании учебников разных лет выпуск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областного экспертного совета Департамента образования, культуры и молодежной политики Белгородской области по вопросам научно-методического обеспечения образовательного процесса и инновационной деятельности в сфере образования от 9 февраля 2010 года «Об итогах экспертизы учебно-методических комплексов по общеобразовательным предметам и рекомендуемом перечне на 2010-2011 учебный год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 управления образования и науки Белгородской области от 26 апреля 2006 г. № 656 «Об утверждении базисного учебного плана и примерных учебных планов для общеобразовательных учреждений Белгородской области, реализующих программы общего образова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9FC9-C426-4605-93AB-EBF777DAE1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 Департамента образования, культуры и молодёжной политики Белгородской области от 13.05.2010 г. №9-06/2729-ВА «Об использовании БУП в общеобразовательных учреждений области в 2010-2011 учебном год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 Департамента образования, культуры и молодёжной политики Белгородской области от 23.03.2010 г. № 819 «Об утверждении положения о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ей программе учебных курсов, предметов, дисциплин (модулей) общеобразовательного учрежд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тивное письмо Департамента образования, культуры и молодёжной    политики   Белгородской    области  от  13.05.2009 г. № 9-06/1674-ВА  «О реализации программ  углублённого уровня в общеобразовательных учреждениях област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ьмо Департамента образования, культуры и молодежной политики Белгородской области от 27 февраля 2009 года № 9-06/547-ИВ «Об использовании в работе инструктивно-методического письма по ведению классных журналов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тивное письмо Департамента образования, культуры и молодёжной политики Белгородской области от  05.05.2008г. № 9-06/1847-ЛИ «Об организации начальной профессиональной подготовки в условиях реализации универсального и профильного обучен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EE06-256A-4232-AF96-93B4DB6A69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стандарты общего образования разрабатываются Министерством образования и науки Российской Федерации не реже чем раз в 10 лет.  В 2012 году на территории РФ вступят в силу новые стандар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евое отличие  нового образовательного стандарта от предшествующих разработок заключается в том, что суть его идеологии составляет  переход от минимизационного подхода к конструированию образовательного пространства на основе принципа фундаментальности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фундаментальным ядром по предмету «Информатика» можно подробнее ознакомиться на сайте ФГОС по ссылке http://www.standart.edu.ru/catalog.aspx?CatalogId=82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5CB6-A2C7-4096-9010-C3C0434838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аткая характеристика стандартов второго поко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начальной школы по информа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 сентября 2010 года экспериментально некоторые образовательные учреждения начинают работу в начальной школе по стандартам второго поко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екте стандартов второго поколения информатика, как самостоятельный учебный предм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ачальном звене не представле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проекту базисного учебного плана для образовательных учреждений РФ, реализующих основную образовательную программу начального общего образования: «Учебный курс «Информатика» в начальной школе изучается во 2–4 классах в качеств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бного модуля в рамках учебных предметов «Математика» и «Технолог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грамме по предмету «Математика» четко не выделены часы и темы, связанные с информатикой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часов на изучение модуля по информатике в программе по «Технологии» так же не представле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0C48-7CB5-45E3-BA68-4D5EC6E616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аткая характеристика стандартов второго поко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основной школы по информатик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предложенному проекту БУП основной школы на сайте ФГОС  в основной школе на изучение предмета «Информатика и ИКТ» предусмотрено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7, 8, 9 классе  по 1 часу в неде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исный учебный план вечерних (сменных) общеобразовательных учреждений Российской Федерации (основное общее образование, очная форма обучения) изучение предмета «Информатика и ИКТ» предполагает в 8 классе1 час в неделю, в 9 классе 1 час в недел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проекту ФГО стандарта основного общего образования, разработанного к апрелю 2010 года,  информатика включена в предметную область с название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Математика и информатика» без четкого разграничения изучаемых тем по предмет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57ED-F37A-4E4A-9CD1-36E0770BEB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F835-CA7E-4BA2-88EE-C0D1B9D53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6CFD-79E2-4571-A08E-1F84CE9E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C316-6F13-4ECC-BEAD-E6172CE31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0026-AE83-407E-A980-7B0D19043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2F30-C1F6-4A1B-BA28-E2E99883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E792-A99E-43CE-99AA-3E31D96F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9A10-9F10-42D3-B0BB-FB8339F1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65E7-C201-47FF-B132-FD4D1B83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E24A-8A2D-40D6-81FE-5F66D9B7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5232-BF04-4D5D-927C-215B99BF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978E-8CBA-49BC-ACBA-04389085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3F70-094C-4D18-87BD-8AF58FA7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D3B0-93F9-4445-A1F1-F8049FFB69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du.ru/db/mo/Data/d_08/m379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tandart.edu.ru/catalog.aspx?CatalogId=821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73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положения инструктивно – методического письма « О преподавании предмета «Информатика и ИКТ»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общеобразовательных учреждениях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лгородской област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в 2010 -2011 уч. году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5"/>
          <p:cNvSpPr/>
          <p:nvPr/>
        </p:nvSpPr>
        <p:spPr>
          <a:xfrm>
            <a:off x="179280" y="189000"/>
            <a:ext cx="8640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ение предмета «Информатика и ИКТ» в общеобразовательных учреждениях Белгородской области в 2010-2011 учебном году осуществляется (согласно ГОС – 2004 г. и областного БУП-2006) следующими этап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в 3-4 классах «Информатика и ИКТ» может изучаться в качестве модуля в рамках предмета «Технология»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[1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в качестве самостоятельного учебного предмета «Информатика и ИКТ» изучается в 8 и 9 класс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в 10–11 классах предмет "Информатика и ИКТ" может быть представлен на двух уровнях: базовом или профильном.</a:t>
            </a:r>
            <a:br>
              <a:rPr sz="1800"/>
            </a:b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[1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каз управления образования и науки Белгородской области от 26 апреля 2006 г. № 656 «Об утверждении базисного учебного плана и примерных учебных планов для общеобразовательных учреждений Белгородской области, реализующих программы общего образов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50920" y="4508640"/>
          <a:ext cx="8424720" cy="1096920"/>
        </p:xfrm>
        <a:graphic>
          <a:graphicData uri="http://schemas.openxmlformats.org/drawingml/2006/table">
            <a:tbl>
              <a:tblPr/>
              <a:tblGrid>
                <a:gridCol w="5956200"/>
                <a:gridCol w="1235160"/>
                <a:gridCol w="12333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уль «Практика работы на компьютере» в рамках предмета «Технологи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-25 ч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два года об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4" name="Rectangle 41"/>
          <p:cNvSpPr/>
          <p:nvPr/>
        </p:nvSpPr>
        <p:spPr>
          <a:xfrm>
            <a:off x="399960" y="414972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чаль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5"/>
          <p:cNvSpPr/>
          <p:nvPr/>
        </p:nvSpPr>
        <p:spPr>
          <a:xfrm>
            <a:off x="179280" y="5950080"/>
            <a:ext cx="896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0" y="40464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елгородской области рекомендуется в начальной школе учебный предмет «Информатика и ИКТ» изучать в III-IV классах в качестве учебного модуля в рамках учебного предмета «Технология (Труд)»  с целью обеспечить всеобщую компьютерную грамотность. Согласно примерной программе начального общего образования по технологии (труд) модуль называется «Практика работы на компьютере» и на его изучение рекомендовано 20-25 часов. К этому времени можно прибавить 10% резервного времени предмета «Технология» и получится 35 час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лассном журнале все записи по изучению модуля производятся на странице предмета «Технология» и выставлением оценки по предмету «Технолог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условии выполнения программы по предмету «Технология» за 1 ч. в 3 кл., и 1 ч. в 4 кл.,  общеобразовательное учреждение может организовать изучение предмета «Информатика и ИКТ» по 1 часу в неделю в 3 классе и по 1 часу в неделю в 4 классе как самостоятельный предмет (за счет часов предмета Технология),  с отдельной страницей в журнале и выставлением оценки за год по предмету «Информатика и ИКТ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0" y="0"/>
            <a:ext cx="50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4"/>
          <p:cNvSpPr/>
          <p:nvPr/>
        </p:nvSpPr>
        <p:spPr>
          <a:xfrm>
            <a:off x="5424480" y="35751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50920" y="404640"/>
          <a:ext cx="6732360" cy="1204920"/>
        </p:xfrm>
        <a:graphic>
          <a:graphicData uri="http://schemas.openxmlformats.org/drawingml/2006/table">
            <a:tbl>
              <a:tblPr/>
              <a:tblGrid>
                <a:gridCol w="3306600"/>
                <a:gridCol w="687600"/>
                <a:gridCol w="687240"/>
                <a:gridCol w="684360"/>
                <a:gridCol w="684000"/>
                <a:gridCol w="68256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ов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счет школьного компоне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" name="Text Box 106"/>
          <p:cNvSpPr/>
          <p:nvPr/>
        </p:nvSpPr>
        <p:spPr>
          <a:xfrm>
            <a:off x="0" y="1822320"/>
            <a:ext cx="896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самостоятельный учебный предмет федерального компонента государственного стандарта общего образования, областного базисного учебного плана «Информатика и ИКТ» изучается в 8 классе по 1 часу в неделю и в 9 классе – по 2 часа в неделю. Всего за два года обучения в основной школе – 105 часов. В 9 классе в системе предпрофильной подготовки возможно расширить границы предмета за счет элективных курсов по выбору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ый компонент государственного стандарта общего образования не предусматривает изучение «Информатики и ИКТ» в 5-7 классах, но за счет компонента образовательного учреждения возможно изучать этот предмет в 5, 6, 7 классе. Это позволит реализовать непрерывный курс информатик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непрерывного изучения предмета «Информатика и ИКТ» общеобразовательные учреждения должны при составлении учебных планов учитывать выделение часов на изучение предмета при переходе одного класса в другой из года в год т.е., если 5 класс в  2008-2009 учебном году изучал предмет «Информатика и ИКТ», следовательно, в 2009-2010 учебном году этот класс уже став 6,  также должен изучать предмет «Информатика и ИКТ», а в 2010-2011 учебном году,  перейдя из 6 класса в 7 класс, учащиеся  продолжают обучение инфор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250920" y="26028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тарш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0" y="907920"/>
          <a:ext cx="8172360" cy="1006560"/>
        </p:xfrm>
        <a:graphic>
          <a:graphicData uri="http://schemas.openxmlformats.org/drawingml/2006/table">
            <a:tbl>
              <a:tblPr/>
              <a:tblGrid>
                <a:gridCol w="5778360"/>
                <a:gridCol w="1197000"/>
                <a:gridCol w="119700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ов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н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Text Box 63"/>
          <p:cNvSpPr/>
          <p:nvPr/>
        </p:nvSpPr>
        <p:spPr>
          <a:xfrm>
            <a:off x="0" y="220500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таршей школе вводится профильное обучение. Каждое общеобразовательное учреждение реализует свой профиль или несколько  профильных направлений. В выбравших профилях предмет «Информатика и ИКТ» может быть представлен на одном из двух уровней – базовом или профильн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подавание информатики и ИКТ 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фильном уровн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существляется в 10-11 классах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изико-математического и информационно-технологического профил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где учебный предмет «Информатика и ИКТ» является одним из профильных предметов. Преподается предмет «Информатика и ИКТ» из расчета 4 часа в неделю, всего - 280 ч. за два года обучения. Это означает, что обучение информатике и информационным технологиям осуществляется на повышенном уров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ение предмета на профильном уровне  может быть расширено за счет часов, отводимых на элективные курс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учебников в условиях перехода на О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егодняшний день сложилась следующая ситуация: в нормативных документах (государственный образовательный стандарт по информатике, примерные программы по информатике) не указывается название изучаемых операционных систем и прикладных программ, а в авторских программах и содержании учебников рассматривается изучение содержания информатики на примере О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ее прикладных программ. На территории Российской Федерации в общеобразовательных учреждениях лицензия по О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канчивается 31 декабря 2010 г.  С 1 января 2011 года реализуется  переход на операционную систем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им образом, учителям информатики и ИКТ при выборе учебников необходимо учесть, что все представленные УМК в Федеральном перечне ориентированы на изучение О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ее прикладные программы. Из всех УМК в учебнике автора Угриновича Н.Д. есть практикум для О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вязи с этим учителям информатики и ИК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бходим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стоятельно адаптироват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 теоретических сведений (в сравнении двух операционных систем) и практических работ по изучаемым темам с учетом используемого программного обеспечения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ложение № 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работая по выбранной ранее авторской ли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бники переиздаваться в ближайшее время не буд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омощь учителям информатики рекомендуется с сайта ПСПО для учреждений России по ссылке http://linux.armd.ru/ru/documentation/metod/#2 скачать учебные пособия, оформленные как  практические руководства  по О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ее прикладным программа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0" y="0"/>
            <a:ext cx="91440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рабочим программам относятся: программы по учебным предметам; программы элективных курсов; программы факультативных курсов; дополнительных образовательных кур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ение рабочих программ учебных курсов, предметов, дисциплин (модулей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ходит в компетенцию образовательного учрежд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. 2. ст. 32 Закона РФ «Об образовании»).  Рабочая программ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атывается педагог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ли группой педагогов и проходит экспертизу на уровне общеобразовательного учреждения. Общеобразовательное учреждение несет ответственность за качество реализуемых рабочих програм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чая программа обновляется ежегод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ю разработки Рабочей программы является сохранение единого образовательного пространства учреждения и предоставление широких возможностей для реализации различных технологий, подходов к построению учебного курса, предмета, дисциплины (модуля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чие программ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яются на основ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т. 28 Закона РФ «Об образовании»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ых программ по отдельным учебным предметам общего образ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ых программ по отдельным учебным предметам общего образования и авторских программ к линиям учебников, входящих в федеральный перечень УМК, рекомендованных Минобразования РФ к использованию в образовательном процесс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ых программ по отдельным учебным предметам общего образования и материалам авторского учебно-методического комплекса (при отсутствии соответствующих авторских программ к линии учебников, имеющихся в федеральном перечне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0" y="0"/>
            <a:ext cx="91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оже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ести изменения в составляемую рабочую программ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более чем на 20 %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 вышеназванных программ. Например, определять новый порядок изучения материала, изменять количество часов, вносить изменения в содержание изучаемой темы, дополнять требования к уровню подготовки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язательный минимум содержания каждой Рабочей программы устанавливается в соответствии с примерной образовательной программой и государственным образовательным стандар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часов, отводимых на освоение Рабочей программы, должно соответствовать Базисному учебному плану общеобразовательных учреждений Российской Федерации, утвержденному приказом Минобразования РФ № 1312 от 09.03.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комендуемая примерная структура Рабочей программы включает следующие компоне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титульный лис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ояснительная запис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требования к уровню подготовки уча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календарно-тематическое планирование (учебно-тематический пла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содержание программы учебного предмета, курса, дисциплины (модул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формы и средства контрол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перечень учебно-методических средств об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0" y="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формление рабочей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итульный лис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бочей программы должен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т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именование образовательного учрежд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гриф утверждения и согласования программы (таблица №1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звание учебного курса, предмета, дисциплины (модуля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Ф.И.О. педагога, разработавшего и реализующего учебный курс, предмет, дисциплину (модуль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ласс (параллель), в котором изучается учебный курс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едмет, курс, дисциплина (модуль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год составления програм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50920" y="3716280"/>
          <a:ext cx="8642160" cy="1463760"/>
        </p:xfrm>
        <a:graphic>
          <a:graphicData uri="http://schemas.openxmlformats.org/drawingml/2006/table">
            <a:tbl>
              <a:tblPr/>
              <a:tblGrid>
                <a:gridCol w="2601720"/>
                <a:gridCol w="3013200"/>
                <a:gridCol w="3027240"/>
              </a:tblGrid>
              <a:tr h="14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огласовано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М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Шашаев А.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окол № ___ о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____»____________200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огласовано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директора школы по УВР МОУ СОШ № ___ г. Белгор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 Королёва Н.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____»____________200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Утверждаю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МОУ СОШ №__ г.Белгор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Головинкина И.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аз № ___ от «___»____200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тексте пояснительной запис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 Рабочей программе указываетс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звание, автор и год издания предметной учебной программы (примерной, авторской), на основе которой разработана Рабочая программ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цели и задачи данной программы обучения в области формирования системы знаний, умений[1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зменения, внесенные в примерную (типовую) и авторскую учебную программу и их обоснован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звание учебно-методического комплекта (учебник, рабочая тетрадь, тетрадь для контрольных работ, атлас, контурная карта и др. согласно перечню учебников, утвержденных приказом Минобрнауки РФ), используемого для достижения поставленной цели в соответствии с образовательной программой учреждения[2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оличество учебных часов, на которое рассчитана Рабочая программа, в т.ч. количество часов для проведения контрольных, лабораторных, практических работ, экскурсий, проектов исследовани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[1] Задачи формулируются в соответствии с ФГОС и с учетом особенностей общеобразовательного учре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[2] Учебники, рабочие тетради, пособия, входящие в учебно-методический комплект, обозначаются с указанием их названия, класса, ФИО автора, издательства, года изд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0" y="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формы организации учебного процесса и их сочетание, а также преобладающие формы текущего контроля знаний, умений, навыков (в соответствии с Положением о текущем контроле учащихся в образовательном учреждении), промежуточной и итоговой аттестации учащихся (в соответствии с соответствующими Положениям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онент структуры Рабочей программы «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ребования к уровню подготовки учащих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ается, если авторская учебная программа отсутствует, а Рабочая программа составлена на основе примерной (типовой) учебной программы и авторскому учебно-методическому комплек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онент «Требования к уровню подготовки учащихся»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яет собой описание целей-результатов обучения, выраженных в действиях учащихся (операциональных) и реально опознаваемых с помощью диагностических инструментов. Данный перечень целей-результатов обучения включает специальные предметные и общие учебные умения и способы дея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бования к уровню подготовки учащихся, прописанные в Рабочей программе, должны соответствовать требованиям, сформулированных в федеральном государственном стандарте общего образования и примерной (типовой) учебной программе (Закон РФ «Об образовании» ст. 12, 13, 15, 3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мативные документы, регламентирующие деятельность учителя – предмет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истика стандартов второго поколения по информа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но – методическое обеспечение и контроль по предмету в 2010-2011 учебном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омендации по составлению рабочих программ учебных курсов, предметов, дисциплин (модулей) общеобразовательного учре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омендации по составлению КТП с учетом подготовки к ГИА и Е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чень обязательного оборудования, необходимого для реализации общеобразовательных программ на базовом и профильном уровнях по предметам инвариантной части учебного плана (по ступеням обуч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омендации по ведению записей в классных журнал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омендации по подготовке школьников к олимпиадам и конкур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лендарно-тематический пла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формляется в виде таблицы на весь срок обучения (таблица 2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4360" y="836640"/>
          <a:ext cx="6227640" cy="1341360"/>
        </p:xfrm>
        <a:graphic>
          <a:graphicData uri="http://schemas.openxmlformats.org/drawingml/2006/table">
            <a:tbl>
              <a:tblPr/>
              <a:tblGrid>
                <a:gridCol w="466560"/>
                <a:gridCol w="1940040"/>
                <a:gridCol w="1092240"/>
                <a:gridCol w="1052280"/>
                <a:gridCol w="1676520"/>
              </a:tblGrid>
              <a:tr h="822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раздела и т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ы учебного време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овые сроки прохо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ч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3"/>
          <p:cNvSpPr/>
          <p:nvPr/>
        </p:nvSpPr>
        <p:spPr>
          <a:xfrm>
            <a:off x="0" y="0"/>
            <a:ext cx="8820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держание учебного кур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едмета, дисциплины (модуля) Рабочей программы включает краткое описание каждой темы (3-4 предложения). Изложение учебного материала в заданной последовательности предусматривает конкретизацию всех дидактических единиц содерж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уктурный компонент Рабочей программы «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ормы и средства контроля»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ает материалы в виде тестовых, контрольных работ, вопросов для зачета и др. для оценки освоения школьниками содержания учебного материала. Количество контрольных работ определяется инструктивно-методическими документами о преподавании учебных предметов и дисциплин, принятыми на уровне реги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речень учебно-методических средств обучения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к компонент Рабочей программы,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а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ую и дополнительную учебную литературу (учебники, учебные пособия, сборники упражнений и задач, контрольных заданий, тестов, практических работ и лабораторных практикумов, хрестоматии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авочные пособия (словари, справочники); наглядный материал (альбомы, атласы, карты, таблицы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рудование и приборы и т.п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тература оформляется в соответствии с ГОСТом: элементы описания каждого учебно-методического средства должны приводиться в алфавитном порядке и соответствовать требованиям к библиографическому опис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ан работы ГМО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на 2010-2011 уч.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тематических семинара по плану НМИЦ г. Белго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ущая и перспективная работа с аттестующимися для адекватной оценки их дости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ческая поддержка молодых уч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по сохранению высокого уровня олимпиадного движения по информатике в гор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вление и поддержка учителей информатики, имеющих лучшие показатели по результатам ГИА и ЕГЭ, распространение их опыта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информационной базы по разделам сайта ГМО, развитие новых технологий взаимодействия пользователей городской Интра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0" y="260280"/>
            <a:ext cx="914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он «Об образовании» от 10 июля 1992 года № 3266-1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каз Министерства образования Российской Федерации от 05 марта 2004 г.  № 1089 "Об утверждении федерального компонента государственных стандартов начального общего, основного общего и среднего (полного) общего образования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ый базисный учебный план и примерные учебные планы для общеобразовательных учреждений РФ, реализующих программу общего образования (приказ Министерства образования Российской Федерации от 09.03.2004г. №131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каз Министерства образования и науки РФ от 20.08.2008 года № 241 «О внесении изменений в федеральный базисный учебный план и примерные учебные планы для образовательных учреждений Российской Федерации, реализующих программы общего образования, утверждённые приказом Министерства образования Российской Федерации от 9 марта 2004 года № 1312 «Об утверждении федерального базисного учебного плана и примерных учебных планов для образовательных учреждений Российской Федерации, реализующих программы общего образов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260280"/>
            <a:ext cx="914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дарт начального общего образования по технологии (приказ Минобразования России «Об утверждении федерального компонента государственных стандартов начального общего, основного общего и среднего (полного) общего образования» от 5 марта 2004 г. № 108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дарт основного общего образования по информатике и ИКТ (приложение из приказа Министерства образования Российской Федерации от 05 марта 2004 г. № 108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дарт среднего (полного) общего образования по информатике и ИКТ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азовый уровен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(приложение из приказа Министерства образования Российской Федерации от 05 марта 2004 г. № 1089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дарт среднего (полного) общего образования по информатике и ИКТ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фильный уровен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(приложение из приказа Министерства образования Российской Федерации от 05 марта 2004 г. № 108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ая программа начального общего образования по технологии (труд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ая программа основного общего образования по информатике и ИК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ая программа среднего (полного) общего образования по информатике и ИКТ (базовый уровень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ая программа среднего (полного) общего образования по информатике и ИКТ  (профильный уровен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250920" y="549360"/>
            <a:ext cx="8642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ый перечень учебников на 2010-2011 учебный год (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риказ Министерства образования и науки Российской Федерации от «23 » декабря 2009 г. 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22  г. Москва "Об утверждении федеральных перечней учебников, рекомендованных (допущенных) к использованию в образовательном процессе в образовательных учреждениях, реализующих образовательные программы общего образования и имеющих государственную аккредитацию, на 2010/2011 учебный год"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сьмо Министерства образования и науки РФ от 09 ноября 2009 г. № 03-2235 «Об использовании учебников разных лет выпус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областного экспертного совета Департамента образования, культуры и молодежной политики Белгородской области по вопросам научно-методического обеспечения образовательного процесса и инновационной деятельности в сфере образования от 9 февраля 2010 года «Об итогах экспертизы учебно-методических комплексов по общеобразовательным предметам и рекомендуемом перечне на 2010-2011 учебный год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каз управления образования и науки Белгородской области от 26 апреля 2006 г. № 656 «Об утверждении базисного учебного плана и примерных учебных планов для общеобразовательных учреждений Белгородской области, реализующих программы общего образования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250920" y="549360"/>
            <a:ext cx="8642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каз Департамента образования, культуры и молодёжной политики Белгородской области от 13.05.2010 г. №9-06/2729-ВА «Об использовании БУП в общеобразовательных учреждений области в 2010-2011 учебном год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каз Департамента образования, культуры и молодёжной политики Белгородской области от 23.03.2010 г. № 819 «Об утверждении положения о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чей программе учебных курсов, предметов, дисциплин (модулей) общеобразовательного учрежд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структивное письмо Департамента образования, культуры и молодёжной    политики   Белгородской    области  от  13.05.2009 г. № 9-06/1674-ВА  «О реализации программ  углублённого уровня в общеобразовательных учреждениях област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сьмо Департамента образования, культуры и молодежной политики Белгородской области от 27 февраля 2009 года № 9-06/547-ИВ «Об использовании в работе инструктивно-методического письма по ведению классных журнал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структивное письмо Департамента образования, культуры и молодёжной политики Белгородской области от  05.05.2008г. № 9-06/1847-ЛИ «Об организации начальной профессиональной подготовки в условиях реализации универсального и профильного обуче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0" y="189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енные стандарты общего образования разрабатываются Министерством образования и науки Российской Федерации не реже чем раз в 10 лет.  В 2012 году на территории РФ вступят в силу новые стандар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0" y="1484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ючевое отличие  нового образовательного стандарта от предшествующих разработок заключается в том, что суть его идеологии составляет  переход от минимизационного подхода к конструированию образовательного пространства на основе принципа фундаментальности 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0" y="2781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фундаментальным ядром по предмету «Информатика» можно подробнее ознакомиться на сайте ФГОС по ссылке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ndart.edu.ru/catalog.aspx?CatalogId=82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ткая характеристика стандартов второго поко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начальной школы по информа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0" y="76500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1 сентября 2010 года экспериментально некоторые образовательные учреждения начинают работу в начальной школе по стандартам второго поко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оекте стандартов второго поколения информатика, как самостоятельный учебный предме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ачальном звене не представле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гласно проекту базисного учебного плана для образовательных учреждений РФ, реализующих основную образовательную программу начального общего образования: «Учебный курс «Информатика» в начальной школе изучается во 2–4 классах в качеств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бного модуля в рамках учебных предметов «Математика» и «Технолог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ограмме по предмету «Математика» четко не выделены часы и темы, связанные с информатикой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часов на изучение модуля по информатике в программе по «Технологии» так же не представле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ткая характеристика стандартов второго поко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основной школы по информати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0" y="90792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гласно предложенному проекту БУП основной школы на сайте ФГОС  в основной школе на изучение предмета «Информатика и ИКТ» предусмотрено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7, 8, 9 классе  по 1 часу в неде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зисный учебный план вечерних (сменных) общеобразовательных учреждений Российской Федерации (основное общее образование, очная форма обучения) изучение предмета «Информатика и ИКТ» предполагает в 8 классе1 час в неделю, в 9 классе 1 час в недел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0" y="3284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гласно проекту ФГО стандарта основного общего образования, разработанного к апрелю 2010 года,  информатика включена в предметную область с название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Математика и информатика» без четкого разграничения изучаемых тем по предмет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7:39:14Z</dcterms:created>
  <dc:creator>МАМА</dc:creator>
  <dc:description/>
  <dc:language>en-US</dc:language>
  <cp:lastModifiedBy>LEGION</cp:lastModifiedBy>
  <dcterms:modified xsi:type="dcterms:W3CDTF">2015-04-01T07:45:09Z</dcterms:modified>
  <cp:revision>7</cp:revision>
  <dc:subject/>
  <dc:title>Основные положения инструктивно – методического письма « О преподавании предмета «Информатика и ИКТ» в общеобразовательных учреждениях  Белгородской области  в 2010 -2011 уч. году».</dc:title>
</cp:coreProperties>
</file>