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1FFED-ACD2-4A6A-8CAE-7CB1C64099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Тема: Решение задач с условным оператором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Научить решать задачи с условным оператор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Развивать умения составлять программы с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условным операто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kk-KZ" sz="1200" spc="-1" strike="noStrike">
                <a:solidFill>
                  <a:srgbClr val="000000"/>
                </a:solidFill>
                <a:latin typeface="Calibri"/>
              </a:rPr>
              <a:t>Воспитывать интерес к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99698-BC9D-499E-8AEA-810FBC0295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втор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а конструкция условного операто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существуют формы условного операто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 условного опера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D3376-4AF9-4B90-8C86-EB5018ADD85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y, a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b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x , a, b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&gt;=2 then y: =a*x*x + b else y: =sqr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 + b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28D1-181D-4748-9BD7-F1EDF2B1674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ычисл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y, a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b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x , a, b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x &lt;a  then y: =a + b else y: =(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/x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ln (‘y=’, y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CC30-FDBB-4924-B9B5-78D159C8DA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Заданы длины сторон треугольника, определить, является ли этот треугольник прямоуго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a,  b, c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 a, b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a*a + b*b = c*c   then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уголь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) else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оуголь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B4D8-39DB-4F1C-938C-71A3D3ABD2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Заданы длины сторон треугольника, определить, является ли данный треугольник равнобедрен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gram sum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 a,  b, c: real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 ( a, b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(a = b) OR (a = c) then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угольни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бедрен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else writeln (‘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внобедрен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’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ln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9CEC-F1E9-4E9B-AF0A-824347EAAC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/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.75 – 83 повтор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програм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ны два числа, найти среди них минимальное чис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BD7B-41D6-4A87-AEA8-9F1DE9262F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рцель Любовь Николаевна- учитель инфор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обольская средняя школа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станайский район, Кустанайская об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84F7C-B4DB-4152-8F48-6E9F9C550A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CFC-3E32-427D-986A-D2E169A5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CC5-4C8B-4352-88A2-E422BE15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BCF-7C2C-47BF-A431-E2A7172A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CCE4-E72E-40EF-B080-CAD47DD0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F428-9507-4C03-923D-57C3DFB1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2321-85F3-4B52-9173-81285F67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FF34-F076-413D-A1FC-0D2F2843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1361-5F5B-44B5-A86B-EDC17987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A916-AAF2-406C-ADA6-AA13167E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B7BB-6956-4C85-94FD-1EB76F93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44BF-271C-40C0-9D9A-773835F9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8320-DF3D-45B9-89BF-E63ECA9A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EA5B-A4A6-4B1B-BAF3-0E48E20086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2130480"/>
            <a:ext cx="79246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Тема: Решение задач с условным оператором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учить решать задачи с условным операт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Развивать умения составлять программы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условным операто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kk-KZ" sz="2400" spc="-1" strike="noStrike">
                <a:solidFill>
                  <a:srgbClr val="000000"/>
                </a:solidFill>
                <a:latin typeface="Arial"/>
              </a:rPr>
              <a:t>Воспитывать интерес к предмет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втор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ва конструкция условного операт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уществуют формы условного операт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ведите пример условного опера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8195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u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y, a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 (x , a, b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x&gt;=2 then y: =a*x*x + b else y: =sqr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ln (‘y=’, 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200400" y="228600"/>
            <a:ext cx="5410080" cy="99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Вычислить значение:                  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5"/>
              <p:cNvSpPr txBox="1"/>
              <p:nvPr/>
            </p:nvSpPr>
            <p:spPr>
              <a:xfrm>
                <a:off x="7467480" y="380880"/>
                <a:ext cx="981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Х</m:t>
                            </m:r>
                            <m:r>
                              <m:t xml:space="preserve">≥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) Вычисли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sum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y, a,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: rea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ln (x , a, b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x &lt;a  then y: =a + b else y: =(a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ln (‘y=’, 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657600" y="775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4267080" y="533520"/>
                <a:ext cx="106704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а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  <m:r>
                              <m:t xml:space="preserve">,</m:t>
                            </m:r>
                            <m:r>
                              <m:t xml:space="preserve">X</m:t>
                            </m:r>
                            <m:r>
                              <m:t xml:space="preserve">&lt;</m:t>
                            </m:r>
                            <m:r>
                              <m:t xml:space="preserve">a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4" name="Rectangle 6"/>
          <p:cNvSpPr/>
          <p:nvPr/>
        </p:nvSpPr>
        <p:spPr>
          <a:xfrm>
            <a:off x="114480" y="389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Заданы длины сторон треугольника, определить, является ли этот треугольник прямоуголь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um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a,  b, c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 ( a, 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*a + b*b = c*c   then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) else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ямоуголь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) Заданы длины сторон треугольника, определить, является ли данный треугольник равнобедрен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 s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 a,  b, c: re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 ( a, b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(a = b) OR (a = c) then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еуголь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else writeln (‘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внобедренны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l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/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р.75 – 83 повтор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авить программ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данны два числа, найти среди них минимальное чи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ерцель Любовь Николаевна- учитель информат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тобольская средняя школа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устанайский район, Кустанайская обла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1T07:46:05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