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6752-0F9E-4C1B-AE88-D0565167AB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ма: Решение задач с условным операто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учить решать задачи с условным опе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Развивать умения составлять программы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условным опера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Воспитывать интерес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3D75-85D1-4ADA-B8B9-DC7BF30414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т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конструкция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формы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 условного опера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C83D-880A-4BAE-B8A4-39E3952380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=2 then y: =a*x*x + b else y: =sqr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b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A941-9472-40D5-9BCA-BEF1BD1D47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ычисл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&lt;a  then y: =a + b else y: =(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x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751D-21CF-4EC9-AA5D-5F688A5779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*a + b*b = c*c  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24CD-7576-440A-965F-BA37DF0EB1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(a = b) OR (a = c)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2EE2-3810-4807-90EE-32FD20F017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75 – 83 повто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ны два числа, найти среди них минимальн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4653-ADF3-47FF-94C1-334E9AA410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цель Любовь Николаевна- учитель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больская средняя школа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найский район, Кустанайская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9C7A-1605-466F-BC0B-F8E917B1EC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34F-4F19-461B-AAA8-8E7A7C7E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801-93A0-47C9-ACF2-36EE851F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114-E134-4E20-8728-A2CBB9B4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2B8-F919-410E-A64D-D32E8712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D69-9880-486B-8DDB-DE48D10B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858-1697-448D-98C1-8D63C488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3DD-7BC0-4CD1-95B8-3A632F58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509-477D-4B26-9E68-00A0D44D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DC2-0413-4AFA-A59E-066E0343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CDD-D572-4AB1-B7E2-AA3A1BD1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92B-BFF7-4243-A6AA-51BA9171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295-BEEA-408A-8128-AC6607DA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65BC-592D-43D3-93A2-598EAE1BC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924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ма: Решение задач с условным операторо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учить решать задачи с условным опера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условным опер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конструкция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формы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условного опера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19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=2 then y: =a*x*x + b else y: =sqr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200400" y="228600"/>
            <a:ext cx="5410080" cy="99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ычислить значение:                 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7467480" y="380880"/>
                <a:ext cx="98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ычис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x &lt;a  then y: =a + b else y: =(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657600" y="775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4267080" y="533520"/>
                <a:ext cx="10670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114480" y="38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*a + b*b = c*c  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 = b) OR (a = c)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75 – 83 повт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ны два числа, найти среди них минималь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6:0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