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3C52-31E4-48E6-A1E5-471C67ADB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ма: Решение задач с условным операто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учить решать задачи с условным опе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Развивать умения составлять программы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условным опер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Воспитывать интерес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7388-D448-4CBC-AB11-9910DB71CB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т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конструкция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формы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 условного опера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94B3-5BAE-4ECC-A698-46E59DC0A8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=2 then y: =a*x*x + b else y: =sqr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b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8281-5539-416C-9553-5B38463A98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ычисл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&lt;a  then y: =a + b else y: =(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x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A7EA-7D6A-48DA-A468-910CB714E7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*a + b*b = c*c  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995E-B567-4B47-962C-9D43730E8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(a = b) OR (a = c)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A530-C4CF-4130-A36A-74AA7DABB7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75 – 83 повто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ны два числа, найти среди них минимальн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0B2-5E71-42EC-876A-48CF0D8817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цель Любовь Николаевна- 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больская средняя школа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найский район, Кустанайская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C301-86DD-446E-989A-7EEA2A3441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EC6-E673-4999-B0C4-F48F6EFD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225-D99B-4633-9815-654C9B59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642-FA58-40AE-A31C-6AF84FBE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3C6-4561-4A88-9621-25881071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FB5-5A74-4A25-932B-40BE2509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2E4-29DF-43F9-BCA6-BA8DCD82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1F9-0FFB-449C-B0A1-7C514B3F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316-6982-48D0-95BC-8D1E555F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D50-FA20-42AF-BCB5-39451953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5D9-D5AB-4D22-9DD6-79D2DAF9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2C6-9D9C-4D54-A085-B4E5AE13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9DC-DDC8-4CEB-9C8F-E7833F77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78F2-3F12-4C50-9F15-6BBE49724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924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: Решение задач с условным оператор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ить решать задачи с условным опера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условным опер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конструкция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формы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условного опера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=2 then y: =a*x*x + b else y: =sqr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200400" y="228600"/>
            <a:ext cx="5410080" cy="99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ычислить значение:                 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7467480" y="380880"/>
                <a:ext cx="98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ычис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 &lt;a  then y: =a + b else y: =(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657600" y="775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4267080" y="533520"/>
                <a:ext cx="10670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114480" y="38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*a + b*b = c*c  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= b) OR (a = c)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75 – 83 повт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ны два числа, найти среди них минималь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6:0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