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8007-C745-4346-8154-BC9CA2C68E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A3C7-097B-4960-A222-857998B0FA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B164-FFCA-4550-961B-757585A981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программ мы можем использовать не только несколько условий для задания ветвлений, но и несколько раз использовать саму конструкцию ветвления, вкладывая их одну в другую, создавая сложные усло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возникает необходимость проверить условие, и в зависимости от результата проверки выполнить ту или иную серию операторов. В  Паскале эта серия операторов объединяется в один составной оператор, который заключается в операторные скоб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7793-E751-4580-8580-659CEDFF06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. Составить программ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2 THEN Y: = X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3 THEN Y: = 2 ELSE  Y: = -X + 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C0D8-1C03-452C-876B-764C2B8547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2. Найти корни квадратного урав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B, C, D, X1, X2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A, B, C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= SQR(B) – 4 * A* 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&lt;0 THEN WRITELN (‘NET CORNEY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1:= (-B + SQRT (D)/ (2 * A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:= (-B - SQRT (D)/ (2 * A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X1=’,X1,’’:2,’X2=’,X2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0783-5788-45A9-AA20-41297E627A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=0  THEN Y: = SQR(X)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1 THEN Y: = 2*X+4 ELSE  Y: = SQRT(SIN(X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:1: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3BE9-9D9B-4D31-B123-7833B63717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=3 THEN Y: =12+COS(5*X)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5 THEN Y: = X+5 ELSE  Y: = (5*X+7)/(3*X-4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E09E-55D0-4CC0-872C-8CB3AF9CF9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79-83 повтор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програм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589-9A57-4E6D-B0DB-7799208395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B95-5052-44A6-A115-85125C27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067-16A7-4D26-BBC5-33F1882A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406-EE73-4D52-8B12-D2A4D36D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182-9321-4684-B241-8A0DC5AF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C80-48D0-4EB5-A91D-95C3166C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793-0872-437B-B22F-3E2CA60C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366-5011-4116-915C-FF2688AB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EB8-34D3-4C08-8E7F-0A51EE21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412-0970-4C09-A5D2-7677D8EA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6A0-14D6-40DF-9B03-1A055A39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273-C2E6-47D8-9A38-2F06C449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99E-B976-4599-A017-3975B563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aabd"/>
            </a:gs>
            <a:gs pos="100000">
              <a:srgbClr val="1bcde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A03E-EA3C-43BA-B523-19282D4E9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цель Любовь Николаевна- учитель информатики, матема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обольская средняя школ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найский район, Кустанай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: Сложные услов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: Научить составлять программы   используя сложные усло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Развивать умения составлять программы с условным опера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Воспитывать интерес к предмету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ая 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оставлении программ мы можем использовать не только несколько условий для задания ветвлений, но и несколько раз использовать саму конструкцию ветвления, вкладывая их одну в другую, создавая сложные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возникает необходимость проверить условие, и в зависимости от результата проверки выполнить ту или иную серию операторов. В  Паскале эта серия операторов объединяется в один составной оператор, который заключается в операторные скоб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. Составить программу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2 THEN Y: = X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3 THEN Y: = 2 ELSE  Y: = -X +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4932360" y="765000"/>
                <a:ext cx="135900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Х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2. Найти корни квадратного уравн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, B, C, D, X1, X2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A, B,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= SQR(B) – 4 * A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&lt;0 THEN WRITELN (‘NET CORNE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:= (-B + SQRT (D)/ (2 * 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2:= (-B - SQRT (D)/ (2 * 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 (‘X1=’,X1,’’:2,’X2=’,X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=0  THEN Y: = SQR(X)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1 THEN Y: = 2*X+4 ELSE  Y: = SQRT(SIN(X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:1: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5003640" y="260280"/>
                <a:ext cx="20894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Х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e>
                            </m:rad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=3 THEN Y: =12+COS(5*X)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5 THEN Y: = X+5 ELSE  Y: = (5*X+7)/(3*X-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4932360" y="260280"/>
                <a:ext cx="31687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79-83 повт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програ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1547640" y="2720880"/>
                <a:ext cx="1584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8:13:53Z</dcterms:created>
  <dc:creator>User</dc:creator>
  <dc:description/>
  <dc:language>en-US</dc:language>
  <cp:lastModifiedBy>LEGION</cp:lastModifiedBy>
  <dcterms:modified xsi:type="dcterms:W3CDTF">2015-04-01T07:47:13Z</dcterms:modified>
  <cp:revision>12</cp:revision>
  <dc:subject/>
  <dc:title>Тема:Сложные условия. </dc:title>
</cp:coreProperties>
</file>