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4C3F-CB22-4F2D-BF08-5252CF53BF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73DC-4D4A-43A8-A9F7-4FDF2C8471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8BE0-6F5B-4981-9094-CBDDA52AC0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программ мы можем использовать не только несколько условий для задания ветвлений, но и несколько раз использовать саму конструкцию ветвления, вкладывая их одну в другую, создавая сложные усло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возникает необходимость проверить условие, и в зависимости от результата проверки выполнить ту или иную серию операторов. В  Паскале эта серия операторов объединяется в один составной оператор, который заключается в операторные скоб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C4C1-B4D8-4BDE-BC47-B06B650CD4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. Составить программ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2 THEN Y: = X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3 THEN Y: = 2 ELSE  Y: = -X + 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E149-96B2-427F-B055-7CBFAE356A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2. Найти корни квадратного урав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B, C, D, X1, X2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A, B, C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= SQR(B) – 4 * A* 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&lt;0 THEN WRITELN (‘NET CORNEY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1:= (-B + SQRT (D)/ (2 * A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:= (-B - SQRT (D)/ (2 * A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X1=’,X1,’’:2,’X2=’,X2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AF06-FE80-4CFD-8DB4-EA273995C9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=0  THEN Y: = SQR(X)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1 THEN Y: = 2*X+4 ELSE  Y: = SQRT(SIN(X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:1: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1FBF-AF19-4290-94B6-DB0C9CBAB6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=3 THEN Y: =12+COS(5*X)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5 THEN Y: = X+5 ELSE  Y: = (5*X+7)/(3*X-4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B68E-DD7E-4AAD-8A90-E87C6321B8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79-83 повтор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ограм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41BF-829C-4FF7-86C7-E29EF033B6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5B1-852B-491D-95CE-003DC88A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143-4E40-417C-8821-D18B1FA0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E2A-4A9D-4146-83C3-ED39AF14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1E1-58EA-47D0-BE67-4BEE5ADC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C7E-A3F3-4DBE-A7BD-6092DFED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403-1FCA-4B0D-A6E5-1FB8CAD9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F83-33E1-411F-B9C1-B846D524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416-601A-44FA-8845-8ED852D7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5E8-32D2-42E7-89E1-EDEFC6C4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886-D088-4D70-A930-589764D2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579-2A65-4FED-A910-77E5FCB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D53-6D45-4174-9C0F-45447D0A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aabd"/>
            </a:gs>
            <a:gs pos="100000">
              <a:srgbClr val="1bcde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B919-834F-40C3-BE37-BA4C015C3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цель Любовь Николаевна- учитель информатики, матема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обольская средняя школ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найский район, Кустанай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Сложные услов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: Научить составлять программы   используя сложные усло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Развивать умения составлять программы с условным опера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Воспитывать интерес к предмету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ая 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оставлении программ мы можем использовать не только несколько условий для задания ветвлений, но и несколько раз использовать саму конструкцию ветвления, вкладывая их одну в другую, создавая сложны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возникает необходимость проверить условие, и в зависимости от результата проверки выполнить ту или иную серию операторов. В  Паскале эта серия операторов объединяется в один составной оператор, который заключается в операторные скоб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. Составить программу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2 THEN Y: = X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3 THEN Y: = 2 ELSE  Y: = -X +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4932360" y="765000"/>
                <a:ext cx="135900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Х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2. Найти корни квадратного уравн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, B, C, D, X1, X2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A, B,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= SQR(B) – 4 * A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&lt;0 THEN WRITELN (‘NET CORNE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:= (-B + SQRT (D)/ (2 * 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2:= (-B - SQRT (D)/ (2 * 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 (‘X1=’,X1,’’:2,’X2=’,X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=0  THEN Y: = SQR(X)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1 THEN Y: = 2*X+4 ELSE  Y: = SQRT(SIN(X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:1: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5003640" y="260280"/>
                <a:ext cx="20894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Х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e>
                            </m:rad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=3 THEN Y: =12+COS(5*X)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5 THEN Y: = X+5 ELSE  Y: = (5*X+7)/(3*X-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4932360" y="260280"/>
                <a:ext cx="31687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79-83 повт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програ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1547640" y="2720880"/>
                <a:ext cx="1584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8:13:53Z</dcterms:created>
  <dc:creator>User</dc:creator>
  <dc:description/>
  <dc:language>en-US</dc:language>
  <cp:lastModifiedBy>LEGION</cp:lastModifiedBy>
  <dcterms:modified xsi:type="dcterms:W3CDTF">2015-04-01T07:47:13Z</dcterms:modified>
  <cp:revision>12</cp:revision>
  <dc:subject/>
  <dc:title>Тема:Сложные условия. </dc:title>
</cp:coreProperties>
</file>