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0414-5F81-41A9-8850-3D4E7B4AEB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C613-35E3-406D-8049-DAB09D7B86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4B75-214E-45DC-8C12-637BE8F32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1186-9B5F-44B9-81F1-7ADA63CD70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. Составить программ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2 THEN Y: = X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3 THEN Y: = 2 ELSE  Y: = -X + 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0FD-FF5A-4B6D-BC91-40A22B86BA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2. Найти корни квадратного урав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B, C, D, X1, X2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A, B, 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= SQR(B) – 4 * A* 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&lt;0 THEN WRITELN (‘NET CORNEY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1:= (-B +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:= (-B -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X1=’,X1,’’:2,’X2=’,X2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06EB-E526-47A1-866E-15F254FE9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0  THEN Y: = SQR(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1 THEN Y: = 2*X+4 ELSE  Y: = SQRT(SIN(X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:1: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E16A-3200-4874-A273-A3C5C3D8C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3 THEN Y: =12+COS(5*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5 THEN Y: = X+5 ELSE  Y: = (5*X+7)/(3*X-4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5DFB-3F5B-44A7-A08E-3B7151F811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79-83 повтор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CC28-CB74-4FD5-A48B-B5C819C190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EF6-CFD3-458C-B7CD-D429C6DF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4E8-8A2E-4EDA-A3DC-6A04E50B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8B1-EA89-4AA3-B214-3781B2D9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105-B6A0-4075-899F-EF29A55B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022-120F-463D-96C1-0D73D16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E25-1580-4989-B9F5-47453FE8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0D0-680C-403C-89A2-DA8FCF34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E3B-A9CB-4BC0-B8C3-2BBE1A25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0FD-43F2-4D08-8F9E-C8559A62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B63-9C15-40C2-81E7-FFB0822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1507-3B99-4221-995B-35CDB8ED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A91-E098-43FA-91C6-39B25147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aabd"/>
            </a:gs>
            <a:gs pos="100000">
              <a:srgbClr val="1bcde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3098-E401-4E89-B5FA-5D284031EA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,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Сложные у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: Научить составлять программы   используя слож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условным опер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ая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. Составить програм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2 THEN Y: = X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3 THEN Y: = 2 ELSE  Y: = -X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4932360" y="765000"/>
                <a:ext cx="135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2. Найти корни квадратного урав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, B, C, D, X1, X2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= SQR(B) – 4 * A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&lt;0 THEN WRITELN (‘NET CORNE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:= (-B +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:= (-B -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 (‘X1=’,X1,’’:2,’X2=’,X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0  THEN Y: = SQR(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1 THEN Y: = 2*X+4 ELSE  Y: = SQRT(SI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:1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003640" y="260280"/>
                <a:ext cx="2089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3 THEN Y: =12+COS(5*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5 THEN Y: = X+5 ELSE  Y: = (5*X+7)/(3*X-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32360" y="260280"/>
                <a:ext cx="3168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79-83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1547640" y="2720880"/>
                <a:ext cx="1584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3:53Z</dcterms:created>
  <dc:creator>User</dc:creator>
  <dc:description/>
  <dc:language>en-US</dc:language>
  <cp:lastModifiedBy>LEGION</cp:lastModifiedBy>
  <dcterms:modified xsi:type="dcterms:W3CDTF">2015-04-01T07:47:13Z</dcterms:modified>
  <cp:revision>12</cp:revision>
  <dc:subject/>
  <dc:title>Тема:Сложные условия. </dc:title>
</cp:coreProperties>
</file>