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419A-1560-40A5-8971-7CEEC86F03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8E97-C1E1-4D34-9A2A-8485DE08DB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E55D-259A-4C5F-A287-C64CD7AB69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D49-DA39-41F5-8A5D-290FFC440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. Составить программ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2 THEN Y: = X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3 THEN Y: = 2 ELSE  Y: = -X + 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7FAA-2201-4892-BF2F-AAFA65A218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2. Найти корни квадратного урав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B, C, D, X1, X2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A, B, C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= SQR(B) – 4 * A* 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&lt;0 THEN WRITELN (‘NET CORNEY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1:= (-B +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:= (-B -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X1=’,X1,’’:2,’X2=’,X2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FEF0-FADD-4CE4-B985-2A3C11685B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0  THEN Y: = SQR(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1 THEN Y: = 2*X+4 ELSE  Y: = SQRT(SIN(X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:1: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0A6D-5627-491F-BBBF-4861C82CD3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3 THEN Y: =12+COS(5*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5 THEN Y: = X+5 ELSE  Y: = (5*X+7)/(3*X-4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39FB-FECD-4609-BFD8-9CADA18B00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79-83 повтор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2B50-4B84-4DF0-AF3A-0242BD980C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D7B-63B8-4315-940F-D19B274C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6F3-21B5-4EB1-BEC9-423728A3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154-0F3C-401B-A9D8-297B2566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465-6EB5-4AE7-8B43-98DABBD0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0F8-5D5A-454C-B2C4-BF90A2A8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38E-C265-45E5-A7D5-A59B805A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F96-DD4C-4AE3-8176-E89CFCE9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9FC-578B-4C8E-B98D-D3DC9701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1ED-0E4F-48A9-9C92-92F909D9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DD0-907F-46EB-B36C-74A8B3CD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A82-693C-40CF-B87F-95783EE0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D20-DDCA-4DC4-A00F-EDEEC39E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aabd"/>
            </a:gs>
            <a:gs pos="100000">
              <a:srgbClr val="1bcde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9CB9-FBDF-4B40-9A45-237AD3B58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, матема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Сложные услов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: Научить составлять программы   используя сложные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условным опера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ая 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. Составить программу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2 THEN Y: = X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3 THEN Y: = 2 ELSE  Y: = -X +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4932360" y="765000"/>
                <a:ext cx="135900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2. Найти корни квадратного уравн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, B, C, D, X1, X2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A, B,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= SQR(B) – 4 * A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&lt;0 THEN WRITELN (‘NET CORNE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:= (-B +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2:= (-B -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 (‘X1=’,X1,’’:2,’X2=’,X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0  THEN Y: = SQR(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1 THEN Y: = 2*X+4 ELSE  Y: = SQRT(SIN(X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:1: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5003640" y="260280"/>
                <a:ext cx="20894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ra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3 THEN Y: =12+COS(5*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5 THEN Y: = X+5 ELSE  Y: = (5*X+7)/(3*X-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4932360" y="260280"/>
                <a:ext cx="31687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79-83 повт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1547640" y="2720880"/>
                <a:ext cx="1584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8:13:53Z</dcterms:created>
  <dc:creator>User</dc:creator>
  <dc:description/>
  <dc:language>en-US</dc:language>
  <cp:lastModifiedBy>LEGION</cp:lastModifiedBy>
  <dcterms:modified xsi:type="dcterms:W3CDTF">2015-04-01T07:47:13Z</dcterms:modified>
  <cp:revision>12</cp:revision>
  <dc:subject/>
  <dc:title>Тема:Сложные условия. </dc:title>
</cp:coreProperties>
</file>