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25F-A761-4C3A-953E-6117EC09589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6697-1152-4326-BE60-9E3C354A6DA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зучения 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.В. Соколо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и  группой авторов  в 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97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E89A-4096-46E1-B36E-41470DD6D48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социальной информатики как  научного знани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1E72-CAE0-4BE5-A474-05601C7F4F4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56A0-6150-468C-AC19-A81C6103003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учебного курса «Социальная информат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280B-6EB3-49C4-9147-6DAB565D159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еальный ход информат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0E1D-7D93-447A-8752-EB7C8378E0D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МЕТ И ЗАДАЧИ КУРС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62D0-B4CB-428F-BC06-FE11033BDA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  вступления  общества  в постиндустриальный  период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5D47-6728-43B5-98E7-5364FFD7559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стельс 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китов А.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компьютерной революции. - М.,19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колова И.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. - М.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9021-9302-4288-8129-80009D708EF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трудоспособного населения, занятого в сфере услуг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ерий занят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коммуникационной сети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ческий кри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наблюдать человечество из космоса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трономический критерий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D630-BBCB-4E83-809D-FDB78A4CDCE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щественного развития устойчив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ционным кризи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ружественный интерфей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9BF-9BAA-48A1-A2F2-B66997AC94A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диатизацию, компьютеризацию и  интеллектуа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6832-1AC8-4914-AE36-227F89E4E8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етико-методологические подходы к информатизации общест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кра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уманитар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BC6E-B0DC-4765-9FE8-1769D3C6B3D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зь информатизации с устойчивым развити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нформационное общество с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ой сферой услу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шено большинства социально-экономических и экологи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информированность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лобальная информатизация позволит сформиро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льный интеллект цивил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особный обеспечить устойчивое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695D-73F4-485B-B0B6-4ACBA6C151D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198-C2F7-4595-907E-EE7A9D51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9D3-F2C9-48DD-A22B-BC6C0C9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AB7-676F-4F42-B4D8-6E4D1584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497-9099-4AA0-ACFE-B94EA450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1A6-94B0-413F-A606-65992198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B4F-E7B9-40BA-830F-3E320403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809-C169-452F-97B5-AB9BDC28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97D-780A-459A-8062-59DDA893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4F8-509B-4155-A2B3-50CCF281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9F6-6D84-4FC1-A222-FB6B600E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67E-D037-480E-B0F9-27EFBC6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FE4-BC45-4C94-889F-19890F7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D583-03E8-4AE2-99E0-860DCB6851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LEGION</cp:lastModifiedBy>
  <dcterms:modified xsi:type="dcterms:W3CDTF">2015-04-01T07:48:19Z</dcterms:modified>
  <cp:revision>29</cp:revision>
  <dc:subject/>
  <dc:title>Слайд 1</dc:title>
</cp:coreProperties>
</file>