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0C72-7984-4839-92F8-1BEEE335614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8550-E173-4E71-A778-4F6629A93F5D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зучения  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.В. Соколов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 и  группой авторов  в  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1974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E3DE-9878-4CB7-A249-A0D9F68A8BB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руктура социальной информатики как  научного знани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F442-7D0F-40F3-94F3-B1049243F67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1A2D-57E7-4DD8-856A-2DC67021B59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чи учебного курса «Социальная информат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047B-D9F7-458A-921C-55B4FF90BD8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вод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 реальный ход информатиз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иват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8C87-5122-431A-9039-F1470A2113D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кция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ЕДМЕТ И ЗАДАЧИ КУРС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9AF7-F086-41BF-BAFF-8C5A2E7A821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лан л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  вступления  общества  в постиндустриальный  период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соналии социальной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 - предметное поле исслед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DC14-2499-4016-85EF-00EB24666E6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стельс М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китов А.И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ософия компьютерной революции. - М.,199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колова И.В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информатика. - М.,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952-2FB9-415E-B908-7CEE5C4E926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нт трудоспособного населения, занятого в сфере услуг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ерий занят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коммуникационной сети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ческий критер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наблюдать человечество из космоса (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строномический критерий)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91E8-EBE2-4784-A5E2-9F990AB25D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онный кризи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цессе общественного развития устойчив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ционным кризис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дружественный интерфей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6D21-EBFD-4EEF-96EE-207A2221CB7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нятие «информатизация общества», его струк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форматиз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медиатизацию, компьютеризацию и  интеллектуа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3625-1876-4AA1-95D2-5EB3991B902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етико-методологические подходы к информатизации обществ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окра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•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уманитар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8DED-7883-447A-B507-FC567FE76C7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зь информатизации с устойчивым развити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нформационное общество с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витой сферой услу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лишено большинства социально-экономических и экологически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Высокая информированность насе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Глобальная информатизация позволит сформировать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нтегральный интеллект цивилиз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особный обеспечить устойчивое развит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DB0D-A351-4DEE-A498-C82CE3E7506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AB9F-B151-4153-B0E7-336A3D22F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43C-1A37-41B2-8C40-90A149BD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7A6C-FDFE-499D-AA28-B0A2A455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57B7-FD68-48FB-9224-B1AFFC01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558-6C61-4C67-A64D-33622EA2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30D0-8AC4-4757-9344-7CEE1F51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73BF-8DB8-4BA1-BBAB-9A1AC433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C258-7C89-4E2A-9EA8-896796FB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460C-23D8-4188-B8D0-82E14A11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95A4-90B4-4082-93B5-B78598B7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92D5-67BB-4126-9BD2-EBBE7805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AAB-0DE7-4076-9E10-9EEC6FD6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F8D6-A875-4DA4-87A3-21E844CD4A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0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Object 8"/>
          <p:cNvGraphicFramePr/>
          <p:nvPr/>
        </p:nvGraphicFramePr>
        <p:xfrm>
          <a:off x="0" y="0"/>
          <a:ext cx="8964720" cy="4414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89647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4068720"/>
            <a:ext cx="9144000" cy="19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Arial"/>
              </a:rPr>
              <a:t>СОЦИАЛЬНАЯ ИНФОРМАТИКА</a:t>
            </a:r>
            <a:endParaRPr b="0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0" y="6114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втор курса: Доктор социологических наук, професс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И.В. Соколова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0" y="191628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95280" y="177336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Предмет изучения  -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социальные предпосылки, условия и последствия информатизации общества, в том числе - развитие личности, изменение социальных структур и отношений в контексте информатизаци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первые термин «социальная информатика»  введен доктором педагогических наук, профессором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.В. Соколовы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 и  группой авторов  в  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1974 год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труктура социальной информатики как  научного знани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0" y="1413000"/>
          <a:ext cx="9144000" cy="558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413000"/>
                    <a:ext cx="9144000" cy="55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0" y="198900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мировой науке наиболее значимый вклад в изучение информатизации общества внесли       Д. Белл, О. Тоффлер, М. Кастельс (США),           А. Турен, Ж. Фурастье (Франция), Ю. Хабермас (Германия), И. Масуда (Япония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сновоположниками отечественного изучения информатизации общества являются                 В.Г. Афанасьев, В.М. Глушков, А.П. Ершов,       Н.Н. Моисеев, А.И. Ракитов, А.В. Соколов,         А.Д. Урсу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ложить основы умения правильно ориентироваться в новой информационной реальности как в мире в целом, так и в Росс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формировать представление о важности информационной культуры как основы органичного включения в информационную среду и активное содействие ее развитию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тодологически подготовить к дальнейшему применению информационных технологий в профессиональной деятельности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Задачи учебного курса «Социальная информатика»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0" y="1214280"/>
            <a:ext cx="896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нание теоретико-методологических подходов к информатизации, осознание ее цели и смысла позволяет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нимать реальный ход информатизации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граничивать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ехнократическое развитие информатизации, что особо необходимо для России, ибо сохранение культурно-духовной сферы в контексте новой информационной эпохи, по сути, является условием сохранения российского менталитета и, в значительной степени, всего мирового со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250920" y="1197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0" y="33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Вывод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 лекции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0" y="404640"/>
            <a:ext cx="9144000" cy="58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Лекция 1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СОЦИАЛЬНАЯ ИНФОРМАТИКА:</a:t>
            </a:r>
            <a:endParaRPr b="0" lang="en-US" sz="6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003366"/>
                </a:solidFill>
                <a:latin typeface="Arial"/>
              </a:rPr>
              <a:t>ПРЕДМЕТ И ЗАДАЧИ КУРСА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162864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  вступления  общества  в постиндустриальный  период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ерсоналии социальной информа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 - предметное поле исследова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>
            <a:off x="250920" y="141300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План лекции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19162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астельс М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Галактика Интернет: Размышления об Интернете, бизнесе и обществе / Пер с англ. – Екатеринбург, 2004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Ракитов А.И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Философия компьютерной революции. - М.,1991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околова И.В.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Социальная информатика. - М., 2008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>
            <a:off x="179280" y="1557360"/>
            <a:ext cx="861084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0" y="40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66"/>
                </a:solidFill>
                <a:latin typeface="Arial"/>
              </a:rPr>
              <a:t>Литература</a:t>
            </a:r>
            <a:endParaRPr b="0" lang="en-US" sz="4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0" y="22766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цент трудоспособного населения, занятого в сфере услуг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критерий занятост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стояние коммуникационной сети 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ический критер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озможность наблюдать человечество из космос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(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астрономический критерий)</a:t>
            </a: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>
            <a:off x="250920" y="1557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Критерии вступления общества в постиндустриальный, информационный периоды своего развит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1773360"/>
            <a:ext cx="8964720" cy="42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 процессе общественного развития устойчиво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окращается время, необходимое для удвоения объема знаний. Это проблемное явление называется «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ционным кризисом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звитие персональной информатики способствует преодолению этого кризиса, однако, принципиальное его разрешение возможно лишь после массового распространения компьютеров интеллектуального типа, имеющих так называемы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дружественный интерфей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Информационный кризи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0" y="1484280"/>
            <a:ext cx="896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форматизац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обществ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- это процесс овладения информацией как ресурсом управления и развития на базе средств информатики, включающий 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медиатизацию, компьютеризацию и  интеллектуализаци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деальная порядковая шкала этих слагаемых: интеллектуализация, медиатизация и, далее, компьютеризация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альная порядковая шкала слагаемых информатизации такова: компьютеризация, опережая по темпам медиатизацию и интеллектуализацию, развивается за их счет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Понятие «информатизация общества», его структур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0" y="177336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технократически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считаются средством повышения производительности труда, и используются, в основном, в производстве и управлении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•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гуманитарный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огласно которому информационные технологии рассматриваются как важная часть человеческой жизни, имеющая значение не только для производства, но и для социальной сферы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Теоретико-методологические подходы к информатизации общества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sky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0" y="1916280"/>
            <a:ext cx="89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1. Информационное общество с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развитой сферой услуг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лишено большинства социально-экономических и экологических проблем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2.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Высокая информированность населени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будет способствовать снижению экологической напряженности, устойчивому развитию обществ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3. Глобальная информатизация позволит сформировать </a:t>
            </a:r>
            <a:r>
              <a:rPr b="1" i="1" lang="ru-RU" sz="2800" spc="-1" strike="noStrike">
                <a:solidFill>
                  <a:srgbClr val="003366"/>
                </a:solidFill>
                <a:latin typeface="Arial"/>
              </a:rPr>
              <a:t>интегральный интеллект цивилизации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, способный обеспечить устойчивое развити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50920" y="1341360"/>
            <a:ext cx="8610480" cy="0"/>
          </a:xfrm>
          <a:prstGeom prst="line">
            <a:avLst/>
          </a:prstGeom>
          <a:ln w="76320">
            <a:solidFill>
              <a:srgbClr val="c6c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Связь информатизации с устойчивым развитием обществ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5T04:54:32Z</dcterms:created>
  <dc:creator>Stepanova</dc:creator>
  <dc:description/>
  <dc:language>en-US</dc:language>
  <cp:lastModifiedBy>LEGION</cp:lastModifiedBy>
  <dcterms:modified xsi:type="dcterms:W3CDTF">2015-04-01T07:48:19Z</dcterms:modified>
  <cp:revision>29</cp:revision>
  <dc:subject/>
  <dc:title>Слайд 1</dc:title>
</cp:coreProperties>
</file>