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2BEE-61D1-4EAF-B2AB-493E958AE6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технологии на уроках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совершенствовать у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больше размышлять, чем заучи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не Дека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физики и информатики МОУ-ООШ с. Золотая Степь Крючко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C785-D544-433D-BCE8-947999205D5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08C-D876-418A-B0E2-B817D9F855F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офиль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5A52-FCFF-49D3-982C-FE798D04B2E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ектная работа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 физике(элективный курс)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«Определение силы тяжести и массы линейки с помощью медных моне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FDF9-B0DA-4B72-B095-8A2D9DC785E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Рисунок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ыв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Библи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FCDD-427C-4D9C-A0B0-F4D819A520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исунок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C68-5A10-430D-91A4-48567429115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строил «детские» весы: положил на упор доще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онеты тяжелее я снимал по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ось 3 моне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6E49-3F37-44AE-BB8A-9644EE11B4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 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= 0,003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 0,003*10=0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]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*Н/кг=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0DB0-13E8-4FCF-89E6-110311F63E4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2AD3-7F1A-4658-AFCA-B99BAABA481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E6AF-2DC4-4BBE-B89F-DCD927516F7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по физике 9к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Перышкин ,Е.М.Гут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E7F7-7E6C-42BF-A9B9-F8E31604B9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я понимаю под инновациями в образовани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CA86-03D8-45AE-B294-9C8836E98FC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льтимедиа-урок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0B2E-EAE2-4FF5-BD02-E17843AA804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интерактивные так и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как готовые тесты так и разрабатываю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с выбором ответа так и на установление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FAC4-6C51-40D7-9EC3-9EA46CE7055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ы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9F5A-F967-485B-A9B3-9B08C6B2B1C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является главным устройством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0769-BBF5-42AB-A3C6-2C0464122B5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ешней       памяти компьютера относя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утренней памяти компьютера относи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C938-EF71-4F5B-BBA2-029F8103F1F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ая адресуемая часть памяти компьютера 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ется свойство дискретности внутренней памяти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байт памяти имеет свой адр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им элементом внутренней памяти является 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мая программа хранится во внутренней памяти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подряд расположенных бит образуют байт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1455-9DBF-468A-BB91-C44788512CA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тактовая частота процессора, т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производительность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характеристик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ъема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личества внешних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ипа мони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DEC3-555D-46C4-B0FA-639E1DDB273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предложение: «При отключении  компьютер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регистрах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тирается из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лговременного хранения информации слу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запоминающе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1F1D-E525-49A0-9350-C6461E75507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26D8-05F1-46C0-8616-01389F75A5F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D78-CF7B-49D0-BAE0-4F135E05EA5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нновационные образовательные средства применяю в своей практ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теорию личностно-ориентирован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средства тест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проектную технолог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EC5-BD3D-4866-9104-0E51E473E0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ехнологии дифференциации и индивиду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фильное  и предпрофильное об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 Проект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A7C-F195-4FF5-A99F-C9A3A984B65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B255-9E43-49AD-910A-5611CD3F4DF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33B3-1699-4479-890A-23C886DAF2E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5290-F07D-4D06-B970-CC0C4645632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 ?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2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0) - ?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964C-8C92-49C2-9788-85610C4AEAF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едите числа из 2-ой с/с в 8-ую, 16-ую с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10010111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1000001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1110010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100011101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101100101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A662-CB94-4193-959E-F673BB0E095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CD6-400F-4753-AFF7-1D87C6D9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121-20BA-4F95-86F8-ACD6C104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A8A-1E57-4AD2-A8A0-C2F4C52E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A10-78C3-4AB5-9118-FF760885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F0AF-E110-4994-B95D-2DAD975C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EBB9-B45A-4370-B090-46E3B8E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3AF5-8DC7-446E-85ED-A8315644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AF74-3D2D-4C00-A742-89A5DFF4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75A5-B321-4323-9682-006DF32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D64E-E755-48AA-B973-60EB54B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AE74-9077-461F-906D-FED02D4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792-0726-4386-9683-2B3955C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43E1-E9C3-4DA8-9FAF-8203EDFD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118F-7933-4DD4-9798-658854A4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8315-6EC7-43F4-9E47-EEBAA7CA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3F4A-786A-4FD1-8777-59364B66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BEA1-1A6F-4A03-916F-81A8F6A9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B15-B55D-4384-9BF5-90ABB7E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B38-A884-4078-BA1A-0E0EEFD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35D-3C3A-4AD4-8FB2-46FCE33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E55-5010-490B-95CC-AA167B83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E51-D307-41ED-BA81-6E3B293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7E2-B323-4A6D-8990-469575A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781-36DC-4084-AAB2-33F0F90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5B59-1695-4FF2-BFAC-A8973BA185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ACED-D005-40A5-924B-40304E5B6E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нновационные технологии на уроках информа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усовершенствовать у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о больше размышлять, чем заучи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Рене Декар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готовила учитель физики и информатики МОУ-ООШ с. Золотая Степь Крючкова Т.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профильное обу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e6b"/>
                </a:solidFill>
                <a:latin typeface="Garamond"/>
              </a:rPr>
              <a:t>Проектная работа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ab475"/>
                </a:solidFill>
                <a:latin typeface="Garamond"/>
              </a:rPr>
              <a:t>по физике(элективный курс)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«Определение силы тяжести и массы линейки с помощью медных монет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2920" y="4005360"/>
            <a:ext cx="342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 уче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 б класса МОУ-ООШ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Золотая степ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рмушев Ж.Ж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ючкова Т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  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главл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1" action="ppaction://hlinksldjump"/>
              </a:rPr>
              <a:t>Рисунок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Расч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Вывод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Библиограф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Рисунок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д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троил «детские» весы: положил на упор дощеч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монеты тяжелее я снимал по 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илось 3 мо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ч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m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= 3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 = 0,003 к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 0,003*10=0,0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]=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*Н/кг=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603440"/>
            <a:ext cx="8201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иблиограф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по физике 9кл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вещен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В.Перышкин ,Е.М.Гутн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я понимаю под инновациями в образовании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льтимедиа-уроки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редства тестир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интерактивные так и на бумажном носите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как готовые тесты так и разрабатываю самостоя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с выбором ответа так и на установление соответ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ы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ло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является главным устройством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ешней       памяти компьютера относя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утренней памяти компьютера относи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ая адресуемая часть памяти компьютера  -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ласте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чем заключается свойство дискретности внутренней памяти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байт памяти имеет свой адр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им элементом внутренней памяти является 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няемая программа хранится во внутренней памяти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емь подряд расположенных бит образуют байт памя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 больше тактовая частота процессора, те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льш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чего зависит производительность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арактеристик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объема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количества внешних устройств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типа мон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должите предложение: «При отключении  компьютер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регистрах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тирается из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долговременного хранения информации служ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исково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перативное запоминающее устрой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шняя памя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1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graphicFrame>
        <p:nvGraphicFramePr>
          <p:cNvPr id="210" name=""/>
          <p:cNvGraphicFramePr/>
          <p:nvPr/>
        </p:nvGraphicFramePr>
        <p:xfrm>
          <a:off x="1763640" y="1916280"/>
          <a:ext cx="6077160" cy="39319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ая система (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на диске под определенным именем, где хранятся списки файлов и подкаталогов(папок) по определенной тема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69"/>
          <p:cNvSpPr/>
          <p:nvPr/>
        </p:nvSpPr>
        <p:spPr>
          <a:xfrm>
            <a:off x="0" y="53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2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кладное программное обеспечение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в конкретной области челове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Какие инновационные образовательные средства применяю в своей практике?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теорию личностно-ориентированного развит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средства тестирова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проектную технолог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ичностно-ориентированные технолог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хнологии дифференциации и индивидуализаци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) Профильное  и предпрофильное обу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)  Проектные технолог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 ?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2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0) - ?(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ведите числа из 2-ой с/с в 8-ую, 16-ую с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100101110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1000001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1110010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1000111011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1011001011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02:31Z</dcterms:created>
  <dc:creator>Лена</dc:creator>
  <dc:description/>
  <dc:language>en-US</dc:language>
  <cp:lastModifiedBy>LEGION</cp:lastModifiedBy>
  <dcterms:modified xsi:type="dcterms:W3CDTF">2015-04-01T07:49:15Z</dcterms:modified>
  <cp:revision>5</cp:revision>
  <dc:subject/>
  <dc:title>Инновационные технологии на уроках информатики</dc:title>
</cp:coreProperties>
</file>