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0FF8-194D-48CA-B521-095FD95E4F2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6.xml"/><Relationship Id="rId3" Type="http://schemas.openxmlformats.org/officeDocument/2006/relationships/slide" Target="slide20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../slides/slide13.xml"/><Relationship Id="rId7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новационные технологии на уроках информа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го, чтобы усовершенствовать у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о больше размышлять, чем заучив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ене Декар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ла учитель физики и информатики МОУ-ООШ с. Золотая Степь Крючкова Т.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EC42-C33E-488B-8959-61ACBA3DE0D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пример, урок объяснения нового материала «Системы счисления» 9 класс учебник Угринович Н. Д. «Информатика и ИКТ 9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 время появляется возможность индивидуально работать с теми учащимися, которые не до конца поняли принцип выполнения переводов из одной системы счисления в другую. Во-первых, это работа у доски с подробным рассмотрением каждого выполняемого действия. Во-вторых, это индивидуальная работа с каждым из учеников. После этого учащиеся выполняют выданные задания и получают карточ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этому времени большинство учащихся успевает справиться со второй карточкой и получают дополнительно творческое задание «Построить по предложенным координатам рисунок, предварительно переведя их в одну из систем счисле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ь такая: ученик получает карточку с таблицей, в которой обозначены номера точки и её координаты, представленные в какой-либо системе счисления (но не десятичной). Надо выполнить перевод координат в десятичную систему счисления (восьмеричную или шестнадцатеричную) и отметить точку на координатной плоскости. (Работа выполняется на бумаге в клетку). В итоге учащиеся, правильно сделав перевод и соединив последовательно все точки, получают изображение какого-либо животного или предм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оже время отставшие учащиеся стремятся поскорее выполнить свою карточку и получить такое же творческое задание. Можно сказать, что желание выполнить творческое задание стимулирует школьников как можно лучше справиться со своими карточками и приступить к процессу перевода координат и построения рисунка. В качестве домашнего задания можно предложить самим нарисовать картинку, записать её координаты и перевести их в одну из изучаемых систем счисления. Такой подход позволяет развивать творческие способности учащихся и применить полученные во время урока навы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368B-4D17-4129-BC7C-A36853D7B4C2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офильное об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шлые года я вела элективный курс по физике в 9 классе «Измерение физических величин», который имел практическую направленность и заканчивался созданием проекта, который учащиеся по моему совету делали в виде мультимедийной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году я веду в 9 классе курс «Базы данных – путь к успеху», который тоже предполагает создание про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97E2-FBE6-42AB-8414-B9EA1B3F0E0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Calibri"/>
              </a:rPr>
              <a:t>Проектная работа</a:t>
            </a:r>
            <a:br>
              <a:rPr sz="1400"/>
            </a:b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о физике(элективный курс)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«Определение силы тяжести и массы линейки с помощью медных монет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4DB3-2661-4621-A220-A2E5E6CCF0C9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л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Рисунок опы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Расч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ывод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Заключ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Библиограф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4163-A622-4F5E-ADBD-D95E6C7549E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Рисунок оп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1164-078D-44AF-BF72-D46B07D63BC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д оп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устроил «детские» весы: положил на упор дощеч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дну часть рычага положил линейку на другую положил стопку советских медных монет достоинством 1 коп., что соответствует 1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монеты тяжелее я снимал по од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лось 3 моне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AF7E-6D8C-4E70-8A4A-4E0B8E28FAF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=m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= 3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 = 0,003 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= 0,003*10=0,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P]=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г*Н/кг=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3BCD-628E-4E99-85E1-B8AAB1EAF26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измерил на опыте массу линейки с помощью медных монет, а после определил силу тяжести этой линейки. Она равна 0,03 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9EB7-9182-45E9-90EE-E3E9A81BCF2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опыте мы убедились, что не для каждого физического опыта обязательно использовать специальное оборудование. В некоторых случаях можно использовать подручные средства, некоторые физические опыты можно проводить в домашни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1781-72B4-4192-97E5-D38C45D6512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блиогра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 по физике 9кл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вещени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В.Перышкин ,Е.М.Гут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BB96-49C1-43E0-88B9-2C8A10FEAF7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то я понимаю под инновациями в образовании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инновациями понимаю внедрение и практическое использование в работе передовых педагогических технологий, информационных технологий, владение знаниями последних научных исследований в области педагогики и психоло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F90B-DE8A-4EB3-86AA-A8346FB1013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ультимедиа-уроки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льтимедиа-уроки, которые проводятся на основе приложенных к учебнику компьютерных обучающих дисков или делаю свои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F637-860D-4CE4-8D3C-7E696725ADD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тест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ы использую как интерактивные так и на бумажном носите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 как готовые тесты так и разрабатываю самостояте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ы использую как с выбором ответа так и на установление соответ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973A-B997-4530-AD90-4ADC8774497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ерите устройства, предназначенные для ввод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ви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ф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н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ерите устройства, предназначенные для вывод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ви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ф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н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2618-5DAC-4055-8D94-21CC79D1351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е устройство является главным устройством компьют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б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нская пл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ая 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кий ди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е устройство предназначено для подключения всех внутренних устройств компьют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б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нская пл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ая 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кий ди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53D2-6C02-44BE-9448-11A4254D901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внешней       памяти компьютера относятся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лэш-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зерные д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ая 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кий ди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внутренней памяти компьютера относится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лэш-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зерные д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ая 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кий ди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BDE0-CC11-437A-ADFD-D271CE09021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меньшая адресуемая часть памяти компьютера  -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й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й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заключается свойство дискретности внутренней памяти компьют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байт памяти имеет свой адр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меньшим элементом внутренней памяти является б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яемая программа хранится во внутренней памяти компью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емь подряд расположенных бит образуют байт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F1A7-EC0D-42D2-8A68-FA7F86874C3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больше тактовая частота процессора, т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ше скорость работы процесс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е скорость работы процесс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е объем данных, обрабатываемых за единицу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е объем данных, обрабатываемых за единицу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чего зависит производительность компьют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характеристик процесс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объема оператив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количества внешних устройств компью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типа мони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5CCD-7F39-448F-BA51-B62F7840ADD2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6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 предложение: «При отключении  компьютера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сохраняется в оператив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сохраняется в регистрах процесс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стирается из оператив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олговременного хранения информации служ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во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ое запоминающее устро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A074-868E-4070-B0A6-6E0FB6CCA2F9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в 7 классе по теме «программное обеспечение» учебник Угринович Н.Д. «Информатика и ИКТ 7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CCB0-FFBA-4CC2-A930-9FA1C3A926B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в 7 классе по теме «программное обеспечение» учебник Угринович Н.Д. «Информатика и ИКТ 7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7CE6-6494-4E06-8932-B945B71500C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инновационные образовательные средства применяю в своей практик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 теорию личностно-ориентированного разви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 мультимедиа-уроки, которые проводятся на основе компьютерных обучающих дисков или делаю свои презент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 средства тестиров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 проектную технолог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D0C9-4358-4F49-ABC4-F4CFC693FA1F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но-ориентированные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Технологии дифференциации и индивидуал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фильное  и предпрофильное обуч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 Проектные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B80D-96E6-4BAE-B0F5-EC8E76B9E2E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и дифференциации и индивидуализации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дифференцированного обучения - создание оптимальных условий для выявления задатков, развития интересов и способностей; сущность – усвоение программного материала на различных планируемых уровнях, но не ниже обязательного (стандарт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D025-AE31-4B31-BB9B-4CF89386532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ехнологии дифференциации и индивидуализации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же строить урок, чтобы учение всем приносило радость познания, пробуждало интерес к предмету и повышало качество образовани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наиболее оптимальных решений данного вопроса, на мой взгляд, является использование разноуровневых заданий на различных этапах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1774-C1FA-4D84-9F9C-FFBCDC74111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пример, урок объяснения нового материала «Системы счисления» 9 класс учебник Угринович Н. Д. «Информатика и ИКТ 9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яю тему для всего класса, если не последует вопросов от учащихся первой группы (сильных учеников), они получают задания творческого характера. Для учащихся второй и третьей групп проводится повторное объяснение темы. Если и здесь не будет вопросов, то учащиеся второй группы получают задания с элементами творчества. Для обучающихся третьей группы ещё раз объясняется материал с использованием таблиц, учебника и даётся практическое задание. Движение вперёд идёт на основе возврата к изученному, усиленного закрепления на большом количестве примеров и упражнений, каждый работает в меру своих сил и возможностей, не теряет интереса к предме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уровневые группы подвижны. Если учащийся второй и третьей групп работает в полную силу, справляется с заданиями, он может перейти в другую группу. Каждый получает справедливо заработанную оцен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1009-8F65-45FF-A01D-EF20868F888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пример,урок объяснения нового материала «Системы счисления» 9 класс учебник Угринович Н. Д. «Информатика и ИКТ 9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ервом этапе изучения темы «Системы счисления», после объяснения теоретического материала учащимся предлагается выполнить ряд заданий для его закрепления. Задания выдаются на карточ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(8) - ? (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(16) - ?(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(2) - ? (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(10) - ?(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(16) -- ?(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(8) - ?(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 время появляется возможность индивидуально работать с теми учащимися, которые не до конца поняли принцип выполнения переводов из одной системы счисления в другую. Во-первых, это работа у доски с подробным рассмотрением каждого выполняемого действия. Во-вторых, это индивидуальная работа с каждым из учеников. После этого учащиеся выполняют выданные задания и получают карточ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этому времени большинство учащихся успевает справиться со второй карточкой и получают дополнительно творческое задание «Построить по предложенным координатам рисунок, предварительно переведя их в одну из систем счисле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1994-F69D-4B5B-BDE1-0058578CB38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урок объяснения нового материала «Системы счисления» 9 класс учебник Угринович Н. Д. «Информатика и ИКТ 9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, усвоившие материал, справляются с простым заданием очень быстро и получают новую карточку с более сложными приме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ведите числа из 2-ой с/с в 8-ую, 16-ую с/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100101110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1000001112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1110010112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1000111011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101100101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6DB2-3A03-43E7-82F0-C92CA21BB05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D61A-A4D9-40A0-86CA-3102535E0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4FB0-3318-491E-A036-78EC31E2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B65B-CF81-40E8-B6D6-BA6154252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22E5-F7DE-4C85-A69E-37E3C9337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C5CD-A113-4E16-B38F-E46D228B0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B819-B866-4A0D-A512-5EB430D9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3EF0-799E-442A-B80E-51601325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DB73-B89C-4F9A-859D-80699FB1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4FD0-4D08-4378-AE89-93386E57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DCDC-79CF-4261-ADEE-AB754D10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142E-73B4-45F4-8E48-D3321F8C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F9BF-F89E-4A11-9DF6-A67A0511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2AD6-5464-4BDB-890A-EE63EDEE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B252-FAA7-4F73-9112-3F260296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D683-A3A1-48C6-9313-037506D3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EA39-9E1F-4F56-A8E1-222B7E36E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F28C-44CD-4AD4-A175-2B4EA637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6764-20B5-40D7-BF3D-A220198A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D036-683F-4507-9F15-A0D375F5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1BC7-B71A-40C5-82F5-EDFFE221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47DD-9F2B-4094-AAE2-21B146D6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7123-B7E1-4F9A-9051-C43BF9DC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05F5-58E6-4513-BC78-B6C1F3A0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E081-FEAA-4440-8A20-94DCC057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3715-DD06-4A22-AB66-312A970E8E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5082-1A91-40E2-B641-049F25AEA2F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6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9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Инновационные технологии на уроках информатики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ля того, чтобы усовершенствовать ум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до больше размышлять, чем заучивать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Рене Декарт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дготовила учитель физики и информатики МОУ-ООШ с. Золотая Степь Крючкова Т.В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, урок объяснения нового материала «Системы счисления» 9 класс учебник Угринович Н. Д. «Информатика и ИКТ 9»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 это время появляется возможность индивидуально работать с теми учащимися, которые не до конца поняли принцип выполнения переводов из одной системы счисления в другую. Во-первых, это работа у доски с подробным рассмотрением каждого выполняемого действия. Во-вторых, это индивидуальная работа с каждым из учеников. После этого учащиеся выполняют выданные задания и получают карточку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К этому времени большинство учащихся успевает справиться со второй карточкой и получают дополнительно творческое задание «Построить по предложенным координатам рисунок, предварительно переведя их в одну из систем счисления»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Суть такая: ученик получает карточку с таблицей, в которой обозначены номера точки и её координаты, представленные в какой-либо системе счисления (но не десятичной). Надо выполнить перевод координат в десятичную систему счисления (восьмеричную или шестнадцатеричную) и отметить точку на координатной плоскости. (Работа выполняется на бумаге в клетку). В итоге учащиеся, правильно сделав перевод и соединив последовательно все точки, получают изображение какого-либо животного или предмета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 тоже время отставшие учащиеся стремятся поскорее выполнить свою карточку и получить такое же творческое задание. Можно сказать, что желание выполнить творческое задание стимулирует школьников как можно лучше справиться со своими карточками и приступить к процессу перевода координат и построения рисунка. В качестве домашнего задания можно предложить самим нарисовать картинку, записать её координаты и перевести их в одну из изучаемых систем счисления. Такой подход позволяет развивать творческие способности учащихся и применить полученные во время урока навык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редпрофильное обуче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прошлые года я вела элективный курс по физике в 9 классе «Измерение физических величин», который имел практическую направленность и заканчивался созданием проекта, который учащиеся по моему совету делали в виде мультимедийной презентац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этом году я веду в 9 классе курс «Базы данных – путь к успеху», который тоже предполагает создание проект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9"/>
          <p:cNvSpPr/>
          <p:nvPr/>
        </p:nvSpPr>
        <p:spPr>
          <a:xfrm>
            <a:off x="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e6b"/>
                </a:solidFill>
                <a:latin typeface="Garamond"/>
              </a:rPr>
              <a:t>Проектная работа</a:t>
            </a:r>
            <a:br>
              <a:rPr sz="4400"/>
            </a:b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ab475"/>
                </a:solidFill>
                <a:latin typeface="Garamond"/>
              </a:rPr>
              <a:t>по физике(элективный курс)</a:t>
            </a: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 «Определение силы тяжести и массы линейки с помощью медных монет.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5722920" y="4005360"/>
            <a:ext cx="342108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ыполнил учени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9 б класса МОУ-ООШ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.Золотая степ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армушев Ж.Ж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уководитель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рючкова Т.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            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Оглавле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вед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99"/>
                </a:solidFill>
                <a:uFillTx/>
                <a:latin typeface="Garamond"/>
                <a:hlinkClick r:id="rId1" action="ppaction://hlinksldjump"/>
              </a:rPr>
              <a:t>Рисунок опыт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99"/>
                </a:solidFill>
                <a:uFillTx/>
                <a:latin typeface="Garamond"/>
                <a:hlinkClick r:id="rId2" action="ppaction://hlinksldjump"/>
              </a:rPr>
              <a:t>Расчет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99"/>
                </a:solidFill>
                <a:uFillTx/>
                <a:latin typeface="Garamond"/>
                <a:hlinkClick r:id="rId3" action="ppaction://hlinksldjump"/>
              </a:rPr>
              <a:t>Выводы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99"/>
                </a:solidFill>
                <a:uFillTx/>
                <a:latin typeface="Garamond"/>
                <a:hlinkClick r:id="rId4" action="ppaction://hlinksldjump"/>
              </a:rPr>
              <a:t>Заключение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99"/>
                </a:solidFill>
                <a:uFillTx/>
                <a:latin typeface="Garamond"/>
                <a:hlinkClick r:id="rId5" action="ppaction://hlinksldjump"/>
              </a:rPr>
              <a:t>Библиографи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         </a:t>
            </a:r>
            <a:r>
              <a:rPr b="1" lang="ru-RU" sz="4400" spc="-1" strike="noStrike">
                <a:solidFill>
                  <a:srgbClr val="006e6b"/>
                </a:solidFill>
                <a:latin typeface="Garamond"/>
              </a:rPr>
              <a:t>Рисунок опыт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Ход опыт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Я устроил «детские» весы: положил на упор дощечк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одну часть рычага положил линейку на другую положил стопку советских медных монет достоинством 1 коп., что соответствует 1 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Если монеты тяжелее я снимал по одн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лучилось 3 монеты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асчет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P=mg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= 3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г = 0,003 кг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P= 0,003*10=0,03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P]=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г*Н/кг=Н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Вывод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603440"/>
            <a:ext cx="820116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aramond"/>
              </a:rPr>
              <a:t>Я измерил на опыте массу линейки с помощью медных монет, а после определил силу тяжести этой линейки. Она равна 0,03 Н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Заключе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этом опыте мы убедились, что не для каждого физического опыта обязательно использовать специальное оборудование. В некоторых случаях можно использовать подручные средства, некоторые физические опыты можно проводить в домашних услов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Библиограф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чебник по физике 9кл.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свещение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&gt;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.В.Перышкин ,Е.М.Гутни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Что я понимаю под инновациями в образовании?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 инновациями понимаю внедрение и практическое использование в работе передовых педагогических технологий, информационных технологий, владение знаниями последних научных исследований в области педагогики и психологи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мультимедиа-уроки</a:t>
            </a: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ультимедиа-уроки, которые проводятся на основе приложенных к учебнику компьютерных обучающих дисков или делаю свои презентац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средства тестирован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есты использую как интерактивные так и на бумажном носител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пользую как готовые тесты так и разрабатываю самостоятельн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есты использую как с выбором ответа так и на установление соответств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ариант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опрос №1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ыберите устройства, предназначенные для ввода информац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лавиатур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онито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ыш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икрофо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кане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нте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ариант 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опрос №1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ыберите устройства, предназначенные для вывода информац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лавиатур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онито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лонк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икрофо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кане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нте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ариант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опрос №2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кое устройство является главным устройством компьютера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истемный бло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атеринская пла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перативная памят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Жесткий дис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ариант 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опрос №2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кое устройство предназначено для подключения всех внутренних устройств компьютера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истемный бло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атеринская пла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перативная памят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Жесткий дис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ариант 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прос №3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 внешней       памяти компьютера относятся..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лэш-памя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Лазерные дис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перативная памя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Жесткий дис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ариант 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прос №3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 внутренней памяти компьютера относится..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-48528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лэш-памя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-48528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Лазерные дис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-48528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перативная памя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-48528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Жесткий дис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ариант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прос №4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именьшая адресуемая часть памяти компьютера  - 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и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ай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Фай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ластер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ариант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прос №4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чем заключается свойство дискретности внутренней памяти компьютер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аждый байт памяти имеет свой адрес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именьшим элементом внутренней памяти является би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сполняемая программа хранится во внутренней памяти компьюте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семь подряд расположенных бит образуют байт памят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ариант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прос №5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Чем больше тактовая частота процессора, тем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ыше скорость работы процессо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иже скорость работы процессо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ольше объем данных, обрабатываемых за единицу времен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иже объем данных, обрабатываемых за единицу времен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ариант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прос №5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т чего зависит производительность компьютер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т характеристик процессо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т объема оперативной памят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т количества внешних устройств компьюте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т типа монито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ариант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прос №6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должите предложение: «При отключении  компьютера…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нформация сохраняется в оперативной памят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нформация сохраняется в регистрах процессо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нформация стирается из оперативной памят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ариант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прос №6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ля долговременного хранения информации служи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исковод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перативное запоминающее устройство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цессор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нешняя память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Например, в 7 классе по теме «программное обеспечение» учебник Угринович Н.Д. «Информатика и ИКТ 7»</a:t>
            </a:r>
            <a:br>
              <a:rPr sz="2000"/>
            </a:b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Вариант 1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/>
        </a:graphic>
      </p:graphicFrame>
      <p:graphicFrame>
        <p:nvGraphicFramePr>
          <p:cNvPr id="210" name=""/>
          <p:cNvGraphicFramePr/>
          <p:nvPr/>
        </p:nvGraphicFramePr>
        <p:xfrm>
          <a:off x="1763640" y="1916280"/>
          <a:ext cx="6077160" cy="3931920"/>
        </p:xfrm>
        <a:graphic>
          <a:graphicData uri="http://schemas.openxmlformats.org/drawingml/2006/table">
            <a:tbl>
              <a:tblPr/>
              <a:tblGrid>
                <a:gridCol w="3038400"/>
                <a:gridCol w="3038760"/>
              </a:tblGrid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раммное обеспечение (ПО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я, записанная на диск под определенным имене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атирование дис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ножество программ, которые управляют работой компьютера и организуют диалог пользователя с операционной системо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ерационная система (ОС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раммы, используемые для работы на компьютер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й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воначальная подготовка диска к работе: нанесение магнитных дорожек и секторов на его поверх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стемное программное обеспеч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сто на диске под определенным именем, где хранятся списки файлов и подкаталогов(папок) по определенной тематик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Rectangle 69"/>
          <p:cNvSpPr/>
          <p:nvPr/>
        </p:nvSpPr>
        <p:spPr>
          <a:xfrm>
            <a:off x="0" y="538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Например, в 7 классе по теме «программное обеспечение» учебник Угринович Н.Д. «Информатика и ИКТ 7»</a:t>
            </a:r>
            <a:br>
              <a:rPr sz="2000"/>
            </a:b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Вариант 2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раммное обеспечение (ПО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я, записанная на диск под определенным имене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атирование дис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ножество программ, которые управляют работой компьютера и организуют диалог пользователя с операционной системо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кладное программное обеспечение(ПО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раммы, используемые для работы на компьютер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й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воначальная подготовка диска к работе: нанесение магнитных дорожек и секторов на его поверх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стемное программное обеспеч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раммы, используемые для работы в конкретной области человеческой деятель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9efee"/>
                </a:solidFill>
                <a:latin typeface="Garamond"/>
              </a:rPr>
              <a:t>Какие инновационные образовательные средства применяю в своей практике? 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пользую теорию личностно-ориентированного развити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пользую мультимедиа-уроки, которые проводятся на основе компьютерных обучающих дисков или делаю свои презентаци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пользую средства тестирования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пользую проектную технологию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Спасибо за внимание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Личностно-ориентированные технологи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)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Технологии дифференциации и индивидуализаци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2) Профильное  и предпрофильное обучени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3)  Проектные технологи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Технологии дифференциации и индивидуализации </a:t>
            </a:r>
            <a:br>
              <a:rPr sz="36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Цель дифференцированного обучения - создание оптимальных условий для выявления задатков, развития интересов и способностей; сущность – усвоение программного материала на различных планируемых уровнях, но не ниже обязательного (стандарт)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Технологии дифференциации и индивидуализации </a:t>
            </a:r>
            <a:br>
              <a:rPr sz="36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 же строить урок, чтобы учение всем приносило радость познания, пробуждало интерес к предмету и повышало качество образования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дним из наиболее оптимальных решений данного вопроса, на мой взгляд, является использование разноуровневых заданий на различных этапах урок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, урок объяснения нового материала «Системы счисления» 9 класс учебник Угринович Н. Д. «Информатика и ИКТ 9»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ъясняю тему для всего класса, если не последует вопросов от учащихся первой группы (сильных учеников), они получают задания творческого характера. Для учащихся второй и третьей групп проводится повторное объяснение темы. Если и здесь не будет вопросов, то учащиеся второй группы получают задания с элементами творчества. Для обучающихся третьей группы ещё раз объясняется материал с использованием таблиц, учебника и даётся практическое задание. Движение вперёд идёт на основе возврата к изученному, усиленного закрепления на большом количестве примеров и упражнений, каждый работает в меру своих сил и возможностей, не теряет интереса к предмету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ноуровневые группы подвижны. Если учащийся второй и третьей групп работает в полную силу, справляется с заданиями, он может перейти в другую группу. Каждый получает справедливо заработанную оценку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,урок объяснения нового материала «Системы счисления» 9 класс учебник Угринович Н. Д. «Информатика и ИКТ 9»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а первом этапе изучения темы «Системы счисления», после объяснения теоретического материала учащимся предлагается выполнить ряд заданий для его закрепления. Задания выдаются на карточках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0(8) - ? (10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0(16) - ?(10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0(2) - ? (10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0(10) - ?(2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0(16) -- ?(2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0(8) - ?(2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 это время появляется возможность индивидуально работать с теми учащимися, которые не до конца поняли принцип выполнения переводов из одной системы счисления в другую. Во-первых, это работа у доски с подробным рассмотрением каждого выполняемого действия. Во-вторых, это индивидуальная работа с каждым из учеников. После этого учащиеся выполняют выданные задания и получают карточку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 этому времени большинство учащихся успевает справиться со второй карточкой и получают дополнительно творческое задание «Построить по предложенным координатам рисунок, предварительно переведя их в одну из систем счисления»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, урок объяснения нового материала «Системы счисления» 9 класс учебник Угринович Н. Д. «Информатика и ИКТ 9»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чащиеся, усвоившие материал, справляются с простым заданием очень быстро и получают новую карточку с более сложными примерам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ереведите числа из 2-ой с/с в 8-ую, 16-ую с/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) 1001011102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) 1000001112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3) 1110010112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4) 10001110112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5) 10110010112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05:02:31Z</dcterms:created>
  <dc:creator>Лена</dc:creator>
  <dc:description/>
  <dc:language>en-US</dc:language>
  <cp:lastModifiedBy>LEGION</cp:lastModifiedBy>
  <dcterms:modified xsi:type="dcterms:W3CDTF">2015-04-01T07:49:15Z</dcterms:modified>
  <cp:revision>5</cp:revision>
  <dc:subject/>
  <dc:title>Инновационные технологии на уроках информатики</dc:title>
</cp:coreProperties>
</file>