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B485-2AEE-40DA-B507-14DAA54269B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../slides/slide13.xml"/><Relationship Id="rId7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новационные технологии на уроках информа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усовершенствовать у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больше размышлять, чем заучи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ене Декар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физики и информатики МОУ-ООШ с. Золотая Степь Крючкова Т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99E3-4D8B-4E08-BD58-D3FE66B7AF3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такая: ученик получает карточку с таблицей, в которой обозначены номера точки и её координаты, представленные в какой-либо системе счисления (но не десятичной). Надо выполнить перевод координат в десятичную систему счисления (восьмеричную или шестнадцатеричную) и отметить точку на координатной плоскости. (Работа выполняется на бумаге в клетку). В итоге учащиеся, правильно сделав перевод и соединив последовательно все точки, получают изображение какого-либо животного или предм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же время отставшие учащиеся стремятся поскорее выполнить свою карточку и получить такое же творческое задание. Можно сказать, что желание выполнить творческое задание стимулирует школьников как можно лучше справиться со своими карточками и приступить к процессу перевода координат и построения рисунка. В качестве домашнего задания можно предложить самим нарисовать картинку, записать её координаты и перевести их в одну из изучаемых систем счисления. Такой подход позволяет развивать творческие способности учащихся и применить полученные во время урока навы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1790-203B-4498-AB5E-21A9E695FC6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офиль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шлые года я вела элективный курс по физике в 9 классе «Измерение физических величин», который имел практическую направленность и заканчивался созданием проекта, который учащиеся по моему совету делали в виде мультимедийной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году я веду в 9 классе курс «Базы данных – путь к успеху», который тоже предполагает создание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F82B-7315-4052-B140-C4097DE1CD1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Проектная работа</a:t>
            </a:r>
            <a:br>
              <a:rPr sz="14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о физике(элективный курс)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«Определение силы тяжести и массы линейки с помощью медных монет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00B9-C442-4127-9842-8DDBCD8A502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л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Рисунок опы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Рас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ыво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Заклю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Библиограф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0C6F-ACA0-42E0-AF7C-34476B9E739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исунок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861F-2966-4C61-AA97-4F0C1E6DD50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д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устроил «детские» весы: положил на упор дощеч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дну часть рычага положил линейку на другую положил стопку советских медных монет достоинством 1 коп., что соответствует 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монеты тяжелее я снимал по од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ось 3 моне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3C0C-54F6-4F4A-81E4-317D89B3C9C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m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= 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= 0,003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 0,003*10=0,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]=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*Н/кг=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35EB-FDFF-40A4-B325-645A22F89C1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измерил на опыте массу линейки с помощью медных монет, а после определил силу тяжести этой линейки. Она равна 0,03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576A-28F3-401E-80AC-EC0EAD0CBF1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опыте мы убедились, что не для каждого физического опыта обязательно использовать специальное оборудование. В некоторых случаях можно использовать подручные средства, некоторые физические опыты можно проводить в домашни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922F-1C09-462D-8A9A-ED3C7B98958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по физике 9кл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вещ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В.Перышкин ,Е.М.Гут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41BD-434D-4D0C-886B-6BC99B23447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то я понимаю под инновациями в образовании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инновациями понимаю внедрение и практическое использование в работе передовых педагогических технологий, информационных технологий, владение знаниями последних научных исследований в области педагогики и псих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8773-FC40-476A-91DA-51832F0CE04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ультимедиа-урок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медиа-уроки, которые проводятся на основе приложенных к учебнику компьютерных обучающих дисков или делаю свои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B1BE-3BEF-4E6A-8CEC-6F25AE761A3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тес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ы использую как интерактивные так и на бумажном носит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как готовые тесты так и разрабатываю самостоя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ы использую как с выбором ответа так и на установление соответ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A573-D8BF-4AD7-8028-2CDC0A55F60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устройства, предназначенные для ввод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устройства, предназначенные для вывод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E960-A397-468C-A5A2-147A272072D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устройство является главным устройством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б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нск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устройство предназначено для подключения всех внутренних устройств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б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нск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10B4-1C40-4B44-BD90-797B727580B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нешней       памяти компьютера относятся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эш-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ые д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нутренней памяти компьютера относится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эш-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ые д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7F7A-92AA-4E86-A603-1C1E59759F2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ьшая адресуемая часть памяти компьютера 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й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заключается свойство дискретности внутренней памяти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байт памяти имеет свой адр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ьшим элементом внутренней памяти является б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яемая программа хранится во внутренней памяти компью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емь подряд расположенных бит образуют байт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CD1E-7A87-4685-9B5A-D7ED84D8E17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тактовая частота процессора, т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скорость работы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скорость работы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объем данных, обрабатываемых за единицу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объем данных, обрабатываемых за единицу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ит производительность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характеристик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объема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личества внешних устройств компью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типа мони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F65B-E612-43E0-B854-3A9402F28BE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 предложение: «При отключении  компьютер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сохраняется в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сохраняется в регистрах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стирается из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лговременного хранения информации служ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в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ое запоминающее устро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054B-80E9-4710-BF51-921A9E43333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D45D-220C-4806-9619-A8D88D74D54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38CF-883E-4407-9FDF-2F0DB6BB28F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инновационные образовательные средства применяю в своей практик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теорию личностно-ориентированного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мультимедиа-уроки, которые проводятся на основе компьютерных обучающих дисков или делаю свои презен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средства тестир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проектную технолог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F146-4CA2-4B2E-BF67-1B801981CDF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о-ориентирован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Технологии дифференциации и индивидуа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фильное  и предпрофильное обу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 Проект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5C12-F9D5-4663-BE5B-F1E8D1A1BCF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дифференциации и индивидуализац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дифференцированного обучения - создание оптимальных условий для выявления задатков, развития интересов и способностей; сущность – усвоение программного материала на различных планируемых уровнях, но не ниже обязательного (стандар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3890-1089-47D3-8D8C-548CD4BC309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хнологии дифференциации и индивидуализации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же строить урок, чтобы учение всем приносило радость познания, пробуждало интерес к предмету и повышало качество образов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наиболее оптимальных решений данного вопроса, на мой взгляд, является использование разноуровневых заданий на различных этапах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6561-C3E5-4F5D-9236-64706059D9B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яю тему для всего класса, если не последует вопросов от учащихся первой группы (сильных учеников), они получают задания творческого характера. Для учащихся второй и третьей групп проводится повторное объяснение темы. Если и здесь не будет вопросов, то учащиеся второй группы получают задания с элементами творчества. Для обучающихся третьей группы ещё раз объясняется материал с использованием таблиц, учебника и даётся практическое задание. Движение вперёд идёт на основе возврата к изученному, усиленного закрепления на большом количестве примеров и упражнений, каждый работает в меру своих сил и возможностей, не теряет интереса к предме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уровневые группы подвижны. Если учащийся второй и третьей групп работает в полную силу, справляется с заданиями, он может перейти в другую группу. Каждый получает справедливо заработанную оце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88FC-5BF7-4A08-BC74-7C039BB9933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ример,урок объяснения нового материала «Системы счисления» 9 класс учебник Угринович Н. Д. «Информатика и ИКТ 9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ом этапе изучения темы «Системы счисления», после объяснения теоретического материала учащимся предлагается выполнить ряд заданий для его закрепления. Задания выдаются на карт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8) - ? 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16) - ?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2) - ? 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10) - ?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16) -- ?(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8) - ?(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184C-3402-43CC-8473-6487E05850C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, усвоившие материал, справляются с простым заданием очень быстро и получают новую карточку с более сложными прим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едите числа из 2-ой с/с в 8-ую, 16-ую с/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100101110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1000001112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1110010112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100011101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101100101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DA4E-2E74-41CE-A40E-BE7F426FA07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4AE-B4B3-4144-A45D-C84FA989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5165-95D0-44B1-A56A-5D94C00E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3965-3CDD-4D8E-9723-41B43D29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1E78-D44E-49A6-9B37-612B8A3C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2292-EBC6-415C-9BD8-B79FE86E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2F96-B261-4AEB-9BAD-C7B7D020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ACF0-F334-44BE-A178-BC2BF4B5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4A48-F575-4B94-98C7-B567FE07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D5BA-53E0-42AC-8742-F0A62DAD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9AB8-ADF4-4A97-B152-A0289F8E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FA08-00BF-4ACA-9B15-0E7B6FB3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DC4-8BB0-403F-A8CA-DB2A34DE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A3D9-B92A-49F7-8697-999E0163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B4C3-19D1-4060-A76B-0621B671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BB28-CA0D-46BA-8033-F00392AD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3192-C67B-4C34-8CFC-583511BA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D631-27EF-439B-8E09-41088DFB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8CD5-0782-4CF3-BA6F-5AB62D87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34D-4BB0-4C7E-9495-5D811823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CF1A-05ED-4908-9118-CB052E8C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486-3849-43EA-A466-0358E603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98F-50F9-403C-8172-A2B28AF7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6A7D-FF5F-4C14-B9D9-29595691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7B19-642B-47D2-B509-EC3058B5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A938-4D52-4B12-9F58-05D8C7D5E3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C74C-EDBB-4AC3-9802-C0CD402C39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Инновационные технологии на уроках информатики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ля того, чтобы усовершенствовать ум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до больше размышлять, чем заучивать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Рене Декарт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дготовила учитель физики и информатики МОУ-ООШ с. Золотая Степь Крючкова Т.В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уть такая: ученик получает карточку с таблицей, в которой обозначены номера точки и её координаты, представленные в какой-либо системе счисления (но не десятичной). Надо выполнить перевод координат в десятичную систему счисления (восьмеричную или шестнадцатеричную) и отметить точку на координатной плоскости. (Работа выполняется на бумаге в клетку). В итоге учащиеся, правильно сделав перевод и соединив последовательно все точки, получают изображение какого-либо животного или предмет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тоже время отставшие учащиеся стремятся поскорее выполнить свою карточку и получить такое же творческое задание. Можно сказать, что желание выполнить творческое задание стимулирует школьников как можно лучше справиться со своими карточками и приступить к процессу перевода координат и построения рисунка. В качестве домашнего задания можно предложить самим нарисовать картинку, записать её координаты и перевести их в одну из изучаемых систем счисления. Такой подход позволяет развивать творческие способности учащихся и применить полученные во время урока навык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едпрофильное обуч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шлые года я вела элективный курс по физике в 9 классе «Измерение физических величин», который имел практическую направленность и заканчивался созданием проекта, который учащиеся по моему совету делали в виде мультимедийной презента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этом году я веду в 9 классе курс «Базы данных – путь к успеху», который тоже предполагает создание проек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e6b"/>
                </a:solidFill>
                <a:latin typeface="Garamond"/>
              </a:rPr>
              <a:t>Проектная работа</a:t>
            </a:r>
            <a:br>
              <a:rPr sz="4400"/>
            </a:b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ab475"/>
                </a:solidFill>
                <a:latin typeface="Garamond"/>
              </a:rPr>
              <a:t>по физике(элективный курс)</a:t>
            </a: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 «Определение силы тяжести и массы линейки с помощью медных монет.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5722920" y="4005360"/>
            <a:ext cx="3421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ыполнил учени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9 б класса МОУ-ООШ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.Золотая степ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армушев Ж.Ж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уководитель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рючкова Т.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           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главл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вед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1" action="ppaction://hlinksldjump"/>
              </a:rPr>
              <a:t>Рисунок опы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2" action="ppaction://hlinksldjump"/>
              </a:rPr>
              <a:t>Расче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3" action="ppaction://hlinksldjump"/>
              </a:rPr>
              <a:t>Вывод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4" action="ppaction://hlinksldjump"/>
              </a:rPr>
              <a:t>Заключени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5" action="ppaction://hlinksldjump"/>
              </a:rPr>
              <a:t>Библиограф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         </a:t>
            </a:r>
            <a:r>
              <a:rPr b="1" lang="ru-RU" sz="4400" spc="-1" strike="noStrike">
                <a:solidFill>
                  <a:srgbClr val="006e6b"/>
                </a:solidFill>
                <a:latin typeface="Garamond"/>
              </a:rPr>
              <a:t>Рисунок опыт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Ход опыт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Я устроил «детские» весы: положил на упор дощечк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одну часть рычага положил линейку на другую положил стопку советских медных монет достоинством 1 коп., что соответствует 1 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ли монеты тяжелее я снимал по одн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лучилось 3 монет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асчет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P=m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= 3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г = 0,003 кг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P= 0,003*10=0,03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]=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г*Н/кг=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ывод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603440"/>
            <a:ext cx="82011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Я измерил на опыте массу линейки с помощью медных монет, а после определил силу тяжести этой линейки. Она равна 0,03 Н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этом опыте мы убедились, что не для каждого физического опыта обязательно использовать специальное оборудование. В некоторых случаях можно использовать подручные средства, некоторые физические опыты можно проводить в домашних услов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Библиограф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ебник по физике 9кл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свещение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.В.Перышкин ,Е.М.Гутни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Что я понимаю под инновациями в образовании?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 инновациями понимаю внедрение и практическое использование в работе передовых педагогических технологий, информационных технологий, владение знаниями последних научных исследований в области педагогики и психолог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ультимедиа-уроки</a:t>
            </a: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льтимедиа-уроки, которые проводятся на основе приложенных к учебнику компьютерных обучающих дисков или делаю свои презента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редства тестирова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сты использую как интерактивные так и на бумажном носител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как готовые тесты так и разрабатываю самостоятель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сты использую как с выбором ответа так и на установление соответств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1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берите устройства, предназначенные для ввода информац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нит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ыш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кроф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кан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нт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1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берите устройства, предназначенные для вывода информац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нит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лон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кроф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кан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нт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ое устройство является главным устройством компьютер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истемный бло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ое устройство предназначено для подключения всех внутренних устройств компьютер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истемный бло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прос №3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внешней       памяти компьютера относятся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лэш-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азерные дис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прос №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внутренней памяти компьютера относится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лэш-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азерные дис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4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именьшая адресуемая часть памяти компьютера  - 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и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ай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ай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ластер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4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чем заключается свойство дискретности внутренней памяти компьютер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ждый байт памяти имеет свой адрес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именьшим элементом внутренней памяти является би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полняемая программа хранится во внутренней памяти компьюте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семь подряд расположенных бит образуют байт памя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ем больше тактовая частота процессора, тем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ше скорость работы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иже скорость работы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ольше объем данных, обрабатываемых за единицу време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иже объем данных, обрабатываемых за единицу време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чего зависит производительность компьютер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характеристик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объема оперативной памя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количества внешних устройств компьюте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типа монит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6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должите предложение: «При отключении  компьютера…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формация сохраняется в оперативной памя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формация сохраняется в регистрах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формация стирается из оперативной памя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6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ля долговременного хранения информации служи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исковод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перативное запоминающее устройств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нешняя памят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20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Вариант 1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/>
        </a:graphic>
      </p:graphicFrame>
      <p:graphicFrame>
        <p:nvGraphicFramePr>
          <p:cNvPr id="210" name=""/>
          <p:cNvGraphicFramePr/>
          <p:nvPr/>
        </p:nvGraphicFramePr>
        <p:xfrm>
          <a:off x="1763640" y="1916280"/>
          <a:ext cx="6077160" cy="3931920"/>
        </p:xfrm>
        <a:graphic>
          <a:graphicData uri="http://schemas.openxmlformats.org/drawingml/2006/table">
            <a:tbl>
              <a:tblPr/>
              <a:tblGrid>
                <a:gridCol w="3038400"/>
                <a:gridCol w="303876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ное обеспечение (П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я, записанная на диск под определенным имен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атирование дис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жество программ, которые управляют работой компьютера и организуют диалог пользователя с операционной систем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ерационная система (ОС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ы, используемые для работы на компьюте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й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оначальная подготовка диска к работе: нанесение магнитных дорожек и секторов на его поверх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ное программное обеспе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то на диске под определенным именем, где хранятся списки файлов и подкаталогов(папок) по определенной тематик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Rectangle 69"/>
          <p:cNvSpPr/>
          <p:nvPr/>
        </p:nvSpPr>
        <p:spPr>
          <a:xfrm>
            <a:off x="0" y="538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20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Вариант 2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ное обеспечение (П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я, записанная на диск под определенным имен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атирование дис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жество программ, которые управляют работой компьютера и организуют диалог пользователя с операционной систем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кладное программное обеспечение(П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ы, используемые для работы на компьюте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й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оначальная подготовка диска к работе: нанесение магнитных дорожек и секторов на его поверх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ное программное обеспе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ы, используемые для работы в конкретной области человеческой деятель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9efee"/>
                </a:solidFill>
                <a:latin typeface="Garamond"/>
              </a:rPr>
              <a:t>Какие инновационные образовательные средства применяю в своей практике?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теорию личностно-ориентированного развит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мультимедиа-уроки, которые проводятся на основе компьютерных обучающих дисков или делаю свои презентац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средства тестирования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проектную технологи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Спасибо за внимание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Личностно-ориентированные технологи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Технологии дифференциации и индивидуализаци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2) Профильное  и предпрофильное обучени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3)  Проектные технологи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Технологии дифференциации и индивидуализации 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Цель дифференцированного обучения - создание оптимальных условий для выявления задатков, развития интересов и способностей; сущность – усвоение программного материала на различных планируемых уровнях, но не ниже обязательного (стандарт)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Технологии дифференциации и индивидуализации 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же строить урок, чтобы учение всем приносило радость познания, пробуждало интерес к предмету и повышало качество образования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дним из наиболее оптимальных решений данного вопроса, на мой взгляд, является использование разноуровневых заданий на различных этапах уро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ъясняю тему для всего класса, если не последует вопросов от учащихся первой группы (сильных учеников), они получают задания творческого характера. Для учащихся второй и третьей групп проводится повторное объяснение темы. Если и здесь не будет вопросов, то учащиеся второй группы получают задания с элементами творчества. Для обучающихся третьей группы ещё раз объясняется материал с использованием таблиц, учебника и даётся практическое задание. Движение вперёд идёт на основе возврата к изученному, усиленного закрепления на большом количестве примеров и упражнений, каждый работает в меру своих сил и возможностей, не теряет интереса к предмет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ноуровневые группы подвижны. Если учащийся второй и третьей групп работает в полную силу, справляется с заданиями, он может перейти в другую группу. Каждый получает справедливо заработанную оценк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 первом этапе изучения темы «Системы счисления», после объяснения теоретического материала учащимся предлагается выполнить ряд заданий для его закрепления. Задания выдаются на карточках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8) - ? (1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16) - ?(1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2) - ? (1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10) - ?(2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16) -- ?(2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8) - ?(2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, усвоившие материал, справляются с простым заданием очень быстро и получают новую карточку с более сложными пример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реведите числа из 2-ой с/с в 8-ую, 16-ую с/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) 1001011102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) 1000001112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) 1110010112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) 10001110112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) 10110010112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5:02:31Z</dcterms:created>
  <dc:creator>Лена</dc:creator>
  <dc:description/>
  <dc:language>en-US</dc:language>
  <cp:lastModifiedBy>LEGION</cp:lastModifiedBy>
  <dcterms:modified xsi:type="dcterms:W3CDTF">2015-04-01T07:49:15Z</dcterms:modified>
  <cp:revision>5</cp:revision>
  <dc:subject/>
  <dc:title>Инновационные технологии на уроках информатики</dc:title>
</cp:coreProperties>
</file>