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FD5D-C155-4CCD-BB67-5369AD0F6D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КТ и ЦОР на уроках информатики в начальной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«Обучая других — обучаюсь сам».</a:t>
            </a:r>
            <a:br>
              <a:rPr sz="1000"/>
            </a:b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известный римский философ Сене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8F6E-E58F-41BE-8257-7DB828EB86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охранить его здоровье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6173-4A2B-4607-B8FD-39C5238DE3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«Всё есть лекарство и всё есть я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Нужно знать меру!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94D3-25C7-44B1-A45C-B19F878A5F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66ff"/>
                </a:solidFill>
                <a:latin typeface="Calibri"/>
              </a:rPr>
              <a:t>По своему целевому назначению обучающие программы разнообразн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правля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агност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нст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нер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е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нтрол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оделирующие и т. 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30FE-F4E7-4787-8158-FFD8195223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Существует несколько вариантов использования компьютера на уро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 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обычном классе с 1 компьютеризированным местом учител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 компьютерном классе (при наличии локальной сети и без неё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D3D4-11C1-4EFB-A45F-6C3E9D522B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0506-C494-4AD8-8E37-E18B366DF6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EB7F-62F5-40BD-83C6-B2B4F26DC6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CFAE-654E-4115-98EE-A589FE3438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C7F6-002B-4E92-A932-889C01E561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4111-5492-4FF2-B168-22D8C8BEAE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ED23-1E13-44C3-B9C7-D621C4D68E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670-5BD0-4287-A1F3-33AC03BA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5DB-F052-401E-90A7-42660520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73D-3F1C-452D-959D-299F3DFE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738-AF6D-40D4-91E6-90F08B62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E6B-23BD-4141-8F79-139D4901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652-A954-49E3-B2F2-D0EF089F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6C0-9FA6-45EE-9ED1-EA71E975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A71-5FC2-4689-BC42-C19979A3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434-C2CC-43BB-AAED-C5412C00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2D9-9070-487A-B18F-9F70551F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5ED-4EFA-4AB5-ABBA-438CAB29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124-758E-4181-91D7-91F08637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1CD4-B6D0-4B07-82B2-4EFC48237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04640"/>
            <a:ext cx="64800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льзование ИКТ и ЦОР на уроках информатики в начальной шк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508428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«Обучая других — обучаюсь сам».</a:t>
            </a:r>
            <a:br>
              <a:rPr sz="2800"/>
            </a:b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известный римский философ 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охранить его здоровь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«Всё есть лекарство и всё есть я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Нужно знать меру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Демокр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8770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о своему целевому назначению обучающие программы разнообраз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гност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нст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ер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ирующие и т. 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48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уществует несколько вариантов использования компьютера на 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обычном классе с 1 компьютеризированным местом учите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В компьютерном классе (при наличии локальной сети и без неё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19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-main-pic" descr="Картинка 14 из 1203"/>
          <p:cNvPicPr/>
          <p:nvPr/>
        </p:nvPicPr>
        <p:blipFill>
          <a:blip r:embed="rId1"/>
          <a:stretch/>
        </p:blipFill>
        <p:spPr>
          <a:xfrm>
            <a:off x="4572000" y="4076640"/>
            <a:ext cx="1666800" cy="195264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2 из 1203"/>
          <p:cNvPicPr/>
          <p:nvPr/>
        </p:nvPicPr>
        <p:blipFill>
          <a:blip r:embed="rId2"/>
          <a:stretch/>
        </p:blipFill>
        <p:spPr>
          <a:xfrm>
            <a:off x="6588000" y="4005360"/>
            <a:ext cx="2232000" cy="22111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48750"/>
          <p:cNvPicPr/>
          <p:nvPr/>
        </p:nvPicPr>
        <p:blipFill>
          <a:blip r:embed="rId1"/>
          <a:stretch/>
        </p:blipFill>
        <p:spPr>
          <a:xfrm>
            <a:off x="6227640" y="0"/>
            <a:ext cx="2305080" cy="1967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70507"/>
          <p:cNvPicPr/>
          <p:nvPr/>
        </p:nvPicPr>
        <p:blipFill>
          <a:blip r:embed="rId1"/>
          <a:stretch/>
        </p:blipFill>
        <p:spPr>
          <a:xfrm>
            <a:off x="6227640" y="0"/>
            <a:ext cx="2232000" cy="1968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1 из 431"/>
          <p:cNvPicPr/>
          <p:nvPr/>
        </p:nvPicPr>
        <p:blipFill>
          <a:blip r:embed="rId1"/>
          <a:stretch/>
        </p:blipFill>
        <p:spPr>
          <a:xfrm>
            <a:off x="6372360" y="0"/>
            <a:ext cx="2381040" cy="33526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-main-pic" descr="Картинка 33 из 431"/>
          <p:cNvPicPr/>
          <p:nvPr/>
        </p:nvPicPr>
        <p:blipFill>
          <a:blip r:embed="rId1"/>
          <a:stretch/>
        </p:blipFill>
        <p:spPr>
          <a:xfrm>
            <a:off x="6156360" y="189000"/>
            <a:ext cx="2400120" cy="3384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12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mart"/>
          <p:cNvPicPr/>
          <p:nvPr/>
        </p:nvPicPr>
        <p:blipFill>
          <a:blip r:embed="rId1"/>
          <a:stretch/>
        </p:blipFill>
        <p:spPr>
          <a:xfrm>
            <a:off x="5796000" y="0"/>
            <a:ext cx="3238560" cy="2409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9280" y="249228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Высокая интерактивность обучающих курсов · Простота в использовании · Богатый визуальный материал (яркая анимация явлений и процессов, 3D-модели, динамические схемы, интерактивные таблицы, фотографии и иллюстрации) · Учебный материал программ представлен в виде логически завершенных отдельных фраг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34:54Z</dcterms:created>
  <dc:creator>Mosina T.V</dc:creator>
  <dc:description/>
  <dc:language>en-US</dc:language>
  <cp:lastModifiedBy>LEGION</cp:lastModifiedBy>
  <dcterms:modified xsi:type="dcterms:W3CDTF">2015-04-01T07:49:35Z</dcterms:modified>
  <cp:revision>6</cp:revision>
  <dc:subject/>
  <dc:title>Использование ИКТ и ЦОР на уроках информатики в начальной школе.</dc:title>
</cp:coreProperties>
</file>