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07EA7-B20C-4535-B622-8BBFA56267F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ИКТ и ЦОР на уроках информатики в начальной шко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ff66cc"/>
                </a:solidFill>
                <a:latin typeface="Calibri"/>
              </a:rPr>
              <a:t>«Обучая других — обучаюсь сам».</a:t>
            </a:r>
            <a:br>
              <a:rPr sz="1000"/>
            </a:br>
            <a:r>
              <a:rPr b="0" i="1" lang="ru-RU" sz="1000" spc="-1" strike="noStrike">
                <a:solidFill>
                  <a:srgbClr val="ff66cc"/>
                </a:solidFill>
                <a:latin typeface="Calibri"/>
              </a:rPr>
              <a:t>известный римский философ Сенек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D6DEF-E253-4B61-9EB7-5B6FB796643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Используя компьютер на уроке нельзя забывать и о том, что мы призваны не только научить ребёнка, но и, по возможности, </a:t>
            </a: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сохранить его здоровье.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По нормам СанПина непрерывная работа за компьютером учащихся начальной школы не должна превышать 10—15 минут за урок. Об этом нужно помнить при подготовке и планировании уро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C8E4F-B83A-44EC-8A8A-BFD9BD5E2D0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«Всё есть лекарство и всё есть я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Нужно знать меру!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Демокри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8AE1C-19E6-4A1B-8421-179D4E964C2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66ff"/>
                </a:solidFill>
                <a:latin typeface="Calibri"/>
              </a:rPr>
              <a:t>По своему целевому назначению обучающие программы разнообразны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Управляющи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Диагностирующи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Демонстрационны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Генерирующи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перационны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онтролирующи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Моделирующие и т. 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1DDAC-9F77-4218-ACD4-919F35EA088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ff"/>
                </a:solidFill>
                <a:latin typeface="Calibri"/>
              </a:rPr>
              <a:t>Существует несколько вариантов использования компьютера на уроке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 </a:t>
            </a: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обычном классе с 1 компьютеризированным местом учителя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, что позволяет, демонстрируя слова учителя, удерживать внимание всего класса на объясняемом материале. Данный вариант удобен при изучении нового материала, фронтальной работе с класс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В компьютерном классе (при наличии локальной сети и без неё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), что позволяет каждому ученику продвигаться по теме урока в собственном темпе, т. е. применяется дифференцированный подход к каждому. Данный вариант целесообразно использовать при отработке навыков и при проведении проверочных, контрольных работ, тестировании. Наличие локальной сети облегчает работу учителя и позволяет ему сразу собирать данные по классу в одном месте, что удобно при проверке и анализе у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26CF3-6C2F-427B-93B9-75FBDFDB80B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ff"/>
                </a:solidFill>
                <a:latin typeface="Calibri"/>
              </a:rPr>
              <a:t>ЦОР, можно использовать на уроках в качестве дополнительного или наглядного материал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собое место среди готовых программных продуктов занимает серия НАЧАЛЬНАЯ ШКОЛА компании Кирилл и Мефод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Это не просто диски, а мультимедийные учебники, разработанные с участием ведущих педагогов-практиков, психологов и дизайнеров. Они включают в себя предметы курса начальной школы: ОБУЧЕНИЕ ГРАМОТЕ, РУССКИЙ ЯЗЫК, МАТЕМАТИКУ, ОКРУЖАЮЩИЙ МИР,ИНФОРМАТИ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C83B6-3916-4178-AFD7-E2797948BDA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ограмма Информатика - эффективное средство для уяснения, повторения и закрепления начальных понятий информатики. Дети узнают, что такое линейный и разветвляющийся алгоритм, научатся составлять алгоритмы и блок-схемы, угадывать алгоритм работы "черного ящика", работать с системой координат и т.д. Задания систематизированы в соответствии со школьным курсом информатики. Это своеобразный электронный репетитор, который следит за каждым вашим шагом, мгновенно реагирует на ошибки, выводит на экран подсказки и "шпаргалки", подводит итоги каждого выполненного варианта и выставляет оценку. Подробные результаты работы сохраняются также в текстовом фай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6B9A1-F8FA-4127-A5A1-662A2170281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Мудрый Дракоша приглашает всех детей в увлекательное путешествие в мир компьютеров. Наш обаятельный гид расскажет вашему ребенку о первых вычислительных машинах и современных операционных системах, о локальных сетях и Интернете, объяснит устройство компьютера и научит первым правилам безопасности. А в перерывах между экскурсиями можно заниматься отстрелом злобных вирусов и прочими забавными мини-игр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6762A-4F23-4BF4-AFFE-3AB6D0F5241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Это яркое, увлекательное, весёлое пособие создано для школьников 1–4 классов. Чтобы помочь детям сделать первый шаг в страну Информатику легко и с удовольствием, задачи в нём представлены в игровой форме. Каждое новое понятие иллюстрируется примерами из обыденной детской жизни (игрушки, зверюшки, фрукты, овощи, семья, сказки), где ребёнку всё знакомо и ничто его не пугает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Материал пособия разбит на главы по классам, и потому в оглавлении встречаются повторяющиеся названия. Но содержание одноименных глав различается: из класса в класс раскрытие тем постепенно усложняется, освещаются их новые стороны и особенности. Эти занятия развивают у ребёнка абстрактное мышление, способность думать логически, принимать правильные обоснованные решения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Диск может быть использован как для самостоятельного обучения, так и в качестве пособия для работы в клас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F46E7-25B2-4941-9882-81EE9B6172A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Игры любимы всеми. Но особенно - детьми. Поэтому основу образовательного комплекса (ОК) «Игры и задачи, 1-4 классы» составили красочные интерактивные задания и игровые тренажеры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одержание ОК охватывает основные предметные линии начального образования: обучение грамоте, русский язык, литературное чтение, математика, информатика, окружающий мир, технология и искус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6251E-3961-41A2-AF36-89FB506443C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ff"/>
                </a:solidFill>
                <a:latin typeface="Calibri"/>
              </a:rPr>
              <a:t>Комплект интерактивных учебно-методических образовательных программных комплексов серии «УМНИК»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66473-315D-4011-A6B2-3BDA64813B6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4F52-89BA-470F-A17D-09C824A3D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5CF4-23C3-4897-9647-074B676E3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4779-1242-4891-B984-0FA13AEA3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08C5-85B4-4A05-B0DF-C0EA5CA98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E2C4-BB7C-4966-ACB6-B8EA1E559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0808-121E-4F26-AD13-0FA4DDE05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A7A7-A962-4476-9A25-24E095A07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AB81-F7A8-496D-85EA-B8B4B9281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062B-76D0-4BC3-A342-05778E308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EF67-E98B-4704-9A8C-41C0F9835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69CD-FB58-4F54-A3EC-6CDDB1798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5AD5-B35C-4A3C-BA16-167725838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2F68E-DBD2-412F-837F-2F7BDF4F9D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19280" y="2204640"/>
            <a:ext cx="6480000" cy="16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спользование ИКТ и ЦОР на уроках информатики в начальной школ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692360" y="5084280"/>
            <a:ext cx="6400800" cy="12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66cc"/>
                </a:solidFill>
                <a:latin typeface="Arial"/>
              </a:rPr>
              <a:t>«Обучая других — обучаюсь сам».</a:t>
            </a:r>
            <a:br>
              <a:rPr sz="2800"/>
            </a:br>
            <a:r>
              <a:rPr b="0" i="1" lang="ru-RU" sz="2800" spc="-1" strike="noStrike">
                <a:solidFill>
                  <a:srgbClr val="ff66cc"/>
                </a:solidFill>
                <a:latin typeface="Arial"/>
              </a:rPr>
              <a:t>известный римский философ Сен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пользуя компьютер на уроке нельзя забывать и о том, что мы призваны не только научить ребёнка, но и, по возможности, </a:t>
            </a:r>
            <a:r>
              <a:rPr b="0" lang="ru-RU" sz="2800" spc="-1" strike="noStrike">
                <a:solidFill>
                  <a:srgbClr val="ff66ff"/>
                </a:solidFill>
                <a:latin typeface="Arial"/>
              </a:rPr>
              <a:t>сохранить его здоровье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ffff"/>
                </a:solidFill>
                <a:latin typeface="Arial"/>
              </a:rPr>
              <a:t>По нормам СанПина непрерывная работа за компьютером учащихся начальной школы не должна превышать 10—15 минут за урок. Об этом нужно помнить при подготовке и планировании урок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11280" y="2492280"/>
            <a:ext cx="8229600" cy="19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ff"/>
                </a:solidFill>
                <a:latin typeface="Arial"/>
              </a:rPr>
              <a:t>«Всё есть лекарство и всё есть я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ff"/>
                </a:solidFill>
                <a:latin typeface="Arial"/>
              </a:rPr>
              <a:t>Нужно знать меру!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ru-RU" sz="3200" spc="-1" strike="noStrike">
                <a:solidFill>
                  <a:srgbClr val="00ffff"/>
                </a:solidFill>
                <a:latin typeface="Arial"/>
              </a:rPr>
              <a:t>Демокри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687708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ff"/>
                </a:solidFill>
                <a:latin typeface="Arial"/>
              </a:rPr>
              <a:t>По своему целевому назначению обучающие программы разнообразн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правляющи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иагностирующи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монстрационны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енерирующи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ерационны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нтролирующи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делирующие и т. 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648036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ff"/>
                </a:solidFill>
                <a:latin typeface="Arial"/>
              </a:rPr>
              <a:t>Существует несколько вариантов использования компьютера на урок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91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 </a:t>
            </a:r>
            <a:r>
              <a:rPr b="0" lang="ru-RU" sz="2000" spc="-1" strike="noStrike">
                <a:solidFill>
                  <a:srgbClr val="ff66ff"/>
                </a:solidFill>
                <a:latin typeface="Arial"/>
              </a:rPr>
              <a:t>обычном классе с 1 компьютеризированным местом учител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что позволяет, демонстрируя слова учителя, удерживать внимание всего класса на объясняемом материале. Данный вариант удобен при изучении нового материала, фронтальной работе с класс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ff"/>
                </a:solidFill>
                <a:latin typeface="Arial"/>
              </a:rPr>
              <a:t>В компьютерном классе (при наличии локальной сети и без неё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, что позволяет каждому ученику продвигаться по теме урока в собственном темпе, т. е. применяется дифференцированный подход к каждому. Данный вариант целесообразно использовать при отработке навыков и при проведении проверочных, контрольных работ, тестировании. Наличие локальной сети облегчает работу учителя и позволяет ему сразу собирать данные по классу в одном месте, что удобно при проверке и анализе уро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641988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ff"/>
                </a:solidFill>
                <a:latin typeface="Arial"/>
              </a:rPr>
              <a:t>ЦОР, можно использовать на уроках в качестве дополнительного или наглядного материа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обое место среди готовых программных продуктов занимает серия НАЧАЛЬНАЯ ШКОЛА компании Кирилл и Мефод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то не просто диски, а мультимедийные учебники, разработанные с участием ведущих педагогов-практиков, психологов и дизайнеров. Они включают в себя предметы курса начальной школы: ОБУЧЕНИЕ ГРАМОТЕ, РУССКИЙ ЯЗЫК, МАТЕМАТИКУ, ОКРУЖАЮЩИЙ МИР,ИНФОРМАТИ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i-main-pic" descr="Картинка 14 из 1203"/>
          <p:cNvPicPr/>
          <p:nvPr/>
        </p:nvPicPr>
        <p:blipFill>
          <a:blip r:embed="rId1"/>
          <a:stretch/>
        </p:blipFill>
        <p:spPr>
          <a:xfrm>
            <a:off x="4572000" y="4076640"/>
            <a:ext cx="1666800" cy="1952640"/>
          </a:xfrm>
          <a:prstGeom prst="rect">
            <a:avLst/>
          </a:prstGeom>
          <a:ln w="0">
            <a:noFill/>
          </a:ln>
        </p:spPr>
      </p:pic>
      <p:pic>
        <p:nvPicPr>
          <p:cNvPr id="60" name="i-main-pic" descr="Картинка 2 из 1203"/>
          <p:cNvPicPr/>
          <p:nvPr/>
        </p:nvPicPr>
        <p:blipFill>
          <a:blip r:embed="rId2"/>
          <a:stretch/>
        </p:blipFill>
        <p:spPr>
          <a:xfrm>
            <a:off x="6588000" y="4005360"/>
            <a:ext cx="2232000" cy="221112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рограмма Информатика - эффективное средство для уяснения, повторения и закрепления начальных понятий информатики. Дети узнают, что такое линейный и разветвляющийся алгоритм, научатся составлять алгоритмы и блок-схемы, угадывать алгоритм работы "черного ящика", работать с системой координат и т.д. Задания систематизированы в соответствии со школьным курсом информатики. Это своеобразный электронный репетитор, который следит за каждым вашим шагом, мгновенно реагирует на ошибки, выводит на экран подсказки и "шпаргалки", подводит итоги каждого выполненного варианта и выставляет оценку. Подробные результаты работы сохраняются также в текстовом файл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148750"/>
          <p:cNvPicPr/>
          <p:nvPr/>
        </p:nvPicPr>
        <p:blipFill>
          <a:blip r:embed="rId1"/>
          <a:stretch/>
        </p:blipFill>
        <p:spPr>
          <a:xfrm>
            <a:off x="6227640" y="0"/>
            <a:ext cx="2305080" cy="196704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удрый Дракоша приглашает всех детей в увлекательное путешествие в мир компьютеров. Наш обаятельный гид расскажет вашему ребенку о первых вычислительных машинах и современных операционных системах, о локальных сетях и Интернете, объяснит устройство компьютера и научит первым правилам безопасности. А в перерывах между экскурсиями можно заниматься отстрелом злобных вирусов и прочими забавными мини-игр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170507"/>
          <p:cNvPicPr/>
          <p:nvPr/>
        </p:nvPicPr>
        <p:blipFill>
          <a:blip r:embed="rId1"/>
          <a:stretch/>
        </p:blipFill>
        <p:spPr>
          <a:xfrm>
            <a:off x="6227640" y="0"/>
            <a:ext cx="2232000" cy="196848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то яркое, увлекательное, весёлое пособие создано для школьников 1–4 классов. Чтобы помочь детям сделать первый шаг в страну Информатику легко и с удовольствием, задачи в нём представлены в игровой форме. Каждое новое понятие иллюстрируется примерами из обыденной детской жизни (игрушки, зверюшки, фрукты, овощи, семья, сказки), где ребёнку всё знакомо и ничто его не пугает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териал пособия разбит на главы по классам, и потому в оглавлении встречаются повторяющиеся названия. Но содержание одноименных глав различается: из класса в класс раскрытие тем постепенно усложняется, освещаются их новые стороны и особенности. Эти занятия развивают у ребёнка абстрактное мышление, способность думать логически, принимать правильные обоснованные решения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иск может быть использован как для самостоятельного обучения, так и в качестве пособия для работы в класс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i-main-pic" descr="Картинка 1 из 431"/>
          <p:cNvPicPr/>
          <p:nvPr/>
        </p:nvPicPr>
        <p:blipFill>
          <a:blip r:embed="rId1"/>
          <a:stretch/>
        </p:blipFill>
        <p:spPr>
          <a:xfrm>
            <a:off x="6372360" y="0"/>
            <a:ext cx="2381040" cy="335268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ы любимы всеми. Но особенно - детьми. Поэтому основу образовательного комплекса (ОК) «Игры и задачи, 1-4 классы» составили красочные интерактивные задания и игровые тренажеры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держание ОК охватывает основные предметные линии начального образования: обучение грамоте, русский язык, литературное чтение, математика, информатика, окружающий мир, технология и искус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i-main-pic" descr="Картинка 33 из 431"/>
          <p:cNvPicPr/>
          <p:nvPr/>
        </p:nvPicPr>
        <p:blipFill>
          <a:blip r:embed="rId1"/>
          <a:stretch/>
        </p:blipFill>
        <p:spPr>
          <a:xfrm>
            <a:off x="6156360" y="189000"/>
            <a:ext cx="2400120" cy="338436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60120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ff"/>
                </a:solidFill>
                <a:latin typeface="Arial"/>
              </a:rPr>
              <a:t>Комплект интерактивных учебно-методических образовательных программных комплексов серии «УМНИК»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smart"/>
          <p:cNvPicPr/>
          <p:nvPr/>
        </p:nvPicPr>
        <p:blipFill>
          <a:blip r:embed="rId1"/>
          <a:stretch/>
        </p:blipFill>
        <p:spPr>
          <a:xfrm>
            <a:off x="5796000" y="0"/>
            <a:ext cx="3238560" cy="240984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179280" y="2492280"/>
            <a:ext cx="820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Arial"/>
              </a:rPr>
              <a:t>Высокая интерактивность обучающих курсов · Простота в использовании · Богатый визуальный материал (яркая анимация явлений и процессов, 3D-модели, динамические схемы, интерактивные таблицы, фотографии и иллюстрации) · Учебный материал программ представлен в виде логически завершенных отдельных фрагме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04:34:54Z</dcterms:created>
  <dc:creator>Mosina T.V</dc:creator>
  <dc:description/>
  <dc:language>en-US</dc:language>
  <cp:lastModifiedBy>LEGION</cp:lastModifiedBy>
  <dcterms:modified xsi:type="dcterms:W3CDTF">2015-04-01T07:49:35Z</dcterms:modified>
  <cp:revision>6</cp:revision>
  <dc:subject/>
  <dc:title>Использование ИКТ и ЦОР на уроках информатики в начальной школе.</dc:title>
</cp:coreProperties>
</file>