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063-F84A-450B-B87C-20832B1758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менение ЦОР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уроках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D65D-B2CD-4034-A99B-06E5A5D1E5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«Современная Россия глазами детей». Это урок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25AB-9FFC-45E5-9D81-62C6C61AF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446-BD0A-4C0D-B2B5-C09FDC176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7657-5A12-4B54-9D39-C4C27F116E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4D30-4887-418C-AFF0-D4761F43A4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chool-collection.edu.ru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231-5401-4E11-8FE7-CA9C22EE8A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C22C-6946-4D13-B9EB-FEA978F99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5FD-9536-4202-871D-5A7946F82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48D-CA17-44A0-B562-31DAE3421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музыка (работы на Всероссийскую олимпиаду по искусству и музык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истор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2CD-5A48-4C01-BDC0-7AD94D4C7F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CA29-98B9-4D3E-8A20-087B432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19FD-41A4-44DF-AEB9-C05C086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5E54-3A90-4CD1-BA39-8A700098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B42D-2C0D-48A6-9E4D-960003C3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7C50-33C0-4DA3-B590-8DD62F08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7B21-641F-4E47-9837-82E851A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3418-F280-454D-A7FA-FF03AD0F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4E23-20F6-4DCB-930B-621C9EDA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2278-B08E-4161-90C8-379D935D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F007-49DE-4BDA-8D31-51917FF4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7381-3195-4439-AF84-4574E4E5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4BB1-E20D-4274-8DD3-75822AE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DA2C-6DE8-4876-947F-CE6F951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D74-1E9A-45D2-887F-324D653D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BFBD-80D9-4831-AD8B-9BCA9CCB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182B-4265-4FA1-86DA-10E0BA36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E37-D380-419C-BBDF-0331C661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162B-0024-4BE3-9592-FD88FDF2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6413-4975-46DD-8AEB-004F48E2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986A-AA3A-4B1E-B1E6-AA0FF00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5A8B-83D4-48FA-82A6-EF19752A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D402-15FD-413C-AAAA-74CE718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DE0E-505A-4348-A1FE-AC42D17D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A277-F7F7-419F-BC39-DFDC20D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AD8-99F7-4181-91A0-D1477BBDEB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B8C-35CB-40FB-B2F8-A896B28F53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7;&#1077;&#1084;&#1080;&#1085;&#1072;&#1088;%20&#1045;&#1082;&#1080;&#1084;&#1086;&#1074;&#1072;/&#1091;&#1088;&#1086;&#1082;%20&#1089;&#1086;&#1074;&#1088;&#1077;&#1084;&#1077;&#1085;&#1085;&#1072;&#1103;%20&#1056;&#1086;&#1089;&#1089;&#1080;&#1103;%20&#1075;&#1083;&#1072;&#1079;&#1072;&#1084;&#1080;%20&#1076;&#1077;&#1090;&#1077;&#1081;.ppt" TargetMode="External"/><Relationship Id="rId2" Type="http://schemas.openxmlformats.org/officeDocument/2006/relationships/hyperlink" Target="file:///&#1057;&#1077;&#1084;&#1080;&#1085;&#1072;&#1088;%20&#1045;&#1082;&#1080;&#1084;&#1086;&#1074;&#1072;/&#1054;&#1090;&#1082;&#1088;&#1099;&#1090;&#1099;&#1081;%20&#1091;&#1088;&#1086;&#1082;%20&#1076;&#1083;&#1103;%20&#1087;&#1088;&#1077;&#1079;&#1080;&#1076;&#1077;&#1085;&#1090;&#1072;%20&#1056;&#1086;&#1089;&#1089;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hyperlink" Target="file:///&#1054;&#1083;&#1080;&#1084;&#1087;&#1080;&#1072;&#1076;&#1072;.%20&#1045;&#1082;&#1080;&#1084;&#1086;&#1074;&#1072;%20&#1053;&#1080;&#1085;&#1072;/&#1054;&#1083;&#1080;&#1084;&#1087;&#1080;&#1072;&#1076;&#1072;%20&#1084;&#1091;&#1079;&#1099;&#1082;&#1072;%20&#1053;&#1080;&#1085;&#1072;%20&#1045;&#1082;&#1080;&#1084;&#1086;&#1074;&#1072;%20&#1043;&#1054;&#1059;&#1057;&#1054;&#1064;%20&#8470;%20264.ppt" TargetMode="External"/><Relationship Id="rId5" Type="http://schemas.openxmlformats.org/officeDocument/2006/relationships/hyperlink" Target="file:///&#1041;&#1072;&#1083;&#1099;%20&#1074;%20XVIII%20&#1074;%20&#1055;&#1077;&#1090;&#1077;&#1088;&#1073;&#1091;&#1088;&#1075;&#1077;.ppt" TargetMode="External"/><Relationship Id="rId6" Type="http://schemas.openxmlformats.org/officeDocument/2006/relationships/hyperlink" Target="file:///&#1050;&#1091;&#1079;&#1085;&#1077;&#1094;&#1086;&#1074;&#1072;%20&#1050;/&#1055;&#1088;&#1077;&#1079;&#1077;&#1085;&#1090;&#1072;&#1094;&#1080;&#1103;/Adobe%20Photoshop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Применение ЦОР </a:t>
            </a:r>
            <a:br>
              <a:rPr sz="4600"/>
            </a:b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на уроках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84000" y="4437000"/>
            <a:ext cx="64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«Современная Россия глазами детей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Это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уро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M900178307[1]"/>
          <p:cNvPicPr/>
          <p:nvPr/>
        </p:nvPicPr>
        <p:blipFill>
          <a:blip r:embed="rId3"/>
          <a:stretch/>
        </p:blipFill>
        <p:spPr>
          <a:xfrm>
            <a:off x="6588000" y="4940280"/>
            <a:ext cx="117180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M900254490[1]"/>
          <p:cNvPicPr/>
          <p:nvPr/>
        </p:nvPicPr>
        <p:blipFill>
          <a:blip r:embed="rId1"/>
          <a:stretch/>
        </p:blipFill>
        <p:spPr>
          <a:xfrm>
            <a:off x="630072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M900283268[1]"/>
          <p:cNvPicPr/>
          <p:nvPr/>
        </p:nvPicPr>
        <p:blipFill>
          <a:blip r:embed="rId1"/>
          <a:stretch/>
        </p:blipFill>
        <p:spPr>
          <a:xfrm>
            <a:off x="7164360" y="5162400"/>
            <a:ext cx="1203480" cy="1189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school-collection.edu.ru/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M900283757[1]"/>
          <p:cNvPicPr/>
          <p:nvPr/>
        </p:nvPicPr>
        <p:blipFill>
          <a:blip r:embed="rId3"/>
          <a:stretch/>
        </p:blipFill>
        <p:spPr>
          <a:xfrm>
            <a:off x="4643280" y="4437000"/>
            <a:ext cx="288144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247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C900345651[1]"/>
          <p:cNvPicPr/>
          <p:nvPr/>
        </p:nvPicPr>
        <p:blipFill>
          <a:blip r:embed="rId1"/>
          <a:stretch/>
        </p:blipFill>
        <p:spPr>
          <a:xfrm>
            <a:off x="6372360" y="4869000"/>
            <a:ext cx="163656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900234103[1]"/>
          <p:cNvPicPr/>
          <p:nvPr/>
        </p:nvPicPr>
        <p:blipFill>
          <a:blip r:embed="rId2"/>
          <a:stretch/>
        </p:blipFill>
        <p:spPr>
          <a:xfrm>
            <a:off x="826920" y="5229360"/>
            <a:ext cx="2217960" cy="1412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C900215934[1]"/>
          <p:cNvPicPr/>
          <p:nvPr/>
        </p:nvPicPr>
        <p:blipFill>
          <a:blip r:embed="rId1"/>
          <a:stretch/>
        </p:blipFill>
        <p:spPr>
          <a:xfrm>
            <a:off x="3419640" y="3141720"/>
            <a:ext cx="230472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M900286755[1]"/>
          <p:cNvPicPr/>
          <p:nvPr/>
        </p:nvPicPr>
        <p:blipFill>
          <a:blip r:embed="rId1"/>
          <a:stretch/>
        </p:blipFill>
        <p:spPr>
          <a:xfrm>
            <a:off x="7308720" y="5445000"/>
            <a:ext cx="1440000" cy="1413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Информатика и музыка (работы на Всероссийскую олимпиаду по искусству и музы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Информатика и история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2:40Z</dcterms:created>
  <dc:creator>user</dc:creator>
  <dc:description/>
  <dc:language>en-US</dc:language>
  <cp:lastModifiedBy>LEGION</cp:lastModifiedBy>
  <dcterms:modified xsi:type="dcterms:W3CDTF">2015-04-01T07:50:42Z</dcterms:modified>
  <cp:revision>16</cp:revision>
  <dc:subject/>
  <dc:title>Применение ЦОР  на уроках информатики</dc:title>
</cp:coreProperties>
</file>