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17F5-9BB5-4084-B352-23BE113885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slide" Target="../slides/slide14.xml"/><Relationship Id="rId3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catalog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6F7D-16F5-4324-9A1C-3AF7B7FF720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зор УМК по информатике на 2009-2010 учебный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а Горбунова Татьяна Михайловна, методист ГОУ РК «ИПКР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E848-3E81-43C1-9826-CAFC617D3F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школ будут осуществлять свою дальнейшую деятельность в различных социальных и экономических системах, а они представляют собой открытые системы (предсказать их поведение можно только в очень ограниченных пространственных и временных масштабах). В этом случае традиционный технологический подход , предполагающий стандартизированную последовательность действий, ведущих к достижению поставленной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отдельного раздела «Информационные технологии», компьютерные технологии входят в каждую тему в качестве практику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ым качеством выпускника становится умение оценивать окружающую среду, свою информационную деятельность и принимать обоснованные решения о возможных путях её осуществления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социальной информатики изучаются с использованием понятий информационного взаимодействия и информационной моде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ли может дать сб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Гейн А.Г.,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нокосов А.И.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Юнерман Н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ы общеобразовательных учреждений. Информатика. 2-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Информатика и информационные технологи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, 9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Информатика и информационные технологии. Книги для учителя. 8,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Информатика и информационные технологии. Задачник-практикум. 8-9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. А.Г. и др. Информатика и информационные технологии. Рабочая тетрадь. 8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. А.Г. и др. Информатика и информационные технологии. Тематические тесты. 8 к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9966-53DF-42DD-89F9-2BBA86EC92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карова Н.В.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состоит из трех разделов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Информационная картина мир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ормируется представление об информации и информационных процессах, об объекте, системе и их моделях, рассматриваются основные этапы моделирования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рограммное обеспечение информационных технологий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учаются основы алгоритмизации, формируется представление о программах, системном и прикладном программном обеспечении. В раздел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Техническое обеспечение информационных технологий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чащиеся знакомятся с аппаратной частью компьютеров и логическими основами построения компьюте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A67F-0526-4843-BF50-1AC266D5ED7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карова Н.В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практикума — обучить школьников работе на компьютере в операционной системе Windows XP, графическом редакторе Paint, в приложениях пакета Microsoft Office 2003 (текстовом процессоре Word, табличном процессоре Excel, системе управления базой данных Access); технологии работы в сети Интернет. Рассматриваются основы программирования в среде Лого и основы алгоритм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4BA3-DDC3-4AC0-A1F9-6BCE3818FA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VD-приложение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ые тематические и поурочные планы со ссылками на практический и теоретический матери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и на интернет-ресурсы, которые содержат актуальный учебный матери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ые программные ресурсы, видеоуроки по тем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е последние тесты и задания для успешной сдачи ЕГЭ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B482-455F-4508-B0AE-A489FA723D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кадоров Ю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кадоров Ю.А. Информатика и ИКТ: Учебник 8 кл. +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кадоров Ю.А. Информатика и ИКТ: Учебник 9 кл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+ C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AD43-CA46-4DE6-80DA-C25B5FCFBA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ыкадоров Ю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р использует в качестве языка программирования - язык сценариев Java Scrip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иске только файлы к заданиям учебника, для учителя нет никакой методической литера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8 классе коллеги рекомендуют +1ч. из школьного компонента, т.к. объём материала больш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0BA1-9D9C-4CBD-ACFB-8A704C8895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базовый уровень)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базовый уровень)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www.metod-kopilk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02A0-CF2E-4EBB-9F3D-AD622687B45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йн А.Г. 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ав УМ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тика и ИКТ (базовый и профильный уровни). Учебники 10, 11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н А.Г. и др. Книга для учителя 10,11 к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рюхин В.М. Информатика: всероссийские олимпиады. Выпуск 1,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зиев В.М. Информатика. Задачи и тесты. Профильная шко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иев В.М. Информатика в примерах и задачах. Профильная шко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80BB-12A6-40AD-938B-01C428ECDD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зов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B1CE-855B-4FAE-9F45-C695C0A4A6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A5D3-02A1-4B16-AD32-A158311845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макин И.Г., Залогова Л.А., Русаков С.В., Шестакова Л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ник-практикум 8-11 (в 2-х т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ое пособие «Преподавание базового курса информатики в средней школ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аты 7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ОР для 8-9 Единой коллек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hool-collection.edu.ru/catalo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нформатика и ИКТ (профильный уровень)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ринович Н.Д. Исследование информационных моделей. Элективный курс: учебное пособие. 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-RO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кин И.Г., Хеннер Е.К. Информационные системы и модели. Элективный курс. Учебное пособие. Методическое пособие. Практик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BBBA-F3B4-4169-B878-7C12427E88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ошин М.Е., Рессин А.А., Юнусов С.М. под ред. Кузнецова А.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 и ИКТ. 10-11 классы (в 2-х частя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к учебник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CD-RO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1 и 2 части)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C86C-14EF-4E64-A7A2-688FF82364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няя школ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учебника составляют следующие содержательные линии: мировоззренческая, логико-алгоритмическая, информационно-технологическая и моделирующ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содержит весь необходимый теоретический материал для получения сертификата ECDL (The European Computer Driving Licence - Европейские компьютерные права или ICDL - Международные компьютерные права), который является общепризнанным мировым стандартом компьютерной грамотности для пользов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зык программирования Delph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08AA-A685-4A35-BA2C-CDBDBD7DE7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668E-B797-489E-B168-BE8A40488B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макин И.Г. и др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ская концеп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с позици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ьютер моделирует информационную функцию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ое назначение компьютера (инструмент для работы с информацией, для информационного моделирования, для обеспечения работы в сетя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моделирование (разные формы представления данн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Д – статическая информационная модель, ЭТ и реляционная БД – табличная форма информационной модели с элементами динамики и математического моделирования предметн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омпьютера в управ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ирование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 и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E771-0DF9-49C1-8348-7B4D2C3592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макин И.Г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оинства УМ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упность изложения матер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тивность препода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ская на сайте Би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FEAF-4472-4D45-8E5D-CD7C54BAF4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гринович Н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ическое пособие  «Преподавание курса «Информатика и ИКТ» в основной и старшей школе. 8-11 класс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ОР 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2A99-5326-4F48-A306-025F1BBBDA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гринович Н.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дин из первых учебников по информатике, который стал отвечать современным запросам общества на информационное 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ет образовательному стандарту по информатике и И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быть использован для преподавания информатики как в операционной систем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так и в свободно распространяемой операционной системе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ирование н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ual 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ская на сайте Бин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3E99-F06F-487A-9780-3A51821952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, Бешенков С.А., Ракитина Е.А (допуще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учебник для 8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учебник для 9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: сборник типовых задач для 8-9 кла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, 8: книга для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тика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 книга для уч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6729-8834-4E9C-8F5B-EF9E5427BE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8 класса практически целиком посвящена обсуждению различных аспектов представления информации.  Именно по линии представления информации осуществляются межпредметные связи информатики с другими школьными дисциплинами. Впервые вводится понятие информационного взаимодействия. В этих взаимодействиях  и возникают 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CD2D-F8FC-48FE-9FDF-B895DCAAAD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узнецов А. А.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9 классе внимание сосредоточено на вопросах преобразования информации. При изучении темы «Программирование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язык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cal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является не программа как таковая, а задача, которая решается с помощью этой программы. Алгоритм и программа являются моделью деятельности субъекта по решению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25B6A-255B-419F-9B49-043B1F6A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50E46-12F1-43E7-9684-5C23F9B1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30A4A-82D7-4B83-9EAE-FBDC30BC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A927-8B69-4CEB-8FEE-51848620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6882-6AAC-4AB3-979A-FC29CCD3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F491-530B-4142-A806-491889D9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14E4-3288-4D53-B213-95988308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01F6-8654-41D3-BC28-B96A9701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A07C-534E-4CC3-A777-711EAC25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1845-08D5-4204-8395-32F72E5F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BCB9-AFD8-4510-9D86-E88EDA41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59852-6343-45BA-B137-59AB7AD8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F908-F558-4DE5-952F-068C8E75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1CFD-D043-4F56-BAB5-3BFF8C83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7291-1FBF-4ECB-957B-0F55CDEB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3029-E1F1-478A-B3BE-7F999AF0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B616-9AC4-4FBB-A34C-0BFC7966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9741C-1847-4BBF-8F89-356739F3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A440B-7003-4D44-8B20-20EE4DB1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D10FC-3FA2-4E2F-8E41-90C7311F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C4FAF-8372-4EC5-862F-12160F54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4739B-8F3A-45AC-8DCB-1E1E989C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881F4-9DC5-4CFF-B501-BA273A34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9CB6-A152-43F8-ADAD-E13A9E0D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26A3-640F-46D5-9B17-343A0813E86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BDFC-F19E-4D87-8588-61BCE691D61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makarova.piter.com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chool-collection.edu.ru/catalo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Arial"/>
              </a:rPr>
              <a:t>Обзор УМК по информатике на 2009-2010 учебный год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одготовила Горбунова Татьяна Михайловна, методист ГОУ РК «ИПКРО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т отдельного раздела «Информационные технологии», компьютерные технологии входят в каждую тему в качестве практику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жным качеством выпускника становится умение оценивать окружающую среду, свою информационную деятельность и принимать обоснованные решения о возможных путях её осуществления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лементы социальной информатики изучаются с использованием понятий информационного взаимодействия и информационной мод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Гейн А.Г.,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нокосов А.И.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Юнерман Н.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19280" y="1981080"/>
            <a:ext cx="706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ы общеобразовательных учреждений. Информатика. 2-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 и др. Информатика и информационные технологии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чебник 8, 9 клас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 и др. Информатика и информационные технологии. Книги для учителя. 8,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 А.Г.Информатика и информационные технологии. Задачник-практикум. 8-9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. А.Г. и др. Информатика и информационные технологии. Рабочая тетрадь. 8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йн. А.Г. и др. Информатика и информационные технологии. Тематические тесты. 8 к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карова Н.В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8000" y="1981080"/>
            <a:ext cx="6778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ик состоит из трех разделов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нформационная картина мир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формируется представление об информации и информационных процессах, об объекте, системе и их моделях, рассматриваются основные этапы моделирования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рограммное обеспечение информационных технологий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зучаются основы алгоритмизации, формируется представление о программах, системном и прикладном программном обеспечении. В разделе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Техническое обеспечение информационных технологий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чащиеся знакомятся с аппаратной частью компьютеров и логическими основами построения компьюте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карова Н.В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 практикума — обучить школьников работе на компьютере в операционной системе Windows XP, графическом редакторе Paint, в приложениях пакета Microsoft Office 2003 (текстовом процессоре Word, табличном процессоре Excel, системе управления базой данных Access); технологии работы в сети Интернет. Рассматриваются основы программирования в среде Лого и основы алгоритмиза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DVD-приложение включае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активные тематические и поурочные планы со ссылками на практический и теоретический материа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сылки на интернет-ресурсы, которые содержат актуальный учебный материа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полнительные программные ресурсы, видеоуроки по тем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ые последние тесты и задания для успешной сдачи ЕГЭ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0" y="2492280"/>
            <a:ext cx="1527120" cy="15177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кадоров Ю.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284720" y="1981080"/>
            <a:ext cx="440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кадоров Ю.А. Информатика и ИКТ: Учебник 8 кл.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кадоров Ю.А. Информатика и ИКТ: Учебник 9 кл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1897200" cy="2736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2124000" y="2997360"/>
            <a:ext cx="1868400" cy="2736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 rot="16200000">
            <a:off x="-1113840" y="342684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РОФ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кадоров Ю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 использует в качестве языка программирования - язык сценариев Java Scrip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диске только файлы к заданиям учебника, для учителя нет никакой методической литератур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8 классе коллеги рекомендуют +1ч. из школьного компонента, т.к. объём материала больш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азов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базовый уровень)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базовый уровень) 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тика и ИКТ. Базовый уровень: учебник для 10-11 клас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http://www.metod-kopilka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 rot="16200000">
            <a:off x="-1042560" y="306648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йн А.Г. 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7272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став УМ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тика и ИКТ (базовый и профильный уровни). Учебники 10, 11 клас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йн А.Г. и др. Книга для учителя 10,11 к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ирюхин В.М. Информатика: всероссийские олимпиады. Выпуск 1, 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зиев В.М. Информатика. Задачи и тесты. Профильная шко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иев В.М. Информатика в примерах и задачах. Профильная шко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в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3900"/>
            </a:b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Базовый уровень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851280" y="5373720"/>
            <a:ext cx="424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makarova.piter.com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итер Прес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9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1763640" cy="216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0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1751040" cy="21607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макин И.Г., Залогова Л.А., Русаков С.В., Шестакова Л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ник-практикум 8-11 (в 2-х т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ическое пособие «Преподавание базового курса информатики в средней школ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лакаты 7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ОР для 8-9 Единой колле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http://school-collection.edu.ru/catalo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нформатика и ИКТ (профильный уровень)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ринович Н.Д. Исследование информационных моделей. Элективный курс: учебное пособие. 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-RO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макин И.Г., Хеннер Е.К. Информационные системы и модели. Элективный курс. Учебное пособие. Методическое пособие. Практику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18920" y="47628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02920" y="2060640"/>
            <a:ext cx="7489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ошин М.Е., Рессин А.А., Юнусов С.М. под ред. Кузнецова А.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 и ИКТ. 10-11 классы (в 2-х частя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ложение к учебнику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CD-ROM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1 и 2 части)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 rot="16200000">
            <a:off x="-1113840" y="342684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ДРОФ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ьный урове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у учебника составляют следующие содержательные линии: мировоззренческая, логико-алгоритмическая, информационно-технологическая и моделирующа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ик содержит весь необходимый теоретический материал для получения сертификата ECDL (The European Computer Driving Licence - Европейские компьютерные права или ICDL - Международные компьютерные права), который является общепризнанным мировым стандартом компьютерной грамотности для пользоват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зык программирования Delph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14348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макин И.Г. и др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вторская концеп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я с позиции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 моделирует информационную функцию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кладное назначение компьютера (инструмент для работы с информацией, для информационного моделирования, для обеспечения работы в сетя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ое моделирование (разные формы представления данных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Д – статическая информационная модель, ЭТ и реляционная БД – табличная форма информационной модели с элементами динамики и математического моделирования предметн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нение компьютера в управле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граммирование 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ые технологии и обще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520" y="457200"/>
            <a:ext cx="72165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емакин И.Г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оинства УМ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н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ность изложения матери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риативность препода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стерская на сайте Би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гринович Н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ическое пособие  «Преподавание курса «Информатика и ИКТ» в основной и старшей школе. 8-11 классы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ОР 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БИ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гринович Н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Это один из первых учебников по информатике, который стал отвечать современным запросам общества на информационное образ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ответствует образовательному стандарту по информатике и ИКТ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ожет быть использован для преподавания информатики как в операционной системе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, так и в свободно распространяемой операционной системе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nu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ирование на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sual Bas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Мастерская на сайте Бин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, Бешенков С.А., Ракитина Е.А (допущен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учебник для 8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учебник для 9 кла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 сборник типовых задач для 8-9 клас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, 8: книга для уч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: книга для уч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 rot="16200000">
            <a:off x="-826560" y="335412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Просвещ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а 8 класса практически целиком посвящена обсуждению различных аспектов представления информации.  Именно по линии представления информации осуществляются межпредметные связи информатики с другими школьными дисциплинами. Впервые вводится понятие информационного взаимодействия. В этих взаимодействиях  и возникают информационные процесс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ая школ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знецов А. А.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9 классе внимание сосредоточено на вопросах преобразования информации. При изучении темы «Программирование»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язык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cal)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м является не программа как таковая, а задача, которая решается с помощью этой программы. Алгоритм и программа являются моделью деятельности субъекта по решению зада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8:13:15Z</dcterms:created>
  <dc:creator>Charly Root</dc:creator>
  <dc:description/>
  <dc:language>en-US</dc:language>
  <cp:lastModifiedBy>LEGION</cp:lastModifiedBy>
  <dcterms:modified xsi:type="dcterms:W3CDTF">2015-04-01T07:45:48Z</dcterms:modified>
  <cp:revision>100</cp:revision>
  <dc:subject/>
  <dc:title>Обзор УМК по информатике на 2009-2010 учебный год</dc:title>
</cp:coreProperties>
</file>