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CAC4-C768-4077-B54F-E7CF8C4C9B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E03F-99C1-44D9-96B6-0D3BF96865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зор УМК по информатике на 2009-2010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D08F-A563-48DB-AC9D-0DE550BC2E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школ будут осуществлять свою дальнейшую деятельность в различных социальных и экономических системах, а они представляют собой открытые системы (предсказать их поведение можно только в очень ограниченных пространственных и временных масштабах). В этом случае традиционный технологический подход , предполагающий стандартизированную последовательность действий, ведущих к достижению поставленно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ли может дать с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йн А.Г.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нокосов А.И.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нерман Н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, 9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DA86-B059-41CB-AF91-1FE1CD4324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ая картина мир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92EB-98FA-46E3-B2B7-1A3F96B08C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40A7-F0C4-4437-B691-D7B87CD7C9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VD-приложе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35E5-AB2A-4102-A85D-58C91A9E89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5A3-6C30-4AAD-99B2-81447E81DA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413F-9AEB-460A-A93E-F66582B9AE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2B33-80FD-4FB8-A15E-E5BDE5F92E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йн А.Г. 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 УМ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Книга для учителя 10,11 к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80B0-7C03-4B1C-AFF3-F79548BBFD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5B4E-EF94-48C7-87B1-8BFB87DC02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8D45-CA46-41E1-B78D-04719EA82B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ник-практикум 8-11 (в 2-х 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ОР для 8-9 Единой коллек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79DF-1015-4BA3-9EB7-AD770694B6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 и ИКТ. 10-11 классы (в 2-х част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к учебни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1 и 2 части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E4DA-A2F5-4025-8468-5999AF70F5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программирования Delph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B63C-4F01-4843-BB21-A781ED813F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DCA6-BE5A-4372-AF7C-08AC858D12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акин И.Г. и д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конце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позици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мпьютера в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5BDE-2C38-4F1C-85F8-C40E0A58FA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инства У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изложения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тивность препод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B1E8-2D40-49B1-B444-B4A07E8313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ОР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209C-6A7B-4585-87A8-AABF5A9820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5CDD-7100-4E95-88DC-596878D7C4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8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9299-6DE9-49F9-87CB-B90C206C35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075C-FF6D-4943-8349-BF1DD4B635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346E-0040-4FAA-992B-0556B87D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D4E2-5EB5-4AFB-ACFB-35B24DA1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3292-799D-4EC1-944A-EB67FDC7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15D7-8826-4CB1-BC2C-13D1D947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C461-D5B6-4461-A209-54D39568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C0F5-720E-48C3-B534-2005F681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B290-B3F2-4AA2-B334-FD0CF17E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B92F-F3EF-4061-81B6-A1363F3A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713B-DC05-4D18-9AA2-2E86FF63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11E1-E77B-425E-A83D-D2170519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095D-8925-427B-B46D-95BA2B1B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FBA8-B54D-4D61-A435-DF490DEC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A7D8-E869-4B43-90E4-E8920809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DA03-1C86-42FE-AF87-04CA4B77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20CB-DF63-433C-A19C-A4E920BD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D11D-6C1D-4CAA-8962-CA479206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6086-22C7-42BA-A4CB-0C283FF9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3C8C-DB5C-4241-B262-7B1F3EAE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AC28-0A49-4D25-9F45-757679BF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32A1-6C12-4666-87DA-64A76B9E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B25C-F8FF-419E-B4AF-8950B49F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D8FC-790E-4010-AB85-ED7FDA1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FBE5-A14C-4BFB-A3F6-7B3F817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B498-B3B1-4259-AD3D-17D6B165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8607-FED3-44E7-A538-653D60769E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DBB8-84D8-40BF-8682-021C3200F5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Обзор УМК по информатике на 2009-2010 учебный год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ейн А.Г.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нокосов А.И.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нерман Н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92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ик 8, 9 клас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8000" y="1981080"/>
            <a:ext cx="677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нформационная картина мир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VD-приложение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0" y="2492280"/>
            <a:ext cx="1527120" cy="15177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720" y="1981080"/>
            <a:ext cx="44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89720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1868400" cy="273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metod-kopilk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 rot="16200000">
            <a:off x="-1042560" y="306648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йн А.Г. 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 УМ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йн А.Г. и др. Книга для учителя 10,11 к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51280" y="5373720"/>
            <a:ext cx="424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итер Пре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176364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0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175104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ник-практикум 8-11 (в 2-х 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каты 7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ОР для 8-9 Единой колле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7489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 и ИКТ. 10-11 классы (в 2-х част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е к учебни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1 и 2 части)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программирования Delph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1434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акин И.Г. и др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ская концеп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я с пози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компьютера в управ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ирование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е технологии и 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1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инства У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 изложения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риативность препод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ОР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ирование н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8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язык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cal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13:15Z</dcterms:created>
  <dc:creator>Charly Root</dc:creator>
  <dc:description/>
  <dc:language>en-US</dc:language>
  <cp:lastModifiedBy>LEGION</cp:lastModifiedBy>
  <dcterms:modified xsi:type="dcterms:W3CDTF">2015-04-01T07:45:48Z</dcterms:modified>
  <cp:revision>100</cp:revision>
  <dc:subject/>
  <dc:title>Обзор УМК по информатике на 2009-2010 учебный год</dc:title>
</cp:coreProperties>
</file>