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87B0-0F2D-4909-972E-31D4901DCA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BBB3-5BB1-484E-928C-A0C621F47A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зор УМК по информатике на 2009-2010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93F6-D6E5-4E69-826D-761C19620F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школ будут осуществлять свою дальнейшую деятельность в различных социальных и экономических системах, а они представляют собой открытые системы (предсказать их поведение можно только в очень ограниченных пространственных и временных масштабах). В этом случае традиционный технологический подход , предполагающий стандартизированную последовательность действий, ведущих к достижению поставленно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ли может дать с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йн А.Г.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нокосов А.И.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нерман Н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, 9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62DC-2DE9-4731-B3E7-551AD509BE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ая картина мир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A50F-5D6D-463E-926D-DF89BDB13A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A339-E14C-4447-AF00-47B612DD60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VD-приложе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BB8F-2197-452E-B72E-A14CFD9593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8E72-2944-4C33-B5FB-8B988B3374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4C71-182A-417D-96F6-E761A959FC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35B4-80BA-4A15-8FE6-E0E9C2BA32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йн А.Г. 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 УМ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Книга для учителя 10,11 к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3329-BE0F-43A0-A71B-15827EE2B8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C725-CB73-4795-B4B3-1ABC42DECA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35B6-9991-4C38-A5B8-1101229DFF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ник-практикум 8-11 (в 2-х 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ОР для 8-9 Единой коллек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6559-AC9F-45EB-AF8F-51A2E7F704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 и ИКТ. 10-11 классы (в 2-х част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к учебни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1 и 2 части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34AC-CE25-42BF-B1AC-B6F2DE4BD1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программирования Delph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FA68-957F-437E-9F8B-7491887870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CEA4-EBDD-41B6-9F14-46EEFF743D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акин И.Г. и д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конце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позици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мпьютера в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FF01-AF3C-49CC-82DF-E4F4C3D54E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инства У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изложения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тивность препод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5055-A5D4-4745-8C0C-BBF9B2BB81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ОР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EBC0-4CE8-4DAB-8614-8577D444BE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11BC-CFC1-4B6F-8EA1-2AB0A0C1A7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8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F366-CDFE-477D-8B3F-70D83A5FF5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32BF-E96C-42A3-9323-572213B313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C316-E490-4F8F-8587-3F5457D2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5310-8873-4DA3-B8F0-76163C13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F8C1-8016-4504-98EA-EB3EB534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37A1-65FC-474B-B964-7AE761F7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61EE-BB16-41B0-BD4A-25E597D0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3BC9-5DBF-4456-886C-71874329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170C-4F2C-450A-937E-4C2BD880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6AA8-5943-4074-86E2-604C1F4C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C9BA-DB4A-49CF-AFE8-97C367E9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1224-1B9B-48EA-BE70-CFC811CA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1AF6-C9C6-4561-88CA-12BD6C1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1128-AF84-4141-AB98-A63A6B46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1CD6-A293-405A-944A-D315113C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7FA8-7D3E-4261-B70C-082AC51E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D9B8-F4D0-456B-A560-17B770F3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785B-7050-47AE-91ED-F9DF743B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7FFE-E16D-4199-885B-168E0710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9E74-6E36-4BDE-8DB6-B0B48C67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7935-E409-40DD-B362-BAD4EA78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69369-ACCA-4B58-967C-54F0B662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10A1-BD58-41B1-B524-FB116993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4E8D-942F-4E91-AED3-72FFA5F6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0EE4-75DF-45AD-91DE-9058B14A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EE25-7E03-452C-81AF-C724AB3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45B3-A2FE-4664-BFF0-F1411895EC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1D10-0FCA-4D95-AC2C-6DD881EB62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Обзор УМК по информатике на 2009-2010 учебный год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ейн А.Г.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нокосов А.И.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нерман Н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92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ик 8, 9 клас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8000" y="1981080"/>
            <a:ext cx="677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нформационная картина мир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VD-приложение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0" y="2492280"/>
            <a:ext cx="1527120" cy="15177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720" y="1981080"/>
            <a:ext cx="44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89720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1868400" cy="273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metod-kopilk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 rot="16200000">
            <a:off x="-1042560" y="306648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йн А.Г. 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 УМ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йн А.Г. и др. Книга для учителя 10,11 к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51280" y="5373720"/>
            <a:ext cx="424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итер Пре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176364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0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175104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ник-практикум 8-11 (в 2-х 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каты 7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ОР для 8-9 Единой колле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7489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 и ИКТ. 10-11 классы (в 2-х част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е к учебни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1 и 2 части)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программирования Delph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1434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акин И.Г. и др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ская концеп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я с пози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компьютера в управ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ирование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е технологии и 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1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инства У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 изложения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риативность препод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ОР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ирование н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8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язык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cal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13:15Z</dcterms:created>
  <dc:creator>Charly Root</dc:creator>
  <dc:description/>
  <dc:language>en-US</dc:language>
  <cp:lastModifiedBy>LEGION</cp:lastModifiedBy>
  <dcterms:modified xsi:type="dcterms:W3CDTF">2015-04-01T07:45:48Z</dcterms:modified>
  <cp:revision>100</cp:revision>
  <dc:subject/>
  <dc:title>Обзор УМК по информатике на 2009-2010 учебный год</dc:title>
</cp:coreProperties>
</file>