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1.gif" ContentType="image/gif"/>
  <Override PartName="/ppt/media/image7.wmf" ContentType="image/x-wmf"/>
  <Override PartName="/ppt/media/image19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5.wmf" ContentType="image/x-wmf"/>
  <Override PartName="/ppt/media/image16.wmf" ContentType="image/x-wmf"/>
  <Override PartName="/ppt/media/image14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gif" ContentType="image/gi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9DF5-C6CB-4379-83FC-22F1271F11E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 u="sng">
                <a:solidFill>
                  <a:srgbClr val="000000"/>
                </a:solidFill>
                <a:uFillTx/>
                <a:latin typeface="Calibri"/>
              </a:rPr>
              <a:t>Романсы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FDE9-87A8-42DC-A238-FFBBFA57AF92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счастлив тем, что встретил Ва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вторимый и прекрас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, значит, жил я не напрасн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ю, волшебный мой Романс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7EA7-5B2B-4B92-9BB2-05214B81272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такое роман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с в музыке вокальное сочинение, камерное музыкально-поэтическое произведение для голоса с инструментальным сопровож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792B-11C6-4237-A0C8-3518A5ED964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ушайте ром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характер, темп, динамику, краски и попробуйте представить себе картину, и даже можете нарисовать её и опис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D530-7A25-428A-AFD6-B962AD31FA6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усского роман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ской романс-авторский по способу создания, но фольклорный по способу быт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ыганский ром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окий ром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0768-7480-4F9D-BFB1-3E0642DB2E7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с- испанское слово, в 18 веке стал знаменитым романс исполняющийся соло под аккомпонимент фортепиано или гит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0667-EA7F-49D9-AB1F-C95BB1F4AC2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8DF0-D6AF-4166-A33F-829C903AABC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B3C6-BAA2-4C38-9ED1-38CA3C26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820E-DB5D-4BE3-AEBB-1B844D65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2DE-D007-4E94-8689-D0399916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C057-295F-4851-AB7F-61FA54E5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44DC-2E8F-483C-BEAF-68E1D900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28DE-2BDB-43AF-95AF-3F4D5788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3165-1EC8-4F7A-ABE1-EAEC8C6E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3C9C-E33B-46D1-93BD-7DAED102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4ADC-555B-4A1C-A5E9-8B48AB8B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1337-11D4-483A-8775-411448BA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6C59-3181-430D-9FE5-4EFC1A7C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349-607F-4899-9ADB-BCD89B9E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2372-5FAF-4FE2-A0AA-8E3B1C01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3016-3503-42C4-8D49-5CC75845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EBD0-97E7-4DDD-A59A-1FDD1C12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C219-D937-4835-AF75-80D57B04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6EF9-909C-4032-891D-96229DF4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279F-C0FA-4CB4-B703-A007AE5C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F72F-50C0-4D52-8BEF-EA912C9A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B43-84D5-4B79-9EB8-7B55CECF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16E7-437C-4C8F-8EC0-BC3CA1BB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0A2-49C6-4E76-8A48-4C6B4AD5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B2F-649C-488B-A8EB-556D8581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3153-45AF-4299-934C-948E1502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C236-49DE-42D4-A8C0-56E509F619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EA53-2A0D-43A4-97DE-06332997194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600" spc="-1" strike="noStrike" u="sng">
                <a:solidFill>
                  <a:srgbClr val="c4c3aa"/>
                </a:solidFill>
                <a:uFillTx/>
                <a:latin typeface="Arial"/>
              </a:rPr>
              <a:t>Романсы.</a:t>
            </a:r>
            <a:endParaRPr b="0" lang="en-US" sz="116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4" descr="MM900284089[1]"/>
          <p:cNvPicPr/>
          <p:nvPr/>
        </p:nvPicPr>
        <p:blipFill>
          <a:blip r:embed="rId1"/>
          <a:stretch/>
        </p:blipFill>
        <p:spPr>
          <a:xfrm>
            <a:off x="3657600" y="0"/>
            <a:ext cx="1371600" cy="20620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MM900336598[2]"/>
          <p:cNvPicPr/>
          <p:nvPr/>
        </p:nvPicPr>
        <p:blipFill>
          <a:blip r:embed="rId2"/>
          <a:stretch/>
        </p:blipFill>
        <p:spPr>
          <a:xfrm>
            <a:off x="1523880" y="434340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MM900336703[2]"/>
          <p:cNvPicPr/>
          <p:nvPr/>
        </p:nvPicPr>
        <p:blipFill>
          <a:blip r:embed="rId3"/>
          <a:stretch/>
        </p:blipFill>
        <p:spPr>
          <a:xfrm>
            <a:off x="5029200" y="4267080"/>
            <a:ext cx="1143000" cy="11239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частлив тем, что встретил Вас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повторимый и прекрасны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, значит, жил я не напрасно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рю, волшебный мой Романс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5" name="Picture 4" descr="dglxasset[1]"/>
          <p:cNvPicPr/>
          <p:nvPr/>
        </p:nvPicPr>
        <p:blipFill>
          <a:blip r:embed="rId1"/>
          <a:stretch/>
        </p:blipFill>
        <p:spPr>
          <a:xfrm>
            <a:off x="1447920" y="4419720"/>
            <a:ext cx="1711080" cy="1036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dglxasset[1]"/>
          <p:cNvPicPr/>
          <p:nvPr/>
        </p:nvPicPr>
        <p:blipFill>
          <a:blip r:embed="rId2"/>
          <a:stretch/>
        </p:blipFill>
        <p:spPr>
          <a:xfrm>
            <a:off x="6629400" y="4114800"/>
            <a:ext cx="1095480" cy="1827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dglxasset[1]"/>
          <p:cNvPicPr/>
          <p:nvPr/>
        </p:nvPicPr>
        <p:blipFill>
          <a:blip r:embed="rId3"/>
          <a:stretch/>
        </p:blipFill>
        <p:spPr>
          <a:xfrm>
            <a:off x="3809880" y="4191120"/>
            <a:ext cx="1422360" cy="12189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dglxasset[2]"/>
          <p:cNvPicPr/>
          <p:nvPr/>
        </p:nvPicPr>
        <p:blipFill>
          <a:blip r:embed="rId4"/>
          <a:stretch/>
        </p:blipFill>
        <p:spPr>
          <a:xfrm>
            <a:off x="6400800" y="-152280"/>
            <a:ext cx="1820880" cy="1747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dglxasset[2]"/>
          <p:cNvPicPr/>
          <p:nvPr/>
        </p:nvPicPr>
        <p:blipFill>
          <a:blip r:embed="rId5"/>
          <a:stretch/>
        </p:blipFill>
        <p:spPr>
          <a:xfrm>
            <a:off x="1295280" y="-152280"/>
            <a:ext cx="1640160" cy="181116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4c3aa"/>
                </a:solidFill>
                <a:latin typeface="Arial"/>
              </a:rPr>
              <a:t>Что такое романс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Романс в музыке вокальное сочинение, камерное музыкально-поэтическое произведение для голоса с инструментальным сопровождением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4" descr="dglxasset[3]"/>
          <p:cNvPicPr/>
          <p:nvPr/>
        </p:nvPicPr>
        <p:blipFill>
          <a:blip r:embed="rId1"/>
          <a:stretch/>
        </p:blipFill>
        <p:spPr>
          <a:xfrm>
            <a:off x="5791320" y="5105520"/>
            <a:ext cx="1825560" cy="109368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рослушайте роман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Определите характер, темп, динамику, краски и попробуйте представить себе картину, и даже можете нарисовать её и описать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6" name="Picture 4" descr="dglxasset[4]"/>
          <p:cNvPicPr/>
          <p:nvPr/>
        </p:nvPicPr>
        <p:blipFill>
          <a:blip r:embed="rId1"/>
          <a:stretch/>
        </p:blipFill>
        <p:spPr>
          <a:xfrm>
            <a:off x="6477120" y="4495680"/>
            <a:ext cx="1787400" cy="1668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MM900163113[2]"/>
          <p:cNvPicPr/>
          <p:nvPr/>
        </p:nvPicPr>
        <p:blipFill>
          <a:blip r:embed="rId2"/>
          <a:stretch/>
        </p:blipFill>
        <p:spPr>
          <a:xfrm>
            <a:off x="4724280" y="4724280"/>
            <a:ext cx="819360" cy="1200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dglxasset[2]"/>
          <p:cNvPicPr/>
          <p:nvPr/>
        </p:nvPicPr>
        <p:blipFill>
          <a:blip r:embed="rId3"/>
          <a:stretch/>
        </p:blipFill>
        <p:spPr>
          <a:xfrm>
            <a:off x="2057400" y="4952880"/>
            <a:ext cx="1778040" cy="1371600"/>
          </a:xfrm>
          <a:prstGeom prst="rect">
            <a:avLst/>
          </a:prstGeom>
          <a:ln w="0">
            <a:noFill/>
          </a:ln>
        </p:spPr>
      </p:pic>
      <p:pic>
        <p:nvPicPr>
          <p:cNvPr id="359" name="minusovki[1].mptri.net romansi_-_v_lunnom_siyanii.mp3" descr=""/>
          <p:cNvPicPr/>
          <p:nvPr/>
        </p:nvPicPr>
        <p:blipFill>
          <a:blip r:embed="rId4"/>
          <a:stretch/>
        </p:blipFill>
        <p:spPr>
          <a:xfrm>
            <a:off x="792468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639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Виды русского романса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Городской романс-авторский по способу создания, но фольклорный по способу бытования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Цыганский романс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Жестокий романс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5" descr="i?id=163947780-13"/>
          <p:cNvPicPr/>
          <p:nvPr/>
        </p:nvPicPr>
        <p:blipFill>
          <a:blip r:embed="rId1"/>
          <a:stretch/>
        </p:blipFill>
        <p:spPr>
          <a:xfrm>
            <a:off x="1143000" y="8380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j0281904"/>
          <p:cNvPicPr/>
          <p:nvPr/>
        </p:nvPicPr>
        <p:blipFill>
          <a:blip r:embed="rId2"/>
          <a:stretch/>
        </p:blipFill>
        <p:spPr>
          <a:xfrm>
            <a:off x="6629400" y="4267080"/>
            <a:ext cx="1825560" cy="172584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Романс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Романс- испанское слово, в 18 веке стал знаменитым романс исполняющийся соло под аккомпонимент фортепиано или гитара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8" name="Picture 4" descr="j0230876"/>
          <p:cNvPicPr/>
          <p:nvPr/>
        </p:nvPicPr>
        <p:blipFill>
          <a:blip r:embed="rId1"/>
          <a:stretch/>
        </p:blipFill>
        <p:spPr>
          <a:xfrm>
            <a:off x="3505320" y="4800600"/>
            <a:ext cx="1666800" cy="175248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1" name="Picture 5" descr="D:\анимашки\анимашки\валентинки\d63f0f1be326.gif"/>
          <p:cNvPicPr/>
          <p:nvPr/>
        </p:nvPicPr>
        <p:blipFill>
          <a:blip r:embed="rId1"/>
          <a:stretch/>
        </p:blipFill>
        <p:spPr>
          <a:xfrm>
            <a:off x="457200" y="30492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372" name="WordArt 5"/>
          <p:cNvSpPr txBox="1"/>
          <p:nvPr/>
        </p:nvSpPr>
        <p:spPr>
          <a:xfrm>
            <a:off x="1600200" y="3048120"/>
            <a:ext cx="60292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ЗА ВНИМАНИЕ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73" name="Picture 3" descr="D:\анимашки\анимашки\валентинки\tn_gallery_2_211_11735.png"/>
          <p:cNvPicPr/>
          <p:nvPr/>
        </p:nvPicPr>
        <p:blipFill>
          <a:blip r:embed="rId2"/>
          <a:stretch/>
        </p:blipFill>
        <p:spPr>
          <a:xfrm>
            <a:off x="380880" y="4191120"/>
            <a:ext cx="3357720" cy="23619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D:\анимашки\анимашки\валентинки\tn_gallery_2_211_5267.png"/>
          <p:cNvPicPr/>
          <p:nvPr/>
        </p:nvPicPr>
        <p:blipFill>
          <a:blip r:embed="rId3"/>
          <a:stretch/>
        </p:blipFill>
        <p:spPr>
          <a:xfrm>
            <a:off x="541008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D:\анимашки\анимашки\валентинки\tn_gallery_2_211_101296.png"/>
          <p:cNvPicPr/>
          <p:nvPr/>
        </p:nvPicPr>
        <p:blipFill>
          <a:blip r:embed="rId4"/>
          <a:stretch/>
        </p:blipFill>
        <p:spPr>
          <a:xfrm>
            <a:off x="6553080" y="4572000"/>
            <a:ext cx="2048040" cy="204804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6:47:5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