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.gif" ContentType="image/gif"/>
  <Override PartName="/ppt/media/image7.wmf" ContentType="image/x-wmf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512B-AD01-4ADE-A14A-2CF5267B8E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Calibri"/>
              </a:rPr>
              <a:t>Романсы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0715-1CEA-480A-8DD9-328793B3F5B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частлив тем, что встретил В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ый и прекра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значит, жил я не напрас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, волшебный мой Романс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A46F-FDFC-4251-AA1E-E2449565B3F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акое роман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8804-74D4-4802-9A55-C93C5B60EFB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йте ром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3527-B80F-4799-A25B-A0F1A6423D2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усского ром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й романс-авторский по способу создания, но фольклорный по способу быт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ыганс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A838-86CB-4F4B-A6D0-C4E10623B25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2BC4-1727-4C0A-93F6-8E70CE4FDDB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5320-638C-4213-AF46-A27EF276466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51B-6F47-4AE7-AEE7-1CE91877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F25-AF63-4376-907E-943C432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1F1-F422-4063-BFF6-9FD689BB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E4D-0F24-4804-851B-15205F7E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B826-839E-4686-AE35-B4B089E6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694F-69D5-4723-B3DA-02B6A08B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7309-70A2-4381-A006-152E4E55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4726-90AE-458A-8FD3-3D515C3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D183-09C8-4ACD-B6C1-CBD56453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1219-DCA7-4F4E-B911-C030533C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06D4-724E-4FF2-9E35-3C86D3B5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AFA-3803-4F45-8800-BB26D35E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2770-91B2-46E5-B86E-F2ADE86F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C22B-79D3-495C-B6CA-E0E30885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088C-8BF5-419E-9E09-750BCF90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93C7-CB6E-4792-89D7-2192AB9C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3019-E657-4680-845A-FDD3E0DD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3B9-469A-4182-83BE-38EF797D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751-6034-4DA2-AC0D-C624F4CA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A9E-D10E-43C5-9139-A5B18CA3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7B8-1785-40BC-B2E9-D0060770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937-2B9E-480B-A12C-A281CA03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F10-7E40-4AEC-A0F0-6D6F021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2B1-E48A-489F-A343-2B83D0F7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40DA-DE14-4F5E-B95F-CD398F743E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B184-90A6-43E4-A757-DC2F8E3AED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600" spc="-1" strike="noStrike" u="sng">
                <a:solidFill>
                  <a:srgbClr val="c4c3aa"/>
                </a:solidFill>
                <a:uFillTx/>
                <a:latin typeface="Arial"/>
              </a:rPr>
              <a:t>Романсы.</a:t>
            </a:r>
            <a:endParaRPr b="0" lang="en-US" sz="11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4" descr="MM900284089[1]"/>
          <p:cNvPicPr/>
          <p:nvPr/>
        </p:nvPicPr>
        <p:blipFill>
          <a:blip r:embed="rId1"/>
          <a:stretch/>
        </p:blipFill>
        <p:spPr>
          <a:xfrm>
            <a:off x="3657600" y="0"/>
            <a:ext cx="1371600" cy="2062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MM900336598[2]"/>
          <p:cNvPicPr/>
          <p:nvPr/>
        </p:nvPicPr>
        <p:blipFill>
          <a:blip r:embed="rId2"/>
          <a:stretch/>
        </p:blipFill>
        <p:spPr>
          <a:xfrm>
            <a:off x="1523880" y="43434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MM900336703[2]"/>
          <p:cNvPicPr/>
          <p:nvPr/>
        </p:nvPicPr>
        <p:blipFill>
          <a:blip r:embed="rId3"/>
          <a:stretch/>
        </p:blipFill>
        <p:spPr>
          <a:xfrm>
            <a:off x="5029200" y="4267080"/>
            <a:ext cx="1143000" cy="11239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частлив тем, что встретил Вас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повторимый и прекрасны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, значит, жил я не напрасно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рю, волшебный мой Романс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Picture 4" descr="dglxasset[1]"/>
          <p:cNvPicPr/>
          <p:nvPr/>
        </p:nvPicPr>
        <p:blipFill>
          <a:blip r:embed="rId1"/>
          <a:stretch/>
        </p:blipFill>
        <p:spPr>
          <a:xfrm>
            <a:off x="1447920" y="4419720"/>
            <a:ext cx="1711080" cy="1036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dglxasset[1]"/>
          <p:cNvPicPr/>
          <p:nvPr/>
        </p:nvPicPr>
        <p:blipFill>
          <a:blip r:embed="rId2"/>
          <a:stretch/>
        </p:blipFill>
        <p:spPr>
          <a:xfrm>
            <a:off x="6629400" y="4114800"/>
            <a:ext cx="1095480" cy="1827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dglxasset[1]"/>
          <p:cNvPicPr/>
          <p:nvPr/>
        </p:nvPicPr>
        <p:blipFill>
          <a:blip r:embed="rId3"/>
          <a:stretch/>
        </p:blipFill>
        <p:spPr>
          <a:xfrm>
            <a:off x="3809880" y="4191120"/>
            <a:ext cx="1422360" cy="1218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dglxasset[2]"/>
          <p:cNvPicPr/>
          <p:nvPr/>
        </p:nvPicPr>
        <p:blipFill>
          <a:blip r:embed="rId4"/>
          <a:stretch/>
        </p:blipFill>
        <p:spPr>
          <a:xfrm>
            <a:off x="6400800" y="-152280"/>
            <a:ext cx="1820880" cy="1747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dglxasset[2]"/>
          <p:cNvPicPr/>
          <p:nvPr/>
        </p:nvPicPr>
        <p:blipFill>
          <a:blip r:embed="rId5"/>
          <a:stretch/>
        </p:blipFill>
        <p:spPr>
          <a:xfrm>
            <a:off x="1295280" y="-152280"/>
            <a:ext cx="1640160" cy="1811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4c3aa"/>
                </a:solidFill>
                <a:latin typeface="Arial"/>
              </a:rPr>
              <a:t>Что такое романс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4" descr="dglxasset[3]"/>
          <p:cNvPicPr/>
          <p:nvPr/>
        </p:nvPicPr>
        <p:blipFill>
          <a:blip r:embed="rId1"/>
          <a:stretch/>
        </p:blipFill>
        <p:spPr>
          <a:xfrm>
            <a:off x="5791320" y="5105520"/>
            <a:ext cx="1825560" cy="10936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ослушайте роман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4" descr="dglxasset[4]"/>
          <p:cNvPicPr/>
          <p:nvPr/>
        </p:nvPicPr>
        <p:blipFill>
          <a:blip r:embed="rId1"/>
          <a:stretch/>
        </p:blipFill>
        <p:spPr>
          <a:xfrm>
            <a:off x="6477120" y="4495680"/>
            <a:ext cx="1787400" cy="1668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MM900163113[2]"/>
          <p:cNvPicPr/>
          <p:nvPr/>
        </p:nvPicPr>
        <p:blipFill>
          <a:blip r:embed="rId2"/>
          <a:stretch/>
        </p:blipFill>
        <p:spPr>
          <a:xfrm>
            <a:off x="4724280" y="4724280"/>
            <a:ext cx="819360" cy="1200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dglxasset[2]"/>
          <p:cNvPicPr/>
          <p:nvPr/>
        </p:nvPicPr>
        <p:blipFill>
          <a:blip r:embed="rId3"/>
          <a:stretch/>
        </p:blipFill>
        <p:spPr>
          <a:xfrm>
            <a:off x="2057400" y="4952880"/>
            <a:ext cx="1778040" cy="1371600"/>
          </a:xfrm>
          <a:prstGeom prst="rect">
            <a:avLst/>
          </a:prstGeom>
          <a:ln w="0">
            <a:noFill/>
          </a:ln>
        </p:spPr>
      </p:pic>
      <p:pic>
        <p:nvPicPr>
          <p:cNvPr id="359" name="minusovki[1].mptri.net romansi_-_v_lunnom_siyanii.mp3" descr=""/>
          <p:cNvPicPr/>
          <p:nvPr/>
        </p:nvPicPr>
        <p:blipFill>
          <a:blip r:embed="rId4"/>
          <a:stretch/>
        </p:blipFill>
        <p:spPr>
          <a:xfrm>
            <a:off x="792468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639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Виды русского романса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Городской романс-авторский по способу создания, но фольклорный по способу бытования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Цыганс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Жесто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5" descr="i?id=163947780-13"/>
          <p:cNvPicPr/>
          <p:nvPr/>
        </p:nvPicPr>
        <p:blipFill>
          <a:blip r:embed="rId1"/>
          <a:stretch/>
        </p:blipFill>
        <p:spPr>
          <a:xfrm>
            <a:off x="1143000" y="838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j0281904"/>
          <p:cNvPicPr/>
          <p:nvPr/>
        </p:nvPicPr>
        <p:blipFill>
          <a:blip r:embed="rId2"/>
          <a:stretch/>
        </p:blipFill>
        <p:spPr>
          <a:xfrm>
            <a:off x="6629400" y="4267080"/>
            <a:ext cx="1825560" cy="172584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Романс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4" descr="j0230876"/>
          <p:cNvPicPr/>
          <p:nvPr/>
        </p:nvPicPr>
        <p:blipFill>
          <a:blip r:embed="rId1"/>
          <a:stretch/>
        </p:blipFill>
        <p:spPr>
          <a:xfrm>
            <a:off x="3505320" y="4800600"/>
            <a:ext cx="1666800" cy="1752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1" name="Picture 5" descr="D:\анимашки\анимашки\валентинки\d63f0f1be326.gif"/>
          <p:cNvPicPr/>
          <p:nvPr/>
        </p:nvPicPr>
        <p:blipFill>
          <a:blip r:embed="rId1"/>
          <a:stretch/>
        </p:blipFill>
        <p:spPr>
          <a:xfrm>
            <a:off x="457200" y="30492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72" name="WordArt 5"/>
          <p:cNvSpPr txBox="1"/>
          <p:nvPr/>
        </p:nvSpPr>
        <p:spPr>
          <a:xfrm>
            <a:off x="1600200" y="3048120"/>
            <a:ext cx="6029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73" name="Picture 3" descr="D:\анимашки\анимашки\валентинки\tn_gallery_2_211_11735.png"/>
          <p:cNvPicPr/>
          <p:nvPr/>
        </p:nvPicPr>
        <p:blipFill>
          <a:blip r:embed="rId2"/>
          <a:stretch/>
        </p:blipFill>
        <p:spPr>
          <a:xfrm>
            <a:off x="380880" y="4191120"/>
            <a:ext cx="3357720" cy="2361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:\анимашки\анимашки\валентинки\tn_gallery_2_211_5267.png"/>
          <p:cNvPicPr/>
          <p:nvPr/>
        </p:nvPicPr>
        <p:blipFill>
          <a:blip r:embed="rId3"/>
          <a:stretch/>
        </p:blipFill>
        <p:spPr>
          <a:xfrm>
            <a:off x="541008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анимашки\анимашки\валентинки\tn_gallery_2_211_101296.png"/>
          <p:cNvPicPr/>
          <p:nvPr/>
        </p:nvPicPr>
        <p:blipFill>
          <a:blip r:embed="rId4"/>
          <a:stretch/>
        </p:blipFill>
        <p:spPr>
          <a:xfrm>
            <a:off x="6553080" y="4572000"/>
            <a:ext cx="2048040" cy="20480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7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