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dt" idx="19"/>
          </p:nvPr>
        </p:nvSpPr>
        <p:spPr>
          <a:xfrm>
            <a:off x="381960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ftr" idx="20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 type="sldNum" idx="21"/>
          </p:nvPr>
        </p:nvSpPr>
        <p:spPr>
          <a:xfrm>
            <a:off x="381960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8970-A1EA-423C-A6F9-4CAFB230845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74FB-B9B5-48B0-8E5B-CB918CBF74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6563-D17B-43CC-AA6F-45B314EE3F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 (продолже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заработной платы составляет 5000 руб. Предположим, мы будем отчислять в страховую часть 8% от этой суммы в течение 30 лет, а в накопительную часть исходя из условий мы тогда будем отчислять 6% от ФОТ. Введем еще одно условие, что средняя доходность от вложений Инвестиционной компании составит 7%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читать размер пен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374A-D1B4-4636-AEAA-E438AE5454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 (продолжени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Ч = 900 руб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79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c 01.01.0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: ежемесячно отчисляем 8% от 5000 руб., т.е. по 400 руб.  За 30 лет перечислим 144000 руб. (400 * 12мес.*30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Чмес. =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44000 руб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 632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мес* 19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BA52-216C-4CB6-952A-28AB870996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 (продолжени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Ч:  ежемесячно 6%, т.е. 5000 *6% = 300 руб. Тогда за 30 лет в накопительную часть перечисл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600 *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1+0,07)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^29 –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314447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Ч мес. =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14447 руб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1379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мес*19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71DA-EA3F-4CB7-9C85-BBC77D0721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пенсии рав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900 руб. (БЧ) +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32 руб. (СЧ) +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79 руб. (НЧ) = 2911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B123-0CD0-4D23-89D7-F6FB8C0B83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удовая пенсия по инвалид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базовой части трудовой пенсии по инвалидности в зависимости от степени ограничения способности к трудовой деятельности устанавливается в следующих сумм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и III степени - 1 800 рублей в меся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и II степени - 900 рублей в месяц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- 450 рублей в меся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A341-5AB2-4CD3-B9C9-67A1624F05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рактеристика основных составных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ей пенсион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33DE-4A1E-412E-BDB0-4D260A008F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иды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циальных пособ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 временной нетрудоспособности (по    среднему заработку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 беременности и родам (по среднему заработку за 12 мес. 70 дней до родов и 70 дней после родов, но максимальная сумма 12480 руб. (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90 руб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c 01.01.0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единоразовое пособие при рождении ребенка (усыновлении) ребенка выплачивается в размере  9592,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. (с 01.01.09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77BE-7E4E-46FC-A7DE-3492EA658B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иды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циальных пособ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месячно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бие на период отпуска по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ходу за ребен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 достижения им возраста полутора лет выплачивается в размер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0 руб. (1798,51 – с 01.01.09)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ого ребенка и 3000 руб. (3597,01 – 01.01.09) на каждого последующего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на детей военнослужащих срочной службы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пособие по безработице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ритуальные пособия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социальная помощь малоимущим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DBE8-FD20-4905-9469-DE18DD8413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небюджетные фонды: опреде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финансовых ресурсов, не  входящих в состав бюджетов всех уровней бюджетной системы РФ и изъятию не подлежат, и имеют как правило, целевое назна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государственных внебюджетных фондов находятся в федеральной соб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A343-E450-46E7-9699-A114233095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рмативно – законодательное регулирова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ституция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З от 17.12.2001 №173-ФЗ «О трудовых пенсиях в РФ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З №167 –ФЗ «Об обязательном пенсионном страховании 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З № 81-ФЗ «О государственных пособиях гражданам, имеющим детей»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8E99-F577-480D-B065-DCE9FEB5F3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трализованные (государственные) внебюджет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н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меют общегосударственное значение и </a:t>
            </a: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предназначены для реализации конституционных прав граждан на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 по возрас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 по болезни, инвалидности, в случае потери кормильца, рождения и воспитания детей и в других случаях, предусмотренных законодательством РФ о социальном обеспеч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 в случае безработ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у здоровья и получение бесплатной медицинск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1DE2-1775-4B35-9058-9232AFEEB4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став централизованных (государственных) внебюджетных фонд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нсионный Фонд РФ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нд социального страхования РФ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едеральный фонд обязательного медицинского страхов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сударственный фонд занятости населения РФ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ы государственных внебюджетных фондов Российской Федерации рассматриваются и утверждаются Федеральным Собранием в форме федеральных законов одновременно с принятием федерального закона о федеральном бюджете на очередной финансовый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A4FC-BF32-4F25-9BA7-FA9822672F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точниками формирования внебюджетных фондов являютс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латеж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ые взно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от коммерческой деятельности, осуществляемой фондами (если разрешено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е доходы, предусмотренные соответствующими законодательными а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BEBC-EE58-4A28-8990-7D0DAA3DC5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точники Пенсионного фон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формируются за счет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 страховых взносов работода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х взносов граждан, занимающихся предпринимательской деятельнос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игнований из федерального бюджета РФ на выплату государственных пенсий и пособий военнослужащим и приравненным к ним по пенсионному обеспечению гражданам, социальных пенсий их семьям, пособий на детей в возрасте старше полутора лет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ых взносов физических и юридических лиц, а также доходов от капитализации средств фо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4CFB-90E5-499E-9730-1859730698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ств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нда социального страхов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образуются за сч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х взносов работода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х взносов граждан, занимающихся предпринимательской деятельнос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 от инвестирования части временно свободных средств Фонда в ликвидные государственные  ценные бумаги и банковские вкла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ых взносов граждан и юридических л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игнований из федерального бюджета на покрытие расходов, в установленных законом случа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х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0908-3EE3-447F-9BFD-F45C18F906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ства ФСС направляются на: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у пособий по временной нетрудоспособности, беременности и родам, при рождении ребенка, по уходу за ребенком до достижения им возраста полутора лет, на погреб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аторно – курортное лечение и оздоровление работников и членов их сем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научно – исследовательской работы по вопросам социального страхования и охран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иных мероприятий в соответствии с задачами фо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C300-F476-4C25-AA17-CE5B8D63B5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нды обязательного медицинского страхования формируются  за счет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и страховых взносов предприятий, организаций, учреждений и иных хозяйствующих субъектов независимо от форм собственности на обязательное медицинское страхование в размерах, устанавливаемых Федеральным Собранием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игнований из федеральных и региональных бюджетов на выполнение программ обязательного медицинского страх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ых взно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 от использования временно свободных финансовых средств фон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E5C2-B35C-4411-AEC9-DA90331667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онды обязательного медицинского страхования: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цель, виды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гарантировать гражданам при возникновении страхового случая получение медицинской помощи за счет накопленных средств и финансировать профилактические меропри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фонды предназначены для финансирования страховыми организациями медицинской помощи и иных услуг в соответствии с договорами обязательного медицинского страхования. Такие фонды созданы на федеральном и территориальном уровн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ое страхование осуществляет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двух вид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обязательном и доброволь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DB88-77DE-4CAB-BE8D-D5DF50C856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ми медицинскими организациями выступают юридические лица, являющиеся самостоятельными хозяйствующими субъектами, с любыми формами собственности, обладающие необходимым для осуществления медицинского страхования уставным фон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9374-2C9A-4E30-80B2-2CF866C3F5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цесс составления, утверждения, исполнения бюджетов В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бюджетов внебюджетных фондов составляются органами соответствующих фондов и представляются исполнительными органами власти на рассмотрение представительным органам одновременно с проектом бюджета на следующий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ы государственных внебюджетных фондов РФ рассматриваются и утверждаются Федеральным Собранием в форме федеральных законов на очередной финансовый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2178-DF0A-49AD-8DA0-FB019DB8F8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я 39 Конституции РФ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арантиру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ажданам Росси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 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руд, отдых, охрану здоровья, социальное обеспечение в старости, в случае болезни, полной или частичной утраты трудоспособности и потери кормильца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 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илище, на образование, на пользование достижениями культуры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ое  из этих прав предусматривает удовлетворение различных потребностей граждан и обеспечивается соответствующими мероприятиями и сред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B371-8D76-4E78-8C28-82F741CD81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цесс составления, утверждения, исполнения бюджетов ВФ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бюджетов государственных внебюджетных фондов осуществляется Федеральным казначей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 об исполнении бюджета государственного внебюджетного фонда составляется органом управления фонда и представляется Правительством РФ на рассмотрение и утверждение Федеральному Собранию в форме федерального зак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E33E-8A9C-48E9-819A-8142F6111F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централизованные внебюджетные фон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ются для решения территориальных, отраслевых, межотраслевых и других зада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ним относятся внебюджетные фонды, создаваем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о решению региональных и муниципальных органов власти для решения региональных и мест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для решения отраслевых задач (фонды научно – исследовательских и опытно – конструкторских разработок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9DB4-372E-40A3-933A-C81BA99F5D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экономическая категор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систему распределительных отношений, в процессе которых за счет части национального дохода образуются и используются общественные фонды денежных средств, для материального обеспечения и обслуживания гражд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A629-65A6-49F8-8295-B342F23700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инципы построения социального обеспечения 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сеобщ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едоступ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мер и форма обеспечения зависят от прошлого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нообразие предоставляемых форм обеспечения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мократический характер организации социального обеспечения и е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5DEC-3845-467A-8625-5AD710EF27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сновные виды расходов по социальному обеспечению – выплаты пенсий и пособ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нсии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о периодические выплаты определенных денежных сумм для материального обеспечения граждан в связи со старостью, инвалидностью, выслугой лет и смертью кормиль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9B9F-9A5F-4A53-9301-B43B6ECE1D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пенсии по стар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пенсии по старости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Ч + СЧ+Н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Ч – определяется законода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 =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мма страховой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2 месяцев*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Ч =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мма накопительной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2 месяцев*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дожития (19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E26A-93B9-4296-A0B6-F73E3D3C4E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для лиц родившихся не ране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1953 г (для мужчин)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1957 г. (для женщ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для них с 2002 г, часть средств (накопительная часть) переводится на личные накопительные сч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начисления в ПФ (персонифицированный учет) составляет в настоящее время 14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40C8-9D0A-44C5-B35F-8BF528DD6B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1095-FD03-42B4-965B-A2D8DD23F7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987-E75B-4F4B-8080-127BF1BA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833A-8AA0-49CD-9C93-1BD9DF62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8919-0E0F-41EC-AD0B-27EC905A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952D-169C-431C-AE5E-7AE32C6A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F602-5EF5-4EEE-A9CF-3F7A8CF6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23F8-57DD-4077-94D9-675104F7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0265-EBDD-456D-A67E-5152E2DF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E80C-7E8F-4A4C-975A-3013C0B3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EB1D-BB72-4D72-8E3B-D31654C4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D4F8-882E-4FAF-A535-5302DD6F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B76E-BF28-46A3-AB35-021F4FA5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11C0-C34E-4170-ABDD-688DB4DD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E3F6-D5C6-42BC-9B86-E0997D8E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4377-2CA3-4E05-A82A-2975F78E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1494-5230-4A6F-90A5-F874C993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FCA7-4263-40E3-9F90-4023828E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34E9-5FFE-41D7-98E6-13EF6C26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0601B-5C42-4FDD-ACB0-0A96E163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9F8C9-C8B1-4D10-847A-D3AEE858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E5AC7-8668-4428-95D9-4DC2FCF1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3E6BB-3CE7-4C59-8231-D63F436C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3D3EA-DB34-432A-BE9E-CAECC284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C5B1-EB44-4BB1-BDD3-6212C971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C1BDA-F47A-43E4-B026-45D965E7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CF9DE-31DA-4BD9-A370-F36CEA77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A39F2-A33F-4C9D-A167-EB42B528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D71EC-2EA7-4512-BE97-2897ECD8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52B55-62D7-4F3A-A2DC-40770CFC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B9BEB-2470-480B-9FB8-BB5E8CA0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3DFDC-E6A0-4340-86F5-466DD4E5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CEF19-3EAC-41CE-B49D-B92F6995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1C4CC-BED9-46EA-ACD5-31EE1E66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8B774-05F6-4DED-B7F8-F94036B1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6C13-367D-49ED-A188-8FC23BB3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86647-BD4E-49E5-B093-B0491B7D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C29E4-79B3-421F-A118-0CFF25E7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D94DF-C63B-4123-B4E6-89C88A1D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9E325-4AFC-49C2-9A1D-6371E7CC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99FA9-6C3D-4A12-B816-AC5BA108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F13AE-3CC7-413B-A808-F9C62571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DC890-5FA4-4761-9E78-51D9FB9C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4EEFD-48D2-4125-B9C9-2034CCB3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F1856-7960-46EA-A789-049122E5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9C454-4269-4D11-B274-52653722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C507-6090-4207-AA6F-A3E05592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B39C5-6A12-441B-BE5E-15243E49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70216-291A-4533-9116-08C8AB7A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1F28B-6A15-4048-85E1-017171E8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8AE4E-0681-4FAE-B909-6E4C5EB6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62523-64F2-43D4-945B-E968F616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D9A4A-8017-459A-9AA9-0C89544C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A2E00-44FD-4B9E-8516-74027530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BC32C-B730-4A3C-836E-A3352A56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619F9-FBD0-4DA1-AF19-CC60C99E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5A9F7-5CB2-4CCF-970F-06DDAA3A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FA49-00DC-482A-AB52-A5D4CAB6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BE0FF-E360-4F31-AB59-05BA7E77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EB68A-059E-45A8-A602-43EFF54F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4CA29-0FFF-4C89-B48F-521494A7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B4C1C-A49D-480B-96E6-8E641E14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9F798-1975-4714-848E-11A099A3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DACFF-691C-4BEA-8903-A74EDFBF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B3989-FF94-46E2-BBCE-0C435EBC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1E29E-F57F-455E-8ECA-E87EF25D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0905C-A1FD-44B1-AD7D-6C13CC85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154B2-EE0D-461C-BDBA-E60D7066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B23B-F83C-42AB-9438-F5A97360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57B95-75D6-4A65-852F-ADB0A88E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83734-E2F7-4B79-ACBF-309E6BAA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C08B0-2F16-46A2-A001-E7B3CF15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6A51-FD26-4685-B277-E28232F2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0298-991F-4A8D-AD4B-84F756BC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Прямоуг.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Группа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Прямоуг.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Линия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E122-9AB4-486F-87C9-5AA8C4B945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Линия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Группа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8" name="Группа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9" name="Прямоуг.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Полилиния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Группа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" name="Автофигура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Автофигура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D4FB-60E2-46F8-A7E4-762FB7A5638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6EA8-AFC7-458B-B3A7-D67F84D8512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олилиния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Линия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Группа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9" name="Прямоуг.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Группа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1" name="Прямоуг.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Прямоуг.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Линия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Группа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5" name="Прямоуг.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Линия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5A8E-5385-445C-BCEE-AAABD708AA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Группа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9" name="Прямоуг.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Автофигура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Группа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2" name="Автофигура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Автофигура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1803-975F-46ED-AFA1-E88DC6EC7CB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олилиния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Линия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9EFD-2EC8-4A4E-A0A1-02831D64ED9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оциальное обеспе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611280" y="1557360"/>
          <a:ext cx="8353440" cy="4959360"/>
        </p:xfrm>
        <a:graphic>
          <a:graphicData uri="http://schemas.openxmlformats.org/drawingml/2006/table">
            <a:tbl>
              <a:tblPr/>
              <a:tblGrid>
                <a:gridCol w="2452680"/>
                <a:gridCol w="3020760"/>
                <a:gridCol w="28800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 работ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исления в страховую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исления в накопительную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3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ы и женщины 1967 г.р. и моло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ла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 - в 2002-2003г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 – в 2004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 - в 2005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 - С 2006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 - в 2002-2003г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 – в 2004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 - в 2005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 - С 2006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ы и женщины 1967 г.р. и моло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ак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 - в 2002-2003г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 – в 2004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 - в 2005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 - С 2006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 - в 2002-2003г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 – в 2004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 - в 2005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 - С 2006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заработной платы составляет 5000 руб. Предположим, мы будем отчислять в страховую часть 8% от этой суммы в течение 30 лет, а в накопительную часть исходя из условий мы тогда будем отчислять 6% от ФОТ. Введем еще одно условие, что средняя доходность от вложений Инвестиционной компании составит 7% в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читать размер пен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Ч = 900 руб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79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 01.01.0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Ч: ежемесячно отчисляем 8% от 5000 руб., т.е. по 400 руб.  За 30 лет перечислим 144000 руб. (400 * 12мес.*30ле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Чмес. =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144000 руб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632 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мес* 19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280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Ч:  ежемесячно 6%, т.е. 5000 *6% = 300 руб. Тогда за 30 лет в накопительную часть перечисле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00 *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(1+0,07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^29 –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314447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Ч мес. =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314447 руб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379 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мес*19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пенсии раве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 900 руб. (БЧ) +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32 руб. (СЧ) +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379 руб. (НЧ) = 2911 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удовая пенсия по инвалидно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базовой части трудовой пенсии по инвалидности в зависимости от степени ограничения способности к трудовой деятельности устанавливается в следующих сумм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при III степени - 1 800 рублей в месяц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при II степени - 900 рублей в месяц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п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епени - 450 рублей в меся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63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Характеристика основных составных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частей пенсионной системы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50920" y="1125360"/>
          <a:ext cx="8893080" cy="5542200"/>
        </p:xfrm>
        <a:graphic>
          <a:graphicData uri="http://schemas.openxmlformats.org/drawingml/2006/table">
            <a:tbl>
              <a:tblPr/>
              <a:tblGrid>
                <a:gridCol w="865080"/>
                <a:gridCol w="1149480"/>
                <a:gridCol w="722160"/>
                <a:gridCol w="863640"/>
                <a:gridCol w="792000"/>
                <a:gridCol w="865440"/>
                <a:gridCol w="863640"/>
                <a:gridCol w="863640"/>
                <a:gridCol w="1047600"/>
                <a:gridCol w="860400"/>
              </a:tblGrid>
              <a:tr h="950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сионная сист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ое пенсионное обеспеч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ое пенсионное страх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полнительное пенсионное  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хование и обеспечен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вые пенс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фессиональные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си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копительные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си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государственные пенс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латы к пенсия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сии военнослужащим и д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сии «чернобыльцам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е пенс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ая ч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ховая  и накопительная ча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ая осно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ый бюдж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язательные страховые взносы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овольные взн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бюджетов и организац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пенс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- 75%       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ого      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иксированный разме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сионный капитал и накопления/ожидаемый  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иод выплаты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условиях догово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решению собственника сред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 управ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ое</a:t>
                      </a:r>
                      <a:br>
                        <a:rPr sz="1100"/>
                      </a:b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сионный фонд РФ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государственные пенсионные фонды и иные страховщик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собственником сред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Виды </a:t>
            </a:r>
            <a:r>
              <a:rPr b="1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социальных пособ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53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временной нетрудоспособности (по    среднему заработку)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по беременности и родам (по среднему заработку за 12 мес. 70 дней до родов и 70 дней после родов, но максимальная сумма 12480 руб.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90 руб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 01.01.09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 единоразовое пособие при рождении ребен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сыновлении) ребенка выплачивается в размере  9592,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б. (с 01.01.09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Виды </a:t>
            </a:r>
            <a:r>
              <a:rPr b="1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социальных пособ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4596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жемесячно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обие на период отпуска по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ходу за ребенк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 достижения им возраста полутора лет выплачивается в размер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00 руб. (1798,51 – с 01.01.09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ервого ребенка и 3000 руб. (3597,01 – 01.01.09) на каждого последующег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на детей военнослужащих срочной службы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пособие по безработице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ритуальные пособия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социальная помощь малоимущи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небюджетные фонды: определен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78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совокупность финансовых ресурсов, не  входящих в состав бюджетов всех уровней бюджетной системы РФ и изъятию не подлежат, и имеют как правило, целевое назнач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а государственных внебюджетных фондов находятся в федеральной собств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ормативно – законодательное регулирование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нституция РФ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З от 17.12.2001 №173-ФЗ «О трудовых пенсиях в РФ«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З №167 –ФЗ «Об обязательном пенсионном страховании в РФ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З № 81-ФЗ «О государственных пособиях гражданам, имеющим детей»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Централизованные (государственные) внебюджетные</a:t>
            </a: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онды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604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ют общегосударственное значение и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едназначены для реализации конституционных прав граждан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циальное обеспечение по возраст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циальное обеспечение по болезни, инвалидности, в случае потери кормильца, рождения и воспитания детей и в других случаях, предусмотренных законодательством РФ о социальном обеспечен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циальное обеспечение в случае безработиц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храну здоровья и получение бесплатн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Состав централизованных (государственных) внебюджетных фондов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425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нсионный Фонд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д социального страхования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льный фонд обязательного медицинского страх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ый фонд занятости населения Р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ы государственных внебюджетных фондов Российской Федерации рассматриваются и утверждаются Федеральным Собранием в форме федеральных законов одновременно с принятием федерального закона о федеральном бюджете на очередной финансовый г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сточниками формирования внебюджетных фондов являютс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язательные платеж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бровольные взнос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быль от коммерческой деятельности, осуществляемой фондами (если разрешено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угие доходы, предусмотренные соответствующими законодательными акт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Источники Пенсионного фонд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формируются за счет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280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 страховых взносов работода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ховых взносов граждан, занимающихся предпринимательской деятельность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сигнований из федерального бюджета РФ на выплату государственных пенсий и пособий военнослужащим и приравненным к ним по пенсионному обеспечению гражданам, социальных пенсий их семьям, пособий на детей в возрасте старше полутора лет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ровольных взносов физических и юридических лиц, а также доходов от капитализации средств фон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редства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фонда социального страхования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образуются за счет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604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аховых взносов работодател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аховых взносов граждан, занимающихся предпринимательской деятельность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ходов от инвестирования части временно свободных средств Фонда в ликвидные государственные  ценные бумаги и банковские вклад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бровольных взносов граждан и юридических лиц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ссигнований из федерального бюджета на покрытие расходов, в установленных законом случая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чих доход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редства ФСС направляются на: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лату пособий по временной нетрудоспособности, беременности и родам, при рождении ребенка, по уходу за ребенком до достижения им возраста полутора лет, на погреб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аторно – курортное лечение и оздоровление работников и членов их сем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научно – исследовательской работы по вопросам социального страхования и охраны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ение иных мероприятий в соответствии с задачами фон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Фонды обязательного медицинского страхования формируются  за счет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и страховых взносов предприятий, организаций, учреждений и иных хозяйствующих субъектов независимо от форм собственности на обязательное медицинское страхование в размерах, устанавливаемых Федеральным Собранием РФ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ссигнований из федеральных и региональных бюджетов на выполнение программ обязательного медицинского страхов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бровольных взнос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ходов от использования временно свободных финансовых средств фонд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Фонды обязательного медицинского страхования: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цель, виды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532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Цель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гарантировать гражданам при возникновении страхового случая получение медицинской помощи за счет накопленных средств и финансировать профилактические мероприя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и фонды предназначены для финансирования страховыми организациями медицинской помощи и иных услуг в соответствии с договорами обязательного медицинского страхования. Такие фонды созданы на федеральном и территориальном уровня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дицинское страхование осуществляется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 двух видах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обязательном и добровольн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ховыми медицинскими организациями выступают юридические лица, являющиеся самостоятельными хозяйствующими субъектами, с любыми формами собственности, обладающие необходимым для осуществления медицинского страхования уставным фон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813564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Процесс составления, утверждения, исполнения бюджетов ВФ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ы бюджетов внебюджетных фондов составляются органами соответствующих фондов и представляются исполнительными органами власти на рассмотрение представительным органам одновременно с проектом бюджета на следующий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юджеты государственных внебюджетных фондов РФ рассматриваются и утверждаются Федеральным Собранием в форме федеральных законов на очередной финансовый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ья 39 Конституции РФ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арантиру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жданам Росси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аво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уд, отдых, охрану здоровья, социальное обеспечение в старости, в случае болезни, полной или частичной утраты трудоспособности и потери кормильца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аво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лище, на образование, на пользование достижениями культуры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 из этих прав предусматривает удовлетворение различных потребностей граждан и обеспечивается соответствующими мероприятиями и сред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Процесс составления, утверждения, исполнения бюджетов В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77724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нение бюджетов государственных внебюджетных фондов осуществляется Федеральным казначейством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чет об исполнении бюджета государственного внебюджетного фонда составляется органом управления фонда и представляется Правительством РФ на рассмотрение и утверждение Федеральному Собранию в форме федерального зак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Децентрализованные внебюджетные фонд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604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уются для решения территориальных, отраслевых, межотраслевых и других зада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ним относятся внебюджетные фонды, создаваем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по решению региональных и муниципальных органов власти для решения региональных и местных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для решения отраслевых задач (фонды научно – исследовательских и опытно – конструкторских разработок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ределе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569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ак экономическая категория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социальное обеспечение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представляет собой систему распределительных отношений, в процессе которых за счет части национального дохода образуются и используются общественные фонды денежных средств, для материального обеспечения и обслуживания граждан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Принципы построения социального обеспечения :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0755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сеобщност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общедоступност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размер и форма обеспечения зависят от прошлого труда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разнообразие предоставляемых форм обеспечения и услуг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демократический характер организации социального обеспечения и его управлени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68000" y="0"/>
            <a:ext cx="8496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новные виды расходов по социальному обеспечению – выплаты пенсий и пособ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Пенсии –</a:t>
            </a: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 это периодические выплаты определенных денежных сумм для материального обеспечения граждан в связи со старостью, инвалидностью, выслугой лет и смертью кормильца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счет пенсии по старост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78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ер пенсии по старости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Ч + СЧ+Н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Ч – определяется законода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Ч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умма страховой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2 месяцев*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Ч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умма накопительной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2 месяцев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дожития (19 л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60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ется для лиц родившихся не ране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1953 г (для мужчин)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1957 г. (для женщи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для них с 2002 г, часть средств (накопительная часть) переводится на личные накопительные сч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нт начисления в ПФ (персонифицированный учет) составляет в настоящее время 14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84360" y="1600200"/>
          <a:ext cx="8280360" cy="4176720"/>
        </p:xfrm>
        <a:graphic>
          <a:graphicData uri="http://schemas.openxmlformats.org/drawingml/2006/table">
            <a:tbl>
              <a:tblPr/>
              <a:tblGrid>
                <a:gridCol w="3049560"/>
                <a:gridCol w="2616120"/>
                <a:gridCol w="2614680"/>
              </a:tblGrid>
              <a:tr h="125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 работ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исления в страховую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исления в накопительную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ы до 1953 г и женщины до 1957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ы  1953 – 1966 и женщины 1957 – 1966 г.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 - до 01.01.2005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 - пос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  до 01.01.2005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 - пос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2:05:41Z</dcterms:created>
  <dc:creator>Riabova Elena</dc:creator>
  <dc:description/>
  <dc:language>en-US</dc:language>
  <cp:lastModifiedBy>LEGION</cp:lastModifiedBy>
  <dcterms:modified xsi:type="dcterms:W3CDTF">2014-11-10T12:20:36Z</dcterms:modified>
  <cp:revision>48</cp:revision>
  <dc:subject/>
  <dc:title>Социальное обеспечение</dc:title>
</cp:coreProperties>
</file>