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9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0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21"/>
          </p:nvPr>
        </p:nvSpPr>
        <p:spPr>
          <a:xfrm>
            <a:off x="381960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FF35-54BF-42EB-828A-D5C4B6C784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DCB-70A5-4685-B04F-290EFDFFB7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B06B-511E-429A-89E8-9086E464B4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читать размер пен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C0B-DBE9-4CEC-8E1F-794475E9BC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= 900 руб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79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Ч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44000 руб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632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 19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EBA6-1F0E-48DB-85BB-3C3B99D1B9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:  ежемесячно 6%, т.е. 5000 *6% = 300 руб. Тогда за 30 лет в накопительную часть перечис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00 *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1+0,07)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^29 –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314447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Ч 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14447 руб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1379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19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30BA-D70A-4D6E-A151-F0CBA05A9D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рав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900 руб. (Б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2 руб. (С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79 руб. (НЧ) = 2911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DE49-058F-471E-8EAE-523F1B248B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овая пенсия по инвалид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и III степени - 1 800 рублей в меся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и II степени - 900 рублей в месяц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450 рублей в меся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FE6B-5AFA-4D9B-991E-5E93006DB4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а основных составных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ей пенсион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84E1-F38E-4CE8-8778-1FE7A22F89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временной нетрудоспособности (по    среднему заработк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беременности и родам (по среднему заработку за 12 мес. 70 дней до родов и 70 дней после родов, но максимальная сумма 12480 руб. (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0 руб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единоразовое пособие при рождении ребенка (усыновлении) ребенка выплачивается в размере  9592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 (с 01.01.0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6B48-AA4D-4455-9971-8F7EF051D2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месячно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на период отпуска п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ходу за ребен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 достижения им возраста полутора лет выплачивается в размер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 руб. (1798,51 – с 01.01.09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го ребенка и 3000 руб. (3597,01 – 01.01.09) на каждого последующег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на детей военнослужащих срочной службы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особие по безработиц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ритуальные пособия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социальная помощь малоимущи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5E19-2490-4DB7-A263-A18040E9D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небюджетные фонды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7296-7AAD-4E07-9CAA-6F4F664050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тивно – законодательное регулиров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итуц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от 17.12.2001 №173-ФЗ «О трудовых пенсиях в РФ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167 –ФЗ «Об обязательном пенсионном страховании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 81-ФЗ «О государственных пособиях гражданам, имеющим детей»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DD85-5B3F-44B3-9DD5-B58180870D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ализованные (государственные) внебюдже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меют общегосударственное значение и 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предназначены для реализации конституционных прав граждан н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возрас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в случае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у здоровья и получение бесплат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3374-5E8C-4768-AB16-429BB3732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централизованных (государственных) внебюджетных фон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нсионный Фонд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д социального страхования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фонд обязательного медицинского страх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фонд занятости населения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1309-B038-4383-B504-DF11A72453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точниками формирования внебюджетных фондов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е взн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коммерческой деятельности, осуществляемой фондами (если разрешен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доходы, предусмотренные соответствующими законодательными 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D5EA-5E89-463C-8552-F3FEE4295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точники Пенсионного фон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формируются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 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8EE4-A5B1-43FB-BAEA-0395A1841A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нда социального страх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образуются за сч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граждан и юрид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AFAF-70FA-4AE2-9873-6879C08274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ФСС направляются на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аторно – курортное лечение и оздоровление работников и членов их сем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иных мероприятий в соответствии с задачами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421B-C896-4153-9C11-3117C3D006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 формируются 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спользования временно свободных финансовых средств фон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85CA-0705-4BE4-8D78-59D8AA7F37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цель, ви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страхование осуществля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двух вид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обязательном и доброво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63AF-DE12-4C2A-9FA0-7E1F734D4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A644-D900-473B-BA32-7E315869AA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6C7-C146-4AC1-92C1-3221E16062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39 Конституции РФ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арант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ам Росс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лище, на образование, на пользование достижениями культур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CB58-5A05-4DE6-AB76-A9294B2AB9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EDD-00A6-4735-A772-8F2AB72264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централизованные внебюджетные фо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ются для решения территориальных, отраслевых, межотраслевых и други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им относятся внебюджетные фонды, создаваем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7188-9051-4C85-A185-4A280F2169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кономическая категор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0C8F-7662-46F1-9027-0195FB313A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нципы построения социального обеспечения 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общ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доступ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мер и форма обеспечения зависят от прошл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нообразие предоставляемых форм обеспечения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мократический характер организации социального обеспечения и е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2669-2FD9-4336-BBB8-C6E9784BA9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ные виды расходов по социальному обеспечению – выплаты пенсий и пособ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нсии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4B59-9B92-4B68-A4E8-C7465D632A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пенсии по стар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по старости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Ч + СЧ+Н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– определяется законод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страхов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накопительн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дожития (19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7B53-4204-4174-AE97-26A594E08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для лиц родившихся не ране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3 г (для мужчин)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7 г. (для женщ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начисления в ПФ (персонифицированный учет) составляет в настоящее время 14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46AA-306F-4428-A0CF-A9572622E8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D788-02D3-4A1E-B93B-7D8662CD57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994-96DD-498C-8949-5E91C958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AE8-F5E6-42B4-83E2-E9ADF92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072-8C8F-4D0B-91BA-04A58F76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14B-73C4-48D0-855B-62EDA803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A055-DAE9-414D-A2D2-FCA2BD15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66F2-3CC6-4898-AF0A-12677C1D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D914-FFEC-4B6B-8FEB-BBD6FF97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5A0D-9B1F-46F6-8409-79DA9899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4E58-BC5B-4D08-8B9A-E22E4C1E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293D-213B-4DE5-903B-65C94FED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1109-1023-457F-A768-FDF912C9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A11-0A64-4335-AEB5-E615A077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75BB-DC92-4A7B-89A8-8195DFC7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4F6B-8B12-4108-AEC5-6F0409F8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AF74-13AF-4962-8D98-22734AFC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A36B-F7B2-4332-9575-98314F42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2605-2DBD-4453-8D9F-F1F763F2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FB3A-C655-476A-A085-F0CAC006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F08B-73DA-4881-8FAC-DDF91F1A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78FF-17A5-48A0-B417-6EA11BA1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787BF-F7C1-4631-A13D-728A9548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8FBC-D08B-4C31-977F-441A9F74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ECB-0B88-4120-8CF5-A48198B8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16A2-1F49-4C5A-A3FD-C6119F02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6AC8-ABEF-4B5B-9CB4-062699D9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374F-5B2D-4AD7-92FC-9890809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7601-F8E9-4792-9264-E625D8A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7716-5DF5-46D4-8432-B6C985E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84EA-F802-4F3D-9ADC-4B96784A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9E306-9BF2-4B83-8FE9-051A174F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B93C6-BDB5-4A3F-BEA3-EF86CAF6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796C8-C1EA-47D2-AE6F-58B6FA77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42A1-1D86-401F-A51D-672881A6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753-B983-4C35-8F11-417B9DC2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88531-713E-4B0B-B3B6-576438DB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51F3-3BDE-40CD-8A2B-39F1F6FA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839A-F9F8-4625-AE8A-22EE4D18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6D00-B880-4C3B-9B17-594C0CA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5414-16B5-4A57-9BFE-EFF57B8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EDB7-22FF-409D-8B39-B690A430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84F6-9087-4C03-9556-9BDE6CD4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A81A-4FD6-4B39-990D-4D565BD6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00E0D-4433-4AE0-9BF1-3C4CC3D2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1D37-0649-444C-BCB3-085682D8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EF8-BFAF-46DA-AB60-95D6DFAD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32B0-C390-4297-9234-CE6E22BD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14B02-DE6B-48BB-9B4D-3F2A025C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A2A03-178E-44B9-BB44-EB4C834D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89C34-227F-4CAA-A55D-AD56996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4CD1-6063-43E2-9D07-AC788D2F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1A8F-1EE2-4A55-A792-53C84DF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7C945-4B74-42DF-A7B1-A3A133A5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5A707-CBDA-481C-8FBF-DF5C9FA5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C526-71C6-4984-BC50-36CE4E60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F42E9-D5C2-4489-A518-9E721D80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396-1BC7-4477-A055-3A299966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76AD9-9470-4350-9A9E-AE4C582C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0E459-35E1-4C56-A994-753F2C3F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9A53B-6A14-4401-856D-46DF12D6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4E59-2A3D-418D-9C33-3AB4029E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5D976-E51F-4466-B047-7D7F6160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2E31-89E5-4D3A-AC90-7A261099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1677E-B07B-43A8-AACA-368CC9BB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4EE9F-FEFA-4631-A015-C588348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47442-C168-4106-93AB-1B6FBA3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EFD3A-FBED-44DD-8E25-A73FDA56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346-8107-4A8B-B8B8-019B17C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13C4F-F361-45B0-9912-9430F50A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6120-A098-4E34-9FC3-1A1FC03D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2B0FF-DFC5-4B08-831A-16F1B57F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0FB-0D83-4141-9959-1E6BB384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662-3359-4041-B8D2-C8565F2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9ADB-2FA3-4872-8695-6225B3FC6B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" name="Группа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9" name="Прямоуг.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Полилиния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Группа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" name="Автофигура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Автофигура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3BB6-9714-4A58-AE78-050BD79C9B0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88EF-A8A5-4569-BAA7-3716EF6189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олилиния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Линия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9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1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5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2F23-AC77-40A6-AFF0-2C484F6304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Группа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9" name="Прямоуг.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Автофигура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2" name="Автофигура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Автофигура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E4E9-863A-4A94-9F6B-30D2F5A6612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олилиния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Линия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7812-7A3D-43F8-8879-F5D3DEC897D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оциальное обеспе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11280" y="1557360"/>
          <a:ext cx="8353440" cy="4959360"/>
        </p:xfrm>
        <a:graphic>
          <a:graphicData uri="http://schemas.openxmlformats.org/drawingml/2006/table">
            <a:tbl>
              <a:tblPr/>
              <a:tblGrid>
                <a:gridCol w="2452680"/>
                <a:gridCol w="3020760"/>
                <a:gridCol w="2880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ла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ак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ть размер пен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Ч = 900 руб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7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Чмес. =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44000 ру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32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мес* 19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:  ежемесячно 6%, т.е. 5000 *6% = 300 руб. Тогда за 30 лет в накопительную часть перечисл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0 *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1+0,07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^29 –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31444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Ч мес.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14447 руб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379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мес*1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пенсии рав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 900 руб. (Б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32 руб. (С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79 руб. (НЧ) = 2911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удовая пенсия по инвалид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и III степени - 1 800 рублей в меся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ри II степени - 900 рублей в месяц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епени - 450 рублей в меся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6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Характеристика основных составных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частей пенсионной систем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0920" y="1125360"/>
          <a:ext cx="8893080" cy="5542200"/>
        </p:xfrm>
        <a:graphic>
          <a:graphicData uri="http://schemas.openxmlformats.org/drawingml/2006/table">
            <a:tbl>
              <a:tblPr/>
              <a:tblGrid>
                <a:gridCol w="865080"/>
                <a:gridCol w="1149480"/>
                <a:gridCol w="722160"/>
                <a:gridCol w="863640"/>
                <a:gridCol w="792000"/>
                <a:gridCol w="865440"/>
                <a:gridCol w="863640"/>
                <a:gridCol w="863640"/>
                <a:gridCol w="1047600"/>
                <a:gridCol w="860400"/>
              </a:tblGrid>
              <a:tr h="95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н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 пенсионное обесп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пенсионное страх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ое пенсионное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хование и обеспеч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сиона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опите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осударствен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латы к пенс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военнослужащим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«чернобыльца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ая ч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овая  и накопительная ч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ая осно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язательные страховые взнос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ые взн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бюджетов и организ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- 75% 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ого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ксированный разме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капитал и накопления/ожидаемый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 выплат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словиях догов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ешению собственника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фонд РФ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осударственные пенсионные фонды и иные страховщик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собственником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ременной нетрудоспособности (по    среднему заработку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 беременности и родам (по среднему заработку за 12 мес. 70 дней до родов и 70 дней после родов, но максимальная сумма 12480 руб.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0 руб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единоразовое пособие при рождении ребен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сыновлении) ребенка выплачивается в размере  9592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. (с 01.01.0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месячно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обие на период отпуска п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ходу за ребен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достижения им возраста полутора лет выплачивается в разме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0 руб. (1798,51 – с 01.01.09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го ребенка и 3000 руб. (3597,01 – 01.01.09) на каждого последующе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на детей военнослужащих срочной служб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собие по безработиц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итуальные пособ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оциальная помощь малоимущи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небюджетные фонды: определ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рмативно – законодательное регулиров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итуция РФ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от 17.12.2001 №173-ФЗ «О трудовых пенсиях в РФ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167 –ФЗ «Об обязательном пенсионном страховании в РФ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 81-ФЗ «О государственных пособиях гражданам, имеющим детей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Централизованные (государственные) внебюджетные</a:t>
            </a: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онды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6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ют общегосударственное значение и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едназначены для реализации конституционных прав граждан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возраст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в случае безработиц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храну здоровья и получение бесплатн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Состав централизованных (государственных) внебюджетных фондов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42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ный Фонд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фонд обязательного медицинского страх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фонд занятости населения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точниками формирования внебюджетных фондов являю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язательные платеж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овольные взнос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ыль от коммерческой деятельности, осуществляемой фондами (если разрешено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е доходы, предусмотренные соответствующими законодательными ак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сточники Пенсионного фонд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формируются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 страховых взносов работода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фонда социального страх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образуются за счет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работода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 граждан и юридических лиц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чих дох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ФСС направляются на: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аторно – курортное лечение и оздоровление работников и членов их сем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ение иных мероприятий в соответствии с задачами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 формируются 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спользования временно свободных финансовых средств фон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: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цель, виды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ое страхование осуществляет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двух вид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обязательном и доброволь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13564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ья 39 Конституции РФ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рант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ам Росси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лище, на образование, на пользование достижениями культуры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Децентрализованные внебюджетные фонд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60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тся для решения территориальных, отраслевых, межотраслевых и других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ним относятся внебюджетные фонды, создавае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6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ак экономическая категория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оциальное обеспечение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инципы построения социального обеспечения :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еобщ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общедоступ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мер и форма обеспечения зависят от прошлого труд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нообразие предоставляемых форм обеспечения и услуг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демократический характер организации социального обеспечения и его управле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496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виды расходов по социальному обеспечению – выплаты пенсий и пособ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Пенсии –</a:t>
            </a: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чет пенсии по старост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 пенсии по старости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Ч + СЧ+Н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Ч – определяется законод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страхов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накопительн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дожития (19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ся для лиц родившихся не ран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3 г (для мужчин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7 г. (для женщ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начисления в ПФ (персонифицированный учет) составляет в настоящее время 1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4360" y="1600200"/>
          <a:ext cx="8280360" cy="4176720"/>
        </p:xfrm>
        <a:graphic>
          <a:graphicData uri="http://schemas.openxmlformats.org/drawingml/2006/table">
            <a:tbl>
              <a:tblPr/>
              <a:tblGrid>
                <a:gridCol w="3049560"/>
                <a:gridCol w="2616120"/>
                <a:gridCol w="2614680"/>
              </a:tblGrid>
              <a:tr h="12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до 1953 г и женщины до 1957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 1953 – 1966 и женщины 1957 – 1966 г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 -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 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5:41Z</dcterms:created>
  <dc:creator>Riabova Elena</dc:creator>
  <dc:description/>
  <dc:language>en-US</dc:language>
  <cp:lastModifiedBy>LEGION</cp:lastModifiedBy>
  <dcterms:modified xsi:type="dcterms:W3CDTF">2014-11-10T12:20:36Z</dcterms:modified>
  <cp:revision>48</cp:revision>
  <dc:subject/>
  <dc:title>Социальное обеспечение</dc:title>
</cp:coreProperties>
</file>