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dt" idx="19"/>
          </p:nvPr>
        </p:nvSpPr>
        <p:spPr>
          <a:xfrm>
            <a:off x="381960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ftr" idx="20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 type="sldNum" idx="21"/>
          </p:nvPr>
        </p:nvSpPr>
        <p:spPr>
          <a:xfrm>
            <a:off x="381960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FDC6-1CAE-4AFA-BCED-4F6A65ED2BC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обесп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9874-AAC0-4E06-B316-F4AC86D26C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 страховой и накопительной  частей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DF6B-2139-40A9-B139-3DE48CB408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чет страховой и накопительной  частей (продолжени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заработной платы составляет 5000 руб. Предположим, мы будем отчислять в страховую часть 8% от этой суммы в течение 30 лет, а в накопительную часть исходя из условий мы тогда будем отчислять 6% от ФОТ. Введем еще одно условие, что средняя доходность от вложений Инвестиционной компании составит 7% в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читать размер пен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2BC8-D1AD-43E8-9B01-E282DBC7E3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чет страховой и накопительной  частей (продолжение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Ч = 900 руб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79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c 01.01.0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: ежемесячно отчисляем 8% от 5000 руб., т.е. по 400 руб.  За 30 лет перечислим 144000 руб. (400 * 12мес.*30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Чмес. =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44000 руб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 632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2мес* 19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C464-7A0A-4CDC-8E4C-1CDE765133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чет страховой и накопительной  частей (продолжение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Ч:  ежемесячно 6%, т.е. 5000 *6% = 300 руб. Тогда за 30 лет в накопительную часть перечисле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600 *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(1+0,07)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^29 – 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=314447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Ч мес. =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14447 руб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1379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2мес*19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A165-80A0-4F89-A6E3-342CE43552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пенсии рав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900 руб. (БЧ) +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32 руб. (СЧ) +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79 руб. (НЧ) = 2911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4C28-CB5B-45A7-864A-6F342183B6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удовая пенсия по инвалид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базовой части трудовой пенсии по инвалидности в зависимости от степени ограничения способности к трудовой деятельности устанавливается в следующих сумм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и III степени - 1 800 рублей в меся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и II степени - 900 рублей в месяц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р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- 450 рублей в меся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DBCA-1A69-46A7-8377-2219FE353D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арактеристика основных составных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тей пенсион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0408-2015-4F40-A75A-94C4C060D6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иды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циальных пособ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 временной нетрудоспособности (по    среднему заработку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 беременности и родам (по среднему заработку за 12 мес. 70 дней до родов и 70 дней после родов, но максимальная сумма 12480 руб. (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90 руб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c 01.01.0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единоразовое пособие при рождении ребенка (усыновлении) ребенка выплачивается в размере  9592,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б. (с 01.01.09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8FCB-B9BC-4B86-8172-0A66520416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иды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циальных пособ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месячно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обие на период отпуска по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ходу за ребен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о достижения им возраста полутора лет выплачивается в размер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0 руб. (1798,51 – с 01.01.09)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ервого ребенка и 3000 руб. (3597,01 – 01.01.09) на каждого последующего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на детей военнослужащих срочной службы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пособие по безработице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ритуальные пособия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социальная помощь малоимущим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31FD-1402-4675-B367-68E351907A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небюджетные фонды: определ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ость финансовых ресурсов, не  входящих в состав бюджетов всех уровней бюджетной системы РФ и изъятию не подлежат, и имеют как правило, целевое назна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государственных внебюджетных фондов находятся в федеральной собств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8500-D38A-4EF1-AEAB-3BA0755CD2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ормативно – законодательное регулирова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ституция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З от 17.12.2001 №173-ФЗ «О трудовых пенсиях в РФ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З №167 –ФЗ «Об обязательном пенсионном страховании в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З № 81-ФЗ «О государственных пособиях гражданам, имеющим детей»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0452-E3DD-4277-B393-D05A087FB1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трализованные (государственные) внебюджет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н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меют общегосударственное значение и </a:t>
            </a:r>
            <a:r>
              <a:rPr b="1" i="1" lang="ru-RU" sz="1000" spc="-1" strike="noStrike" u="sng">
                <a:solidFill>
                  <a:srgbClr val="000000"/>
                </a:solidFill>
                <a:uFillTx/>
                <a:latin typeface="Calibri"/>
              </a:rPr>
              <a:t>предназначены для реализации конституционных прав граждан на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обеспечение по возрас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обеспечение по болезни, инвалидности, в случае потери кормильца, рождения и воспитания детей и в других случаях, предусмотренных законодательством РФ о социальном обеспече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обеспечение в случае безработ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у здоровья и получение бесплатной медицинск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1ABC-E1E9-4139-9C39-8879BCA531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став централизованных (государственных) внебюджетных фонд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нсионный Фонд РФ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нд социального страхования РФ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едеральный фонд обязательного медицинского страхова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осударственный фонд занятости населения РФ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ы государственных внебюджетных фондов Российской Федерации рассматриваются и утверждаются Федеральным Собранием в форме федеральных законов одновременно с принятием федерального закона о федеральном бюджете на очередной финансовый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6D3B-B02A-4BF9-ABAF-9A13B935BC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сточниками формирования внебюджетных фондов являютс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платеж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ые взно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от коммерческой деятельности, осуществляемой фондами (если разрешено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е доходы, предусмотренные соответствующими законодательными ак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07E0-9FE5-4E23-82A1-BB30B944BC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сточники Пенсионного фон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формируются за счет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 страховых взносов работода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ых взносов граждан, занимающихся предпринимательской деятельность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сигнований из федерального бюджета РФ на выплату государственных пенсий и пособий военнослужащим и приравненным к ним по пенсионному обеспечению гражданам, социальных пенсий их семьям, пособий на детей в возрасте старше полутора лет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ых взносов физических и юридических лиц, а также доходов от капитализации средств фон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5BC1-329D-4856-8D52-52ED44A54C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едств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нда социального страхова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образуются за сче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ых взносов работода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ых взносов граждан, занимающихся предпринимательской деятельность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ов от инвестирования части временно свободных средств Фонда в ликвидные государственные  ценные бумаги и банковские вкла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ых взносов граждан и юридических л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сигнований из федерального бюджета на покрытие расходов, в установленных законом случа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х до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D59A-59AD-4A74-8EC6-B617FCE353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едства ФСС направляются на: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лату пособий по временной нетрудоспособности, беременности и родам, при рождении ребенка, по уходу за ребенком до достижения им возраста полутора лет, на погреб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аторно – курортное лечение и оздоровление работников и членов их сем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научно – исследовательской работы по вопросам социального страхования и охраны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иных мероприятий в соответствии с задачами фон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9DA5-6CB6-4A52-8570-66BA27601D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нды обязательного медицинского страхования формируются  за счет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и страховых взносов предприятий, организаций, учреждений и иных хозяйствующих субъектов независимо от форм собственности на обязательное медицинское страхование в размерах, устанавливаемых Федеральным Собранием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сигнований из федеральных и региональных бюджетов на выполнение программ обязательного медицинского страх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ых взно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ов от использования временно свободных финансовых средств фон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63A6-7163-4FC5-837C-963D405E02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онды обязательного медицинского страхования: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цель, виды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ел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гарантировать гражданам при возникновении страхового случая получение медицинской помощи за счет накопленных средств и финансировать профилактические меропри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фонды предназначены для финансирования страховыми организациями медицинской помощи и иных услуг в соответствии с договорами обязательного медицинского страхования. Такие фонды созданы на федеральном и территориальном уровн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ое страхование осуществляетс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двух вид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обязательном и доброволь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7E61-A40D-4081-A4B6-254E1B7AB7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ыми медицинскими организациями выступают юридические лица, являющиеся самостоятельными хозяйствующими субъектами, с любыми формами собственности, обладающие необходимым для осуществления медицинского страхования уставным фон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2AD0-A89D-4675-93D9-A7894350BA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цесс составления, утверждения, исполнения бюджетов В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 бюджетов внебюджетных фондов составляются органами соответствующих фондов и представляются исполнительными органами власти на рассмотрение представительным органам одновременно с проектом бюджета на следующий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ы государственных внебюджетных фондов РФ рассматриваются и утверждаются Федеральным Собранием в форме федеральных законов на очередной финансовый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C680-BE3F-4859-93C9-118B66DD0E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я 39 Конституции РФ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арантиру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ражданам Росси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аво 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руд, отдых, охрану здоровья, социальное обеспечение в старости, в случае болезни, полной или частичной утраты трудоспособности и потери кормильца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аво 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жилище, на образование, на пользование достижениями культуры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ое  из этих прав предусматривает удовлетворение различных потребностей граждан и обеспечивается соответствующими мероприятиями и сред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76C9-12DB-48A5-A71B-145E0A7C2F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цесс составления, утверждения, исполнения бюджетов ВФ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продолжение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ение бюджетов государственных внебюджетных фондов осуществляется Федеральным казначейством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 об исполнении бюджета государственного внебюджетного фонда составляется органом управления фонда и представляется Правительством РФ на рассмотрение и утверждение Федеральному Собранию в форме федерального зак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1C6B-CDD3-4C39-8AA7-38CDC7E8B2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централизованные внебюджетные фон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уются для решения территориальных, отраслевых, межотраслевых и других задач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ним относятся внебюджетные фонды, создаваем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о решению региональных и муниципальных органов власти для решения региональных и местны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для решения отраслевых задач (фонды научно – исследовательских и опытно – конструкторских разработок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991B-A55B-48BE-BD54-ED9E4D3B7F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экономическая категор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ое обеспеч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ставляет собой систему распределительных отношений, в процессе которых за счет части национального дохода образуются и используются общественные фонды денежных средств, для материального обеспечения и обслуживания гражд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156C-5161-4B9A-94A9-E491EF4E9D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инципы построения социального обеспечения 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сеобщ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щедоступ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змер и форма обеспечения зависят от прошлого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знообразие предоставляемых форм обеспечения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емократический характер организации социального обеспечения и его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6A43-0776-4A4B-A713-91139B6E71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сновные виды расходов по социальному обеспечению – выплаты пенсий и пособ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нсии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о периодические выплаты определенных денежных сумм для материального обеспечения граждан в связи со старостью, инвалидностью, выслугой лет и смертью кормиль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5035-7429-4F5B-BFE9-D73C19BD49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 пенсии по стар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пенсии по старости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Ч + СЧ+Н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Ч – определяется законодат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 =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умма страховой ч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2 месяцев*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Ч =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умма накопительной ч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2 месяцев*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дожития (19 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EBFF-639D-431F-A861-A4E524D1F9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чет страховой и накопительной  час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ся для лиц родившихся не ране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1953 г (для мужчин)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1957 г. (для женщи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для них с 2002 г, часть средств (накопительная часть) переводится на личные накопительные сч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 начисления в ПФ (персонифицированный учет) составляет в настоящее время 14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2F79-005A-4A77-9C5A-210A65DBEF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 страховой и накопительной  частей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944C-BAEA-4B81-A073-5067CDAE26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6B3E-2BE4-4F97-8C9D-4E58C209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2FDD-D030-4479-B410-CF3C433E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C2C9-71D2-4FDF-AEDC-AA1449303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E82E-8587-4469-BC6C-D2C363B3C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C9CD-943B-4C61-9571-79E2E9C6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C414-EE02-421E-AF4C-4D5AAEBC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FB26-B9D5-406F-B929-B948D91E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70CE-7750-4439-A714-629A8702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38A5-6226-4A43-ABAB-2BBE5BB3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BF48-D61C-4865-A5DE-41F50D4C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C07E-A4BC-41D2-BF9D-F7580213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4D3E-DECC-4D3F-8CF0-A6B25252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4B34-0A26-42D4-9434-423EFC34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91D3-6338-470B-8C0C-E7BB5E2B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E8CE-CAD6-44CA-B188-D697FA32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591F-AAD0-49DD-BC1D-2675F9E7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623C-D0C1-40A3-A382-AFF0DDD9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0ED71-13DC-4EF8-9CE9-400D04E9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D822F-E938-4113-B493-5947D699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4543C-DD91-49F0-A32F-C481521E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77632-578A-481A-9C9B-49F37AC1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4AD87-4348-4B2E-B8AF-4A2C968C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D324-25D2-498A-B713-FF7D3AD2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60581-990B-4728-A9CE-94A0E8D0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1F7F3-E066-444D-9052-A190C77D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60D4E-B4B1-4ECD-91E2-988AABE5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3E505-B1FD-4C35-A821-53DBB288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6D1D3-E4C4-4427-AC10-8863A77A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67DFA-16D2-4F0C-8C2E-665DFCBD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7FC6D-10FE-49EC-8A4A-F2892A26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D5642-C354-4590-921B-3C60E4B00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67828-2F4E-4779-BE01-0BEC1E4D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BFA6E-8C1F-481D-9F26-4D8BB092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3C8F-A6BB-48AB-88DD-6BEA6399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45532-9BC6-48CE-AEED-2C9F0CB7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46ED6-7DFB-4A0E-8202-EE580C01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E9871-9121-4157-8180-85401AF2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E9B07-E16B-4C93-9107-8021C986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8A955-9E32-4090-A701-755A8154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C30C2-0471-4C05-B4C7-D6C69C3A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89251-1BE3-400C-86C1-D1BC153F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AEA1B-CE9D-47B1-9C4E-763CAA25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EA62D-7D2B-4470-8E19-5DF121FF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7AF3A-207F-4E80-93C1-25FE3EC5C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01CA-292B-4122-B7A4-7EBF1E76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15714-695E-4A36-9C3D-6132F292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E8C60-5970-429B-B34F-D0366D6A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B21EA-FB27-4595-B0D7-FE8B09B4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7587F-C820-423D-BB74-B4E26F15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97FF3-613F-4E13-8951-BAE8854A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E4CFB-8BCA-402D-BBBF-D6D02486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D656A-E387-4176-BE95-F70B9FCE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D63AC-6450-4761-94CC-AE5A26E2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E32F7-B711-4408-9B0C-FB5D3450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BC2FF-C8CB-4E2C-8E0B-B8A5E2D0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F413-AB84-486F-8BC1-2754EA51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F59C1-9E3C-4D97-AA63-5AEE11ABD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DDE39-7971-4FD2-B340-F74CE5B8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E15DA-1967-482D-B0C8-D5D38851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CB169-B89E-4EBB-84A2-41AD2516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DBA69-AADE-40F6-A28D-25233C1A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3BE84-4C7A-4998-9604-D42DB4F7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D40A3-2307-4436-AFA2-6ACE76A5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08B4B-87DB-4409-94FB-DAA25D3A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23265-9545-4E3A-8252-85E84324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011D8-7474-4E81-AEAF-CDE4BB97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515F-269F-47A0-BC48-7A744FD6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4D7D2-F75E-42B0-ACC1-64774184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EBFA4-2D30-44D7-882D-3D9ACD65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E1936-4FB1-4905-B313-64C566B9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15B0-AC0A-4F6D-BBBB-B54D734A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D6C1-1C54-4058-B729-426840A7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Прямоуг.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Группа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Прямоуг.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Линия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4261-93D2-4C56-80CB-29400AD25FB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Линия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Группа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8" name="Группа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9" name="Прямоуг.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Полилиния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Группа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2" name="Автофигура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Автофигура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492F-D42B-4698-A19D-D6871D5E294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ED3F-2821-4A5C-809F-70ACF4915D1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Полилиния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Линия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Группа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39" name="Прямоуг.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Группа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1" name="Прямоуг.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Прямоуг.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Линия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Группа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5" name="Прямоуг.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Линия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5370-7984-4246-B6AA-CD376AEAA48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Группа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89" name="Прямоуг.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Автофигура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Группа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92" name="Автофигура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Автофигура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821B-4B21-4752-9443-F71406D4CA6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олилиния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Линия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ABE7-E2AB-4F12-8D3C-712ECEE64D9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Социальное обеспеч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счет страховой и накопительной  частей (продолжение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611280" y="1557360"/>
          <a:ext cx="8353440" cy="4959360"/>
        </p:xfrm>
        <a:graphic>
          <a:graphicData uri="http://schemas.openxmlformats.org/drawingml/2006/table">
            <a:tbl>
              <a:tblPr/>
              <a:tblGrid>
                <a:gridCol w="2452680"/>
                <a:gridCol w="3020760"/>
                <a:gridCol w="28800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раст работн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исления в страховую ч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исления в накопительную ч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3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жчины и женщины 1967 г.р. и молож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ла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 - в 2002-2003г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 – в 2004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 - в 2005 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 - С 2006 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 - в 2002-2003г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 – в 2004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 - в 2005 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 - С 2006 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жчины и женщины 1967 г.р. и молож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фак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 - в 2002-2003г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 – в 2004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 - в 2005 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 - С 2006 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 - в 2002-2003г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 – в 2004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 - в 2005 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 - С 2006 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счет страховой и накопительной  частей (продолжение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 заработной платы составляет 5000 руб. Предположим, мы будем отчислять в страховую часть 8% от этой суммы в течение 30 лет, а в накопительную часть исходя из условий мы тогда будем отчислять 6% от ФОТ. Введем еще одно условие, что средняя доходность от вложений Инвестиционной компании составит 7% в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читать размер пен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счет страховой и накопительной  частей (продолжение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Ч = 900 руб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79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 01.01.0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Ч: ежемесячно отчисляем 8% от 5000 руб., т.е. по 400 руб.  За 30 лет перечислим 144000 руб. (400 * 12мес.*30ле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Чмес. =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144000 руб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632 ру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мес* 19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счет страховой и накопительной  частей (продолжение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280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Ч:  ежемесячно 6%, т.е. 5000 *6% = 300 руб. Тогда за 30 лет в накопительную часть перечисле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00 *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(1+0,07)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^29 –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314447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Ч мес. =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314447 руб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379 ру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мес*19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 пенсии раве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 900 руб. (БЧ) +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32 руб. (СЧ) +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379 руб. (НЧ) = 2911 ру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Трудовая пенсия по инвалидност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 базовой части трудовой пенсии по инвалидности в зависимости от степени ограничения способности к трудовой деятельности устанавливается в следующих сумма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при III степени - 1 800 рублей в месяц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при II степени - 900 рублей в месяц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пр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епени - 450 рублей в меся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49636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Характеристика основных составных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частей пенсионной системы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250920" y="1125360"/>
          <a:ext cx="8893080" cy="5542200"/>
        </p:xfrm>
        <a:graphic>
          <a:graphicData uri="http://schemas.openxmlformats.org/drawingml/2006/table">
            <a:tbl>
              <a:tblPr/>
              <a:tblGrid>
                <a:gridCol w="865080"/>
                <a:gridCol w="1149480"/>
                <a:gridCol w="722160"/>
                <a:gridCol w="863640"/>
                <a:gridCol w="792000"/>
                <a:gridCol w="865440"/>
                <a:gridCol w="863640"/>
                <a:gridCol w="863640"/>
                <a:gridCol w="1047600"/>
                <a:gridCol w="860400"/>
              </a:tblGrid>
              <a:tr h="9504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нсионная сист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ое пенсионное обеспеч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язательное пенсионное страх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полнительное пенсионное   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хование и обеспечен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овые пенс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фессиональные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нси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копительные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нси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государственные пенс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латы к пенсия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нсии военнослужащим и д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нсии «чернобыльцам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ые пенс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овая ч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ховая  и накопительная ча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нсовая осно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ый бюдж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язательные страховые взносы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ровольные взн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а бюджетов и организац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 пенс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- 75%       </a:t>
                      </a:r>
                      <a:br>
                        <a:rPr sz="900"/>
                      </a:b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ого      </a:t>
                      </a:r>
                      <a:br>
                        <a:rPr sz="900"/>
                      </a:b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иксированный разме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нсионный капитал и накопления/ожидаемый   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иод выплаты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условиях догово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решению собственника сред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 управл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ое</a:t>
                      </a:r>
                      <a:br>
                        <a:rPr sz="1100"/>
                      </a:b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нсионный фонд РФ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государственные пенсионные фонды и иные страховщик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собственником сред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330033"/>
                </a:solidFill>
                <a:uFillTx/>
                <a:latin typeface="Times New Roman"/>
              </a:rPr>
              <a:t>Виды </a:t>
            </a:r>
            <a:r>
              <a:rPr b="1" lang="ru-RU" sz="4200" spc="-1" strike="noStrike" u="sng">
                <a:solidFill>
                  <a:srgbClr val="330033"/>
                </a:solidFill>
                <a:uFillTx/>
                <a:latin typeface="Times New Roman"/>
              </a:rPr>
              <a:t>социальных пособи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532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временной нетрудоспособности (по    среднему заработку)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по беременности и родам (по среднему заработку за 12 мес. 70 дней до родов и 70 дней после родов, но максимальная сумма 12480 руб.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90 руб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 01.01.09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 единоразовое пособие при рождении ребен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усыновлении) ребенка выплачивается в размере  9592,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б. (с 01.01.09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330033"/>
                </a:solidFill>
                <a:uFillTx/>
                <a:latin typeface="Times New Roman"/>
              </a:rPr>
              <a:t>Виды </a:t>
            </a:r>
            <a:r>
              <a:rPr b="1" lang="ru-RU" sz="4200" spc="-1" strike="noStrike" u="sng">
                <a:solidFill>
                  <a:srgbClr val="330033"/>
                </a:solidFill>
                <a:uFillTx/>
                <a:latin typeface="Times New Roman"/>
              </a:rPr>
              <a:t>социальных пособи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4596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жемесячно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обие на период отпуска по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ходу за ребенк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о достижения им возраста полутора лет выплачивается в размер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00 руб. (1798,51 – с 01.01.09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ервого ребенка и 3000 руб. (3597,01 – 01.01.09) на каждого последующег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на детей военнослужащих срочной службы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пособие по безработице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ритуальные пособия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социальная помощь малоимущи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Внебюджетные фонды: определени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786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совокупность финансовых ресурсов, не  входящих в состав бюджетов всех уровней бюджетной системы РФ и изъятию не подлежат, и имеют как правило, целевое назначени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ства государственных внебюджетных фондов находятся в федеральной собствен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ормативно – законодательное регулирование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онституция РФ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ФЗ от 17.12.2001 №173-ФЗ «О трудовых пенсиях в РФ«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ФЗ №167 –ФЗ «Об обязательном пенсионном страховании в РФ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ФЗ № 81-ФЗ «О государственных пособиях гражданам, имеющим детей»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Централизованные (государственные) внебюджетные</a:t>
            </a:r>
            <a:r>
              <a:rPr b="0" lang="ru-RU" sz="3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фонды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604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еют общегосударственное значение и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предназначены для реализации конституционных прав граждан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циальное обеспечение по возраст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циальное обеспечение по болезни, инвалидности, в случае потери кормильца, рождения и воспитания детей и в других случаях, предусмотренных законодательством РФ о социальном обеспечен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циальное обеспечение в случае безработиц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храну здоровья и получение бесплатной медицинской помощ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13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Состав централизованных (государственных) внебюджетных фондов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425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нсионный Фонд РФ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нд социального страхования РФ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деральный фонд обязательного медицинского страх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сударственный фонд занятости населения Р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юджеты государственных внебюджетных фондов Российской Федерации рассматриваются и утверждаются Федеральным Собранием в форме федеральных законов одновременно с принятием федерального закона о федеральном бюджете на очередной финансовый г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сточниками формирования внебюджетных фондов являются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язательные платеж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бровольные взнос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быль от коммерческой деятельности, осуществляемой фондами (если разрешено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ругие доходы, предусмотренные соответствующими законодательными акт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Источники Пенсионного фонда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формируются за счет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280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ств страховых взносов работодат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ховых взносов граждан, занимающихся предпринимательской деятельность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сигнований из федерального бюджета РФ на выплату государственных пенсий и пособий военнослужащим и приравненным к ним по пенсионному обеспечению гражданам, социальных пенсий их семьям, пособий на детей в возрасте старше полутора лет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ровольных взносов физических и юридических лиц, а также доходов от капитализации средств фон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редства 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фонда социального страхования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образуются за счет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604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раховых взносов работодател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раховых взносов граждан, занимающихся предпринимательской деятельностью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ходов от инвестирования части временно свободных средств Фонда в ликвидные государственные  ценные бумаги и банковские вклад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бровольных взносов граждан и юридических лиц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ссигнований из федерального бюджета на покрытие расходов, в установленных законом случаях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чих доход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редства ФСС направляются на: 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лату пособий по временной нетрудоспособности, беременности и родам, при рождении ребенка, по уходу за ребенком до достижения им возраста полутора лет, на погреб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наторно – курортное лечение и оздоровление работников и членов их сем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ие научно – исследовательской работы по вопросам социального страхования и охраны тру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ение иных мероприятий в соответствии с задачами фон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Фонды обязательного медицинского страхования формируются  за счет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353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сти страховых взносов предприятий, организаций, учреждений и иных хозяйствующих субъектов независимо от форм собственности на обязательное медицинское страхование в размерах, устанавливаемых Федеральным Собранием РФ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ссигнований из федеральных и региональных бюджетов на выполнение программ обязательного медицинского страхова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бровольных взнос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ходов от использования временно свободных финансовых средств фонд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Фонды обязательного медицинского страхования: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 цель, виды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532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Цель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– гарантировать гражданам при возникновении страхового случая получение медицинской помощи за счет накопленных средств и финансировать профилактические мероприят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и фонды предназначены для финансирования страховыми организациями медицинской помощи и иных услуг в соответствии с договорами обязательного медицинского страхования. Такие фонды созданы на федеральном и территориальном уровня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дицинское страхование осуществляется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в двух видах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обязательном и добровольн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ховыми медицинскими организациями выступают юридические лица, являющиеся самостоятельными хозяйствующими субъектами, с любыми формами собственности, обладающие необходимым для осуществления медицинского страхования уставным фон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8135640" cy="13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Процесс составления, утверждения, исполнения бюджетов ВФ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ы бюджетов внебюджетных фондов составляются органами соответствующих фондов и представляются исполнительными органами власти на рассмотрение представительным органам одновременно с проектом бюджета на следующий г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юджеты государственных внебюджетных фондов РФ рассматриваются и утверждаются Федеральным Собранием в форме федеральных законов на очередной финансовый г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ья 39 Конституции РФ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арантиру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жданам Росси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аво 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руд, отдых, охрану здоровья, социальное обеспечение в старости, в случае болезни, полной или частичной утраты трудоспособности и потери кормильца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аво 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жилище, на образование, на пользование достижениями культуры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 из этих прав предусматривает удовлетворение различных потребностей граждан и обеспечивается соответствующими мероприятиями и сред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Процесс составления, утверждения, исполнения бюджетов ВФ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продолжение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71640" y="1557000"/>
            <a:ext cx="77724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нение бюджетов государственных внебюджетных фондов осуществляется Федеральным казначейством Р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чет об исполнении бюджета государственного внебюджетного фонда составляется органом управления фонда и представляется Правительством РФ на рассмотрение и утверждение Федеральному Собранию в форме федерального зак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Децентрализованные внебюджетные фонды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6043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уются для решения территориальных, отраслевых, межотраслевых и других зада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ним относятся внебюджетные фонды, создаваем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по решению региональных и муниципальных органов власти для решения региональных и местных задач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для решения отраслевых задач (фонды научно – исследовательских и опытно – конструкторских разработок и др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пределени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569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ак экономическая категория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социальное обеспечение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представляет собой систему распределительных отношений, в процессе которых за счет части национального дохода образуются и используются общественные фонды денежных средств, для материального обеспечения и обслуживания граждан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Принципы построения социального обеспечения :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0755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сеобщность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- общедоступность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- размер и форма обеспечения зависят от прошлого труда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- разнообразие предоставляемых форм обеспечения и услуг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- демократический характер организации социального обеспечения и его управления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68000" y="0"/>
            <a:ext cx="849636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новные виды расходов по социальному обеспечению – выплаты пенсий и пособ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300" spc="-1" strike="noStrike">
                <a:solidFill>
                  <a:srgbClr val="000000"/>
                </a:solidFill>
                <a:latin typeface="Arial"/>
              </a:rPr>
              <a:t>Пенсии –</a:t>
            </a: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 это периодические выплаты определенных денежных сумм для материального обеспечения граждан в связи со старостью, инвалидностью, выслугой лет и смертью кормильца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счет пенсии по старост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786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мер пенсии по старости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Ч + СЧ+Н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Ч – определяется законода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Ч =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умма страховой ч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2 месяцев*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Ч =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умма накопительной ч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2 месяцев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дожития (19 л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счет страховой и накопительной  частей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604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ется для лиц родившихся не ране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1953 г (для мужчин)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1957 г. (для женщи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ько для них с 2002 г, часть средств (накопительная часть) переводится на личные накопительные сч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цент начисления в ПФ (персонифицированный учет) составляет в настоящее время 14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счет страховой и накопительной  частей (продолжение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684360" y="1600200"/>
          <a:ext cx="8280360" cy="4176720"/>
        </p:xfrm>
        <a:graphic>
          <a:graphicData uri="http://schemas.openxmlformats.org/drawingml/2006/table">
            <a:tbl>
              <a:tblPr/>
              <a:tblGrid>
                <a:gridCol w="3049560"/>
                <a:gridCol w="2616120"/>
                <a:gridCol w="2614680"/>
              </a:tblGrid>
              <a:tr h="1252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раст работн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исления в страховую ч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исления в накопительную ч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жчины до 1953 г и женщины до 1957 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жчины  1953 – 1966 и женщины 1957 – 1966 г.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 - до 01.01.2005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 - посл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   до 01.01.2005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 - посл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2:05:41Z</dcterms:created>
  <dc:creator>Riabova Elena</dc:creator>
  <dc:description/>
  <dc:language>en-US</dc:language>
  <cp:lastModifiedBy>LEGION</cp:lastModifiedBy>
  <dcterms:modified xsi:type="dcterms:W3CDTF">2014-11-10T12:20:36Z</dcterms:modified>
  <cp:revision>48</cp:revision>
  <dc:subject/>
  <dc:title>Социальное обеспечение</dc:title>
</cp:coreProperties>
</file>