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0EDA-60EA-4E6A-A9BF-2375897318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Times New Roman"/>
              </a:rPr>
              <a:t>МУЗЫКА НАЧАЛА ХХ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CDCA-F05B-442F-845E-09EB5925A5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CD2B-0424-4592-9B0D-4FEF346397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BA96-C2A4-4275-A663-ECFC335CE2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7666-3584-4468-BADF-A2172079B6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3AD2-EC6B-416D-AD6A-86F1C415F2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DD68-840C-4684-80BE-4711B34830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F792-25B8-4D78-B2D3-DDC404D44E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7EF-46AE-4BFC-8687-38644D09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462-2290-4E00-A3EB-E43AAC83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8C7-876A-42A2-B56C-4CCFAB27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093-919E-4B79-9F1C-AA975B58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0BC-B1E4-41A0-953E-08B25F2D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C3C-9573-4359-9884-47D3C754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672-B906-4B43-ABD0-3E14F7FB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DF2A-210F-495A-ADD6-308ACA04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4FE-ABD1-4B45-96BA-AFCC3B9E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D8C-1478-408B-8924-20045A3F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E1E-291D-4409-A585-3F7A0D2C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872-F753-400A-8CE2-B072C786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CBC0-B10C-4523-A340-C41181DBE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МУЗЫКА НАЧАЛА ХХ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67280" y="5410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47960" y="228600"/>
            <a:ext cx="430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ет на земле живого сущ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толь жестокого, крутого, адски зл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Чтоб не могла, хоть на час од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 нём музыка свершить переворота...”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ильям Шекспир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2914560" cy="33339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228600" y="230760"/>
            <a:ext cx="7086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28600" y="22896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04920" y="2820600"/>
            <a:ext cx="845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04920" y="504360"/>
            <a:ext cx="65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римский-корсаков"/>
          <p:cNvPicPr/>
          <p:nvPr/>
        </p:nvPicPr>
        <p:blipFill>
          <a:blip r:embed="rId2"/>
          <a:stretch/>
        </p:blipFill>
        <p:spPr>
          <a:xfrm>
            <a:off x="3505320" y="4419720"/>
            <a:ext cx="174456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Мамонтов Савва"/>
          <p:cNvPicPr/>
          <p:nvPr/>
        </p:nvPicPr>
        <p:blipFill>
          <a:blip r:embed="rId3"/>
          <a:stretch/>
        </p:blipFill>
        <p:spPr>
          <a:xfrm>
            <a:off x="7162920" y="380880"/>
            <a:ext cx="1800000" cy="243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аргомыжский"/>
          <p:cNvPicPr/>
          <p:nvPr/>
        </p:nvPicPr>
        <p:blipFill>
          <a:blip r:embed="rId4"/>
          <a:stretch/>
        </p:blipFill>
        <p:spPr>
          <a:xfrm>
            <a:off x="7086600" y="3962520"/>
            <a:ext cx="179064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231120"/>
            <a:ext cx="487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Глзунов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Хренников"/>
          <p:cNvPicPr/>
          <p:nvPr/>
        </p:nvPicPr>
        <p:blipFill>
          <a:blip r:embed="rId3"/>
          <a:stretch/>
        </p:blipFill>
        <p:spPr>
          <a:xfrm>
            <a:off x="5410080" y="2895480"/>
            <a:ext cx="2210040" cy="2175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152280" y="226800"/>
            <a:ext cx="6096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Могучая кучка"/>
          <p:cNvPicPr/>
          <p:nvPr/>
        </p:nvPicPr>
        <p:blipFill>
          <a:blip r:embed="rId2"/>
          <a:stretch/>
        </p:blipFill>
        <p:spPr>
          <a:xfrm>
            <a:off x="6095880" y="228600"/>
            <a:ext cx="2845080" cy="61722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6:48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