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6.jpeg" ContentType="image/jpeg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  <p:custShowLst>
    <p:custShow name="Произвольный показ 1" id="0">
      <p:sldLst>
        <p:sld r:id="rId7"/>
        <p:sld r:id="rId6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E4E0-44AD-41D6-B64A-72A706293A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музыки на челове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Савина Татьяна, ученица 8 класса Мийнальской средней шко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56BE-BF82-4ECA-AA0B-F4808FA0B2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Elephant"/>
              </a:rPr>
              <a:t>Влияние музыки на психик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Музыка оказывает на нас огромное влияние, действуя на психику, эмоции, душу и тело. Звуки определённой тональности могут приводить человека в различные состояния, возбуждение, радость, грусть, и даже панический ст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Музыка влияет на наше настроение, но не только. С её помощью можно даже исцелять людей или помогать им справляться с их недугам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6436-3338-43A8-9A4D-DBD3D7DE22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Georgia"/>
              </a:rPr>
              <a:t>Влияние музыки на челове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81D7-0E12-47A6-B272-1B6C81DCE2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Snap ITC"/>
              </a:rPr>
              <a:t>Маленький пример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Informal Roman"/>
              </a:rPr>
              <a:t>Было замечено, что использование разной музыки в магазине и кафе заставляет покупателей по-разному вести себя. Энергичные мелодии побуждают их быстро совершать покупки, расплачиваться и уходить, в то время как спокойные и расслабляющие провоцируют на долгие прогулки между прилавками в поисках нужных проду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AF1F-6B7E-4AC6-9622-FCF684043C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Harlow Solid Italic"/>
              </a:rPr>
              <a:t>Музыка давно уже стала непременным атрибутом обстановки массажных салонов. Она помогает человеку расслабиться  во время массажа. В стоматологических кабинетах пациенты, которым включали негромкую спокойную музыку, гораздо меньше нервничали и спокойнее переносили все самые неприятные и болезненные манипуляции. Но что это, самовнушение, или    действительно эффективный инструмент для лечен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BB55-65D6-4E7B-970F-199069A1ED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быстрой и громкой музы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Harlow Solid Italic"/>
              </a:rPr>
              <a:t>Деятельность нашего организма напрямую зависит от гормонов. Они активизируют деятельность различных органов, благодаря чему изменяется наше физическое и эмоциональное состояние. При прослушивании различной музыки мозг подаёт сигналы организму производить те или иные гормоны. Быстрая и громкая музыка поднимает уровень кортизола, отчего человек становится более возбуждённым, раздражё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32EB-148B-4958-A525-52F521DCAB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медленной и спокойной музы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слушивание медленной и спокойной музыки действует совершенно иначе. Уровень кортизола и адреналин снижается, работа всех органов нормализуется, организм начинает мобилизовать свои внутренние ресурсы. С помощью такой музыки можно бороться со стрессами и депрессиями, а отсутствие стресса гораздо быстрее приведёт к выздоровлению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8DA5-B5B3-401B-A869-DE92B7F933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- это действительно очень хорошее лекарство, просто нужно его правильно принимать! И каждый человек должен понять, что без музыки нельзя жить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888A-2E7D-4FEB-B1E6-C5695B4778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E274-F0C5-474F-94D8-B812E52406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AE7B-1257-4094-A8F7-968998FD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38B-8252-4C1B-8F0C-8B1C9C6A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6FA-9A6F-4F04-90D0-E5AF60B3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E18-C3F0-4734-A2C0-6002C0B8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F8BF-81C6-4246-A917-551FF7C7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6681-5705-42B1-911A-2BF2809C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0A75-3041-4648-B418-BF3654E9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4D59-291E-4BFB-ADAA-48E4EBFA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E09A-EEDA-47D3-9B0B-BB8F31F4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E44E-EF00-4E43-893F-CCB1FDF9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4489-4794-4919-89EB-1D7B213B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B3A-9BD8-4FD8-99B2-7927358C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11EC-C9DF-4054-AB7F-87E04F2F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F127-32B3-41A7-9CED-5F623B7F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FB65-A5F0-4311-967F-122D56A9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41EA-CFFE-4398-A0DA-957E6289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5D50-73AA-46B0-B20E-F91BE063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D29B-4CA2-40B3-81E4-781AE2CE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1B2-A1F4-4F6A-991E-B596350C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76C3-DC78-42A7-B703-A5F3BCE6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D3A-5358-4185-8368-52F7B65F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FC9-CDB3-4CF7-8E9A-E81808BB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B11-2EBC-4F3B-AFE9-765528A5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D36-ACEC-4D16-9302-DC61AF88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61AF-0130-4646-8969-C1CA84D212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F379-37AA-47D3-ACEF-2E45270C9E2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лияние музыки на человека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1280" y="386028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: Савина Татьяна, ученица 8 класса Мийнальской средней шко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DSC00572"/>
          <p:cNvPicPr/>
          <p:nvPr/>
        </p:nvPicPr>
        <p:blipFill>
          <a:blip r:embed="rId1"/>
          <a:stretch/>
        </p:blipFill>
        <p:spPr>
          <a:xfrm>
            <a:off x="7381800" y="4508640"/>
            <a:ext cx="1762200" cy="234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ala[1]"/>
          <p:cNvPicPr/>
          <p:nvPr/>
        </p:nvPicPr>
        <p:blipFill>
          <a:blip r:embed="rId2"/>
          <a:stretch/>
        </p:blipFill>
        <p:spPr>
          <a:xfrm>
            <a:off x="0" y="0"/>
            <a:ext cx="2556000" cy="19130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2880" y="260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00"/>
                </a:solidFill>
                <a:uFillTx/>
                <a:latin typeface="Elephant"/>
              </a:rPr>
              <a:t>Влияние музыки на психик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Музыка оказывает на нас огромное влияние, действуя на психику, эмоции, душу и тело. Звуки определённой тональности могут приводить человека в различные состояния, возбуждение, радость, грусть, и даже панический стр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Музыка влияет на наше настроение, но не только. С её помощью можно даже исцелять людей или помогать им справляться с их недугами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4" descr="Aим"/>
          <p:cNvPicPr/>
          <p:nvPr/>
        </p:nvPicPr>
        <p:blipFill>
          <a:blip r:embed="rId1"/>
          <a:stretch/>
        </p:blipFill>
        <p:spPr>
          <a:xfrm>
            <a:off x="7421400" y="5135400"/>
            <a:ext cx="1722600" cy="17226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66"/>
                </a:solidFill>
                <a:latin typeface="Georgia"/>
              </a:rPr>
              <a:t>Влияние музыки на человека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13" descr="Baba$"/>
          <p:cNvPicPr/>
          <p:nvPr/>
        </p:nvPicPr>
        <p:blipFill>
          <a:blip r:embed="rId1"/>
          <a:stretch/>
        </p:blipFill>
        <p:spPr>
          <a:xfrm>
            <a:off x="2771640" y="1989000"/>
            <a:ext cx="3888000" cy="388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Snap ITC"/>
              </a:rPr>
              <a:t>Маленький пример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Informal Roman"/>
              </a:rPr>
              <a:t>Было замечено, что использование разной музыки в магазине и кафе заставляет покупателей по-разному вести себя. Энергичные мелодии побуждают их быстро совершать покупки, расплачиваться и уходить, в то время как спокойные и расслабляющие провоцируют на долгие прогулки между прилавками в поисках нужных проду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9" descr="36_4_15"/>
          <p:cNvPicPr/>
          <p:nvPr/>
        </p:nvPicPr>
        <p:blipFill>
          <a:blip r:embed="rId1"/>
          <a:stretch/>
        </p:blipFill>
        <p:spPr>
          <a:xfrm>
            <a:off x="7380360" y="5613480"/>
            <a:ext cx="1512720" cy="124452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79358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Harlow Solid Italic"/>
              </a:rPr>
              <a:t>Музыка давно уже стала непременным атрибутом обстановки массажных салонов. Она помогает человеку расслабиться  во время массажа. В стоматологических кабинетах пациенты, которым включали негромкую спокойную музыку, гораздо меньше нервничали и спокойнее переносили все самые неприятные и болезненные манипуляции. Но что это, самовнушение, или    действительно эффективный инструмент для лечения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узыка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8" descr="Ar1Ag"/>
          <p:cNvPicPr/>
          <p:nvPr/>
        </p:nvPicPr>
        <p:blipFill>
          <a:blip r:embed="rId1"/>
          <a:stretch/>
        </p:blipFill>
        <p:spPr>
          <a:xfrm>
            <a:off x="0" y="0"/>
            <a:ext cx="2050920" cy="2050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Ar1Ag"/>
          <p:cNvPicPr/>
          <p:nvPr/>
        </p:nvPicPr>
        <p:blipFill>
          <a:blip r:embed="rId2"/>
          <a:stretch/>
        </p:blipFill>
        <p:spPr>
          <a:xfrm>
            <a:off x="7020000" y="0"/>
            <a:ext cx="2124000" cy="2124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лияние быстрой и громкой музык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Harlow Solid Italic"/>
              </a:rPr>
              <a:t>Деятельность нашего организма напрямую зависит от гормонов. Они активизируют деятельность различных органов, благодаря чему изменяется наше физическое и эмоциональное состояние. При прослушивании различной музыки мозг подаёт сигналы организму производить те или иные гормоны. Быстрая и громкая музыка поднимает уровень кортизола, отчего человек становится более возбуждённым, раздражён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36_4_2"/>
          <p:cNvPicPr/>
          <p:nvPr/>
        </p:nvPicPr>
        <p:blipFill>
          <a:blip r:embed="rId1"/>
          <a:stretch/>
        </p:blipFill>
        <p:spPr>
          <a:xfrm>
            <a:off x="53964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36_4_2"/>
          <p:cNvPicPr/>
          <p:nvPr/>
        </p:nvPicPr>
        <p:blipFill>
          <a:blip r:embed="rId2"/>
          <a:stretch/>
        </p:blipFill>
        <p:spPr>
          <a:xfrm>
            <a:off x="6588000" y="49863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лияние медленной и спокойной музык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ослушивание медленной и спокойной музыки действует совершенно иначе. Уровень кортизола и адреналин снижается, работа всех органов нормализуется, организм начинает мобилизовать свои внутренние ресурсы. С помощью такой музыки можно бороться со стрессами и депрессиями, а отсутствие стресса гораздо быстрее приведёт к выздоровлению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36_2_54"/>
          <p:cNvPicPr/>
          <p:nvPr/>
        </p:nvPicPr>
        <p:blipFill>
          <a:blip r:embed="rId1"/>
          <a:stretch/>
        </p:blipFill>
        <p:spPr>
          <a:xfrm>
            <a:off x="5651640" y="5430960"/>
            <a:ext cx="1512720" cy="1427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ыка- это действительно очень хорошее лекарство, просто нужно его правильно принимать! И каждый человек должен понять, что без музыки нельзя жить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365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12" descr="0320"/>
          <p:cNvPicPr/>
          <p:nvPr/>
        </p:nvPicPr>
        <p:blipFill>
          <a:blip r:embed="rId1"/>
          <a:stretch/>
        </p:blipFill>
        <p:spPr>
          <a:xfrm>
            <a:off x="2700360" y="620640"/>
            <a:ext cx="3600360" cy="34671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3:06:38Z</dcterms:created>
  <dc:creator>Ирина</dc:creator>
  <dc:description/>
  <dc:language>en-US</dc:language>
  <cp:lastModifiedBy>LEGION</cp:lastModifiedBy>
  <dcterms:modified xsi:type="dcterms:W3CDTF">2015-04-02T06:48:42Z</dcterms:modified>
  <cp:revision>15</cp:revision>
  <dc:subject/>
  <dc:title>Что говорит о на сегодняшняя музыка?</dc:title>
</cp:coreProperties>
</file>