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gif" ContentType="image/gif"/>
  <Override PartName="/ppt/media/image6.jpeg" ContentType="image/jpeg"/>
  <Override PartName="/ppt/media/image7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  <p:custShowLst>
    <p:custShow name="Произвольный показ 1" id="0">
      <p:sldLst>
        <p:sld r:id="rId7"/>
        <p:sld r:id="rId6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0662-7B4A-41BD-B016-956E86F18C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музыки на челове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: Савина Татьяна, ученица 8 класса Мийнальской средней шко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B18E-81BA-46DE-96A8-ABB55C7D3E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Elephant"/>
              </a:rPr>
              <a:t>Влияние музыки на психик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Музыка оказывает на нас огромное влияние, действуя на психику, эмоции, душу и тело. Звуки определённой тональности могут приводить человека в различные состояния, возбуждение, радость, грусть, и даже панический ст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Музыка влияет на наше настроение, но не только. С её помощью можно даже исцелять людей или помогать им справляться с их недугам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18EE-09DA-4FB0-8EF6-A9E21E3E2D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Georgia"/>
              </a:rPr>
              <a:t>Влияние музыки на челове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AEC8-89BD-48D1-96F9-9E91580139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Snap ITC"/>
              </a:rPr>
              <a:t>Маленький пример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Informal Roman"/>
              </a:rPr>
              <a:t>Было замечено, что использование разной музыки в магазине и кафе заставляет покупателей по-разному вести себя. Энергичные мелодии побуждают их быстро совершать покупки, расплачиваться и уходить, в то время как спокойные и расслабляющие провоцируют на долгие прогулки между прилавками в поисках нужных проду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BCF6-8D96-4A6F-BEF6-FC7336353D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Harlow Solid Italic"/>
              </a:rPr>
              <a:t>Музыка давно уже стала непременным атрибутом обстановки массажных салонов. Она помогает человеку расслабиться  во время массажа. В стоматологических кабинетах пациенты, которым включали негромкую спокойную музыку, гораздо меньше нервничали и спокойнее переносили все самые неприятные и болезненные манипуляции. Но что это, самовнушение, или    действительно эффективный инструмент для лечени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1F4E-294C-4189-A71B-26EEF60150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быстрой и громкой музы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Harlow Solid Italic"/>
              </a:rPr>
              <a:t>Деятельность нашего организма напрямую зависит от гормонов. Они активизируют деятельность различных органов, благодаря чему изменяется наше физическое и эмоциональное состояние. При прослушивании различной музыки мозг подаёт сигналы организму производить те или иные гормоны. Быстрая и громкая музыка поднимает уровень кортизола, отчего человек становится более возбуждённым, раздражё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BD41-1977-4DAB-B24A-FDC1907FCB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медленной и спокойной музы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слушивание медленной и спокойной музыки действует совершенно иначе. Уровень кортизола и адреналин снижается, работа всех органов нормализуется, организм начинает мобилизовать свои внутренние ресурсы. С помощью такой музыки можно бороться со стрессами и депрессиями, а отсутствие стресса гораздо быстрее приведёт к выздоровлению!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9AF2-D963-4670-91D5-444B5F435B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- это действительно очень хорошее лекарство, просто нужно его правильно принимать! И каждый человек должен понять, что без музыки нельзя жить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9C0F-F42A-456F-B2BA-D1E0952600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54BE-4F9D-4195-AD35-74486467CA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67A0-8133-4C1B-8562-E8D9329D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BCA-78F5-4E0E-B791-FB235630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04B4-1B60-4FE5-9258-4ED18A96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6679-1EE1-44A3-A05F-7D4B76A4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44C9-8454-424B-B291-1CA1FE5D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3F35-F04B-4C46-91FD-3ED63734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EC77-10FE-4024-9E89-9B212A62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0BB8-7124-4E31-A92B-35C27283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F798-FF17-4BBE-868B-2BA328A9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52EB-0D2B-4475-857B-7B247276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5C15-CCDA-4E58-A6AF-BAC1E5CA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5F8A-8700-4999-8E51-B5404004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B83E-FFFD-43C1-BDAC-276D13D4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A465-350D-471A-B406-C24F5A05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BDF5-48A6-48C8-9F00-A953BD1C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C9AF-669A-425F-B0DF-66A98AC5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5121-E3E0-4830-8EFC-2CCB209B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D11D-EB80-4A2D-80E8-ECC94A2C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6DEC-9022-42B0-88CD-FB47A7A0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B761-DDCB-45CC-9607-1714026B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40D5-A2E3-4D6A-B563-83FD1EBE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815-56E5-4F4A-BC35-6EFFFA6C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A204-E0D0-459B-BCC6-D2BE7C36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A4A0-C708-4B5C-91AE-D694F0BA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18C2-569B-4110-A636-4F17FCF028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1C69-4398-4C4C-ACD2-5593F10D44E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191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Влияние музыки на человека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11280" y="386028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: Савина Татьяна, ученица 8 класса Мийнальской средней шко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0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DSC00572"/>
          <p:cNvPicPr/>
          <p:nvPr/>
        </p:nvPicPr>
        <p:blipFill>
          <a:blip r:embed="rId1"/>
          <a:stretch/>
        </p:blipFill>
        <p:spPr>
          <a:xfrm>
            <a:off x="7381800" y="4508640"/>
            <a:ext cx="1762200" cy="2349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nala[1]"/>
          <p:cNvPicPr/>
          <p:nvPr/>
        </p:nvPicPr>
        <p:blipFill>
          <a:blip r:embed="rId2"/>
          <a:stretch/>
        </p:blipFill>
        <p:spPr>
          <a:xfrm>
            <a:off x="0" y="0"/>
            <a:ext cx="2556000" cy="19130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2880" y="260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00"/>
                </a:solidFill>
                <a:uFillTx/>
                <a:latin typeface="Elephant"/>
              </a:rPr>
              <a:t>Влияние музыки на психику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Музыка оказывает на нас огромное влияние, действуя на психику, эмоции, душу и тело. Звуки определённой тональности могут приводить человека в различные состояния, возбуждение, радость, грусть, и даже панический стр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Музыка влияет на наше настроение, но не только. С её помощью можно даже исцелять людей или помогать им справляться с их недугами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14" descr="Aим"/>
          <p:cNvPicPr/>
          <p:nvPr/>
        </p:nvPicPr>
        <p:blipFill>
          <a:blip r:embed="rId1"/>
          <a:stretch/>
        </p:blipFill>
        <p:spPr>
          <a:xfrm>
            <a:off x="7421400" y="5135400"/>
            <a:ext cx="1722600" cy="17226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66"/>
                </a:solidFill>
                <a:latin typeface="Georgia"/>
              </a:rPr>
              <a:t>Влияние музыки на человека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13" descr="Baba$"/>
          <p:cNvPicPr/>
          <p:nvPr/>
        </p:nvPicPr>
        <p:blipFill>
          <a:blip r:embed="rId1"/>
          <a:stretch/>
        </p:blipFill>
        <p:spPr>
          <a:xfrm>
            <a:off x="2771640" y="1989000"/>
            <a:ext cx="3888000" cy="388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Snap ITC"/>
              </a:rPr>
              <a:t>Маленький пример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Informal Roman"/>
              </a:rPr>
              <a:t>Было замечено, что использование разной музыки в магазине и кафе заставляет покупателей по-разному вести себя. Энергичные мелодии побуждают их быстро совершать покупки, расплачиваться и уходить, в то время как спокойные и расслабляющие провоцируют на долгие прогулки между прилавками в поисках нужных продук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9" descr="36_4_15"/>
          <p:cNvPicPr/>
          <p:nvPr/>
        </p:nvPicPr>
        <p:blipFill>
          <a:blip r:embed="rId1"/>
          <a:stretch/>
        </p:blipFill>
        <p:spPr>
          <a:xfrm>
            <a:off x="7380360" y="5613480"/>
            <a:ext cx="1512720" cy="124452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79358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Harlow Solid Italic"/>
              </a:rPr>
              <a:t>Музыка давно уже стала непременным атрибутом обстановки массажных салонов. Она помогает человеку расслабиться  во время массажа. В стоматологических кабинетах пациенты, которым включали негромкую спокойную музыку, гораздо меньше нервничали и спокойнее переносили все самые неприятные и болезненные манипуляции. Но что это, самовнушение, или    действительно эффективный инструмент для лечения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узыка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8" descr="Ar1Ag"/>
          <p:cNvPicPr/>
          <p:nvPr/>
        </p:nvPicPr>
        <p:blipFill>
          <a:blip r:embed="rId1"/>
          <a:stretch/>
        </p:blipFill>
        <p:spPr>
          <a:xfrm>
            <a:off x="0" y="0"/>
            <a:ext cx="2050920" cy="2050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Ar1Ag"/>
          <p:cNvPicPr/>
          <p:nvPr/>
        </p:nvPicPr>
        <p:blipFill>
          <a:blip r:embed="rId2"/>
          <a:stretch/>
        </p:blipFill>
        <p:spPr>
          <a:xfrm>
            <a:off x="7020000" y="0"/>
            <a:ext cx="2124000" cy="2124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68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68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лияние быстрой и громкой музыки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Harlow Solid Italic"/>
              </a:rPr>
              <a:t>Деятельность нашего организма напрямую зависит от гормонов. Они активизируют деятельность различных органов, благодаря чему изменяется наше физическое и эмоциональное состояние. При прослушивании различной музыки мозг подаёт сигналы организму производить те или иные гормоны. Быстрая и громкая музыка поднимает уровень кортизола, отчего человек становится более возбуждённым, раздражён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36_4_2"/>
          <p:cNvPicPr/>
          <p:nvPr/>
        </p:nvPicPr>
        <p:blipFill>
          <a:blip r:embed="rId1"/>
          <a:stretch/>
        </p:blipFill>
        <p:spPr>
          <a:xfrm>
            <a:off x="53964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36_4_2"/>
          <p:cNvPicPr/>
          <p:nvPr/>
        </p:nvPicPr>
        <p:blipFill>
          <a:blip r:embed="rId2"/>
          <a:stretch/>
        </p:blipFill>
        <p:spPr>
          <a:xfrm>
            <a:off x="6588000" y="49863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лияние медленной и спокойной музыки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ослушивание медленной и спокойной музыки действует совершенно иначе. Уровень кортизола и адреналин снижается, работа всех органов нормализуется, организм начинает мобилизовать свои внутренние ресурсы. С помощью такой музыки можно бороться со стрессами и депрессиями, а отсутствие стресса гораздо быстрее приведёт к выздоровлению!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6" descr="36_2_54"/>
          <p:cNvPicPr/>
          <p:nvPr/>
        </p:nvPicPr>
        <p:blipFill>
          <a:blip r:embed="rId1"/>
          <a:stretch/>
        </p:blipFill>
        <p:spPr>
          <a:xfrm>
            <a:off x="5651640" y="5430960"/>
            <a:ext cx="1512720" cy="1427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вод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зыка- это действительно очень хорошее лекарство, просто нужно его правильно принимать! И каждый человек должен понять, что без музыки нельзя жить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4365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пасибо за внимание!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Picture 12" descr="0320"/>
          <p:cNvPicPr/>
          <p:nvPr/>
        </p:nvPicPr>
        <p:blipFill>
          <a:blip r:embed="rId1"/>
          <a:stretch/>
        </p:blipFill>
        <p:spPr>
          <a:xfrm>
            <a:off x="2700360" y="620640"/>
            <a:ext cx="3600360" cy="34671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3:06:38Z</dcterms:created>
  <dc:creator>Ирина</dc:creator>
  <dc:description/>
  <dc:language>en-US</dc:language>
  <cp:lastModifiedBy>LEGION</cp:lastModifiedBy>
  <dcterms:modified xsi:type="dcterms:W3CDTF">2015-04-02T06:48:42Z</dcterms:modified>
  <cp:revision>15</cp:revision>
  <dc:subject/>
  <dc:title>Что говорит о на сегодняшняя музыка?</dc:title>
</cp:coreProperties>
</file>