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gif" ContentType="image/gif"/>
  <Override PartName="/ppt/media/image6.jpeg" ContentType="image/jpeg"/>
  <Override PartName="/ppt/media/image7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  <p:custShowLst>
    <p:custShow name="Произвольный показ 1" id="0">
      <p:sldLst>
        <p:sld r:id="rId7"/>
        <p:sld r:id="rId6"/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28E8-6BC1-4A39-B307-F6096D9802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ние музыки на челове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: Савина Татьяна, ученица 8 класса Мийнальской средней шко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4676-12E3-4701-806E-4E5D52C565C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00"/>
                </a:solidFill>
                <a:uFillTx/>
                <a:latin typeface="Elephant"/>
              </a:rPr>
              <a:t>Влияние музыки на психик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Informal Roman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Informal Roman"/>
              </a:rPr>
              <a:t>Музыка оказывает на нас огромное влияние, действуя на психику, эмоции, душу и тело. Звуки определённой тональности могут приводить человека в различные состояния, возбуждение, радость, грусть, и даже панический стр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Informal Roman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Informal Roman"/>
              </a:rPr>
              <a:t>Музыка влияет на наше настроение, но не только. С её помощью можно даже исцелять людей или помогать им справляться с их недугами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Informal Roman"/>
              </a:rPr>
              <a:t>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EEEE-AAE9-453D-8BF4-E34BD28525D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Georgia"/>
              </a:rPr>
              <a:t>Влияние музыки на челове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A157-4985-4C76-AB33-F468761ABEE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Snap ITC"/>
              </a:rPr>
              <a:t>Маленький пример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Informal Roman"/>
              </a:rPr>
              <a:t>Было замечено, что использование разной музыки в магазине и кафе заставляет покупателей по-разному вести себя. Энергичные мелодии побуждают их быстро совершать покупки, расплачиваться и уходить, в то время как спокойные и расслабляющие провоцируют на долгие прогулки между прилавками в поисках нужных проду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3AEF-D812-46FE-A9E0-E123EE47A61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зы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Harlow Solid Italic"/>
              </a:rPr>
              <a:t>Музыка давно уже стала непременным атрибутом обстановки массажных салонов. Она помогает человеку расслабиться  во время массажа. В стоматологических кабинетах пациенты, которым включали негромкую спокойную музыку, гораздо меньше нервничали и спокойнее переносили все самые неприятные и болезненные манипуляции. Но что это, самовнушение, или    действительно эффективный инструмент для лечения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7FC9-D7B2-467F-95F4-E307CC6EF6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ние быстрой и громкой музык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Harlow Solid Italic"/>
              </a:rPr>
              <a:t>Деятельность нашего организма напрямую зависит от гормонов. Они активизируют деятельность различных органов, благодаря чему изменяется наше физическое и эмоциональное состояние. При прослушивании различной музыки мозг подаёт сигналы организму производить те или иные гормоны. Быстрая и громкая музыка поднимает уровень кортизола, отчего человек становится более возбуждённым, раздражён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D8EC-37E6-429E-ACD5-8B2A3AA1619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ние медленной и спокойной музык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слушивание медленной и спокойной музыки действует совершенно иначе. Уровень кортизола и адреналин снижается, работа всех органов нормализуется, организм начинает мобилизовать свои внутренние ресурсы. С помощью такой музыки можно бороться со стрессами и депрессиями, а отсутствие стресса гораздо быстрее приведёт к выздоровлению!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1771-DEB0-415B-89C7-F36BEA27DC4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зыка- это действительно очень хорошее лекарство, просто нужно его правильно принимать! И каждый человек должен понять, что без музыки нельзя жить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D499-0346-4E10-92BF-74F2B730E0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1CB6-A5F0-4A15-8E52-EDC9DF53704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1AB8-4E2C-439F-AE93-4BB3C8968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6C35-C570-4058-9387-A26A7960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8D4B-B0BC-4FDF-AE23-5D0FF0096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CEE7-C358-43B3-8CBF-931CE77C5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DBBF-8EB8-4152-A4C0-220CF85B3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01B3-D3AE-4716-82F1-02749A1B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4EE8-59DD-49DB-A09D-51BE4CAA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D1FC-A68F-4057-BE8E-FC6997F5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EBCD-C7C5-4DA0-8DED-40DA1C93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4CDD-7359-4380-B05A-FA26AB9B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548C-A838-45A9-B0CA-3BBA8F18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88F6-1D2B-46EF-9F02-C82EA13D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FFC2-BE80-48C7-9FA0-3D1C127A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2B49-558C-42BD-8DD8-CFE1750B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5F40-3FA6-443E-A758-C53CEFE0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2585-93B0-42C8-ADF5-033EF4224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95F5-44EC-477F-ABFA-EEC16C6BF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6880-8E30-44E6-A763-E111F217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7459-D470-4FAD-BC80-592F27C4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6AB0-0B2E-4570-B221-501DC304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4A9B-F850-4B44-9372-A2FADE3B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3845-7D4C-4769-9782-B5920EAC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1A31-5C44-4B74-BE9C-20210472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BE38-C2B9-42F9-A032-3FB7D5F7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CB73-C666-42E4-9AAB-1C13A3410C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1480-FD58-4326-9742-5EE50265176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1916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Влияние музыки на человека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11280" y="386028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р: Савина Татьяна, ученица 8 класса Мийнальской средней школ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008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DSC00572"/>
          <p:cNvPicPr/>
          <p:nvPr/>
        </p:nvPicPr>
        <p:blipFill>
          <a:blip r:embed="rId1"/>
          <a:stretch/>
        </p:blipFill>
        <p:spPr>
          <a:xfrm>
            <a:off x="7381800" y="4508640"/>
            <a:ext cx="1762200" cy="2349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minala[1]"/>
          <p:cNvPicPr/>
          <p:nvPr/>
        </p:nvPicPr>
        <p:blipFill>
          <a:blip r:embed="rId2"/>
          <a:stretch/>
        </p:blipFill>
        <p:spPr>
          <a:xfrm>
            <a:off x="0" y="0"/>
            <a:ext cx="2556000" cy="19130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2880" y="26028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00"/>
                </a:solidFill>
                <a:uFillTx/>
                <a:latin typeface="Elephant"/>
              </a:rPr>
              <a:t>Влияние музыки на психику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88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Informal Roman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Informal Roman"/>
              </a:rPr>
              <a:t>Музыка оказывает на нас огромное влияние, действуя на психику, эмоции, душу и тело. Звуки определённой тональности могут приводить человека в различные состояния, возбуждение, радость, грусть, и даже панический стр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Informal Roman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Informal Roman"/>
              </a:rPr>
              <a:t>Музыка влияет на наше настроение, но не только. С её помощью можно даже исцелять людей или помогать им справляться с их недугами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Informal Roman"/>
              </a:rPr>
              <a:t>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14" descr="Aим"/>
          <p:cNvPicPr/>
          <p:nvPr/>
        </p:nvPicPr>
        <p:blipFill>
          <a:blip r:embed="rId1"/>
          <a:stretch/>
        </p:blipFill>
        <p:spPr>
          <a:xfrm>
            <a:off x="7421400" y="5135400"/>
            <a:ext cx="1722600" cy="17226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66"/>
                </a:solidFill>
                <a:latin typeface="Georgia"/>
              </a:rPr>
              <a:t>Влияние музыки на человека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Picture 13" descr="Baba$"/>
          <p:cNvPicPr/>
          <p:nvPr/>
        </p:nvPicPr>
        <p:blipFill>
          <a:blip r:embed="rId1"/>
          <a:stretch/>
        </p:blipFill>
        <p:spPr>
          <a:xfrm>
            <a:off x="2771640" y="1989000"/>
            <a:ext cx="3888000" cy="38880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Snap ITC"/>
              </a:rPr>
              <a:t>Маленький пример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Informal Roman"/>
              </a:rPr>
              <a:t>Было замечено, что использование разной музыки в магазине и кафе заставляет покупателей по-разному вести себя. Энергичные мелодии побуждают их быстро совершать покупки, расплачиваться и уходить, в то время как спокойные и расслабляющие провоцируют на долгие прогулки между прилавками в поисках нужных продук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29" descr="36_4_15"/>
          <p:cNvPicPr/>
          <p:nvPr/>
        </p:nvPicPr>
        <p:blipFill>
          <a:blip r:embed="rId1"/>
          <a:stretch/>
        </p:blipFill>
        <p:spPr>
          <a:xfrm>
            <a:off x="7380360" y="5613480"/>
            <a:ext cx="1512720" cy="124452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5280" y="1989000"/>
            <a:ext cx="79358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Harlow Solid Italic"/>
              </a:rPr>
              <a:t>Музыка давно уже стала непременным атрибутом обстановки массажных салонов. Она помогает человеку расслабиться  во время массажа. В стоматологических кабинетах пациенты, которым включали негромкую спокойную музыку, гораздо меньше нервничали и спокойнее переносили все самые неприятные и болезненные манипуляции. Но что это, самовнушение, или    действительно эффективный инструмент для лечения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узыка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Picture 8" descr="Ar1Ag"/>
          <p:cNvPicPr/>
          <p:nvPr/>
        </p:nvPicPr>
        <p:blipFill>
          <a:blip r:embed="rId1"/>
          <a:stretch/>
        </p:blipFill>
        <p:spPr>
          <a:xfrm>
            <a:off x="0" y="0"/>
            <a:ext cx="2050920" cy="2050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Ar1Ag"/>
          <p:cNvPicPr/>
          <p:nvPr/>
        </p:nvPicPr>
        <p:blipFill>
          <a:blip r:embed="rId2"/>
          <a:stretch/>
        </p:blipFill>
        <p:spPr>
          <a:xfrm>
            <a:off x="7020000" y="0"/>
            <a:ext cx="2124000" cy="2124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68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68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6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6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лияние быстрой и громкой музыки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Harlow Solid Italic"/>
              </a:rPr>
              <a:t>Деятельность нашего организма напрямую зависит от гормонов. Они активизируют деятельность различных органов, благодаря чему изменяется наше физическое и эмоциональное состояние. При прослушивании различной музыки мозг подаёт сигналы организму производить те или иные гормоны. Быстрая и громкая музыка поднимает уровень кортизола, отчего человек становится более возбуждённым, раздражён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6" descr="36_4_2"/>
          <p:cNvPicPr/>
          <p:nvPr/>
        </p:nvPicPr>
        <p:blipFill>
          <a:blip r:embed="rId1"/>
          <a:stretch/>
        </p:blipFill>
        <p:spPr>
          <a:xfrm>
            <a:off x="539640" y="502272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36_4_2"/>
          <p:cNvPicPr/>
          <p:nvPr/>
        </p:nvPicPr>
        <p:blipFill>
          <a:blip r:embed="rId2"/>
          <a:stretch/>
        </p:blipFill>
        <p:spPr>
          <a:xfrm>
            <a:off x="6588000" y="498636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9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лияние медленной и спокойной музыки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ослушивание медленной и спокойной музыки действует совершенно иначе. Уровень кортизола и адреналин снижается, работа всех органов нормализуется, организм начинает мобилизовать свои внутренние ресурсы. С помощью такой музыки можно бороться со стрессами и депрессиями, а отсутствие стресса гораздо быстрее приведёт к выздоровлению!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6" descr="36_2_54"/>
          <p:cNvPicPr/>
          <p:nvPr/>
        </p:nvPicPr>
        <p:blipFill>
          <a:blip r:embed="rId1"/>
          <a:stretch/>
        </p:blipFill>
        <p:spPr>
          <a:xfrm>
            <a:off x="5651640" y="5430960"/>
            <a:ext cx="1512720" cy="14270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ывод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узыка- это действительно очень хорошее лекарство, просто нужно его правильно принимать! И каждый человек должен понять, что без музыки нельзя жить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43653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Спасибо за внимание!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9" name="Picture 12" descr="0320"/>
          <p:cNvPicPr/>
          <p:nvPr/>
        </p:nvPicPr>
        <p:blipFill>
          <a:blip r:embed="rId1"/>
          <a:stretch/>
        </p:blipFill>
        <p:spPr>
          <a:xfrm>
            <a:off x="2700360" y="620640"/>
            <a:ext cx="3600360" cy="346716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3:06:38Z</dcterms:created>
  <dc:creator>Ирина</dc:creator>
  <dc:description/>
  <dc:language>en-US</dc:language>
  <cp:lastModifiedBy>LEGION</cp:lastModifiedBy>
  <dcterms:modified xsi:type="dcterms:W3CDTF">2015-04-02T06:48:42Z</dcterms:modified>
  <cp:revision>15</cp:revision>
  <dc:subject/>
  <dc:title>Что говорит о на сегодняшняя музыка?</dc:title>
</cp:coreProperties>
</file>