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jpeg" ContentType="image/jpe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  <p:custShowLst>
    <p:custShow name="Произвольный показ 1" id="0">
      <p:sldLst>
        <p:sld r:id="rId7"/>
        <p:sld r:id="rId6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0925-DDE2-4C0A-B0CD-6F7DDE1C2F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C32-BA31-4B77-BA21-77F2D3CEFE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Informal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4E50-B6F7-41B5-86AB-EF75109AAE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Georgia"/>
              </a:rPr>
              <a:t>Влияние музыки на челове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5DB9-5000-47AA-BC7F-4DDD984F74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4B56-5CB1-4CC5-8484-EED47DA1EE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A6A4-A0C5-488E-8F13-BA06C217D2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быстрой и громк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446-14F8-4F45-985B-A822570812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медленной и спокойной музы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12E4-6614-4A6E-866D-B1F6D4A625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1602-CECB-426D-9465-E41B99088E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6D8D-172D-419E-B30B-58A62F0C0F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F70-0674-416F-82CE-9FEFA2C8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867-F368-43CC-B2A0-F5706B2A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430-AD3B-411E-9303-D93CC5C7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4CA-C4B9-443C-92A4-BE42946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6A12-EC13-40F9-A4BB-BE710B7D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4A1-9CCF-4503-8EE0-7D2089A1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7091-6E3E-480A-BFD0-0A4688B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5EC4-C92F-4400-B0FB-94BCA03B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6ACF-F150-4432-A077-08F14F9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595-41EF-4EAB-8E87-203CC8E5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03D5-C3B3-4680-A826-2053B30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9C3-AE4F-48E9-91C6-29678E1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C2A4-C4D1-4CB3-8DCA-F26652FD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6C20-196E-4A1C-9B11-B850A6B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B62-4DDC-46D0-B29E-08E15C3B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DB9-5902-40FC-8681-19AE28BA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3CF-8AB4-4B2C-97A5-5F7C1BFC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8F4-EE75-46D7-94DD-43BD94A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62B-2798-41A9-A59A-D3E85F5B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0B3-919D-4671-838C-079A5FDB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70A-C4D0-4DD1-8DE8-F3A73415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055-EDFF-4150-999D-D8F1129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BA4-908F-400F-AFBA-7DB7EDC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C36-084B-4B04-AC9A-3A6B4A4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098-7B7B-4842-BA79-AAD13BE49C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E20E-F1BE-492B-B2DD-A59B43ECC4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1280" y="38602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: Савина Татьяна, ученица 8 класса Мийнальской средней шко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DSC00572"/>
          <p:cNvPicPr/>
          <p:nvPr/>
        </p:nvPicPr>
        <p:blipFill>
          <a:blip r:embed="rId1"/>
          <a:stretch/>
        </p:blipFill>
        <p:spPr>
          <a:xfrm>
            <a:off x="7381800" y="4508640"/>
            <a:ext cx="1762200" cy="234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nala[1]"/>
          <p:cNvPicPr/>
          <p:nvPr/>
        </p:nvPicPr>
        <p:blipFill>
          <a:blip r:embed="rId2"/>
          <a:stretch/>
        </p:blipFill>
        <p:spPr>
          <a:xfrm>
            <a:off x="0" y="0"/>
            <a:ext cx="255600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Elephant"/>
              </a:rPr>
              <a:t>Влияние музыки на психику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оказывает на нас огромное влияние, действуя на психику, эмоции, душу и тело. Звуки определённой тональности могут приводить человека в различные состояния, возбуждение, радость, грусть, и даже панический ст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Музыка влияет на наше настроение, но не только. С её помощью можно даже исцелять людей или помогать им справляться с их недугами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Informal Roman"/>
              </a:rPr>
              <a:t>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4" descr="Aим"/>
          <p:cNvPicPr/>
          <p:nvPr/>
        </p:nvPicPr>
        <p:blipFill>
          <a:blip r:embed="rId1"/>
          <a:stretch/>
        </p:blipFill>
        <p:spPr>
          <a:xfrm>
            <a:off x="7421400" y="513540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66"/>
                </a:solidFill>
                <a:latin typeface="Georgia"/>
              </a:rPr>
              <a:t>Влияние музыки на человек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13" descr="Baba$"/>
          <p:cNvPicPr/>
          <p:nvPr/>
        </p:nvPicPr>
        <p:blipFill>
          <a:blip r:embed="rId1"/>
          <a:stretch/>
        </p:blipFill>
        <p:spPr>
          <a:xfrm>
            <a:off x="2771640" y="1989000"/>
            <a:ext cx="3888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Snap ITC"/>
              </a:rPr>
              <a:t>Маленький пример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Informal Roman"/>
              </a:rPr>
              <a:t>Было замечено, что использование разной музыки в магазине и кафе заставляет покупателей по-разному вести себя. Энергичные мелодии побуждают их быстро совершать покупки, расплачиваться и уходить, в то время как спокойные и расслабляющие провоцируют на долгие прогулки между прилавками в поисках нужн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9" descr="36_4_15"/>
          <p:cNvPicPr/>
          <p:nvPr/>
        </p:nvPicPr>
        <p:blipFill>
          <a:blip r:embed="rId1"/>
          <a:stretch/>
        </p:blipFill>
        <p:spPr>
          <a:xfrm>
            <a:off x="7380360" y="5613480"/>
            <a:ext cx="151272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358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Harlow Solid Italic"/>
              </a:rPr>
              <a:t>Музыка давно уже стала непременным атрибутом обстановки массажных салонов. Она помогает человеку расслабиться  во время массажа. В стоматологических кабинетах пациенты, которым включали негромкую спокойную музыку, гораздо меньше нервничали и спокойнее переносили все самые неприятные и болезненные манипуляции. Но что это, самовнушение, или    действительно эффективный инструмент для лече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8" descr="Ar1Ag"/>
          <p:cNvPicPr/>
          <p:nvPr/>
        </p:nvPicPr>
        <p:blipFill>
          <a:blip r:embed="rId1"/>
          <a:stretch/>
        </p:blipFill>
        <p:spPr>
          <a:xfrm>
            <a:off x="0" y="0"/>
            <a:ext cx="2050920" cy="205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Ar1Ag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быстрой и громк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Harlow Solid Italic"/>
              </a:rPr>
              <a:t>Деятельность нашего организма напрямую зависит от гормонов. Они активизируют деятельность различных органов, благодаря чему изменяется наше физическое и эмоциональное состояние. При прослушивании различной музыки мозг подаёт сигналы организму производить те или иные гормоны. Быстрая и громкая музыка поднимает уровень кортизола, отчего человек становится более возбуждённым, раздражён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36_4_2"/>
          <p:cNvPicPr/>
          <p:nvPr/>
        </p:nvPicPr>
        <p:blipFill>
          <a:blip r:embed="rId1"/>
          <a:stretch/>
        </p:blipFill>
        <p:spPr>
          <a:xfrm>
            <a:off x="53964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36_4_2"/>
          <p:cNvPicPr/>
          <p:nvPr/>
        </p:nvPicPr>
        <p:blipFill>
          <a:blip r:embed="rId2"/>
          <a:stretch/>
        </p:blipFill>
        <p:spPr>
          <a:xfrm>
            <a:off x="6588000" y="4986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лияние медленной и спокойной музык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ослушивание медленной и спокойной музыки действует совершенно иначе. Уровень кортизола и адреналин снижается, работа всех органов нормализуется, организм начинает мобилизовать свои внутренние ресурсы. С помощью такой музыки можно бороться со стрессами и депрессиями, а отсутствие стресса гораздо быстрее приведёт к выздоровлению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36_2_54"/>
          <p:cNvPicPr/>
          <p:nvPr/>
        </p:nvPicPr>
        <p:blipFill>
          <a:blip r:embed="rId1"/>
          <a:stretch/>
        </p:blipFill>
        <p:spPr>
          <a:xfrm>
            <a:off x="5651640" y="5430960"/>
            <a:ext cx="1512720" cy="1427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ыка- это действительно очень хорошее лекарство, просто нужно его правильно принимать! И каждый человек должен понять, что без музыки нельзя жить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12" descr="0320"/>
          <p:cNvPicPr/>
          <p:nvPr/>
        </p:nvPicPr>
        <p:blipFill>
          <a:blip r:embed="rId1"/>
          <a:stretch/>
        </p:blipFill>
        <p:spPr>
          <a:xfrm>
            <a:off x="2700360" y="620640"/>
            <a:ext cx="3600360" cy="3467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3:06:38Z</dcterms:created>
  <dc:creator>Ирина</dc:creator>
  <dc:description/>
  <dc:language>en-US</dc:language>
  <cp:lastModifiedBy>LEGION</cp:lastModifiedBy>
  <dcterms:modified xsi:type="dcterms:W3CDTF">2015-04-02T06:48:42Z</dcterms:modified>
  <cp:revision>15</cp:revision>
  <dc:subject/>
  <dc:title>Что говорит о на сегодняшняя музыка?</dc:title>
</cp:coreProperties>
</file>