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gif" ContentType="image/gif"/>
  <Override PartName="/ppt/media/image6.jpeg" ContentType="image/jpeg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  <p:custShowLst>
    <p:custShow name="Произвольный показ 1" id="0">
      <p:sldLst>
        <p:sld r:id="rId7"/>
        <p:sld r:id="rId6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8EE9-5319-49BB-9021-FCBD1D5F54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музыки на челове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Савина Татьяна, ученица 8 класса Мийнальской средней шко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784C-39B4-465E-B301-A597B252FB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Elephant"/>
              </a:rPr>
              <a:t>Влияние музыки на психик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Музыка оказывает на нас огромное влияние, действуя на психику, эмоции, душу и тело. Звуки определённой тональности могут приводить человека в различные состояния, возбуждение, радость, грусть, и даже панический ст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Музыка влияет на наше настроение, но не только. С её помощью можно даже исцелять людей или помогать им справляться с их недугам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C9D9-2B8A-42B6-956B-01579E6E96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Georgia"/>
              </a:rPr>
              <a:t>Влияние музыки на челове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4211-226C-4C14-891E-69DCDD94A7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Snap ITC"/>
              </a:rPr>
              <a:t>Маленький пример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Informal Roman"/>
              </a:rPr>
              <a:t>Было замечено, что использование разной музыки в магазине и кафе заставляет покупателей по-разному вести себя. Энергичные мелодии побуждают их быстро совершать покупки, расплачиваться и уходить, в то время как спокойные и расслабляющие провоцируют на долгие прогулки между прилавками в поисках нужных проду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3172-6BA2-4137-9F6E-439C93EB64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Harlow Solid Italic"/>
              </a:rPr>
              <a:t>Музыка давно уже стала непременным атрибутом обстановки массажных салонов. Она помогает человеку расслабиться  во время массажа. В стоматологических кабинетах пациенты, которым включали негромкую спокойную музыку, гораздо меньше нервничали и спокойнее переносили все самые неприятные и болезненные манипуляции. Но что это, самовнушение, или    действительно эффективный инструмент для лечени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17DE-E339-466E-86EE-E11407FD71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быстрой и громкой музы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Harlow Solid Italic"/>
              </a:rPr>
              <a:t>Деятельность нашего организма напрямую зависит от гормонов. Они активизируют деятельность различных органов, благодаря чему изменяется наше физическое и эмоциональное состояние. При прослушивании различной музыки мозг подаёт сигналы организму производить те или иные гормоны. Быстрая и громкая музыка поднимает уровень кортизола, отчего человек становится более возбуждённым, раздражё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4311-E381-4213-B5AD-BEEA15821C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медленной и спокойной музы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слушивание медленной и спокойной музыки действует совершенно иначе. Уровень кортизола и адреналин снижается, работа всех органов нормализуется, организм начинает мобилизовать свои внутренние ресурсы. С помощью такой музыки можно бороться со стрессами и депрессиями, а отсутствие стресса гораздо быстрее приведёт к выздоровлению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B6DF-E45C-49CA-952A-47C77E2A97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- это действительно очень хорошее лекарство, просто нужно его правильно принимать! И каждый человек должен понять, что без музыки нельзя жить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8BF2-4A22-402C-8EAC-1DB3670629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1517-2857-4661-84F5-7CD1636D38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3E8-B3AD-4671-9F0F-DD57E18E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C56A-84A6-408E-9F28-4B806E89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0CC2-149C-4A9C-A8C3-68627514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773-10C3-48EC-B633-3FD5AC97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A7EC-818D-4516-A127-89DE4E2E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7AD5-045E-40EB-B2E9-081B28DA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DFCD-9B23-40E2-B251-BC03636E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2A46-B2AF-4DF2-9CBF-BA4E89B3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B24E-882D-40DA-AF90-F088D38E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57C1-1E57-43C7-B225-14F66E4A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610B-0D10-4988-8E1B-ADED111E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FF0-EDD6-4B46-A3FA-0D20C682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31BF-9270-4EFC-A52A-6C0CD30D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22D3-8642-4ED7-849D-A78E8E78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C254-762A-4971-A336-42E4D828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E28D-62B9-41BF-89A8-1A666CA2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744B-A8B1-4D6B-A88E-C2A1DBAA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6DF-E13B-47E8-A820-FC5B8564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350-097F-46B1-9930-C5338769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D9B-1937-4628-9422-43528705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0FE-88F8-460E-90D3-0120C94E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8B2-D825-4956-BA9E-15AC03E3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A9BD-FC98-4978-8E78-879A71FB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2888-114A-45B5-B4E5-83E2B761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8747-5F94-43F9-A80F-8143663420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0249-6FB1-4883-8ED6-A7CF7E83885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191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Влияние музыки на человека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1280" y="386028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: Савина Татьяна, ученица 8 класса Мийнальской средней шко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0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DSC00572"/>
          <p:cNvPicPr/>
          <p:nvPr/>
        </p:nvPicPr>
        <p:blipFill>
          <a:blip r:embed="rId1"/>
          <a:stretch/>
        </p:blipFill>
        <p:spPr>
          <a:xfrm>
            <a:off x="7381800" y="4508640"/>
            <a:ext cx="1762200" cy="2349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ala[1]"/>
          <p:cNvPicPr/>
          <p:nvPr/>
        </p:nvPicPr>
        <p:blipFill>
          <a:blip r:embed="rId2"/>
          <a:stretch/>
        </p:blipFill>
        <p:spPr>
          <a:xfrm>
            <a:off x="0" y="0"/>
            <a:ext cx="2556000" cy="19130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2880" y="260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00"/>
                </a:solidFill>
                <a:uFillTx/>
                <a:latin typeface="Elephant"/>
              </a:rPr>
              <a:t>Влияние музыки на психику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Музыка оказывает на нас огромное влияние, действуя на психику, эмоции, душу и тело. Звуки определённой тональности могут приводить человека в различные состояния, возбуждение, радость, грусть, и даже панический стр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Музыка влияет на наше настроение, но не только. С её помощью можно даже исцелять людей или помогать им справляться с их недугами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14" descr="Aим"/>
          <p:cNvPicPr/>
          <p:nvPr/>
        </p:nvPicPr>
        <p:blipFill>
          <a:blip r:embed="rId1"/>
          <a:stretch/>
        </p:blipFill>
        <p:spPr>
          <a:xfrm>
            <a:off x="7421400" y="5135400"/>
            <a:ext cx="1722600" cy="17226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66"/>
                </a:solidFill>
                <a:latin typeface="Georgia"/>
              </a:rPr>
              <a:t>Влияние музыки на человека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13" descr="Baba$"/>
          <p:cNvPicPr/>
          <p:nvPr/>
        </p:nvPicPr>
        <p:blipFill>
          <a:blip r:embed="rId1"/>
          <a:stretch/>
        </p:blipFill>
        <p:spPr>
          <a:xfrm>
            <a:off x="2771640" y="1989000"/>
            <a:ext cx="3888000" cy="388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Snap ITC"/>
              </a:rPr>
              <a:t>Маленький пример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Informal Roman"/>
              </a:rPr>
              <a:t>Было замечено, что использование разной музыки в магазине и кафе заставляет покупателей по-разному вести себя. Энергичные мелодии побуждают их быстро совершать покупки, расплачиваться и уходить, в то время как спокойные и расслабляющие провоцируют на долгие прогулки между прилавками в поисках нужных продук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9" descr="36_4_15"/>
          <p:cNvPicPr/>
          <p:nvPr/>
        </p:nvPicPr>
        <p:blipFill>
          <a:blip r:embed="rId1"/>
          <a:stretch/>
        </p:blipFill>
        <p:spPr>
          <a:xfrm>
            <a:off x="7380360" y="5613480"/>
            <a:ext cx="1512720" cy="124452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79358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Harlow Solid Italic"/>
              </a:rPr>
              <a:t>Музыка давно уже стала непременным атрибутом обстановки массажных салонов. Она помогает человеку расслабиться  во время массажа. В стоматологических кабинетах пациенты, которым включали негромкую спокойную музыку, гораздо меньше нервничали и спокойнее переносили все самые неприятные и болезненные манипуляции. Но что это, самовнушение, или    действительно эффективный инструмент для лечения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узыка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8" descr="Ar1Ag"/>
          <p:cNvPicPr/>
          <p:nvPr/>
        </p:nvPicPr>
        <p:blipFill>
          <a:blip r:embed="rId1"/>
          <a:stretch/>
        </p:blipFill>
        <p:spPr>
          <a:xfrm>
            <a:off x="0" y="0"/>
            <a:ext cx="2050920" cy="2050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Ar1Ag"/>
          <p:cNvPicPr/>
          <p:nvPr/>
        </p:nvPicPr>
        <p:blipFill>
          <a:blip r:embed="rId2"/>
          <a:stretch/>
        </p:blipFill>
        <p:spPr>
          <a:xfrm>
            <a:off x="7020000" y="0"/>
            <a:ext cx="2124000" cy="2124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68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68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лияние быстрой и громкой музыки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Harlow Solid Italic"/>
              </a:rPr>
              <a:t>Деятельность нашего организма напрямую зависит от гормонов. Они активизируют деятельность различных органов, благодаря чему изменяется наше физическое и эмоциональное состояние. При прослушивании различной музыки мозг подаёт сигналы организму производить те или иные гормоны. Быстрая и громкая музыка поднимает уровень кортизола, отчего человек становится более возбуждённым, раздражён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36_4_2"/>
          <p:cNvPicPr/>
          <p:nvPr/>
        </p:nvPicPr>
        <p:blipFill>
          <a:blip r:embed="rId1"/>
          <a:stretch/>
        </p:blipFill>
        <p:spPr>
          <a:xfrm>
            <a:off x="53964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36_4_2"/>
          <p:cNvPicPr/>
          <p:nvPr/>
        </p:nvPicPr>
        <p:blipFill>
          <a:blip r:embed="rId2"/>
          <a:stretch/>
        </p:blipFill>
        <p:spPr>
          <a:xfrm>
            <a:off x="6588000" y="49863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лияние медленной и спокойной музыки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ослушивание медленной и спокойной музыки действует совершенно иначе. Уровень кортизола и адреналин снижается, работа всех органов нормализуется, организм начинает мобилизовать свои внутренние ресурсы. С помощью такой музыки можно бороться со стрессами и депрессиями, а отсутствие стресса гораздо быстрее приведёт к выздоровлению!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6" descr="36_2_54"/>
          <p:cNvPicPr/>
          <p:nvPr/>
        </p:nvPicPr>
        <p:blipFill>
          <a:blip r:embed="rId1"/>
          <a:stretch/>
        </p:blipFill>
        <p:spPr>
          <a:xfrm>
            <a:off x="5651640" y="5430960"/>
            <a:ext cx="1512720" cy="1427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зыка- это действительно очень хорошее лекарство, просто нужно его правильно принимать! И каждый человек должен понять, что без музыки нельзя жить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365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пасибо за внимание!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12" descr="0320"/>
          <p:cNvPicPr/>
          <p:nvPr/>
        </p:nvPicPr>
        <p:blipFill>
          <a:blip r:embed="rId1"/>
          <a:stretch/>
        </p:blipFill>
        <p:spPr>
          <a:xfrm>
            <a:off x="2700360" y="620640"/>
            <a:ext cx="3600360" cy="34671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3:06:38Z</dcterms:created>
  <dc:creator>Ирина</dc:creator>
  <dc:description/>
  <dc:language>en-US</dc:language>
  <cp:lastModifiedBy>LEGION</cp:lastModifiedBy>
  <dcterms:modified xsi:type="dcterms:W3CDTF">2015-04-02T06:48:42Z</dcterms:modified>
  <cp:revision>15</cp:revision>
  <dc:subject/>
  <dc:title>Что говорит о на сегодняшняя музыка?</dc:title>
</cp:coreProperties>
</file>