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0095-804E-41BA-8584-1330652C8A8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Реквие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1200" spc="-1" strike="noStrike">
                <a:solidFill>
                  <a:srgbClr val="660033"/>
                </a:solidFill>
                <a:latin typeface="Arial"/>
                <a:ea typeface="Arial"/>
              </a:rPr>
              <a:t>Анна Ахма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2988-2670-4443-9592-E59E42B3651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Вторя часть «Эпилога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641B-489A-403D-8302-1242FDC69A3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Arial"/>
                <a:ea typeface="Arial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"Нет, и не под чуждым небосв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 не под защитой чуждых крыл,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Я была тогда с моим нар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ам, где мой народ, к несчастью, был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(А.Ахмато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17D1-D3BA-4F00-B8A6-3CA9E89FC0F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А это вы можете описать?» - и ответила: «Мог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C435-C5DD-4C0F-A487-7DD5559558F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4D7F-A199-45CD-A1EC-4992005612C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ECF9-D679-4757-B883-6148C2DACB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0F11-B535-423E-861B-D0B1F823B5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Каков смысл эпигра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Я была тогда с моим нар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, где мой народ, к несчастью, бы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1A96-D447-4ABD-9A28-2964E74F0B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«Вместо предисловия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BFD3-660B-49FC-9DC0-65AB8B46C6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DB82-D8CA-40A8-8B7C-7183B1293F1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AC2-D8D4-4CA1-B424-F777DA08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A3F-73A6-44CD-8F1A-665519AC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597-3B2D-4FE6-9D9C-0AAA44E1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77F-0B61-4766-9567-5E666AE6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C4D-7B63-496B-B64F-B3CB1745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370-6E9B-4C78-9EC8-D18CA045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293-D399-4721-84AA-A3C621DB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CC4-28DB-48F1-B665-BBB8FACA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0F1A-4D53-4DD2-9D24-A79A7F76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54C-C978-419D-AEC6-5E59B230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9CB9-7724-4566-8302-E1DE9897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499-1BA7-4689-A35C-3C566F41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BD2F-2274-4FB6-B80D-C36EDABD21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 rot="5400000">
            <a:off x="-1424520" y="2800800"/>
            <a:ext cx="6048360" cy="89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квием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635280" y="1706400"/>
            <a:ext cx="5040360" cy="339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Анна Ахмат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51" name="Picture 7" descr="ahmatova_pic_02"/>
          <p:cNvPicPr/>
          <p:nvPr/>
        </p:nvPicPr>
        <p:blipFill>
          <a:blip r:embed="rId2"/>
          <a:stretch/>
        </p:blipFill>
        <p:spPr>
          <a:xfrm>
            <a:off x="3132000" y="0"/>
            <a:ext cx="5788080" cy="1387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A01143_"/>
          <p:cNvPicPr/>
          <p:nvPr/>
        </p:nvPicPr>
        <p:blipFill>
          <a:blip r:embed="rId3"/>
          <a:stretch/>
        </p:blipFill>
        <p:spPr>
          <a:xfrm>
            <a:off x="6443640" y="4548240"/>
            <a:ext cx="2222640" cy="123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IN00349_"/>
          <p:cNvPicPr/>
          <p:nvPr/>
        </p:nvPicPr>
        <p:blipFill>
          <a:blip r:embed="rId4"/>
          <a:stretch/>
        </p:blipFill>
        <p:spPr>
          <a:xfrm>
            <a:off x="3419640" y="1568520"/>
            <a:ext cx="1687320" cy="1687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3276720" y="6143760"/>
            <a:ext cx="57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олнила ученица 11Т класса Юрьева Евг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327480" y="1433520"/>
            <a:ext cx="5637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Вторя часть «Эпилога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Гумилевы"/>
          <p:cNvPicPr/>
          <p:nvPr/>
        </p:nvPicPr>
        <p:blipFill>
          <a:blip r:embed="rId2"/>
          <a:stretch/>
        </p:blipFill>
        <p:spPr>
          <a:xfrm>
            <a:off x="250920" y="1628640"/>
            <a:ext cx="2700360" cy="3600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Ахматова=="/>
          <p:cNvPicPr/>
          <p:nvPr/>
        </p:nvPicPr>
        <p:blipFill>
          <a:blip r:embed="rId2"/>
          <a:stretch/>
        </p:blipFill>
        <p:spPr>
          <a:xfrm>
            <a:off x="179280" y="1484280"/>
            <a:ext cx="2660760" cy="3959280"/>
          </a:xfrm>
          <a:prstGeom prst="rect">
            <a:avLst/>
          </a:prstGeom>
          <a:ln w="0">
            <a:noFill/>
          </a:ln>
        </p:spPr>
      </p:pic>
      <p:sp>
        <p:nvSpPr>
          <p:cNvPr id="58" name="WordArt 4"/>
          <p:cNvSpPr txBox="1"/>
          <p:nvPr/>
        </p:nvSpPr>
        <p:spPr>
          <a:xfrm>
            <a:off x="3851280" y="189000"/>
            <a:ext cx="47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3419640" y="1989000"/>
            <a:ext cx="5400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ет, и не под чуждым небосв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не под защитой чуждых крыл,-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 была тогда с моим нар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м, где мой народ, к несчастью, был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093080" y="479736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А.Ахматов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Ахматова-"/>
          <p:cNvPicPr/>
          <p:nvPr/>
        </p:nvPicPr>
        <p:blipFill>
          <a:blip r:embed="rId2"/>
          <a:stretch/>
        </p:blipFill>
        <p:spPr>
          <a:xfrm>
            <a:off x="324000" y="1557360"/>
            <a:ext cx="2666880" cy="3724200"/>
          </a:xfrm>
          <a:prstGeom prst="rect">
            <a:avLst/>
          </a:prstGeom>
          <a:ln w="0">
            <a:noFill/>
          </a:ln>
        </p:spPr>
      </p:pic>
      <p:sp>
        <p:nvSpPr>
          <p:cNvPr id="64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635280" y="1484280"/>
            <a:ext cx="5327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А это вы можете описать?» - и ответила: «Могу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419640" y="1484280"/>
            <a:ext cx="54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Ах 1940г"/>
          <p:cNvPicPr/>
          <p:nvPr/>
        </p:nvPicPr>
        <p:blipFill>
          <a:blip r:embed="rId2"/>
          <a:stretch/>
        </p:blipFill>
        <p:spPr>
          <a:xfrm>
            <a:off x="324000" y="1484280"/>
            <a:ext cx="254952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492360" y="1700280"/>
            <a:ext cx="549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attach"/>
          <p:cNvPicPr/>
          <p:nvPr/>
        </p:nvPicPr>
        <p:blipFill>
          <a:blip r:embed="rId2"/>
          <a:stretch/>
        </p:blipFill>
        <p:spPr>
          <a:xfrm>
            <a:off x="250920" y="1700280"/>
            <a:ext cx="2631960" cy="3816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635280" y="2276640"/>
            <a:ext cx="498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Picture 4" descr="Ах"/>
          <p:cNvPicPr/>
          <p:nvPr/>
        </p:nvPicPr>
        <p:blipFill>
          <a:blip r:embed="rId2"/>
          <a:stretch/>
        </p:blipFill>
        <p:spPr>
          <a:xfrm>
            <a:off x="324000" y="1628640"/>
            <a:ext cx="2538360" cy="3961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419640" y="1413000"/>
            <a:ext cx="541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492360" y="321300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ков смысл эпиграф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276720" y="4005360"/>
            <a:ext cx="58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Я была тогда с моим народ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м, где мой народ, к несчастью, был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400560" y="1433520"/>
            <a:ext cx="549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«Вместо предисловия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Ахматова Ан="/>
          <p:cNvPicPr/>
          <p:nvPr/>
        </p:nvPicPr>
        <p:blipFill>
          <a:blip r:embed="rId2"/>
          <a:stretch/>
        </p:blipFill>
        <p:spPr>
          <a:xfrm>
            <a:off x="179280" y="1557360"/>
            <a:ext cx="2789280" cy="39607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492360" y="1844640"/>
            <a:ext cx="541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4:56:56Z</dcterms:created>
  <dc:creator>Евгения</dc:creator>
  <dc:description/>
  <dc:language>en-US</dc:language>
  <cp:lastModifiedBy>LEGION</cp:lastModifiedBy>
  <dcterms:modified xsi:type="dcterms:W3CDTF">2015-04-02T06:50:17Z</dcterms:modified>
  <cp:revision>46</cp:revision>
  <dc:subject/>
  <dc:title>Слайд 1</dc:title>
</cp:coreProperties>
</file>