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8DD0-AFA0-4EBA-81BE-352671E6EB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екви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Анна Ахма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E7C4-D6FC-4137-ABD4-30C9D6540D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торя часть «Эпилог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0A49-ACD7-4273-BFA1-3602E23DF71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"Нет, и не под чуждым небосв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 не под защитой чуждых крыл,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ам, где мой народ, к несчастью, бы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(А.Ахмат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8913-1F90-4F3B-8D5A-AD4146F9CF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А это вы можете описать?» - и ответила: «Мог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F766-6FAB-4538-B4E0-5266105C46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F03F-E808-4E3B-B5B8-1E5E021AAB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E750-A199-4DF4-896A-E0889FFD92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A25F-44B8-44E8-AC51-DC641D45F2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Каков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, где мой народ, к несчастью, 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1A48-C0F9-4B4B-94F2-27C72866FC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Вместо предисловия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9F3E-C275-4F7F-8BA5-BA2E5C4A07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F374-B561-4668-95FF-D4887FE0E0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A19-A816-4839-A8D3-18D47662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5E5-DAEB-4B25-8FEA-1D55D640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6C4-C061-46B6-98CF-B10C770E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172-4E3C-48EB-BFD3-BFA9528C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A55-6443-4F5A-A797-E91D1E43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EA1-4B91-45A1-A865-7B0E2A90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0FE-2FB3-4FF4-B606-EE145D23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10C-9B6B-4DE8-BB85-0570081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D69-5D05-48AE-9DF7-0F840CF5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C21-4001-4060-8E76-AC5FB7F9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E7F-BC71-4B2C-A30B-4BC1AA28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576-7C24-4C8B-A39E-68374B40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F138-9820-4235-8CC5-EE26FF00E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 rot="5400000">
            <a:off x="-1424520" y="2800800"/>
            <a:ext cx="6048360" cy="89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вие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635280" y="1706400"/>
            <a:ext cx="5040360" cy="339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нна Ахмат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51" name="Picture 7" descr="ahmatova_pic_02"/>
          <p:cNvPicPr/>
          <p:nvPr/>
        </p:nvPicPr>
        <p:blipFill>
          <a:blip r:embed="rId2"/>
          <a:stretch/>
        </p:blipFill>
        <p:spPr>
          <a:xfrm>
            <a:off x="3132000" y="0"/>
            <a:ext cx="5788080" cy="1387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A01143_"/>
          <p:cNvPicPr/>
          <p:nvPr/>
        </p:nvPicPr>
        <p:blipFill>
          <a:blip r:embed="rId3"/>
          <a:stretch/>
        </p:blipFill>
        <p:spPr>
          <a:xfrm>
            <a:off x="6443640" y="4548240"/>
            <a:ext cx="222264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N00349_"/>
          <p:cNvPicPr/>
          <p:nvPr/>
        </p:nvPicPr>
        <p:blipFill>
          <a:blip r:embed="rId4"/>
          <a:stretch/>
        </p:blipFill>
        <p:spPr>
          <a:xfrm>
            <a:off x="3419640" y="1568520"/>
            <a:ext cx="1687320" cy="168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3276720" y="6143760"/>
            <a:ext cx="57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ла ученица 11Т класса Юрьева Евг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327480" y="1433520"/>
            <a:ext cx="56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торя часть «Эпилога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Гумилевы"/>
          <p:cNvPicPr/>
          <p:nvPr/>
        </p:nvPicPr>
        <p:blipFill>
          <a:blip r:embed="rId2"/>
          <a:stretch/>
        </p:blipFill>
        <p:spPr>
          <a:xfrm>
            <a:off x="250920" y="1628640"/>
            <a:ext cx="270036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Ахматова=="/>
          <p:cNvPicPr/>
          <p:nvPr/>
        </p:nvPicPr>
        <p:blipFill>
          <a:blip r:embed="rId2"/>
          <a:stretch/>
        </p:blipFill>
        <p:spPr>
          <a:xfrm>
            <a:off x="179280" y="1484280"/>
            <a:ext cx="266076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3851280" y="189000"/>
            <a:ext cx="47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3419640" y="1989000"/>
            <a:ext cx="540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т, и не под чуждым небосв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е под защитой чуждых крыл,-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была тогда с моим нар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м, где мой народ, к несчастью, был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093080" y="4797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А.Ахматов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Ахматова-"/>
          <p:cNvPicPr/>
          <p:nvPr/>
        </p:nvPicPr>
        <p:blipFill>
          <a:blip r:embed="rId2"/>
          <a:stretch/>
        </p:blipFill>
        <p:spPr>
          <a:xfrm>
            <a:off x="324000" y="1557360"/>
            <a:ext cx="2666880" cy="372420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35280" y="1484280"/>
            <a:ext cx="532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 это вы можете описать?» - и ответила: «Мог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419640" y="1484280"/>
            <a:ext cx="54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Ах 1940г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492360" y="1700280"/>
            <a:ext cx="54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attach"/>
          <p:cNvPicPr/>
          <p:nvPr/>
        </p:nvPicPr>
        <p:blipFill>
          <a:blip r:embed="rId2"/>
          <a:stretch/>
        </p:blipFill>
        <p:spPr>
          <a:xfrm>
            <a:off x="250920" y="1700280"/>
            <a:ext cx="263196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635280" y="2276640"/>
            <a:ext cx="49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Picture 4" descr="Ах"/>
          <p:cNvPicPr/>
          <p:nvPr/>
        </p:nvPicPr>
        <p:blipFill>
          <a:blip r:embed="rId2"/>
          <a:stretch/>
        </p:blipFill>
        <p:spPr>
          <a:xfrm>
            <a:off x="324000" y="1628640"/>
            <a:ext cx="2538360" cy="3961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419640" y="1413000"/>
            <a:ext cx="541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492360" y="32130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ков смысл эпиграф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76720" y="400536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Я была тогда с моим наро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м, где мой народ, к несчастью, был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400560" y="1433520"/>
            <a:ext cx="549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«Вместо предислов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Ахматова Ан="/>
          <p:cNvPicPr/>
          <p:nvPr/>
        </p:nvPicPr>
        <p:blipFill>
          <a:blip r:embed="rId2"/>
          <a:stretch/>
        </p:blipFill>
        <p:spPr>
          <a:xfrm>
            <a:off x="179280" y="1557360"/>
            <a:ext cx="278928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492360" y="1844640"/>
            <a:ext cx="541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56:56Z</dcterms:created>
  <dc:creator>Евгения</dc:creator>
  <dc:description/>
  <dc:language>en-US</dc:language>
  <cp:lastModifiedBy>LEGION</cp:lastModifiedBy>
  <dcterms:modified xsi:type="dcterms:W3CDTF">2015-04-02T06:50:17Z</dcterms:modified>
  <cp:revision>46</cp:revision>
  <dc:subject/>
  <dc:title>Слайд 1</dc:title>
</cp:coreProperties>
</file>