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6.png" ContentType="image/png"/>
  <Override PartName="/ppt/media/image1.wmf" ContentType="image/x-wmf"/>
  <Override PartName="/ppt/media/image55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4.png" ContentType="image/png"/>
  <Override PartName="/ppt/media/image76.jpeg" ContentType="image/jpeg"/>
  <Override PartName="/ppt/media/image41.jpeg" ContentType="image/jpeg"/>
  <Override PartName="/ppt/media/image32.png" ContentType="image/png"/>
  <Override PartName="/ppt/media/image15.jpeg" ContentType="image/jpeg"/>
  <Override PartName="/ppt/media/image49.jpeg" ContentType="image/jpeg"/>
  <Override PartName="/ppt/media/image51.jpeg" ContentType="image/jpeg"/>
  <Override PartName="/ppt/media/image25.png" ContentType="image/png"/>
  <Override PartName="/ppt/media/image19.jpeg" ContentType="image/jpeg"/>
  <Override PartName="/ppt/media/image57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3.jpeg" ContentType="image/jpeg"/>
  <Override PartName="/ppt/media/image77.png" ContentType="image/png"/>
  <Override PartName="/ppt/media/image61.jpeg" ContentType="image/jpeg"/>
  <Override PartName="/ppt/media/image40.png" ContentType="image/png"/>
  <Override PartName="/ppt/media/image64.jpeg" ContentType="image/jpeg"/>
  <Override PartName="/ppt/media/image38.jpeg" ContentType="image/jpeg"/>
  <Override PartName="/ppt/media/image75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71.jpeg" ContentType="image/jpeg"/>
  <Override PartName="/ppt/media/image66.jpeg" ContentType="image/jpeg"/>
  <Override PartName="/ppt/media/image69.jpeg" ContentType="image/jpeg"/>
  <Override PartName="/ppt/media/image68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63.jpeg" ContentType="image/jpeg"/>
  <Override PartName="/ppt/media/image60.jpeg" ContentType="image/jpeg"/>
  <Override PartName="/ppt/media/image20.png" ContentType="image/png"/>
  <Override PartName="/ppt/media/image37.jpeg" ContentType="image/jpeg"/>
  <Override PartName="/ppt/media/image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3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62.jpeg" ContentType="image/jpeg"/>
  <Override PartName="/ppt/media/image7.png" ContentType="image/png"/>
  <Override PartName="/ppt/media/image9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0933-EA3A-4F0C-ABF5-61DF9F5640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AD22-8F55-4CA4-9A85-32333B91369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C2D8-5439-4430-B711-8C9A966F1E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FAF-46CA-41F6-ADFE-65912A14BC6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CF2-675C-40CF-B468-2237B2F1198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Фольк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одное песенно-поэтическое творче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нцы  с предст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 на народных инструм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рчество жриц и жрецов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A1F-F7A8-4EC1-8F30-E35C7F53F8C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рамовое искус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648A-39B0-4368-910C-42D4B7DD2DC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цовое 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0CD8-29D6-416F-94D7-DE3645C10C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130-FFC8-4EEB-B393-969A9575393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ая опера 159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тальянский композитор Якопо 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07F-8ACA-4009-BC1A-00FF544EDA6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9895-7CFE-4FE9-981B-556C9FF915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ы отражают  следующие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ные явления и 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Жизнь людей, причины их счастли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 жалкого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E69B-7A85-4A00-A2D8-713BB2B635F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F0B6-C1AB-49DF-8CBD-50AB4B4E18D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11DE-A422-4505-BD29-9CE6B5EACAF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76F5-F8BA-45E0-A7DA-AFD93D4960E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9891-E8B3-4E12-8775-28D7B194C6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C4DE-4B38-49B4-BBB2-F6AA01C0D2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ие  античного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6A9-C9F3-4EA6-B27C-051489F9C22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6193-799C-4312-A746-F04D78E8797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CDED-B499-49A0-AADD-C0850892D8E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1E4C-3BC9-477A-8BF1-7C6367FFDE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DAE1-44C6-42AA-9F5F-353FEDF1852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бер Р. «Всеобщая история музык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,Музгиз, 1960г,196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ьберквит М. « Мир музыки»//Дет. Лит. М.-198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с К. Энгельс Ф. «Сочинения»т 1,12,М.,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A15-23DE-44F2-8551-4B705B1A95D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43EC-3B71-450F-B6DA-6BD868C9931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870-DEBD-45E8-8FB9-3FC9CEE950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ивительная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а  му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571-C992-4C69-98C2-C848774C3B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-драматические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представления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B61C-4510-4878-9D3C-D620B0662D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FF35-742C-4270-B32D-265E107EF4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CCE-1FA6-4907-8DAE-F0EBC5D6890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803-637E-4F6B-AF6E-B2E39771CD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13E-096B-44E5-9D87-322503B1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C15-3339-46D1-AF6A-4ECA724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46D-85C2-4ACC-A747-9D1A8DF4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C20-D005-4D29-9E59-B4D44DAF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F233-5B3B-479F-9247-C7F58BFE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04E8-9E02-4F18-B562-CAE83E97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4DA-D995-4C27-9B55-5A695AC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53D-8268-4D64-AE3C-8032FEFD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6FA-5CF6-4980-9490-ED7E4D39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D981-FC65-457C-983B-5695AB2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8B1D-F3D1-4C1A-9ABB-1A28CF8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5C0-A680-469F-AFDC-603B7BC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708-F1BB-4CC7-921C-8CC3331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FDF3-F683-4778-B25B-EA448B8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905-0DD3-4038-AE1F-00115F3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BD57-100D-48C2-B9BB-C85D9784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F9E-0F08-4FF0-9833-E4BBC2F2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792-7998-43D8-BF3E-D9E8FBCC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4D1-6AE2-4C27-8690-9F65A733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6BF-1072-4ED5-8B6F-8D194296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D40-73C9-4592-8A51-BD85DCC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FDE-A357-479F-B791-AA67F11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617-AC2C-49C9-AFEE-CA47F2E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7A7-8CB4-41E3-8200-3E4B0DA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C12-A496-4631-81C8-214B9868A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A66A-222B-4BFD-BD90-5AB7C8EC71BE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1.xm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6966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Античные образы в музыкальной культур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27280" y="3645000"/>
            <a:ext cx="489096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полнил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, ученица 8 «б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аслова Дарья, ученица   8 «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уководитель: Смирнова Е.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4" descr="Grecia"/>
          <p:cNvPicPr/>
          <p:nvPr/>
        </p:nvPicPr>
        <p:blipFill>
          <a:blip r:embed="rId1">
            <a:lum bright="-12000"/>
          </a:blip>
          <a:srcRect l="0" t="0" r="0" b="9284"/>
          <a:stretch/>
        </p:blipFill>
        <p:spPr>
          <a:xfrm>
            <a:off x="539640" y="3573360"/>
            <a:ext cx="21700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Классическая музыка_-_в тему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7"/>
          <p:cNvSpPr/>
          <p:nvPr/>
        </p:nvSpPr>
        <p:spPr>
          <a:xfrm>
            <a:off x="3255840" y="573408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ОУ лицей №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. Тутае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03a"/>
          <p:cNvPicPr/>
          <p:nvPr/>
        </p:nvPicPr>
        <p:blipFill>
          <a:blip r:embed="rId1"/>
          <a:stretch/>
        </p:blipFill>
        <p:spPr>
          <a:xfrm>
            <a:off x="179280" y="692280"/>
            <a:ext cx="4505400" cy="5195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834-13"/>
          <p:cNvPicPr/>
          <p:nvPr/>
        </p:nvPicPr>
        <p:blipFill>
          <a:blip r:embed="rId2"/>
          <a:stretch/>
        </p:blipFill>
        <p:spPr>
          <a:xfrm>
            <a:off x="4788000" y="981000"/>
            <a:ext cx="2881080" cy="1933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лады"/>
          <p:cNvPicPr/>
          <p:nvPr/>
        </p:nvPicPr>
        <p:blipFill>
          <a:blip r:embed="rId3"/>
          <a:stretch/>
        </p:blipFill>
        <p:spPr>
          <a:xfrm>
            <a:off x="4859280" y="3573360"/>
            <a:ext cx="2737080" cy="1366920"/>
          </a:xfrm>
          <a:prstGeom prst="rect">
            <a:avLst/>
          </a:prstGeom>
          <a:ln w="0">
            <a:noFill/>
          </a:ln>
        </p:spPr>
      </p:pic>
      <p:pic>
        <p:nvPicPr>
          <p:cNvPr id="249" name="Глюк–Сгамбати, Мелодия из «Орфея и Эвридики».mp3" descr=""/>
          <p:cNvPicPr/>
          <p:nvPr/>
        </p:nvPicPr>
        <p:blipFill>
          <a:blip r:embed="rId4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лассификация видов античного музыкального искус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WordArt 4"/>
          <p:cNvSpPr txBox="1"/>
          <p:nvPr/>
        </p:nvSpPr>
        <p:spPr>
          <a:xfrm>
            <a:off x="468360" y="3141720"/>
            <a:ext cx="223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Фолькл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07640" y="1989000"/>
            <a:ext cx="1008360" cy="1152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WordArt 7"/>
          <p:cNvSpPr txBox="1"/>
          <p:nvPr/>
        </p:nvSpPr>
        <p:spPr>
          <a:xfrm>
            <a:off x="4500720" y="3141720"/>
            <a:ext cx="302400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Храм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5364000" y="1773360"/>
            <a:ext cx="1081080" cy="14396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1979640" y="443700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Дворцовое искус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4140360" y="1989000"/>
            <a:ext cx="0" cy="244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AutoShape 11">
            <a:hlinkClick r:id="rId1" action="ppaction://hlinksldjump"/>
          </p:cNvPr>
          <p:cNvSpPr/>
          <p:nvPr/>
        </p:nvSpPr>
        <p:spPr>
          <a:xfrm>
            <a:off x="7164360" y="630864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788364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одное песенно-поэтическое творчеств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нцы  с представление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а на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ворчество жриц и жрецов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AutoShape 4">
            <a:hlinkClick r:id="rId1" action="ppaction://hlinksldjump"/>
          </p:cNvPr>
          <p:cNvSpPr/>
          <p:nvPr/>
        </p:nvSpPr>
        <p:spPr>
          <a:xfrm>
            <a:off x="7093080" y="6453360"/>
            <a:ext cx="615960" cy="198360"/>
          </a:xfrm>
          <a:prstGeom prst="leftArrow">
            <a:avLst>
              <a:gd name="adj1" fmla="val 50000"/>
              <a:gd name="adj2" fmla="val 77632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Picture 13" descr="307-Ornament-Ancient-Music-q75-386x500"/>
          <p:cNvPicPr/>
          <p:nvPr/>
        </p:nvPicPr>
        <p:blipFill>
          <a:blip r:embed="rId2"/>
          <a:stretch/>
        </p:blipFill>
        <p:spPr>
          <a:xfrm>
            <a:off x="468360" y="321300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ancient-music-playing-1"/>
          <p:cNvPicPr/>
          <p:nvPr/>
        </p:nvPicPr>
        <p:blipFill>
          <a:blip r:embed="rId3"/>
          <a:stretch/>
        </p:blipFill>
        <p:spPr>
          <a:xfrm>
            <a:off x="3924360" y="3376440"/>
            <a:ext cx="2592360" cy="3481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0" descr="ancient-music-playing-2"/>
          <p:cNvPicPr/>
          <p:nvPr/>
        </p:nvPicPr>
        <p:blipFill>
          <a:blip r:embed="rId4"/>
          <a:stretch/>
        </p:blipFill>
        <p:spPr>
          <a:xfrm>
            <a:off x="5508720" y="1700280"/>
            <a:ext cx="2200320" cy="3009960"/>
          </a:xfrm>
          <a:prstGeom prst="rect">
            <a:avLst/>
          </a:prstGeom>
          <a:ln w="0">
            <a:noFill/>
          </a:ln>
        </p:spPr>
      </p:pic>
      <p:sp>
        <p:nvSpPr>
          <p:cNvPr id="265" name="WordArt 21"/>
          <p:cNvSpPr txBox="1"/>
          <p:nvPr/>
        </p:nvSpPr>
        <p:spPr>
          <a:xfrm>
            <a:off x="1908000" y="333360"/>
            <a:ext cx="42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льклор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8880" y="691920"/>
            <a:ext cx="747684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9af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8" name="Picture 4" descr="gomer"/>
          <p:cNvPicPr/>
          <p:nvPr/>
        </p:nvPicPr>
        <p:blipFill>
          <a:blip r:embed="rId1"/>
          <a:stretch/>
        </p:blipFill>
        <p:spPr>
          <a:xfrm>
            <a:off x="61920" y="260280"/>
            <a:ext cx="132876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ахилл">
            <a:hlinkClick r:id="rId2" action="ppaction://hlinksldjump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651640" y="4508640"/>
            <a:ext cx="2068200" cy="21445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755640" y="1773360"/>
            <a:ext cx="6769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льклорно-мифологические былины, оды и кодак; мелоды Ефрема Сирина; песни Гомера, одическая хоровая поэзия Пиндара, песни Ахилла из «Иллады», песни аэдов Демодока из «Одиссее», про опера Франческо Каваллии «Дидона и Эней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1" name="Picture 10" descr="b_13796"/>
          <p:cNvPicPr/>
          <p:nvPr/>
        </p:nvPicPr>
        <p:blipFill>
          <a:blip r:embed="rId4"/>
          <a:stretch/>
        </p:blipFill>
        <p:spPr>
          <a:xfrm>
            <a:off x="324000" y="4122720"/>
            <a:ext cx="3887640" cy="25462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1692360" y="54936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рам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92000" y="1557360"/>
            <a:ext cx="583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ветские произведения под аккомпанемент лиры, труб, орг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роизведения: элегии Тиртея, песнопения Зевсу в Олимпии, гимны Афродите, оды Апполону, псалмы и молитвы Давида искусно владеющий своим голосом и арфой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7" descr="ancient-music-playing-3"/>
          <p:cNvPicPr/>
          <p:nvPr/>
        </p:nvPicPr>
        <p:blipFill>
          <a:blip r:embed="rId1"/>
          <a:stretch/>
        </p:blipFill>
        <p:spPr>
          <a:xfrm>
            <a:off x="0" y="1557360"/>
            <a:ext cx="1800360" cy="446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гарострат"/>
          <p:cNvPicPr/>
          <p:nvPr/>
        </p:nvPicPr>
        <p:blipFill>
          <a:blip r:embed="rId2"/>
          <a:stretch/>
        </p:blipFill>
        <p:spPr>
          <a:xfrm>
            <a:off x="4643280" y="3860640"/>
            <a:ext cx="2521080" cy="2708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орган"/>
          <p:cNvPicPr/>
          <p:nvPr/>
        </p:nvPicPr>
        <p:blipFill>
          <a:blip r:embed="rId3"/>
          <a:stretch/>
        </p:blipFill>
        <p:spPr>
          <a:xfrm>
            <a:off x="1979640" y="4076640"/>
            <a:ext cx="236232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13"/>
          <p:cNvSpPr txBox="1"/>
          <p:nvPr/>
        </p:nvSpPr>
        <p:spPr>
          <a:xfrm>
            <a:off x="1619280" y="404640"/>
            <a:ext cx="540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рцовое искусств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ывод: античное музыкальное искусство носило зрелищно-развлекательный характер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2" name="Picture 4" descr="49c5e061b77b"/>
          <p:cNvPicPr/>
          <p:nvPr/>
        </p:nvPicPr>
        <p:blipFill>
          <a:blip r:embed="rId1"/>
          <a:stretch/>
        </p:blipFill>
        <p:spPr>
          <a:xfrm>
            <a:off x="0" y="1773360"/>
            <a:ext cx="7740720" cy="489564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-324000" y="5877000"/>
            <a:ext cx="8569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Picture 7" descr="Картинка 16 из 39"/>
          <p:cNvPicPr/>
          <p:nvPr/>
        </p:nvPicPr>
        <p:blipFill>
          <a:blip r:embed="rId1"/>
          <a:stretch/>
        </p:blipFill>
        <p:spPr>
          <a:xfrm>
            <a:off x="3780000" y="2205000"/>
            <a:ext cx="3708360" cy="3191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Картинка 1 из 6"/>
          <p:cNvPicPr/>
          <p:nvPr/>
        </p:nvPicPr>
        <p:blipFill>
          <a:blip r:embed="rId2"/>
          <a:stretch/>
        </p:blipFill>
        <p:spPr>
          <a:xfrm>
            <a:off x="395280" y="1341360"/>
            <a:ext cx="2941560" cy="403236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2"/>
          <p:cNvSpPr txBox="1"/>
          <p:nvPr/>
        </p:nvSpPr>
        <p:spPr>
          <a:xfrm>
            <a:off x="1547640" y="404640"/>
            <a:ext cx="4972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вая опера 1597 г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WordArt 14"/>
          <p:cNvSpPr txBox="1"/>
          <p:nvPr/>
        </p:nvSpPr>
        <p:spPr>
          <a:xfrm>
            <a:off x="4788000" y="119700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5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Дафн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395280" y="558972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альянский композитор Якопо Пе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Композито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2" name="Picture 4" descr="O35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95280" y="4005360"/>
            <a:ext cx="170640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Картинка 11 из 11946"/>
          <p:cNvPicPr/>
          <p:nvPr/>
        </p:nvPicPr>
        <p:blipFill>
          <a:blip r:embed="rId2"/>
          <a:stretch/>
        </p:blipFill>
        <p:spPr>
          <a:xfrm>
            <a:off x="2944800" y="1052640"/>
            <a:ext cx="1946160" cy="23050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 Хачатуря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132000" y="3357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 Глю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12" descr="Картинка 3 из 27732"/>
          <p:cNvPicPr/>
          <p:nvPr/>
        </p:nvPicPr>
        <p:blipFill>
          <a:blip r:embed="rId3"/>
          <a:stretch/>
        </p:blipFill>
        <p:spPr>
          <a:xfrm>
            <a:off x="5435640" y="1125360"/>
            <a:ext cx="1835280" cy="22323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3"/>
          <p:cNvSpPr/>
          <p:nvPr/>
        </p:nvSpPr>
        <p:spPr>
          <a:xfrm>
            <a:off x="550872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С.Ба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15" descr="Картинка 1 из 251"/>
          <p:cNvPicPr/>
          <p:nvPr/>
        </p:nvPicPr>
        <p:blipFill>
          <a:blip r:embed="rId4"/>
          <a:stretch/>
        </p:blipFill>
        <p:spPr>
          <a:xfrm>
            <a:off x="5681520" y="4005360"/>
            <a:ext cx="1470240" cy="21603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6"/>
          <p:cNvSpPr/>
          <p:nvPr/>
        </p:nvSpPr>
        <p:spPr>
          <a:xfrm>
            <a:off x="5003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И.Ф. Стравински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0" name="Picture 18" descr="Картинка 7 из 15326"/>
          <p:cNvPicPr/>
          <p:nvPr/>
        </p:nvPicPr>
        <p:blipFill>
          <a:blip r:embed="rId5"/>
          <a:stretch/>
        </p:blipFill>
        <p:spPr>
          <a:xfrm>
            <a:off x="324000" y="1052640"/>
            <a:ext cx="1885680" cy="23050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9"/>
          <p:cNvSpPr/>
          <p:nvPr/>
        </p:nvSpPr>
        <p:spPr>
          <a:xfrm>
            <a:off x="32400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.Вагн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2" name="Picture 21" descr="Картинка 15 из 139"/>
          <p:cNvPicPr/>
          <p:nvPr/>
        </p:nvPicPr>
        <p:blipFill>
          <a:blip r:embed="rId6"/>
          <a:stretch/>
        </p:blipFill>
        <p:spPr>
          <a:xfrm>
            <a:off x="2987640" y="4005360"/>
            <a:ext cx="1665360" cy="21603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22"/>
          <p:cNvSpPr/>
          <p:nvPr/>
        </p:nvSpPr>
        <p:spPr>
          <a:xfrm>
            <a:off x="284328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Журб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1116000" y="177336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1116000" y="242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Природные явления и животны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1184400" y="3068640"/>
            <a:ext cx="58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Жизнь людей, причины их счастливог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и жалкого существов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187280" y="3933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Загробное царство и конец Све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>
            <a:off x="6659640" y="609300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0" name="Picture 24" descr="театр аполлона"/>
          <p:cNvPicPr/>
          <p:nvPr/>
        </p:nvPicPr>
        <p:blipFill>
          <a:blip r:embed="rId1"/>
          <a:stretch/>
        </p:blipFill>
        <p:spPr>
          <a:xfrm>
            <a:off x="1042920" y="4508640"/>
            <a:ext cx="5400720" cy="216036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5"/>
          <p:cNvSpPr txBox="1"/>
          <p:nvPr/>
        </p:nvSpPr>
        <p:spPr>
          <a:xfrm>
            <a:off x="539640" y="549360"/>
            <a:ext cx="6912000" cy="31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036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ы отражают  следующие т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7920" y="252360"/>
            <a:ext cx="72118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Окружающий мир, его происхожд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38684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ратория И. Гайдна «Сотворение мира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. Нильс балет «Музы»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Д. Бизе оркестровая симфония Ри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агнер опера «Закат Бог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5" name="Picture 4" descr="12-25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500720" y="3860640"/>
            <a:ext cx="3025440" cy="218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слева на право Агаменон Ахил Гектор Аякс Нестор Одисей Диоменд Манелай Эней"/>
          <p:cNvPicPr/>
          <p:nvPr/>
        </p:nvPicPr>
        <p:blipFill>
          <a:blip r:embed="rId2"/>
          <a:srcRect l="4971" t="0" r="0" b="0"/>
          <a:stretch/>
        </p:blipFill>
        <p:spPr>
          <a:xfrm>
            <a:off x="755640" y="372744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907640" y="1052280"/>
            <a:ext cx="576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огда слышу, как говорят о добродетели или мудрости человека, который сам вполне соответствует тому, что он говорит, я чрезвычайно радуюсь, и, такой человек кажется мне поистине музыкальным. Потому, что он извлекает прекраснейшую гармонию не из лиры или еще какого-либо орудия игры, а из самой жизни, согласив в себе слова с делами по образу единой эллинской гармо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96000" y="5661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лато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6" descr="1pic-8a"/>
          <p:cNvPicPr/>
          <p:nvPr/>
        </p:nvPicPr>
        <p:blipFill>
          <a:blip r:embed="rId1">
            <a:lum bright="-6000"/>
          </a:blip>
          <a:srcRect l="0" t="0" r="46398" b="0"/>
          <a:stretch/>
        </p:blipFill>
        <p:spPr>
          <a:xfrm>
            <a:off x="324000" y="981000"/>
            <a:ext cx="1734840" cy="42372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Природные явления и животны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386480" cy="21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леман Жанекен хоровая кантата «Пение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тиц»,  Скарлатти опера «Нарцисс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фортепианные пьесы Ф.Шумана «Карнавал»,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цы давидсбюндлеров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4" descr="арцис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32360" y="3141720"/>
            <a:ext cx="2289240" cy="2774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0_2fd61_db51811d_XL"/>
          <p:cNvPicPr/>
          <p:nvPr/>
        </p:nvPicPr>
        <p:blipFill>
          <a:blip r:embed="rId2"/>
          <a:stretch/>
        </p:blipFill>
        <p:spPr>
          <a:xfrm>
            <a:off x="324000" y="3141720"/>
            <a:ext cx="4103640" cy="352728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71600" y="1987560"/>
            <a:ext cx="71164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И.Хачатурян «Спартак»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мфония А. Скрябина «Прометей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А.Г. Рубинштейн «Нерон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4" name="Picture 4" descr="spartak_balet"/>
          <p:cNvPicPr/>
          <p:nvPr/>
        </p:nvPicPr>
        <p:blipFill>
          <a:blip r:embed="rId1"/>
          <a:stretch/>
        </p:blipFill>
        <p:spPr>
          <a:xfrm>
            <a:off x="611280" y="3789360"/>
            <a:ext cx="3311280" cy="2414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rcury01"/>
          <p:cNvPicPr/>
          <p:nvPr/>
        </p:nvPicPr>
        <p:blipFill>
          <a:blip r:embed="rId2"/>
          <a:stretch/>
        </p:blipFill>
        <p:spPr>
          <a:xfrm>
            <a:off x="4211640" y="4221000"/>
            <a:ext cx="3095640" cy="2411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367920" y="316080"/>
            <a:ext cx="722628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Жизнь людей, причины их счастливого и жалкого существ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7" name="Picture 10" descr="img175"/>
          <p:cNvPicPr/>
          <p:nvPr/>
        </p:nvPicPr>
        <p:blipFill>
          <a:blip r:embed="rId3"/>
          <a:stretch/>
        </p:blipFill>
        <p:spPr>
          <a:xfrm>
            <a:off x="6084720" y="1341360"/>
            <a:ext cx="1656000" cy="23749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"/>
              </a:rPr>
              <a:t>Загробное царство и конец С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А. Журбина «Орфей и Эвридика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А. Глюка «Орфей и Эвридика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дригал Дхезуальдо Джеминозо «Скорбящая радость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аллада «Девушка и смерть»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пера  М. Дариус «Несчастья Орфея» и д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1" name="Picture 4" descr="rep_orfey_i_evredika06_b"/>
          <p:cNvPicPr/>
          <p:nvPr/>
        </p:nvPicPr>
        <p:blipFill>
          <a:blip r:embed="rId1"/>
          <a:stretch/>
        </p:blipFill>
        <p:spPr>
          <a:xfrm>
            <a:off x="179280" y="3573360"/>
            <a:ext cx="210528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orpheus_1"/>
          <p:cNvPicPr/>
          <p:nvPr/>
        </p:nvPicPr>
        <p:blipFill>
          <a:blip r:embed="rId2"/>
          <a:stretch/>
        </p:blipFill>
        <p:spPr>
          <a:xfrm>
            <a:off x="5364000" y="3500280"/>
            <a:ext cx="2303640" cy="3030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14482"/>
          <p:cNvPicPr/>
          <p:nvPr/>
        </p:nvPicPr>
        <p:blipFill>
          <a:blip r:embed="rId3"/>
          <a:stretch/>
        </p:blipFill>
        <p:spPr>
          <a:xfrm>
            <a:off x="2484360" y="342900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334" name="244.mp3" descr=""/>
          <p:cNvPicPr/>
          <p:nvPr/>
        </p:nvPicPr>
        <p:blipFill>
          <a:blip r:embed="rId4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2400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ичные образы – это  жизнь мифологических и реальных человеческих характеров, которые рождаются и умирают, любят и ненавидят, радуются и печалят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х преследует судьбоносный рок, что является важнейшим достижением  культуры древнего м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7" name="Picture 4" descr="af-teatr"/>
          <p:cNvPicPr/>
          <p:nvPr/>
        </p:nvPicPr>
        <p:blipFill>
          <a:blip r:embed="rId3"/>
          <a:stretch/>
        </p:blipFill>
        <p:spPr>
          <a:xfrm>
            <a:off x="4140360" y="26028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FB07-4560"/>
          <p:cNvPicPr/>
          <p:nvPr/>
        </p:nvPicPr>
        <p:blipFill>
          <a:blip r:embed="rId4"/>
          <a:stretch/>
        </p:blipFill>
        <p:spPr>
          <a:xfrm>
            <a:off x="3780000" y="4437000"/>
            <a:ext cx="3744720" cy="216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225"/>
          <p:cNvPicPr/>
          <p:nvPr/>
        </p:nvPicPr>
        <p:blipFill>
          <a:blip r:embed="rId5"/>
          <a:stretch/>
        </p:blipFill>
        <p:spPr>
          <a:xfrm>
            <a:off x="755640" y="486900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1061851"/>
          <p:cNvPicPr/>
          <p:nvPr/>
        </p:nvPicPr>
        <p:blipFill>
          <a:blip r:embed="rId6"/>
          <a:stretch/>
        </p:blipFill>
        <p:spPr>
          <a:xfrm>
            <a:off x="250920" y="189000"/>
            <a:ext cx="2047680" cy="223200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аследие  античного искус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828720" y="6858000"/>
            <a:ext cx="1274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4" name="Picture 6" descr="аид"/>
          <p:cNvPicPr/>
          <p:nvPr/>
        </p:nvPicPr>
        <p:blipFill>
          <a:blip r:embed="rId1"/>
          <a:stretch/>
        </p:blipFill>
        <p:spPr>
          <a:xfrm>
            <a:off x="17928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аида"/>
          <p:cNvPicPr/>
          <p:nvPr/>
        </p:nvPicPr>
        <p:blipFill>
          <a:blip r:embed="rId2"/>
          <a:stretch/>
        </p:blipFill>
        <p:spPr>
          <a:xfrm>
            <a:off x="5940360" y="3716280"/>
            <a:ext cx="1619280" cy="246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ariadna"/>
          <p:cNvPicPr/>
          <p:nvPr/>
        </p:nvPicPr>
        <p:blipFill>
          <a:blip r:embed="rId3"/>
          <a:stretch/>
        </p:blipFill>
        <p:spPr>
          <a:xfrm>
            <a:off x="3492360" y="3573360"/>
            <a:ext cx="2303640" cy="302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untitled"/>
          <p:cNvPicPr/>
          <p:nvPr/>
        </p:nvPicPr>
        <p:blipFill>
          <a:blip r:embed="rId4"/>
          <a:stretch/>
        </p:blipFill>
        <p:spPr>
          <a:xfrm>
            <a:off x="4140360" y="1413000"/>
            <a:ext cx="3527280" cy="1973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3"/>
          <p:cNvPicPr/>
          <p:nvPr/>
        </p:nvPicPr>
        <p:blipFill>
          <a:blip r:embed="rId5"/>
          <a:stretch/>
        </p:blipFill>
        <p:spPr>
          <a:xfrm>
            <a:off x="0" y="4076640"/>
            <a:ext cx="3333600" cy="23241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no06_7"/>
          <p:cNvPicPr/>
          <p:nvPr/>
        </p:nvPicPr>
        <p:blipFill>
          <a:blip r:embed="rId1"/>
          <a:stretch/>
        </p:blipFill>
        <p:spPr>
          <a:xfrm>
            <a:off x="250920" y="1052640"/>
            <a:ext cx="3900240" cy="4032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284720" y="1125360"/>
            <a:ext cx="3529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вгиевы конюшн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Ахиллесова пя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Содом и Гомор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згляд Горгон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Танталовы му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Геростратова слав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Все в Тартарары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«Кануло в лету» и д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вод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вропейская культура, в том виде, в котором знакомы с ней современные люди во многом обязаны Греко-Римским корня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красочность античной музыкальной культуры, разнообразие и яркость образов, была и осталась вечной школой композиторов и музыкантов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музыкальные образы наделены антропоморфизмом, высокой художественностью, искренностью, правдивостью, оказывают большую эстетическую и воспитательную рол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продолжение этой темы мы видим в постановках опер,  оперетт, балетов, мюзиклов и других музыкальных жанров в самых крупных театрах мир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* проведение международных Дельфийских игр, где выступают лучшие творческие лич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4" name="Picture 4" descr="ancient_stringed_instruments_cymbal_musical_2463819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900000" y="189000"/>
            <a:ext cx="2232000" cy="14810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Картинка 14 из 57"/>
          <p:cNvPicPr/>
          <p:nvPr/>
        </p:nvPicPr>
        <p:blipFill>
          <a:blip r:embed="rId1"/>
          <a:stretch/>
        </p:blipFill>
        <p:spPr>
          <a:xfrm>
            <a:off x="324000" y="260280"/>
            <a:ext cx="7129440" cy="46576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357" name="Text Box 6"/>
          <p:cNvSpPr/>
          <p:nvPr/>
        </p:nvSpPr>
        <p:spPr>
          <a:xfrm>
            <a:off x="1187280" y="4869000"/>
            <a:ext cx="547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идоров Денис - вокал (дипломан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Григорьева Анна – изобразительная деятельность (3 мест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ши исследова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7386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нкетирование среди восьмых класс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53 обучающихся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то такое античность? - знают 35 человек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знаете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 этот вопрос ответили всего12 человек, наиболее знакомые произведения – «Спартак», «Клеопатра», «Музы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е музыкальные произведения вы слушали?-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лушали «Спартак» -6чел., «Орфей и Эвридика» - 4ч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Хотели бы посетить театр и посмотреть постановку на античную тему?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а- ответили 20 обучающихс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спользуемая литера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писок литературы: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истотель. Поэтика //Аристотель. Сочинения в 4 т.- М.,1983г.- т. 4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сафьев Б. «Об изучении музыки средневековья». Новое время Л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нфельд М. «Введение в музыкознание» М.,Владос-200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Всеобщая история зарубежной музыки»-М.,Просвещение,198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дер И. «Идеи и философии теории человечества»М.,Наука,197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. «Античное музыкальное мышление»-Л.,198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Е. «Античная музыкальная педагогика»- Спб.1996г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ерцман Е «Музыка Древней Греции и Рима» -Спб 199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рубер Р. «Всеобщая история музыки»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.,Музгиз, 1960г,1965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Гусейнов А. «Античная эстетика» М.,Гардарики-2004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Зальберквит М. « Мир музыки»//Дет. Лит. М.-1988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елдыш В.Г. «Музыкальный энциклопедический словарь» М.,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Античная музыкальная эстетика»//Вступит. очерк и собр.текстов М-1960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Лосев А.Ф. «Вступительная статья»//Плутарх. Морали- М.,196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ертлик Р. «Античные легенды и сказания» -М.1991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аркс К. Энгельс Ф. «Сочинения»т 1,12,М.,1958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Музыкальная культура древнего мира //Сб. статей под ред.Р.ГубераЛ.1937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ыбакина Е.Уколов В. «Музыка в потоке времени»- М.,1989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Юхвидин П. « Мировая художественная культура» М.,Новая школа1996г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Цель</a:t>
            </a:r>
            <a:r>
              <a:rPr b="1" i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и задачи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Рассмотреть истоки античной музыки, описать характерные особенности музыкального искусства и музыкальных образов античного пери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казать, что человек с древних времен тянулся к  музы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ыяснить, как «рождались» и «умирали» музыкальные образы и что осталось веч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Picture 10" descr="гемплей музыка"/>
          <p:cNvPicPr/>
          <p:nvPr/>
        </p:nvPicPr>
        <p:blipFill>
          <a:blip r:embed="rId4"/>
          <a:stretch/>
        </p:blipFill>
        <p:spPr>
          <a:xfrm>
            <a:off x="6156360" y="5129280"/>
            <a:ext cx="1676520" cy="172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img3259_30863"/>
          <p:cNvPicPr/>
          <p:nvPr/>
        </p:nvPicPr>
        <p:blipFill>
          <a:blip r:embed="rId5"/>
          <a:stretch/>
        </p:blipFill>
        <p:spPr>
          <a:xfrm>
            <a:off x="250920" y="189000"/>
            <a:ext cx="1728720" cy="206064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4292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Удивительная          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сила  музык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6" descr="terps"/>
          <p:cNvPicPr/>
          <p:nvPr/>
        </p:nvPicPr>
        <p:blipFill>
          <a:blip r:embed="rId1"/>
          <a:stretch/>
        </p:blipFill>
        <p:spPr>
          <a:xfrm>
            <a:off x="179280" y="836640"/>
            <a:ext cx="2521080" cy="4897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582236_pic_1"/>
          <p:cNvPicPr/>
          <p:nvPr/>
        </p:nvPicPr>
        <p:blipFill>
          <a:blip r:embed="rId2"/>
          <a:stretch/>
        </p:blipFill>
        <p:spPr>
          <a:xfrm>
            <a:off x="3564000" y="3017880"/>
            <a:ext cx="3744720" cy="33638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71182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Рим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Греция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Picture 4" descr="no4_30"/>
          <p:cNvPicPr/>
          <p:nvPr/>
        </p:nvPicPr>
        <p:blipFill>
          <a:blip r:embed="rId1"/>
          <a:stretch/>
        </p:blipFill>
        <p:spPr>
          <a:xfrm>
            <a:off x="755640" y="1773360"/>
            <a:ext cx="6265800" cy="4559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8"/>
          <p:cNvSpPr txBox="1"/>
          <p:nvPr/>
        </p:nvSpPr>
        <p:spPr>
          <a:xfrm>
            <a:off x="2484360" y="549360"/>
            <a:ext cx="302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нти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о-драматические        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представления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Picture 18" descr="medic_21_%D0%9E%D1%80%D1%84%D0%B5%D0%B9"/>
          <p:cNvPicPr/>
          <p:nvPr/>
        </p:nvPicPr>
        <p:blipFill>
          <a:blip r:embed="rId1"/>
          <a:stretch/>
        </p:blipFill>
        <p:spPr>
          <a:xfrm>
            <a:off x="324000" y="1601640"/>
            <a:ext cx="7173720" cy="52563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ncient_12"/>
          <p:cNvPicPr/>
          <p:nvPr/>
        </p:nvPicPr>
        <p:blipFill>
          <a:blip r:embed="rId1">
            <a:lum bright="-6000"/>
          </a:blip>
          <a:stretch/>
        </p:blipFill>
        <p:spPr>
          <a:xfrm rot="18535200">
            <a:off x="3639960" y="3584520"/>
            <a:ext cx="2232000" cy="1990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ancient_stringed_instruments_cymbal_musical_2463819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900000" y="189000"/>
            <a:ext cx="1368360" cy="90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105[1]"/>
          <p:cNvPicPr/>
          <p:nvPr/>
        </p:nvPicPr>
        <p:blipFill>
          <a:blip r:embed="rId3">
            <a:lum bright="-24000"/>
          </a:blip>
          <a:srcRect l="0" t="0" r="0" b="12114"/>
          <a:stretch/>
        </p:blipFill>
        <p:spPr>
          <a:xfrm>
            <a:off x="2124000" y="3500280"/>
            <a:ext cx="1587600" cy="172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кифара"/>
          <p:cNvPicPr/>
          <p:nvPr/>
        </p:nvPicPr>
        <p:blipFill>
          <a:blip r:embed="rId4"/>
          <a:stretch/>
        </p:blipFill>
        <p:spPr>
          <a:xfrm>
            <a:off x="2916360" y="404640"/>
            <a:ext cx="2057400" cy="2936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rbaydr56"/>
          <p:cNvPicPr/>
          <p:nvPr/>
        </p:nvPicPr>
        <p:blipFill>
          <a:blip r:embed="rId5">
            <a:lum bright="-18000"/>
          </a:blip>
          <a:srcRect l="0" t="0" r="0" b="18017"/>
          <a:stretch/>
        </p:blipFill>
        <p:spPr>
          <a:xfrm>
            <a:off x="1908000" y="5373720"/>
            <a:ext cx="2592720" cy="129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Instrument06"/>
          <p:cNvPicPr/>
          <p:nvPr/>
        </p:nvPicPr>
        <p:blipFill>
          <a:blip r:embed="rId6"/>
          <a:stretch/>
        </p:blipFill>
        <p:spPr>
          <a:xfrm>
            <a:off x="179280" y="1125360"/>
            <a:ext cx="2665440" cy="181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Арфа"/>
          <p:cNvPicPr/>
          <p:nvPr/>
        </p:nvPicPr>
        <p:blipFill>
          <a:blip r:embed="rId7"/>
          <a:stretch/>
        </p:blipFill>
        <p:spPr>
          <a:xfrm>
            <a:off x="5148360" y="404640"/>
            <a:ext cx="2519280" cy="2487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6a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3500280"/>
            <a:ext cx="1461960" cy="3167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P6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324000" y="3357720"/>
            <a:ext cx="1400040" cy="3024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muses01"/>
          <p:cNvPicPr/>
          <p:nvPr/>
        </p:nvPicPr>
        <p:blipFill>
          <a:blip r:embed="rId1"/>
          <a:stretch/>
        </p:blipFill>
        <p:spPr>
          <a:xfrm>
            <a:off x="395280" y="620640"/>
            <a:ext cx="1612800" cy="287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germes_afrodita_[1]"/>
          <p:cNvPicPr/>
          <p:nvPr/>
        </p:nvPicPr>
        <p:blipFill>
          <a:blip r:embed="rId2"/>
          <a:stretch/>
        </p:blipFill>
        <p:spPr>
          <a:xfrm>
            <a:off x="2268360" y="404640"/>
            <a:ext cx="2848320" cy="379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dance"/>
          <p:cNvPicPr/>
          <p:nvPr/>
        </p:nvPicPr>
        <p:blipFill>
          <a:blip r:embed="rId3"/>
          <a:stretch/>
        </p:blipFill>
        <p:spPr>
          <a:xfrm>
            <a:off x="395280" y="4292640"/>
            <a:ext cx="3816360" cy="237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школы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500720" y="4276800"/>
            <a:ext cx="3203280" cy="2406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школа"/>
          <p:cNvPicPr/>
          <p:nvPr/>
        </p:nvPicPr>
        <p:blipFill>
          <a:blip r:embed="rId5"/>
          <a:stretch/>
        </p:blipFill>
        <p:spPr>
          <a:xfrm>
            <a:off x="5219640" y="836640"/>
            <a:ext cx="2592360" cy="19620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Claude_Lorrain_Apollo_Muses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132000" y="3357720"/>
            <a:ext cx="4675320" cy="3360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ca081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apolon1"/>
          <p:cNvPicPr/>
          <p:nvPr/>
        </p:nvPicPr>
        <p:blipFill>
          <a:blip r:embed="rId3"/>
          <a:stretch/>
        </p:blipFill>
        <p:spPr>
          <a:xfrm>
            <a:off x="468360" y="3573360"/>
            <a:ext cx="1558800" cy="295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b1397"/>
          <p:cNvPicPr/>
          <p:nvPr/>
        </p:nvPicPr>
        <p:blipFill>
          <a:blip r:embed="rId4">
            <a:lum bright="-6000"/>
          </a:blip>
          <a:srcRect l="7169" t="31112" r="7169" b="31112"/>
          <a:stretch/>
        </p:blipFill>
        <p:spPr>
          <a:xfrm>
            <a:off x="4932360" y="549360"/>
            <a:ext cx="2735280" cy="1871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09:57Z</dcterms:created>
  <dc:creator>Домашний</dc:creator>
  <dc:description/>
  <dc:language>en-US</dc:language>
  <cp:lastModifiedBy>LEGION</cp:lastModifiedBy>
  <dcterms:modified xsi:type="dcterms:W3CDTF">2015-04-02T06:51:44Z</dcterms:modified>
  <cp:revision>91</cp:revision>
  <dc:subject/>
  <dc:title>Античные образы в музыкальной культуре</dc:title>
</cp:coreProperties>
</file>