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5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5.jpeg" ContentType="image/jpeg"/>
  <Override PartName="/ppt/media/image24.gif" ContentType="image/gif"/>
  <Override PartName="/ppt/media/image20.jpeg" ContentType="image/jpeg"/>
  <Override PartName="/ppt/media/image14.gif" ContentType="image/gif"/>
  <Override PartName="/ppt/media/image21.gif" ContentType="image/gif"/>
  <Override PartName="/ppt/media/image19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26.gif" ContentType="image/gif"/>
  <Override PartName="/ppt/media/image3.gif" ContentType="image/gif"/>
  <Override PartName="/ppt/media/image17.jpeg" ContentType="image/jpeg"/>
  <Override PartName="/ppt/media/image1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move the slide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A80E-435A-409F-B2DD-E5B7EB0290D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Западноевропейская музыка романтиз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8. Многообразие стилей зарубежной музы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6F88-170E-438F-A23F-F23791AAD3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Композиторы романтики не отказывались от классической музыки. Они продолжали развивать лучшие традиции классицизма. И все таки новый стиль имеет свои черты. Они видны в философском взгляде на окружающий мир, в выборе тематики и музыкальных средствах ее 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4EA9-4434-4B50-993F-8D0432B9AA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 урок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явите принципиальные отличия музыки романтизма, от музыки класс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000"/>
                </a:solidFill>
                <a:latin typeface="Calibri"/>
              </a:rPr>
              <a:t>В тетради укажите основных композиторов и их произвед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3C64-9321-43BA-B198-4B1285EC46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1. Романтизм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2. Выдающиеся композиторы романтическ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3. Выдающиеся  композиции музыкантов роман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9764-B140-4E48-B7B5-3D7BE7C9BC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 урок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явите принципиальные отличия музыки романтизма, от музыки класс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000"/>
                </a:solidFill>
                <a:latin typeface="Calibri"/>
              </a:rPr>
              <a:t>В тетради укажите основных композиторов и их произвед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9C3A-70D0-482E-AC4A-DA349CF725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В музыке направление романтизма сложилось в 1820-е годы, развитие его заняло весь XIX век. Композиторы-романтики старались с помощью музыкальных средств выразить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глубину и богатство внутреннего мира человека.</a:t>
            </a: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 Музыка становится более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рельефной, индивидуальной</a:t>
            </a: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. Получают развитие песенные жанры, в том числе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бал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8D93-2775-422B-A51A-C954883067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иболее яркими представителями романтической школы композиторов бы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3A67-2F57-4CF9-B698-5BBE2ED481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Героем романтической музыки является сильно чувствующая личность. Мир, в котором пребывает такой герой, не соответствует его идеалу, его представлениям о жизни. Поэтому основными в романтических композициях являются темы одиночества... Романтики обращаются к средневековью, идеализируя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3C01-7F35-4596-8066-D6C2F9E696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Картина Рафаэля, запечатлевшая обручение Марии и Иосифа, проникнутая ясным мироощущением, светлой и тихой гармонией, стала основой для пьесы Листа «Обруч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39B6-A846-4C47-8CC2-40588A16E1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 скульптура Микеланджело «Мыслитель», основой для цикла «Годы странстви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4664-DF98-498B-BCA2-04C781468C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Французский героический эпос «Песнь о Ролланде» и «Песнь о Нибелунгах», стала основой для монументального оперного цикла Рихарда Вагнера «Кольцо Нибелун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3572-0FB0-49A2-9951-CAEFEC98A3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7624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9492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67624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89492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7624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492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67624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489492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kripk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Skripk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553392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Monotype Corsiva"/>
              </a:rPr>
              <a:t>Западноевропейская музыка романтизма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4920" y="4857480"/>
            <a:ext cx="567684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Глава 18. Многообразие стилей зарубежной музыки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87" name="Рисунок 3" descr="e1c9efb73a6b2049a240606653fd07d5.gif"/>
          <p:cNvPicPr/>
          <p:nvPr/>
        </p:nvPicPr>
        <p:blipFill>
          <a:blip r:embed="rId1"/>
          <a:stretch/>
        </p:blipFill>
        <p:spPr>
          <a:xfrm>
            <a:off x="785880" y="2643120"/>
            <a:ext cx="5429160" cy="216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122266_f520.jpg"/>
          <p:cNvPicPr/>
          <p:nvPr/>
        </p:nvPicPr>
        <p:blipFill>
          <a:blip r:embed="rId1"/>
          <a:stretch/>
        </p:blipFill>
        <p:spPr>
          <a:xfrm>
            <a:off x="571680" y="2357280"/>
            <a:ext cx="6286320" cy="41292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500040" y="357120"/>
            <a:ext cx="792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Композиторы романтики не отказывались от классической музыки. Они продолжали развивать лучшие традиции классицизма. И все таки новый стиль имеет свои черты. Они видны в философском взгляде на окружающий мир, в выборе тематики и музыкальных средствах ее вы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4" descr="a194.gif"/>
          <p:cNvPicPr/>
          <p:nvPr/>
        </p:nvPicPr>
        <p:blipFill>
          <a:blip r:embed="rId2"/>
          <a:stretch/>
        </p:blipFill>
        <p:spPr>
          <a:xfrm>
            <a:off x="7000920" y="3000240"/>
            <a:ext cx="188604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На уроке!!!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ыявите принципиальные отличия музыки романтизма, от музыки классицизма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</a:rPr>
              <a:t>В тетради укажите основных композиторов и их произведен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План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1. </a:t>
            </a: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Романтизм в музыке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2. Выдающиеся композиторы романтической школы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3. Выдающиеся  композиции музыкантов романтизма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90" name="Рисунок 3" descr="589d03168fb4e50a836a898a62e5906f.gif"/>
          <p:cNvPicPr/>
          <p:nvPr/>
        </p:nvPicPr>
        <p:blipFill>
          <a:blip r:embed="rId1"/>
          <a:stretch/>
        </p:blipFill>
        <p:spPr>
          <a:xfrm>
            <a:off x="6572160" y="2857680"/>
            <a:ext cx="2143080" cy="360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На уроке!!!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ыявите принципиальные отличия музыки романтизма, от музыки классицизма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</a:rPr>
              <a:t>В тетради укажите основных композиторов и их произведен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57120" y="500040"/>
            <a:ext cx="8429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В музыке направление романтизма сложилось в 1820-е годы, развитие его заняло весь XIX век. Композиторы-романтики старались с помощью музыкальных средств выразить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глубину и богатство внутреннего мира человека.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 Музыка становится более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рельефной, индивидуальной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. Получают развитие песенные жанры, в том числе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балла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571680" y="2142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Наиболее яркими представителями романтической школы композиторов были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Niccolo_Paganini.jpg"/>
          <p:cNvPicPr/>
          <p:nvPr/>
        </p:nvPicPr>
        <p:blipFill>
          <a:blip r:embed="rId1"/>
          <a:stretch/>
        </p:blipFill>
        <p:spPr>
          <a:xfrm>
            <a:off x="428760" y="1214280"/>
            <a:ext cx="1733400" cy="1857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357120" y="328608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Николо Паган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296px-Liszt_1858.jpg"/>
          <p:cNvPicPr/>
          <p:nvPr/>
        </p:nvPicPr>
        <p:blipFill>
          <a:blip r:embed="rId2"/>
          <a:stretch/>
        </p:blipFill>
        <p:spPr>
          <a:xfrm>
            <a:off x="2643120" y="1214280"/>
            <a:ext cx="1357560" cy="18576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357280" y="3214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еренц 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428px-Image-Frederic_Chopin_photo_downsampled.jpeg"/>
          <p:cNvPicPr/>
          <p:nvPr/>
        </p:nvPicPr>
        <p:blipFill>
          <a:blip r:embed="rId3"/>
          <a:stretch/>
        </p:blipFill>
        <p:spPr>
          <a:xfrm>
            <a:off x="4429080" y="1214280"/>
            <a:ext cx="1357200" cy="19036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214880" y="3214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редерик Шоп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8" descr="Carl_Maria_von_Weber.jpg"/>
          <p:cNvPicPr/>
          <p:nvPr/>
        </p:nvPicPr>
        <p:blipFill>
          <a:blip r:embed="rId4"/>
          <a:stretch/>
        </p:blipFill>
        <p:spPr>
          <a:xfrm>
            <a:off x="6286680" y="1143000"/>
            <a:ext cx="1527120" cy="2071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6143760" y="335772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он Веб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0" descr="Franz_Schubert.jpg"/>
          <p:cNvPicPr/>
          <p:nvPr/>
        </p:nvPicPr>
        <p:blipFill>
          <a:blip r:embed="rId5"/>
          <a:stretch/>
        </p:blipFill>
        <p:spPr>
          <a:xfrm>
            <a:off x="214200" y="4000680"/>
            <a:ext cx="1605240" cy="1833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0" y="585792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ранц Шубе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3" descr="RichardWagner.jpg"/>
          <p:cNvPicPr/>
          <p:nvPr/>
        </p:nvPicPr>
        <p:blipFill>
          <a:blip r:embed="rId6"/>
          <a:stretch/>
        </p:blipFill>
        <p:spPr>
          <a:xfrm>
            <a:off x="2071800" y="3714840"/>
            <a:ext cx="1479600" cy="20574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5"/>
          <p:cNvSpPr/>
          <p:nvPr/>
        </p:nvSpPr>
        <p:spPr>
          <a:xfrm>
            <a:off x="1857240" y="5929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Рихард Ваг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6" descr="Schuhmann.jpg"/>
          <p:cNvPicPr/>
          <p:nvPr/>
        </p:nvPicPr>
        <p:blipFill>
          <a:blip r:embed="rId7"/>
          <a:stretch/>
        </p:blipFill>
        <p:spPr>
          <a:xfrm>
            <a:off x="3857760" y="3857760"/>
            <a:ext cx="1285920" cy="17697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7"/>
          <p:cNvSpPr/>
          <p:nvPr/>
        </p:nvSpPr>
        <p:spPr>
          <a:xfrm>
            <a:off x="3643200" y="5929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Роберт Шу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8" descr="Verdi.jpg"/>
          <p:cNvPicPr/>
          <p:nvPr/>
        </p:nvPicPr>
        <p:blipFill>
          <a:blip r:embed="rId8"/>
          <a:stretch/>
        </p:blipFill>
        <p:spPr>
          <a:xfrm>
            <a:off x="5572080" y="3929040"/>
            <a:ext cx="1285920" cy="16635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9"/>
          <p:cNvSpPr/>
          <p:nvPr/>
        </p:nvSpPr>
        <p:spPr>
          <a:xfrm>
            <a:off x="5429160" y="585792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Джузеппе Вер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0" descr="Мендельсон.jpg"/>
          <p:cNvPicPr/>
          <p:nvPr/>
        </p:nvPicPr>
        <p:blipFill>
          <a:blip r:embed="rId9"/>
          <a:stretch/>
        </p:blipFill>
        <p:spPr>
          <a:xfrm>
            <a:off x="7286760" y="3929040"/>
            <a:ext cx="1428480" cy="18590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1"/>
          <p:cNvSpPr/>
          <p:nvPr/>
        </p:nvSpPr>
        <p:spPr>
          <a:xfrm>
            <a:off x="7072200" y="578628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Мендель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285840" y="3571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Героем романтической музыки является сильно чувствующая личность. Мир, в котором пребывает такой герой, не соответствует его идеалу, его представлениям о жизни. Поэтому основными в романтических композициях являются темы одиночества... Романтики обращаются к средневековью, идеализируя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6e81914a024c524fb7c211a06057940f.gif"/>
          <p:cNvPicPr/>
          <p:nvPr/>
        </p:nvPicPr>
        <p:blipFill>
          <a:blip r:embed="rId1"/>
          <a:stretch/>
        </p:blipFill>
        <p:spPr>
          <a:xfrm>
            <a:off x="500040" y="4286160"/>
            <a:ext cx="3143160" cy="20005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74233379c62da084a24e6aad1de9e83e.gif"/>
          <p:cNvPicPr/>
          <p:nvPr/>
        </p:nvPicPr>
        <p:blipFill>
          <a:blip r:embed="rId2"/>
          <a:stretch/>
        </p:blipFill>
        <p:spPr>
          <a:xfrm>
            <a:off x="5000760" y="3071880"/>
            <a:ext cx="3357360" cy="3565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b1cad8e0536ada2f1f72d8c8fc668e2b.gif"/>
          <p:cNvPicPr/>
          <p:nvPr/>
        </p:nvPicPr>
        <p:blipFill>
          <a:blip r:embed="rId3"/>
          <a:stretch/>
        </p:blipFill>
        <p:spPr>
          <a:xfrm>
            <a:off x="2792520" y="3286080"/>
            <a:ext cx="17794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357120" y="2858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Картина Рафаэля, запечатлевшая обручение Марии и Иосифа, проникнутая ясным мироощущением, светлой и тихой гармонией, стала основой для пьесы Листа «Обруч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ee862dabb6d3.jpg"/>
          <p:cNvPicPr/>
          <p:nvPr/>
        </p:nvPicPr>
        <p:blipFill>
          <a:blip r:embed="rId1"/>
          <a:stretch/>
        </p:blipFill>
        <p:spPr>
          <a:xfrm>
            <a:off x="5143680" y="1500120"/>
            <a:ext cx="3571560" cy="52880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0_207f9_87d06e19_L.jpeg"/>
          <p:cNvPicPr/>
          <p:nvPr/>
        </p:nvPicPr>
        <p:blipFill>
          <a:blip r:embed="rId2"/>
          <a:stretch/>
        </p:blipFill>
        <p:spPr>
          <a:xfrm>
            <a:off x="428760" y="2000160"/>
            <a:ext cx="2203200" cy="44611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6523cc80f3c1507129b512b2e0df05b9.gif"/>
          <p:cNvPicPr/>
          <p:nvPr/>
        </p:nvPicPr>
        <p:blipFill>
          <a:blip r:embed="rId3"/>
          <a:stretch/>
        </p:blipFill>
        <p:spPr>
          <a:xfrm>
            <a:off x="2786040" y="3214800"/>
            <a:ext cx="2286000" cy="723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428760" y="285840"/>
            <a:ext cx="807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А скульптура Микеланджело «Мыслитель», основой для цикла «Годы странстви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6785.jpg"/>
          <p:cNvPicPr/>
          <p:nvPr/>
        </p:nvPicPr>
        <p:blipFill>
          <a:blip r:embed="rId1"/>
          <a:stretch/>
        </p:blipFill>
        <p:spPr>
          <a:xfrm>
            <a:off x="4786200" y="1714680"/>
            <a:ext cx="3837240" cy="4848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0_207f9_87d06e19_L.jpeg"/>
          <p:cNvPicPr/>
          <p:nvPr/>
        </p:nvPicPr>
        <p:blipFill>
          <a:blip r:embed="rId2"/>
          <a:stretch/>
        </p:blipFill>
        <p:spPr>
          <a:xfrm>
            <a:off x="214200" y="2286000"/>
            <a:ext cx="1992600" cy="40323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a541.gif"/>
          <p:cNvPicPr/>
          <p:nvPr/>
        </p:nvPicPr>
        <p:blipFill>
          <a:blip r:embed="rId3"/>
          <a:stretch/>
        </p:blipFill>
        <p:spPr>
          <a:xfrm>
            <a:off x="2500200" y="3071880"/>
            <a:ext cx="2027520" cy="1357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571680" y="285840"/>
            <a:ext cx="7929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Французский героический эпос «Песнь о Ролланде» и «Песнь о Нибелунгах», стала основой для монументального оперного цикла Рихарда Вагнера «Кольцо Нибелунг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" descr="wagner_richard.jpg"/>
          <p:cNvPicPr/>
          <p:nvPr/>
        </p:nvPicPr>
        <p:blipFill>
          <a:blip r:embed="rId1"/>
          <a:stretch/>
        </p:blipFill>
        <p:spPr>
          <a:xfrm>
            <a:off x="428760" y="2428920"/>
            <a:ext cx="303984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песнь о ниб.jpeg"/>
          <p:cNvPicPr/>
          <p:nvPr/>
        </p:nvPicPr>
        <p:blipFill>
          <a:blip r:embed="rId2"/>
          <a:stretch/>
        </p:blipFill>
        <p:spPr>
          <a:xfrm>
            <a:off x="3786120" y="2357280"/>
            <a:ext cx="5072040" cy="3978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a190.GIF"/>
          <p:cNvPicPr/>
          <p:nvPr/>
        </p:nvPicPr>
        <p:blipFill>
          <a:blip r:embed="rId3"/>
          <a:stretch/>
        </p:blipFill>
        <p:spPr>
          <a:xfrm>
            <a:off x="7715160" y="571680"/>
            <a:ext cx="1143000" cy="131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3:45:25Z</dcterms:created>
  <dc:creator>GENA</dc:creator>
  <dc:description/>
  <dc:language>en-US</dc:language>
  <cp:lastModifiedBy>LEGION</cp:lastModifiedBy>
  <dcterms:modified xsi:type="dcterms:W3CDTF">2015-04-02T06:52:17Z</dcterms:modified>
  <cp:revision>11</cp:revision>
  <dc:subject/>
  <dc:title>Западноевропейская музыка романтизма</dc:title>
</cp:coreProperties>
</file>