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43.png" ContentType="image/png"/>
  <Override PartName="/ppt/media/image40.png" ContentType="image/png"/>
  <Override PartName="/ppt/media/image38.jpeg" ContentType="image/jpeg"/>
  <Override PartName="/ppt/media/image37.jpeg" ContentType="image/jpeg"/>
  <Override PartName="/ppt/media/image36.png" ContentType="image/png"/>
  <Override PartName="/ppt/media/image31.png" ContentType="image/png"/>
  <Override PartName="/ppt/media/image30.jpeg" ContentType="image/jpeg"/>
  <Override PartName="/ppt/media/image39.png" ContentType="image/png"/>
  <Override PartName="/ppt/media/image64.jpeg" ContentType="image/jpeg"/>
  <Override PartName="/ppt/media/image29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16.jpeg" ContentType="image/jpeg"/>
  <Override PartName="/ppt/media/image51.jpeg" ContentType="image/jpeg"/>
  <Override PartName="/ppt/media/image62.png" ContentType="image/png"/>
  <Override PartName="/ppt/media/image60.png" ContentType="image/png"/>
  <Override PartName="/ppt/media/image63.jpeg" ContentType="image/jpeg"/>
  <Override PartName="/ppt/media/image74.png" ContentType="image/png"/>
  <Override PartName="/ppt/media/image78.jpeg" ContentType="image/jpeg"/>
  <Override PartName="/ppt/media/image61.jpeg" ContentType="image/jpeg"/>
  <Override PartName="/ppt/media/image77.png" ContentType="image/png"/>
  <Override PartName="/ppt/media/image86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9.png" ContentType="image/png"/>
  <Override PartName="/ppt/media/image70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65.jpeg" ContentType="image/jpeg"/>
  <Override PartName="/ppt/media/image8.png" ContentType="image/png"/>
  <Override PartName="/ppt/media/image80.jpeg" ContentType="image/jpeg"/>
  <Override PartName="/ppt/media/image52.jpeg" ContentType="image/jpeg"/>
  <Override PartName="/ppt/media/image13.png" ContentType="image/png"/>
  <Override PartName="/ppt/media/image67.png" ContentType="image/png"/>
  <Override PartName="/ppt/media/image69.jpeg" ContentType="image/jpeg"/>
  <Override PartName="/ppt/media/image76.png" ContentType="image/png"/>
  <Override PartName="/ppt/media/image6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.jpeg" ContentType="image/jpeg"/>
  <Override PartName="/ppt/media/image71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11.jpeg" ContentType="image/jpeg"/>
  <Override PartName="/ppt/media/image84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C2C2-D9C7-47CF-BC0A-655243C79A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адаева Ирина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музыки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B66-2B56-4155-A32D-18A6A6BD5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3-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660B-F8B0-405E-A0F8-FB686B9562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477B-41A6-4FF8-B7DE-EE4C9244B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906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1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2C23-7602-4B8B-9130-940A46CE3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0638-B306-490C-B5F1-E8222E6E6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Экс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4E29-C21C-4362-B652-2E5BA4497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CC92-4521-4B84-B65D-EE3C8A783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C238-D306-4110-A534-0F815ED4C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C40D-28D5-470C-A269-212E03E25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Арнольд Шёнб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854-19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6469-4EE4-44C7-A083-1901D4B1B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870A-C041-4A84-B950-C4973D021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1C10-3B9F-47A7-8770-7361D0D10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Скря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71-19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12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B559-E1EE-481B-A673-0CCF444DC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ределе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– 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4ADE-8B19-4FA9-86ED-36E5A9DE5D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92B7-F766-4575-9696-420E06688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Советский дж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2E1-32B9-4F25-AF13-18922E72D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ABB9-D2FB-4BBA-A8EA-2883638EC2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D2C1-4962-49E6-B27E-3772CB19F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Авангар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5207-D91E-472E-BA16-563D690B4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474F-0E49-47BA-B149-081D64F06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309E-3742-4D0D-9FA3-8F2EACD68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в му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. 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7F97-4EB5-4B99-B4D6-649BAD306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D66E-845C-43AA-889F-222EF3605B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Альфред Шн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(1934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ABFC-F1C2-47EE-9B26-D52A3B243E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5405-D0F2-488E-BA99-870A715D1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хайнц Штокхау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B29A-5233-4ED6-A961-CC3600A3F5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D53E-13E2-41F0-9A29-D18A4BB2D3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Им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BD3-AACB-46C9-BF88-05AF2F1D25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1125-B4D4-4ABF-84F8-8700B30D2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066C-A5C8-4540-836F-E15581FFB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48FB-09AD-4080-800D-E8877F597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59D6-C090-4BEE-98B8-02AC701ED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од Дебюс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62-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EA84-0368-41F0-B192-18A0BEFB6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934D-BA51-4F01-A563-3136B3002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Морис Ра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(1875-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FDE0-A127-4F1D-A9BF-68F4DC664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41C1-09B8-41F3-B226-6B581FDAA8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9906-28C2-4524-A4DD-25DC14318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8389-FA68-45CF-9198-C6532793E0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лухо 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579B-4F64-4962-B1C4-97C2810A07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Pur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he Bea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ерное, групп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-ролл. Назв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«The Beatles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риобрели намного поз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ре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ода в Шотлан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7D5C-F346-457F-B755-AF66C8989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me d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 году группа распа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D930-26BE-4B0E-906E-098C466FD3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1935-1BB7-41C3-81E4-373D068FE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в му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нгард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981E-AECA-4E61-8039-D8341603F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ep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90AC-A159-4EA4-B700-99A293AAA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3815-2D3E-4027-8045-A18E486D5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AF17-B3B3-4098-BF62-6219B9B8F0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2ABB-203A-4C10-9B7C-3E45530DAB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D822-0AA3-4C7A-B649-70C861E7E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1B8B-B82E-49D8-939C-1DCC5980C8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730C-6471-42EB-9FFD-870F3D91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1820-9FA5-4B5C-99A2-A35F01C3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62FA7-066D-4A75-89D6-E8688E1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6E37D-E887-4201-AC08-4DD56A3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C2646-ABA8-4F9C-8E91-4302CBE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32B45-ACF0-4C76-91A8-78026F1A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DF79D-57F8-4DCA-919D-98611FC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34D5C-80B0-4A89-BC4A-8C25C618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3BCC8-F90F-4736-B531-1871E220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41F89-F7E5-42DB-AF7B-1948F5A4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D0AB9-3E22-427F-97DE-E56DBE64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28905-61B5-46EE-8D51-D748121A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2FED-5E2B-4373-83A3-D2615F38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1E017-5606-41E7-89EC-F0FCD602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4F473-479A-4709-BD11-EA7415BE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74002-0B0E-44B3-A671-B918AA78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E33F6-DA18-4DE4-B9C7-37491FEE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1C003-5E64-458D-B969-D7959682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DB5FD-13E8-400E-BA87-8AF07B2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38C67-6535-4E93-84F5-917094B7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5FCE4-49A0-47F4-A3D0-4A59E4D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39BC6-7C36-47AE-B046-D44D3E66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C9F57-5B9B-49BD-A401-2EC6C702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919C-5175-4B26-93BA-85E59585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C8824-7F62-41A4-A3E5-EB23344B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2DD9D-C004-4DBE-B763-54DD123A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127EE-A66D-4466-883B-373E7AD9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2092A-3F5E-4365-B414-651AF3A1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8B153-7490-44A4-A4B7-5397122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FA951-CB8F-4E38-ABFE-BBE35DFF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AA21C-9281-4A5A-97CE-9F7E5A1D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3320A-FC71-445F-8C98-037779A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FAC7E-3C35-47C4-A3EF-92DBF015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6B3D6-BF79-4D91-A973-378E4B39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7C41-B39C-4ACA-B3ED-9A35E1F5E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9AA85-75EA-47C4-B6BA-AB355C6C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1683C-EB39-425D-A5FD-A32F151D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BE3D2-0E41-4CBB-AF67-2C309B2A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2298D-AEE4-4772-8CDB-74743AB4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A2F97-BFE4-42FA-ACE9-CBCA44D9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22541-4727-4D98-ACA1-2222BBC1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6670A-5BC2-4BB7-BA8F-0712881A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6D26B-7139-4FFA-AF22-0EC24626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4D771-BBFA-4A5B-B272-1A020AE0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F4507-2309-437D-9335-2EB0E9EA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3E3D-A037-4672-B36C-3105C964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07BBB-570A-4AE1-B581-1DCF698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B16FF-C2E5-4B40-8FB1-DAFDE273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64E69-D68F-403B-9F97-D80E57C6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7C000-098C-4BF5-B604-96C1E020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4B937-0589-45DF-829A-9A98C6DD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7AEBB-90E0-431E-819C-6CCB1BC3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423DE-2A08-4DB0-9411-AD4BD803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D8DA7-6656-4070-B39D-5DEE8227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F58F9-99F0-4C66-8C4D-43DB608C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9DB36-611E-4781-958D-FCEED1E8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C537-2895-459E-B7A2-8CF72D84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87DF5-A562-45D8-8C1F-38F4EFAA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D7114-CD11-44BD-B928-41F52942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B0E9B-264C-4FA3-A4F8-6698AEE5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B4431-1EE8-4676-BE99-C60A8C85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A3F53-0EA2-4828-BB37-C857814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6EC23-9C9C-4BFF-98C7-DD5134A1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880EF-E60B-43F6-9624-2FF746FF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F8A24-DC81-4A1D-93A5-893E7056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BE288-2EA8-4112-B5A7-414F496C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AA60D-4823-4EFD-A44E-CA1BF5CD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1F56-2E8A-467C-BF09-ECB0EF4F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E9550-E10F-40C3-8B11-9573D754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B2A50-2AA5-4BF1-AABB-E005D54E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6226D-B5D5-4FD0-82B5-1D9CEE62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8A67A-42B8-43B1-9D25-3F86CA7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07325A-80A5-4CA0-864B-0193530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D5DFC-F993-418B-A33E-49987B79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545D5-B742-446B-B5E4-74FFFBF8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BC537-7616-457E-B499-8CD30EE6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18503-0474-44C4-9EDC-63DCD599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BD38-BDC2-4BED-8127-E504B3D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9FCB-D47E-4E78-B14E-833E4A5B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41F-85A9-4C6D-BA24-9AC576C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AFE6-BB4E-4934-8815-DEC7047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3B57-AB95-4642-B49F-DF991F7C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A4C8-9FCC-4F2C-9DA7-CB0B64D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E12E-A1C9-4579-849C-B17C548D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E3C-FDD4-41B9-BB21-0DAAA71D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10AE-88F7-4862-B957-6552F35A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4113-00D8-478F-9D2D-0AC6DF58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435E-722E-4835-B178-8519A472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6666-C70C-4C20-B26E-4254F583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AB6EB-532C-47BD-BA28-FC41B3EB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66483-8293-4D44-A27D-62725B10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38BF-59A1-4061-864D-2D408FE6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970A-A0FB-466D-B19F-6D750887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474AE-6C88-4B2C-B250-E6BC4BF0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77559-EB99-434D-901A-5819F29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8160-71CC-4725-92ED-D6B071BD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9B9E-CA88-4017-A4A6-11BA1CD6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4EC8-A9F5-4682-90C1-2A70A2B4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E6CA5-C67E-4941-806D-870D58DF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0FFD6-D21A-42A8-AC5C-58F9BE73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0DEAB-4241-46AE-9384-C8B2EA22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DCD1C-8FF8-4045-A9D2-BC5580EF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F2C6-AB47-4128-9972-E4DB69EC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F819A-E771-4A73-9710-42C94E23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873C1-58A7-45F7-951F-C3A1D4D7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166AE-83BB-40E0-9395-DE8BED15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6A478-DBBC-4267-BDA7-25E5522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E0250-60AE-44C2-BE28-A6A07A6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C02E06-3488-44DD-8C4F-AB91AF7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1CF66-458D-4177-91FA-70A5180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DE363-12D9-41DE-AF37-AB204441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A9DDE-3A39-4CF4-A951-B4322AF7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69A4C-DED6-4B49-A093-E37C98F7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480E-2B92-463A-80FB-B0923109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DC8D4-7470-48F1-9831-344FE7C4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93266-342B-40AA-BFCA-8E08909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8711E-3E81-4043-8B44-69F0153F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1B79B-2DF5-4B1D-99A8-1BC2DFD4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5C4FE-F9F4-4915-995E-6711A69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11E24-D8A3-4916-BB6B-1ADD6FFB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693F4-CB29-431A-9776-94173108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6C38B-F945-429C-8B54-BA7B3F7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D687-8A7F-41E8-B18A-6D9D511A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F1A00-DDE0-4386-B3B6-D028E05E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AF70-457B-478C-B958-7C9BFFF5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7031-4A47-48B0-ADB9-B5F5A190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7DBFD-DEBD-4D70-A795-DD8315DC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8080A-E81A-4993-AEAC-6654C06C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F2F4-99CA-44B1-966E-8DF4677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EBDA1-0C57-4A5E-A1FC-6E1A205B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857F6-7014-41C4-AA80-4530DFFD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E84C6-AE7A-4FDC-A8F0-42BEB629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D47DB-D741-4F37-82F9-0596D458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12CB-67E6-4D88-B371-320B3D5D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ED725-129E-41BB-A0EA-1C21C49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9F68-D0A9-4DAE-BD44-BD0D7B1B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2A8C9-99F9-4C64-9F6A-12E10871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9768B-B0AC-46D1-89E8-D5596A24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92A25-6D0D-4672-89F7-7059B436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338D9-B5A5-440A-9E82-C1895B4D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52D35-DC3D-40CE-BAF9-F8155B15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F33F8-5767-4ACA-BF59-340FDDDC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9ED2-B308-4816-B812-4849A53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B279C-85DF-426D-9B10-5A6B6E84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F7780-8F62-4735-A900-2F72EA8F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8DBF1-7E09-4463-831F-19E32F9C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9058-D22D-497C-ADD4-F4D8E396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0E54D-7AFF-4F76-8464-56846FBC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7E479-BF37-4020-9CAC-3C1E6AA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10B33-C5DA-4973-A47C-AD81D0A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AF80B-44F7-4C89-ABCF-4AD7D856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1D99C-501A-4B19-81D6-134022E6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39734-90D6-4056-BA01-73E68BB1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4AEC7-B328-4BB8-BFC5-928E8B82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F339E-3DB9-4B24-8AA7-B64C22FB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A2D7C-0350-4929-9DC2-0ED18095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2BB17-1960-4195-92D8-B0B06A29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086A7-47B7-4A50-A4BD-51BD9491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0C924-A9C7-4656-9E12-4CC07CA0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48977-6036-4694-B802-364E8BFF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68123-1EF8-40F3-AD48-8C5C009B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15C9B-231B-4153-96C2-4F7EFF37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908A2-089C-418C-94FB-235A291A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B9C3A-85F1-4955-8EA5-7FC3DEFF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9A2F4-C656-41D3-8FC4-C6557462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FC04B-9B5B-4DE8-BF9E-B0A26FB8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8D4AC-BEF5-40B9-B357-0CABEAA3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C7218-E93D-46BE-86BD-59D8C560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47CA-D064-43D2-9A0B-C5D2D66F02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0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0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3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04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50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8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CFB5-B268-4590-8D54-AA63DDA9A0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5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4053-2901-4B74-88E6-187D82D8F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5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5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9B69-DABD-48FB-BBA6-29D65996B6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69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95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3BDC-DDF8-441B-BC56-0304F182BC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3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3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74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4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74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FAB-93CF-4277-8185-8710C8B497E5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4786-D02C-488C-935D-C20550D494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530D-809C-48E0-991F-FD174DED85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B2A7-DA3C-4417-93B9-6BD91F9E46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1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25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B548-4FC3-4FBF-A6DA-A262E77F89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2474-DDE2-4246-B36F-B0E9592DA5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D20E-4806-4D49-8D65-3C89D46314E3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4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4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4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5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5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5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E08A-5646-4F1F-B7A4-ACD0ED859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7F57-3A80-4FA5-BBE8-AD69DE07A8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1.png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file:///&#1052;&#1091;&#1079;&#1099;&#1082;&#1072;%20&#1074;%20XX%20&#1074;&#1077;&#1082;&#1077;.ppt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5"/>
          <p:cNvSpPr/>
          <p:nvPr/>
        </p:nvSpPr>
        <p:spPr>
          <a:xfrm>
            <a:off x="468360" y="476280"/>
            <a:ext cx="7632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адаева Ирина Анатольевна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музыки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валификационная категория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 класс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ели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140360" y="2204640"/>
            <a:ext cx="41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1258920" y="2205000"/>
            <a:ext cx="2346120" cy="3510000"/>
          </a:xfrm>
          <a:prstGeom prst="rect">
            <a:avLst/>
          </a:prstGeom>
          <a:ln w="0">
            <a:noFill/>
          </a:ln>
        </p:spPr>
      </p:pic>
      <p:pic>
        <p:nvPicPr>
          <p:cNvPr id="848" name="WordArt 8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913280" cy="1303200"/>
          </a:xfrm>
          <a:prstGeom prst="rect">
            <a:avLst/>
          </a:prstGeom>
          <a:ln w="0">
            <a:noFill/>
          </a:ln>
        </p:spPr>
      </p:pic>
      <p:sp>
        <p:nvSpPr>
          <p:cNvPr id="8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4249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5">
            <a:hlinkClick r:id="rId1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52" name="Picture 6" descr="Бриттен"/>
          <p:cNvPicPr/>
          <p:nvPr/>
        </p:nvPicPr>
        <p:blipFill>
          <a:blip r:embed="rId2"/>
          <a:stretch/>
        </p:blipFill>
        <p:spPr>
          <a:xfrm>
            <a:off x="5796000" y="1557360"/>
            <a:ext cx="2425680" cy="3267000"/>
          </a:xfrm>
          <a:prstGeom prst="rect">
            <a:avLst/>
          </a:prstGeom>
          <a:ln w="0">
            <a:noFill/>
          </a:ln>
        </p:spPr>
      </p:pic>
      <p:sp>
        <p:nvSpPr>
          <p:cNvPr id="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140000" y="2276280"/>
            <a:ext cx="439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Шостакович 1"/>
          <p:cNvPicPr/>
          <p:nvPr/>
        </p:nvPicPr>
        <p:blipFill>
          <a:blip r:embed="rId1"/>
          <a:stretch/>
        </p:blipFill>
        <p:spPr>
          <a:xfrm>
            <a:off x="826920" y="2492280"/>
            <a:ext cx="2900520" cy="3435480"/>
          </a:xfrm>
          <a:prstGeom prst="rect">
            <a:avLst/>
          </a:prstGeom>
          <a:ln w="0">
            <a:noFill/>
          </a:ln>
        </p:spPr>
      </p:pic>
      <p:pic>
        <p:nvPicPr>
          <p:cNvPr id="856" name="WordArt 6" descr=""/>
          <p:cNvPicPr/>
          <p:nvPr/>
        </p:nvPicPr>
        <p:blipFill>
          <a:blip r:embed="rId2"/>
          <a:stretch/>
        </p:blipFill>
        <p:spPr>
          <a:xfrm>
            <a:off x="2120760" y="615960"/>
            <a:ext cx="5370480" cy="1309680"/>
          </a:xfrm>
          <a:prstGeom prst="rect">
            <a:avLst/>
          </a:prstGeom>
          <a:ln w="0">
            <a:noFill/>
          </a:ln>
        </p:spPr>
      </p:pic>
      <p:sp>
        <p:nvSpPr>
          <p:cNvPr id="8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6767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">
            <a:hlinkClick r:id="rId1"/>
          </p:cNvPr>
          <p:cNvSpPr/>
          <p:nvPr/>
        </p:nvSpPr>
        <p:spPr>
          <a:xfrm>
            <a:off x="7812000" y="5815080"/>
            <a:ext cx="1332000" cy="1042920"/>
          </a:xfrm>
          <a:custGeom>
            <a:avLst/>
            <a:gdLst>
              <a:gd name="textAreaLeft" fmla="*/ 67320 w 1332000"/>
              <a:gd name="textAreaRight" fmla="*/ 1264680 w 1332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7585" h="21600">
                <a:moveTo>
                  <a:pt x="0" y="0"/>
                </a:moveTo>
                <a:lnTo>
                  <a:pt x="27585" y="0"/>
                </a:lnTo>
                <a:lnTo>
                  <a:pt x="27585" y="21600"/>
                </a:lnTo>
                <a:lnTo>
                  <a:pt x="0" y="21600"/>
                </a:lnTo>
                <a:close/>
              </a:path>
              <a:path fill="lightenLess" w="27585" h="21600">
                <a:moveTo>
                  <a:pt x="0" y="0"/>
                </a:moveTo>
                <a:lnTo>
                  <a:pt x="27585" y="0"/>
                </a:lnTo>
                <a:lnTo>
                  <a:pt x="26185" y="1400"/>
                </a:lnTo>
                <a:lnTo>
                  <a:pt x="1400" y="1400"/>
                </a:lnTo>
                <a:close/>
              </a:path>
              <a:path fill="darken" w="27585" h="21600">
                <a:moveTo>
                  <a:pt x="27585" y="0"/>
                </a:moveTo>
                <a:lnTo>
                  <a:pt x="27585" y="21600"/>
                </a:lnTo>
                <a:lnTo>
                  <a:pt x="26185" y="20200"/>
                </a:lnTo>
                <a:lnTo>
                  <a:pt x="26185" y="1400"/>
                </a:lnTo>
                <a:close/>
              </a:path>
              <a:path fill="darkenLess" w="27585" h="21600">
                <a:moveTo>
                  <a:pt x="2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85" y="20200"/>
                </a:lnTo>
                <a:close/>
              </a:path>
              <a:path fill="lighten" w="2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85" h="21600">
                <a:moveTo>
                  <a:pt x="13793" y="3837"/>
                </a:moveTo>
                <a:lnTo>
                  <a:pt x="16369" y="6448"/>
                </a:ln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lnTo>
                  <a:pt x="20756" y="10800"/>
                </a:lnTo>
                <a:lnTo>
                  <a:pt x="19102" y="10800"/>
                </a:lnTo>
                <a:lnTo>
                  <a:pt x="19102" y="17989"/>
                </a:lnTo>
                <a:lnTo>
                  <a:pt x="8483" y="17989"/>
                </a:lnTo>
                <a:lnTo>
                  <a:pt x="8483" y="10800"/>
                </a:lnTo>
                <a:lnTo>
                  <a:pt x="6830" y="10800"/>
                </a:lnTo>
                <a:close/>
              </a:path>
              <a:path fill="darkenLess" w="27585" h="21600">
                <a:moveTo>
                  <a:pt x="16369" y="6448"/>
                </a:move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close/>
              </a:path>
              <a:path fill="darkenLess" w="27585" h="21600">
                <a:moveTo>
                  <a:pt x="12870" y="14299"/>
                </a:moveTo>
                <a:lnTo>
                  <a:pt x="14715" y="14299"/>
                </a:lnTo>
                <a:lnTo>
                  <a:pt x="14715" y="17989"/>
                </a:lnTo>
                <a:lnTo>
                  <a:pt x="19102" y="17989"/>
                </a:lnTo>
                <a:lnTo>
                  <a:pt x="19102" y="10800"/>
                </a:lnTo>
                <a:lnTo>
                  <a:pt x="8483" y="10800"/>
                </a:lnTo>
                <a:lnTo>
                  <a:pt x="8483" y="17989"/>
                </a:lnTo>
                <a:lnTo>
                  <a:pt x="1287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0" name="Picture 6" descr="Шостакович"/>
          <p:cNvPicPr/>
          <p:nvPr/>
        </p:nvPicPr>
        <p:blipFill>
          <a:blip r:embed="rId2"/>
          <a:stretch/>
        </p:blipFill>
        <p:spPr>
          <a:xfrm>
            <a:off x="2484360" y="3573360"/>
            <a:ext cx="3984840" cy="2781360"/>
          </a:xfrm>
          <a:prstGeom prst="rect">
            <a:avLst/>
          </a:prstGeom>
          <a:ln w="0">
            <a:noFill/>
          </a:ln>
        </p:spPr>
      </p:pic>
      <p:sp>
        <p:nvSpPr>
          <p:cNvPr id="8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61196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7">
            <a:hlinkClick r:id="rId1"/>
          </p:cNvPr>
          <p:cNvSpPr/>
          <p:nvPr/>
        </p:nvSpPr>
        <p:spPr>
          <a:xfrm>
            <a:off x="611280" y="1916280"/>
            <a:ext cx="5257800" cy="576000"/>
          </a:xfrm>
          <a:custGeom>
            <a:avLst/>
            <a:gdLst>
              <a:gd name="textAreaLeft" fmla="*/ 37080 w 5257800"/>
              <a:gd name="textAreaRight" fmla="*/ 5220720 w 52578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97058" h="21600">
                <a:moveTo>
                  <a:pt x="0" y="0"/>
                </a:moveTo>
                <a:lnTo>
                  <a:pt x="197058" y="0"/>
                </a:lnTo>
                <a:lnTo>
                  <a:pt x="197058" y="21600"/>
                </a:lnTo>
                <a:lnTo>
                  <a:pt x="0" y="21600"/>
                </a:lnTo>
                <a:close/>
              </a:path>
              <a:path fill="lightenLess" w="197058" h="21600">
                <a:moveTo>
                  <a:pt x="0" y="0"/>
                </a:moveTo>
                <a:lnTo>
                  <a:pt x="197058" y="0"/>
                </a:lnTo>
                <a:lnTo>
                  <a:pt x="195658" y="1400"/>
                </a:lnTo>
                <a:lnTo>
                  <a:pt x="1400" y="1400"/>
                </a:lnTo>
                <a:close/>
              </a:path>
              <a:path fill="darken" w="197058" h="21600">
                <a:moveTo>
                  <a:pt x="197058" y="0"/>
                </a:moveTo>
                <a:lnTo>
                  <a:pt x="197058" y="21600"/>
                </a:lnTo>
                <a:lnTo>
                  <a:pt x="195658" y="20200"/>
                </a:lnTo>
                <a:lnTo>
                  <a:pt x="195658" y="1400"/>
                </a:lnTo>
                <a:close/>
              </a:path>
              <a:path fill="darkenLess" w="197058" h="21600">
                <a:moveTo>
                  <a:pt x="19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58" y="20200"/>
                </a:lnTo>
                <a:close/>
              </a:path>
              <a:path fill="lighten" w="19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7058" h="21600">
                <a:moveTo>
                  <a:pt x="91522" y="3794"/>
                </a:moveTo>
                <a:lnTo>
                  <a:pt x="105535" y="10800"/>
                </a:lnTo>
                <a:lnTo>
                  <a:pt x="915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64" name="AutoShape 8">
            <a:hlinkClick r:id="rId2"/>
          </p:cNvPr>
          <p:cNvSpPr/>
          <p:nvPr/>
        </p:nvSpPr>
        <p:spPr>
          <a:xfrm>
            <a:off x="539640" y="249228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05025" h="21600">
                <a:moveTo>
                  <a:pt x="95506" y="3794"/>
                </a:moveTo>
                <a:lnTo>
                  <a:pt x="109519" y="10800"/>
                </a:lnTo>
                <a:lnTo>
                  <a:pt x="955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5" name="WordArt 10" descr=""/>
          <p:cNvPicPr/>
          <p:nvPr/>
        </p:nvPicPr>
        <p:blipFill>
          <a:blip r:embed="rId3"/>
          <a:stretch/>
        </p:blipFill>
        <p:spPr>
          <a:xfrm>
            <a:off x="1755720" y="469800"/>
            <a:ext cx="5529240" cy="1157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3" descr="импр 1"/>
          <p:cNvPicPr/>
          <p:nvPr/>
        </p:nvPicPr>
        <p:blipFill>
          <a:blip r:embed="rId4"/>
          <a:stretch/>
        </p:blipFill>
        <p:spPr>
          <a:xfrm>
            <a:off x="4427640" y="3573360"/>
            <a:ext cx="3541680" cy="2855880"/>
          </a:xfrm>
          <a:prstGeom prst="rect">
            <a:avLst/>
          </a:prstGeom>
          <a:ln w="0">
            <a:noFill/>
          </a:ln>
        </p:spPr>
      </p:pic>
      <p:sp>
        <p:nvSpPr>
          <p:cNvPr id="8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48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WordArt 5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492600" cy="6937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7" descr="picture"/>
          <p:cNvPicPr/>
          <p:nvPr/>
        </p:nvPicPr>
        <p:blipFill>
          <a:blip r:embed="rId2"/>
          <a:stretch/>
        </p:blipFill>
        <p:spPr>
          <a:xfrm>
            <a:off x="2843280" y="414972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8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96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" descr="Антон Веберн"/>
          <p:cNvPicPr/>
          <p:nvPr/>
        </p:nvPicPr>
        <p:blipFill>
          <a:blip r:embed="rId1"/>
          <a:stretch/>
        </p:blipFill>
        <p:spPr>
          <a:xfrm>
            <a:off x="5867280" y="1341360"/>
            <a:ext cx="2522520" cy="323064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5"/>
          <p:cNvSpPr/>
          <p:nvPr/>
        </p:nvSpPr>
        <p:spPr>
          <a:xfrm>
            <a:off x="6229440" y="4580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Антон Вебер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5" name="AutoShape 7">
            <a:hlinkClick r:id="rId2"/>
          </p:cNvPr>
          <p:cNvSpPr/>
          <p:nvPr/>
        </p:nvSpPr>
        <p:spPr>
          <a:xfrm>
            <a:off x="8101080" y="580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Арнольд Шёнберг"/>
          <p:cNvPicPr/>
          <p:nvPr/>
        </p:nvPicPr>
        <p:blipFill>
          <a:blip r:embed="rId1"/>
          <a:stretch/>
        </p:blipFill>
        <p:spPr>
          <a:xfrm>
            <a:off x="5508720" y="1557360"/>
            <a:ext cx="1854000" cy="2131920"/>
          </a:xfrm>
          <a:prstGeom prst="rect">
            <a:avLst/>
          </a:prstGeom>
          <a:ln w="0">
            <a:noFill/>
          </a:ln>
        </p:spPr>
      </p:pic>
      <p:sp>
        <p:nvSpPr>
          <p:cNvPr id="879" name="AutoShape 6">
            <a:hlinkClick r:id="rId2"/>
          </p:cNvPr>
          <p:cNvSpPr/>
          <p:nvPr/>
        </p:nvSpPr>
        <p:spPr>
          <a:xfrm>
            <a:off x="2050920" y="1484280"/>
            <a:ext cx="2376720" cy="1079640"/>
          </a:xfrm>
          <a:custGeom>
            <a:avLst/>
            <a:gdLst>
              <a:gd name="textAreaLeft" fmla="*/ 69840 w 2376720"/>
              <a:gd name="textAreaRight" fmla="*/ 2306880 w 23767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7542" h="21600">
                <a:moveTo>
                  <a:pt x="0" y="0"/>
                </a:moveTo>
                <a:lnTo>
                  <a:pt x="47542" y="0"/>
                </a:lnTo>
                <a:lnTo>
                  <a:pt x="47542" y="21600"/>
                </a:lnTo>
                <a:lnTo>
                  <a:pt x="0" y="21600"/>
                </a:lnTo>
                <a:close/>
              </a:path>
              <a:path fill="lightenLess" w="47542" h="21600">
                <a:moveTo>
                  <a:pt x="0" y="0"/>
                </a:moveTo>
                <a:lnTo>
                  <a:pt x="47542" y="0"/>
                </a:lnTo>
                <a:lnTo>
                  <a:pt x="46142" y="1400"/>
                </a:lnTo>
                <a:lnTo>
                  <a:pt x="1400" y="1400"/>
                </a:lnTo>
                <a:close/>
              </a:path>
              <a:path fill="darken" w="47542" h="21600">
                <a:moveTo>
                  <a:pt x="47542" y="0"/>
                </a:moveTo>
                <a:lnTo>
                  <a:pt x="47542" y="21600"/>
                </a:lnTo>
                <a:lnTo>
                  <a:pt x="46142" y="20200"/>
                </a:lnTo>
                <a:lnTo>
                  <a:pt x="46142" y="1400"/>
                </a:lnTo>
                <a:close/>
              </a:path>
              <a:path fill="darkenLess" w="47542" h="21600">
                <a:moveTo>
                  <a:pt x="4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42" y="20200"/>
                </a:lnTo>
                <a:close/>
              </a:path>
              <a:path fill="lighten" w="4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42" h="21600">
                <a:moveTo>
                  <a:pt x="16764" y="3794"/>
                </a:moveTo>
                <a:lnTo>
                  <a:pt x="30777" y="10800"/>
                </a:lnTo>
                <a:lnTo>
                  <a:pt x="16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0" name="AutoShape 7">
            <a:hlinkClick r:id="rId3"/>
          </p:cNvPr>
          <p:cNvSpPr/>
          <p:nvPr/>
        </p:nvSpPr>
        <p:spPr>
          <a:xfrm>
            <a:off x="2124000" y="400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1" name="Picture 9" descr="scriabin"/>
          <p:cNvPicPr/>
          <p:nvPr/>
        </p:nvPicPr>
        <p:blipFill>
          <a:blip r:embed="rId4"/>
          <a:stretch/>
        </p:blipFill>
        <p:spPr>
          <a:xfrm>
            <a:off x="5292720" y="3933720"/>
            <a:ext cx="2227320" cy="2470320"/>
          </a:xfrm>
          <a:prstGeom prst="rect">
            <a:avLst/>
          </a:prstGeom>
          <a:ln w="0">
            <a:noFill/>
          </a:ln>
        </p:spPr>
      </p:pic>
      <p:sp>
        <p:nvSpPr>
          <p:cNvPr id="882" name="AutoShape 10">
            <a:hlinkClick r:id="rId5"/>
          </p:cNvPr>
          <p:cNvSpPr/>
          <p:nvPr/>
        </p:nvSpPr>
        <p:spPr>
          <a:xfrm>
            <a:off x="826920" y="1700280"/>
            <a:ext cx="3745080" cy="755640"/>
          </a:xfrm>
          <a:custGeom>
            <a:avLst/>
            <a:gdLst>
              <a:gd name="textAreaLeft" fmla="*/ 48960 w 3745080"/>
              <a:gd name="textAreaRight" fmla="*/ 3696120 w 37450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107013" h="21600">
                <a:moveTo>
                  <a:pt x="0" y="0"/>
                </a:moveTo>
                <a:lnTo>
                  <a:pt x="107013" y="0"/>
                </a:lnTo>
                <a:lnTo>
                  <a:pt x="107013" y="21600"/>
                </a:lnTo>
                <a:lnTo>
                  <a:pt x="0" y="21600"/>
                </a:lnTo>
                <a:close/>
              </a:path>
              <a:path fill="lightenLess" w="107013" h="21600">
                <a:moveTo>
                  <a:pt x="0" y="0"/>
                </a:moveTo>
                <a:lnTo>
                  <a:pt x="107013" y="0"/>
                </a:lnTo>
                <a:lnTo>
                  <a:pt x="105613" y="1400"/>
                </a:lnTo>
                <a:lnTo>
                  <a:pt x="1400" y="1400"/>
                </a:lnTo>
                <a:close/>
              </a:path>
              <a:path fill="darken" w="107013" h="21600">
                <a:moveTo>
                  <a:pt x="107013" y="0"/>
                </a:moveTo>
                <a:lnTo>
                  <a:pt x="107013" y="21600"/>
                </a:lnTo>
                <a:lnTo>
                  <a:pt x="105613" y="20200"/>
                </a:lnTo>
                <a:lnTo>
                  <a:pt x="105613" y="1400"/>
                </a:lnTo>
                <a:close/>
              </a:path>
              <a:path fill="darkenLess" w="107013" h="21600">
                <a:moveTo>
                  <a:pt x="107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613" y="20200"/>
                </a:lnTo>
                <a:close/>
              </a:path>
              <a:path fill="lighten" w="107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013" h="21600">
                <a:moveTo>
                  <a:pt x="46500" y="3794"/>
                </a:moveTo>
                <a:lnTo>
                  <a:pt x="60513" y="10800"/>
                </a:lnTo>
                <a:lnTo>
                  <a:pt x="465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3" name="AutoShape 11">
            <a:hlinkClick r:id="rId6"/>
          </p:cNvPr>
          <p:cNvSpPr/>
          <p:nvPr/>
        </p:nvSpPr>
        <p:spPr>
          <a:xfrm>
            <a:off x="900000" y="4437000"/>
            <a:ext cx="3888000" cy="682560"/>
          </a:xfrm>
          <a:custGeom>
            <a:avLst/>
            <a:gdLst>
              <a:gd name="textAreaLeft" fmla="*/ 43920 w 3888000"/>
              <a:gd name="textAreaRight" fmla="*/ 3844080 w 3888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122985" h="21600">
                <a:moveTo>
                  <a:pt x="0" y="0"/>
                </a:moveTo>
                <a:lnTo>
                  <a:pt x="122985" y="0"/>
                </a:lnTo>
                <a:lnTo>
                  <a:pt x="122985" y="21600"/>
                </a:lnTo>
                <a:lnTo>
                  <a:pt x="0" y="21600"/>
                </a:lnTo>
                <a:close/>
              </a:path>
              <a:path fill="lightenLess" w="122985" h="21600">
                <a:moveTo>
                  <a:pt x="0" y="0"/>
                </a:moveTo>
                <a:lnTo>
                  <a:pt x="122985" y="0"/>
                </a:lnTo>
                <a:lnTo>
                  <a:pt x="121585" y="1400"/>
                </a:lnTo>
                <a:lnTo>
                  <a:pt x="1400" y="1400"/>
                </a:lnTo>
                <a:close/>
              </a:path>
              <a:path fill="darken" w="122985" h="21600">
                <a:moveTo>
                  <a:pt x="122985" y="0"/>
                </a:moveTo>
                <a:lnTo>
                  <a:pt x="122985" y="21600"/>
                </a:lnTo>
                <a:lnTo>
                  <a:pt x="121585" y="20200"/>
                </a:lnTo>
                <a:lnTo>
                  <a:pt x="121585" y="1400"/>
                </a:lnTo>
                <a:close/>
              </a:path>
              <a:path fill="darkenLess" w="122985" h="21600">
                <a:moveTo>
                  <a:pt x="122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85" y="20200"/>
                </a:lnTo>
                <a:close/>
              </a:path>
              <a:path fill="lighten" w="122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985" h="21600">
                <a:moveTo>
                  <a:pt x="54486" y="3794"/>
                </a:moveTo>
                <a:lnTo>
                  <a:pt x="68499" y="10800"/>
                </a:lnTo>
                <a:lnTo>
                  <a:pt x="544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4" name="WordArt 14" descr=""/>
          <p:cNvPicPr/>
          <p:nvPr/>
        </p:nvPicPr>
        <p:blipFill>
          <a:blip r:embed="rId7"/>
          <a:stretch/>
        </p:blipFill>
        <p:spPr>
          <a:xfrm>
            <a:off x="1042920" y="549360"/>
            <a:ext cx="7021440" cy="798480"/>
          </a:xfrm>
          <a:prstGeom prst="rect">
            <a:avLst/>
          </a:prstGeom>
          <a:ln w="0">
            <a:noFill/>
          </a:ln>
        </p:spPr>
      </p:pic>
      <p:sp>
        <p:nvSpPr>
          <p:cNvPr id="8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4642920" y="2420640"/>
            <a:ext cx="3961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Арнольд Шёнберг"/>
          <p:cNvPicPr/>
          <p:nvPr/>
        </p:nvPicPr>
        <p:blipFill>
          <a:blip r:embed="rId2"/>
          <a:stretch/>
        </p:blipFill>
        <p:spPr>
          <a:xfrm>
            <a:off x="971640" y="2276640"/>
            <a:ext cx="3476520" cy="4000320"/>
          </a:xfrm>
          <a:prstGeom prst="rect">
            <a:avLst/>
          </a:prstGeom>
          <a:ln w="0">
            <a:noFill/>
          </a:ln>
        </p:spPr>
      </p:pic>
      <p:pic>
        <p:nvPicPr>
          <p:cNvPr id="888" name="WordArt 5" descr=""/>
          <p:cNvPicPr/>
          <p:nvPr/>
        </p:nvPicPr>
        <p:blipFill>
          <a:blip r:embed="rId3"/>
          <a:stretch/>
        </p:blipFill>
        <p:spPr>
          <a:xfrm>
            <a:off x="2620800" y="476280"/>
            <a:ext cx="4449960" cy="1303200"/>
          </a:xfrm>
          <a:prstGeom prst="rect">
            <a:avLst/>
          </a:prstGeom>
          <a:ln w="0">
            <a:noFill/>
          </a:ln>
        </p:spPr>
      </p:pic>
      <p:sp>
        <p:nvSpPr>
          <p:cNvPr id="8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50036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92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93" name="Picture 6" descr="Шёнберг"/>
          <p:cNvPicPr/>
          <p:nvPr/>
        </p:nvPicPr>
        <p:blipFill>
          <a:blip r:embed="rId4"/>
          <a:stretch/>
        </p:blipFill>
        <p:spPr>
          <a:xfrm>
            <a:off x="5724360" y="1628640"/>
            <a:ext cx="2170440" cy="3019680"/>
          </a:xfrm>
          <a:prstGeom prst="rect">
            <a:avLst/>
          </a:prstGeom>
          <a:ln w="0">
            <a:noFill/>
          </a:ln>
        </p:spPr>
      </p:pic>
      <p:sp>
        <p:nvSpPr>
          <p:cNvPr id="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WordArt 4" descr=""/>
          <p:cNvPicPr/>
          <p:nvPr/>
        </p:nvPicPr>
        <p:blipFill>
          <a:blip r:embed="rId1"/>
          <a:stretch/>
        </p:blipFill>
        <p:spPr>
          <a:xfrm>
            <a:off x="1609560" y="1689120"/>
            <a:ext cx="6102360" cy="2724120"/>
          </a:xfrm>
          <a:prstGeom prst="rect">
            <a:avLst/>
          </a:prstGeom>
          <a:ln w="0">
            <a:noFill/>
          </a:ln>
        </p:spPr>
      </p:pic>
      <p:sp>
        <p:nvSpPr>
          <p:cNvPr id="8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5003280" y="2492280"/>
            <a:ext cx="34052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5" descr="скр1"/>
          <p:cNvPicPr/>
          <p:nvPr/>
        </p:nvPicPr>
        <p:blipFill>
          <a:blip r:embed="rId2"/>
          <a:stretch/>
        </p:blipFill>
        <p:spPr>
          <a:xfrm>
            <a:off x="900000" y="2421000"/>
            <a:ext cx="3175200" cy="3759120"/>
          </a:xfrm>
          <a:prstGeom prst="rect">
            <a:avLst/>
          </a:prstGeom>
          <a:ln w="0">
            <a:noFill/>
          </a:ln>
        </p:spPr>
      </p:pic>
      <p:pic>
        <p:nvPicPr>
          <p:cNvPr id="897" name="WordArt 6" descr=""/>
          <p:cNvPicPr/>
          <p:nvPr/>
        </p:nvPicPr>
        <p:blipFill>
          <a:blip r:embed="rId3"/>
          <a:stretch/>
        </p:blipFill>
        <p:spPr>
          <a:xfrm>
            <a:off x="2481120" y="476280"/>
            <a:ext cx="4803840" cy="1303200"/>
          </a:xfrm>
          <a:prstGeom prst="rect">
            <a:avLst/>
          </a:prstGeom>
          <a:ln w="0">
            <a:noFill/>
          </a:ln>
        </p:spPr>
      </p:pic>
      <p:sp>
        <p:nvSpPr>
          <p:cNvPr id="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43210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ское творчество представляет собой оригинальную художественную систему, в которой волевые порывы, героическая устремлённость в неведомые миры сочетаются с изысканной, хрупкой одухотворенностью – все средства в его музыке всходят к неповторимо индивидуальной организации. Автор 3 симфоний, оркестровых поэм «Мечты», «Поэма экстаза», «Прометей», фортепианного концерта и других произве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1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2" name="Picture 6" descr="Скрябин"/>
          <p:cNvPicPr/>
          <p:nvPr/>
        </p:nvPicPr>
        <p:blipFill>
          <a:blip r:embed="rId4"/>
          <a:stretch/>
        </p:blipFill>
        <p:spPr>
          <a:xfrm>
            <a:off x="5580000" y="1341360"/>
            <a:ext cx="2706840" cy="3519720"/>
          </a:xfrm>
          <a:prstGeom prst="rect">
            <a:avLst/>
          </a:prstGeom>
          <a:ln w="0">
            <a:noFill/>
          </a:ln>
        </p:spPr>
      </p:pic>
      <p:sp>
        <p:nvSpPr>
          <p:cNvPr id="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Определение на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Советский дж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4">
            <a:hlinkClick r:id="rId1"/>
          </p:cNvPr>
          <p:cNvSpPr/>
          <p:nvPr/>
        </p:nvSpPr>
        <p:spPr>
          <a:xfrm>
            <a:off x="900000" y="1989000"/>
            <a:ext cx="6121440" cy="576360"/>
          </a:xfrm>
          <a:custGeom>
            <a:avLst/>
            <a:gdLst>
              <a:gd name="textAreaLeft" fmla="*/ 37080 w 6121440"/>
              <a:gd name="textAreaRight" fmla="*/ 6084360 w 6121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281" h="21600">
                <a:moveTo>
                  <a:pt x="0" y="0"/>
                </a:moveTo>
                <a:lnTo>
                  <a:pt x="229281" y="0"/>
                </a:lnTo>
                <a:lnTo>
                  <a:pt x="229281" y="21600"/>
                </a:lnTo>
                <a:lnTo>
                  <a:pt x="0" y="21600"/>
                </a:lnTo>
                <a:close/>
              </a:path>
              <a:path fill="lightenLess" w="229281" h="21600">
                <a:moveTo>
                  <a:pt x="0" y="0"/>
                </a:moveTo>
                <a:lnTo>
                  <a:pt x="229281" y="0"/>
                </a:lnTo>
                <a:lnTo>
                  <a:pt x="227881" y="1400"/>
                </a:lnTo>
                <a:lnTo>
                  <a:pt x="1400" y="1400"/>
                </a:lnTo>
                <a:close/>
              </a:path>
              <a:path fill="darken" w="229281" h="21600">
                <a:moveTo>
                  <a:pt x="229281" y="0"/>
                </a:moveTo>
                <a:lnTo>
                  <a:pt x="229281" y="21600"/>
                </a:lnTo>
                <a:lnTo>
                  <a:pt x="227881" y="20200"/>
                </a:lnTo>
                <a:lnTo>
                  <a:pt x="227881" y="1400"/>
                </a:lnTo>
                <a:close/>
              </a:path>
              <a:path fill="darkenLess" w="229281" h="21600">
                <a:moveTo>
                  <a:pt x="229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1" y="20200"/>
                </a:lnTo>
                <a:close/>
              </a:path>
              <a:path fill="lighten" w="229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81" h="21600">
                <a:moveTo>
                  <a:pt x="107634" y="3794"/>
                </a:moveTo>
                <a:lnTo>
                  <a:pt x="121647" y="10800"/>
                </a:lnTo>
                <a:lnTo>
                  <a:pt x="1076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6" name="AutoShape 5">
            <a:hlinkClick r:id="rId2"/>
          </p:cNvPr>
          <p:cNvSpPr/>
          <p:nvPr/>
        </p:nvSpPr>
        <p:spPr>
          <a:xfrm>
            <a:off x="900000" y="256536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7542" h="21600">
                <a:moveTo>
                  <a:pt x="61764" y="3794"/>
                </a:moveTo>
                <a:lnTo>
                  <a:pt x="75777" y="10800"/>
                </a:lnTo>
                <a:lnTo>
                  <a:pt x="61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7" name="AutoShape 6">
            <a:hlinkClick r:id="rId3"/>
          </p:cNvPr>
          <p:cNvSpPr/>
          <p:nvPr/>
        </p:nvSpPr>
        <p:spPr>
          <a:xfrm>
            <a:off x="900000" y="3213000"/>
            <a:ext cx="5472360" cy="503280"/>
          </a:xfrm>
          <a:custGeom>
            <a:avLst/>
            <a:gdLst>
              <a:gd name="textAreaLeft" fmla="*/ 32400 w 5472360"/>
              <a:gd name="textAreaRight" fmla="*/ 5439960 w 547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4713" h="21600">
                <a:moveTo>
                  <a:pt x="0" y="0"/>
                </a:moveTo>
                <a:lnTo>
                  <a:pt x="234713" y="0"/>
                </a:lnTo>
                <a:lnTo>
                  <a:pt x="234713" y="21600"/>
                </a:lnTo>
                <a:lnTo>
                  <a:pt x="0" y="21600"/>
                </a:lnTo>
                <a:close/>
              </a:path>
              <a:path fill="lightenLess" w="234713" h="21600">
                <a:moveTo>
                  <a:pt x="0" y="0"/>
                </a:moveTo>
                <a:lnTo>
                  <a:pt x="234713" y="0"/>
                </a:lnTo>
                <a:lnTo>
                  <a:pt x="233313" y="1400"/>
                </a:lnTo>
                <a:lnTo>
                  <a:pt x="1400" y="1400"/>
                </a:lnTo>
                <a:close/>
              </a:path>
              <a:path fill="darken" w="234713" h="21600">
                <a:moveTo>
                  <a:pt x="234713" y="0"/>
                </a:moveTo>
                <a:lnTo>
                  <a:pt x="234713" y="21600"/>
                </a:lnTo>
                <a:lnTo>
                  <a:pt x="233313" y="20200"/>
                </a:lnTo>
                <a:lnTo>
                  <a:pt x="233313" y="1400"/>
                </a:lnTo>
                <a:close/>
              </a:path>
              <a:path fill="darkenLess" w="234713" h="21600">
                <a:moveTo>
                  <a:pt x="2347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13" y="20200"/>
                </a:lnTo>
                <a:close/>
              </a:path>
              <a:path fill="lighten" w="2347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13" h="21600">
                <a:moveTo>
                  <a:pt x="110350" y="3794"/>
                </a:moveTo>
                <a:lnTo>
                  <a:pt x="124363" y="10800"/>
                </a:lnTo>
                <a:lnTo>
                  <a:pt x="1103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8" name="Picture 8" descr="джаз 1"/>
          <p:cNvPicPr/>
          <p:nvPr/>
        </p:nvPicPr>
        <p:blipFill>
          <a:blip r:embed="rId4"/>
          <a:stretch/>
        </p:blipFill>
        <p:spPr>
          <a:xfrm>
            <a:off x="5435640" y="4221000"/>
            <a:ext cx="2936880" cy="2138400"/>
          </a:xfrm>
          <a:prstGeom prst="rect">
            <a:avLst/>
          </a:prstGeom>
          <a:ln w="0">
            <a:noFill/>
          </a:ln>
        </p:spPr>
      </p:pic>
      <p:pic>
        <p:nvPicPr>
          <p:cNvPr id="909" name="WordArt 9" descr=""/>
          <p:cNvPicPr/>
          <p:nvPr/>
        </p:nvPicPr>
        <p:blipFill>
          <a:blip r:embed="rId5"/>
          <a:stretch/>
        </p:blipFill>
        <p:spPr>
          <a:xfrm>
            <a:off x="3376440" y="579600"/>
            <a:ext cx="2706840" cy="1163520"/>
          </a:xfrm>
          <a:prstGeom prst="rect">
            <a:avLst/>
          </a:prstGeom>
          <a:ln w="0">
            <a:noFill/>
          </a:ln>
        </p:spPr>
      </p:pic>
      <p:sp>
        <p:nvSpPr>
          <p:cNvPr id="9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9e6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1402920" y="2349000"/>
            <a:ext cx="604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– 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WordArt 5" descr=""/>
          <p:cNvPicPr/>
          <p:nvPr/>
        </p:nvPicPr>
        <p:blipFill>
          <a:blip r:embed="rId1"/>
          <a:stretch/>
        </p:blipFill>
        <p:spPr>
          <a:xfrm>
            <a:off x="858960" y="1011240"/>
            <a:ext cx="7437240" cy="725400"/>
          </a:xfrm>
          <a:prstGeom prst="rect">
            <a:avLst/>
          </a:prstGeom>
          <a:ln w="0">
            <a:noFill/>
          </a:ln>
        </p:spPr>
      </p:pic>
      <p:sp>
        <p:nvSpPr>
          <p:cNvPr id="9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54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16" name="Picture 4" descr="Джаз 2"/>
          <p:cNvPicPr/>
          <p:nvPr/>
        </p:nvPicPr>
        <p:blipFill>
          <a:blip r:embed="rId2"/>
          <a:stretch/>
        </p:blipFill>
        <p:spPr>
          <a:xfrm>
            <a:off x="6084720" y="1700280"/>
            <a:ext cx="2551320" cy="3117960"/>
          </a:xfrm>
          <a:prstGeom prst="rect">
            <a:avLst/>
          </a:prstGeom>
          <a:ln w="0">
            <a:noFill/>
          </a:ln>
        </p:spPr>
      </p:pic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54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Picture 4" descr="Утёсов"/>
          <p:cNvPicPr/>
          <p:nvPr/>
        </p:nvPicPr>
        <p:blipFill>
          <a:blip r:embed="rId1"/>
          <a:stretch/>
        </p:blipFill>
        <p:spPr>
          <a:xfrm>
            <a:off x="6372360" y="1989000"/>
            <a:ext cx="1914480" cy="28972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5"/>
          <p:cNvSpPr/>
          <p:nvPr/>
        </p:nvSpPr>
        <p:spPr>
          <a:xfrm>
            <a:off x="6376320" y="4941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Дунаевский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21" name="AutoShape 6">
            <a:hlinkClick r:id="rId2"/>
          </p:cNvPr>
          <p:cNvSpPr/>
          <p:nvPr/>
        </p:nvSpPr>
        <p:spPr>
          <a:xfrm>
            <a:off x="7596360" y="5661000"/>
            <a:ext cx="1547640" cy="1197000"/>
          </a:xfrm>
          <a:custGeom>
            <a:avLst/>
            <a:gdLst>
              <a:gd name="textAreaLeft" fmla="*/ 77400 w 1547640"/>
              <a:gd name="textAreaRight" fmla="*/ 1470240 w 154764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7925" h="21600">
                <a:moveTo>
                  <a:pt x="0" y="0"/>
                </a:moveTo>
                <a:lnTo>
                  <a:pt x="27925" y="0"/>
                </a:lnTo>
                <a:lnTo>
                  <a:pt x="27925" y="21600"/>
                </a:lnTo>
                <a:lnTo>
                  <a:pt x="0" y="21600"/>
                </a:lnTo>
                <a:close/>
              </a:path>
              <a:path fill="lightenLess" w="27925" h="21600">
                <a:moveTo>
                  <a:pt x="0" y="0"/>
                </a:moveTo>
                <a:lnTo>
                  <a:pt x="27925" y="0"/>
                </a:lnTo>
                <a:lnTo>
                  <a:pt x="26525" y="1400"/>
                </a:lnTo>
                <a:lnTo>
                  <a:pt x="1400" y="1400"/>
                </a:lnTo>
                <a:close/>
              </a:path>
              <a:path fill="darken" w="27925" h="21600">
                <a:moveTo>
                  <a:pt x="27925" y="0"/>
                </a:moveTo>
                <a:lnTo>
                  <a:pt x="27925" y="21600"/>
                </a:lnTo>
                <a:lnTo>
                  <a:pt x="26525" y="20200"/>
                </a:lnTo>
                <a:lnTo>
                  <a:pt x="26525" y="1400"/>
                </a:lnTo>
                <a:close/>
              </a:path>
              <a:path fill="darkenLess" w="27925" h="21600">
                <a:moveTo>
                  <a:pt x="27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5" y="20200"/>
                </a:lnTo>
                <a:close/>
              </a:path>
              <a:path fill="lighten" w="27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5" h="21600">
                <a:moveTo>
                  <a:pt x="13963" y="3837"/>
                </a:moveTo>
                <a:lnTo>
                  <a:pt x="16539" y="6448"/>
                </a:ln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lnTo>
                  <a:pt x="20926" y="10800"/>
                </a:lnTo>
                <a:lnTo>
                  <a:pt x="19272" y="10800"/>
                </a:lnTo>
                <a:lnTo>
                  <a:pt x="19272" y="17989"/>
                </a:lnTo>
                <a:lnTo>
                  <a:pt x="8653" y="17989"/>
                </a:lnTo>
                <a:lnTo>
                  <a:pt x="8653" y="10800"/>
                </a:lnTo>
                <a:lnTo>
                  <a:pt x="7000" y="10800"/>
                </a:lnTo>
                <a:close/>
              </a:path>
              <a:path fill="darkenLess" w="27925" h="21600">
                <a:moveTo>
                  <a:pt x="16539" y="6448"/>
                </a:move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close/>
              </a:path>
              <a:path fill="darkenLess" w="27925" h="21600">
                <a:moveTo>
                  <a:pt x="13040" y="14299"/>
                </a:moveTo>
                <a:lnTo>
                  <a:pt x="14885" y="14299"/>
                </a:lnTo>
                <a:lnTo>
                  <a:pt x="14885" y="17989"/>
                </a:lnTo>
                <a:lnTo>
                  <a:pt x="19272" y="17989"/>
                </a:lnTo>
                <a:lnTo>
                  <a:pt x="19272" y="10800"/>
                </a:lnTo>
                <a:lnTo>
                  <a:pt x="8653" y="10800"/>
                </a:lnTo>
                <a:lnTo>
                  <a:pt x="8653" y="17989"/>
                </a:lnTo>
                <a:lnTo>
                  <a:pt x="1304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22" name="WordArt 7" descr=""/>
          <p:cNvPicPr/>
          <p:nvPr/>
        </p:nvPicPr>
        <p:blipFill>
          <a:blip r:embed="rId3"/>
          <a:stretch/>
        </p:blipFill>
        <p:spPr>
          <a:xfrm>
            <a:off x="2548080" y="542880"/>
            <a:ext cx="4389120" cy="1266840"/>
          </a:xfrm>
          <a:prstGeom prst="rect">
            <a:avLst/>
          </a:prstGeom>
          <a:ln w="0">
            <a:noFill/>
          </a:ln>
        </p:spPr>
      </p:pic>
      <p:sp>
        <p:nvSpPr>
          <p:cNvPr id="9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3779640" y="2681280"/>
            <a:ext cx="5003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Picture 9" descr="Гершвин"/>
          <p:cNvPicPr/>
          <p:nvPr/>
        </p:nvPicPr>
        <p:blipFill>
          <a:blip r:embed="rId1"/>
          <a:stretch/>
        </p:blipFill>
        <p:spPr>
          <a:xfrm>
            <a:off x="755640" y="2349360"/>
            <a:ext cx="2624040" cy="3888000"/>
          </a:xfrm>
          <a:prstGeom prst="rect">
            <a:avLst/>
          </a:prstGeom>
          <a:ln w="0">
            <a:noFill/>
          </a:ln>
        </p:spPr>
      </p:pic>
      <p:pic>
        <p:nvPicPr>
          <p:cNvPr id="926" name="WordArt 10" descr=""/>
          <p:cNvPicPr/>
          <p:nvPr/>
        </p:nvPicPr>
        <p:blipFill>
          <a:blip r:embed="rId2"/>
          <a:stretch/>
        </p:blipFill>
        <p:spPr>
          <a:xfrm>
            <a:off x="1474920" y="762120"/>
            <a:ext cx="6821280" cy="987480"/>
          </a:xfrm>
          <a:prstGeom prst="rect">
            <a:avLst/>
          </a:prstGeom>
          <a:ln w="0">
            <a:noFill/>
          </a:ln>
        </p:spPr>
      </p:pic>
      <p:sp>
        <p:nvSpPr>
          <p:cNvPr id="9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250560" y="809280"/>
            <a:ext cx="4825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0" name="Picture 4" descr="PH10710"/>
          <p:cNvPicPr/>
          <p:nvPr/>
        </p:nvPicPr>
        <p:blipFill>
          <a:blip r:embed="rId2"/>
          <a:stretch/>
        </p:blipFill>
        <p:spPr>
          <a:xfrm>
            <a:off x="5292720" y="1125360"/>
            <a:ext cx="3465360" cy="4146840"/>
          </a:xfrm>
          <a:prstGeom prst="rect">
            <a:avLst/>
          </a:prstGeom>
          <a:ln w="0">
            <a:noFill/>
          </a:ln>
        </p:spPr>
      </p:pic>
      <p:sp>
        <p:nvSpPr>
          <p:cNvPr id="9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692000" y="21333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AutoShape 4">
            <a:hlinkClick r:id="rId1"/>
          </p:cNvPr>
          <p:cNvSpPr/>
          <p:nvPr/>
        </p:nvSpPr>
        <p:spPr>
          <a:xfrm>
            <a:off x="2195640" y="206064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34" name="AutoShape 5">
            <a:hlinkClick r:id="rId2"/>
          </p:cNvPr>
          <p:cNvSpPr/>
          <p:nvPr/>
        </p:nvSpPr>
        <p:spPr>
          <a:xfrm>
            <a:off x="2195640" y="278136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5" name="Picture 6" descr="Авангард"/>
          <p:cNvPicPr/>
          <p:nvPr/>
        </p:nvPicPr>
        <p:blipFill>
          <a:blip r:embed="rId3"/>
          <a:stretch/>
        </p:blipFill>
        <p:spPr>
          <a:xfrm>
            <a:off x="4932360" y="3716280"/>
            <a:ext cx="3436920" cy="2197080"/>
          </a:xfrm>
          <a:prstGeom prst="rect">
            <a:avLst/>
          </a:prstGeom>
          <a:ln w="0">
            <a:noFill/>
          </a:ln>
        </p:spPr>
      </p:pic>
      <p:pic>
        <p:nvPicPr>
          <p:cNvPr id="936" name="WordArt 7" descr=""/>
          <p:cNvPicPr/>
          <p:nvPr/>
        </p:nvPicPr>
        <p:blipFill>
          <a:blip r:embed="rId4"/>
          <a:stretch/>
        </p:blipFill>
        <p:spPr>
          <a:xfrm>
            <a:off x="3267000" y="828720"/>
            <a:ext cx="4432320" cy="866880"/>
          </a:xfrm>
          <a:prstGeom prst="rect">
            <a:avLst/>
          </a:prstGeom>
          <a:ln w="0">
            <a:noFill/>
          </a:ln>
        </p:spPr>
      </p:pic>
      <p:sp>
        <p:nvSpPr>
          <p:cNvPr id="9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4427280" y="1700280"/>
            <a:ext cx="4259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4" descr="Авангард 2"/>
          <p:cNvPicPr/>
          <p:nvPr/>
        </p:nvPicPr>
        <p:blipFill>
          <a:blip r:embed="rId1"/>
          <a:stretch/>
        </p:blipFill>
        <p:spPr>
          <a:xfrm>
            <a:off x="1403280" y="2276640"/>
            <a:ext cx="2656080" cy="3186000"/>
          </a:xfrm>
          <a:prstGeom prst="rect">
            <a:avLst/>
          </a:prstGeom>
          <a:ln w="0">
            <a:noFill/>
          </a:ln>
        </p:spPr>
      </p:pic>
      <p:pic>
        <p:nvPicPr>
          <p:cNvPr id="940" name="WordArt 5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6491160" cy="701640"/>
          </a:xfrm>
          <a:prstGeom prst="rect">
            <a:avLst/>
          </a:prstGeom>
          <a:ln w="0">
            <a:noFill/>
          </a:ln>
        </p:spPr>
      </p:pic>
      <p:sp>
        <p:nvSpPr>
          <p:cNvPr id="9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сновные направления в музыке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XX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ека. 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2" name="Picture 21" descr="the_first_piano_lesson"/>
          <p:cNvPicPr/>
          <p:nvPr/>
        </p:nvPicPr>
        <p:blipFill>
          <a:blip r:embed="rId1"/>
          <a:stretch/>
        </p:blipFill>
        <p:spPr>
          <a:xfrm>
            <a:off x="5292720" y="2205000"/>
            <a:ext cx="2987640" cy="399276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2">
            <a:hlinkClick r:id="rId2"/>
          </p:cNvPr>
          <p:cNvSpPr/>
          <p:nvPr/>
        </p:nvSpPr>
        <p:spPr>
          <a:xfrm>
            <a:off x="1476360" y="1916280"/>
            <a:ext cx="1727280" cy="577800"/>
          </a:xfrm>
          <a:custGeom>
            <a:avLst/>
            <a:gdLst>
              <a:gd name="textAreaLeft" fmla="*/ 37440 w 1727280"/>
              <a:gd name="textAreaRight" fmla="*/ 1689840 w 1727280"/>
              <a:gd name="textAreaTop" fmla="*/ 37440 h 577800"/>
              <a:gd name="textAreaBottom" fmla="*/ 540360 h 577800"/>
            </a:gdLst>
            <a:ahLst/>
            <a:rect l="textAreaLeft" t="textAreaTop" r="textAreaRight" b="textAreaBottom"/>
            <a:pathLst>
              <a:path w="64544" h="21600">
                <a:moveTo>
                  <a:pt x="0" y="0"/>
                </a:moveTo>
                <a:lnTo>
                  <a:pt x="64544" y="0"/>
                </a:lnTo>
                <a:lnTo>
                  <a:pt x="64544" y="21600"/>
                </a:lnTo>
                <a:lnTo>
                  <a:pt x="0" y="21600"/>
                </a:lnTo>
                <a:close/>
              </a:path>
              <a:path fill="lightenLess" w="64544" h="21600">
                <a:moveTo>
                  <a:pt x="0" y="0"/>
                </a:moveTo>
                <a:lnTo>
                  <a:pt x="64544" y="0"/>
                </a:lnTo>
                <a:lnTo>
                  <a:pt x="63144" y="1400"/>
                </a:lnTo>
                <a:lnTo>
                  <a:pt x="1400" y="1400"/>
                </a:lnTo>
                <a:close/>
              </a:path>
              <a:path fill="darken" w="64544" h="21600">
                <a:moveTo>
                  <a:pt x="64544" y="0"/>
                </a:moveTo>
                <a:lnTo>
                  <a:pt x="64544" y="21600"/>
                </a:lnTo>
                <a:lnTo>
                  <a:pt x="63144" y="20200"/>
                </a:lnTo>
                <a:lnTo>
                  <a:pt x="63144" y="1400"/>
                </a:lnTo>
                <a:close/>
              </a:path>
              <a:path fill="darkenLess" w="64544" h="21600">
                <a:moveTo>
                  <a:pt x="64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44" y="20200"/>
                </a:lnTo>
                <a:close/>
              </a:path>
              <a:path fill="lighten" w="64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44" h="21600">
                <a:moveTo>
                  <a:pt x="25266" y="3794"/>
                </a:moveTo>
                <a:lnTo>
                  <a:pt x="39279" y="10800"/>
                </a:lnTo>
                <a:lnTo>
                  <a:pt x="252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04" name="AutoShape 23">
            <a:hlinkClick r:id="rId3"/>
          </p:cNvPr>
          <p:cNvSpPr/>
          <p:nvPr/>
        </p:nvSpPr>
        <p:spPr>
          <a:xfrm>
            <a:off x="1403280" y="2637000"/>
            <a:ext cx="2881440" cy="2376360"/>
          </a:xfrm>
          <a:custGeom>
            <a:avLst/>
            <a:gdLst>
              <a:gd name="textAreaLeft" fmla="*/ 153720 w 2881440"/>
              <a:gd name="textAreaRight" fmla="*/ 2727720 w 2881440"/>
              <a:gd name="textAreaTop" fmla="*/ 153720 h 2376360"/>
              <a:gd name="textAreaBottom" fmla="*/ 2222640 h 2376360"/>
            </a:gdLst>
            <a:ahLst/>
            <a:rect l="textAreaLeft" t="textAreaTop" r="textAreaRight" b="textAreaBottom"/>
            <a:pathLst>
              <a:path w="26190" h="21600">
                <a:moveTo>
                  <a:pt x="0" y="0"/>
                </a:moveTo>
                <a:lnTo>
                  <a:pt x="26190" y="0"/>
                </a:lnTo>
                <a:lnTo>
                  <a:pt x="26190" y="21600"/>
                </a:lnTo>
                <a:lnTo>
                  <a:pt x="0" y="21600"/>
                </a:lnTo>
                <a:close/>
              </a:path>
              <a:path fill="lightenLess" w="26190" h="21600">
                <a:moveTo>
                  <a:pt x="0" y="0"/>
                </a:moveTo>
                <a:lnTo>
                  <a:pt x="26190" y="0"/>
                </a:lnTo>
                <a:lnTo>
                  <a:pt x="24790" y="1400"/>
                </a:lnTo>
                <a:lnTo>
                  <a:pt x="1400" y="1400"/>
                </a:lnTo>
                <a:close/>
              </a:path>
              <a:path fill="darken" w="26190" h="21600">
                <a:moveTo>
                  <a:pt x="26190" y="0"/>
                </a:moveTo>
                <a:lnTo>
                  <a:pt x="26190" y="21600"/>
                </a:lnTo>
                <a:lnTo>
                  <a:pt x="24790" y="20200"/>
                </a:lnTo>
                <a:lnTo>
                  <a:pt x="24790" y="1400"/>
                </a:lnTo>
                <a:close/>
              </a:path>
              <a:path fill="darkenLess" w="26190" h="21600">
                <a:moveTo>
                  <a:pt x="26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90" y="20200"/>
                </a:lnTo>
                <a:close/>
              </a:path>
              <a:path fill="lighten" w="26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90" h="21600">
                <a:moveTo>
                  <a:pt x="6089" y="3794"/>
                </a:moveTo>
                <a:lnTo>
                  <a:pt x="20102" y="10800"/>
                </a:lnTo>
                <a:lnTo>
                  <a:pt x="60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5" name="WordArt 24" descr=""/>
          <p:cNvPicPr/>
          <p:nvPr/>
        </p:nvPicPr>
        <p:blipFill>
          <a:blip r:embed="rId4"/>
          <a:stretch/>
        </p:blipFill>
        <p:spPr>
          <a:xfrm>
            <a:off x="1401840" y="901800"/>
            <a:ext cx="3346200" cy="66492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4859280" y="1483920"/>
            <a:ext cx="4043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AutoShape 4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44" name="Picture 5" descr="Шнитке 1"/>
          <p:cNvPicPr/>
          <p:nvPr/>
        </p:nvPicPr>
        <p:blipFill>
          <a:blip r:embed="rId2"/>
          <a:stretch/>
        </p:blipFill>
        <p:spPr>
          <a:xfrm>
            <a:off x="1979640" y="1773360"/>
            <a:ext cx="2335320" cy="269388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6"/>
          <p:cNvSpPr/>
          <p:nvPr/>
        </p:nvSpPr>
        <p:spPr>
          <a:xfrm>
            <a:off x="2054160" y="458064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фред Шнитк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1547640" y="1916280"/>
            <a:ext cx="318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4" descr="b_4407"/>
          <p:cNvPicPr/>
          <p:nvPr/>
        </p:nvPicPr>
        <p:blipFill>
          <a:blip r:embed="rId1"/>
          <a:stretch/>
        </p:blipFill>
        <p:spPr>
          <a:xfrm>
            <a:off x="5003640" y="198900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5" descr="stockhausen"/>
          <p:cNvPicPr/>
          <p:nvPr/>
        </p:nvPicPr>
        <p:blipFill>
          <a:blip r:embed="rId2"/>
          <a:stretch/>
        </p:blipFill>
        <p:spPr>
          <a:xfrm>
            <a:off x="5003640" y="3933720"/>
            <a:ext cx="2428920" cy="1846440"/>
          </a:xfrm>
          <a:prstGeom prst="rect">
            <a:avLst/>
          </a:prstGeom>
          <a:ln w="0">
            <a:noFill/>
          </a:ln>
        </p:spPr>
      </p:pic>
      <p:sp>
        <p:nvSpPr>
          <p:cNvPr id="950" name="AutoShape 6">
            <a:hlinkClick r:id="rId3"/>
          </p:cNvPr>
          <p:cNvSpPr/>
          <p:nvPr/>
        </p:nvSpPr>
        <p:spPr>
          <a:xfrm>
            <a:off x="2268360" y="1916280"/>
            <a:ext cx="1582920" cy="1042920"/>
          </a:xfrm>
          <a:custGeom>
            <a:avLst/>
            <a:gdLst>
              <a:gd name="textAreaLeft" fmla="*/ 67320 w 1582920"/>
              <a:gd name="textAreaRight" fmla="*/ 1515600 w 158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2780" h="21600">
                <a:moveTo>
                  <a:pt x="0" y="0"/>
                </a:moveTo>
                <a:lnTo>
                  <a:pt x="32780" y="0"/>
                </a:lnTo>
                <a:lnTo>
                  <a:pt x="32780" y="21600"/>
                </a:lnTo>
                <a:lnTo>
                  <a:pt x="0" y="21600"/>
                </a:lnTo>
                <a:close/>
              </a:path>
              <a:path fill="lightenLess" w="32780" h="21600">
                <a:moveTo>
                  <a:pt x="0" y="0"/>
                </a:moveTo>
                <a:lnTo>
                  <a:pt x="32780" y="0"/>
                </a:lnTo>
                <a:lnTo>
                  <a:pt x="31380" y="1400"/>
                </a:lnTo>
                <a:lnTo>
                  <a:pt x="1400" y="1400"/>
                </a:lnTo>
                <a:close/>
              </a:path>
              <a:path fill="darken" w="32780" h="21600">
                <a:moveTo>
                  <a:pt x="32780" y="0"/>
                </a:moveTo>
                <a:lnTo>
                  <a:pt x="32780" y="21600"/>
                </a:lnTo>
                <a:lnTo>
                  <a:pt x="31380" y="20200"/>
                </a:lnTo>
                <a:lnTo>
                  <a:pt x="31380" y="1400"/>
                </a:lnTo>
                <a:close/>
              </a:path>
              <a:path fill="darkenLess" w="32780" h="21600">
                <a:moveTo>
                  <a:pt x="32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0" y="20200"/>
                </a:lnTo>
                <a:close/>
              </a:path>
              <a:path fill="lighten" w="32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0" h="21600">
                <a:moveTo>
                  <a:pt x="9384" y="3794"/>
                </a:moveTo>
                <a:lnTo>
                  <a:pt x="23397" y="10800"/>
                </a:lnTo>
                <a:lnTo>
                  <a:pt x="93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51" name="AutoShape 7">
            <a:hlinkClick r:id="rId4"/>
          </p:cNvPr>
          <p:cNvSpPr/>
          <p:nvPr/>
        </p:nvSpPr>
        <p:spPr>
          <a:xfrm>
            <a:off x="2340000" y="4437000"/>
            <a:ext cx="1944720" cy="1224000"/>
          </a:xfrm>
          <a:custGeom>
            <a:avLst/>
            <a:gdLst>
              <a:gd name="textAreaLeft" fmla="*/ 79200 w 1944720"/>
              <a:gd name="textAreaRight" fmla="*/ 1865520 w 1944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4315" h="21600">
                <a:moveTo>
                  <a:pt x="0" y="0"/>
                </a:moveTo>
                <a:lnTo>
                  <a:pt x="34315" y="0"/>
                </a:lnTo>
                <a:lnTo>
                  <a:pt x="34315" y="21600"/>
                </a:lnTo>
                <a:lnTo>
                  <a:pt x="0" y="21600"/>
                </a:lnTo>
                <a:close/>
              </a:path>
              <a:path fill="lightenLess" w="34315" h="21600">
                <a:moveTo>
                  <a:pt x="0" y="0"/>
                </a:moveTo>
                <a:lnTo>
                  <a:pt x="34315" y="0"/>
                </a:lnTo>
                <a:lnTo>
                  <a:pt x="32915" y="1400"/>
                </a:lnTo>
                <a:lnTo>
                  <a:pt x="1400" y="1400"/>
                </a:lnTo>
                <a:close/>
              </a:path>
              <a:path fill="darken" w="34315" h="21600">
                <a:moveTo>
                  <a:pt x="34315" y="0"/>
                </a:moveTo>
                <a:lnTo>
                  <a:pt x="34315" y="21600"/>
                </a:lnTo>
                <a:lnTo>
                  <a:pt x="32915" y="20200"/>
                </a:lnTo>
                <a:lnTo>
                  <a:pt x="32915" y="1400"/>
                </a:lnTo>
                <a:close/>
              </a:path>
              <a:path fill="darkenLess" w="34315" h="21600">
                <a:moveTo>
                  <a:pt x="34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15" y="20200"/>
                </a:lnTo>
                <a:close/>
              </a:path>
              <a:path fill="lighten" w="34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315" h="21600">
                <a:moveTo>
                  <a:pt x="10151" y="3794"/>
                </a:moveTo>
                <a:lnTo>
                  <a:pt x="24164" y="10800"/>
                </a:lnTo>
                <a:lnTo>
                  <a:pt x="1015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52" name="WordArt 8" descr=""/>
          <p:cNvPicPr/>
          <p:nvPr/>
        </p:nvPicPr>
        <p:blipFill>
          <a:blip r:embed="rId5"/>
          <a:stretch/>
        </p:blipFill>
        <p:spPr>
          <a:xfrm>
            <a:off x="1908000" y="835200"/>
            <a:ext cx="6602760" cy="695160"/>
          </a:xfrm>
          <a:prstGeom prst="rect">
            <a:avLst/>
          </a:prstGeom>
          <a:ln w="0">
            <a:noFill/>
          </a:ln>
        </p:spPr>
      </p:pic>
      <p:sp>
        <p:nvSpPr>
          <p:cNvPr id="9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932360" y="2205000"/>
            <a:ext cx="36734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4" descr="b_4407"/>
          <p:cNvPicPr/>
          <p:nvPr/>
        </p:nvPicPr>
        <p:blipFill>
          <a:blip r:embed="rId1"/>
          <a:stretch/>
        </p:blipFill>
        <p:spPr>
          <a:xfrm>
            <a:off x="468360" y="2349360"/>
            <a:ext cx="4246560" cy="3184560"/>
          </a:xfrm>
          <a:prstGeom prst="rect">
            <a:avLst/>
          </a:prstGeom>
          <a:ln w="0">
            <a:noFill/>
          </a:ln>
        </p:spPr>
      </p:pic>
      <p:pic>
        <p:nvPicPr>
          <p:cNvPr id="956" name="WordArt 5" descr=""/>
          <p:cNvPicPr/>
          <p:nvPr/>
        </p:nvPicPr>
        <p:blipFill>
          <a:blip r:embed="rId2"/>
          <a:stretch/>
        </p:blipFill>
        <p:spPr>
          <a:xfrm>
            <a:off x="2554200" y="689040"/>
            <a:ext cx="4254480" cy="1311120"/>
          </a:xfrm>
          <a:prstGeom prst="rect">
            <a:avLst/>
          </a:prstGeom>
          <a:ln w="0">
            <a:noFill/>
          </a:ln>
        </p:spPr>
      </p:pic>
      <p:sp>
        <p:nvSpPr>
          <p:cNvPr id="9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4427280" y="1125360"/>
            <a:ext cx="4043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AutoShape 5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0" name="Picture 6" descr="Шнитке"/>
          <p:cNvPicPr/>
          <p:nvPr/>
        </p:nvPicPr>
        <p:blipFill>
          <a:blip r:embed="rId2"/>
          <a:stretch/>
        </p:blipFill>
        <p:spPr>
          <a:xfrm>
            <a:off x="1332000" y="2276640"/>
            <a:ext cx="2666880" cy="3022560"/>
          </a:xfrm>
          <a:prstGeom prst="rect">
            <a:avLst/>
          </a:prstGeom>
          <a:ln w="0">
            <a:noFill/>
          </a:ln>
        </p:spPr>
      </p:pic>
      <p:sp>
        <p:nvSpPr>
          <p:cNvPr id="9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5219280" y="2349360"/>
            <a:ext cx="3745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5" descr="Карлхайнц Штокхаузен (Stockhausen)"/>
          <p:cNvPicPr/>
          <p:nvPr/>
        </p:nvPicPr>
        <p:blipFill>
          <a:blip r:embed="rId1"/>
          <a:stretch/>
        </p:blipFill>
        <p:spPr>
          <a:xfrm>
            <a:off x="900000" y="2565360"/>
            <a:ext cx="3990960" cy="3033720"/>
          </a:xfrm>
          <a:prstGeom prst="rect">
            <a:avLst/>
          </a:prstGeom>
          <a:ln w="0">
            <a:noFill/>
          </a:ln>
        </p:spPr>
      </p:pic>
      <p:pic>
        <p:nvPicPr>
          <p:cNvPr id="964" name="WordArt 6" descr=""/>
          <p:cNvPicPr/>
          <p:nvPr/>
        </p:nvPicPr>
        <p:blipFill>
          <a:blip r:embed="rId2"/>
          <a:stretch/>
        </p:blipFill>
        <p:spPr>
          <a:xfrm>
            <a:off x="2266920" y="835200"/>
            <a:ext cx="5737320" cy="1304640"/>
          </a:xfrm>
          <a:prstGeom prst="rect">
            <a:avLst/>
          </a:prstGeom>
          <a:ln w="0">
            <a:noFill/>
          </a:ln>
        </p:spPr>
      </p:pic>
      <p:sp>
        <p:nvSpPr>
          <p:cNvPr id="9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8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8" name="Picture 9" descr="штокх"/>
          <p:cNvPicPr/>
          <p:nvPr/>
        </p:nvPicPr>
        <p:blipFill>
          <a:blip r:embed="rId1"/>
          <a:stretch/>
        </p:blipFill>
        <p:spPr>
          <a:xfrm>
            <a:off x="1547640" y="2205000"/>
            <a:ext cx="2011680" cy="2816280"/>
          </a:xfrm>
          <a:prstGeom prst="rect">
            <a:avLst/>
          </a:prstGeom>
          <a:ln w="0">
            <a:noFill/>
          </a:ln>
        </p:spPr>
      </p:pic>
      <p:sp>
        <p:nvSpPr>
          <p:cNvPr id="9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130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Описание на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"/>
          <p:cNvSpPr/>
          <p:nvPr/>
        </p:nvSpPr>
        <p:spPr>
          <a:xfrm>
            <a:off x="1187280" y="1916280"/>
            <a:ext cx="4537080" cy="504720"/>
          </a:xfrm>
          <a:custGeom>
            <a:avLst/>
            <a:gdLst>
              <a:gd name="textAreaLeft" fmla="*/ 32400 w 4537080"/>
              <a:gd name="textAreaRight" fmla="*/ 4504680 w 4537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94046" h="21600">
                <a:moveTo>
                  <a:pt x="0" y="0"/>
                </a:moveTo>
                <a:lnTo>
                  <a:pt x="194046" y="0"/>
                </a:lnTo>
                <a:lnTo>
                  <a:pt x="194046" y="21600"/>
                </a:lnTo>
                <a:lnTo>
                  <a:pt x="0" y="21600"/>
                </a:lnTo>
                <a:close/>
              </a:path>
              <a:path fill="lightenLess" w="194046" h="21600">
                <a:moveTo>
                  <a:pt x="0" y="0"/>
                </a:moveTo>
                <a:lnTo>
                  <a:pt x="194046" y="0"/>
                </a:lnTo>
                <a:lnTo>
                  <a:pt x="192646" y="1400"/>
                </a:lnTo>
                <a:lnTo>
                  <a:pt x="1400" y="1400"/>
                </a:lnTo>
                <a:close/>
              </a:path>
              <a:path fill="darken" w="194046" h="21600">
                <a:moveTo>
                  <a:pt x="194046" y="0"/>
                </a:moveTo>
                <a:lnTo>
                  <a:pt x="194046" y="21600"/>
                </a:lnTo>
                <a:lnTo>
                  <a:pt x="192646" y="20200"/>
                </a:lnTo>
                <a:lnTo>
                  <a:pt x="192646" y="1400"/>
                </a:lnTo>
                <a:close/>
              </a:path>
              <a:path fill="darkenLess" w="194046" h="21600">
                <a:moveTo>
                  <a:pt x="19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646" y="20200"/>
                </a:lnTo>
                <a:close/>
              </a:path>
              <a:path fill="lighten" w="19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4046" h="21600">
                <a:moveTo>
                  <a:pt x="90016" y="3794"/>
                </a:moveTo>
                <a:lnTo>
                  <a:pt x="104029" y="10800"/>
                </a:lnTo>
                <a:lnTo>
                  <a:pt x="900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1187280" y="2637000"/>
            <a:ext cx="4680000" cy="431640"/>
          </a:xfrm>
          <a:custGeom>
            <a:avLst/>
            <a:gdLst>
              <a:gd name="textAreaLeft" fmla="*/ 27720 w 4680000"/>
              <a:gd name="textAreaRight" fmla="*/ 4652280 w 468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018" h="21600">
                <a:moveTo>
                  <a:pt x="0" y="0"/>
                </a:moveTo>
                <a:lnTo>
                  <a:pt x="234018" y="0"/>
                </a:lnTo>
                <a:lnTo>
                  <a:pt x="234018" y="21600"/>
                </a:lnTo>
                <a:lnTo>
                  <a:pt x="0" y="21600"/>
                </a:lnTo>
                <a:close/>
              </a:path>
              <a:path fill="lightenLess" w="234018" h="21600">
                <a:moveTo>
                  <a:pt x="0" y="0"/>
                </a:moveTo>
                <a:lnTo>
                  <a:pt x="234018" y="0"/>
                </a:lnTo>
                <a:lnTo>
                  <a:pt x="232618" y="1400"/>
                </a:lnTo>
                <a:lnTo>
                  <a:pt x="1400" y="1400"/>
                </a:lnTo>
                <a:close/>
              </a:path>
              <a:path fill="darken" w="234018" h="21600">
                <a:moveTo>
                  <a:pt x="234018" y="0"/>
                </a:moveTo>
                <a:lnTo>
                  <a:pt x="234018" y="21600"/>
                </a:lnTo>
                <a:lnTo>
                  <a:pt x="232618" y="20200"/>
                </a:lnTo>
                <a:lnTo>
                  <a:pt x="232618" y="1400"/>
                </a:lnTo>
                <a:close/>
              </a:path>
              <a:path fill="darkenLess" w="234018" h="21600">
                <a:moveTo>
                  <a:pt x="234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18" y="20200"/>
                </a:lnTo>
                <a:close/>
              </a:path>
              <a:path fill="lighten" w="234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8" h="21600">
                <a:moveTo>
                  <a:pt x="110003" y="3794"/>
                </a:moveTo>
                <a:lnTo>
                  <a:pt x="124015" y="10800"/>
                </a:lnTo>
                <a:lnTo>
                  <a:pt x="11000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3" name="Picture 10" descr="импр"/>
          <p:cNvPicPr/>
          <p:nvPr/>
        </p:nvPicPr>
        <p:blipFill>
          <a:blip r:embed="rId1"/>
          <a:stretch/>
        </p:blipFill>
        <p:spPr>
          <a:xfrm>
            <a:off x="3492360" y="3860640"/>
            <a:ext cx="3459240" cy="2252880"/>
          </a:xfrm>
          <a:prstGeom prst="rect">
            <a:avLst/>
          </a:prstGeom>
          <a:ln w="0">
            <a:noFill/>
          </a:ln>
        </p:spPr>
      </p:pic>
      <p:pic>
        <p:nvPicPr>
          <p:cNvPr id="974" name="WordArt 11" descr=""/>
          <p:cNvPicPr/>
          <p:nvPr/>
        </p:nvPicPr>
        <p:blipFill>
          <a:blip r:embed="rId2"/>
          <a:stretch/>
        </p:blipFill>
        <p:spPr>
          <a:xfrm>
            <a:off x="2541600" y="463680"/>
            <a:ext cx="4432320" cy="987120"/>
          </a:xfrm>
          <a:prstGeom prst="rect">
            <a:avLst/>
          </a:prstGeom>
          <a:ln w="0">
            <a:noFill/>
          </a:ln>
        </p:spPr>
      </p:pic>
      <p:sp>
        <p:nvSpPr>
          <p:cNvPr id="97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7" name="Picture 6" descr="Мессиане"/>
          <p:cNvPicPr/>
          <p:nvPr/>
        </p:nvPicPr>
        <p:blipFill>
          <a:blip r:embed="rId1"/>
          <a:stretch/>
        </p:blipFill>
        <p:spPr>
          <a:xfrm>
            <a:off x="5724360" y="2276640"/>
            <a:ext cx="2256120" cy="3219120"/>
          </a:xfrm>
          <a:prstGeom prst="rect">
            <a:avLst/>
          </a:prstGeom>
          <a:ln w="0">
            <a:noFill/>
          </a:ln>
        </p:spPr>
      </p:pic>
      <p:sp>
        <p:nvSpPr>
          <p:cNvPr id="978" name="Rectangle 7"/>
          <p:cNvSpPr/>
          <p:nvPr/>
        </p:nvSpPr>
        <p:spPr>
          <a:xfrm>
            <a:off x="6087240" y="558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. Мессиан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9" name="WordArt 9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5657760" cy="1047960"/>
          </a:xfrm>
          <a:prstGeom prst="rect">
            <a:avLst/>
          </a:prstGeom>
          <a:ln w="0">
            <a:noFill/>
          </a:ln>
        </p:spPr>
      </p:pic>
      <p:sp>
        <p:nvSpPr>
          <p:cNvPr id="9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388764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2" name="Picture 3" descr="BOB0274"/>
          <p:cNvPicPr/>
          <p:nvPr/>
        </p:nvPicPr>
        <p:blipFill>
          <a:blip r:embed="rId1"/>
          <a:stretch/>
        </p:blipFill>
        <p:spPr>
          <a:xfrm>
            <a:off x="4716360" y="476280"/>
            <a:ext cx="3076560" cy="21430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BOB0216"/>
          <p:cNvPicPr/>
          <p:nvPr/>
        </p:nvPicPr>
        <p:blipFill>
          <a:blip r:embed="rId2"/>
          <a:stretch/>
        </p:blipFill>
        <p:spPr>
          <a:xfrm>
            <a:off x="5580000" y="3716280"/>
            <a:ext cx="3102120" cy="2252880"/>
          </a:xfrm>
          <a:prstGeom prst="rect">
            <a:avLst/>
          </a:prstGeom>
          <a:ln w="0">
            <a:noFill/>
          </a:ln>
        </p:spPr>
      </p:pic>
      <p:sp>
        <p:nvSpPr>
          <p:cNvPr id="984" name="AutoShape 5"/>
          <p:cNvSpPr/>
          <p:nvPr/>
        </p:nvSpPr>
        <p:spPr>
          <a:xfrm>
            <a:off x="7596360" y="6021360"/>
            <a:ext cx="1547640" cy="836640"/>
          </a:xfrm>
          <a:custGeom>
            <a:avLst/>
            <a:gdLst>
              <a:gd name="textAreaLeft" fmla="*/ 54000 w 1547640"/>
              <a:gd name="textAreaRight" fmla="*/ 1493640 w 1547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948" h="21600">
                <a:moveTo>
                  <a:pt x="0" y="0"/>
                </a:moveTo>
                <a:lnTo>
                  <a:pt x="39948" y="0"/>
                </a:lnTo>
                <a:lnTo>
                  <a:pt x="39948" y="21600"/>
                </a:lnTo>
                <a:lnTo>
                  <a:pt x="0" y="21600"/>
                </a:lnTo>
                <a:close/>
              </a:path>
              <a:path fill="lightenLess" w="39948" h="21600">
                <a:moveTo>
                  <a:pt x="0" y="0"/>
                </a:moveTo>
                <a:lnTo>
                  <a:pt x="39948" y="0"/>
                </a:lnTo>
                <a:lnTo>
                  <a:pt x="38548" y="1400"/>
                </a:lnTo>
                <a:lnTo>
                  <a:pt x="1400" y="1400"/>
                </a:lnTo>
                <a:close/>
              </a:path>
              <a:path fill="darken" w="39948" h="21600">
                <a:moveTo>
                  <a:pt x="39948" y="0"/>
                </a:moveTo>
                <a:lnTo>
                  <a:pt x="39948" y="21600"/>
                </a:lnTo>
                <a:lnTo>
                  <a:pt x="38548" y="20200"/>
                </a:lnTo>
                <a:lnTo>
                  <a:pt x="38548" y="1400"/>
                </a:lnTo>
                <a:close/>
              </a:path>
              <a:path fill="darkenLess" w="39948" h="21600">
                <a:moveTo>
                  <a:pt x="3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48" y="20200"/>
                </a:lnTo>
                <a:close/>
              </a:path>
              <a:path fill="lighten" w="3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48" h="21600">
                <a:moveTo>
                  <a:pt x="19974" y="3837"/>
                </a:moveTo>
                <a:lnTo>
                  <a:pt x="22550" y="6448"/>
                </a:ln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lnTo>
                  <a:pt x="26937" y="10800"/>
                </a:lnTo>
                <a:lnTo>
                  <a:pt x="25283" y="10800"/>
                </a:lnTo>
                <a:lnTo>
                  <a:pt x="25283" y="17989"/>
                </a:lnTo>
                <a:lnTo>
                  <a:pt x="14665" y="17989"/>
                </a:lnTo>
                <a:lnTo>
                  <a:pt x="14665" y="10800"/>
                </a:lnTo>
                <a:lnTo>
                  <a:pt x="13011" y="10800"/>
                </a:lnTo>
                <a:close/>
              </a:path>
              <a:path fill="darkenLess" w="39948" h="21600">
                <a:moveTo>
                  <a:pt x="22550" y="6448"/>
                </a:move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close/>
              </a:path>
              <a:path fill="darkenLess" w="39948" h="21600">
                <a:moveTo>
                  <a:pt x="19052" y="14299"/>
                </a:moveTo>
                <a:lnTo>
                  <a:pt x="20897" y="14299"/>
                </a:lnTo>
                <a:lnTo>
                  <a:pt x="20897" y="17989"/>
                </a:lnTo>
                <a:lnTo>
                  <a:pt x="25283" y="17989"/>
                </a:lnTo>
                <a:lnTo>
                  <a:pt x="25283" y="10800"/>
                </a:lnTo>
                <a:lnTo>
                  <a:pt x="14665" y="10800"/>
                </a:lnTo>
                <a:lnTo>
                  <a:pt x="14665" y="17989"/>
                </a:lnTo>
                <a:lnTo>
                  <a:pt x="19052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45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лод Дебюс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орис Рав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7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5219640" y="1773360"/>
            <a:ext cx="1656000" cy="2168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6" descr="ravel"/>
          <p:cNvPicPr/>
          <p:nvPr/>
        </p:nvPicPr>
        <p:blipFill>
          <a:blip r:embed="rId2"/>
          <a:stretch/>
        </p:blipFill>
        <p:spPr>
          <a:xfrm>
            <a:off x="4788000" y="4365720"/>
            <a:ext cx="2576520" cy="2001600"/>
          </a:xfrm>
          <a:prstGeom prst="rect">
            <a:avLst/>
          </a:prstGeom>
          <a:ln w="0">
            <a:noFill/>
          </a:ln>
        </p:spPr>
      </p:pic>
      <p:sp>
        <p:nvSpPr>
          <p:cNvPr id="989" name="AutoShape 7"/>
          <p:cNvSpPr/>
          <p:nvPr/>
        </p:nvSpPr>
        <p:spPr>
          <a:xfrm>
            <a:off x="971640" y="1773360"/>
            <a:ext cx="3095640" cy="1042920"/>
          </a:xfrm>
          <a:custGeom>
            <a:avLst/>
            <a:gdLst>
              <a:gd name="textAreaLeft" fmla="*/ 67320 w 3095640"/>
              <a:gd name="textAreaRight" fmla="*/ 3028320 w 3095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4099" h="21600">
                <a:moveTo>
                  <a:pt x="0" y="0"/>
                </a:moveTo>
                <a:lnTo>
                  <a:pt x="64099" y="0"/>
                </a:lnTo>
                <a:lnTo>
                  <a:pt x="64099" y="21600"/>
                </a:lnTo>
                <a:lnTo>
                  <a:pt x="0" y="21600"/>
                </a:lnTo>
                <a:close/>
              </a:path>
              <a:path fill="lightenLess" w="64099" h="21600">
                <a:moveTo>
                  <a:pt x="0" y="0"/>
                </a:moveTo>
                <a:lnTo>
                  <a:pt x="64099" y="0"/>
                </a:lnTo>
                <a:lnTo>
                  <a:pt x="62699" y="1400"/>
                </a:lnTo>
                <a:lnTo>
                  <a:pt x="1400" y="1400"/>
                </a:lnTo>
                <a:close/>
              </a:path>
              <a:path fill="darken" w="64099" h="21600">
                <a:moveTo>
                  <a:pt x="64099" y="0"/>
                </a:moveTo>
                <a:lnTo>
                  <a:pt x="64099" y="21600"/>
                </a:lnTo>
                <a:lnTo>
                  <a:pt x="62699" y="20200"/>
                </a:lnTo>
                <a:lnTo>
                  <a:pt x="62699" y="1400"/>
                </a:lnTo>
                <a:close/>
              </a:path>
              <a:path fill="darkenLess" w="64099" h="21600">
                <a:moveTo>
                  <a:pt x="64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99" y="20200"/>
                </a:lnTo>
                <a:close/>
              </a:path>
              <a:path fill="lighten" w="64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99" h="21600">
                <a:moveTo>
                  <a:pt x="25043" y="3794"/>
                </a:moveTo>
                <a:lnTo>
                  <a:pt x="39056" y="10800"/>
                </a:lnTo>
                <a:lnTo>
                  <a:pt x="250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90" name="AutoShape 8"/>
          <p:cNvSpPr/>
          <p:nvPr/>
        </p:nvSpPr>
        <p:spPr>
          <a:xfrm>
            <a:off x="755640" y="3789360"/>
            <a:ext cx="3240000" cy="1042920"/>
          </a:xfrm>
          <a:custGeom>
            <a:avLst/>
            <a:gdLst>
              <a:gd name="textAreaLeft" fmla="*/ 67320 w 3240000"/>
              <a:gd name="textAreaRight" fmla="*/ 3172680 w 324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7088" h="21600">
                <a:moveTo>
                  <a:pt x="0" y="0"/>
                </a:moveTo>
                <a:lnTo>
                  <a:pt x="67088" y="0"/>
                </a:lnTo>
                <a:lnTo>
                  <a:pt x="67088" y="21600"/>
                </a:lnTo>
                <a:lnTo>
                  <a:pt x="0" y="21600"/>
                </a:lnTo>
                <a:close/>
              </a:path>
              <a:path fill="lightenLess" w="67088" h="21600">
                <a:moveTo>
                  <a:pt x="0" y="0"/>
                </a:moveTo>
                <a:lnTo>
                  <a:pt x="67088" y="0"/>
                </a:lnTo>
                <a:lnTo>
                  <a:pt x="65688" y="1400"/>
                </a:lnTo>
                <a:lnTo>
                  <a:pt x="1400" y="1400"/>
                </a:lnTo>
                <a:close/>
              </a:path>
              <a:path fill="darken" w="67088" h="21600">
                <a:moveTo>
                  <a:pt x="67088" y="0"/>
                </a:moveTo>
                <a:lnTo>
                  <a:pt x="67088" y="21600"/>
                </a:lnTo>
                <a:lnTo>
                  <a:pt x="65688" y="20200"/>
                </a:lnTo>
                <a:lnTo>
                  <a:pt x="65688" y="1400"/>
                </a:lnTo>
                <a:close/>
              </a:path>
              <a:path fill="darkenLess" w="67088" h="21600">
                <a:moveTo>
                  <a:pt x="6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88" y="20200"/>
                </a:lnTo>
                <a:close/>
              </a:path>
              <a:path fill="lighten" w="6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88" h="21600">
                <a:moveTo>
                  <a:pt x="26538" y="3794"/>
                </a:moveTo>
                <a:lnTo>
                  <a:pt x="40551" y="10800"/>
                </a:lnTo>
                <a:lnTo>
                  <a:pt x="265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91" name="WordArt 9" descr=""/>
          <p:cNvPicPr/>
          <p:nvPr/>
        </p:nvPicPr>
        <p:blipFill>
          <a:blip r:embed="rId3"/>
          <a:stretch/>
        </p:blipFill>
        <p:spPr>
          <a:xfrm>
            <a:off x="1182600" y="476280"/>
            <a:ext cx="6954840" cy="931680"/>
          </a:xfrm>
          <a:prstGeom prst="rect">
            <a:avLst/>
          </a:prstGeom>
          <a:ln w="0">
            <a:noFill/>
          </a:ln>
        </p:spPr>
      </p:pic>
      <p:sp>
        <p:nvSpPr>
          <p:cNvPr id="9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10920" y="2133720"/>
            <a:ext cx="747396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9" name="Picture 5" descr="J0153516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780000" y="4797360"/>
            <a:ext cx="1819080" cy="824040"/>
          </a:xfrm>
          <a:prstGeom prst="rect">
            <a:avLst/>
          </a:prstGeom>
          <a:ln w="0">
            <a:noFill/>
          </a:ln>
        </p:spPr>
      </p:pic>
      <p:pic>
        <p:nvPicPr>
          <p:cNvPr id="810" name="WordArt 6" descr=""/>
          <p:cNvPicPr/>
          <p:nvPr/>
        </p:nvPicPr>
        <p:blipFill>
          <a:blip r:embed="rId4"/>
          <a:stretch/>
        </p:blipFill>
        <p:spPr>
          <a:xfrm>
            <a:off x="3054240" y="549360"/>
            <a:ext cx="3144960" cy="117000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4895640" cy="432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4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6084720" y="2421000"/>
            <a:ext cx="2590920" cy="3394080"/>
          </a:xfrm>
          <a:prstGeom prst="rect">
            <a:avLst/>
          </a:prstGeom>
          <a:ln w="0">
            <a:noFill/>
          </a:ln>
        </p:spPr>
      </p:pic>
      <p:pic>
        <p:nvPicPr>
          <p:cNvPr id="995" name="WordArt 6" descr=""/>
          <p:cNvPicPr/>
          <p:nvPr/>
        </p:nvPicPr>
        <p:blipFill>
          <a:blip r:embed="rId2"/>
          <a:stretch/>
        </p:blipFill>
        <p:spPr>
          <a:xfrm>
            <a:off x="2914560" y="401760"/>
            <a:ext cx="3529080" cy="1304640"/>
          </a:xfrm>
          <a:prstGeom prst="rect">
            <a:avLst/>
          </a:prstGeom>
          <a:ln w="0">
            <a:noFill/>
          </a:ln>
        </p:spPr>
      </p:pic>
      <p:sp>
        <p:nvSpPr>
          <p:cNvPr id="99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8" name="Picture 4" descr="Клод Дебюсси"/>
          <p:cNvPicPr/>
          <p:nvPr/>
        </p:nvPicPr>
        <p:blipFill>
          <a:blip r:embed="rId1"/>
          <a:stretch/>
        </p:blipFill>
        <p:spPr>
          <a:xfrm>
            <a:off x="6012000" y="1341360"/>
            <a:ext cx="2173320" cy="3797280"/>
          </a:xfrm>
          <a:prstGeom prst="rect">
            <a:avLst/>
          </a:prstGeom>
          <a:ln w="0">
            <a:noFill/>
          </a:ln>
        </p:spPr>
      </p:pic>
      <p:sp>
        <p:nvSpPr>
          <p:cNvPr id="999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537080" cy="469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2" name="Picture 6" descr="21"/>
          <p:cNvPicPr/>
          <p:nvPr/>
        </p:nvPicPr>
        <p:blipFill>
          <a:blip r:embed="rId1"/>
          <a:stretch/>
        </p:blipFill>
        <p:spPr>
          <a:xfrm>
            <a:off x="5724360" y="2349360"/>
            <a:ext cx="2454480" cy="3629160"/>
          </a:xfrm>
          <a:prstGeom prst="rect">
            <a:avLst/>
          </a:prstGeom>
          <a:ln w="0">
            <a:noFill/>
          </a:ln>
        </p:spPr>
      </p:pic>
      <p:pic>
        <p:nvPicPr>
          <p:cNvPr id="1003" name="WordArt 7" descr=""/>
          <p:cNvPicPr/>
          <p:nvPr/>
        </p:nvPicPr>
        <p:blipFill>
          <a:blip r:embed="rId2"/>
          <a:stretch/>
        </p:blipFill>
        <p:spPr>
          <a:xfrm>
            <a:off x="2987640" y="401760"/>
            <a:ext cx="3400560" cy="1304640"/>
          </a:xfrm>
          <a:prstGeom prst="rect">
            <a:avLst/>
          </a:prstGeom>
          <a:ln w="0">
            <a:noFill/>
          </a:ln>
        </p:spPr>
      </p:pic>
      <p:sp>
        <p:nvSpPr>
          <p:cNvPr id="100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4249800" cy="597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6" name="Picture 4" descr="t_ravel"/>
          <p:cNvPicPr/>
          <p:nvPr/>
        </p:nvPicPr>
        <p:blipFill>
          <a:blip r:embed="rId1"/>
          <a:stretch/>
        </p:blipFill>
        <p:spPr>
          <a:xfrm>
            <a:off x="4859280" y="1700280"/>
            <a:ext cx="3960720" cy="2838240"/>
          </a:xfrm>
          <a:prstGeom prst="rect">
            <a:avLst/>
          </a:prstGeom>
          <a:ln w="0">
            <a:noFill/>
          </a:ln>
        </p:spPr>
      </p:pic>
      <p:sp>
        <p:nvSpPr>
          <p:cNvPr id="1007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0" name="WordArt 7" descr=""/>
          <p:cNvPicPr/>
          <p:nvPr/>
        </p:nvPicPr>
        <p:blipFill>
          <a:blip r:embed="rId1"/>
          <a:stretch/>
        </p:blipFill>
        <p:spPr>
          <a:xfrm>
            <a:off x="3481560" y="835200"/>
            <a:ext cx="2035080" cy="1116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" descr="Безымянный"/>
          <p:cNvPicPr/>
          <p:nvPr/>
        </p:nvPicPr>
        <p:blipFill>
          <a:blip r:embed="rId2"/>
          <a:stretch/>
        </p:blipFill>
        <p:spPr>
          <a:xfrm>
            <a:off x="6372360" y="3429000"/>
            <a:ext cx="1903320" cy="2805120"/>
          </a:xfrm>
          <a:prstGeom prst="rect">
            <a:avLst/>
          </a:prstGeom>
          <a:ln w="0">
            <a:noFill/>
          </a:ln>
        </p:spPr>
      </p:pic>
      <p:sp>
        <p:nvSpPr>
          <p:cNvPr id="1012" name="AutoShape 10"/>
          <p:cNvSpPr/>
          <p:nvPr/>
        </p:nvSpPr>
        <p:spPr>
          <a:xfrm>
            <a:off x="1042920" y="2421000"/>
            <a:ext cx="4969080" cy="574560"/>
          </a:xfrm>
          <a:custGeom>
            <a:avLst/>
            <a:gdLst>
              <a:gd name="textAreaLeft" fmla="*/ 37080 w 4969080"/>
              <a:gd name="textAreaRight" fmla="*/ 4932000 w 4969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86704" h="21600">
                <a:moveTo>
                  <a:pt x="0" y="0"/>
                </a:moveTo>
                <a:lnTo>
                  <a:pt x="186704" y="0"/>
                </a:lnTo>
                <a:lnTo>
                  <a:pt x="186704" y="21600"/>
                </a:lnTo>
                <a:lnTo>
                  <a:pt x="0" y="21600"/>
                </a:lnTo>
                <a:close/>
              </a:path>
              <a:path fill="lightenLess" w="186704" h="21600">
                <a:moveTo>
                  <a:pt x="0" y="0"/>
                </a:moveTo>
                <a:lnTo>
                  <a:pt x="186704" y="0"/>
                </a:lnTo>
                <a:lnTo>
                  <a:pt x="185304" y="1400"/>
                </a:lnTo>
                <a:lnTo>
                  <a:pt x="1400" y="1400"/>
                </a:lnTo>
                <a:close/>
              </a:path>
              <a:path fill="darken" w="186704" h="21600">
                <a:moveTo>
                  <a:pt x="186704" y="0"/>
                </a:moveTo>
                <a:lnTo>
                  <a:pt x="186704" y="21600"/>
                </a:lnTo>
                <a:lnTo>
                  <a:pt x="185304" y="20200"/>
                </a:lnTo>
                <a:lnTo>
                  <a:pt x="185304" y="1400"/>
                </a:lnTo>
                <a:close/>
              </a:path>
              <a:path fill="darkenLess" w="186704" h="21600">
                <a:moveTo>
                  <a:pt x="18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304" y="20200"/>
                </a:lnTo>
                <a:close/>
              </a:path>
              <a:path fill="lighten" w="18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704" h="21600">
                <a:moveTo>
                  <a:pt x="86346" y="3794"/>
                </a:moveTo>
                <a:lnTo>
                  <a:pt x="100359" y="10800"/>
                </a:lnTo>
                <a:lnTo>
                  <a:pt x="863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3" name="AutoShape 11"/>
          <p:cNvSpPr/>
          <p:nvPr/>
        </p:nvSpPr>
        <p:spPr>
          <a:xfrm>
            <a:off x="900000" y="3068640"/>
            <a:ext cx="5112000" cy="504720"/>
          </a:xfrm>
          <a:custGeom>
            <a:avLst/>
            <a:gdLst>
              <a:gd name="textAreaLeft" fmla="*/ 32400 w 5112000"/>
              <a:gd name="textAreaRight" fmla="*/ 5079600 w 511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8633" h="21600">
                <a:moveTo>
                  <a:pt x="0" y="0"/>
                </a:moveTo>
                <a:lnTo>
                  <a:pt x="218633" y="0"/>
                </a:lnTo>
                <a:lnTo>
                  <a:pt x="218633" y="21600"/>
                </a:lnTo>
                <a:lnTo>
                  <a:pt x="0" y="21600"/>
                </a:lnTo>
                <a:close/>
              </a:path>
              <a:path fill="lightenLess" w="218633" h="21600">
                <a:moveTo>
                  <a:pt x="0" y="0"/>
                </a:moveTo>
                <a:lnTo>
                  <a:pt x="218633" y="0"/>
                </a:lnTo>
                <a:lnTo>
                  <a:pt x="217233" y="1400"/>
                </a:lnTo>
                <a:lnTo>
                  <a:pt x="1400" y="1400"/>
                </a:lnTo>
                <a:close/>
              </a:path>
              <a:path fill="darken" w="218633" h="21600">
                <a:moveTo>
                  <a:pt x="218633" y="0"/>
                </a:moveTo>
                <a:lnTo>
                  <a:pt x="218633" y="21600"/>
                </a:lnTo>
                <a:lnTo>
                  <a:pt x="217233" y="20200"/>
                </a:lnTo>
                <a:lnTo>
                  <a:pt x="217233" y="1400"/>
                </a:lnTo>
                <a:close/>
              </a:path>
              <a:path fill="darkenLess" w="218633" h="21600">
                <a:moveTo>
                  <a:pt x="218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233" y="20200"/>
                </a:lnTo>
                <a:close/>
              </a:path>
              <a:path fill="lighten" w="218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33" h="21600">
                <a:moveTo>
                  <a:pt x="102310" y="3794"/>
                </a:moveTo>
                <a:lnTo>
                  <a:pt x="116323" y="10800"/>
                </a:lnTo>
                <a:lnTo>
                  <a:pt x="1023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755280" y="1628640"/>
            <a:ext cx="504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6" name="Picture 8" descr="Nirvana "/>
          <p:cNvPicPr/>
          <p:nvPr/>
        </p:nvPicPr>
        <p:blipFill>
          <a:blip r:embed="rId1"/>
          <a:stretch/>
        </p:blipFill>
        <p:spPr>
          <a:xfrm>
            <a:off x="6084720" y="2060640"/>
            <a:ext cx="2306880" cy="3601800"/>
          </a:xfrm>
          <a:prstGeom prst="rect">
            <a:avLst/>
          </a:prstGeom>
          <a:ln w="0">
            <a:noFill/>
          </a:ln>
        </p:spPr>
      </p:pic>
      <p:pic>
        <p:nvPicPr>
          <p:cNvPr id="1017" name="WordArt 9" descr=""/>
          <p:cNvPicPr/>
          <p:nvPr/>
        </p:nvPicPr>
        <p:blipFill>
          <a:blip r:embed="rId2"/>
          <a:stretch/>
        </p:blipFill>
        <p:spPr>
          <a:xfrm>
            <a:off x="1755720" y="609480"/>
            <a:ext cx="5730840" cy="70668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11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3671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Beat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x Pisto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ep Purpl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1" name="WordArt 7" descr=""/>
          <p:cNvPicPr/>
          <p:nvPr/>
        </p:nvPicPr>
        <p:blipFill>
          <a:blip r:embed="rId1"/>
          <a:stretch/>
        </p:blipFill>
        <p:spPr>
          <a:xfrm>
            <a:off x="1689120" y="689040"/>
            <a:ext cx="6192720" cy="981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Beatles 2"/>
          <p:cNvPicPr/>
          <p:nvPr/>
        </p:nvPicPr>
        <p:blipFill>
          <a:blip r:embed="rId2"/>
          <a:stretch/>
        </p:blipFill>
        <p:spPr>
          <a:xfrm>
            <a:off x="4140360" y="2276640"/>
            <a:ext cx="3670200" cy="3301920"/>
          </a:xfrm>
          <a:prstGeom prst="rect">
            <a:avLst/>
          </a:prstGeom>
          <a:ln w="0">
            <a:noFill/>
          </a:ln>
        </p:spPr>
      </p:pic>
      <p:sp>
        <p:nvSpPr>
          <p:cNvPr id="1023" name="AutoShape 10"/>
          <p:cNvSpPr/>
          <p:nvPr/>
        </p:nvSpPr>
        <p:spPr>
          <a:xfrm>
            <a:off x="1258920" y="2276640"/>
            <a:ext cx="2160720" cy="64908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71876" h="21600">
                <a:moveTo>
                  <a:pt x="0" y="0"/>
                </a:moveTo>
                <a:lnTo>
                  <a:pt x="71876" y="0"/>
                </a:lnTo>
                <a:lnTo>
                  <a:pt x="71876" y="21600"/>
                </a:lnTo>
                <a:lnTo>
                  <a:pt x="0" y="21600"/>
                </a:lnTo>
                <a:close/>
              </a:path>
              <a:path fill="lightenLess" w="71876" h="21600">
                <a:moveTo>
                  <a:pt x="0" y="0"/>
                </a:moveTo>
                <a:lnTo>
                  <a:pt x="71876" y="0"/>
                </a:lnTo>
                <a:lnTo>
                  <a:pt x="70476" y="1400"/>
                </a:lnTo>
                <a:lnTo>
                  <a:pt x="1400" y="1400"/>
                </a:lnTo>
                <a:close/>
              </a:path>
              <a:path fill="darken" w="71876" h="21600">
                <a:moveTo>
                  <a:pt x="71876" y="0"/>
                </a:moveTo>
                <a:lnTo>
                  <a:pt x="71876" y="21600"/>
                </a:lnTo>
                <a:lnTo>
                  <a:pt x="70476" y="20200"/>
                </a:lnTo>
                <a:lnTo>
                  <a:pt x="70476" y="1400"/>
                </a:lnTo>
                <a:close/>
              </a:path>
              <a:path fill="darkenLess" w="71876" h="21600">
                <a:moveTo>
                  <a:pt x="7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76" y="20200"/>
                </a:lnTo>
                <a:close/>
              </a:path>
              <a:path fill="lighten" w="7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76" h="21600">
                <a:moveTo>
                  <a:pt x="28932" y="3794"/>
                </a:moveTo>
                <a:lnTo>
                  <a:pt x="42945" y="10800"/>
                </a:lnTo>
                <a:lnTo>
                  <a:pt x="2893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1258920" y="3284640"/>
            <a:ext cx="2160720" cy="720720"/>
          </a:xfrm>
          <a:custGeom>
            <a:avLst/>
            <a:gdLst>
              <a:gd name="textAreaLeft" fmla="*/ 46440 w 2160720"/>
              <a:gd name="textAreaRight" fmla="*/ 2114280 w 216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4735" h="21600">
                <a:moveTo>
                  <a:pt x="0" y="0"/>
                </a:moveTo>
                <a:lnTo>
                  <a:pt x="64735" y="0"/>
                </a:lnTo>
                <a:lnTo>
                  <a:pt x="64735" y="21600"/>
                </a:lnTo>
                <a:lnTo>
                  <a:pt x="0" y="21600"/>
                </a:lnTo>
                <a:close/>
              </a:path>
              <a:path fill="lightenLess" w="64735" h="21600">
                <a:moveTo>
                  <a:pt x="0" y="0"/>
                </a:moveTo>
                <a:lnTo>
                  <a:pt x="64735" y="0"/>
                </a:lnTo>
                <a:lnTo>
                  <a:pt x="63335" y="1400"/>
                </a:lnTo>
                <a:lnTo>
                  <a:pt x="1400" y="1400"/>
                </a:lnTo>
                <a:close/>
              </a:path>
              <a:path fill="darken" w="64735" h="21600">
                <a:moveTo>
                  <a:pt x="64735" y="0"/>
                </a:moveTo>
                <a:lnTo>
                  <a:pt x="64735" y="21600"/>
                </a:lnTo>
                <a:lnTo>
                  <a:pt x="63335" y="20200"/>
                </a:lnTo>
                <a:lnTo>
                  <a:pt x="63335" y="1400"/>
                </a:lnTo>
                <a:close/>
              </a:path>
              <a:path fill="darkenLess" w="64735" h="21600">
                <a:moveTo>
                  <a:pt x="64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5" y="20200"/>
                </a:lnTo>
                <a:close/>
              </a:path>
              <a:path fill="lighten" w="64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5" h="21600">
                <a:moveTo>
                  <a:pt x="25361" y="3794"/>
                </a:moveTo>
                <a:lnTo>
                  <a:pt x="39374" y="10800"/>
                </a:lnTo>
                <a:lnTo>
                  <a:pt x="253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5" name="AutoShape 12"/>
          <p:cNvSpPr/>
          <p:nvPr/>
        </p:nvSpPr>
        <p:spPr>
          <a:xfrm>
            <a:off x="1258920" y="4437000"/>
            <a:ext cx="2233440" cy="504720"/>
          </a:xfrm>
          <a:custGeom>
            <a:avLst/>
            <a:gdLst>
              <a:gd name="textAreaLeft" fmla="*/ 32400 w 2233440"/>
              <a:gd name="textAreaRight" fmla="*/ 2201040 w 2233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530" h="21600">
                <a:moveTo>
                  <a:pt x="0" y="0"/>
                </a:moveTo>
                <a:lnTo>
                  <a:pt x="95530" y="0"/>
                </a:lnTo>
                <a:lnTo>
                  <a:pt x="95530" y="21600"/>
                </a:lnTo>
                <a:lnTo>
                  <a:pt x="0" y="21600"/>
                </a:lnTo>
                <a:close/>
              </a:path>
              <a:path fill="lightenLess" w="95530" h="21600">
                <a:moveTo>
                  <a:pt x="0" y="0"/>
                </a:moveTo>
                <a:lnTo>
                  <a:pt x="95530" y="0"/>
                </a:lnTo>
                <a:lnTo>
                  <a:pt x="94130" y="1400"/>
                </a:lnTo>
                <a:lnTo>
                  <a:pt x="1400" y="1400"/>
                </a:lnTo>
                <a:close/>
              </a:path>
              <a:path fill="darken" w="95530" h="21600">
                <a:moveTo>
                  <a:pt x="95530" y="0"/>
                </a:moveTo>
                <a:lnTo>
                  <a:pt x="95530" y="21600"/>
                </a:lnTo>
                <a:lnTo>
                  <a:pt x="94130" y="20200"/>
                </a:lnTo>
                <a:lnTo>
                  <a:pt x="94130" y="1400"/>
                </a:lnTo>
                <a:close/>
              </a:path>
              <a:path fill="darkenLess" w="95530" h="21600">
                <a:moveTo>
                  <a:pt x="9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30" y="20200"/>
                </a:lnTo>
                <a:close/>
              </a:path>
              <a:path fill="lighten" w="9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530" h="21600">
                <a:moveTo>
                  <a:pt x="40758" y="3794"/>
                </a:moveTo>
                <a:lnTo>
                  <a:pt x="54771" y="10800"/>
                </a:lnTo>
                <a:lnTo>
                  <a:pt x="407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381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аверное, группа «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he Beatles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-ролл. Названи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«The Beatles»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они приобрели намного поздне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 в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апрел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1960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года в Шотландии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8" name="WordArt 6" descr=""/>
          <p:cNvPicPr/>
          <p:nvPr/>
        </p:nvPicPr>
        <p:blipFill>
          <a:blip r:embed="rId1"/>
          <a:stretch/>
        </p:blipFill>
        <p:spPr>
          <a:xfrm>
            <a:off x="3121200" y="609480"/>
            <a:ext cx="3047760" cy="67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81"/>
          <p:cNvPicPr/>
          <p:nvPr/>
        </p:nvPicPr>
        <p:blipFill>
          <a:blip r:embed="rId2"/>
          <a:stretch/>
        </p:blipFill>
        <p:spPr>
          <a:xfrm>
            <a:off x="4788000" y="1989000"/>
            <a:ext cx="3817800" cy="3262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374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ove me do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В 1970 году группа распалась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2" name="Picture 4" descr="Рисунок1"/>
          <p:cNvPicPr/>
          <p:nvPr/>
        </p:nvPicPr>
        <p:blipFill>
          <a:blip r:embed="rId1"/>
          <a:stretch/>
        </p:blipFill>
        <p:spPr>
          <a:xfrm>
            <a:off x="4500720" y="1413000"/>
            <a:ext cx="3752640" cy="3638520"/>
          </a:xfrm>
          <a:prstGeom prst="rect">
            <a:avLst/>
          </a:prstGeom>
          <a:ln w="0">
            <a:noFill/>
          </a:ln>
        </p:spPr>
      </p:pic>
      <p:sp>
        <p:nvSpPr>
          <p:cNvPr id="1033" name="AutoShape 5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920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6" name="WordArt 4" descr=""/>
          <p:cNvPicPr/>
          <p:nvPr/>
        </p:nvPicPr>
        <p:blipFill>
          <a:blip r:embed="rId1"/>
          <a:stretch/>
        </p:blipFill>
        <p:spPr>
          <a:xfrm>
            <a:off x="3340080" y="426960"/>
            <a:ext cx="2895480" cy="768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" descr="sex-pistols-050523"/>
          <p:cNvPicPr/>
          <p:nvPr/>
        </p:nvPicPr>
        <p:blipFill>
          <a:blip r:embed="rId2"/>
          <a:stretch/>
        </p:blipFill>
        <p:spPr>
          <a:xfrm>
            <a:off x="2411280" y="3860640"/>
            <a:ext cx="4394160" cy="2592720"/>
          </a:xfrm>
          <a:prstGeom prst="rect">
            <a:avLst/>
          </a:prstGeom>
          <a:ln w="0">
            <a:noFill/>
          </a:ln>
        </p:spPr>
      </p:pic>
      <p:sp>
        <p:nvSpPr>
          <p:cNvPr id="1038" name="AutoShape 10"/>
          <p:cNvSpPr/>
          <p:nvPr/>
        </p:nvSpPr>
        <p:spPr>
          <a:xfrm>
            <a:off x="8101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395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Экс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Дж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вангард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м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7" descr="119"/>
          <p:cNvPicPr/>
          <p:nvPr/>
        </p:nvPicPr>
        <p:blipFill>
          <a:blip r:embed="rId1"/>
          <a:stretch/>
        </p:blipFill>
        <p:spPr>
          <a:xfrm>
            <a:off x="4648320" y="2585880"/>
            <a:ext cx="4038480" cy="290376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11">
            <a:hlinkClick r:id="rId2"/>
          </p:cNvPr>
          <p:cNvSpPr/>
          <p:nvPr/>
        </p:nvSpPr>
        <p:spPr>
          <a:xfrm>
            <a:off x="826920" y="2133720"/>
            <a:ext cx="2089440" cy="649080"/>
          </a:xfrm>
          <a:custGeom>
            <a:avLst/>
            <a:gdLst>
              <a:gd name="textAreaLeft" fmla="*/ 41760 w 2089440"/>
              <a:gd name="textAreaRight" fmla="*/ 2047680 w 20894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69506" h="21600">
                <a:moveTo>
                  <a:pt x="0" y="0"/>
                </a:moveTo>
                <a:lnTo>
                  <a:pt x="69506" y="0"/>
                </a:lnTo>
                <a:lnTo>
                  <a:pt x="69506" y="21600"/>
                </a:lnTo>
                <a:lnTo>
                  <a:pt x="0" y="21600"/>
                </a:lnTo>
                <a:close/>
              </a:path>
              <a:path fill="lightenLess" w="69506" h="21600">
                <a:moveTo>
                  <a:pt x="0" y="0"/>
                </a:moveTo>
                <a:lnTo>
                  <a:pt x="69506" y="0"/>
                </a:lnTo>
                <a:lnTo>
                  <a:pt x="68106" y="1400"/>
                </a:lnTo>
                <a:lnTo>
                  <a:pt x="1400" y="1400"/>
                </a:lnTo>
                <a:close/>
              </a:path>
              <a:path fill="darken" w="69506" h="21600">
                <a:moveTo>
                  <a:pt x="69506" y="0"/>
                </a:moveTo>
                <a:lnTo>
                  <a:pt x="69506" y="21600"/>
                </a:lnTo>
                <a:lnTo>
                  <a:pt x="68106" y="20200"/>
                </a:lnTo>
                <a:lnTo>
                  <a:pt x="68106" y="1400"/>
                </a:lnTo>
                <a:close/>
              </a:path>
              <a:path fill="darkenLess" w="69506" h="21600">
                <a:moveTo>
                  <a:pt x="69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06" y="20200"/>
                </a:lnTo>
                <a:close/>
              </a:path>
              <a:path fill="lighten" w="69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506" h="21600">
                <a:moveTo>
                  <a:pt x="27746" y="3794"/>
                </a:moveTo>
                <a:lnTo>
                  <a:pt x="41759" y="10800"/>
                </a:lnTo>
                <a:lnTo>
                  <a:pt x="277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5" name="AutoShape 12">
            <a:hlinkClick r:id="rId3"/>
          </p:cNvPr>
          <p:cNvSpPr/>
          <p:nvPr/>
        </p:nvSpPr>
        <p:spPr>
          <a:xfrm>
            <a:off x="826920" y="3357720"/>
            <a:ext cx="1332000" cy="502920"/>
          </a:xfrm>
          <a:custGeom>
            <a:avLst/>
            <a:gdLst>
              <a:gd name="textAreaLeft" fmla="*/ 32400 w 1332000"/>
              <a:gd name="textAreaRight" fmla="*/ 1299600 w 133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7183" h="21600">
                <a:moveTo>
                  <a:pt x="0" y="0"/>
                </a:moveTo>
                <a:lnTo>
                  <a:pt x="57183" y="0"/>
                </a:lnTo>
                <a:lnTo>
                  <a:pt x="57183" y="21600"/>
                </a:lnTo>
                <a:lnTo>
                  <a:pt x="0" y="21600"/>
                </a:lnTo>
                <a:close/>
              </a:path>
              <a:path fill="lightenLess" w="57183" h="21600">
                <a:moveTo>
                  <a:pt x="0" y="0"/>
                </a:moveTo>
                <a:lnTo>
                  <a:pt x="57183" y="0"/>
                </a:lnTo>
                <a:lnTo>
                  <a:pt x="55783" y="1400"/>
                </a:lnTo>
                <a:lnTo>
                  <a:pt x="1400" y="1400"/>
                </a:lnTo>
                <a:close/>
              </a:path>
              <a:path fill="darken" w="57183" h="21600">
                <a:moveTo>
                  <a:pt x="57183" y="0"/>
                </a:moveTo>
                <a:lnTo>
                  <a:pt x="57183" y="21600"/>
                </a:lnTo>
                <a:lnTo>
                  <a:pt x="55783" y="20200"/>
                </a:lnTo>
                <a:lnTo>
                  <a:pt x="55783" y="1400"/>
                </a:lnTo>
                <a:close/>
              </a:path>
              <a:path fill="darkenLess" w="57183" h="21600">
                <a:moveTo>
                  <a:pt x="57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783" y="20200"/>
                </a:lnTo>
                <a:close/>
              </a:path>
              <a:path fill="lighten" w="57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183" h="21600">
                <a:moveTo>
                  <a:pt x="21585" y="3794"/>
                </a:moveTo>
                <a:lnTo>
                  <a:pt x="35598" y="10800"/>
                </a:lnTo>
                <a:lnTo>
                  <a:pt x="215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6" name="AutoShape 13">
            <a:hlinkClick r:id="rId4"/>
          </p:cNvPr>
          <p:cNvSpPr/>
          <p:nvPr/>
        </p:nvSpPr>
        <p:spPr>
          <a:xfrm>
            <a:off x="900000" y="3933720"/>
            <a:ext cx="2519640" cy="505080"/>
          </a:xfrm>
          <a:custGeom>
            <a:avLst/>
            <a:gdLst>
              <a:gd name="textAreaLeft" fmla="*/ 32400 w 2519640"/>
              <a:gd name="textAreaRight" fmla="*/ 2486880 w 2519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107692" h="21600">
                <a:moveTo>
                  <a:pt x="0" y="0"/>
                </a:moveTo>
                <a:lnTo>
                  <a:pt x="107692" y="0"/>
                </a:lnTo>
                <a:lnTo>
                  <a:pt x="107692" y="21600"/>
                </a:lnTo>
                <a:lnTo>
                  <a:pt x="0" y="21600"/>
                </a:lnTo>
                <a:close/>
              </a:path>
              <a:path fill="lightenLess" w="107692" h="21600">
                <a:moveTo>
                  <a:pt x="0" y="0"/>
                </a:moveTo>
                <a:lnTo>
                  <a:pt x="107692" y="0"/>
                </a:lnTo>
                <a:lnTo>
                  <a:pt x="106292" y="1400"/>
                </a:lnTo>
                <a:lnTo>
                  <a:pt x="1400" y="1400"/>
                </a:lnTo>
                <a:close/>
              </a:path>
              <a:path fill="darken" w="107692" h="21600">
                <a:moveTo>
                  <a:pt x="107692" y="0"/>
                </a:moveTo>
                <a:lnTo>
                  <a:pt x="107692" y="21600"/>
                </a:lnTo>
                <a:lnTo>
                  <a:pt x="106292" y="20200"/>
                </a:lnTo>
                <a:lnTo>
                  <a:pt x="106292" y="1400"/>
                </a:lnTo>
                <a:close/>
              </a:path>
              <a:path fill="darkenLess" w="107692" h="21600">
                <a:moveTo>
                  <a:pt x="10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292" y="20200"/>
                </a:lnTo>
                <a:close/>
              </a:path>
              <a:path fill="lighten" w="10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692" h="21600">
                <a:moveTo>
                  <a:pt x="46840" y="3794"/>
                </a:moveTo>
                <a:lnTo>
                  <a:pt x="60853" y="10800"/>
                </a:lnTo>
                <a:lnTo>
                  <a:pt x="4684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7" name="AutoShape 14">
            <a:hlinkClick r:id="rId5"/>
          </p:cNvPr>
          <p:cNvSpPr/>
          <p:nvPr/>
        </p:nvSpPr>
        <p:spPr>
          <a:xfrm>
            <a:off x="755640" y="4508640"/>
            <a:ext cx="3024360" cy="576000"/>
          </a:xfrm>
          <a:custGeom>
            <a:avLst/>
            <a:gdLst>
              <a:gd name="textAreaLeft" fmla="*/ 37080 w 3024360"/>
              <a:gd name="textAreaRight" fmla="*/ 2987280 w 302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13356" h="21600">
                <a:moveTo>
                  <a:pt x="0" y="0"/>
                </a:moveTo>
                <a:lnTo>
                  <a:pt x="113356" y="0"/>
                </a:lnTo>
                <a:lnTo>
                  <a:pt x="113356" y="21600"/>
                </a:lnTo>
                <a:lnTo>
                  <a:pt x="0" y="21600"/>
                </a:lnTo>
                <a:close/>
              </a:path>
              <a:path fill="lightenLess" w="113356" h="21600">
                <a:moveTo>
                  <a:pt x="0" y="0"/>
                </a:moveTo>
                <a:lnTo>
                  <a:pt x="113356" y="0"/>
                </a:lnTo>
                <a:lnTo>
                  <a:pt x="111956" y="1400"/>
                </a:lnTo>
                <a:lnTo>
                  <a:pt x="1400" y="1400"/>
                </a:lnTo>
                <a:close/>
              </a:path>
              <a:path fill="darken" w="113356" h="21600">
                <a:moveTo>
                  <a:pt x="113356" y="0"/>
                </a:moveTo>
                <a:lnTo>
                  <a:pt x="113356" y="21600"/>
                </a:lnTo>
                <a:lnTo>
                  <a:pt x="111956" y="20200"/>
                </a:lnTo>
                <a:lnTo>
                  <a:pt x="111956" y="1400"/>
                </a:lnTo>
                <a:close/>
              </a:path>
              <a:path fill="darkenLess" w="113356" h="21600">
                <a:moveTo>
                  <a:pt x="113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56" y="20200"/>
                </a:lnTo>
                <a:close/>
              </a:path>
              <a:path fill="lighten" w="113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56" h="21600">
                <a:moveTo>
                  <a:pt x="49672" y="3794"/>
                </a:moveTo>
                <a:lnTo>
                  <a:pt x="63685" y="10800"/>
                </a:lnTo>
                <a:lnTo>
                  <a:pt x="4967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8" name="AutoShape 15">
            <a:hlinkClick r:id="rId6"/>
          </p:cNvPr>
          <p:cNvSpPr/>
          <p:nvPr/>
        </p:nvSpPr>
        <p:spPr>
          <a:xfrm>
            <a:off x="826920" y="2781360"/>
            <a:ext cx="3097440" cy="503280"/>
          </a:xfrm>
          <a:custGeom>
            <a:avLst/>
            <a:gdLst>
              <a:gd name="textAreaLeft" fmla="*/ 32400 w 3097440"/>
              <a:gd name="textAreaRight" fmla="*/ 3065040 w 3097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32858" h="21600">
                <a:moveTo>
                  <a:pt x="0" y="0"/>
                </a:moveTo>
                <a:lnTo>
                  <a:pt x="132858" y="0"/>
                </a:lnTo>
                <a:lnTo>
                  <a:pt x="132858" y="21600"/>
                </a:lnTo>
                <a:lnTo>
                  <a:pt x="0" y="21600"/>
                </a:lnTo>
                <a:close/>
              </a:path>
              <a:path fill="lightenLess" w="132858" h="21600">
                <a:moveTo>
                  <a:pt x="0" y="0"/>
                </a:moveTo>
                <a:lnTo>
                  <a:pt x="132858" y="0"/>
                </a:lnTo>
                <a:lnTo>
                  <a:pt x="131458" y="1400"/>
                </a:lnTo>
                <a:lnTo>
                  <a:pt x="1400" y="1400"/>
                </a:lnTo>
                <a:close/>
              </a:path>
              <a:path fill="darken" w="132858" h="21600">
                <a:moveTo>
                  <a:pt x="132858" y="0"/>
                </a:moveTo>
                <a:lnTo>
                  <a:pt x="132858" y="21600"/>
                </a:lnTo>
                <a:lnTo>
                  <a:pt x="131458" y="20200"/>
                </a:lnTo>
                <a:lnTo>
                  <a:pt x="131458" y="1400"/>
                </a:lnTo>
                <a:close/>
              </a:path>
              <a:path fill="darkenLess" w="132858" h="21600">
                <a:moveTo>
                  <a:pt x="132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458" y="20200"/>
                </a:lnTo>
                <a:close/>
              </a:path>
              <a:path fill="lighten" w="132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2858" h="21600">
                <a:moveTo>
                  <a:pt x="59422" y="3794"/>
                </a:moveTo>
                <a:lnTo>
                  <a:pt x="73435" y="10800"/>
                </a:lnTo>
                <a:lnTo>
                  <a:pt x="594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19" name="WordArt 17" descr=""/>
          <p:cNvPicPr/>
          <p:nvPr/>
        </p:nvPicPr>
        <p:blipFill>
          <a:blip r:embed="rId7"/>
          <a:stretch/>
        </p:blipFill>
        <p:spPr>
          <a:xfrm>
            <a:off x="1822320" y="603360"/>
            <a:ext cx="6486480" cy="658800"/>
          </a:xfrm>
          <a:prstGeom prst="rect">
            <a:avLst/>
          </a:prstGeom>
          <a:ln w="0">
            <a:noFill/>
          </a:ln>
        </p:spPr>
      </p:pic>
      <p:pic>
        <p:nvPicPr>
          <p:cNvPr id="820" name="WordArt 18" descr=""/>
          <p:cNvPicPr/>
          <p:nvPr/>
        </p:nvPicPr>
        <p:blipFill>
          <a:blip r:embed="rId8"/>
          <a:stretch/>
        </p:blipFill>
        <p:spPr>
          <a:xfrm>
            <a:off x="2468520" y="1328760"/>
            <a:ext cx="4633920" cy="658800"/>
          </a:xfrm>
          <a:prstGeom prst="rect">
            <a:avLst/>
          </a:prstGeom>
          <a:ln w="0">
            <a:noFill/>
          </a:ln>
        </p:spPr>
      </p:pic>
      <p:sp>
        <p:nvSpPr>
          <p:cNvPr id="821" name="AutoShape 19">
            <a:hlinkClick r:id="rId9"/>
          </p:cNvPr>
          <p:cNvSpPr/>
          <p:nvPr/>
        </p:nvSpPr>
        <p:spPr>
          <a:xfrm>
            <a:off x="611280" y="5084640"/>
            <a:ext cx="3168720" cy="57492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18989" h="21600">
                <a:moveTo>
                  <a:pt x="0" y="0"/>
                </a:moveTo>
                <a:lnTo>
                  <a:pt x="118989" y="0"/>
                </a:lnTo>
                <a:lnTo>
                  <a:pt x="118989" y="21600"/>
                </a:lnTo>
                <a:lnTo>
                  <a:pt x="0" y="21600"/>
                </a:lnTo>
                <a:close/>
              </a:path>
              <a:path fill="lightenLess" w="118989" h="21600">
                <a:moveTo>
                  <a:pt x="0" y="0"/>
                </a:moveTo>
                <a:lnTo>
                  <a:pt x="118989" y="0"/>
                </a:lnTo>
                <a:lnTo>
                  <a:pt x="117589" y="1400"/>
                </a:lnTo>
                <a:lnTo>
                  <a:pt x="1400" y="1400"/>
                </a:lnTo>
                <a:close/>
              </a:path>
              <a:path fill="darken" w="118989" h="21600">
                <a:moveTo>
                  <a:pt x="118989" y="0"/>
                </a:moveTo>
                <a:lnTo>
                  <a:pt x="118989" y="21600"/>
                </a:lnTo>
                <a:lnTo>
                  <a:pt x="117589" y="20200"/>
                </a:lnTo>
                <a:lnTo>
                  <a:pt x="117589" y="1400"/>
                </a:lnTo>
                <a:close/>
              </a:path>
              <a:path fill="darkenLess" w="118989" h="21600">
                <a:moveTo>
                  <a:pt x="118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589" y="20200"/>
                </a:lnTo>
                <a:close/>
              </a:path>
              <a:path fill="lighten" w="118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989" h="21600">
                <a:moveTo>
                  <a:pt x="52488" y="3794"/>
                </a:moveTo>
                <a:lnTo>
                  <a:pt x="66501" y="10800"/>
                </a:lnTo>
                <a:lnTo>
                  <a:pt x="524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302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1" name="WordArt 4" descr="Зеленый мрамор"/>
          <p:cNvPicPr/>
          <p:nvPr/>
        </p:nvPicPr>
        <p:blipFill>
          <a:blip r:embed="rId1"/>
          <a:stretch/>
        </p:blipFill>
        <p:spPr>
          <a:xfrm>
            <a:off x="2468520" y="676440"/>
            <a:ext cx="4292640" cy="877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dp"/>
          <p:cNvPicPr/>
          <p:nvPr/>
        </p:nvPicPr>
        <p:blipFill>
          <a:blip r:embed="rId2"/>
          <a:stretch/>
        </p:blipFill>
        <p:spPr>
          <a:xfrm>
            <a:off x="3924360" y="2133720"/>
            <a:ext cx="4692600" cy="3519360"/>
          </a:xfrm>
          <a:prstGeom prst="rect">
            <a:avLst/>
          </a:prstGeom>
          <a:ln w="0">
            <a:noFill/>
          </a:ln>
        </p:spPr>
      </p:pic>
      <p:sp>
        <p:nvSpPr>
          <p:cNvPr id="1043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4030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5" name="Picture 5" descr="composer607"/>
          <p:cNvPicPr/>
          <p:nvPr/>
        </p:nvPicPr>
        <p:blipFill>
          <a:blip r:embed="rId1"/>
          <a:stretch/>
        </p:blipFill>
        <p:spPr>
          <a:xfrm>
            <a:off x="5364000" y="1700280"/>
            <a:ext cx="2667240" cy="3284640"/>
          </a:xfrm>
          <a:prstGeom prst="rect">
            <a:avLst/>
          </a:prstGeom>
          <a:ln w="0">
            <a:noFill/>
          </a:ln>
        </p:spPr>
      </p:pic>
      <p:sp>
        <p:nvSpPr>
          <p:cNvPr id="104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7" descr="J0309705"/>
          <p:cNvPicPr/>
          <p:nvPr/>
        </p:nvPicPr>
        <p:blipFill>
          <a:blip r:embed="rId1"/>
          <a:stretch/>
        </p:blipFill>
        <p:spPr>
          <a:xfrm>
            <a:off x="1692360" y="3573360"/>
            <a:ext cx="5832360" cy="280836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8">
            <a:hlinkClick r:id="rId2"/>
          </p:cNvPr>
          <p:cNvSpPr/>
          <p:nvPr/>
        </p:nvSpPr>
        <p:spPr>
          <a:xfrm>
            <a:off x="611280" y="1916280"/>
            <a:ext cx="4968720" cy="576000"/>
          </a:xfrm>
          <a:custGeom>
            <a:avLst/>
            <a:gdLst>
              <a:gd name="textAreaLeft" fmla="*/ 37080 w 4968720"/>
              <a:gd name="textAreaRight" fmla="*/ 4931640 w 496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86224" h="21600">
                <a:moveTo>
                  <a:pt x="0" y="0"/>
                </a:moveTo>
                <a:lnTo>
                  <a:pt x="186224" y="0"/>
                </a:lnTo>
                <a:lnTo>
                  <a:pt x="186224" y="21600"/>
                </a:lnTo>
                <a:lnTo>
                  <a:pt x="0" y="21600"/>
                </a:lnTo>
                <a:close/>
              </a:path>
              <a:path fill="lightenLess" w="186224" h="21600">
                <a:moveTo>
                  <a:pt x="0" y="0"/>
                </a:moveTo>
                <a:lnTo>
                  <a:pt x="186224" y="0"/>
                </a:lnTo>
                <a:lnTo>
                  <a:pt x="184824" y="1400"/>
                </a:lnTo>
                <a:lnTo>
                  <a:pt x="1400" y="1400"/>
                </a:lnTo>
                <a:close/>
              </a:path>
              <a:path fill="darken" w="186224" h="21600">
                <a:moveTo>
                  <a:pt x="186224" y="0"/>
                </a:moveTo>
                <a:lnTo>
                  <a:pt x="186224" y="21600"/>
                </a:lnTo>
                <a:lnTo>
                  <a:pt x="184824" y="20200"/>
                </a:lnTo>
                <a:lnTo>
                  <a:pt x="184824" y="1400"/>
                </a:lnTo>
                <a:close/>
              </a:path>
              <a:path fill="darkenLess" w="186224" h="21600">
                <a:moveTo>
                  <a:pt x="18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24" y="20200"/>
                </a:lnTo>
                <a:close/>
              </a:path>
              <a:path fill="lighten" w="18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224" h="21600">
                <a:moveTo>
                  <a:pt x="86106" y="3794"/>
                </a:moveTo>
                <a:lnTo>
                  <a:pt x="100119" y="10800"/>
                </a:lnTo>
                <a:lnTo>
                  <a:pt x="861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6" name="AutoShape 9">
            <a:hlinkClick r:id="rId3"/>
          </p:cNvPr>
          <p:cNvSpPr/>
          <p:nvPr/>
        </p:nvSpPr>
        <p:spPr>
          <a:xfrm>
            <a:off x="684360" y="2565360"/>
            <a:ext cx="5040000" cy="504720"/>
          </a:xfrm>
          <a:custGeom>
            <a:avLst/>
            <a:gdLst>
              <a:gd name="textAreaLeft" fmla="*/ 32400 w 5040000"/>
              <a:gd name="textAreaRight" fmla="*/ 5007600 w 50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54" h="21600">
                <a:moveTo>
                  <a:pt x="0" y="0"/>
                </a:moveTo>
                <a:lnTo>
                  <a:pt x="215554" y="0"/>
                </a:lnTo>
                <a:lnTo>
                  <a:pt x="215554" y="21600"/>
                </a:lnTo>
                <a:lnTo>
                  <a:pt x="0" y="21600"/>
                </a:lnTo>
                <a:close/>
              </a:path>
              <a:path fill="lightenLess" w="215554" h="21600">
                <a:moveTo>
                  <a:pt x="0" y="0"/>
                </a:moveTo>
                <a:lnTo>
                  <a:pt x="215554" y="0"/>
                </a:lnTo>
                <a:lnTo>
                  <a:pt x="214154" y="1400"/>
                </a:lnTo>
                <a:lnTo>
                  <a:pt x="1400" y="1400"/>
                </a:lnTo>
                <a:close/>
              </a:path>
              <a:path fill="darken" w="215554" h="21600">
                <a:moveTo>
                  <a:pt x="215554" y="0"/>
                </a:moveTo>
                <a:lnTo>
                  <a:pt x="215554" y="21600"/>
                </a:lnTo>
                <a:lnTo>
                  <a:pt x="214154" y="20200"/>
                </a:lnTo>
                <a:lnTo>
                  <a:pt x="214154" y="1400"/>
                </a:lnTo>
                <a:close/>
              </a:path>
              <a:path fill="darkenLess" w="215554" h="21600">
                <a:moveTo>
                  <a:pt x="215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54" y="20200"/>
                </a:lnTo>
                <a:close/>
              </a:path>
              <a:path fill="lighten" w="215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54" h="21600">
                <a:moveTo>
                  <a:pt x="100770" y="3794"/>
                </a:moveTo>
                <a:lnTo>
                  <a:pt x="114783" y="10800"/>
                </a:lnTo>
                <a:lnTo>
                  <a:pt x="10077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27" name="WordArt 11" descr=""/>
          <p:cNvPicPr/>
          <p:nvPr/>
        </p:nvPicPr>
        <p:blipFill>
          <a:blip r:embed="rId4"/>
          <a:stretch/>
        </p:blipFill>
        <p:spPr>
          <a:xfrm>
            <a:off x="2914560" y="476280"/>
            <a:ext cx="3784680" cy="117648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851280" y="1773360"/>
            <a:ext cx="4308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Бриттен"/>
          <p:cNvPicPr/>
          <p:nvPr/>
        </p:nvPicPr>
        <p:blipFill>
          <a:blip r:embed="rId1"/>
          <a:stretch/>
        </p:blipFill>
        <p:spPr>
          <a:xfrm>
            <a:off x="755640" y="1916280"/>
            <a:ext cx="2451240" cy="330192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5"/>
          <p:cNvSpPr/>
          <p:nvPr/>
        </p:nvSpPr>
        <p:spPr>
          <a:xfrm>
            <a:off x="760320" y="5373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енджамин Бритте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32" name="WordArt 6" descr=""/>
          <p:cNvPicPr/>
          <p:nvPr/>
        </p:nvPicPr>
        <p:blipFill>
          <a:blip r:embed="rId2"/>
          <a:stretch/>
        </p:blipFill>
        <p:spPr>
          <a:xfrm>
            <a:off x="1542960" y="615960"/>
            <a:ext cx="6229440" cy="663480"/>
          </a:xfrm>
          <a:prstGeom prst="rect">
            <a:avLst/>
          </a:prstGeom>
          <a:ln w="0">
            <a:noFill/>
          </a:ln>
        </p:spPr>
      </p:pic>
      <p:sp>
        <p:nvSpPr>
          <p:cNvPr id="8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432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Сергей Прокофьев"/>
          <p:cNvPicPr/>
          <p:nvPr/>
        </p:nvPicPr>
        <p:blipFill>
          <a:blip r:embed="rId1"/>
          <a:stretch/>
        </p:blipFill>
        <p:spPr>
          <a:xfrm>
            <a:off x="5292720" y="1484280"/>
            <a:ext cx="2814480" cy="323712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7"/>
          <p:cNvSpPr/>
          <p:nvPr/>
        </p:nvSpPr>
        <p:spPr>
          <a:xfrm>
            <a:off x="5512680" y="486828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ергей Прокофьев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7" name="AutoShape 8">
            <a:hlinkClick r:id="rId2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446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5364000" y="1628640"/>
            <a:ext cx="1511640" cy="201636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13">
            <a:hlinkClick r:id="rId2"/>
          </p:cNvPr>
          <p:cNvSpPr/>
          <p:nvPr/>
        </p:nvSpPr>
        <p:spPr>
          <a:xfrm>
            <a:off x="1042920" y="1844640"/>
            <a:ext cx="3457800" cy="827280"/>
          </a:xfrm>
          <a:custGeom>
            <a:avLst/>
            <a:gdLst>
              <a:gd name="textAreaLeft" fmla="*/ 53640 w 3457800"/>
              <a:gd name="textAreaRight" fmla="*/ 3404160 w 345780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90252" h="21600">
                <a:moveTo>
                  <a:pt x="0" y="0"/>
                </a:moveTo>
                <a:lnTo>
                  <a:pt x="90252" y="0"/>
                </a:lnTo>
                <a:lnTo>
                  <a:pt x="90252" y="21600"/>
                </a:lnTo>
                <a:lnTo>
                  <a:pt x="0" y="21600"/>
                </a:lnTo>
                <a:close/>
              </a:path>
              <a:path fill="lightenLess" w="90252" h="21600">
                <a:moveTo>
                  <a:pt x="0" y="0"/>
                </a:moveTo>
                <a:lnTo>
                  <a:pt x="90252" y="0"/>
                </a:lnTo>
                <a:lnTo>
                  <a:pt x="88852" y="1400"/>
                </a:lnTo>
                <a:lnTo>
                  <a:pt x="1400" y="1400"/>
                </a:lnTo>
                <a:close/>
              </a:path>
              <a:path fill="darken" w="90252" h="21600">
                <a:moveTo>
                  <a:pt x="90252" y="0"/>
                </a:moveTo>
                <a:lnTo>
                  <a:pt x="90252" y="21600"/>
                </a:lnTo>
                <a:lnTo>
                  <a:pt x="88852" y="20200"/>
                </a:lnTo>
                <a:lnTo>
                  <a:pt x="88852" y="1400"/>
                </a:lnTo>
                <a:close/>
              </a:path>
              <a:path fill="darkenLess" w="90252" h="21600">
                <a:moveTo>
                  <a:pt x="9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2" y="20200"/>
                </a:lnTo>
                <a:close/>
              </a:path>
              <a:path fill="lighten" w="9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252" h="21600">
                <a:moveTo>
                  <a:pt x="38120" y="3794"/>
                </a:moveTo>
                <a:lnTo>
                  <a:pt x="52133" y="10800"/>
                </a:lnTo>
                <a:lnTo>
                  <a:pt x="381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42" name="AutoShape 14">
            <a:hlinkClick r:id="rId3"/>
          </p:cNvPr>
          <p:cNvSpPr/>
          <p:nvPr/>
        </p:nvSpPr>
        <p:spPr>
          <a:xfrm>
            <a:off x="1116000" y="4365720"/>
            <a:ext cx="3600360" cy="826920"/>
          </a:xfrm>
          <a:custGeom>
            <a:avLst/>
            <a:gdLst>
              <a:gd name="textAreaLeft" fmla="*/ 53280 w 3600360"/>
              <a:gd name="textAreaRight" fmla="*/ 3547080 w 360036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94014" h="21600">
                <a:moveTo>
                  <a:pt x="0" y="0"/>
                </a:moveTo>
                <a:lnTo>
                  <a:pt x="94014" y="0"/>
                </a:lnTo>
                <a:lnTo>
                  <a:pt x="94014" y="21600"/>
                </a:lnTo>
                <a:lnTo>
                  <a:pt x="0" y="21600"/>
                </a:lnTo>
                <a:close/>
              </a:path>
              <a:path fill="lightenLess" w="94014" h="21600">
                <a:moveTo>
                  <a:pt x="0" y="0"/>
                </a:moveTo>
                <a:lnTo>
                  <a:pt x="94014" y="0"/>
                </a:lnTo>
                <a:lnTo>
                  <a:pt x="92614" y="1400"/>
                </a:lnTo>
                <a:lnTo>
                  <a:pt x="1400" y="1400"/>
                </a:lnTo>
                <a:close/>
              </a:path>
              <a:path fill="darken" w="94014" h="21600">
                <a:moveTo>
                  <a:pt x="94014" y="0"/>
                </a:moveTo>
                <a:lnTo>
                  <a:pt x="94014" y="21600"/>
                </a:lnTo>
                <a:lnTo>
                  <a:pt x="92614" y="20200"/>
                </a:lnTo>
                <a:lnTo>
                  <a:pt x="92614" y="1400"/>
                </a:lnTo>
                <a:close/>
              </a:path>
              <a:path fill="darkenLess" w="94014" h="21600">
                <a:moveTo>
                  <a:pt x="9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614" y="20200"/>
                </a:lnTo>
                <a:close/>
              </a:path>
              <a:path fill="lighten" w="9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014" h="21600">
                <a:moveTo>
                  <a:pt x="40000" y="3794"/>
                </a:moveTo>
                <a:lnTo>
                  <a:pt x="54013" y="10800"/>
                </a:lnTo>
                <a:lnTo>
                  <a:pt x="400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43" name="Picture 15" descr="Шостакович 1"/>
          <p:cNvPicPr/>
          <p:nvPr/>
        </p:nvPicPr>
        <p:blipFill>
          <a:blip r:embed="rId4"/>
          <a:stretch/>
        </p:blipFill>
        <p:spPr>
          <a:xfrm>
            <a:off x="5364000" y="4005360"/>
            <a:ext cx="1565280" cy="1854000"/>
          </a:xfrm>
          <a:prstGeom prst="rect">
            <a:avLst/>
          </a:prstGeom>
          <a:ln w="0">
            <a:noFill/>
          </a:ln>
        </p:spPr>
      </p:pic>
      <p:pic>
        <p:nvPicPr>
          <p:cNvPr id="844" name="WordArt 20" descr=""/>
          <p:cNvPicPr/>
          <p:nvPr/>
        </p:nvPicPr>
        <p:blipFill>
          <a:blip r:embed="rId5"/>
          <a:stretch/>
        </p:blipFill>
        <p:spPr>
          <a:xfrm>
            <a:off x="1042920" y="476280"/>
            <a:ext cx="6881760" cy="882720"/>
          </a:xfrm>
          <a:prstGeom prst="rect">
            <a:avLst/>
          </a:prstGeom>
          <a:ln w="0">
            <a:noFill/>
          </a:ln>
        </p:spPr>
      </p:pic>
      <p:sp>
        <p:nvSpPr>
          <p:cNvPr id="8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9:37:33Z</dcterms:created>
  <dc:creator>Bulat</dc:creator>
  <dc:description/>
  <dc:language>en-US</dc:language>
  <cp:lastModifiedBy>LEGION</cp:lastModifiedBy>
  <dcterms:modified xsi:type="dcterms:W3CDTF">2015-04-02T06:56:17Z</dcterms:modified>
  <cp:revision>73</cp:revision>
  <dc:subject/>
  <dc:title>Слайд 1</dc:title>
</cp:coreProperties>
</file>