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jpeg" ContentType="image/jpeg"/>
  <Override PartName="/ppt/media/image23.png" ContentType="image/png"/>
  <Override PartName="/ppt/media/image50.png" ContentType="image/png"/>
  <Override PartName="/ppt/media/image49.jpeg" ContentType="image/jpeg"/>
  <Override PartName="/ppt/media/image4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png" ContentType="image/png"/>
  <Override PartName="/ppt/media/image44.jpeg" ContentType="image/jpeg"/>
  <Override PartName="/ppt/media/image43.png" ContentType="image/png"/>
  <Override PartName="/ppt/media/image40.png" ContentType="image/png"/>
  <Override PartName="/ppt/media/image38.jpeg" ContentType="image/jpeg"/>
  <Override PartName="/ppt/media/image37.jpeg" ContentType="image/jpeg"/>
  <Override PartName="/ppt/media/image36.png" ContentType="image/png"/>
  <Override PartName="/ppt/media/image31.png" ContentType="image/png"/>
  <Override PartName="/ppt/media/image30.jpeg" ContentType="image/jpeg"/>
  <Override PartName="/ppt/media/image39.png" ContentType="image/png"/>
  <Override PartName="/ppt/media/image64.jpeg" ContentType="image/jpeg"/>
  <Override PartName="/ppt/media/image29.jpeg" ContentType="image/jpeg"/>
  <Override PartName="/ppt/media/image18.jpeg" ContentType="image/jpeg"/>
  <Override PartName="/ppt/media/image22.png" ContentType="image/png"/>
  <Override PartName="/ppt/media/image24.jpeg" ContentType="image/jpeg"/>
  <Override PartName="/ppt/media/image83.jpeg" ContentType="image/jpeg"/>
  <Override PartName="/ppt/media/image16.jpeg" ContentType="image/jpeg"/>
  <Override PartName="/ppt/media/image51.jpeg" ContentType="image/jpeg"/>
  <Override PartName="/ppt/media/image62.png" ContentType="image/png"/>
  <Override PartName="/ppt/media/image60.png" ContentType="image/png"/>
  <Override PartName="/ppt/media/image63.jpeg" ContentType="image/jpeg"/>
  <Override PartName="/ppt/media/image74.png" ContentType="image/png"/>
  <Override PartName="/ppt/media/image78.jpeg" ContentType="image/jpeg"/>
  <Override PartName="/ppt/media/image61.jpeg" ContentType="image/jpeg"/>
  <Override PartName="/ppt/media/image77.png" ContentType="image/png"/>
  <Override PartName="/ppt/media/image86.jpeg" ContentType="image/jpeg"/>
  <Override PartName="/ppt/media/image75.jpeg" ContentType="image/jpeg"/>
  <Override PartName="/ppt/media/image81.jpeg" ContentType="image/jpeg"/>
  <Override PartName="/ppt/media/image85.jpeg" ContentType="image/jpeg"/>
  <Override PartName="/ppt/media/image26.jpeg" ContentType="image/jpeg"/>
  <Override PartName="/ppt/media/image79.png" ContentType="image/png"/>
  <Override PartName="/ppt/media/image70.jpeg" ContentType="image/jpeg"/>
  <Override PartName="/ppt/media/image17.png" ContentType="image/png"/>
  <Override PartName="/ppt/media/image82.png" ContentType="image/png"/>
  <Override PartName="/ppt/media/image5.png" ContentType="image/png"/>
  <Override PartName="/ppt/media/image65.jpeg" ContentType="image/jpeg"/>
  <Override PartName="/ppt/media/image8.png" ContentType="image/png"/>
  <Override PartName="/ppt/media/image80.jpeg" ContentType="image/jpeg"/>
  <Override PartName="/ppt/media/image52.jpeg" ContentType="image/jpeg"/>
  <Override PartName="/ppt/media/image13.png" ContentType="image/png"/>
  <Override PartName="/ppt/media/image67.png" ContentType="image/png"/>
  <Override PartName="/ppt/media/image69.jpeg" ContentType="image/jpeg"/>
  <Override PartName="/ppt/media/image76.png" ContentType="image/png"/>
  <Override PartName="/ppt/media/image66.jpeg" ContentType="image/jpeg"/>
  <Override PartName="/ppt/media/image25.png" ContentType="image/png"/>
  <Override PartName="/ppt/media/image72.jpeg" ContentType="image/jpeg"/>
  <Override PartName="/ppt/media/image2.png" ContentType="image/png"/>
  <Override PartName="/ppt/media/image3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6.jpeg" ContentType="image/jpeg"/>
  <Override PartName="/ppt/media/image71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28.jpeg" ContentType="image/jpeg"/>
  <Override PartName="/ppt/media/image11.jpeg" ContentType="image/jpeg"/>
  <Override PartName="/ppt/media/image84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4E75-667F-41AA-8A4C-5D9960136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адаева Ирина Анато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 «Средняя общеобразовательная школа №2 г. Лениногорска» Лениногорского муниципального района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музыки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валификационная катег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музыки «Новые краски в музыке композиторов 20 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ь разграничивать понятия «классическая и современная музыка», «традиции и новаторство» в музыке композиторов 20 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ть находить общее в музыкальном языке разных композиторов и в воздействии их музыки на чувства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266D-FD54-46E3-B7B0-2FE6D73A4A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джамин Брит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13-19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Бенджамин Бриттен – это английский композитор, оперы которого стали известны всему миру. Его перу принадлежат такие произведения, как оперы «Питер Граймс», «Поругание Лукреции», «Сон в летнюю ночь», «Поворот винта», «Глориана», а также детские спектакли, хоры, написал много песен, балет «Принц Пагод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24EB-4FF0-4C48-B00A-0227599D5B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Одно из лучших Бриттена, которое стало очень знаменито в Европе и Америке, - «Военный реквием». «Военный реквием» написан в форме заупокойной мессы. Бенджамин Бриттен был не только композитором, но и пианистом, дирижером, он писал книги о музыке. Личность композитора многогранна: он не только создатель оперных произведений, - трудно найти такой жанр, в котором бы не творил Бритт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3928-F42C-43D0-8FF7-B94B42D9F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митрий Шостак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1906-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митрий Шостакович родился в Петербурге 25 ноября 1906 года. Детство Шостаковича связано с крупнейшими историческими событиями века – первой империалистической войной  и Великой социалистической революцией. Многоплановое, разнообразное по жанрам творчество Шостаковича признано классикой отечественной и мировой музыкальной культуры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ека.</a:t>
            </a:r>
            <a:r>
              <a:rPr b="0" lang="ru-RU" sz="11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52E6-54CE-484F-BEDD-3C85D2A0E9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 его перу принадлежит множество произведений, в том числе – оперы «Нос», «Катерина Измайлова», балет «Золотой век», 15 симфоний, увертюры, музыка к спектаклям и кинофильмам («Овод», «Гамлет») и очень много других произведений. Самым знаменитым произведением стала симфония №7, которая называется «Ленинградска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C9C8-06B5-411A-A717-D2654E7DC8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Экспресс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6079-0A30-473F-9C5D-9436D122C3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рессионизм – это направление во многом контрастный и по содержанию и по средствам выразительности остальным направлениям. Почти все музыкальные направления появились из искусства. По своему содержанию это своеобразный художественный протест против подавления человека буржуазным обществам, против милитаризма, мещ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C63F-9940-41A9-80D2-51670DA383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е воплощение экспрессионизма у таких композиторов, как А. Шёнберг, А. Веберн, А. Скрябина. Эти и другие композиторы пытались ярко и правдиво отразить сложнейшие социально-эстетические, идейно-эстетические и психологические конфликты эпохи, остроту противоречивого мышления художника в буржуазном обществе, его смятенность. Экспрессионисты отстаивали право художника на свою действительность, так как считали художнический мир реальным и правдивым, чем мир, окружающ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D87F-4EC2-4B99-B59C-C2AA5F5D1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Арнольд Шенбе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Александр Скряб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D904-2362-4191-B689-4E1A746E55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Арнольд Шёнбе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1854-19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Арнольд Шёнберг был австрийским композитором, педагогом, дирижер, художник. Творчество одного из крупнейших композиторов современности, главы «Новой венской школы». Все это сформировалось под воздействием эстетики символизма, австро-немецкого экспрессио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57A4-C193-49CE-ABE5-6C2087A97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Поиски в области музыкально-выразительных средств привели Шёнберга к созданию метода додекафонии, оказавшего значительное воздействие на музыкальное искусство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ека. Среди произведений: оперы «Счастливая рука», «Ожидание», С сегодня на завтра», 2 камерные симфонии, а также множество других произведений. При всей сложности и противоречности творческих устремлений Шёнберга его музыка – одно из творческих устремлений явлений в искусстве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ека, отразившего дух и веяния своего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D88D-5AD3-4EF4-A93B-7CFC0DF9F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у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AA1D-6010-4C7B-8686-F1724639FA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лександр Скряб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1871-19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Скрябин был русским композитором, педагогом, пианистом. Один из крупнейших мастеров музыкальной культуры </a:t>
            </a:r>
            <a:r>
              <a:rPr b="0" lang="en-US" sz="1200" spc="-1" strike="noStrike">
                <a:solidFill>
                  <a:srgbClr val="660033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столетия, яркий и своеобразный мыслитель. Скрябин направил все свои помыслы на переустройства искусства и миропорядк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45ED-F4D5-4981-AAA3-66F6D8A02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Определе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аз – род современного искусства, возникший на рубеж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 – 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ов в Южных штатах США в среде американских негров – потомков африканских рабов. Джаз – искусство, основанное на импровизации в сочетании с заранее продуманной, но не обязательно записанной в нотах формой композиции. Значительное место в репертуаре традиционного джаза занял блюз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5321-6A99-448D-BB62-0BC2CB9B23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характеристики джаза – наличие в ритмике, во-первых, регулярной пульсации, так называемого «бита», а во-вторых, отклонений от этой пульсации – «свинга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винга характерно, во-первых,  появление нового типа оркестра – биг-бэнда, который состоит из трёх групп инструментов – секций, каждая может звучать как один многоголосный инструмент: секции саксофонов (позднее с кларнетами), «медной» секции (трубы и тромбоны), ритмической секции (фортепиано, гитара, контрабас, ударные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A590-3C39-4DE0-8DDC-DF76B3F07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Советский дж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тельными успехами отмечено развитие советского джаза, начало которому было положено В.Парнахом в 1922 году. В довоенный период джаз в нашей стране развивался внутри эстрадных оркестров. Благодаря сотрудничеству Л.Утёсова с И.Дунаевским возник также песенный джаз. Импровизационный джаз стилей «диксиленд» и «свинг» практиковался в оркестрах А.Варламова, Н.Минха, А.Цфасмана и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C362-4E2B-4550-8BF6-00B39AB75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рдж Гершвин (1898-1937) – американский композитор и пианист. Систематического музыкального образования он не получил. С 15 лет начал сочинять эстрадные лирические песни, джазовую танцевальную музыку и т.п. Наряду с этим Гершвин создавал популярные произведения, в которых удачно сочетаются принципы симфонической и джазовой музы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FFA2-51D4-4D57-8F40-BC567132C3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 сентября 1935 года – день рождения американской национальной оперы «Порги и Бесс», рисующей жизнь негритянской бедноты. Она пронизана негритянским фольклором - мелодиями блюзов и спиричуэлс, народными песнями, хорами, танцами. Творчество Гершвина – одна из вершин американской национальной классики. Мировую известность получили «Рапсодия в блюзовых тонах» и симфоническая поэма «Американец в Париже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EBA9-D9B0-42A7-AAC3-6721C82B58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Авангард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8ACF-13A8-4BAC-9633-7495754CA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 авангардистских течениях особенно остро проявились элитарные тенденции, отрыв от задач искусства в обществе, неспособность художников создать общественно значимые концепции, яркое, воздействующее на массы искусство. Среди композиторов, в той или иной степени примыкавших к авангардизму, можно назвать А. Шнитке и П. Шефф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F049-D4A4-440E-A2AA-CB9A9EB67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AEFD-6C07-4B6C-A3D5-44295245A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в му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а. 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Многие авангардисты, движимые ложным представлением, что могут выразить новое содержание только с помощью неизвестных средств, а также стремлением к сенсационности, шли на эксперименты, приводившие к разрушению эстетических и даже технологических основ искус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DF70-6ADB-4333-A45E-8094E38B73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Альфред Шнит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Карлхайнц Штокхауз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DB4D-DA0C-465B-88AC-73CFBBA988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Альфред Шни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(1934-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Альфред Шнитке – русский композитор. Является одним из ведущих мастеров современной музыки, синтезирующей в творчестве классические тенденции и разнообразные элементы современной композиторской тех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98C1-5B38-40CD-B8B4-5845627BE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реди сочинений: оперы «Жизнь с идиотом», «Одиннадцатая заповедь»; балеты «Пер Гюнт»; Реквием, 12 инструментальных концертов, музыка к драматическим спектаклям и кинофильмам: «Рикки-Тики-Тави» и «Мертвые души». После смерти композитора в его честь названо музыкальное учебное заве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F1F0-17C3-414B-A5EF-EEFEDB58C4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хайнц Штокхауз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окхаузен родился в Мёдрате близ Кёльна 22 августа 1928. В 1947 поступил в кельтскую Высшую музыкальную школу, позже учился в Париже у Оливье Мессина и работал в студии конкретной музыки Пьера Шефф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7768-7426-47E7-935F-1A8281B247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60-х годах Штокхаузен стал одним из лидеров в области сериальной музыки и одним из первых европейских композиторов. Во многих сочинениях композитора 1960-х годов предусматривается живая интерпретация Во многих сочинениях композитора 1960-х годов предусматривается живая интерпретация электронных звучаний. В числе самых значительных опусов Штокхаузена: «Мера времени», «Песнь юношей», «Групп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8530-C6FB-413C-9303-A686369444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Импресс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4881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4881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E1A2-B2A9-49C5-AF6E-AAECEC3537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в импрессионизме была задача передать непосредственное впечатление, отразить тонкие психологические состояния, оттенки субъективных ощущений, вызванных созерцанием внешнего мира. Основоположниками этого направления стали К. Дебюсси, М. Равель, О. Мессиане, М. де Фал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737C-AD0B-4176-B9E3-98C8FCEC22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композиторы утверждали, что именно красота природы способна возбудить художественную фантазию композитора. Потребность передать в звуках состояние природы, её образы вызывает новые краски, новые выразительные средства. Кроме природы, импрессионисты вдохновлялись античной мифологией, сказочностью. В музыке господствовали мягкие переливы красок, гармоний, «мерцание» ритмов, сложная полифония темб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136E-D103-4C26-B207-F645A77BC7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од Дебюс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с Рав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AC8C-5D74-4F1E-8213-106D16DFA4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век – это время кардинальных социальных перемен, революций, открывших новую эру в жизни человечества. Это время и тяжелых испытаний – двух мировых войн. 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век – это и взлет культуры и искусства, в том числе и музыкального, пришедший к великим художественным достижениям, расцвету многих национальных школ, формированию советской музыкаль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8A9D-73F7-426E-B6C4-028D767A6C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од Дебюс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1862-19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Клод Дебюсси – один из величайших мастеров французской и мировой музыки в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е. Он выявил в музыке новые возможности для передачи предельно утонченных оттенков многообразной палитры настроений человека и воспринимаемой им окружающей природы, создал особую импрессионистическую сферу музыкального ритма. Значение музыки Дебюсси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а часто сравнивают со значением музыки Шопена для музыкального искусства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I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D0C1-F7A7-4084-B9A6-1B5C034F80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Среди сочинений: оперы «Родриго и Химена», «Пеллеас и Мелизанда», балеты «Игры», Камма», симфонические циклы, фортепианные циклы и сюиты: «Детский уголок», 3 кантаты, песни и романсы, музыка к театральным спектаклям: Мученичество святого Себастьяна», 12 этюдов, 24 прелюдии, очень много ноктюрнов, камерно-инструментальные ансамбли и др. Клод Дебюсси оказал большое влияние на композиторов других стран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33D6-D38C-49FB-86EF-6CFFDC3C6A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Морис Рав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(1875-19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с Равель был французским композитором. В музыкальном стиле Равеля получили дальнейшее развитие также новые импрессионистические музыкальные средства, найденные Дебюсси, несмотря на все различие их почерков. Самая характерная и наиболее яркая черта творчества композитора – удивительное сочетание логики. Стройности, интеллекта – и сердечности, вдохновения – черта, близкая духу французского классицизм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F5C0-D065-4892-B612-847064AF6E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ет «Дафнис и Хлоя» - первое и самое значительное произведение новой балетной французской музыки. Всемирную известность получило «Болеро» Равеля – симфоническое произведение, созданное в духе популярного испанского танца. Автор опер «Испанский час», «Дитя и волшебство», фортепианных пьес – циклов «Отражение», «Ночной Гаспар», «Павана умерших инфанте», фантазии для скрипки, сочинений для оркестра «Испанская рапсодия», «Вальс» и других произвед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9A2C-E458-4930-9A69-39C8BA25FB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A220-B347-4053-9B53-F88466C618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942D-2977-4878-8119-6FE4CF08C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лухо 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зыкальной культуре Западной Европы и США – это течение, очень пестрое по идейно-художественному уровню и эстетическим принципам. Оно представлено как произведениями, выражающими протест против социальной несправедливости, милитаризма, войны, так и сочинениями, проповедующими анархизм, аморальность, насил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нцу шестого десятилетия рок превратился в мощную политическую и культурную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5855-0C5E-4820-A652-ADDE9BE7A9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a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Pist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Pur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The Bea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ерное, группа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atl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самая известная из всех на нашей планете. Сначала она играла в стиле скиффл, а затем в ро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-ролл. Назва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«The Beatles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риобрели намного поз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знаменитой группы менялся не очень часто. Первое серьёзное выступл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ре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ода в Шотланд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6C8A-432C-47EC-876D-B1B2BE563B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me d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” была первой настоящей пластинкой “ Биттлз”. Их покорение мира началось со Швеции. Последнее выступление стало “The Beatles” состоялось 29 августа 1966 года. В середине 1967 года они закончили работу над пластинкой “ Сержант Пеппер”, следующей и последней их работой была пластинка “Let it b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70 году группа распала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8558-C551-4791-8E8F-065887B517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x Pist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е выступление этой группы состоялось в ноябре 1975-го в одном из колледжей Лондона. После британского тура, группа участвовала на панк -фестивале 1976 года, В мае "Sex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stols" подписались к "Virgin" и наконец-то выпустили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Save The Quee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К концу года отношения в группе разладились. В 1996-м Роттен, Джонс, Кук и Матлок возродили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Pistol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83AB-F49B-4D33-9BDF-AAEB2766A4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направления в музы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ресс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нгард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ресс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416F-FD2D-486F-AE74-EB0D836F62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ep 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«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Deep Purple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была создана в апреле 1968 года. Их состав менялся почти 10 раз, но первый состав группы был поначалу таким: Ричи Блэкмор - гитара, Род Эванс - вокал, Джон Лорд - клавишные и бэк-вокал, Иэн Пейс - ударные, Ник Симпер - бас-гитара и бэк-вок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F98D-8384-461A-9E58-92691531DD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Первым альбомом группы стал 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“Shades of Deep Purple”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, выглядя экспериментальным и шероховатым. Но последующие альбомы стали лучше, что привело их к известности после двух лет в Европе. Они сделали попытку соединить рок и классику, что вызвало противоречия, но обеспечило группе столь большое внимание. В 1971 году у группы начинаются серьезные вы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7EB5-4A84-4267-89EA-1C6799A62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AAA4-E019-4C00-82FF-F6B0CFAF0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е продолжал развиваться и романтизм. Его наиболее сильная сторона – сопротивление антигуманистическим тенденциям буржуазного общества, утверждения духовной силы и красоты человеческой личности, призыв к духовному обновлению – трансформировалась, стали преобладать субъективистское начало, пассивность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BBB5-4D2E-4735-959A-6299CE1729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ие тенденции во многом помогали противостоять модернистическим тенденциям, стремящимся деформировать содержание искусства. В отдельные периоды творчества Б. Бартока, Б. Бриттена и других западных композиторов, а также С. Прокофьева и Д. Шостаковича способствовали обогащению образных решений ярким, романтизированных выраж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76EA-A16C-47E4-AAD4-232E61ACC5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Бенджамин Бритт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Дмитрий Шостак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154D-4563-4C1F-8933-AB431A81D7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B9C4-F17E-49B8-A45E-48EABF87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A8F7-4E13-4DA3-9071-100113EE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23B0E-E932-4A01-8AAC-D52685ED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61FD4-23AE-461E-B234-8F7AEB5E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FEC3C-5B03-44BE-A8DA-713E7B8F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A6BE3-973B-4893-8366-0FDEB629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1A563-FAE9-448D-B67B-8B91F0EB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C1AFB-FFCD-4B4C-A16F-76EAAD2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95C7C-F46E-42EC-83DB-5DF58694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08063-EE0F-4E3A-A664-E7C2B4A2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A020D-FDB0-4A0D-B664-94EF2247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C9449-68AC-4898-8526-E7B6137C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EE0DF-7DEB-475E-BD02-F7568C99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97607-84F1-47E4-8F7C-D04AFC4C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293CA-9E13-4418-999E-5AF46296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FFC27-4454-4F46-971C-924C5F6C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B1A3F-8F94-4CE4-86EA-0789BAA4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AE6D3-DB45-4478-8974-78242F46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1A51B-D87B-41BC-B921-699F542B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9E8E1-4DD9-4DCD-BAD3-2EF2329B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6A5CF-11BE-4373-89C0-C8ABF3E1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56E8B-0693-4933-8225-C8EA8F8C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C4900-D1D6-45BB-92DD-7D950418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7BC2-A48B-49F7-92B0-3C7ADB36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ACD5B-BF52-407A-809C-8DC3175A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E21E3-34F7-4A26-8182-451FE0C1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7A91D-DF08-452D-825B-956973EF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D4EBE-7226-4450-908F-E05095ED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2DD08-E074-4179-8F03-894F87AC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B11FA-66AF-449C-8944-0F1FE10E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E01DC-697C-4BE3-9992-EEDE3D46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EFE8F-CD83-4C53-98D4-8B65BFEB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671F1-E6DE-4849-9FB0-817B026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D2185-7531-4188-A17A-2B0B5298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5037-8C5A-476D-8C14-8DCEC553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69C68-BDB6-4A22-B853-96B39D26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370BE-4DF1-423B-81B1-35B857F4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AE973-1551-42DE-BF3C-C30475A2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353BB-DD24-4E8B-BD4F-C58E8409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CEA13-68B4-47E2-A2C0-6CC8DF82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4D281-C87A-44AF-A97F-4E7AD846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0564B-EE10-455D-975C-D2E2BC3B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2DCC9-7FCC-4B47-86B0-8D168773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A18B4-E448-4AF1-B4ED-0989296F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CEE79-AF3E-4714-9886-3B9A3D6F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41B5-1FD7-423B-8DCB-0F257E91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0BF8B-3B95-4995-806B-77D8CA0C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04DD2-B842-4C33-A7E2-2908B603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E602A-4650-4D38-A229-B9A9CBA7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F6BFE-988B-4F3C-9AF3-EF279AD7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3CC3F-F755-47C2-A2F1-989C9A08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3BEEA-F22A-4DC2-AC37-0835D37C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5EBAE-330D-42B8-925B-4934B451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6FE46-D58B-4F99-88AC-D53DE3C3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B3B82-1C6B-40DC-9164-02848E99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F6CA1-0861-413B-AC46-BD473EF1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8689-33A2-422A-AE1A-93C06A76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89021-9638-4474-B477-FFE17C25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A6300-9CBC-419A-B424-19DC5E6C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2EE7B-A6BA-44A5-A744-D683CA81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63E28-6C80-4532-8329-370B978E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0F149-C0F2-4848-87EA-76327D05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FA1CE-6BC6-4312-8D73-BB8683FF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ADE66-9CCA-4DDC-BAC6-576A3AA4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5B19B-4750-4B48-BEFA-FDB47164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DBDEC-091D-438F-A0E9-FA4D4546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8DB6B-7F47-4247-987D-68246AAD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D044-FB18-4BE0-9474-6B3E6A55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FE90D-CAC9-4D2A-9BFF-2D3DDBB9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54918-FCC6-40A1-9E93-A885C841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C35D6-B371-4439-BD18-13AF9162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0E04E2-369C-4389-B2A4-D2B40503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5586A-CFAE-462B-9061-4A3BDE2D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B29F3-C885-4AA6-B91A-E9583FA3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FBCBAD-3557-49F8-864A-D114C81B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FC063-4D84-49E4-A184-D456D9B1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F8E2E-FD49-4D78-8FB5-BE60D4F8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725C-DA82-45DF-B1C0-35A00B9B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5125-A454-4A3D-97E1-D2627EF0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852E-15B9-4FC1-92EC-47156A26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BA596-6086-4399-98B2-945A87AD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6C97-ACBC-432D-B825-28F95C09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2004-4E03-43DB-8626-5AA478C2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1B99-2DB9-4746-8A8C-2ADBE257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E56E-0DFE-4408-837F-70171076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A0BA-F13C-423D-A38C-742D0793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81E39-EC8C-4227-AC55-B7FF5B72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02661-3E31-4CDB-9496-4867BC01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E9E0-4347-4117-A9C0-60FE0031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F37E-64D5-461F-AB83-A293DC86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BCEDC-4A9B-48F0-A13D-8C0715A3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E5FC-7BE2-438E-8A41-B847D678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9D02D-EF5F-4D61-AFCE-D22DFD5C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6F033-9829-4C7F-9892-DE0E87D2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1B8DA-AF3B-4256-B80A-C810CAA6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8A3CA-4A86-4A23-B587-4111B7C7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D0A01-3FED-4C5B-89EF-390B31EB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85B9-E442-4D6A-A66A-32F3F1D8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34F9-1575-42F9-BB0D-9ECCCB8A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E52E5B-205C-4935-BEA0-30DBF1F7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078319-27F8-40A4-BBD4-67751437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5FFF8F-C1FB-4500-8A4D-0C5E30BB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776B4-AD71-4DEA-808C-2AC1FDBB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344FA6-427C-4E50-A559-C9292F0F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EFA40-E7A7-4BB9-B196-5A11D46E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856C74-7A57-4C62-A72E-285DB423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891DA-72DB-422A-9802-715871D9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C9723-832B-4ABB-8540-6566D745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CBBD2-720C-44E8-8790-24854CDE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907C51-DFC9-46A2-B1B1-09E5126A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4E2ABB-46A0-42E7-943E-590FE0E9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E91983-8F37-4F51-BDB0-2B57CF63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AA654-159F-4B62-B7B1-1419C51D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1D20E-7DE0-4570-AA59-B5085028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7B27E-AD17-40AF-BABB-5F293209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88352-78ED-400D-A45C-F5E82103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BDF77-2E85-44E3-9A4C-74BCF8A4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E2CB3-7956-4A78-8368-67CB8442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03747-6736-4FEB-A58F-2F32DF52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99326-B1CA-47A6-9965-46562000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DCCA5-02CA-4E99-B0A3-F897324A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9292F-64D9-4366-B367-D3B41467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DBE74-31C7-4C1C-B5F5-6AB2CDD2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87D31-D52C-4D84-90D9-ECAC9BE9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C8F8-A700-40DA-8DA5-49E4FA71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737FF-37AF-40DD-B9A8-464966F1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33B41-0153-4E48-BAB7-49AB1522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8F6F1-AA86-4B93-85D4-5B7C6860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3E2DF-12E1-46D7-ABAA-A78CCA00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CB31E-138D-441E-A555-E7ADF906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EBEC-02F1-4413-ADC4-564B16C0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05E34-5ED7-4DE0-A787-3E76C094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9F49E-C26C-4818-91D4-DCEF531B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3C67A-BAB6-4E9E-A493-10559584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580F4-E908-4C22-8B2C-554BBF1E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695B4-2641-48D2-97DF-EB6C9BEF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BCF9E-A99C-45B0-8D87-803CC8B6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0D79B-4B0A-443F-A793-DBF265C1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7D63C-BA3B-4A96-9324-36A02AAA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1F5F5-B2BA-49FA-B959-3F240BC2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9BC1D-EDD5-485B-8CB7-97512736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E72D8-113D-4308-985A-A4D81243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C3AF1-2255-4832-9473-DA42AB7B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777F3-B669-4AB8-977C-B5322829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CADE0-C81E-4AD0-8EC2-039C2002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C7C92-6FB6-471D-A980-31791545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64BA3-9D56-4406-B6F6-EC252768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41CBE-86A2-41C1-8A2A-88F10076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2AF65-A4A8-444C-B699-8CCE5018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4F527-83D0-425C-B261-2F767035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B26EC-7166-4729-B1DF-31DE8DB8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B4677-1026-48A7-A92F-E0CB1423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121A2-9C77-456B-9038-7CED9D95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264FD-5743-4CFF-917E-52EF259B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6A5CB-E1C2-47DC-848E-367E5429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A0591-7AF8-46F9-A5F7-7A5F8E91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C4248-BEB0-4B81-AE13-FD960D8B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D86F-CE7D-4027-8297-5025F273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E2452-DA88-44EE-90E5-986FB89E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F0A75-DA3D-4195-8C6E-E5CEB4B6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C1DBB-B4DE-4E08-8A33-6D93FFC5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AD5E5-4B39-4DF4-A1EA-1126FB2D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52214-99BB-41DF-95E7-806C0FA3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CE76B-7E7E-4EF7-8129-ADDA18D5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C4CFE-6725-47DA-B03C-A4F5F2FD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CBFB1-4468-4000-8D9B-837B6426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AF2B9-C272-4F03-993E-A19A2C1E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B89DF-04DC-4E7C-82C2-4904EF4B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FC15-E8FF-4F7D-AF95-1EAA9CD8AF5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01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02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03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504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05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06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507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08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0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0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FD50-DED1-4199-947E-75F84AA48BF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grpSp>
        <p:nvGrpSpPr>
          <p:cNvPr id="55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5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5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5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57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CD58-3158-4E8E-B118-DB3C958BD0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6312"/>
            </a:gs>
            <a:gs pos="100000">
              <a:srgbClr val="5cac2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1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5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b8d1a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1a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325e11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7816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6b1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00f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58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bb3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a6d14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4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56312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98819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64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5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7d17"/>
                  </a:gs>
                  <a:gs pos="100000">
                    <a:srgbClr val="5cac2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5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ac20"/>
                  </a:gs>
                  <a:gs pos="100000">
                    <a:srgbClr val="6bb3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9732-74DC-4730-9BB6-0B4BEF9E10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694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95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3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86CA-D55F-471D-94B8-0B338AA271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738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39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0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741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2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3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44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5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6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747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8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A5F2-C3BF-4BAF-B4E5-8BBE2A32E2B2}" type="slidenum">
              <a:rPr b="0" lang="ru-RU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4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6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7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C99B-3DF9-4203-9D29-364132A1A4C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6D0B-3BFC-4050-B0EB-499968B630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96C4-41DB-4257-8064-C28143E3D0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5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0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1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4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5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6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7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17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6312"/>
            </a:gs>
            <a:gs pos="100000">
              <a:srgbClr val="5cac2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5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b8d1a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1a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325e11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7816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6b1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00f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58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bb3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a6d14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4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56312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5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5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98819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25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7d17"/>
                  </a:gs>
                  <a:gs pos="100000">
                    <a:srgbClr val="5cac2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5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ac20"/>
                  </a:gs>
                  <a:gs pos="100000">
                    <a:srgbClr val="6bb3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4C2C-731D-414E-9FA0-F03E96C62B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76D6-0006-4747-AEFA-F3A09D8892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286D-7552-4CB8-9FFC-89783DAF617D}" type="slidenum">
              <a:rPr b="0" lang="ru-RU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4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4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4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4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5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5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5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1056-5048-4815-BBD1-A04BBA89E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3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3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B10C-864F-405D-A95C-F61359BC243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1.png"/><Relationship Id="rId5" Type="http://schemas.openxmlformats.org/officeDocument/2006/relationships/hyperlink" Target="file:///&#1052;&#1091;&#1079;&#1099;&#1082;&#1072;%20&#1074;%20XX%20&#1074;&#1077;&#1082;&#1077;.ppt" TargetMode="External"/><Relationship Id="rId6" Type="http://schemas.openxmlformats.org/officeDocument/2006/relationships/hyperlink" Target="file:///&#1052;&#1091;&#1079;&#1099;&#1082;&#1072;%20&#1074;%20XX%20&#1074;&#1077;&#1082;&#1077;.ppt" TargetMode="External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hyperlink" Target="file:///&#1052;&#1091;&#1079;&#1099;&#1082;&#1072;%20&#1074;%20XX%20&#1074;&#1077;&#1082;&#1077;.ppt" TargetMode="External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hyperlink" Target="file:///&#1052;&#1091;&#1079;&#1099;&#1082;&#1072;%20&#1074;%20XX%20&#1074;&#1077;&#1082;&#1077;.ppt" TargetMode="External"/><Relationship Id="rId5" Type="http://schemas.openxmlformats.org/officeDocument/2006/relationships/hyperlink" Target="file:///&#1052;&#1091;&#1079;&#1099;&#1082;&#1072;%20&#1074;%20XX%20&#1074;&#1077;&#1082;&#1077;.ppt" TargetMode="External"/><Relationship Id="rId6" Type="http://schemas.openxmlformats.org/officeDocument/2006/relationships/hyperlink" Target="file:///&#1052;&#1091;&#1079;&#1099;&#1082;&#1072;%20&#1074;%20XX%20&#1074;&#1077;&#1082;&#1077;.ppt" TargetMode="External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hyperlink" Target="file:///&#1052;&#1091;&#1079;&#1099;&#1082;&#1072;%20&#1074;%20XX%20&#1074;&#1077;&#1082;&#1077;.ppt" TargetMode="External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5"/>
          <p:cNvSpPr/>
          <p:nvPr/>
        </p:nvSpPr>
        <p:spPr>
          <a:xfrm>
            <a:off x="468360" y="476280"/>
            <a:ext cx="76327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аадаева Ирина Анатольевна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униципальное общеобразовательное учреждение «Средняя общеобразовательная школа №2 г. Лениногорска» Лениногорского муниципального района Республики Татарстан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итель музыки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валификационная категория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рок музыки «Новые краски в музыке композиторов 20 века»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 класс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Цели: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учить разграничивать понятия «классическая и современная музыка», «традиции и новаторство» в музыке композиторов 20 века;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меть находить общее в музыкальном языке разных композиторов и в воздействии их музыки на чувства людей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4140360" y="2204640"/>
            <a:ext cx="4176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енджамин Бриттен – это английский композитор, оперы которого стали известны всему миру. Его перу принадлежат такие произведения, как оперы «Питер Граймс», «Поругание Лукреции», «Сон в летнюю ночь», «Поворот винта», «Глориана», а также детские спектакли, хоры, написал много песен, балет «Принц Пагод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7" descr="Бенджамин Бриттен"/>
          <p:cNvPicPr/>
          <p:nvPr/>
        </p:nvPicPr>
        <p:blipFill>
          <a:blip r:embed="rId1"/>
          <a:stretch/>
        </p:blipFill>
        <p:spPr>
          <a:xfrm>
            <a:off x="1258920" y="2205000"/>
            <a:ext cx="2346120" cy="3510000"/>
          </a:xfrm>
          <a:prstGeom prst="rect">
            <a:avLst/>
          </a:prstGeom>
          <a:ln w="0">
            <a:noFill/>
          </a:ln>
        </p:spPr>
      </p:pic>
      <p:pic>
        <p:nvPicPr>
          <p:cNvPr id="848" name="WordArt 8" descr=""/>
          <p:cNvPicPr/>
          <p:nvPr/>
        </p:nvPicPr>
        <p:blipFill>
          <a:blip r:embed="rId2"/>
          <a:stretch/>
        </p:blipFill>
        <p:spPr>
          <a:xfrm>
            <a:off x="2335320" y="476280"/>
            <a:ext cx="4913280" cy="1303200"/>
          </a:xfrm>
          <a:prstGeom prst="rect">
            <a:avLst/>
          </a:prstGeom>
          <a:ln w="0">
            <a:noFill/>
          </a:ln>
        </p:spPr>
      </p:pic>
      <p:sp>
        <p:nvSpPr>
          <p:cNvPr id="8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424944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дно из лучших Бриттена, которое стало очень знаменито в Европе и Америке, - «Военный реквием». «Военный реквием» написан в форме заупокойной мессы. Бенджамин Бриттен был не только композитором, но и пианистом, дирижером, он писал книги о музыке. Личность композитора многогранна: он не только создатель оперных произведений, - трудно найти такой жанр, в котором бы не творил Бритт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5">
            <a:hlinkClick r:id="rId1"/>
          </p:cNvPr>
          <p:cNvSpPr/>
          <p:nvPr/>
        </p:nvSpPr>
        <p:spPr>
          <a:xfrm>
            <a:off x="7885080" y="581508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3837"/>
                </a:moveTo>
                <a:lnTo>
                  <a:pt x="15612" y="6448"/>
                </a:ln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lnTo>
                  <a:pt x="19999" y="10800"/>
                </a:lnTo>
                <a:lnTo>
                  <a:pt x="18345" y="10800"/>
                </a:lnTo>
                <a:lnTo>
                  <a:pt x="18345" y="17989"/>
                </a:lnTo>
                <a:lnTo>
                  <a:pt x="7727" y="17989"/>
                </a:lnTo>
                <a:lnTo>
                  <a:pt x="7727" y="10800"/>
                </a:lnTo>
                <a:lnTo>
                  <a:pt x="6073" y="10800"/>
                </a:lnTo>
                <a:close/>
              </a:path>
              <a:path fill="darkenLess" w="26072" h="21600">
                <a:moveTo>
                  <a:pt x="15612" y="6448"/>
                </a:move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close/>
              </a:path>
              <a:path fill="darkenLess" w="26072" h="21600">
                <a:moveTo>
                  <a:pt x="12113" y="14299"/>
                </a:moveTo>
                <a:lnTo>
                  <a:pt x="13959" y="14299"/>
                </a:lnTo>
                <a:lnTo>
                  <a:pt x="13959" y="17989"/>
                </a:lnTo>
                <a:lnTo>
                  <a:pt x="18345" y="17989"/>
                </a:lnTo>
                <a:lnTo>
                  <a:pt x="18345" y="10800"/>
                </a:lnTo>
                <a:lnTo>
                  <a:pt x="7727" y="10800"/>
                </a:lnTo>
                <a:lnTo>
                  <a:pt x="7727" y="17989"/>
                </a:lnTo>
                <a:lnTo>
                  <a:pt x="12113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52" name="Picture 6" descr="Бриттен"/>
          <p:cNvPicPr/>
          <p:nvPr/>
        </p:nvPicPr>
        <p:blipFill>
          <a:blip r:embed="rId2"/>
          <a:stretch/>
        </p:blipFill>
        <p:spPr>
          <a:xfrm>
            <a:off x="5796000" y="1557360"/>
            <a:ext cx="2425680" cy="3267000"/>
          </a:xfrm>
          <a:prstGeom prst="rect">
            <a:avLst/>
          </a:prstGeom>
          <a:ln w="0">
            <a:noFill/>
          </a:ln>
        </p:spPr>
      </p:pic>
      <p:sp>
        <p:nvSpPr>
          <p:cNvPr id="8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4140000" y="2276280"/>
            <a:ext cx="4392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Дмитрий Шостакович родился в Петербурге 25 ноября 1906 года. Детство Шостаковича связано с крупнейшими историческими событиями века – первой империалистической войной  и Великой социалистической революцией. Многоплановое, разнообразное по жанрам творчество Шостаковича признано классикой отечественной и мировой музыкальной культуры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5" descr="Шостакович 1"/>
          <p:cNvPicPr/>
          <p:nvPr/>
        </p:nvPicPr>
        <p:blipFill>
          <a:blip r:embed="rId1"/>
          <a:stretch/>
        </p:blipFill>
        <p:spPr>
          <a:xfrm>
            <a:off x="826920" y="2492280"/>
            <a:ext cx="2900520" cy="3435480"/>
          </a:xfrm>
          <a:prstGeom prst="rect">
            <a:avLst/>
          </a:prstGeom>
          <a:ln w="0">
            <a:noFill/>
          </a:ln>
        </p:spPr>
      </p:pic>
      <p:pic>
        <p:nvPicPr>
          <p:cNvPr id="856" name="WordArt 6" descr=""/>
          <p:cNvPicPr/>
          <p:nvPr/>
        </p:nvPicPr>
        <p:blipFill>
          <a:blip r:embed="rId2"/>
          <a:stretch/>
        </p:blipFill>
        <p:spPr>
          <a:xfrm>
            <a:off x="2120760" y="615960"/>
            <a:ext cx="5370480" cy="1309680"/>
          </a:xfrm>
          <a:prstGeom prst="rect">
            <a:avLst/>
          </a:prstGeom>
          <a:ln w="0">
            <a:noFill/>
          </a:ln>
        </p:spPr>
      </p:pic>
      <p:sp>
        <p:nvSpPr>
          <p:cNvPr id="8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67676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 его перу принадлежит множество произведений, в том числе – оперы «Нос», «Катерина Измайлова», балет «Золотой век», 15 симфоний, увертюры, музыка к спектаклям и кинофильмам («Овод», «Гамлет») и очень много других произведений. Самым знаменитым произведением стала симфония №7, которая называется «Ленинградска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4">
            <a:hlinkClick r:id="rId1"/>
          </p:cNvPr>
          <p:cNvSpPr/>
          <p:nvPr/>
        </p:nvSpPr>
        <p:spPr>
          <a:xfrm>
            <a:off x="7812000" y="5815080"/>
            <a:ext cx="1332000" cy="1042920"/>
          </a:xfrm>
          <a:custGeom>
            <a:avLst/>
            <a:gdLst>
              <a:gd name="textAreaLeft" fmla="*/ 67320 w 1332000"/>
              <a:gd name="textAreaRight" fmla="*/ 1264680 w 1332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7585" h="21600">
                <a:moveTo>
                  <a:pt x="0" y="0"/>
                </a:moveTo>
                <a:lnTo>
                  <a:pt x="27585" y="0"/>
                </a:lnTo>
                <a:lnTo>
                  <a:pt x="27585" y="21600"/>
                </a:lnTo>
                <a:lnTo>
                  <a:pt x="0" y="21600"/>
                </a:lnTo>
                <a:close/>
              </a:path>
              <a:path fill="lightenLess" w="27585" h="21600">
                <a:moveTo>
                  <a:pt x="0" y="0"/>
                </a:moveTo>
                <a:lnTo>
                  <a:pt x="27585" y="0"/>
                </a:lnTo>
                <a:lnTo>
                  <a:pt x="26185" y="1400"/>
                </a:lnTo>
                <a:lnTo>
                  <a:pt x="1400" y="1400"/>
                </a:lnTo>
                <a:close/>
              </a:path>
              <a:path fill="darken" w="27585" h="21600">
                <a:moveTo>
                  <a:pt x="27585" y="0"/>
                </a:moveTo>
                <a:lnTo>
                  <a:pt x="27585" y="21600"/>
                </a:lnTo>
                <a:lnTo>
                  <a:pt x="26185" y="20200"/>
                </a:lnTo>
                <a:lnTo>
                  <a:pt x="26185" y="1400"/>
                </a:lnTo>
                <a:close/>
              </a:path>
              <a:path fill="darkenLess" w="27585" h="21600">
                <a:moveTo>
                  <a:pt x="27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85" y="20200"/>
                </a:lnTo>
                <a:close/>
              </a:path>
              <a:path fill="lighten" w="27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85" h="21600">
                <a:moveTo>
                  <a:pt x="13793" y="3837"/>
                </a:moveTo>
                <a:lnTo>
                  <a:pt x="16369" y="6448"/>
                </a:lnTo>
                <a:lnTo>
                  <a:pt x="16369" y="4707"/>
                </a:lnTo>
                <a:lnTo>
                  <a:pt x="18144" y="4707"/>
                </a:lnTo>
                <a:lnTo>
                  <a:pt x="18144" y="8224"/>
                </a:lnTo>
                <a:lnTo>
                  <a:pt x="20756" y="10800"/>
                </a:lnTo>
                <a:lnTo>
                  <a:pt x="19102" y="10800"/>
                </a:lnTo>
                <a:lnTo>
                  <a:pt x="19102" y="17989"/>
                </a:lnTo>
                <a:lnTo>
                  <a:pt x="8483" y="17989"/>
                </a:lnTo>
                <a:lnTo>
                  <a:pt x="8483" y="10800"/>
                </a:lnTo>
                <a:lnTo>
                  <a:pt x="6830" y="10800"/>
                </a:lnTo>
                <a:close/>
              </a:path>
              <a:path fill="darkenLess" w="27585" h="21600">
                <a:moveTo>
                  <a:pt x="16369" y="6448"/>
                </a:moveTo>
                <a:lnTo>
                  <a:pt x="16369" y="4707"/>
                </a:lnTo>
                <a:lnTo>
                  <a:pt x="18144" y="4707"/>
                </a:lnTo>
                <a:lnTo>
                  <a:pt x="18144" y="8224"/>
                </a:lnTo>
                <a:close/>
              </a:path>
              <a:path fill="darkenLess" w="27585" h="21600">
                <a:moveTo>
                  <a:pt x="12870" y="14299"/>
                </a:moveTo>
                <a:lnTo>
                  <a:pt x="14715" y="14299"/>
                </a:lnTo>
                <a:lnTo>
                  <a:pt x="14715" y="17989"/>
                </a:lnTo>
                <a:lnTo>
                  <a:pt x="19102" y="17989"/>
                </a:lnTo>
                <a:lnTo>
                  <a:pt x="19102" y="10800"/>
                </a:lnTo>
                <a:lnTo>
                  <a:pt x="8483" y="10800"/>
                </a:lnTo>
                <a:lnTo>
                  <a:pt x="8483" y="17989"/>
                </a:lnTo>
                <a:lnTo>
                  <a:pt x="12870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60" name="Picture 6" descr="Шостакович"/>
          <p:cNvPicPr/>
          <p:nvPr/>
        </p:nvPicPr>
        <p:blipFill>
          <a:blip r:embed="rId2"/>
          <a:stretch/>
        </p:blipFill>
        <p:spPr>
          <a:xfrm>
            <a:off x="2484360" y="3573360"/>
            <a:ext cx="3984840" cy="2781360"/>
          </a:xfrm>
          <a:prstGeom prst="rect">
            <a:avLst/>
          </a:prstGeom>
          <a:ln w="0">
            <a:noFill/>
          </a:ln>
        </p:spPr>
      </p:pic>
      <p:sp>
        <p:nvSpPr>
          <p:cNvPr id="8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61196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7">
            <a:hlinkClick r:id="rId1"/>
          </p:cNvPr>
          <p:cNvSpPr/>
          <p:nvPr/>
        </p:nvSpPr>
        <p:spPr>
          <a:xfrm>
            <a:off x="611280" y="1916280"/>
            <a:ext cx="5257800" cy="576000"/>
          </a:xfrm>
          <a:custGeom>
            <a:avLst/>
            <a:gdLst>
              <a:gd name="textAreaLeft" fmla="*/ 37080 w 5257800"/>
              <a:gd name="textAreaRight" fmla="*/ 5220720 w 52578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97058" h="21600">
                <a:moveTo>
                  <a:pt x="0" y="0"/>
                </a:moveTo>
                <a:lnTo>
                  <a:pt x="197058" y="0"/>
                </a:lnTo>
                <a:lnTo>
                  <a:pt x="197058" y="21600"/>
                </a:lnTo>
                <a:lnTo>
                  <a:pt x="0" y="21600"/>
                </a:lnTo>
                <a:close/>
              </a:path>
              <a:path fill="lightenLess" w="197058" h="21600">
                <a:moveTo>
                  <a:pt x="0" y="0"/>
                </a:moveTo>
                <a:lnTo>
                  <a:pt x="197058" y="0"/>
                </a:lnTo>
                <a:lnTo>
                  <a:pt x="195658" y="1400"/>
                </a:lnTo>
                <a:lnTo>
                  <a:pt x="1400" y="1400"/>
                </a:lnTo>
                <a:close/>
              </a:path>
              <a:path fill="darken" w="197058" h="21600">
                <a:moveTo>
                  <a:pt x="197058" y="0"/>
                </a:moveTo>
                <a:lnTo>
                  <a:pt x="197058" y="21600"/>
                </a:lnTo>
                <a:lnTo>
                  <a:pt x="195658" y="20200"/>
                </a:lnTo>
                <a:lnTo>
                  <a:pt x="195658" y="1400"/>
                </a:lnTo>
                <a:close/>
              </a:path>
              <a:path fill="darkenLess" w="197058" h="21600">
                <a:moveTo>
                  <a:pt x="197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58" y="20200"/>
                </a:lnTo>
                <a:close/>
              </a:path>
              <a:path fill="lighten" w="197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97058" h="21600">
                <a:moveTo>
                  <a:pt x="91522" y="3794"/>
                </a:moveTo>
                <a:lnTo>
                  <a:pt x="105535" y="10800"/>
                </a:lnTo>
                <a:lnTo>
                  <a:pt x="9152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64" name="AutoShape 8">
            <a:hlinkClick r:id="rId2"/>
          </p:cNvPr>
          <p:cNvSpPr/>
          <p:nvPr/>
        </p:nvSpPr>
        <p:spPr>
          <a:xfrm>
            <a:off x="539640" y="2492280"/>
            <a:ext cx="5473800" cy="576360"/>
          </a:xfrm>
          <a:custGeom>
            <a:avLst/>
            <a:gdLst>
              <a:gd name="textAreaLeft" fmla="*/ 37080 w 5473800"/>
              <a:gd name="textAreaRight" fmla="*/ 5436720 w 5473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05025" h="21600">
                <a:moveTo>
                  <a:pt x="0" y="0"/>
                </a:moveTo>
                <a:lnTo>
                  <a:pt x="205025" y="0"/>
                </a:lnTo>
                <a:lnTo>
                  <a:pt x="205025" y="21600"/>
                </a:lnTo>
                <a:lnTo>
                  <a:pt x="0" y="21600"/>
                </a:lnTo>
                <a:close/>
              </a:path>
              <a:path fill="lightenLess" w="205025" h="21600">
                <a:moveTo>
                  <a:pt x="0" y="0"/>
                </a:moveTo>
                <a:lnTo>
                  <a:pt x="205025" y="0"/>
                </a:lnTo>
                <a:lnTo>
                  <a:pt x="203625" y="1400"/>
                </a:lnTo>
                <a:lnTo>
                  <a:pt x="1400" y="1400"/>
                </a:lnTo>
                <a:close/>
              </a:path>
              <a:path fill="darken" w="205025" h="21600">
                <a:moveTo>
                  <a:pt x="205025" y="0"/>
                </a:moveTo>
                <a:lnTo>
                  <a:pt x="205025" y="21600"/>
                </a:lnTo>
                <a:lnTo>
                  <a:pt x="203625" y="20200"/>
                </a:lnTo>
                <a:lnTo>
                  <a:pt x="203625" y="1400"/>
                </a:lnTo>
                <a:close/>
              </a:path>
              <a:path fill="darkenLess" w="205025" h="21600">
                <a:moveTo>
                  <a:pt x="205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625" y="20200"/>
                </a:lnTo>
                <a:close/>
              </a:path>
              <a:path fill="lighten" w="205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05025" h="21600">
                <a:moveTo>
                  <a:pt x="95506" y="3794"/>
                </a:moveTo>
                <a:lnTo>
                  <a:pt x="109519" y="10800"/>
                </a:lnTo>
                <a:lnTo>
                  <a:pt x="955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65" name="WordArt 10" descr=""/>
          <p:cNvPicPr/>
          <p:nvPr/>
        </p:nvPicPr>
        <p:blipFill>
          <a:blip r:embed="rId3"/>
          <a:stretch/>
        </p:blipFill>
        <p:spPr>
          <a:xfrm>
            <a:off x="1755720" y="469800"/>
            <a:ext cx="5529240" cy="11574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3" descr="импр 1"/>
          <p:cNvPicPr/>
          <p:nvPr/>
        </p:nvPicPr>
        <p:blipFill>
          <a:blip r:embed="rId4"/>
          <a:stretch/>
        </p:blipFill>
        <p:spPr>
          <a:xfrm>
            <a:off x="4427640" y="3573360"/>
            <a:ext cx="3541680" cy="2855880"/>
          </a:xfrm>
          <a:prstGeom prst="rect">
            <a:avLst/>
          </a:prstGeom>
          <a:ln w="0">
            <a:noFill/>
          </a:ln>
        </p:spPr>
      </p:pic>
      <p:sp>
        <p:nvSpPr>
          <p:cNvPr id="8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610920" y="1700280"/>
            <a:ext cx="78483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рессионизм – это направление во многом контрастный и по содержанию и по средствам выразительности остальным направлениям. Почти все музыкальные направления появились из искусства. По своему содержанию это своеобразный художественный протест против подавления человека буржуазным обществам, против милитаризма, мещ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WordArt 5" descr=""/>
          <p:cNvPicPr/>
          <p:nvPr/>
        </p:nvPicPr>
        <p:blipFill>
          <a:blip r:embed="rId1"/>
          <a:stretch/>
        </p:blipFill>
        <p:spPr>
          <a:xfrm>
            <a:off x="1474920" y="549360"/>
            <a:ext cx="6492600" cy="6937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7" descr="picture"/>
          <p:cNvPicPr/>
          <p:nvPr/>
        </p:nvPicPr>
        <p:blipFill>
          <a:blip r:embed="rId2"/>
          <a:stretch/>
        </p:blipFill>
        <p:spPr>
          <a:xfrm>
            <a:off x="2843280" y="4149720"/>
            <a:ext cx="3822480" cy="2314440"/>
          </a:xfrm>
          <a:prstGeom prst="rect">
            <a:avLst/>
          </a:prstGeom>
          <a:ln w="0">
            <a:noFill/>
          </a:ln>
        </p:spPr>
      </p:pic>
      <p:sp>
        <p:nvSpPr>
          <p:cNvPr id="8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8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496872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яркое воплощение экспрессионизма у таких композиторов, как А. Шёнберг, А. Веберн, А. Скрябина. Эти и другие композиторы пытались ярко и правдиво отразить сложнейшие социально-эстетические, идейно-эстетические и психологические конфликты эпохи, остроту противоречивого мышления художника в буржуазном обществе, его смятенность. Экспрессионисты отстаивали право художника на свою действительность, так как считали художнический мир реальным и правдивым, чем мир, окружающий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4" descr="Антон Веберн"/>
          <p:cNvPicPr/>
          <p:nvPr/>
        </p:nvPicPr>
        <p:blipFill>
          <a:blip r:embed="rId1"/>
          <a:stretch/>
        </p:blipFill>
        <p:spPr>
          <a:xfrm>
            <a:off x="5867280" y="1341360"/>
            <a:ext cx="2522520" cy="323064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5"/>
          <p:cNvSpPr/>
          <p:nvPr/>
        </p:nvSpPr>
        <p:spPr>
          <a:xfrm>
            <a:off x="6229440" y="45806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Антон Веберн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75" name="AutoShape 7">
            <a:hlinkClick r:id="rId2"/>
          </p:cNvPr>
          <p:cNvSpPr/>
          <p:nvPr/>
        </p:nvSpPr>
        <p:spPr>
          <a:xfrm>
            <a:off x="8101080" y="580536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рнольд Шенб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лександр Скря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4" descr="Арнольд Шёнберг"/>
          <p:cNvPicPr/>
          <p:nvPr/>
        </p:nvPicPr>
        <p:blipFill>
          <a:blip r:embed="rId1"/>
          <a:stretch/>
        </p:blipFill>
        <p:spPr>
          <a:xfrm>
            <a:off x="5508720" y="1557360"/>
            <a:ext cx="1854000" cy="2131920"/>
          </a:xfrm>
          <a:prstGeom prst="rect">
            <a:avLst/>
          </a:prstGeom>
          <a:ln w="0">
            <a:noFill/>
          </a:ln>
        </p:spPr>
      </p:pic>
      <p:sp>
        <p:nvSpPr>
          <p:cNvPr id="879" name="AutoShape 6">
            <a:hlinkClick r:id="rId2"/>
          </p:cNvPr>
          <p:cNvSpPr/>
          <p:nvPr/>
        </p:nvSpPr>
        <p:spPr>
          <a:xfrm>
            <a:off x="2050920" y="1484280"/>
            <a:ext cx="2376720" cy="1079640"/>
          </a:xfrm>
          <a:custGeom>
            <a:avLst/>
            <a:gdLst>
              <a:gd name="textAreaLeft" fmla="*/ 69840 w 2376720"/>
              <a:gd name="textAreaRight" fmla="*/ 2306880 w 237672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7542" h="21600">
                <a:moveTo>
                  <a:pt x="0" y="0"/>
                </a:moveTo>
                <a:lnTo>
                  <a:pt x="47542" y="0"/>
                </a:lnTo>
                <a:lnTo>
                  <a:pt x="47542" y="21600"/>
                </a:lnTo>
                <a:lnTo>
                  <a:pt x="0" y="21600"/>
                </a:lnTo>
                <a:close/>
              </a:path>
              <a:path fill="lightenLess" w="47542" h="21600">
                <a:moveTo>
                  <a:pt x="0" y="0"/>
                </a:moveTo>
                <a:lnTo>
                  <a:pt x="47542" y="0"/>
                </a:lnTo>
                <a:lnTo>
                  <a:pt x="46142" y="1400"/>
                </a:lnTo>
                <a:lnTo>
                  <a:pt x="1400" y="1400"/>
                </a:lnTo>
                <a:close/>
              </a:path>
              <a:path fill="darken" w="47542" h="21600">
                <a:moveTo>
                  <a:pt x="47542" y="0"/>
                </a:moveTo>
                <a:lnTo>
                  <a:pt x="47542" y="21600"/>
                </a:lnTo>
                <a:lnTo>
                  <a:pt x="46142" y="20200"/>
                </a:lnTo>
                <a:lnTo>
                  <a:pt x="46142" y="1400"/>
                </a:lnTo>
                <a:close/>
              </a:path>
              <a:path fill="darkenLess" w="47542" h="21600">
                <a:moveTo>
                  <a:pt x="4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42" y="20200"/>
                </a:lnTo>
                <a:close/>
              </a:path>
              <a:path fill="lighten" w="4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42" h="21600">
                <a:moveTo>
                  <a:pt x="16764" y="3794"/>
                </a:moveTo>
                <a:lnTo>
                  <a:pt x="30777" y="10800"/>
                </a:lnTo>
                <a:lnTo>
                  <a:pt x="167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80" name="AutoShape 7">
            <a:hlinkClick r:id="rId3"/>
          </p:cNvPr>
          <p:cNvSpPr/>
          <p:nvPr/>
        </p:nvSpPr>
        <p:spPr>
          <a:xfrm>
            <a:off x="2124000" y="400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81" name="Picture 9" descr="scriabin"/>
          <p:cNvPicPr/>
          <p:nvPr/>
        </p:nvPicPr>
        <p:blipFill>
          <a:blip r:embed="rId4"/>
          <a:stretch/>
        </p:blipFill>
        <p:spPr>
          <a:xfrm>
            <a:off x="5292720" y="3933720"/>
            <a:ext cx="2227320" cy="2470320"/>
          </a:xfrm>
          <a:prstGeom prst="rect">
            <a:avLst/>
          </a:prstGeom>
          <a:ln w="0">
            <a:noFill/>
          </a:ln>
        </p:spPr>
      </p:pic>
      <p:sp>
        <p:nvSpPr>
          <p:cNvPr id="882" name="AutoShape 10">
            <a:hlinkClick r:id="rId5"/>
          </p:cNvPr>
          <p:cNvSpPr/>
          <p:nvPr/>
        </p:nvSpPr>
        <p:spPr>
          <a:xfrm>
            <a:off x="826920" y="1700280"/>
            <a:ext cx="3745080" cy="755640"/>
          </a:xfrm>
          <a:custGeom>
            <a:avLst/>
            <a:gdLst>
              <a:gd name="textAreaLeft" fmla="*/ 48960 w 3745080"/>
              <a:gd name="textAreaRight" fmla="*/ 3696120 w 374508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107013" h="21600">
                <a:moveTo>
                  <a:pt x="0" y="0"/>
                </a:moveTo>
                <a:lnTo>
                  <a:pt x="107013" y="0"/>
                </a:lnTo>
                <a:lnTo>
                  <a:pt x="107013" y="21600"/>
                </a:lnTo>
                <a:lnTo>
                  <a:pt x="0" y="21600"/>
                </a:lnTo>
                <a:close/>
              </a:path>
              <a:path fill="lightenLess" w="107013" h="21600">
                <a:moveTo>
                  <a:pt x="0" y="0"/>
                </a:moveTo>
                <a:lnTo>
                  <a:pt x="107013" y="0"/>
                </a:lnTo>
                <a:lnTo>
                  <a:pt x="105613" y="1400"/>
                </a:lnTo>
                <a:lnTo>
                  <a:pt x="1400" y="1400"/>
                </a:lnTo>
                <a:close/>
              </a:path>
              <a:path fill="darken" w="107013" h="21600">
                <a:moveTo>
                  <a:pt x="107013" y="0"/>
                </a:moveTo>
                <a:lnTo>
                  <a:pt x="107013" y="21600"/>
                </a:lnTo>
                <a:lnTo>
                  <a:pt x="105613" y="20200"/>
                </a:lnTo>
                <a:lnTo>
                  <a:pt x="105613" y="1400"/>
                </a:lnTo>
                <a:close/>
              </a:path>
              <a:path fill="darkenLess" w="107013" h="21600">
                <a:moveTo>
                  <a:pt x="107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5613" y="20200"/>
                </a:lnTo>
                <a:close/>
              </a:path>
              <a:path fill="lighten" w="107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013" h="21600">
                <a:moveTo>
                  <a:pt x="46500" y="3794"/>
                </a:moveTo>
                <a:lnTo>
                  <a:pt x="60513" y="10800"/>
                </a:lnTo>
                <a:lnTo>
                  <a:pt x="465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83" name="AutoShape 11">
            <a:hlinkClick r:id="rId6"/>
          </p:cNvPr>
          <p:cNvSpPr/>
          <p:nvPr/>
        </p:nvSpPr>
        <p:spPr>
          <a:xfrm>
            <a:off x="900000" y="4437000"/>
            <a:ext cx="3888000" cy="682560"/>
          </a:xfrm>
          <a:custGeom>
            <a:avLst/>
            <a:gdLst>
              <a:gd name="textAreaLeft" fmla="*/ 43920 w 3888000"/>
              <a:gd name="textAreaRight" fmla="*/ 3844080 w 388800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122985" h="21600">
                <a:moveTo>
                  <a:pt x="0" y="0"/>
                </a:moveTo>
                <a:lnTo>
                  <a:pt x="122985" y="0"/>
                </a:lnTo>
                <a:lnTo>
                  <a:pt x="122985" y="21600"/>
                </a:lnTo>
                <a:lnTo>
                  <a:pt x="0" y="21600"/>
                </a:lnTo>
                <a:close/>
              </a:path>
              <a:path fill="lightenLess" w="122985" h="21600">
                <a:moveTo>
                  <a:pt x="0" y="0"/>
                </a:moveTo>
                <a:lnTo>
                  <a:pt x="122985" y="0"/>
                </a:lnTo>
                <a:lnTo>
                  <a:pt x="121585" y="1400"/>
                </a:lnTo>
                <a:lnTo>
                  <a:pt x="1400" y="1400"/>
                </a:lnTo>
                <a:close/>
              </a:path>
              <a:path fill="darken" w="122985" h="21600">
                <a:moveTo>
                  <a:pt x="122985" y="0"/>
                </a:moveTo>
                <a:lnTo>
                  <a:pt x="122985" y="21600"/>
                </a:lnTo>
                <a:lnTo>
                  <a:pt x="121585" y="20200"/>
                </a:lnTo>
                <a:lnTo>
                  <a:pt x="121585" y="1400"/>
                </a:lnTo>
                <a:close/>
              </a:path>
              <a:path fill="darkenLess" w="122985" h="21600">
                <a:moveTo>
                  <a:pt x="122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85" y="20200"/>
                </a:lnTo>
                <a:close/>
              </a:path>
              <a:path fill="lighten" w="122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985" h="21600">
                <a:moveTo>
                  <a:pt x="54486" y="3794"/>
                </a:moveTo>
                <a:lnTo>
                  <a:pt x="68499" y="10800"/>
                </a:lnTo>
                <a:lnTo>
                  <a:pt x="5448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84" name="WordArt 14" descr=""/>
          <p:cNvPicPr/>
          <p:nvPr/>
        </p:nvPicPr>
        <p:blipFill>
          <a:blip r:embed="rId7"/>
          <a:stretch/>
        </p:blipFill>
        <p:spPr>
          <a:xfrm>
            <a:off x="1042920" y="549360"/>
            <a:ext cx="7021440" cy="798480"/>
          </a:xfrm>
          <a:prstGeom prst="rect">
            <a:avLst/>
          </a:prstGeom>
          <a:ln w="0">
            <a:noFill/>
          </a:ln>
        </p:spPr>
      </p:pic>
      <p:sp>
        <p:nvSpPr>
          <p:cNvPr id="8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4642920" y="2420640"/>
            <a:ext cx="3961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Арнольд Шёнберг был австрийским композитором, педагогом, дирижер, художник. Творчество одного из крупнейших композиторов современности, главы «Новой венской школы». Все это сформировалось под воздействием эстетики символизма, австро-немецкого экспрессио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4" descr="Арнольд Шёнберг"/>
          <p:cNvPicPr/>
          <p:nvPr/>
        </p:nvPicPr>
        <p:blipFill>
          <a:blip r:embed="rId2"/>
          <a:stretch/>
        </p:blipFill>
        <p:spPr>
          <a:xfrm>
            <a:off x="971640" y="2276640"/>
            <a:ext cx="3476520" cy="4000320"/>
          </a:xfrm>
          <a:prstGeom prst="rect">
            <a:avLst/>
          </a:prstGeom>
          <a:ln w="0">
            <a:noFill/>
          </a:ln>
        </p:spPr>
      </p:pic>
      <p:pic>
        <p:nvPicPr>
          <p:cNvPr id="888" name="WordArt 5" descr=""/>
          <p:cNvPicPr/>
          <p:nvPr/>
        </p:nvPicPr>
        <p:blipFill>
          <a:blip r:embed="rId3"/>
          <a:stretch/>
        </p:blipFill>
        <p:spPr>
          <a:xfrm>
            <a:off x="2620800" y="476280"/>
            <a:ext cx="4449960" cy="1303200"/>
          </a:xfrm>
          <a:prstGeom prst="rect">
            <a:avLst/>
          </a:prstGeom>
          <a:ln w="0">
            <a:noFill/>
          </a:ln>
        </p:spPr>
      </p:pic>
      <p:sp>
        <p:nvSpPr>
          <p:cNvPr id="8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500364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оиски в области музыкально-выразительных средств привели Шёнберга к созданию метода додекафонии, оказавшего значительное воздействие на музыкальное искусство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ека. Среди произведений: оперы «Счастливая рука», «Ожидание», С сегодня на завтра», 2 камерные симфонии, а также множество других произведений. При всей сложности и противоречности творческих устремлений Шёнберга его музыка – одно из творческих устремлений явлений в искусстве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ека, отразившего дух и веяния свое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92" name="AutoShape 5">
            <a:hlinkClick r:id="rId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93" name="Picture 6" descr="Шёнберг"/>
          <p:cNvPicPr/>
          <p:nvPr/>
        </p:nvPicPr>
        <p:blipFill>
          <a:blip r:embed="rId4"/>
          <a:stretch/>
        </p:blipFill>
        <p:spPr>
          <a:xfrm>
            <a:off x="5724360" y="1628640"/>
            <a:ext cx="2170440" cy="3019680"/>
          </a:xfrm>
          <a:prstGeom prst="rect">
            <a:avLst/>
          </a:prstGeom>
          <a:ln w="0">
            <a:noFill/>
          </a:ln>
        </p:spPr>
      </p:pic>
      <p:sp>
        <p:nvSpPr>
          <p:cNvPr id="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WordArt 4" descr=""/>
          <p:cNvPicPr/>
          <p:nvPr/>
        </p:nvPicPr>
        <p:blipFill>
          <a:blip r:embed="rId1"/>
          <a:stretch/>
        </p:blipFill>
        <p:spPr>
          <a:xfrm>
            <a:off x="1609560" y="1689120"/>
            <a:ext cx="6102360" cy="2724120"/>
          </a:xfrm>
          <a:prstGeom prst="rect">
            <a:avLst/>
          </a:prstGeom>
          <a:ln w="0">
            <a:noFill/>
          </a:ln>
        </p:spPr>
      </p:pic>
      <p:sp>
        <p:nvSpPr>
          <p:cNvPr id="8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5003280" y="2492280"/>
            <a:ext cx="34052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крябин был русским композитором, педагогом, пианистом. Один из крупнейших мастеров музыкальной культуры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толетия, яркий и своеобразный мыслитель. Скрябин направил все свои помыслы на переустройства искусства и миропорядка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5" descr="скр1"/>
          <p:cNvPicPr/>
          <p:nvPr/>
        </p:nvPicPr>
        <p:blipFill>
          <a:blip r:embed="rId2"/>
          <a:stretch/>
        </p:blipFill>
        <p:spPr>
          <a:xfrm>
            <a:off x="900000" y="2421000"/>
            <a:ext cx="3175200" cy="3759120"/>
          </a:xfrm>
          <a:prstGeom prst="rect">
            <a:avLst/>
          </a:prstGeom>
          <a:ln w="0">
            <a:noFill/>
          </a:ln>
        </p:spPr>
      </p:pic>
      <p:pic>
        <p:nvPicPr>
          <p:cNvPr id="897" name="WordArt 6" descr=""/>
          <p:cNvPicPr/>
          <p:nvPr/>
        </p:nvPicPr>
        <p:blipFill>
          <a:blip r:embed="rId3"/>
          <a:stretch/>
        </p:blipFill>
        <p:spPr>
          <a:xfrm>
            <a:off x="2481120" y="476280"/>
            <a:ext cx="4803840" cy="1303200"/>
          </a:xfrm>
          <a:prstGeom prst="rect">
            <a:avLst/>
          </a:prstGeom>
          <a:ln w="0">
            <a:noFill/>
          </a:ln>
        </p:spPr>
      </p:pic>
      <p:sp>
        <p:nvSpPr>
          <p:cNvPr id="8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432108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крябинское творчество представляет собой оригинальную художественную систему, в которой волевые порывы, героическая устремлённость в неведомые миры сочетаются с изысканной, хрупкой одухотворенностью – все средства в его музыке всходят к неповторимо индивидуальной организации. Автор 3 симфоний, оркестровых поэм «Мечты», «Поэма экстаза», «Прометей», фортепианного концерта и других произве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1" name="AutoShape 5">
            <a:hlinkClick r:id="rId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02" name="Picture 6" descr="Скрябин"/>
          <p:cNvPicPr/>
          <p:nvPr/>
        </p:nvPicPr>
        <p:blipFill>
          <a:blip r:embed="rId4"/>
          <a:stretch/>
        </p:blipFill>
        <p:spPr>
          <a:xfrm>
            <a:off x="5580000" y="1341360"/>
            <a:ext cx="2706840" cy="3519720"/>
          </a:xfrm>
          <a:prstGeom prst="rect">
            <a:avLst/>
          </a:prstGeom>
          <a:ln w="0">
            <a:noFill/>
          </a:ln>
        </p:spPr>
      </p:pic>
      <p:sp>
        <p:nvSpPr>
          <p:cNvPr id="9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Определение на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Советский дж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AutoShape 4">
            <a:hlinkClick r:id="rId1"/>
          </p:cNvPr>
          <p:cNvSpPr/>
          <p:nvPr/>
        </p:nvSpPr>
        <p:spPr>
          <a:xfrm>
            <a:off x="900000" y="1989000"/>
            <a:ext cx="6121440" cy="576360"/>
          </a:xfrm>
          <a:custGeom>
            <a:avLst/>
            <a:gdLst>
              <a:gd name="textAreaLeft" fmla="*/ 37080 w 6121440"/>
              <a:gd name="textAreaRight" fmla="*/ 6084360 w 6121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9281" h="21600">
                <a:moveTo>
                  <a:pt x="0" y="0"/>
                </a:moveTo>
                <a:lnTo>
                  <a:pt x="229281" y="0"/>
                </a:lnTo>
                <a:lnTo>
                  <a:pt x="229281" y="21600"/>
                </a:lnTo>
                <a:lnTo>
                  <a:pt x="0" y="21600"/>
                </a:lnTo>
                <a:close/>
              </a:path>
              <a:path fill="lightenLess" w="229281" h="21600">
                <a:moveTo>
                  <a:pt x="0" y="0"/>
                </a:moveTo>
                <a:lnTo>
                  <a:pt x="229281" y="0"/>
                </a:lnTo>
                <a:lnTo>
                  <a:pt x="227881" y="1400"/>
                </a:lnTo>
                <a:lnTo>
                  <a:pt x="1400" y="1400"/>
                </a:lnTo>
                <a:close/>
              </a:path>
              <a:path fill="darken" w="229281" h="21600">
                <a:moveTo>
                  <a:pt x="229281" y="0"/>
                </a:moveTo>
                <a:lnTo>
                  <a:pt x="229281" y="21600"/>
                </a:lnTo>
                <a:lnTo>
                  <a:pt x="227881" y="20200"/>
                </a:lnTo>
                <a:lnTo>
                  <a:pt x="227881" y="1400"/>
                </a:lnTo>
                <a:close/>
              </a:path>
              <a:path fill="darkenLess" w="229281" h="21600">
                <a:moveTo>
                  <a:pt x="229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1" y="20200"/>
                </a:lnTo>
                <a:close/>
              </a:path>
              <a:path fill="lighten" w="229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81" h="21600">
                <a:moveTo>
                  <a:pt x="107634" y="3794"/>
                </a:moveTo>
                <a:lnTo>
                  <a:pt x="121647" y="10800"/>
                </a:lnTo>
                <a:lnTo>
                  <a:pt x="10763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6" name="AutoShape 5">
            <a:hlinkClick r:id="rId2"/>
          </p:cNvPr>
          <p:cNvSpPr/>
          <p:nvPr/>
        </p:nvSpPr>
        <p:spPr>
          <a:xfrm>
            <a:off x="900000" y="256536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7542" h="21600">
                <a:moveTo>
                  <a:pt x="61764" y="3794"/>
                </a:moveTo>
                <a:lnTo>
                  <a:pt x="75777" y="10800"/>
                </a:lnTo>
                <a:lnTo>
                  <a:pt x="617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7" name="AutoShape 6">
            <a:hlinkClick r:id="rId3"/>
          </p:cNvPr>
          <p:cNvSpPr/>
          <p:nvPr/>
        </p:nvSpPr>
        <p:spPr>
          <a:xfrm>
            <a:off x="900000" y="3213000"/>
            <a:ext cx="5472360" cy="503280"/>
          </a:xfrm>
          <a:custGeom>
            <a:avLst/>
            <a:gdLst>
              <a:gd name="textAreaLeft" fmla="*/ 32400 w 5472360"/>
              <a:gd name="textAreaRight" fmla="*/ 5439960 w 547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34713" h="21600">
                <a:moveTo>
                  <a:pt x="0" y="0"/>
                </a:moveTo>
                <a:lnTo>
                  <a:pt x="234713" y="0"/>
                </a:lnTo>
                <a:lnTo>
                  <a:pt x="234713" y="21600"/>
                </a:lnTo>
                <a:lnTo>
                  <a:pt x="0" y="21600"/>
                </a:lnTo>
                <a:close/>
              </a:path>
              <a:path fill="lightenLess" w="234713" h="21600">
                <a:moveTo>
                  <a:pt x="0" y="0"/>
                </a:moveTo>
                <a:lnTo>
                  <a:pt x="234713" y="0"/>
                </a:lnTo>
                <a:lnTo>
                  <a:pt x="233313" y="1400"/>
                </a:lnTo>
                <a:lnTo>
                  <a:pt x="1400" y="1400"/>
                </a:lnTo>
                <a:close/>
              </a:path>
              <a:path fill="darken" w="234713" h="21600">
                <a:moveTo>
                  <a:pt x="234713" y="0"/>
                </a:moveTo>
                <a:lnTo>
                  <a:pt x="234713" y="21600"/>
                </a:lnTo>
                <a:lnTo>
                  <a:pt x="233313" y="20200"/>
                </a:lnTo>
                <a:lnTo>
                  <a:pt x="233313" y="1400"/>
                </a:lnTo>
                <a:close/>
              </a:path>
              <a:path fill="darkenLess" w="234713" h="21600">
                <a:moveTo>
                  <a:pt x="2347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13" y="20200"/>
                </a:lnTo>
                <a:close/>
              </a:path>
              <a:path fill="lighten" w="2347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713" h="21600">
                <a:moveTo>
                  <a:pt x="110350" y="3794"/>
                </a:moveTo>
                <a:lnTo>
                  <a:pt x="124363" y="10800"/>
                </a:lnTo>
                <a:lnTo>
                  <a:pt x="11035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08" name="Picture 8" descr="джаз 1"/>
          <p:cNvPicPr/>
          <p:nvPr/>
        </p:nvPicPr>
        <p:blipFill>
          <a:blip r:embed="rId4"/>
          <a:stretch/>
        </p:blipFill>
        <p:spPr>
          <a:xfrm>
            <a:off x="5435640" y="4221000"/>
            <a:ext cx="2936880" cy="2138400"/>
          </a:xfrm>
          <a:prstGeom prst="rect">
            <a:avLst/>
          </a:prstGeom>
          <a:ln w="0">
            <a:noFill/>
          </a:ln>
        </p:spPr>
      </p:pic>
      <p:pic>
        <p:nvPicPr>
          <p:cNvPr id="909" name="WordArt 9" descr=""/>
          <p:cNvPicPr/>
          <p:nvPr/>
        </p:nvPicPr>
        <p:blipFill>
          <a:blip r:embed="rId5"/>
          <a:stretch/>
        </p:blipFill>
        <p:spPr>
          <a:xfrm>
            <a:off x="3376440" y="579600"/>
            <a:ext cx="2706840" cy="1163520"/>
          </a:xfrm>
          <a:prstGeom prst="rect">
            <a:avLst/>
          </a:prstGeom>
          <a:ln w="0">
            <a:noFill/>
          </a:ln>
        </p:spPr>
      </p:pic>
      <p:sp>
        <p:nvSpPr>
          <p:cNvPr id="9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9e6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1402920" y="2349000"/>
            <a:ext cx="6048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аз – род современного искусства, возникший на рубеж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– X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ков в Южных штатах США в среде американских негров – потомков африканских рабов. Джаз – искусство, основанное на импровизации в сочетании с заранее продуманной, но не обязательно записанной в нотах формой композиции. Значительное место в репертуаре традиционного джаза занял блюз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2" name="WordArt 5" descr=""/>
          <p:cNvPicPr/>
          <p:nvPr/>
        </p:nvPicPr>
        <p:blipFill>
          <a:blip r:embed="rId1"/>
          <a:stretch/>
        </p:blipFill>
        <p:spPr>
          <a:xfrm>
            <a:off x="858960" y="1011240"/>
            <a:ext cx="7437240" cy="725400"/>
          </a:xfrm>
          <a:prstGeom prst="rect">
            <a:avLst/>
          </a:prstGeom>
          <a:ln w="0">
            <a:noFill/>
          </a:ln>
        </p:spPr>
      </p:pic>
      <p:sp>
        <p:nvSpPr>
          <p:cNvPr id="9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54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жнейшие характеристики джаза – наличие в ритмике, во-первых, регулярной пульсации, так называемого «бита», а во-вторых, отклонений от этой пульсации – «свинга»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винга характерно, во-первых,  появление нового типа оркестра – биг-бэнда, который состоит из трёх групп инструментов – секций, каждая может звучать как один многоголосный инструмент: секции саксофонов (позднее с кларнетами), «медной» секции (трубы и тромбоны), ритмической секции (фортепиано, гитара, контрабас, ударны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AutoShape 3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16" name="Picture 4" descr="Джаз 2"/>
          <p:cNvPicPr/>
          <p:nvPr/>
        </p:nvPicPr>
        <p:blipFill>
          <a:blip r:embed="rId2"/>
          <a:stretch/>
        </p:blipFill>
        <p:spPr>
          <a:xfrm>
            <a:off x="6084720" y="1700280"/>
            <a:ext cx="2551320" cy="3117960"/>
          </a:xfrm>
          <a:prstGeom prst="rect">
            <a:avLst/>
          </a:prstGeom>
          <a:ln w="0">
            <a:noFill/>
          </a:ln>
        </p:spPr>
      </p:pic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54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ительными успехами отмечено развитие советского джаза, начало которому было положено В.Парнахом в 1922 году. В довоенный период джаз в нашей стране развивался внутри эстрадных оркестров. Благодаря сотрудничеству Л.Утёсова с И.Дунаевским возник также песенный джаз. Импровизационный джаз стилей «диксиленд» и «свинг» практиковался в оркестрах А.Варламова, Н.Минха, А.Цфасмана и друг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9" name="Picture 4" descr="Утёсов"/>
          <p:cNvPicPr/>
          <p:nvPr/>
        </p:nvPicPr>
        <p:blipFill>
          <a:blip r:embed="rId1"/>
          <a:stretch/>
        </p:blipFill>
        <p:spPr>
          <a:xfrm>
            <a:off x="6372360" y="1989000"/>
            <a:ext cx="1914480" cy="289728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5"/>
          <p:cNvSpPr/>
          <p:nvPr/>
        </p:nvSpPr>
        <p:spPr>
          <a:xfrm>
            <a:off x="6376320" y="49410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Дунаевский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21" name="AutoShape 6">
            <a:hlinkClick r:id="rId2"/>
          </p:cNvPr>
          <p:cNvSpPr/>
          <p:nvPr/>
        </p:nvSpPr>
        <p:spPr>
          <a:xfrm>
            <a:off x="7596360" y="5661000"/>
            <a:ext cx="1547640" cy="1197000"/>
          </a:xfrm>
          <a:custGeom>
            <a:avLst/>
            <a:gdLst>
              <a:gd name="textAreaLeft" fmla="*/ 77400 w 1547640"/>
              <a:gd name="textAreaRight" fmla="*/ 1470240 w 154764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7925" h="21600">
                <a:moveTo>
                  <a:pt x="0" y="0"/>
                </a:moveTo>
                <a:lnTo>
                  <a:pt x="27925" y="0"/>
                </a:lnTo>
                <a:lnTo>
                  <a:pt x="27925" y="21600"/>
                </a:lnTo>
                <a:lnTo>
                  <a:pt x="0" y="21600"/>
                </a:lnTo>
                <a:close/>
              </a:path>
              <a:path fill="lightenLess" w="27925" h="21600">
                <a:moveTo>
                  <a:pt x="0" y="0"/>
                </a:moveTo>
                <a:lnTo>
                  <a:pt x="27925" y="0"/>
                </a:lnTo>
                <a:lnTo>
                  <a:pt x="26525" y="1400"/>
                </a:lnTo>
                <a:lnTo>
                  <a:pt x="1400" y="1400"/>
                </a:lnTo>
                <a:close/>
              </a:path>
              <a:path fill="darken" w="27925" h="21600">
                <a:moveTo>
                  <a:pt x="27925" y="0"/>
                </a:moveTo>
                <a:lnTo>
                  <a:pt x="27925" y="21600"/>
                </a:lnTo>
                <a:lnTo>
                  <a:pt x="26525" y="20200"/>
                </a:lnTo>
                <a:lnTo>
                  <a:pt x="26525" y="1400"/>
                </a:lnTo>
                <a:close/>
              </a:path>
              <a:path fill="darkenLess" w="27925" h="21600">
                <a:moveTo>
                  <a:pt x="27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5" y="20200"/>
                </a:lnTo>
                <a:close/>
              </a:path>
              <a:path fill="lighten" w="27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5" h="21600">
                <a:moveTo>
                  <a:pt x="13963" y="3837"/>
                </a:moveTo>
                <a:lnTo>
                  <a:pt x="16539" y="6448"/>
                </a:lnTo>
                <a:lnTo>
                  <a:pt x="16539" y="4707"/>
                </a:lnTo>
                <a:lnTo>
                  <a:pt x="18315" y="4707"/>
                </a:lnTo>
                <a:lnTo>
                  <a:pt x="18315" y="8224"/>
                </a:lnTo>
                <a:lnTo>
                  <a:pt x="20926" y="10800"/>
                </a:lnTo>
                <a:lnTo>
                  <a:pt x="19272" y="10800"/>
                </a:lnTo>
                <a:lnTo>
                  <a:pt x="19272" y="17989"/>
                </a:lnTo>
                <a:lnTo>
                  <a:pt x="8653" y="17989"/>
                </a:lnTo>
                <a:lnTo>
                  <a:pt x="8653" y="10800"/>
                </a:lnTo>
                <a:lnTo>
                  <a:pt x="7000" y="10800"/>
                </a:lnTo>
                <a:close/>
              </a:path>
              <a:path fill="darkenLess" w="27925" h="21600">
                <a:moveTo>
                  <a:pt x="16539" y="6448"/>
                </a:moveTo>
                <a:lnTo>
                  <a:pt x="16539" y="4707"/>
                </a:lnTo>
                <a:lnTo>
                  <a:pt x="18315" y="4707"/>
                </a:lnTo>
                <a:lnTo>
                  <a:pt x="18315" y="8224"/>
                </a:lnTo>
                <a:close/>
              </a:path>
              <a:path fill="darkenLess" w="27925" h="21600">
                <a:moveTo>
                  <a:pt x="13040" y="14299"/>
                </a:moveTo>
                <a:lnTo>
                  <a:pt x="14885" y="14299"/>
                </a:lnTo>
                <a:lnTo>
                  <a:pt x="14885" y="17989"/>
                </a:lnTo>
                <a:lnTo>
                  <a:pt x="19272" y="17989"/>
                </a:lnTo>
                <a:lnTo>
                  <a:pt x="19272" y="10800"/>
                </a:lnTo>
                <a:lnTo>
                  <a:pt x="8653" y="10800"/>
                </a:lnTo>
                <a:lnTo>
                  <a:pt x="8653" y="17989"/>
                </a:lnTo>
                <a:lnTo>
                  <a:pt x="13040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22" name="WordArt 7" descr=""/>
          <p:cNvPicPr/>
          <p:nvPr/>
        </p:nvPicPr>
        <p:blipFill>
          <a:blip r:embed="rId3"/>
          <a:stretch/>
        </p:blipFill>
        <p:spPr>
          <a:xfrm>
            <a:off x="2548080" y="542880"/>
            <a:ext cx="4389120" cy="1266840"/>
          </a:xfrm>
          <a:prstGeom prst="rect">
            <a:avLst/>
          </a:prstGeom>
          <a:ln w="0">
            <a:noFill/>
          </a:ln>
        </p:spPr>
      </p:pic>
      <p:sp>
        <p:nvSpPr>
          <p:cNvPr id="9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3779640" y="2681280"/>
            <a:ext cx="5003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ордж Гершвин (1898-1937) – американский композитор и пианист. Систематического музыкального образования он не получил. С 15 лет начал сочинять эстрадные лирические песни, джазовую танцевальную музыку и т.п. Наряду с этим Гершвин создавал популярные произведения, в которых удачно сочетаются принципы симфонической и джазовой музы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Picture 9" descr="Гершвин"/>
          <p:cNvPicPr/>
          <p:nvPr/>
        </p:nvPicPr>
        <p:blipFill>
          <a:blip r:embed="rId1"/>
          <a:stretch/>
        </p:blipFill>
        <p:spPr>
          <a:xfrm>
            <a:off x="755640" y="2349360"/>
            <a:ext cx="2624040" cy="3888000"/>
          </a:xfrm>
          <a:prstGeom prst="rect">
            <a:avLst/>
          </a:prstGeom>
          <a:ln w="0">
            <a:noFill/>
          </a:ln>
        </p:spPr>
      </p:pic>
      <p:pic>
        <p:nvPicPr>
          <p:cNvPr id="926" name="WordArt 10" descr=""/>
          <p:cNvPicPr/>
          <p:nvPr/>
        </p:nvPicPr>
        <p:blipFill>
          <a:blip r:embed="rId2"/>
          <a:stretch/>
        </p:blipFill>
        <p:spPr>
          <a:xfrm>
            <a:off x="1474920" y="762120"/>
            <a:ext cx="6821280" cy="987480"/>
          </a:xfrm>
          <a:prstGeom prst="rect">
            <a:avLst/>
          </a:prstGeom>
          <a:ln w="0">
            <a:noFill/>
          </a:ln>
        </p:spPr>
      </p:pic>
      <p:sp>
        <p:nvSpPr>
          <p:cNvPr id="9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250560" y="809280"/>
            <a:ext cx="4825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0 сентября 1935 года – день рождения американской национальной оперы «Порги и Бесс», рисующей жизнь негритянской бедноты. Она пронизана негритянским фольклором - мелодиями блюзов и спиричуэлс, народными песнями, хорами, танцами. Творчество Гершвина – одна из вершин американской национальной классики. Мировую известность получили «Рапсодия в блюзовых тонах» и симфоническая поэма «Американец в Париже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AutoShape 3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30" name="Picture 4" descr="PH10710"/>
          <p:cNvPicPr/>
          <p:nvPr/>
        </p:nvPicPr>
        <p:blipFill>
          <a:blip r:embed="rId2"/>
          <a:stretch/>
        </p:blipFill>
        <p:spPr>
          <a:xfrm>
            <a:off x="5292720" y="1125360"/>
            <a:ext cx="3465360" cy="4146840"/>
          </a:xfrm>
          <a:prstGeom prst="rect">
            <a:avLst/>
          </a:prstGeom>
          <a:ln w="0">
            <a:noFill/>
          </a:ln>
        </p:spPr>
      </p:pic>
      <p:sp>
        <p:nvSpPr>
          <p:cNvPr id="9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1692000" y="2133360"/>
            <a:ext cx="70102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cc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Описание на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cc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Музыкальные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AutoShape 4">
            <a:hlinkClick r:id="rId1"/>
          </p:cNvPr>
          <p:cNvSpPr/>
          <p:nvPr/>
        </p:nvSpPr>
        <p:spPr>
          <a:xfrm>
            <a:off x="2195640" y="2060640"/>
            <a:ext cx="5040360" cy="504720"/>
          </a:xfrm>
          <a:custGeom>
            <a:avLst/>
            <a:gdLst>
              <a:gd name="textAreaLeft" fmla="*/ 32400 w 5040360"/>
              <a:gd name="textAreaRight" fmla="*/ 5007960 w 5040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69" h="21600">
                <a:moveTo>
                  <a:pt x="0" y="0"/>
                </a:moveTo>
                <a:lnTo>
                  <a:pt x="215569" y="0"/>
                </a:lnTo>
                <a:lnTo>
                  <a:pt x="215569" y="21600"/>
                </a:lnTo>
                <a:lnTo>
                  <a:pt x="0" y="21600"/>
                </a:lnTo>
                <a:close/>
              </a:path>
              <a:path fill="lightenLess" w="215569" h="21600">
                <a:moveTo>
                  <a:pt x="0" y="0"/>
                </a:moveTo>
                <a:lnTo>
                  <a:pt x="215569" y="0"/>
                </a:lnTo>
                <a:lnTo>
                  <a:pt x="214169" y="1400"/>
                </a:lnTo>
                <a:lnTo>
                  <a:pt x="1400" y="1400"/>
                </a:lnTo>
                <a:close/>
              </a:path>
              <a:path fill="darken" w="215569" h="21600">
                <a:moveTo>
                  <a:pt x="215569" y="0"/>
                </a:moveTo>
                <a:lnTo>
                  <a:pt x="215569" y="21600"/>
                </a:lnTo>
                <a:lnTo>
                  <a:pt x="214169" y="20200"/>
                </a:lnTo>
                <a:lnTo>
                  <a:pt x="214169" y="1400"/>
                </a:lnTo>
                <a:close/>
              </a:path>
              <a:path fill="darkenLess" w="215569" h="21600">
                <a:moveTo>
                  <a:pt x="21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69" y="20200"/>
                </a:lnTo>
                <a:close/>
              </a:path>
              <a:path fill="lighten" w="21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69" h="21600">
                <a:moveTo>
                  <a:pt x="100778" y="3794"/>
                </a:moveTo>
                <a:lnTo>
                  <a:pt x="114791" y="10800"/>
                </a:lnTo>
                <a:lnTo>
                  <a:pt x="1007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34" name="AutoShape 5">
            <a:hlinkClick r:id="rId2"/>
          </p:cNvPr>
          <p:cNvSpPr/>
          <p:nvPr/>
        </p:nvSpPr>
        <p:spPr>
          <a:xfrm>
            <a:off x="2195640" y="2781360"/>
            <a:ext cx="5040360" cy="504720"/>
          </a:xfrm>
          <a:custGeom>
            <a:avLst/>
            <a:gdLst>
              <a:gd name="textAreaLeft" fmla="*/ 32400 w 5040360"/>
              <a:gd name="textAreaRight" fmla="*/ 5007960 w 5040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69" h="21600">
                <a:moveTo>
                  <a:pt x="0" y="0"/>
                </a:moveTo>
                <a:lnTo>
                  <a:pt x="215569" y="0"/>
                </a:lnTo>
                <a:lnTo>
                  <a:pt x="215569" y="21600"/>
                </a:lnTo>
                <a:lnTo>
                  <a:pt x="0" y="21600"/>
                </a:lnTo>
                <a:close/>
              </a:path>
              <a:path fill="lightenLess" w="215569" h="21600">
                <a:moveTo>
                  <a:pt x="0" y="0"/>
                </a:moveTo>
                <a:lnTo>
                  <a:pt x="215569" y="0"/>
                </a:lnTo>
                <a:lnTo>
                  <a:pt x="214169" y="1400"/>
                </a:lnTo>
                <a:lnTo>
                  <a:pt x="1400" y="1400"/>
                </a:lnTo>
                <a:close/>
              </a:path>
              <a:path fill="darken" w="215569" h="21600">
                <a:moveTo>
                  <a:pt x="215569" y="0"/>
                </a:moveTo>
                <a:lnTo>
                  <a:pt x="215569" y="21600"/>
                </a:lnTo>
                <a:lnTo>
                  <a:pt x="214169" y="20200"/>
                </a:lnTo>
                <a:lnTo>
                  <a:pt x="214169" y="1400"/>
                </a:lnTo>
                <a:close/>
              </a:path>
              <a:path fill="darkenLess" w="215569" h="21600">
                <a:moveTo>
                  <a:pt x="21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69" y="20200"/>
                </a:lnTo>
                <a:close/>
              </a:path>
              <a:path fill="lighten" w="21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69" h="21600">
                <a:moveTo>
                  <a:pt x="100778" y="3794"/>
                </a:moveTo>
                <a:lnTo>
                  <a:pt x="114791" y="10800"/>
                </a:lnTo>
                <a:lnTo>
                  <a:pt x="1007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35" name="Picture 6" descr="Авангард"/>
          <p:cNvPicPr/>
          <p:nvPr/>
        </p:nvPicPr>
        <p:blipFill>
          <a:blip r:embed="rId3"/>
          <a:stretch/>
        </p:blipFill>
        <p:spPr>
          <a:xfrm>
            <a:off x="4932360" y="3716280"/>
            <a:ext cx="3436920" cy="2197080"/>
          </a:xfrm>
          <a:prstGeom prst="rect">
            <a:avLst/>
          </a:prstGeom>
          <a:ln w="0">
            <a:noFill/>
          </a:ln>
        </p:spPr>
      </p:pic>
      <p:pic>
        <p:nvPicPr>
          <p:cNvPr id="936" name="WordArt 7" descr=""/>
          <p:cNvPicPr/>
          <p:nvPr/>
        </p:nvPicPr>
        <p:blipFill>
          <a:blip r:embed="rId4"/>
          <a:stretch/>
        </p:blipFill>
        <p:spPr>
          <a:xfrm>
            <a:off x="3267000" y="828720"/>
            <a:ext cx="4432320" cy="866880"/>
          </a:xfrm>
          <a:prstGeom prst="rect">
            <a:avLst/>
          </a:prstGeom>
          <a:ln w="0">
            <a:noFill/>
          </a:ln>
        </p:spPr>
      </p:pic>
      <p:sp>
        <p:nvSpPr>
          <p:cNvPr id="9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4427280" y="1700280"/>
            <a:ext cx="4259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 авангардистских течениях особенно остро проявились элитарные тенденции, отрыв от задач искусства в обществе, неспособность художников создать общественно значимые концепции, яркое, воздействующее на массы искусство. Среди композиторов, в той или иной степени примыкавших к авангардизму, можно назвать А. Шнитке и П. Шефф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4" descr="Авангард 2"/>
          <p:cNvPicPr/>
          <p:nvPr/>
        </p:nvPicPr>
        <p:blipFill>
          <a:blip r:embed="rId1"/>
          <a:stretch/>
        </p:blipFill>
        <p:spPr>
          <a:xfrm>
            <a:off x="1403280" y="2276640"/>
            <a:ext cx="2656080" cy="3186000"/>
          </a:xfrm>
          <a:prstGeom prst="rect">
            <a:avLst/>
          </a:prstGeom>
          <a:ln w="0">
            <a:noFill/>
          </a:ln>
        </p:spPr>
      </p:pic>
      <p:pic>
        <p:nvPicPr>
          <p:cNvPr id="940" name="WordArt 5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6491160" cy="701640"/>
          </a:xfrm>
          <a:prstGeom prst="rect">
            <a:avLst/>
          </a:prstGeom>
          <a:ln w="0">
            <a:noFill/>
          </a:ln>
        </p:spPr>
      </p:pic>
      <p:sp>
        <p:nvSpPr>
          <p:cNvPr id="9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сновные направления в музыке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XX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ека. 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2" name="Picture 21" descr="the_first_piano_lesson"/>
          <p:cNvPicPr/>
          <p:nvPr/>
        </p:nvPicPr>
        <p:blipFill>
          <a:blip r:embed="rId1"/>
          <a:stretch/>
        </p:blipFill>
        <p:spPr>
          <a:xfrm>
            <a:off x="5292720" y="2205000"/>
            <a:ext cx="2987640" cy="399276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22">
            <a:hlinkClick r:id="rId2"/>
          </p:cNvPr>
          <p:cNvSpPr/>
          <p:nvPr/>
        </p:nvSpPr>
        <p:spPr>
          <a:xfrm>
            <a:off x="1476360" y="1916280"/>
            <a:ext cx="1727280" cy="577800"/>
          </a:xfrm>
          <a:custGeom>
            <a:avLst/>
            <a:gdLst>
              <a:gd name="textAreaLeft" fmla="*/ 37440 w 1727280"/>
              <a:gd name="textAreaRight" fmla="*/ 1689840 w 1727280"/>
              <a:gd name="textAreaTop" fmla="*/ 37440 h 577800"/>
              <a:gd name="textAreaBottom" fmla="*/ 540360 h 577800"/>
            </a:gdLst>
            <a:ahLst/>
            <a:rect l="textAreaLeft" t="textAreaTop" r="textAreaRight" b="textAreaBottom"/>
            <a:pathLst>
              <a:path w="64544" h="21600">
                <a:moveTo>
                  <a:pt x="0" y="0"/>
                </a:moveTo>
                <a:lnTo>
                  <a:pt x="64544" y="0"/>
                </a:lnTo>
                <a:lnTo>
                  <a:pt x="64544" y="21600"/>
                </a:lnTo>
                <a:lnTo>
                  <a:pt x="0" y="21600"/>
                </a:lnTo>
                <a:close/>
              </a:path>
              <a:path fill="lightenLess" w="64544" h="21600">
                <a:moveTo>
                  <a:pt x="0" y="0"/>
                </a:moveTo>
                <a:lnTo>
                  <a:pt x="64544" y="0"/>
                </a:lnTo>
                <a:lnTo>
                  <a:pt x="63144" y="1400"/>
                </a:lnTo>
                <a:lnTo>
                  <a:pt x="1400" y="1400"/>
                </a:lnTo>
                <a:close/>
              </a:path>
              <a:path fill="darken" w="64544" h="21600">
                <a:moveTo>
                  <a:pt x="64544" y="0"/>
                </a:moveTo>
                <a:lnTo>
                  <a:pt x="64544" y="21600"/>
                </a:lnTo>
                <a:lnTo>
                  <a:pt x="63144" y="20200"/>
                </a:lnTo>
                <a:lnTo>
                  <a:pt x="63144" y="1400"/>
                </a:lnTo>
                <a:close/>
              </a:path>
              <a:path fill="darkenLess" w="64544" h="21600">
                <a:moveTo>
                  <a:pt x="64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44" y="20200"/>
                </a:lnTo>
                <a:close/>
              </a:path>
              <a:path fill="lighten" w="64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44" h="21600">
                <a:moveTo>
                  <a:pt x="25266" y="3794"/>
                </a:moveTo>
                <a:lnTo>
                  <a:pt x="39279" y="10800"/>
                </a:lnTo>
                <a:lnTo>
                  <a:pt x="252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04" name="AutoShape 23">
            <a:hlinkClick r:id="rId3"/>
          </p:cNvPr>
          <p:cNvSpPr/>
          <p:nvPr/>
        </p:nvSpPr>
        <p:spPr>
          <a:xfrm>
            <a:off x="1403280" y="2637000"/>
            <a:ext cx="2881440" cy="2376360"/>
          </a:xfrm>
          <a:custGeom>
            <a:avLst/>
            <a:gdLst>
              <a:gd name="textAreaLeft" fmla="*/ 153720 w 2881440"/>
              <a:gd name="textAreaRight" fmla="*/ 2727720 w 2881440"/>
              <a:gd name="textAreaTop" fmla="*/ 153720 h 2376360"/>
              <a:gd name="textAreaBottom" fmla="*/ 2222640 h 2376360"/>
            </a:gdLst>
            <a:ahLst/>
            <a:rect l="textAreaLeft" t="textAreaTop" r="textAreaRight" b="textAreaBottom"/>
            <a:pathLst>
              <a:path w="26190" h="21600">
                <a:moveTo>
                  <a:pt x="0" y="0"/>
                </a:moveTo>
                <a:lnTo>
                  <a:pt x="26190" y="0"/>
                </a:lnTo>
                <a:lnTo>
                  <a:pt x="26190" y="21600"/>
                </a:lnTo>
                <a:lnTo>
                  <a:pt x="0" y="21600"/>
                </a:lnTo>
                <a:close/>
              </a:path>
              <a:path fill="lightenLess" w="26190" h="21600">
                <a:moveTo>
                  <a:pt x="0" y="0"/>
                </a:moveTo>
                <a:lnTo>
                  <a:pt x="26190" y="0"/>
                </a:lnTo>
                <a:lnTo>
                  <a:pt x="24790" y="1400"/>
                </a:lnTo>
                <a:lnTo>
                  <a:pt x="1400" y="1400"/>
                </a:lnTo>
                <a:close/>
              </a:path>
              <a:path fill="darken" w="26190" h="21600">
                <a:moveTo>
                  <a:pt x="26190" y="0"/>
                </a:moveTo>
                <a:lnTo>
                  <a:pt x="26190" y="21600"/>
                </a:lnTo>
                <a:lnTo>
                  <a:pt x="24790" y="20200"/>
                </a:lnTo>
                <a:lnTo>
                  <a:pt x="24790" y="1400"/>
                </a:lnTo>
                <a:close/>
              </a:path>
              <a:path fill="darkenLess" w="26190" h="21600">
                <a:moveTo>
                  <a:pt x="26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90" y="20200"/>
                </a:lnTo>
                <a:close/>
              </a:path>
              <a:path fill="lighten" w="26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90" h="21600">
                <a:moveTo>
                  <a:pt x="6089" y="3794"/>
                </a:moveTo>
                <a:lnTo>
                  <a:pt x="20102" y="10800"/>
                </a:lnTo>
                <a:lnTo>
                  <a:pt x="60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05" name="WordArt 24" descr=""/>
          <p:cNvPicPr/>
          <p:nvPr/>
        </p:nvPicPr>
        <p:blipFill>
          <a:blip r:embed="rId4"/>
          <a:stretch/>
        </p:blipFill>
        <p:spPr>
          <a:xfrm>
            <a:off x="1401840" y="901800"/>
            <a:ext cx="3346200" cy="664920"/>
          </a:xfrm>
          <a:prstGeom prst="rect">
            <a:avLst/>
          </a:prstGeom>
          <a:ln w="0">
            <a:noFill/>
          </a:ln>
        </p:spPr>
      </p:pic>
      <p:sp>
        <p:nvSpPr>
          <p:cNvPr id="80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4859280" y="1483920"/>
            <a:ext cx="4043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Многие авангардисты, движимые ложным представлением, что могут выразить новое содержание только с помощью неизвестных средств, а также стремлением к сенсационности, шли на эксперименты, приводившие к разрушению эстетических и даже технологических основ искус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AutoShape 4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44" name="Picture 5" descr="Шнитке 1"/>
          <p:cNvPicPr/>
          <p:nvPr/>
        </p:nvPicPr>
        <p:blipFill>
          <a:blip r:embed="rId2"/>
          <a:stretch/>
        </p:blipFill>
        <p:spPr>
          <a:xfrm>
            <a:off x="1979640" y="1773360"/>
            <a:ext cx="2335320" cy="2693880"/>
          </a:xfrm>
          <a:prstGeom prst="rect">
            <a:avLst/>
          </a:prstGeom>
          <a:ln w="0">
            <a:noFill/>
          </a:ln>
        </p:spPr>
      </p:pic>
      <p:sp>
        <p:nvSpPr>
          <p:cNvPr id="945" name="Rectangle 6"/>
          <p:cNvSpPr/>
          <p:nvPr/>
        </p:nvSpPr>
        <p:spPr>
          <a:xfrm>
            <a:off x="2054160" y="458064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ьфред Шнитке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1547640" y="1916280"/>
            <a:ext cx="318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ьфред Шни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арлхайнц Штокхауз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8" name="Picture 4" descr="b_4407"/>
          <p:cNvPicPr/>
          <p:nvPr/>
        </p:nvPicPr>
        <p:blipFill>
          <a:blip r:embed="rId1"/>
          <a:stretch/>
        </p:blipFill>
        <p:spPr>
          <a:xfrm>
            <a:off x="5003640" y="1989000"/>
            <a:ext cx="2278080" cy="17082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5" descr="stockhausen"/>
          <p:cNvPicPr/>
          <p:nvPr/>
        </p:nvPicPr>
        <p:blipFill>
          <a:blip r:embed="rId2"/>
          <a:stretch/>
        </p:blipFill>
        <p:spPr>
          <a:xfrm>
            <a:off x="5003640" y="3933720"/>
            <a:ext cx="2428920" cy="1846440"/>
          </a:xfrm>
          <a:prstGeom prst="rect">
            <a:avLst/>
          </a:prstGeom>
          <a:ln w="0">
            <a:noFill/>
          </a:ln>
        </p:spPr>
      </p:pic>
      <p:sp>
        <p:nvSpPr>
          <p:cNvPr id="950" name="AutoShape 6">
            <a:hlinkClick r:id="rId3"/>
          </p:cNvPr>
          <p:cNvSpPr/>
          <p:nvPr/>
        </p:nvSpPr>
        <p:spPr>
          <a:xfrm>
            <a:off x="2268360" y="1916280"/>
            <a:ext cx="1582920" cy="1042920"/>
          </a:xfrm>
          <a:custGeom>
            <a:avLst/>
            <a:gdLst>
              <a:gd name="textAreaLeft" fmla="*/ 67320 w 1582920"/>
              <a:gd name="textAreaRight" fmla="*/ 1515600 w 158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2780" h="21600">
                <a:moveTo>
                  <a:pt x="0" y="0"/>
                </a:moveTo>
                <a:lnTo>
                  <a:pt x="32780" y="0"/>
                </a:lnTo>
                <a:lnTo>
                  <a:pt x="32780" y="21600"/>
                </a:lnTo>
                <a:lnTo>
                  <a:pt x="0" y="21600"/>
                </a:lnTo>
                <a:close/>
              </a:path>
              <a:path fill="lightenLess" w="32780" h="21600">
                <a:moveTo>
                  <a:pt x="0" y="0"/>
                </a:moveTo>
                <a:lnTo>
                  <a:pt x="32780" y="0"/>
                </a:lnTo>
                <a:lnTo>
                  <a:pt x="31380" y="1400"/>
                </a:lnTo>
                <a:lnTo>
                  <a:pt x="1400" y="1400"/>
                </a:lnTo>
                <a:close/>
              </a:path>
              <a:path fill="darken" w="32780" h="21600">
                <a:moveTo>
                  <a:pt x="32780" y="0"/>
                </a:moveTo>
                <a:lnTo>
                  <a:pt x="32780" y="21600"/>
                </a:lnTo>
                <a:lnTo>
                  <a:pt x="31380" y="20200"/>
                </a:lnTo>
                <a:lnTo>
                  <a:pt x="31380" y="1400"/>
                </a:lnTo>
                <a:close/>
              </a:path>
              <a:path fill="darkenLess" w="32780" h="21600">
                <a:moveTo>
                  <a:pt x="32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0" y="20200"/>
                </a:lnTo>
                <a:close/>
              </a:path>
              <a:path fill="lighten" w="32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0" h="21600">
                <a:moveTo>
                  <a:pt x="9384" y="3794"/>
                </a:moveTo>
                <a:lnTo>
                  <a:pt x="23397" y="10800"/>
                </a:lnTo>
                <a:lnTo>
                  <a:pt x="93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51" name="AutoShape 7">
            <a:hlinkClick r:id="rId4"/>
          </p:cNvPr>
          <p:cNvSpPr/>
          <p:nvPr/>
        </p:nvSpPr>
        <p:spPr>
          <a:xfrm>
            <a:off x="2340000" y="4437000"/>
            <a:ext cx="1944720" cy="1224000"/>
          </a:xfrm>
          <a:custGeom>
            <a:avLst/>
            <a:gdLst>
              <a:gd name="textAreaLeft" fmla="*/ 79200 w 1944720"/>
              <a:gd name="textAreaRight" fmla="*/ 1865520 w 194472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4315" h="21600">
                <a:moveTo>
                  <a:pt x="0" y="0"/>
                </a:moveTo>
                <a:lnTo>
                  <a:pt x="34315" y="0"/>
                </a:lnTo>
                <a:lnTo>
                  <a:pt x="34315" y="21600"/>
                </a:lnTo>
                <a:lnTo>
                  <a:pt x="0" y="21600"/>
                </a:lnTo>
                <a:close/>
              </a:path>
              <a:path fill="lightenLess" w="34315" h="21600">
                <a:moveTo>
                  <a:pt x="0" y="0"/>
                </a:moveTo>
                <a:lnTo>
                  <a:pt x="34315" y="0"/>
                </a:lnTo>
                <a:lnTo>
                  <a:pt x="32915" y="1400"/>
                </a:lnTo>
                <a:lnTo>
                  <a:pt x="1400" y="1400"/>
                </a:lnTo>
                <a:close/>
              </a:path>
              <a:path fill="darken" w="34315" h="21600">
                <a:moveTo>
                  <a:pt x="34315" y="0"/>
                </a:moveTo>
                <a:lnTo>
                  <a:pt x="34315" y="21600"/>
                </a:lnTo>
                <a:lnTo>
                  <a:pt x="32915" y="20200"/>
                </a:lnTo>
                <a:lnTo>
                  <a:pt x="32915" y="1400"/>
                </a:lnTo>
                <a:close/>
              </a:path>
              <a:path fill="darkenLess" w="34315" h="21600">
                <a:moveTo>
                  <a:pt x="34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15" y="20200"/>
                </a:lnTo>
                <a:close/>
              </a:path>
              <a:path fill="lighten" w="34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315" h="21600">
                <a:moveTo>
                  <a:pt x="10151" y="3794"/>
                </a:moveTo>
                <a:lnTo>
                  <a:pt x="24164" y="10800"/>
                </a:lnTo>
                <a:lnTo>
                  <a:pt x="1015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52" name="WordArt 8" descr=""/>
          <p:cNvPicPr/>
          <p:nvPr/>
        </p:nvPicPr>
        <p:blipFill>
          <a:blip r:embed="rId5"/>
          <a:stretch/>
        </p:blipFill>
        <p:spPr>
          <a:xfrm>
            <a:off x="1908000" y="835200"/>
            <a:ext cx="6602760" cy="695160"/>
          </a:xfrm>
          <a:prstGeom prst="rect">
            <a:avLst/>
          </a:prstGeom>
          <a:ln w="0">
            <a:noFill/>
          </a:ln>
        </p:spPr>
      </p:pic>
      <p:sp>
        <p:nvSpPr>
          <p:cNvPr id="9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4932360" y="2205000"/>
            <a:ext cx="36734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Альфред Шнитке – русский композитор. Является одним из ведущих мастеров современной музыки, синтезирующей в творчестве классические тенденции и разнообразные элементы современной композиторск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4" descr="b_4407"/>
          <p:cNvPicPr/>
          <p:nvPr/>
        </p:nvPicPr>
        <p:blipFill>
          <a:blip r:embed="rId1"/>
          <a:stretch/>
        </p:blipFill>
        <p:spPr>
          <a:xfrm>
            <a:off x="468360" y="2349360"/>
            <a:ext cx="4246560" cy="3184560"/>
          </a:xfrm>
          <a:prstGeom prst="rect">
            <a:avLst/>
          </a:prstGeom>
          <a:ln w="0">
            <a:noFill/>
          </a:ln>
        </p:spPr>
      </p:pic>
      <p:pic>
        <p:nvPicPr>
          <p:cNvPr id="956" name="WordArt 5" descr=""/>
          <p:cNvPicPr/>
          <p:nvPr/>
        </p:nvPicPr>
        <p:blipFill>
          <a:blip r:embed="rId2"/>
          <a:stretch/>
        </p:blipFill>
        <p:spPr>
          <a:xfrm>
            <a:off x="2554200" y="689040"/>
            <a:ext cx="4254480" cy="1311120"/>
          </a:xfrm>
          <a:prstGeom prst="rect">
            <a:avLst/>
          </a:prstGeom>
          <a:ln w="0">
            <a:noFill/>
          </a:ln>
        </p:spPr>
      </p:pic>
      <p:sp>
        <p:nvSpPr>
          <p:cNvPr id="9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2f"/>
            </a:gs>
            <a:gs pos="50000">
              <a:srgbClr val="ffcc66"/>
            </a:gs>
            <a:gs pos="100000">
              <a:srgbClr val="765e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4427280" y="1125360"/>
            <a:ext cx="4043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Среди сочинений: оперы «Жизнь с идиотом», «Одиннадцатая заповедь»; балеты «Пер Гюнт»; Реквием, 12 инструментальных концертов, музыка к драматическим спектаклям и кинофильмам: «Рикки-Тики-Тави» и «Мертвые души». После смерти композитора в его честь названо музыкальное учебное за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AutoShape 5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60" name="Picture 6" descr="Шнитке"/>
          <p:cNvPicPr/>
          <p:nvPr/>
        </p:nvPicPr>
        <p:blipFill>
          <a:blip r:embed="rId2"/>
          <a:stretch/>
        </p:blipFill>
        <p:spPr>
          <a:xfrm>
            <a:off x="1332000" y="2276640"/>
            <a:ext cx="2666880" cy="3022560"/>
          </a:xfrm>
          <a:prstGeom prst="rect">
            <a:avLst/>
          </a:prstGeom>
          <a:ln w="0">
            <a:noFill/>
          </a:ln>
        </p:spPr>
      </p:pic>
      <p:sp>
        <p:nvSpPr>
          <p:cNvPr id="9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5219280" y="2349360"/>
            <a:ext cx="3745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162"/>
                </a:solidFill>
                <a:latin typeface="Arial"/>
              </a:rPr>
              <a:t>Штокхаузен родился в Мёдрате близ Кёльна 22 августа 1928. В 1947 поступил в кельтскую Высшую музыкальную школу, позже учился в Париже у Оливье Мессина и работал в студии конкретной музыки Пьера Шефф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Picture 5" descr="Карлхайнц Штокхаузен (Stockhausen)"/>
          <p:cNvPicPr/>
          <p:nvPr/>
        </p:nvPicPr>
        <p:blipFill>
          <a:blip r:embed="rId1"/>
          <a:stretch/>
        </p:blipFill>
        <p:spPr>
          <a:xfrm>
            <a:off x="900000" y="2565360"/>
            <a:ext cx="3990960" cy="3033720"/>
          </a:xfrm>
          <a:prstGeom prst="rect">
            <a:avLst/>
          </a:prstGeom>
          <a:ln w="0">
            <a:noFill/>
          </a:ln>
        </p:spPr>
      </p:pic>
      <p:pic>
        <p:nvPicPr>
          <p:cNvPr id="964" name="WordArt 6" descr=""/>
          <p:cNvPicPr/>
          <p:nvPr/>
        </p:nvPicPr>
        <p:blipFill>
          <a:blip r:embed="rId2"/>
          <a:stretch/>
        </p:blipFill>
        <p:spPr>
          <a:xfrm>
            <a:off x="2266920" y="835200"/>
            <a:ext cx="5737320" cy="1304640"/>
          </a:xfrm>
          <a:prstGeom prst="rect">
            <a:avLst/>
          </a:prstGeom>
          <a:ln w="0">
            <a:noFill/>
          </a:ln>
        </p:spPr>
      </p:pic>
      <p:sp>
        <p:nvSpPr>
          <p:cNvPr id="9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04162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4211280" y="1052280"/>
            <a:ext cx="45370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162"/>
                </a:solidFill>
                <a:latin typeface="Arial"/>
              </a:rPr>
              <a:t>В 1960-х годах Штокхаузен стал одним из лидеров в области сериальной музыки и одним из первых европейских композиторов. Во многих сочинениях композитора 1960-х годов предусматривается живая интерпретация Во многих сочинениях композитора 1960-х годов предусматривается живая интерпретация электронных звучаний. В числе самых значительных опусов Штокхаузена: «Мера времени», «Песнь юношей», «Групп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AutoShape 8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68" name="Picture 9" descr="штокх"/>
          <p:cNvPicPr/>
          <p:nvPr/>
        </p:nvPicPr>
        <p:blipFill>
          <a:blip r:embed="rId1"/>
          <a:stretch/>
        </p:blipFill>
        <p:spPr>
          <a:xfrm>
            <a:off x="1547640" y="2205000"/>
            <a:ext cx="2011680" cy="2816280"/>
          </a:xfrm>
          <a:prstGeom prst="rect">
            <a:avLst/>
          </a:prstGeom>
          <a:ln w="0">
            <a:noFill/>
          </a:ln>
        </p:spPr>
      </p:pic>
      <p:sp>
        <p:nvSpPr>
          <p:cNvPr id="9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04162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/>
          </p:nvPr>
        </p:nvSpPr>
        <p:spPr>
          <a:xfrm>
            <a:off x="682560" y="1980720"/>
            <a:ext cx="7772400" cy="130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94881"/>
              </a:buClr>
              <a:buSzPct val="7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4881"/>
                </a:solidFill>
                <a:latin typeface="Times New Roman"/>
              </a:rPr>
              <a:t>Описание на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94881"/>
              </a:buClr>
              <a:buSzPct val="7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4881"/>
                </a:solidFill>
                <a:latin typeface="Times New Roman"/>
              </a:rPr>
              <a:t>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AutoShape 4"/>
          <p:cNvSpPr/>
          <p:nvPr/>
        </p:nvSpPr>
        <p:spPr>
          <a:xfrm>
            <a:off x="1187280" y="1916280"/>
            <a:ext cx="4537080" cy="504720"/>
          </a:xfrm>
          <a:custGeom>
            <a:avLst/>
            <a:gdLst>
              <a:gd name="textAreaLeft" fmla="*/ 32400 w 4537080"/>
              <a:gd name="textAreaRight" fmla="*/ 4504680 w 4537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94046" h="21600">
                <a:moveTo>
                  <a:pt x="0" y="0"/>
                </a:moveTo>
                <a:lnTo>
                  <a:pt x="194046" y="0"/>
                </a:lnTo>
                <a:lnTo>
                  <a:pt x="194046" y="21600"/>
                </a:lnTo>
                <a:lnTo>
                  <a:pt x="0" y="21600"/>
                </a:lnTo>
                <a:close/>
              </a:path>
              <a:path fill="lightenLess" w="194046" h="21600">
                <a:moveTo>
                  <a:pt x="0" y="0"/>
                </a:moveTo>
                <a:lnTo>
                  <a:pt x="194046" y="0"/>
                </a:lnTo>
                <a:lnTo>
                  <a:pt x="192646" y="1400"/>
                </a:lnTo>
                <a:lnTo>
                  <a:pt x="1400" y="1400"/>
                </a:lnTo>
                <a:close/>
              </a:path>
              <a:path fill="darken" w="194046" h="21600">
                <a:moveTo>
                  <a:pt x="194046" y="0"/>
                </a:moveTo>
                <a:lnTo>
                  <a:pt x="194046" y="21600"/>
                </a:lnTo>
                <a:lnTo>
                  <a:pt x="192646" y="20200"/>
                </a:lnTo>
                <a:lnTo>
                  <a:pt x="192646" y="1400"/>
                </a:lnTo>
                <a:close/>
              </a:path>
              <a:path fill="darkenLess" w="194046" h="21600">
                <a:moveTo>
                  <a:pt x="194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2646" y="20200"/>
                </a:lnTo>
                <a:close/>
              </a:path>
              <a:path fill="lighten" w="194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94046" h="21600">
                <a:moveTo>
                  <a:pt x="90016" y="3794"/>
                </a:moveTo>
                <a:lnTo>
                  <a:pt x="104029" y="10800"/>
                </a:lnTo>
                <a:lnTo>
                  <a:pt x="900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72" name="AutoShape 5"/>
          <p:cNvSpPr/>
          <p:nvPr/>
        </p:nvSpPr>
        <p:spPr>
          <a:xfrm>
            <a:off x="1187280" y="2637000"/>
            <a:ext cx="4680000" cy="431640"/>
          </a:xfrm>
          <a:custGeom>
            <a:avLst/>
            <a:gdLst>
              <a:gd name="textAreaLeft" fmla="*/ 27720 w 4680000"/>
              <a:gd name="textAreaRight" fmla="*/ 4652280 w 468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018" h="21600">
                <a:moveTo>
                  <a:pt x="0" y="0"/>
                </a:moveTo>
                <a:lnTo>
                  <a:pt x="234018" y="0"/>
                </a:lnTo>
                <a:lnTo>
                  <a:pt x="234018" y="21600"/>
                </a:lnTo>
                <a:lnTo>
                  <a:pt x="0" y="21600"/>
                </a:lnTo>
                <a:close/>
              </a:path>
              <a:path fill="lightenLess" w="234018" h="21600">
                <a:moveTo>
                  <a:pt x="0" y="0"/>
                </a:moveTo>
                <a:lnTo>
                  <a:pt x="234018" y="0"/>
                </a:lnTo>
                <a:lnTo>
                  <a:pt x="232618" y="1400"/>
                </a:lnTo>
                <a:lnTo>
                  <a:pt x="1400" y="1400"/>
                </a:lnTo>
                <a:close/>
              </a:path>
              <a:path fill="darken" w="234018" h="21600">
                <a:moveTo>
                  <a:pt x="234018" y="0"/>
                </a:moveTo>
                <a:lnTo>
                  <a:pt x="234018" y="21600"/>
                </a:lnTo>
                <a:lnTo>
                  <a:pt x="232618" y="20200"/>
                </a:lnTo>
                <a:lnTo>
                  <a:pt x="232618" y="1400"/>
                </a:lnTo>
                <a:close/>
              </a:path>
              <a:path fill="darkenLess" w="234018" h="21600">
                <a:moveTo>
                  <a:pt x="234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18" y="20200"/>
                </a:lnTo>
                <a:close/>
              </a:path>
              <a:path fill="lighten" w="234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8" h="21600">
                <a:moveTo>
                  <a:pt x="110003" y="3794"/>
                </a:moveTo>
                <a:lnTo>
                  <a:pt x="124015" y="10800"/>
                </a:lnTo>
                <a:lnTo>
                  <a:pt x="11000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73" name="Picture 10" descr="импр"/>
          <p:cNvPicPr/>
          <p:nvPr/>
        </p:nvPicPr>
        <p:blipFill>
          <a:blip r:embed="rId1"/>
          <a:stretch/>
        </p:blipFill>
        <p:spPr>
          <a:xfrm>
            <a:off x="3492360" y="3860640"/>
            <a:ext cx="3459240" cy="2252880"/>
          </a:xfrm>
          <a:prstGeom prst="rect">
            <a:avLst/>
          </a:prstGeom>
          <a:ln w="0">
            <a:noFill/>
          </a:ln>
        </p:spPr>
      </p:pic>
      <p:pic>
        <p:nvPicPr>
          <p:cNvPr id="974" name="WordArt 11" descr=""/>
          <p:cNvPicPr/>
          <p:nvPr/>
        </p:nvPicPr>
        <p:blipFill>
          <a:blip r:embed="rId2"/>
          <a:stretch/>
        </p:blipFill>
        <p:spPr>
          <a:xfrm>
            <a:off x="2541600" y="463680"/>
            <a:ext cx="4432320" cy="987120"/>
          </a:xfrm>
          <a:prstGeom prst="rect">
            <a:avLst/>
          </a:prstGeom>
          <a:ln w="0">
            <a:noFill/>
          </a:ln>
        </p:spPr>
      </p:pic>
      <p:sp>
        <p:nvSpPr>
          <p:cNvPr id="97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Основным в импрессионизме была задача передать непосредственное впечатление, отразить тонкие психологические состояния, оттенки субъективных ощущений, вызванных созерцанием внешнего мира. Основоположниками этого направления стали К. Дебюсси, М. Равель, О. Мессиане, М. де Фаль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7" name="Picture 6" descr="Мессиане"/>
          <p:cNvPicPr/>
          <p:nvPr/>
        </p:nvPicPr>
        <p:blipFill>
          <a:blip r:embed="rId1"/>
          <a:stretch/>
        </p:blipFill>
        <p:spPr>
          <a:xfrm>
            <a:off x="5724360" y="2276640"/>
            <a:ext cx="2256120" cy="3219120"/>
          </a:xfrm>
          <a:prstGeom prst="rect">
            <a:avLst/>
          </a:prstGeom>
          <a:ln w="0">
            <a:noFill/>
          </a:ln>
        </p:spPr>
      </p:pic>
      <p:sp>
        <p:nvSpPr>
          <p:cNvPr id="978" name="Rectangle 7"/>
          <p:cNvSpPr/>
          <p:nvPr/>
        </p:nvSpPr>
        <p:spPr>
          <a:xfrm>
            <a:off x="6087240" y="5589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. Мессиане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79" name="WordArt 9" descr=""/>
          <p:cNvPicPr/>
          <p:nvPr/>
        </p:nvPicPr>
        <p:blipFill>
          <a:blip r:embed="rId2"/>
          <a:stretch/>
        </p:blipFill>
        <p:spPr>
          <a:xfrm>
            <a:off x="1828800" y="609480"/>
            <a:ext cx="5657760" cy="1047960"/>
          </a:xfrm>
          <a:prstGeom prst="rect">
            <a:avLst/>
          </a:prstGeom>
          <a:ln w="0">
            <a:noFill/>
          </a:ln>
        </p:spPr>
      </p:pic>
      <p:sp>
        <p:nvSpPr>
          <p:cNvPr id="98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3887640" cy="5475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Эти композиторы утверждали, что именно красота природы способна возбудить художественную фантазию композитора. Потребность передать в звуках состояние природы, её образы вызывает новые краски, новые выразительные средства. Кроме природы, импрессионисты вдохновлялись античной мифологией, сказочностью. В музыке господствовали мягкие переливы красок, гармоний, «мерцание» ритмов, сложная полифония тембр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2" name="Picture 3" descr="BOB0274"/>
          <p:cNvPicPr/>
          <p:nvPr/>
        </p:nvPicPr>
        <p:blipFill>
          <a:blip r:embed="rId1"/>
          <a:stretch/>
        </p:blipFill>
        <p:spPr>
          <a:xfrm>
            <a:off x="4716360" y="476280"/>
            <a:ext cx="3076560" cy="21430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" descr="BOB0216"/>
          <p:cNvPicPr/>
          <p:nvPr/>
        </p:nvPicPr>
        <p:blipFill>
          <a:blip r:embed="rId2"/>
          <a:stretch/>
        </p:blipFill>
        <p:spPr>
          <a:xfrm>
            <a:off x="5580000" y="3716280"/>
            <a:ext cx="3102120" cy="2252880"/>
          </a:xfrm>
          <a:prstGeom prst="rect">
            <a:avLst/>
          </a:prstGeom>
          <a:ln w="0">
            <a:noFill/>
          </a:ln>
        </p:spPr>
      </p:pic>
      <p:sp>
        <p:nvSpPr>
          <p:cNvPr id="984" name="AutoShape 5"/>
          <p:cNvSpPr/>
          <p:nvPr/>
        </p:nvSpPr>
        <p:spPr>
          <a:xfrm>
            <a:off x="7596360" y="6021360"/>
            <a:ext cx="1547640" cy="836640"/>
          </a:xfrm>
          <a:custGeom>
            <a:avLst/>
            <a:gdLst>
              <a:gd name="textAreaLeft" fmla="*/ 54000 w 1547640"/>
              <a:gd name="textAreaRight" fmla="*/ 1493640 w 1547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9948" h="21600">
                <a:moveTo>
                  <a:pt x="0" y="0"/>
                </a:moveTo>
                <a:lnTo>
                  <a:pt x="39948" y="0"/>
                </a:lnTo>
                <a:lnTo>
                  <a:pt x="39948" y="21600"/>
                </a:lnTo>
                <a:lnTo>
                  <a:pt x="0" y="21600"/>
                </a:lnTo>
                <a:close/>
              </a:path>
              <a:path fill="lightenLess" w="39948" h="21600">
                <a:moveTo>
                  <a:pt x="0" y="0"/>
                </a:moveTo>
                <a:lnTo>
                  <a:pt x="39948" y="0"/>
                </a:lnTo>
                <a:lnTo>
                  <a:pt x="38548" y="1400"/>
                </a:lnTo>
                <a:lnTo>
                  <a:pt x="1400" y="1400"/>
                </a:lnTo>
                <a:close/>
              </a:path>
              <a:path fill="darken" w="39948" h="21600">
                <a:moveTo>
                  <a:pt x="39948" y="0"/>
                </a:moveTo>
                <a:lnTo>
                  <a:pt x="39948" y="21600"/>
                </a:lnTo>
                <a:lnTo>
                  <a:pt x="38548" y="20200"/>
                </a:lnTo>
                <a:lnTo>
                  <a:pt x="38548" y="1400"/>
                </a:lnTo>
                <a:close/>
              </a:path>
              <a:path fill="darkenLess" w="39948" h="21600">
                <a:moveTo>
                  <a:pt x="39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48" y="20200"/>
                </a:lnTo>
                <a:close/>
              </a:path>
              <a:path fill="lighten" w="39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948" h="21600">
                <a:moveTo>
                  <a:pt x="19974" y="3837"/>
                </a:moveTo>
                <a:lnTo>
                  <a:pt x="22550" y="6448"/>
                </a:lnTo>
                <a:lnTo>
                  <a:pt x="22550" y="4707"/>
                </a:lnTo>
                <a:lnTo>
                  <a:pt x="24326" y="4707"/>
                </a:lnTo>
                <a:lnTo>
                  <a:pt x="24326" y="8224"/>
                </a:lnTo>
                <a:lnTo>
                  <a:pt x="26937" y="10800"/>
                </a:lnTo>
                <a:lnTo>
                  <a:pt x="25283" y="10800"/>
                </a:lnTo>
                <a:lnTo>
                  <a:pt x="25283" y="17989"/>
                </a:lnTo>
                <a:lnTo>
                  <a:pt x="14665" y="17989"/>
                </a:lnTo>
                <a:lnTo>
                  <a:pt x="14665" y="10800"/>
                </a:lnTo>
                <a:lnTo>
                  <a:pt x="13011" y="10800"/>
                </a:lnTo>
                <a:close/>
              </a:path>
              <a:path fill="darkenLess" w="39948" h="21600">
                <a:moveTo>
                  <a:pt x="22550" y="6448"/>
                </a:moveTo>
                <a:lnTo>
                  <a:pt x="22550" y="4707"/>
                </a:lnTo>
                <a:lnTo>
                  <a:pt x="24326" y="4707"/>
                </a:lnTo>
                <a:lnTo>
                  <a:pt x="24326" y="8224"/>
                </a:lnTo>
                <a:close/>
              </a:path>
              <a:path fill="darkenLess" w="39948" h="21600">
                <a:moveTo>
                  <a:pt x="19052" y="14299"/>
                </a:moveTo>
                <a:lnTo>
                  <a:pt x="20897" y="14299"/>
                </a:lnTo>
                <a:lnTo>
                  <a:pt x="20897" y="17989"/>
                </a:lnTo>
                <a:lnTo>
                  <a:pt x="25283" y="17989"/>
                </a:lnTo>
                <a:lnTo>
                  <a:pt x="25283" y="10800"/>
                </a:lnTo>
                <a:lnTo>
                  <a:pt x="14665" y="10800"/>
                </a:lnTo>
                <a:lnTo>
                  <a:pt x="14665" y="17989"/>
                </a:lnTo>
                <a:lnTo>
                  <a:pt x="19052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/>
          </p:nvPr>
        </p:nvSpPr>
        <p:spPr>
          <a:xfrm>
            <a:off x="682200" y="1981080"/>
            <a:ext cx="3457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лод Дебюсс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Морис Рав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7" name="Picture 5" descr="Клод Дебюсси (Debussy)"/>
          <p:cNvPicPr/>
          <p:nvPr/>
        </p:nvPicPr>
        <p:blipFill>
          <a:blip r:embed="rId1"/>
          <a:stretch/>
        </p:blipFill>
        <p:spPr>
          <a:xfrm>
            <a:off x="5219640" y="1773360"/>
            <a:ext cx="1656000" cy="21682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6" descr="ravel"/>
          <p:cNvPicPr/>
          <p:nvPr/>
        </p:nvPicPr>
        <p:blipFill>
          <a:blip r:embed="rId2"/>
          <a:stretch/>
        </p:blipFill>
        <p:spPr>
          <a:xfrm>
            <a:off x="4788000" y="4365720"/>
            <a:ext cx="2576520" cy="2001600"/>
          </a:xfrm>
          <a:prstGeom prst="rect">
            <a:avLst/>
          </a:prstGeom>
          <a:ln w="0">
            <a:noFill/>
          </a:ln>
        </p:spPr>
      </p:pic>
      <p:sp>
        <p:nvSpPr>
          <p:cNvPr id="989" name="AutoShape 7"/>
          <p:cNvSpPr/>
          <p:nvPr/>
        </p:nvSpPr>
        <p:spPr>
          <a:xfrm>
            <a:off x="971640" y="1773360"/>
            <a:ext cx="3095640" cy="1042920"/>
          </a:xfrm>
          <a:custGeom>
            <a:avLst/>
            <a:gdLst>
              <a:gd name="textAreaLeft" fmla="*/ 67320 w 3095640"/>
              <a:gd name="textAreaRight" fmla="*/ 3028320 w 30956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4099" h="21600">
                <a:moveTo>
                  <a:pt x="0" y="0"/>
                </a:moveTo>
                <a:lnTo>
                  <a:pt x="64099" y="0"/>
                </a:lnTo>
                <a:lnTo>
                  <a:pt x="64099" y="21600"/>
                </a:lnTo>
                <a:lnTo>
                  <a:pt x="0" y="21600"/>
                </a:lnTo>
                <a:close/>
              </a:path>
              <a:path fill="lightenLess" w="64099" h="21600">
                <a:moveTo>
                  <a:pt x="0" y="0"/>
                </a:moveTo>
                <a:lnTo>
                  <a:pt x="64099" y="0"/>
                </a:lnTo>
                <a:lnTo>
                  <a:pt x="62699" y="1400"/>
                </a:lnTo>
                <a:lnTo>
                  <a:pt x="1400" y="1400"/>
                </a:lnTo>
                <a:close/>
              </a:path>
              <a:path fill="darken" w="64099" h="21600">
                <a:moveTo>
                  <a:pt x="64099" y="0"/>
                </a:moveTo>
                <a:lnTo>
                  <a:pt x="64099" y="21600"/>
                </a:lnTo>
                <a:lnTo>
                  <a:pt x="62699" y="20200"/>
                </a:lnTo>
                <a:lnTo>
                  <a:pt x="62699" y="1400"/>
                </a:lnTo>
                <a:close/>
              </a:path>
              <a:path fill="darkenLess" w="64099" h="21600">
                <a:moveTo>
                  <a:pt x="64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699" y="20200"/>
                </a:lnTo>
                <a:close/>
              </a:path>
              <a:path fill="lighten" w="64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099" h="21600">
                <a:moveTo>
                  <a:pt x="25043" y="3794"/>
                </a:moveTo>
                <a:lnTo>
                  <a:pt x="39056" y="10800"/>
                </a:lnTo>
                <a:lnTo>
                  <a:pt x="2504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90" name="AutoShape 8"/>
          <p:cNvSpPr/>
          <p:nvPr/>
        </p:nvSpPr>
        <p:spPr>
          <a:xfrm>
            <a:off x="755640" y="3789360"/>
            <a:ext cx="3240000" cy="1042920"/>
          </a:xfrm>
          <a:custGeom>
            <a:avLst/>
            <a:gdLst>
              <a:gd name="textAreaLeft" fmla="*/ 67320 w 3240000"/>
              <a:gd name="textAreaRight" fmla="*/ 3172680 w 3240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7088" h="21600">
                <a:moveTo>
                  <a:pt x="0" y="0"/>
                </a:moveTo>
                <a:lnTo>
                  <a:pt x="67088" y="0"/>
                </a:lnTo>
                <a:lnTo>
                  <a:pt x="67088" y="21600"/>
                </a:lnTo>
                <a:lnTo>
                  <a:pt x="0" y="21600"/>
                </a:lnTo>
                <a:close/>
              </a:path>
              <a:path fill="lightenLess" w="67088" h="21600">
                <a:moveTo>
                  <a:pt x="0" y="0"/>
                </a:moveTo>
                <a:lnTo>
                  <a:pt x="67088" y="0"/>
                </a:lnTo>
                <a:lnTo>
                  <a:pt x="65688" y="1400"/>
                </a:lnTo>
                <a:lnTo>
                  <a:pt x="1400" y="1400"/>
                </a:lnTo>
                <a:close/>
              </a:path>
              <a:path fill="darken" w="67088" h="21600">
                <a:moveTo>
                  <a:pt x="67088" y="0"/>
                </a:moveTo>
                <a:lnTo>
                  <a:pt x="67088" y="21600"/>
                </a:lnTo>
                <a:lnTo>
                  <a:pt x="65688" y="20200"/>
                </a:lnTo>
                <a:lnTo>
                  <a:pt x="65688" y="1400"/>
                </a:lnTo>
                <a:close/>
              </a:path>
              <a:path fill="darkenLess" w="67088" h="21600">
                <a:moveTo>
                  <a:pt x="6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88" y="20200"/>
                </a:lnTo>
                <a:close/>
              </a:path>
              <a:path fill="lighten" w="6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088" h="21600">
                <a:moveTo>
                  <a:pt x="26538" y="3794"/>
                </a:moveTo>
                <a:lnTo>
                  <a:pt x="40551" y="10800"/>
                </a:lnTo>
                <a:lnTo>
                  <a:pt x="2653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91" name="WordArt 9" descr=""/>
          <p:cNvPicPr/>
          <p:nvPr/>
        </p:nvPicPr>
        <p:blipFill>
          <a:blip r:embed="rId3"/>
          <a:stretch/>
        </p:blipFill>
        <p:spPr>
          <a:xfrm>
            <a:off x="1182600" y="476280"/>
            <a:ext cx="6954840" cy="931680"/>
          </a:xfrm>
          <a:prstGeom prst="rect">
            <a:avLst/>
          </a:prstGeom>
          <a:ln w="0">
            <a:noFill/>
          </a:ln>
        </p:spPr>
      </p:pic>
      <p:sp>
        <p:nvSpPr>
          <p:cNvPr id="99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610920" y="2133720"/>
            <a:ext cx="747396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век – это время кардинальных социальных перемен, революций, открывших новую эру в жизни человечества. Это время и тяжелых испытаний – двух мировых войн. 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век – это и взлет культуры и искусства, в том числе и музыкального, пришедший к великим художественным достижениям, расцвету многих национальных школ, формированию советской музыкальн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09" name="Picture 5" descr="J0153516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780000" y="4797360"/>
            <a:ext cx="1819080" cy="824040"/>
          </a:xfrm>
          <a:prstGeom prst="rect">
            <a:avLst/>
          </a:prstGeom>
          <a:ln w="0">
            <a:noFill/>
          </a:ln>
        </p:spPr>
      </p:pic>
      <p:pic>
        <p:nvPicPr>
          <p:cNvPr id="810" name="WordArt 6" descr=""/>
          <p:cNvPicPr/>
          <p:nvPr/>
        </p:nvPicPr>
        <p:blipFill>
          <a:blip r:embed="rId4"/>
          <a:stretch/>
        </p:blipFill>
        <p:spPr>
          <a:xfrm>
            <a:off x="3054240" y="549360"/>
            <a:ext cx="3144960" cy="1170000"/>
          </a:xfrm>
          <a:prstGeom prst="rect">
            <a:avLst/>
          </a:prstGeom>
          <a:ln w="0">
            <a:noFill/>
          </a:ln>
        </p:spPr>
      </p:pic>
      <p:sp>
        <p:nvSpPr>
          <p:cNvPr id="8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468000" y="2060280"/>
            <a:ext cx="4895640" cy="4327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Клод Дебюсси – один из величайших мастеров французской и мировой музыки в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е. Он выявил в музыке новые возможности для передачи предельно утонченных оттенков многообразной палитры настроений человека и воспринимаемой им окружающей природы, создал особую импрессионистическую сферу музыкального ритма. Значение музыки Дебюсси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а часто сравнивают со значением музыки Шопена для музыкального искусства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а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4" name="Picture 5" descr="Клод Дебюсси (Debussy)"/>
          <p:cNvPicPr/>
          <p:nvPr/>
        </p:nvPicPr>
        <p:blipFill>
          <a:blip r:embed="rId1"/>
          <a:stretch/>
        </p:blipFill>
        <p:spPr>
          <a:xfrm>
            <a:off x="6084720" y="2421000"/>
            <a:ext cx="2590920" cy="3394080"/>
          </a:xfrm>
          <a:prstGeom prst="rect">
            <a:avLst/>
          </a:prstGeom>
          <a:ln w="0">
            <a:noFill/>
          </a:ln>
        </p:spPr>
      </p:pic>
      <p:pic>
        <p:nvPicPr>
          <p:cNvPr id="995" name="WordArt 6" descr=""/>
          <p:cNvPicPr/>
          <p:nvPr/>
        </p:nvPicPr>
        <p:blipFill>
          <a:blip r:embed="rId2"/>
          <a:stretch/>
        </p:blipFill>
        <p:spPr>
          <a:xfrm>
            <a:off x="2914560" y="401760"/>
            <a:ext cx="3529080" cy="1304640"/>
          </a:xfrm>
          <a:prstGeom prst="rect">
            <a:avLst/>
          </a:prstGeom>
          <a:ln w="0">
            <a:noFill/>
          </a:ln>
        </p:spPr>
      </p:pic>
      <p:sp>
        <p:nvSpPr>
          <p:cNvPr id="99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684000" y="836280"/>
            <a:ext cx="4537080" cy="5475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Среди сочинений: оперы «Родриго и Химена», «Пеллеас и Мелизанда», балеты «Игры», Камма», симфонические циклы, фортепианные циклы и сюиты: «Детский уголок», 3 кантаты, песни и романсы, музыка к театральным спектаклям: Мученичество святого Себастьяна», 12 этюдов, 24 прелюдии, очень много ноктюрнов, камерно-инструментальные ансамбли и др. Клод Дебюсси оказал большое влияние на композиторов других стран ми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8" name="Picture 4" descr="Клод Дебюсси"/>
          <p:cNvPicPr/>
          <p:nvPr/>
        </p:nvPicPr>
        <p:blipFill>
          <a:blip r:embed="rId1"/>
          <a:stretch/>
        </p:blipFill>
        <p:spPr>
          <a:xfrm>
            <a:off x="6012000" y="1341360"/>
            <a:ext cx="2173320" cy="3797280"/>
          </a:xfrm>
          <a:prstGeom prst="rect">
            <a:avLst/>
          </a:prstGeom>
          <a:ln w="0">
            <a:noFill/>
          </a:ln>
        </p:spPr>
      </p:pic>
      <p:sp>
        <p:nvSpPr>
          <p:cNvPr id="999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0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537080" cy="4691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Морис Равель был французским композитором. В музыкальном стиле Равеля получили дальнейшее развитие также новые импрессионистические музыкальные средства, найденные Дебюсси, несмотря на все различие их почерков. Самая характерная и наиболее яркая черта творчества композитора – удивительное сочетание логики. Стройности, интеллекта – и сердечности, вдохновения – черта, близкая духу французского классицизма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2" name="Picture 6" descr="21"/>
          <p:cNvPicPr/>
          <p:nvPr/>
        </p:nvPicPr>
        <p:blipFill>
          <a:blip r:embed="rId1"/>
          <a:stretch/>
        </p:blipFill>
        <p:spPr>
          <a:xfrm>
            <a:off x="5724360" y="2349360"/>
            <a:ext cx="2454480" cy="3629160"/>
          </a:xfrm>
          <a:prstGeom prst="rect">
            <a:avLst/>
          </a:prstGeom>
          <a:ln w="0">
            <a:noFill/>
          </a:ln>
        </p:spPr>
      </p:pic>
      <p:pic>
        <p:nvPicPr>
          <p:cNvPr id="1003" name="WordArt 7" descr=""/>
          <p:cNvPicPr/>
          <p:nvPr/>
        </p:nvPicPr>
        <p:blipFill>
          <a:blip r:embed="rId2"/>
          <a:stretch/>
        </p:blipFill>
        <p:spPr>
          <a:xfrm>
            <a:off x="2987640" y="401760"/>
            <a:ext cx="3400560" cy="1304640"/>
          </a:xfrm>
          <a:prstGeom prst="rect">
            <a:avLst/>
          </a:prstGeom>
          <a:ln w="0">
            <a:noFill/>
          </a:ln>
        </p:spPr>
      </p:pic>
      <p:sp>
        <p:nvSpPr>
          <p:cNvPr id="100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4249800" cy="597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Балет «Дафнис и Хлоя» - первое и самое значительное произведение новой балетной французской музыки. Всемирную известность получило «Болеро» Равеля – симфоническое произведение, созданное в духе популярного испанского танца. Автор опер «Испанский час», «Дитя и волшебство», фортепианных пьес – циклов «Отражение», «Ночной Гаспар», «Павана умерших инфанте», фантазии для скрипки, сочинений для оркестра «Испанская рапсодия», «Вальс» и других произведени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6" name="Picture 4" descr="t_ravel"/>
          <p:cNvPicPr/>
          <p:nvPr/>
        </p:nvPicPr>
        <p:blipFill>
          <a:blip r:embed="rId1"/>
          <a:stretch/>
        </p:blipFill>
        <p:spPr>
          <a:xfrm>
            <a:off x="4859280" y="1700280"/>
            <a:ext cx="3960720" cy="2838240"/>
          </a:xfrm>
          <a:prstGeom prst="rect">
            <a:avLst/>
          </a:prstGeom>
          <a:ln w="0">
            <a:noFill/>
          </a:ln>
        </p:spPr>
      </p:pic>
      <p:sp>
        <p:nvSpPr>
          <p:cNvPr id="1007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0" name="WordArt 7" descr=""/>
          <p:cNvPicPr/>
          <p:nvPr/>
        </p:nvPicPr>
        <p:blipFill>
          <a:blip r:embed="rId1"/>
          <a:stretch/>
        </p:blipFill>
        <p:spPr>
          <a:xfrm>
            <a:off x="3481560" y="835200"/>
            <a:ext cx="2035080" cy="11160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9" descr="Безымянный"/>
          <p:cNvPicPr/>
          <p:nvPr/>
        </p:nvPicPr>
        <p:blipFill>
          <a:blip r:embed="rId2"/>
          <a:stretch/>
        </p:blipFill>
        <p:spPr>
          <a:xfrm>
            <a:off x="6372360" y="3429000"/>
            <a:ext cx="1903320" cy="2805120"/>
          </a:xfrm>
          <a:prstGeom prst="rect">
            <a:avLst/>
          </a:prstGeom>
          <a:ln w="0">
            <a:noFill/>
          </a:ln>
        </p:spPr>
      </p:pic>
      <p:sp>
        <p:nvSpPr>
          <p:cNvPr id="1012" name="AutoShape 10"/>
          <p:cNvSpPr/>
          <p:nvPr/>
        </p:nvSpPr>
        <p:spPr>
          <a:xfrm>
            <a:off x="1042920" y="2421000"/>
            <a:ext cx="4969080" cy="574560"/>
          </a:xfrm>
          <a:custGeom>
            <a:avLst/>
            <a:gdLst>
              <a:gd name="textAreaLeft" fmla="*/ 37080 w 4969080"/>
              <a:gd name="textAreaRight" fmla="*/ 4932000 w 4969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86704" h="21600">
                <a:moveTo>
                  <a:pt x="0" y="0"/>
                </a:moveTo>
                <a:lnTo>
                  <a:pt x="186704" y="0"/>
                </a:lnTo>
                <a:lnTo>
                  <a:pt x="186704" y="21600"/>
                </a:lnTo>
                <a:lnTo>
                  <a:pt x="0" y="21600"/>
                </a:lnTo>
                <a:close/>
              </a:path>
              <a:path fill="lightenLess" w="186704" h="21600">
                <a:moveTo>
                  <a:pt x="0" y="0"/>
                </a:moveTo>
                <a:lnTo>
                  <a:pt x="186704" y="0"/>
                </a:lnTo>
                <a:lnTo>
                  <a:pt x="185304" y="1400"/>
                </a:lnTo>
                <a:lnTo>
                  <a:pt x="1400" y="1400"/>
                </a:lnTo>
                <a:close/>
              </a:path>
              <a:path fill="darken" w="186704" h="21600">
                <a:moveTo>
                  <a:pt x="186704" y="0"/>
                </a:moveTo>
                <a:lnTo>
                  <a:pt x="186704" y="21600"/>
                </a:lnTo>
                <a:lnTo>
                  <a:pt x="185304" y="20200"/>
                </a:lnTo>
                <a:lnTo>
                  <a:pt x="185304" y="1400"/>
                </a:lnTo>
                <a:close/>
              </a:path>
              <a:path fill="darkenLess" w="186704" h="21600">
                <a:moveTo>
                  <a:pt x="18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304" y="20200"/>
                </a:lnTo>
                <a:close/>
              </a:path>
              <a:path fill="lighten" w="18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6704" h="21600">
                <a:moveTo>
                  <a:pt x="86346" y="3794"/>
                </a:moveTo>
                <a:lnTo>
                  <a:pt x="100359" y="10800"/>
                </a:lnTo>
                <a:lnTo>
                  <a:pt x="863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3" name="AutoShape 11"/>
          <p:cNvSpPr/>
          <p:nvPr/>
        </p:nvSpPr>
        <p:spPr>
          <a:xfrm>
            <a:off x="900000" y="3068640"/>
            <a:ext cx="5112000" cy="504720"/>
          </a:xfrm>
          <a:custGeom>
            <a:avLst/>
            <a:gdLst>
              <a:gd name="textAreaLeft" fmla="*/ 32400 w 5112000"/>
              <a:gd name="textAreaRight" fmla="*/ 5079600 w 511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8633" h="21600">
                <a:moveTo>
                  <a:pt x="0" y="0"/>
                </a:moveTo>
                <a:lnTo>
                  <a:pt x="218633" y="0"/>
                </a:lnTo>
                <a:lnTo>
                  <a:pt x="218633" y="21600"/>
                </a:lnTo>
                <a:lnTo>
                  <a:pt x="0" y="21600"/>
                </a:lnTo>
                <a:close/>
              </a:path>
              <a:path fill="lightenLess" w="218633" h="21600">
                <a:moveTo>
                  <a:pt x="0" y="0"/>
                </a:moveTo>
                <a:lnTo>
                  <a:pt x="218633" y="0"/>
                </a:lnTo>
                <a:lnTo>
                  <a:pt x="217233" y="1400"/>
                </a:lnTo>
                <a:lnTo>
                  <a:pt x="1400" y="1400"/>
                </a:lnTo>
                <a:close/>
              </a:path>
              <a:path fill="darken" w="218633" h="21600">
                <a:moveTo>
                  <a:pt x="218633" y="0"/>
                </a:moveTo>
                <a:lnTo>
                  <a:pt x="218633" y="21600"/>
                </a:lnTo>
                <a:lnTo>
                  <a:pt x="217233" y="20200"/>
                </a:lnTo>
                <a:lnTo>
                  <a:pt x="217233" y="1400"/>
                </a:lnTo>
                <a:close/>
              </a:path>
              <a:path fill="darkenLess" w="218633" h="21600">
                <a:moveTo>
                  <a:pt x="218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233" y="20200"/>
                </a:lnTo>
                <a:close/>
              </a:path>
              <a:path fill="lighten" w="218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633" h="21600">
                <a:moveTo>
                  <a:pt x="102310" y="3794"/>
                </a:moveTo>
                <a:lnTo>
                  <a:pt x="116323" y="10800"/>
                </a:lnTo>
                <a:lnTo>
                  <a:pt x="10231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4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755280" y="1628640"/>
            <a:ext cx="504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узыкальной культуре Западной Европы и США – это течение, очень пестрое по идейно-художественному уровню и эстетическим принципам. Оно представлено как произведениями, выражающими протест против социальной несправедливости, милитаризма, войны, так и сочинениями, проповедующими анархизм, аморальность, насилие.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К концу шестого десятилетия рок превратился в мощную политическую и культурную силу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6" name="Picture 8" descr="Nirvana "/>
          <p:cNvPicPr/>
          <p:nvPr/>
        </p:nvPicPr>
        <p:blipFill>
          <a:blip r:embed="rId1"/>
          <a:stretch/>
        </p:blipFill>
        <p:spPr>
          <a:xfrm>
            <a:off x="6084720" y="2060640"/>
            <a:ext cx="2306880" cy="3601800"/>
          </a:xfrm>
          <a:prstGeom prst="rect">
            <a:avLst/>
          </a:prstGeom>
          <a:ln w="0">
            <a:noFill/>
          </a:ln>
        </p:spPr>
      </p:pic>
      <p:pic>
        <p:nvPicPr>
          <p:cNvPr id="1017" name="WordArt 9" descr=""/>
          <p:cNvPicPr/>
          <p:nvPr/>
        </p:nvPicPr>
        <p:blipFill>
          <a:blip r:embed="rId2"/>
          <a:stretch/>
        </p:blipFill>
        <p:spPr>
          <a:xfrm>
            <a:off x="1755720" y="609480"/>
            <a:ext cx="5730840" cy="706680"/>
          </a:xfrm>
          <a:prstGeom prst="rect">
            <a:avLst/>
          </a:prstGeom>
          <a:ln w="0">
            <a:noFill/>
          </a:ln>
        </p:spPr>
      </p:pic>
      <p:sp>
        <p:nvSpPr>
          <p:cNvPr id="1018" name="AutoShape 11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3671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Beatl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x Pistol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eep Purpl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1" name="WordArt 7" descr=""/>
          <p:cNvPicPr/>
          <p:nvPr/>
        </p:nvPicPr>
        <p:blipFill>
          <a:blip r:embed="rId1"/>
          <a:stretch/>
        </p:blipFill>
        <p:spPr>
          <a:xfrm>
            <a:off x="1689120" y="689040"/>
            <a:ext cx="6192720" cy="981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Beatles 2"/>
          <p:cNvPicPr/>
          <p:nvPr/>
        </p:nvPicPr>
        <p:blipFill>
          <a:blip r:embed="rId2"/>
          <a:stretch/>
        </p:blipFill>
        <p:spPr>
          <a:xfrm>
            <a:off x="4140360" y="2276640"/>
            <a:ext cx="3670200" cy="3301920"/>
          </a:xfrm>
          <a:prstGeom prst="rect">
            <a:avLst/>
          </a:prstGeom>
          <a:ln w="0">
            <a:noFill/>
          </a:ln>
        </p:spPr>
      </p:pic>
      <p:sp>
        <p:nvSpPr>
          <p:cNvPr id="1023" name="AutoShape 10"/>
          <p:cNvSpPr/>
          <p:nvPr/>
        </p:nvSpPr>
        <p:spPr>
          <a:xfrm>
            <a:off x="1258920" y="2276640"/>
            <a:ext cx="2160720" cy="649080"/>
          </a:xfrm>
          <a:custGeom>
            <a:avLst/>
            <a:gdLst>
              <a:gd name="textAreaLeft" fmla="*/ 41760 w 2160720"/>
              <a:gd name="textAreaRight" fmla="*/ 2118960 w 21607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71876" h="21600">
                <a:moveTo>
                  <a:pt x="0" y="0"/>
                </a:moveTo>
                <a:lnTo>
                  <a:pt x="71876" y="0"/>
                </a:lnTo>
                <a:lnTo>
                  <a:pt x="71876" y="21600"/>
                </a:lnTo>
                <a:lnTo>
                  <a:pt x="0" y="21600"/>
                </a:lnTo>
                <a:close/>
              </a:path>
              <a:path fill="lightenLess" w="71876" h="21600">
                <a:moveTo>
                  <a:pt x="0" y="0"/>
                </a:moveTo>
                <a:lnTo>
                  <a:pt x="71876" y="0"/>
                </a:lnTo>
                <a:lnTo>
                  <a:pt x="70476" y="1400"/>
                </a:lnTo>
                <a:lnTo>
                  <a:pt x="1400" y="1400"/>
                </a:lnTo>
                <a:close/>
              </a:path>
              <a:path fill="darken" w="71876" h="21600">
                <a:moveTo>
                  <a:pt x="71876" y="0"/>
                </a:moveTo>
                <a:lnTo>
                  <a:pt x="71876" y="21600"/>
                </a:lnTo>
                <a:lnTo>
                  <a:pt x="70476" y="20200"/>
                </a:lnTo>
                <a:lnTo>
                  <a:pt x="70476" y="1400"/>
                </a:lnTo>
                <a:close/>
              </a:path>
              <a:path fill="darkenLess" w="71876" h="21600">
                <a:moveTo>
                  <a:pt x="71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76" y="20200"/>
                </a:lnTo>
                <a:close/>
              </a:path>
              <a:path fill="lighten" w="71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876" h="21600">
                <a:moveTo>
                  <a:pt x="28932" y="3794"/>
                </a:moveTo>
                <a:lnTo>
                  <a:pt x="42945" y="10800"/>
                </a:lnTo>
                <a:lnTo>
                  <a:pt x="2893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4" name="AutoShape 11"/>
          <p:cNvSpPr/>
          <p:nvPr/>
        </p:nvSpPr>
        <p:spPr>
          <a:xfrm>
            <a:off x="1258920" y="3284640"/>
            <a:ext cx="2160720" cy="720720"/>
          </a:xfrm>
          <a:custGeom>
            <a:avLst/>
            <a:gdLst>
              <a:gd name="textAreaLeft" fmla="*/ 46440 w 2160720"/>
              <a:gd name="textAreaRight" fmla="*/ 2114280 w 216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4735" h="21600">
                <a:moveTo>
                  <a:pt x="0" y="0"/>
                </a:moveTo>
                <a:lnTo>
                  <a:pt x="64735" y="0"/>
                </a:lnTo>
                <a:lnTo>
                  <a:pt x="64735" y="21600"/>
                </a:lnTo>
                <a:lnTo>
                  <a:pt x="0" y="21600"/>
                </a:lnTo>
                <a:close/>
              </a:path>
              <a:path fill="lightenLess" w="64735" h="21600">
                <a:moveTo>
                  <a:pt x="0" y="0"/>
                </a:moveTo>
                <a:lnTo>
                  <a:pt x="64735" y="0"/>
                </a:lnTo>
                <a:lnTo>
                  <a:pt x="63335" y="1400"/>
                </a:lnTo>
                <a:lnTo>
                  <a:pt x="1400" y="1400"/>
                </a:lnTo>
                <a:close/>
              </a:path>
              <a:path fill="darken" w="64735" h="21600">
                <a:moveTo>
                  <a:pt x="64735" y="0"/>
                </a:moveTo>
                <a:lnTo>
                  <a:pt x="64735" y="21600"/>
                </a:lnTo>
                <a:lnTo>
                  <a:pt x="63335" y="20200"/>
                </a:lnTo>
                <a:lnTo>
                  <a:pt x="63335" y="1400"/>
                </a:lnTo>
                <a:close/>
              </a:path>
              <a:path fill="darkenLess" w="64735" h="21600">
                <a:moveTo>
                  <a:pt x="64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5" y="20200"/>
                </a:lnTo>
                <a:close/>
              </a:path>
              <a:path fill="lighten" w="64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5" h="21600">
                <a:moveTo>
                  <a:pt x="25361" y="3794"/>
                </a:moveTo>
                <a:lnTo>
                  <a:pt x="39374" y="10800"/>
                </a:lnTo>
                <a:lnTo>
                  <a:pt x="2536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5" name="AutoShape 12"/>
          <p:cNvSpPr/>
          <p:nvPr/>
        </p:nvSpPr>
        <p:spPr>
          <a:xfrm>
            <a:off x="1258920" y="4437000"/>
            <a:ext cx="2233440" cy="504720"/>
          </a:xfrm>
          <a:custGeom>
            <a:avLst/>
            <a:gdLst>
              <a:gd name="textAreaLeft" fmla="*/ 32400 w 2233440"/>
              <a:gd name="textAreaRight" fmla="*/ 2201040 w 2233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5530" h="21600">
                <a:moveTo>
                  <a:pt x="0" y="0"/>
                </a:moveTo>
                <a:lnTo>
                  <a:pt x="95530" y="0"/>
                </a:lnTo>
                <a:lnTo>
                  <a:pt x="95530" y="21600"/>
                </a:lnTo>
                <a:lnTo>
                  <a:pt x="0" y="21600"/>
                </a:lnTo>
                <a:close/>
              </a:path>
              <a:path fill="lightenLess" w="95530" h="21600">
                <a:moveTo>
                  <a:pt x="0" y="0"/>
                </a:moveTo>
                <a:lnTo>
                  <a:pt x="95530" y="0"/>
                </a:lnTo>
                <a:lnTo>
                  <a:pt x="94130" y="1400"/>
                </a:lnTo>
                <a:lnTo>
                  <a:pt x="1400" y="1400"/>
                </a:lnTo>
                <a:close/>
              </a:path>
              <a:path fill="darken" w="95530" h="21600">
                <a:moveTo>
                  <a:pt x="95530" y="0"/>
                </a:moveTo>
                <a:lnTo>
                  <a:pt x="95530" y="21600"/>
                </a:lnTo>
                <a:lnTo>
                  <a:pt x="94130" y="20200"/>
                </a:lnTo>
                <a:lnTo>
                  <a:pt x="94130" y="1400"/>
                </a:lnTo>
                <a:close/>
              </a:path>
              <a:path fill="darkenLess" w="95530" h="21600">
                <a:moveTo>
                  <a:pt x="95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30" y="20200"/>
                </a:lnTo>
                <a:close/>
              </a:path>
              <a:path fill="lighten" w="95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530" h="21600">
                <a:moveTo>
                  <a:pt x="40758" y="3794"/>
                </a:moveTo>
                <a:lnTo>
                  <a:pt x="54771" y="10800"/>
                </a:lnTo>
                <a:lnTo>
                  <a:pt x="4075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6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3816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Наверное, группа «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he Beatles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» самая известная из всех на нашей планете. Сначала она играла в стиле скиффл, а затем в рок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н-ролл. Название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«The Beatles»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они приобрели намного позднее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Состав знаменитой группы менялся не очень часто. Первое серьёзное выступление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- в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апреле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1960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года в Шотландии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8" name="WordArt 6" descr=""/>
          <p:cNvPicPr/>
          <p:nvPr/>
        </p:nvPicPr>
        <p:blipFill>
          <a:blip r:embed="rId1"/>
          <a:stretch/>
        </p:blipFill>
        <p:spPr>
          <a:xfrm>
            <a:off x="3121200" y="609480"/>
            <a:ext cx="3047760" cy="676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7" descr="81"/>
          <p:cNvPicPr/>
          <p:nvPr/>
        </p:nvPicPr>
        <p:blipFill>
          <a:blip r:embed="rId2"/>
          <a:stretch/>
        </p:blipFill>
        <p:spPr>
          <a:xfrm>
            <a:off x="4788000" y="1989000"/>
            <a:ext cx="3817800" cy="3262320"/>
          </a:xfrm>
          <a:prstGeom prst="rect">
            <a:avLst/>
          </a:prstGeom>
          <a:ln w="0">
            <a:noFill/>
          </a:ln>
        </p:spPr>
      </p:pic>
      <p:sp>
        <p:nvSpPr>
          <p:cNvPr id="1030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3745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“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ove me do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” была первой настоящей пластинкой “ Биттлз”. Их покорение мира началось со Швеции. Последнее выступление стало “The Beatles” состоялось 29 августа 1966 года. В середине 1967 года они закончили работу над пластинкой “ Сержант Пеппер”, следующей и последней их работой была пластинка “Let it be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В 1970 году группа распалась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2" name="Picture 4" descr="Рисунок1"/>
          <p:cNvPicPr/>
          <p:nvPr/>
        </p:nvPicPr>
        <p:blipFill>
          <a:blip r:embed="rId1"/>
          <a:stretch/>
        </p:blipFill>
        <p:spPr>
          <a:xfrm>
            <a:off x="4500720" y="1413000"/>
            <a:ext cx="3752640" cy="3638520"/>
          </a:xfrm>
          <a:prstGeom prst="rect">
            <a:avLst/>
          </a:prstGeom>
          <a:ln w="0">
            <a:noFill/>
          </a:ln>
        </p:spPr>
      </p:pic>
      <p:sp>
        <p:nvSpPr>
          <p:cNvPr id="1033" name="AutoShape 5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920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выступление этой группы состоялось в ноябре 1975-го в одном из колледжей Лондона. После британского тура, группа участвовала на панк -фестивале 1976 года, В мае "Se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stols" подписались к "Virgin" и наконец-то выпустили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 Save The Que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 К концу года отношения в группе разладились. В 1996-м Роттен, Джонс, Кук и Матлок возродили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x Pistol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6" name="WordArt 4" descr=""/>
          <p:cNvPicPr/>
          <p:nvPr/>
        </p:nvPicPr>
        <p:blipFill>
          <a:blip r:embed="rId1"/>
          <a:stretch/>
        </p:blipFill>
        <p:spPr>
          <a:xfrm>
            <a:off x="3340080" y="426960"/>
            <a:ext cx="2895480" cy="7686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8" descr="sex-pistols-050523"/>
          <p:cNvPicPr/>
          <p:nvPr/>
        </p:nvPicPr>
        <p:blipFill>
          <a:blip r:embed="rId2"/>
          <a:stretch/>
        </p:blipFill>
        <p:spPr>
          <a:xfrm>
            <a:off x="2411280" y="3860640"/>
            <a:ext cx="4394160" cy="2592720"/>
          </a:xfrm>
          <a:prstGeom prst="rect">
            <a:avLst/>
          </a:prstGeom>
          <a:ln w="0">
            <a:noFill/>
          </a:ln>
        </p:spPr>
      </p:pic>
      <p:sp>
        <p:nvSpPr>
          <p:cNvPr id="1038" name="AutoShape 10"/>
          <p:cNvSpPr/>
          <p:nvPr/>
        </p:nvSpPr>
        <p:spPr>
          <a:xfrm>
            <a:off x="81010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39592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омант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Экспрессио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Дж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вангард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Импрессио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3" name="Picture 7" descr="119"/>
          <p:cNvPicPr/>
          <p:nvPr/>
        </p:nvPicPr>
        <p:blipFill>
          <a:blip r:embed="rId1"/>
          <a:stretch/>
        </p:blipFill>
        <p:spPr>
          <a:xfrm>
            <a:off x="4648320" y="2585880"/>
            <a:ext cx="4038480" cy="290376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11">
            <a:hlinkClick r:id="rId2"/>
          </p:cNvPr>
          <p:cNvSpPr/>
          <p:nvPr/>
        </p:nvSpPr>
        <p:spPr>
          <a:xfrm>
            <a:off x="826920" y="2133720"/>
            <a:ext cx="2089440" cy="649080"/>
          </a:xfrm>
          <a:custGeom>
            <a:avLst/>
            <a:gdLst>
              <a:gd name="textAreaLeft" fmla="*/ 41760 w 2089440"/>
              <a:gd name="textAreaRight" fmla="*/ 2047680 w 20894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69506" h="21600">
                <a:moveTo>
                  <a:pt x="0" y="0"/>
                </a:moveTo>
                <a:lnTo>
                  <a:pt x="69506" y="0"/>
                </a:lnTo>
                <a:lnTo>
                  <a:pt x="69506" y="21600"/>
                </a:lnTo>
                <a:lnTo>
                  <a:pt x="0" y="21600"/>
                </a:lnTo>
                <a:close/>
              </a:path>
              <a:path fill="lightenLess" w="69506" h="21600">
                <a:moveTo>
                  <a:pt x="0" y="0"/>
                </a:moveTo>
                <a:lnTo>
                  <a:pt x="69506" y="0"/>
                </a:lnTo>
                <a:lnTo>
                  <a:pt x="68106" y="1400"/>
                </a:lnTo>
                <a:lnTo>
                  <a:pt x="1400" y="1400"/>
                </a:lnTo>
                <a:close/>
              </a:path>
              <a:path fill="darken" w="69506" h="21600">
                <a:moveTo>
                  <a:pt x="69506" y="0"/>
                </a:moveTo>
                <a:lnTo>
                  <a:pt x="69506" y="21600"/>
                </a:lnTo>
                <a:lnTo>
                  <a:pt x="68106" y="20200"/>
                </a:lnTo>
                <a:lnTo>
                  <a:pt x="68106" y="1400"/>
                </a:lnTo>
                <a:close/>
              </a:path>
              <a:path fill="darkenLess" w="69506" h="21600">
                <a:moveTo>
                  <a:pt x="69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106" y="20200"/>
                </a:lnTo>
                <a:close/>
              </a:path>
              <a:path fill="lighten" w="69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506" h="21600">
                <a:moveTo>
                  <a:pt x="27746" y="3794"/>
                </a:moveTo>
                <a:lnTo>
                  <a:pt x="41759" y="10800"/>
                </a:lnTo>
                <a:lnTo>
                  <a:pt x="277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5" name="AutoShape 12">
            <a:hlinkClick r:id="rId3"/>
          </p:cNvPr>
          <p:cNvSpPr/>
          <p:nvPr/>
        </p:nvSpPr>
        <p:spPr>
          <a:xfrm>
            <a:off x="826920" y="3357720"/>
            <a:ext cx="1332000" cy="502920"/>
          </a:xfrm>
          <a:custGeom>
            <a:avLst/>
            <a:gdLst>
              <a:gd name="textAreaLeft" fmla="*/ 32400 w 1332000"/>
              <a:gd name="textAreaRight" fmla="*/ 1299600 w 1332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57183" h="21600">
                <a:moveTo>
                  <a:pt x="0" y="0"/>
                </a:moveTo>
                <a:lnTo>
                  <a:pt x="57183" y="0"/>
                </a:lnTo>
                <a:lnTo>
                  <a:pt x="57183" y="21600"/>
                </a:lnTo>
                <a:lnTo>
                  <a:pt x="0" y="21600"/>
                </a:lnTo>
                <a:close/>
              </a:path>
              <a:path fill="lightenLess" w="57183" h="21600">
                <a:moveTo>
                  <a:pt x="0" y="0"/>
                </a:moveTo>
                <a:lnTo>
                  <a:pt x="57183" y="0"/>
                </a:lnTo>
                <a:lnTo>
                  <a:pt x="55783" y="1400"/>
                </a:lnTo>
                <a:lnTo>
                  <a:pt x="1400" y="1400"/>
                </a:lnTo>
                <a:close/>
              </a:path>
              <a:path fill="darken" w="57183" h="21600">
                <a:moveTo>
                  <a:pt x="57183" y="0"/>
                </a:moveTo>
                <a:lnTo>
                  <a:pt x="57183" y="21600"/>
                </a:lnTo>
                <a:lnTo>
                  <a:pt x="55783" y="20200"/>
                </a:lnTo>
                <a:lnTo>
                  <a:pt x="55783" y="1400"/>
                </a:lnTo>
                <a:close/>
              </a:path>
              <a:path fill="darkenLess" w="57183" h="21600">
                <a:moveTo>
                  <a:pt x="57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783" y="20200"/>
                </a:lnTo>
                <a:close/>
              </a:path>
              <a:path fill="lighten" w="57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183" h="21600">
                <a:moveTo>
                  <a:pt x="21585" y="3794"/>
                </a:moveTo>
                <a:lnTo>
                  <a:pt x="35598" y="10800"/>
                </a:lnTo>
                <a:lnTo>
                  <a:pt x="215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6" name="AutoShape 13">
            <a:hlinkClick r:id="rId4"/>
          </p:cNvPr>
          <p:cNvSpPr/>
          <p:nvPr/>
        </p:nvSpPr>
        <p:spPr>
          <a:xfrm>
            <a:off x="900000" y="3933720"/>
            <a:ext cx="2519640" cy="505080"/>
          </a:xfrm>
          <a:custGeom>
            <a:avLst/>
            <a:gdLst>
              <a:gd name="textAreaLeft" fmla="*/ 32400 w 2519640"/>
              <a:gd name="textAreaRight" fmla="*/ 2486880 w 2519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107692" h="21600">
                <a:moveTo>
                  <a:pt x="0" y="0"/>
                </a:moveTo>
                <a:lnTo>
                  <a:pt x="107692" y="0"/>
                </a:lnTo>
                <a:lnTo>
                  <a:pt x="107692" y="21600"/>
                </a:lnTo>
                <a:lnTo>
                  <a:pt x="0" y="21600"/>
                </a:lnTo>
                <a:close/>
              </a:path>
              <a:path fill="lightenLess" w="107692" h="21600">
                <a:moveTo>
                  <a:pt x="0" y="0"/>
                </a:moveTo>
                <a:lnTo>
                  <a:pt x="107692" y="0"/>
                </a:lnTo>
                <a:lnTo>
                  <a:pt x="106292" y="1400"/>
                </a:lnTo>
                <a:lnTo>
                  <a:pt x="1400" y="1400"/>
                </a:lnTo>
                <a:close/>
              </a:path>
              <a:path fill="darken" w="107692" h="21600">
                <a:moveTo>
                  <a:pt x="107692" y="0"/>
                </a:moveTo>
                <a:lnTo>
                  <a:pt x="107692" y="21600"/>
                </a:lnTo>
                <a:lnTo>
                  <a:pt x="106292" y="20200"/>
                </a:lnTo>
                <a:lnTo>
                  <a:pt x="106292" y="1400"/>
                </a:lnTo>
                <a:close/>
              </a:path>
              <a:path fill="darkenLess" w="107692" h="21600">
                <a:moveTo>
                  <a:pt x="10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292" y="20200"/>
                </a:lnTo>
                <a:close/>
              </a:path>
              <a:path fill="lighten" w="10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692" h="21600">
                <a:moveTo>
                  <a:pt x="46840" y="3794"/>
                </a:moveTo>
                <a:lnTo>
                  <a:pt x="60853" y="10800"/>
                </a:lnTo>
                <a:lnTo>
                  <a:pt x="4684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7" name="AutoShape 14">
            <a:hlinkClick r:id="rId5"/>
          </p:cNvPr>
          <p:cNvSpPr/>
          <p:nvPr/>
        </p:nvSpPr>
        <p:spPr>
          <a:xfrm>
            <a:off x="755640" y="4508640"/>
            <a:ext cx="3024360" cy="576000"/>
          </a:xfrm>
          <a:custGeom>
            <a:avLst/>
            <a:gdLst>
              <a:gd name="textAreaLeft" fmla="*/ 37080 w 3024360"/>
              <a:gd name="textAreaRight" fmla="*/ 2987280 w 302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13356" h="21600">
                <a:moveTo>
                  <a:pt x="0" y="0"/>
                </a:moveTo>
                <a:lnTo>
                  <a:pt x="113356" y="0"/>
                </a:lnTo>
                <a:lnTo>
                  <a:pt x="113356" y="21600"/>
                </a:lnTo>
                <a:lnTo>
                  <a:pt x="0" y="21600"/>
                </a:lnTo>
                <a:close/>
              </a:path>
              <a:path fill="lightenLess" w="113356" h="21600">
                <a:moveTo>
                  <a:pt x="0" y="0"/>
                </a:moveTo>
                <a:lnTo>
                  <a:pt x="113356" y="0"/>
                </a:lnTo>
                <a:lnTo>
                  <a:pt x="111956" y="1400"/>
                </a:lnTo>
                <a:lnTo>
                  <a:pt x="1400" y="1400"/>
                </a:lnTo>
                <a:close/>
              </a:path>
              <a:path fill="darken" w="113356" h="21600">
                <a:moveTo>
                  <a:pt x="113356" y="0"/>
                </a:moveTo>
                <a:lnTo>
                  <a:pt x="113356" y="21600"/>
                </a:lnTo>
                <a:lnTo>
                  <a:pt x="111956" y="20200"/>
                </a:lnTo>
                <a:lnTo>
                  <a:pt x="111956" y="1400"/>
                </a:lnTo>
                <a:close/>
              </a:path>
              <a:path fill="darkenLess" w="113356" h="21600">
                <a:moveTo>
                  <a:pt x="113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56" y="20200"/>
                </a:lnTo>
                <a:close/>
              </a:path>
              <a:path fill="lighten" w="113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3356" h="21600">
                <a:moveTo>
                  <a:pt x="49672" y="3794"/>
                </a:moveTo>
                <a:lnTo>
                  <a:pt x="63685" y="10800"/>
                </a:lnTo>
                <a:lnTo>
                  <a:pt x="4967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8" name="AutoShape 15">
            <a:hlinkClick r:id="rId6"/>
          </p:cNvPr>
          <p:cNvSpPr/>
          <p:nvPr/>
        </p:nvSpPr>
        <p:spPr>
          <a:xfrm>
            <a:off x="826920" y="2781360"/>
            <a:ext cx="3097440" cy="503280"/>
          </a:xfrm>
          <a:custGeom>
            <a:avLst/>
            <a:gdLst>
              <a:gd name="textAreaLeft" fmla="*/ 32400 w 3097440"/>
              <a:gd name="textAreaRight" fmla="*/ 3065040 w 3097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32858" h="21600">
                <a:moveTo>
                  <a:pt x="0" y="0"/>
                </a:moveTo>
                <a:lnTo>
                  <a:pt x="132858" y="0"/>
                </a:lnTo>
                <a:lnTo>
                  <a:pt x="132858" y="21600"/>
                </a:lnTo>
                <a:lnTo>
                  <a:pt x="0" y="21600"/>
                </a:lnTo>
                <a:close/>
              </a:path>
              <a:path fill="lightenLess" w="132858" h="21600">
                <a:moveTo>
                  <a:pt x="0" y="0"/>
                </a:moveTo>
                <a:lnTo>
                  <a:pt x="132858" y="0"/>
                </a:lnTo>
                <a:lnTo>
                  <a:pt x="131458" y="1400"/>
                </a:lnTo>
                <a:lnTo>
                  <a:pt x="1400" y="1400"/>
                </a:lnTo>
                <a:close/>
              </a:path>
              <a:path fill="darken" w="132858" h="21600">
                <a:moveTo>
                  <a:pt x="132858" y="0"/>
                </a:moveTo>
                <a:lnTo>
                  <a:pt x="132858" y="21600"/>
                </a:lnTo>
                <a:lnTo>
                  <a:pt x="131458" y="20200"/>
                </a:lnTo>
                <a:lnTo>
                  <a:pt x="131458" y="1400"/>
                </a:lnTo>
                <a:close/>
              </a:path>
              <a:path fill="darkenLess" w="132858" h="21600">
                <a:moveTo>
                  <a:pt x="1328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458" y="20200"/>
                </a:lnTo>
                <a:close/>
              </a:path>
              <a:path fill="lighten" w="1328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2858" h="21600">
                <a:moveTo>
                  <a:pt x="59422" y="3794"/>
                </a:moveTo>
                <a:lnTo>
                  <a:pt x="73435" y="10800"/>
                </a:lnTo>
                <a:lnTo>
                  <a:pt x="5942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19" name="WordArt 17" descr=""/>
          <p:cNvPicPr/>
          <p:nvPr/>
        </p:nvPicPr>
        <p:blipFill>
          <a:blip r:embed="rId7"/>
          <a:stretch/>
        </p:blipFill>
        <p:spPr>
          <a:xfrm>
            <a:off x="1822320" y="603360"/>
            <a:ext cx="6486480" cy="658800"/>
          </a:xfrm>
          <a:prstGeom prst="rect">
            <a:avLst/>
          </a:prstGeom>
          <a:ln w="0">
            <a:noFill/>
          </a:ln>
        </p:spPr>
      </p:pic>
      <p:pic>
        <p:nvPicPr>
          <p:cNvPr id="820" name="WordArt 18" descr=""/>
          <p:cNvPicPr/>
          <p:nvPr/>
        </p:nvPicPr>
        <p:blipFill>
          <a:blip r:embed="rId8"/>
          <a:stretch/>
        </p:blipFill>
        <p:spPr>
          <a:xfrm>
            <a:off x="2468520" y="1328760"/>
            <a:ext cx="4633920" cy="658800"/>
          </a:xfrm>
          <a:prstGeom prst="rect">
            <a:avLst/>
          </a:prstGeom>
          <a:ln w="0">
            <a:noFill/>
          </a:ln>
        </p:spPr>
      </p:pic>
      <p:sp>
        <p:nvSpPr>
          <p:cNvPr id="821" name="AutoShape 19">
            <a:hlinkClick r:id="rId9"/>
          </p:cNvPr>
          <p:cNvSpPr/>
          <p:nvPr/>
        </p:nvSpPr>
        <p:spPr>
          <a:xfrm>
            <a:off x="611280" y="5084640"/>
            <a:ext cx="3168720" cy="574920"/>
          </a:xfrm>
          <a:custGeom>
            <a:avLst/>
            <a:gdLst>
              <a:gd name="textAreaLeft" fmla="*/ 37080 w 3168720"/>
              <a:gd name="textAreaRight" fmla="*/ 3131640 w 316872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118989" h="21600">
                <a:moveTo>
                  <a:pt x="0" y="0"/>
                </a:moveTo>
                <a:lnTo>
                  <a:pt x="118989" y="0"/>
                </a:lnTo>
                <a:lnTo>
                  <a:pt x="118989" y="21600"/>
                </a:lnTo>
                <a:lnTo>
                  <a:pt x="0" y="21600"/>
                </a:lnTo>
                <a:close/>
              </a:path>
              <a:path fill="lightenLess" w="118989" h="21600">
                <a:moveTo>
                  <a:pt x="0" y="0"/>
                </a:moveTo>
                <a:lnTo>
                  <a:pt x="118989" y="0"/>
                </a:lnTo>
                <a:lnTo>
                  <a:pt x="117589" y="1400"/>
                </a:lnTo>
                <a:lnTo>
                  <a:pt x="1400" y="1400"/>
                </a:lnTo>
                <a:close/>
              </a:path>
              <a:path fill="darken" w="118989" h="21600">
                <a:moveTo>
                  <a:pt x="118989" y="0"/>
                </a:moveTo>
                <a:lnTo>
                  <a:pt x="118989" y="21600"/>
                </a:lnTo>
                <a:lnTo>
                  <a:pt x="117589" y="20200"/>
                </a:lnTo>
                <a:lnTo>
                  <a:pt x="117589" y="1400"/>
                </a:lnTo>
                <a:close/>
              </a:path>
              <a:path fill="darkenLess" w="118989" h="21600">
                <a:moveTo>
                  <a:pt x="118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589" y="20200"/>
                </a:lnTo>
                <a:close/>
              </a:path>
              <a:path fill="lighten" w="118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989" h="21600">
                <a:moveTo>
                  <a:pt x="52488" y="3794"/>
                </a:moveTo>
                <a:lnTo>
                  <a:pt x="66501" y="10800"/>
                </a:lnTo>
                <a:lnTo>
                  <a:pt x="5248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302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Deep Purple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была создана в апреле 1968 года. Их состав менялся почти 10 раз, но первый состав группы был поначалу таким: Ричи Блэкмор - гитара, Род Эванс - вокал, Джон Лорд - клавишные и бэк-вокал, Иэн Пейс - ударные, Ник Симпер - бас-гитара и бэк-вокал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1" name="WordArt 4" descr="Зеленый мрамор"/>
          <p:cNvPicPr/>
          <p:nvPr/>
        </p:nvPicPr>
        <p:blipFill>
          <a:blip r:embed="rId1"/>
          <a:stretch/>
        </p:blipFill>
        <p:spPr>
          <a:xfrm>
            <a:off x="2468520" y="676440"/>
            <a:ext cx="4292640" cy="8776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dp"/>
          <p:cNvPicPr/>
          <p:nvPr/>
        </p:nvPicPr>
        <p:blipFill>
          <a:blip r:embed="rId2"/>
          <a:stretch/>
        </p:blipFill>
        <p:spPr>
          <a:xfrm>
            <a:off x="3924360" y="2133720"/>
            <a:ext cx="4692600" cy="3519360"/>
          </a:xfrm>
          <a:prstGeom prst="rect">
            <a:avLst/>
          </a:prstGeom>
          <a:ln w="0">
            <a:noFill/>
          </a:ln>
        </p:spPr>
      </p:pic>
      <p:sp>
        <p:nvSpPr>
          <p:cNvPr id="1043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40305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Первым альбомом группы стал 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“Shades of Deep Purple”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, выглядя экспериментальным и шероховатым. Но последующие альбомы стали лучше, что привело их к известности после двух лет в Европе. Они сделали попытку соединить рок и классику, что вызвало противоречия, но обеспечило группе столь большое внимание. В 1971 году у группы начинаются серьезные выступления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5" name="Picture 5" descr="composer607"/>
          <p:cNvPicPr/>
          <p:nvPr/>
        </p:nvPicPr>
        <p:blipFill>
          <a:blip r:embed="rId1"/>
          <a:stretch/>
        </p:blipFill>
        <p:spPr>
          <a:xfrm>
            <a:off x="5364000" y="1700280"/>
            <a:ext cx="2667240" cy="3284640"/>
          </a:xfrm>
          <a:prstGeom prst="rect">
            <a:avLst/>
          </a:prstGeom>
          <a:ln w="0">
            <a:noFill/>
          </a:ln>
        </p:spPr>
      </p:pic>
      <p:sp>
        <p:nvSpPr>
          <p:cNvPr id="1046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73864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7" descr="J0309705"/>
          <p:cNvPicPr/>
          <p:nvPr/>
        </p:nvPicPr>
        <p:blipFill>
          <a:blip r:embed="rId1"/>
          <a:stretch/>
        </p:blipFill>
        <p:spPr>
          <a:xfrm>
            <a:off x="1692360" y="3573360"/>
            <a:ext cx="5832360" cy="2808360"/>
          </a:xfrm>
          <a:prstGeom prst="rect">
            <a:avLst/>
          </a:prstGeom>
          <a:ln w="0">
            <a:noFill/>
          </a:ln>
        </p:spPr>
      </p:pic>
      <p:sp>
        <p:nvSpPr>
          <p:cNvPr id="825" name="AutoShape 8">
            <a:hlinkClick r:id="rId2"/>
          </p:cNvPr>
          <p:cNvSpPr/>
          <p:nvPr/>
        </p:nvSpPr>
        <p:spPr>
          <a:xfrm>
            <a:off x="611280" y="1916280"/>
            <a:ext cx="4968720" cy="576000"/>
          </a:xfrm>
          <a:custGeom>
            <a:avLst/>
            <a:gdLst>
              <a:gd name="textAreaLeft" fmla="*/ 37080 w 4968720"/>
              <a:gd name="textAreaRight" fmla="*/ 4931640 w 4968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86224" h="21600">
                <a:moveTo>
                  <a:pt x="0" y="0"/>
                </a:moveTo>
                <a:lnTo>
                  <a:pt x="186224" y="0"/>
                </a:lnTo>
                <a:lnTo>
                  <a:pt x="186224" y="21600"/>
                </a:lnTo>
                <a:lnTo>
                  <a:pt x="0" y="21600"/>
                </a:lnTo>
                <a:close/>
              </a:path>
              <a:path fill="lightenLess" w="186224" h="21600">
                <a:moveTo>
                  <a:pt x="0" y="0"/>
                </a:moveTo>
                <a:lnTo>
                  <a:pt x="186224" y="0"/>
                </a:lnTo>
                <a:lnTo>
                  <a:pt x="184824" y="1400"/>
                </a:lnTo>
                <a:lnTo>
                  <a:pt x="1400" y="1400"/>
                </a:lnTo>
                <a:close/>
              </a:path>
              <a:path fill="darken" w="186224" h="21600">
                <a:moveTo>
                  <a:pt x="186224" y="0"/>
                </a:moveTo>
                <a:lnTo>
                  <a:pt x="186224" y="21600"/>
                </a:lnTo>
                <a:lnTo>
                  <a:pt x="184824" y="20200"/>
                </a:lnTo>
                <a:lnTo>
                  <a:pt x="184824" y="1400"/>
                </a:lnTo>
                <a:close/>
              </a:path>
              <a:path fill="darkenLess" w="186224" h="21600">
                <a:moveTo>
                  <a:pt x="186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4824" y="20200"/>
                </a:lnTo>
                <a:close/>
              </a:path>
              <a:path fill="lighten" w="186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6224" h="21600">
                <a:moveTo>
                  <a:pt x="86106" y="3794"/>
                </a:moveTo>
                <a:lnTo>
                  <a:pt x="100119" y="10800"/>
                </a:lnTo>
                <a:lnTo>
                  <a:pt x="861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26" name="AutoShape 9">
            <a:hlinkClick r:id="rId3"/>
          </p:cNvPr>
          <p:cNvSpPr/>
          <p:nvPr/>
        </p:nvSpPr>
        <p:spPr>
          <a:xfrm>
            <a:off x="684360" y="2565360"/>
            <a:ext cx="5040000" cy="504720"/>
          </a:xfrm>
          <a:custGeom>
            <a:avLst/>
            <a:gdLst>
              <a:gd name="textAreaLeft" fmla="*/ 32400 w 5040000"/>
              <a:gd name="textAreaRight" fmla="*/ 5007600 w 50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54" h="21600">
                <a:moveTo>
                  <a:pt x="0" y="0"/>
                </a:moveTo>
                <a:lnTo>
                  <a:pt x="215554" y="0"/>
                </a:lnTo>
                <a:lnTo>
                  <a:pt x="215554" y="21600"/>
                </a:lnTo>
                <a:lnTo>
                  <a:pt x="0" y="21600"/>
                </a:lnTo>
                <a:close/>
              </a:path>
              <a:path fill="lightenLess" w="215554" h="21600">
                <a:moveTo>
                  <a:pt x="0" y="0"/>
                </a:moveTo>
                <a:lnTo>
                  <a:pt x="215554" y="0"/>
                </a:lnTo>
                <a:lnTo>
                  <a:pt x="214154" y="1400"/>
                </a:lnTo>
                <a:lnTo>
                  <a:pt x="1400" y="1400"/>
                </a:lnTo>
                <a:close/>
              </a:path>
              <a:path fill="darken" w="215554" h="21600">
                <a:moveTo>
                  <a:pt x="215554" y="0"/>
                </a:moveTo>
                <a:lnTo>
                  <a:pt x="215554" y="21600"/>
                </a:lnTo>
                <a:lnTo>
                  <a:pt x="214154" y="20200"/>
                </a:lnTo>
                <a:lnTo>
                  <a:pt x="214154" y="1400"/>
                </a:lnTo>
                <a:close/>
              </a:path>
              <a:path fill="darkenLess" w="215554" h="21600">
                <a:moveTo>
                  <a:pt x="215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54" y="20200"/>
                </a:lnTo>
                <a:close/>
              </a:path>
              <a:path fill="lighten" w="215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54" h="21600">
                <a:moveTo>
                  <a:pt x="100770" y="3794"/>
                </a:moveTo>
                <a:lnTo>
                  <a:pt x="114783" y="10800"/>
                </a:lnTo>
                <a:lnTo>
                  <a:pt x="10077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27" name="WordArt 11" descr=""/>
          <p:cNvPicPr/>
          <p:nvPr/>
        </p:nvPicPr>
        <p:blipFill>
          <a:blip r:embed="rId4"/>
          <a:stretch/>
        </p:blipFill>
        <p:spPr>
          <a:xfrm>
            <a:off x="2914560" y="476280"/>
            <a:ext cx="3784680" cy="1176480"/>
          </a:xfrm>
          <a:prstGeom prst="rect">
            <a:avLst/>
          </a:prstGeom>
          <a:ln w="0">
            <a:noFill/>
          </a:ln>
        </p:spPr>
      </p:pic>
      <p:sp>
        <p:nvSpPr>
          <p:cNvPr id="8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50000">
              <a:srgbClr val="bbe0e3"/>
            </a:gs>
            <a:gs pos="100000">
              <a:srgbClr val="33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3851280" y="1773360"/>
            <a:ext cx="43084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е продолжал развиваться и романтизм. Его наиболее сильная сторона – сопротивление антигуманистическим тенденциям буржуазного общества, утверждения духовной силы и красоты человеческой личности, призыв к духовному обновлению – трансформировалась, стали преобладать субъективистское начало, пассивност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4" descr="Бриттен"/>
          <p:cNvPicPr/>
          <p:nvPr/>
        </p:nvPicPr>
        <p:blipFill>
          <a:blip r:embed="rId1"/>
          <a:stretch/>
        </p:blipFill>
        <p:spPr>
          <a:xfrm>
            <a:off x="755640" y="1916280"/>
            <a:ext cx="2451240" cy="330192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5"/>
          <p:cNvSpPr/>
          <p:nvPr/>
        </p:nvSpPr>
        <p:spPr>
          <a:xfrm>
            <a:off x="760320" y="537300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Бенджамин Бриттен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32" name="WordArt 6" descr=""/>
          <p:cNvPicPr/>
          <p:nvPr/>
        </p:nvPicPr>
        <p:blipFill>
          <a:blip r:embed="rId2"/>
          <a:stretch/>
        </p:blipFill>
        <p:spPr>
          <a:xfrm>
            <a:off x="1542960" y="615960"/>
            <a:ext cx="6229440" cy="663480"/>
          </a:xfrm>
          <a:prstGeom prst="rect">
            <a:avLst/>
          </a:prstGeom>
          <a:ln w="0">
            <a:noFill/>
          </a:ln>
        </p:spPr>
      </p:pic>
      <p:sp>
        <p:nvSpPr>
          <p:cNvPr id="8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50000">
              <a:srgbClr val="bbe0e3"/>
            </a:gs>
            <a:gs pos="100000">
              <a:srgbClr val="33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432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антические тенденции во многом помогали противостоять модернистическим тенденциям, стремящимся деформировать содержание искусства. В отдельные периоды творчества Б. Бартока, Б. Бриттена и других западных композиторов, а также С. Прокофьева и Д. Шостаковича способствовали обогащению образных решений ярким, романтизированных выра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6" descr="Сергей Прокофьев"/>
          <p:cNvPicPr/>
          <p:nvPr/>
        </p:nvPicPr>
        <p:blipFill>
          <a:blip r:embed="rId1"/>
          <a:stretch/>
        </p:blipFill>
        <p:spPr>
          <a:xfrm>
            <a:off x="5292720" y="1484280"/>
            <a:ext cx="2814480" cy="323712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7"/>
          <p:cNvSpPr/>
          <p:nvPr/>
        </p:nvSpPr>
        <p:spPr>
          <a:xfrm>
            <a:off x="5512680" y="486828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ергей Прокофьев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37" name="AutoShape 8">
            <a:hlinkClick r:id="rId2"/>
          </p:cNvPr>
          <p:cNvSpPr/>
          <p:nvPr/>
        </p:nvSpPr>
        <p:spPr>
          <a:xfrm>
            <a:off x="7885080" y="581508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3837"/>
                </a:moveTo>
                <a:lnTo>
                  <a:pt x="15612" y="6448"/>
                </a:ln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lnTo>
                  <a:pt x="19999" y="10800"/>
                </a:lnTo>
                <a:lnTo>
                  <a:pt x="18345" y="10800"/>
                </a:lnTo>
                <a:lnTo>
                  <a:pt x="18345" y="17989"/>
                </a:lnTo>
                <a:lnTo>
                  <a:pt x="7727" y="17989"/>
                </a:lnTo>
                <a:lnTo>
                  <a:pt x="7727" y="10800"/>
                </a:lnTo>
                <a:lnTo>
                  <a:pt x="6073" y="10800"/>
                </a:lnTo>
                <a:close/>
              </a:path>
              <a:path fill="darkenLess" w="26072" h="21600">
                <a:moveTo>
                  <a:pt x="15612" y="6448"/>
                </a:move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close/>
              </a:path>
              <a:path fill="darkenLess" w="26072" h="21600">
                <a:moveTo>
                  <a:pt x="12113" y="14299"/>
                </a:moveTo>
                <a:lnTo>
                  <a:pt x="13959" y="14299"/>
                </a:lnTo>
                <a:lnTo>
                  <a:pt x="13959" y="17989"/>
                </a:lnTo>
                <a:lnTo>
                  <a:pt x="18345" y="17989"/>
                </a:lnTo>
                <a:lnTo>
                  <a:pt x="18345" y="10800"/>
                </a:lnTo>
                <a:lnTo>
                  <a:pt x="7727" y="10800"/>
                </a:lnTo>
                <a:lnTo>
                  <a:pt x="7727" y="17989"/>
                </a:lnTo>
                <a:lnTo>
                  <a:pt x="12113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446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Бенджамин Брит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Дмитрий Шостак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7" descr="Бенджамин Бриттен"/>
          <p:cNvPicPr/>
          <p:nvPr/>
        </p:nvPicPr>
        <p:blipFill>
          <a:blip r:embed="rId1"/>
          <a:stretch/>
        </p:blipFill>
        <p:spPr>
          <a:xfrm>
            <a:off x="5364000" y="1628640"/>
            <a:ext cx="1511640" cy="201636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13">
            <a:hlinkClick r:id="rId2"/>
          </p:cNvPr>
          <p:cNvSpPr/>
          <p:nvPr/>
        </p:nvSpPr>
        <p:spPr>
          <a:xfrm>
            <a:off x="1042920" y="1844640"/>
            <a:ext cx="3457800" cy="827280"/>
          </a:xfrm>
          <a:custGeom>
            <a:avLst/>
            <a:gdLst>
              <a:gd name="textAreaLeft" fmla="*/ 53640 w 3457800"/>
              <a:gd name="textAreaRight" fmla="*/ 3404160 w 345780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90252" h="21600">
                <a:moveTo>
                  <a:pt x="0" y="0"/>
                </a:moveTo>
                <a:lnTo>
                  <a:pt x="90252" y="0"/>
                </a:lnTo>
                <a:lnTo>
                  <a:pt x="90252" y="21600"/>
                </a:lnTo>
                <a:lnTo>
                  <a:pt x="0" y="21600"/>
                </a:lnTo>
                <a:close/>
              </a:path>
              <a:path fill="lightenLess" w="90252" h="21600">
                <a:moveTo>
                  <a:pt x="0" y="0"/>
                </a:moveTo>
                <a:lnTo>
                  <a:pt x="90252" y="0"/>
                </a:lnTo>
                <a:lnTo>
                  <a:pt x="88852" y="1400"/>
                </a:lnTo>
                <a:lnTo>
                  <a:pt x="1400" y="1400"/>
                </a:lnTo>
                <a:close/>
              </a:path>
              <a:path fill="darken" w="90252" h="21600">
                <a:moveTo>
                  <a:pt x="90252" y="0"/>
                </a:moveTo>
                <a:lnTo>
                  <a:pt x="90252" y="21600"/>
                </a:lnTo>
                <a:lnTo>
                  <a:pt x="88852" y="20200"/>
                </a:lnTo>
                <a:lnTo>
                  <a:pt x="88852" y="1400"/>
                </a:lnTo>
                <a:close/>
              </a:path>
              <a:path fill="darkenLess" w="90252" h="21600">
                <a:moveTo>
                  <a:pt x="9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52" y="20200"/>
                </a:lnTo>
                <a:close/>
              </a:path>
              <a:path fill="lighten" w="9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252" h="21600">
                <a:moveTo>
                  <a:pt x="38120" y="3794"/>
                </a:moveTo>
                <a:lnTo>
                  <a:pt x="52133" y="10800"/>
                </a:lnTo>
                <a:lnTo>
                  <a:pt x="3812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42" name="AutoShape 14">
            <a:hlinkClick r:id="rId3"/>
          </p:cNvPr>
          <p:cNvSpPr/>
          <p:nvPr/>
        </p:nvSpPr>
        <p:spPr>
          <a:xfrm>
            <a:off x="1116000" y="4365720"/>
            <a:ext cx="3600360" cy="826920"/>
          </a:xfrm>
          <a:custGeom>
            <a:avLst/>
            <a:gdLst>
              <a:gd name="textAreaLeft" fmla="*/ 53280 w 3600360"/>
              <a:gd name="textAreaRight" fmla="*/ 3547080 w 360036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94014" h="21600">
                <a:moveTo>
                  <a:pt x="0" y="0"/>
                </a:moveTo>
                <a:lnTo>
                  <a:pt x="94014" y="0"/>
                </a:lnTo>
                <a:lnTo>
                  <a:pt x="94014" y="21600"/>
                </a:lnTo>
                <a:lnTo>
                  <a:pt x="0" y="21600"/>
                </a:lnTo>
                <a:close/>
              </a:path>
              <a:path fill="lightenLess" w="94014" h="21600">
                <a:moveTo>
                  <a:pt x="0" y="0"/>
                </a:moveTo>
                <a:lnTo>
                  <a:pt x="94014" y="0"/>
                </a:lnTo>
                <a:lnTo>
                  <a:pt x="92614" y="1400"/>
                </a:lnTo>
                <a:lnTo>
                  <a:pt x="1400" y="1400"/>
                </a:lnTo>
                <a:close/>
              </a:path>
              <a:path fill="darken" w="94014" h="21600">
                <a:moveTo>
                  <a:pt x="94014" y="0"/>
                </a:moveTo>
                <a:lnTo>
                  <a:pt x="94014" y="21600"/>
                </a:lnTo>
                <a:lnTo>
                  <a:pt x="92614" y="20200"/>
                </a:lnTo>
                <a:lnTo>
                  <a:pt x="92614" y="1400"/>
                </a:lnTo>
                <a:close/>
              </a:path>
              <a:path fill="darkenLess" w="94014" h="21600">
                <a:moveTo>
                  <a:pt x="9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614" y="20200"/>
                </a:lnTo>
                <a:close/>
              </a:path>
              <a:path fill="lighten" w="9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4014" h="21600">
                <a:moveTo>
                  <a:pt x="40000" y="3794"/>
                </a:moveTo>
                <a:lnTo>
                  <a:pt x="54013" y="10800"/>
                </a:lnTo>
                <a:lnTo>
                  <a:pt x="400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43" name="Picture 15" descr="Шостакович 1"/>
          <p:cNvPicPr/>
          <p:nvPr/>
        </p:nvPicPr>
        <p:blipFill>
          <a:blip r:embed="rId4"/>
          <a:stretch/>
        </p:blipFill>
        <p:spPr>
          <a:xfrm>
            <a:off x="5364000" y="4005360"/>
            <a:ext cx="1565280" cy="1854000"/>
          </a:xfrm>
          <a:prstGeom prst="rect">
            <a:avLst/>
          </a:prstGeom>
          <a:ln w="0">
            <a:noFill/>
          </a:ln>
        </p:spPr>
      </p:pic>
      <p:pic>
        <p:nvPicPr>
          <p:cNvPr id="844" name="WordArt 20" descr=""/>
          <p:cNvPicPr/>
          <p:nvPr/>
        </p:nvPicPr>
        <p:blipFill>
          <a:blip r:embed="rId5"/>
          <a:stretch/>
        </p:blipFill>
        <p:spPr>
          <a:xfrm>
            <a:off x="1042920" y="476280"/>
            <a:ext cx="6881760" cy="882720"/>
          </a:xfrm>
          <a:prstGeom prst="rect">
            <a:avLst/>
          </a:prstGeom>
          <a:ln w="0">
            <a:noFill/>
          </a:ln>
        </p:spPr>
      </p:pic>
      <p:sp>
        <p:nvSpPr>
          <p:cNvPr id="8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9:37:33Z</dcterms:created>
  <dc:creator>Bulat</dc:creator>
  <dc:description/>
  <dc:language>en-US</dc:language>
  <cp:lastModifiedBy>LEGION</cp:lastModifiedBy>
  <dcterms:modified xsi:type="dcterms:W3CDTF">2015-04-02T06:56:17Z</dcterms:modified>
  <cp:revision>73</cp:revision>
  <dc:subject/>
  <dc:title>Слайд 1</dc:title>
</cp:coreProperties>
</file>