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8151-3290-4DA6-9E0B-E7140F1ED26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гучая кучка» или Балакиревский кружо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B306C-E3B9-46F8-B70A-562D298C7EBA}"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856 году на одном из университетских концертов Балакирев встречается с Цезарем Антоновичем Кюи, который учился в то время в Военно-инженерной академии и специализировался в области сооружения военных укреплений. Кюи очень любил музыку. В ранней молодости он даже занимался с польским композитором Монюшк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ими новыми и смелыми взглядами на музыку Балакирев увлекает Кюи, пробуждает в нём серьёзный интерес к искусству. Под руководством Балакирева Кюи пишет в 1857 году скерцо для фортепьяно в четыре руки, оперу «Кавказский пленник», а в 1859 году – одноактную комическую оперу «Сын мандари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DA1B2-B455-4F69-AE8E-AE96EB68A007}"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едующим композитором, присоединившимся к группе «Балакирев – Стасов – Кюи», был Модест Петрович Мусоргский. К моменту своего вступления в балакиревский кружок он был гвардейским офицером. Сочинять стал очень рано и очень скоро осознал, что должен посвятить свою жизнь музыке. Недолго думая, он, будучи уже офицером Преображенского полка, решил выйти в отставку. Несмотря на молодость (18 лет), Мусоргский проявлял большую разносторонность интересов: занимался музыкой, историей, литературой, философи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5B21C-8ECD-443A-A52F-8D64AA2746BE}"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862 году к балакиревскому кружку присоединяются Н.А.Римский-Корсаков и А.П.Бородин. Если Римский-Корсаков был совсем молодым по возрасту членом кружка, взгляды и музыкальный талант которого только начинали определяться, то Бородин к этому времени был уже зрелым человеком, выдающимся учёным-химиком, дружески связанным с такими гигантами русской науки, как Менделеев, Сеченов, Ковалевский, Ботки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98DD7-2D0F-44C1-86A8-DB23573637B7}"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ановление и развитие взглядов «кучкистов».</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шая заслуга в воспитании и развитии его участников в тот период принадлежала М.А.Балакиреву. Он был их вождём, организатором и учителем. Методы занятий Балакирева с учениками были своеобразными. Он прямо задавал сочинять симфонии, увертюры, скерцо, оперные отрывки и т.д., а потом рассматривал и строго анализировал сделанное. Балакирев сумел внушить своим товарищам по кружку и необходимость широкого самообразова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имо Балакирева, огромную роль в руководстве композиторской молодёжью принадлежала и В.В.Стасову. Участие Стасова в деятельности кучки было многообразным. Нередко Стасов подсказывал сюжеты для произведений и помогал в их разработке и во всестороннем обсуждении уже созданных произведен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D622F-A493-461E-8B50-1891C2F12B84}"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из композиторов, входивших в «Могучую кучку», представляет собой яркую творческую индивидуальность и достоин самостоятельного изучения. Однако историческое своеобразие «Могучей кучки» заключалось в том, что это была группа не просто дружески расположенных друг к другу музыкантов, а творческий коллектив, боевое содружество передовых художников своего времени, спаянных идейным единством, общими художественными установками. В этом отношении «Могучая кучка» была типичным явлением своего времени. Подобные творческие содружества, кружки, товарищества, создавались в различных областях искусства. . В живописи это была «Художественная артель», положившая затем начало «передвижничеству», в литературе – группа участников журнала «Современни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145A5-5B97-48FD-B9F2-22AE829C5D59}"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усский народ в творчестве композиторов.</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дущую линию в тематике произведений «кучкистов» занимают жизнь и интересы русского народа. Большинство композиторов «Могучей кучки» систематически записывало, изучало и разрабатывала образцы народного фольклора. Композиторы смело использовали народную песню и в симфонических, и в оперных произведениях («Царская невеста», «Снегурочка», «Хованщина», «Борис Годунов»). Преодолевая преграды, чинимые продвижению «национальной» музыки, нападки со стороны критиков, композиторы «Могучей кучки» упорно продолжали своё дело развития родного искусства и, как писал впоследствии Стасов, «товарищество Балакирева победило и публику, и музыкантов. Оно посеяло новое благодатное зерно, давшее вскоре роскошную и плодовитейшую жатв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9E757-ACCB-4C6C-929A-2D856A380449}"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бщественность и «Могучая кучка».</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озиторы «Могучей кучки» вели большую общественно-просветительскую работу. Первым общественным проявлением деятельности балакиревского кружка явилось открытие в 1862 году Бесплатной музыкальной школы. Главным организатором были М.И.Балакирев и хормейстер Г.Я.Ломакин. Бесплатная музыкальная школа основной своей задачей ставила распространение музыкальных знаний среди широких масс насел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же к концу 70-х и началу 80-х годов творчество композиторов «Могучей кучки» завоёвывает широкую известность и признание не только у себя на родине, но и за рубеж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CAC7D-9A92-4A3C-9B7E-431A4B6EE709}"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ад «Пятер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гучая кучка» как единый творческий коллектив просуществовала до середины 70-х годов.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этому времени в письмах и воспоминаниях её участников и близких друзей всё чаще можно встретить рассуждения и высказывания о причинах её постепенного распада. Наиболее близок к истине Бородин. В письме к певице Л.И.Кармалиной в 1876 году он писал: «...По мере развития деятельности индивидуальность начинает брать перевес над школой, над тем, что человек унаследовал от других. ...Наконец, у одного и того же, в различные эпохи развития, в различные времена, взгляды и вкусы в частности меняются. Всё это донельзя естественн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м из деятелей «Могучей кучки» ушёл из жизни Мусоргский. Он умер в 1881 году. Последние годы жизни Мусоргского были очень тяжёлы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887 году умер А.П.Бород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 смертью Бородина пути оставшихся в живых композиторов «Могучей кучки» окончательно разошлись. Балакирев, замкнувшись в себе, совсем отошел от Римского-Корсакова, Кюи давно отстал от своих гениальных современников. Один Стасов оставался в прежних отношениях с каждым их тре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75C2C-44A1-4170-AED3-58302B11E23A}"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великих традициях «Могучей кучки» Римский-Корсаков воспитал целое поколение музыкантов. Среди них такие выдающиеся художники, как Глазунов, Лядов, Аренский, Лысенко, Спендиаров, Ипполитов-Иванов, Штейнберг, Мясковский и многие другие. Они донесли эти традиции живыми и действенными до нашего време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F656C-AEB9-4DEB-9E05-8C52FBAC7F9E}"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лияние творчества «кучкистов» на мировое музыкальное искусство.</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ворчество композиторов «Могучей кучки» является высочайшим образцом музыкального искусства; вместе с тем оно доступно, дорого и понятно самым широким кругам слушателей. В этом его огромная непреходящая цен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а, созданная этим маленьким, но могучим по своим силам коллективом, является высоким примером служения своим искусством народу, пример подлинной творческой дружбы, пример героического художественного тру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1CC93-B86C-41F7-9E33-20303808BFC6}"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чь на лысой гор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11460-7043-458F-9ECF-1CA3B96DD0C4}"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а «Борис Годун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8F973-8558-473D-B531-3200AF48F6BC}"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д презентацией работали Имайкина Эльвина и Полянский Станислав. 10 клас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CF28B-E425-47D4-AA21-D0636675AE70}"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созд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гучая кучка»-это общепринятое наименование группы композиторов, куда входили: Милий Алексеевич Балакирев (1837-1910), Модест Петрович Мусоргский (1839-1881), Александр Порфирьевич Бородин (1833-1887), Николай Андреевич Римский-Корсаков (1844-1908) и Цезарь Антонович Кюи (1835-191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CEFED-08ED-4D60-88B0-BA024D335677}"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о «Могучая кучка» именуется «Новой русской музыкальной школой», а также «Балакиревским кружком», по имени её руководителя М.А.Балакирева. За границей эту группу музыкантов называли «Пятёрка» по числу главных представителей. Композиторы «Могучей кучки» выступили на творческую арену в период огромного общественного подъёма 60-х годов 19 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700BF-F9D1-44DD-82D7-2EBED7387E02}"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создания Балакиревского кружка такова: в 1855 году в Петербург из Казани приехал М.А.Балакирев. Восемнадцатилетний юноша был чрезвычайно одарён в музыкальном отношении. В начале 1856 года он с большим успехом выступает на концертной эстраде в качестве пианиста и обращает на себя внимание публики. Особенно большое значение для Балакирева приобретает его знакомство с В.В.Стасовы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 Васильевич Стасов – интереснейшая фигура в истории русского искусства. Критик, ученый искусствовед, историк и археолог, Стасов, выступая как музыкальный критик, был близким другом всех русских композиторов. Он был связан самой тесной дружбой буквально со всеми крупными русскими художниками, выступал в печати с пропагандой их лучших картин и тоже был их лучшим советчиком и помощни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60FC3-9E60-4843-84DD-13BD915EE9A9}"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83999F-CBDD-4F50-ADC8-D434B4225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3D0D3-4026-4096-85F6-6BEB76C68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B3ECA-6923-463C-B20D-E597DD249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40C7C-6407-46F9-8505-CFA1B84FF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840535-9A67-44E3-A549-E8C74B671F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63910-30BE-47A8-9B7D-37F1A9DE1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7F112-04A8-4883-ADB0-D06F87C5B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38094-F437-4459-AB9E-D45B635C3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F4D9E-0957-419F-807B-0B7EFA11C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D0F90-189E-490F-80C2-0B0C40437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1C6D4-1B3F-420A-B085-D09C80F85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1242D-9A20-4B87-BE1A-4BB6FC328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45B4A-A616-4920-85F6-AA2B2CD68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8D055-B162-4566-A6F3-D5AD8EAC2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4CCDF-828E-4591-98AB-F373C9247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316746-76A5-455F-9914-432F735C18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B73388-4C1C-4C90-B0FA-7E0AA16275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FE13C-0478-4140-BDFE-53E4FD0F9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204A5-E4AF-4249-A4E2-AD75EF609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D90E1-5DD9-4885-9DBA-622D496EE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2FDB0-8EA8-4E5C-818B-25C2D7BAB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E77E0-B26F-4283-941E-8180AF260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AEE94-C941-4FE5-ADF1-8ED6D40C2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8B794-7D87-47B7-860C-8771CFDB1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48475-3EAB-45CE-A82B-308CD48E7DF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1D7CB-4461-4538-BD24-92AE9F59740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66"/>
                </a:solidFill>
                <a:latin typeface="Arial"/>
              </a:rPr>
              <a:t>«Могучая кучка» или Балакиревский кружок  </a:t>
            </a:r>
            <a:endParaRPr b="0" lang="en-US" sz="4000" spc="-1" strike="noStrike">
              <a:solidFill>
                <a:srgbClr val="006666"/>
              </a:solidFill>
              <a:latin typeface="Arial"/>
            </a:endParaRPr>
          </a:p>
        </p:txBody>
      </p:sp>
      <p:sp>
        <p:nvSpPr>
          <p:cNvPr id="98"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 </a:t>
            </a:r>
            <a:endParaRPr b="0" lang="en-US" sz="2900" spc="-1" strike="noStrike">
              <a:solidFill>
                <a:srgbClr val="000000"/>
              </a:solidFill>
              <a:latin typeface="Verdana"/>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3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 1856 году на одном из университетских концертов Балакирев встречается с Цезарем Антоновичем Кюи, который учился в то время в Военно-инженерной академии и специализировался в области сооружения военных укреплений. Кюи очень любил музыку. В ранней молодости он даже занимался с польским композитором Монюшко.</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воими новыми и смелыми взглядами на музыку Балакирев увлекает Кюи, пробуждает в нём серьёзный интерес к искусству. Под руководством Балакирева Кюи пишет в 1857 году скерцо для фортепьяно в четыре руки, оперу «Кавказский пленник», а в 1859 году – одноактную комическую оперу «Сын мандарина».</a:t>
            </a:r>
            <a:endParaRPr b="0" lang="en-US" sz="1800" spc="-1" strike="noStrike">
              <a:solidFill>
                <a:srgbClr val="000000"/>
              </a:solidFill>
              <a:latin typeface="Verdana"/>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4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Следующим композитором, присоединившимся к группе «Балакирев – Стасов – Кюи», был Модест Петрович Мусоргский. К моменту своего вступления в балакиревский кружок он был гвардейским офицером. Сочинять стал очень рано и очень скоро осознал, что должен посвятить свою жизнь музыке. Недолго думая, он, будучи уже офицером Преображенского полка, решил выйти в отставку. Несмотря на молодость (18 лет), Мусоргский проявлял большую разносторонность интересов: занимался музыкой, историей, литературой, философией. </a:t>
            </a:r>
            <a:endParaRPr b="0" lang="en-US" sz="2100" spc="-1" strike="noStrike">
              <a:solidFill>
                <a:srgbClr val="000000"/>
              </a:solidFill>
              <a:latin typeface="Verdana"/>
            </a:endParaRPr>
          </a:p>
        </p:txBody>
      </p:sp>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4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В 1862 году к балакиревскому кружку присоединяются Н.А.Римский-Корсаков и А.П.Бородин. Если Римский-Корсаков был совсем молодым по возрасту членом кружка, взгляды и музыкальный талант которого только начинали определяться, то Бородин к этому времени был уже зрелым человеком, выдающимся учёным-химиком, дружески связанным с такими гигантами русской науки, как Менделеев, Сеченов, Ковалевский, Боткин.</a:t>
            </a:r>
            <a:endParaRPr b="0" lang="en-US" sz="2500" spc="-1" strike="noStrike">
              <a:solidFill>
                <a:srgbClr val="000000"/>
              </a:solidFill>
              <a:latin typeface="Verdana"/>
            </a:endParaRPr>
          </a:p>
        </p:txBody>
      </p:sp>
      <p:sp>
        <p:nvSpPr>
          <p:cNvPr id="14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Становление и развитие взглядов «кучкистов».</a:t>
            </a:r>
            <a:endParaRPr b="0" lang="en-US" sz="3200" spc="-1" strike="noStrike">
              <a:solidFill>
                <a:srgbClr val="006666"/>
              </a:solidFill>
              <a:latin typeface="Arial"/>
            </a:endParaRPr>
          </a:p>
        </p:txBody>
      </p:sp>
      <p:sp>
        <p:nvSpPr>
          <p:cNvPr id="14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ольшая заслуга в воспитании и развитии его участников в тот период принадлежала М.А.Балакиреву. Он был их вождём, организатором и учителем. Методы занятий Балакирева с учениками были своеобразными. Он прямо задавал сочинять симфонии, увертюры, скерцо, оперные отрывки и т.д., а потом рассматривал и строго анализировал сделанное. Балакирев сумел внушить своим товарищам по кружку и необходимость широкого самообразования.</a:t>
            </a:r>
            <a:endParaRPr b="0" lang="en-US" sz="1800" spc="-1" strike="noStrike">
              <a:solidFill>
                <a:srgbClr val="000000"/>
              </a:solidFill>
              <a:latin typeface="Verdana"/>
            </a:endParaRPr>
          </a:p>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омимо Балакирева, огромную роль в руководстве композиторской молодёжью принадлежала и В.В.Стасову. Участие Стасова в деятельности кучки было многообразным. Нередко Стасов подсказывал сюжеты для произведений и помогал в их разработке и во всестороннем обсуждении уже созданных произведений. </a:t>
            </a:r>
            <a:endParaRPr b="0" lang="en-US" sz="1800" spc="-1" strike="noStrike">
              <a:solidFill>
                <a:srgbClr val="000000"/>
              </a:solidFill>
              <a:latin typeface="Verdana"/>
            </a:endParaRPr>
          </a:p>
        </p:txBody>
      </p:sp>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5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аждый из композиторов, входивших в «Могучую кучку», представляет собой яркую творческую индивидуальность и достоин самостоятельного изучения. Однако историческое своеобразие «Могучей кучки» заключалось в том, что это была группа не просто дружески расположенных друг к другу музыкантов, а творческий коллектив, боевое содружество передовых художников своего времени, спаянных идейным единством, общими художественными установками. В этом отношении «Могучая кучка» была типичным явлением своего времени. Подобные творческие содружества, кружки, товарищества, создавались в различных областях искусства. . В живописи это была «Художественная артель», положившая затем начало «передвижничеству», в литературе – группа участников журнала «Современник». </a:t>
            </a:r>
            <a:endParaRPr b="0" lang="en-US" sz="1800" spc="-1" strike="noStrike">
              <a:solidFill>
                <a:srgbClr val="000000"/>
              </a:solidFill>
              <a:latin typeface="Verdana"/>
            </a:endParaRPr>
          </a:p>
        </p:txBody>
      </p:sp>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Русский народ в творчестве композиторов.</a:t>
            </a:r>
            <a:endParaRPr b="0" lang="en-US" sz="3200" spc="-1" strike="noStrike">
              <a:solidFill>
                <a:srgbClr val="006666"/>
              </a:solidFill>
              <a:latin typeface="Arial"/>
            </a:endParaRPr>
          </a:p>
        </p:txBody>
      </p:sp>
      <p:sp>
        <p:nvSpPr>
          <p:cNvPr id="15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едущую линию в тематике произведений «кучкистов» занимают жизнь и интересы русского народа. Большинство композиторов «Могучей кучки» систематически записывало, изучало и разрабатывала образцы народного фольклора. Композиторы смело использовали народную песню и в симфонических, и в оперных произведениях («Царская невеста», «Снегурочка», «Хованщина», «Борис Годунов»). Преодолевая преграды, чинимые продвижению «национальной» музыки, нападки со стороны критиков, композиторы «Могучей кучки» упорно продолжали своё дело развития родного искусства и, как писал впоследствии Стасов, «товарищество Балакирева победило и публику, и музыкантов. Оно посеяло новое благодатное зерно, давшее вскоре роскошную и плодовитейшую жатву».</a:t>
            </a:r>
            <a:endParaRPr b="0" lang="en-US" sz="1800" spc="-1" strike="noStrike">
              <a:solidFill>
                <a:srgbClr val="000000"/>
              </a:solidFill>
              <a:latin typeface="Verdana"/>
            </a:endParaRPr>
          </a:p>
        </p:txBody>
      </p:sp>
      <p:sp>
        <p:nvSpPr>
          <p:cNvPr id="1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Общественность и «Могучая кучка».</a:t>
            </a:r>
            <a:endParaRPr b="0" lang="en-US" sz="3200" spc="-1" strike="noStrike">
              <a:solidFill>
                <a:srgbClr val="006666"/>
              </a:solidFill>
              <a:latin typeface="Arial"/>
            </a:endParaRPr>
          </a:p>
        </p:txBody>
      </p:sp>
      <p:sp>
        <p:nvSpPr>
          <p:cNvPr id="15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омпозиторы «Могучей кучки» вели большую общественно-просветительскую работу. Первым общественным проявлением деятельности балакиревского кружка явилось открытие в 1862 году Бесплатной музыкальной школы. Главным организатором были М.И.Балакирев и хормейстер Г.Я.Ломакин. Бесплатная музыкальная школа основной своей задачей ставила распространение музыкальных знаний среди широких масс населения.</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Уже к концу 70-х и началу 80-х годов творчество композиторов «Могучей кучки» завоёвывает широкую известность и признание не только у себя на родине, но и за рубежом. </a:t>
            </a:r>
            <a:endParaRPr b="0" lang="en-US" sz="1800" spc="-1" strike="noStrike">
              <a:solidFill>
                <a:srgbClr val="000000"/>
              </a:solidFill>
              <a:latin typeface="Verdana"/>
            </a:endParaRPr>
          </a:p>
        </p:txBody>
      </p:sp>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Распад «Пятерки».</a:t>
            </a:r>
            <a:endParaRPr b="0" lang="en-US" sz="3600" spc="-1" strike="noStrike">
              <a:solidFill>
                <a:srgbClr val="006666"/>
              </a:solidFill>
              <a:latin typeface="Arial"/>
            </a:endParaRPr>
          </a:p>
        </p:txBody>
      </p:sp>
      <p:sp>
        <p:nvSpPr>
          <p:cNvPr id="160" name="PlaceHolder 2"/>
          <p:cNvSpPr>
            <a:spLocks noGrp="1"/>
          </p:cNvSpPr>
          <p:nvPr>
            <p:ph/>
          </p:nvPr>
        </p:nvSpPr>
        <p:spPr>
          <a:xfrm>
            <a:off x="1369800" y="1827360"/>
            <a:ext cx="7313400" cy="4114800"/>
          </a:xfrm>
          <a:prstGeom prst="rect">
            <a:avLst/>
          </a:prstGeom>
          <a:noFill/>
          <a:ln w="0">
            <a:noFill/>
          </a:ln>
        </p:spPr>
        <p:txBody>
          <a:bodyPr anchor="t">
            <a:normAutofit fontScale="98000"/>
          </a:bodyPr>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огучая кучка» как единый творческий коллектив просуществовала до середины 70-х годов. </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 этому времени в письмах и воспоминаниях её участников и близких друзей всё чаще можно встретить рассуждения и высказывания о причинах её постепенного распада. Наиболее близок к истине Бородин. В письме к певице Л.И.Кармалиной в 1876 году он писал: «...По мере развития деятельности индивидуальность начинает брать перевес над школой, над тем, что человек унаследовал от других. ...Наконец, у одного и того же, в различные эпохи развития, в различные времена, взгляды и вкусы в частности меняются. Всё это донельзя естественно».</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ервым из деятелей «Могучей кучки» ушёл из жизни Мусоргский. Он умер в 1881 году. Последние годы жизни Мусоргского были очень тяжёлыми. </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1887 году умер А.П.Бородин.</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о смертью Бородина пути оставшихся в живых композиторов «Могучей кучки» окончательно разошлись. Балакирев, замкнувшись в себе, совсем отошел от Римского-Корсакова, Кюи давно отстал от своих гениальных современников. Один Стасов оставался в прежних отношениях с каждым их трех.</a:t>
            </a:r>
            <a:endParaRPr b="0" lang="en-US" sz="1600" spc="-1" strike="noStrike">
              <a:solidFill>
                <a:srgbClr val="000000"/>
              </a:solidFill>
              <a:latin typeface="Verdana"/>
            </a:endParaRPr>
          </a:p>
        </p:txBody>
      </p:sp>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6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 великих традициях «Могучей кучки» Римский-Корсаков воспитал целое поколение музыкантов. Среди них такие выдающиеся художники, как Глазунов, Лядов, Аренский, Лысенко, Спендиаров, Ипполитов-Иванов, Штейнберг, Мясковский и многие другие. Они донесли эти традиции живыми и действенными до нашего времени.</a:t>
            </a:r>
            <a:endParaRPr b="0" lang="en-US" sz="1600" spc="-1" strike="noStrike">
              <a:solidFill>
                <a:srgbClr val="000000"/>
              </a:solidFill>
              <a:latin typeface="Verdana"/>
            </a:endParaRPr>
          </a:p>
        </p:txBody>
      </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pic>
        <p:nvPicPr>
          <p:cNvPr id="166" name="Picture 4" descr="kompozitory_3"/>
          <p:cNvPicPr/>
          <p:nvPr/>
        </p:nvPicPr>
        <p:blipFill>
          <a:blip r:embed="rId1"/>
          <a:stretch/>
        </p:blipFill>
        <p:spPr>
          <a:xfrm>
            <a:off x="1447920" y="304920"/>
            <a:ext cx="4163760" cy="5181480"/>
          </a:xfrm>
          <a:prstGeom prst="rect">
            <a:avLst/>
          </a:prstGeom>
          <a:ln w="0">
            <a:noFill/>
          </a:ln>
        </p:spPr>
      </p:pic>
      <p:sp>
        <p:nvSpPr>
          <p:cNvPr id="167" name="Rectangle 5"/>
          <p:cNvSpPr/>
          <p:nvPr/>
        </p:nvSpPr>
        <p:spPr>
          <a:xfrm>
            <a:off x="990720" y="5867280"/>
            <a:ext cx="5333760" cy="838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Глазунов, Лядов,Римский-Корсаков</a:t>
            </a:r>
            <a:endParaRPr b="0" lang="en-US" sz="1800" spc="-1" strike="noStrike">
              <a:solidFill>
                <a:srgbClr val="000000"/>
              </a:solidFill>
              <a:latin typeface="Verdana"/>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01" name="PlaceHolder 2"/>
          <p:cNvSpPr>
            <a:spLocks noGrp="1"/>
          </p:cNvSpPr>
          <p:nvPr>
            <p:ph/>
          </p:nvPr>
        </p:nvSpPr>
        <p:spPr>
          <a:xfrm>
            <a:off x="1295280" y="1752480"/>
            <a:ext cx="7313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02" name="Picture 4" descr="В_начале"/>
          <p:cNvPicPr/>
          <p:nvPr/>
        </p:nvPicPr>
        <p:blipFill>
          <a:blip r:embed="rId1"/>
          <a:stretch/>
        </p:blipFill>
        <p:spPr>
          <a:xfrm>
            <a:off x="609480" y="2362320"/>
            <a:ext cx="8001000" cy="1014120"/>
          </a:xfrm>
          <a:prstGeom prst="rect">
            <a:avLst/>
          </a:prstGeom>
          <a:ln w="0">
            <a:noFill/>
          </a:ln>
        </p:spPr>
      </p:pic>
      <p:sp>
        <p:nvSpPr>
          <p:cNvPr id="103" name="Rectangle 5"/>
          <p:cNvSpPr/>
          <p:nvPr/>
        </p:nvSpPr>
        <p:spPr>
          <a:xfrm>
            <a:off x="5562720" y="4724280"/>
            <a:ext cx="2286000" cy="685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алакирев М.А. </a:t>
            </a:r>
            <a:endParaRPr b="0" lang="en-US" sz="1800" spc="-1" strike="noStrike">
              <a:solidFill>
                <a:srgbClr val="000000"/>
              </a:solidFill>
              <a:latin typeface="Verdana"/>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Влияние творчества «кучкистов» на мировое музыкальное искусство.</a:t>
            </a:r>
            <a:endParaRPr b="0" lang="en-US" sz="3200" spc="-1" strike="noStrike">
              <a:solidFill>
                <a:srgbClr val="006666"/>
              </a:solidFill>
              <a:latin typeface="Arial"/>
            </a:endParaRPr>
          </a:p>
        </p:txBody>
      </p:sp>
      <p:sp>
        <p:nvSpPr>
          <p:cNvPr id="17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Творчество композиторов «Могучей кучки» является высочайшим образцом музыкального искусства; вместе с тем оно доступно, дорого и понятно самым широким кругам слушателей. В этом его огромная непреходящая ценность.</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Музыка, созданная этим маленьким, но могучим по своим силам коллективом, является высоким примером служения своим искусством народу, пример подлинной творческой дружбы, пример героического художественного труда.</a:t>
            </a:r>
            <a:endParaRPr b="0" lang="en-US" sz="2500" spc="-1" strike="noStrike">
              <a:solidFill>
                <a:srgbClr val="000000"/>
              </a:solidFill>
              <a:latin typeface="Verdana"/>
            </a:endParaRPr>
          </a:p>
        </p:txBody>
      </p:sp>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Ночь на лысой горе»</a:t>
            </a:r>
            <a:endParaRPr b="0" lang="en-US" sz="3600" spc="-1" strike="noStrike">
              <a:solidFill>
                <a:srgbClr val="006666"/>
              </a:solidFill>
              <a:latin typeface="Arial"/>
            </a:endParaRPr>
          </a:p>
        </p:txBody>
      </p:sp>
      <p:sp>
        <p:nvSpPr>
          <p:cNvPr id="17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74" name="Picture 4" descr="1221935252_pic_id3504"/>
          <p:cNvPicPr/>
          <p:nvPr/>
        </p:nvPicPr>
        <p:blipFill>
          <a:blip r:embed="rId1"/>
          <a:stretch/>
        </p:blipFill>
        <p:spPr>
          <a:xfrm>
            <a:off x="0" y="1447920"/>
            <a:ext cx="4286160" cy="3209760"/>
          </a:xfrm>
          <a:prstGeom prst="rect">
            <a:avLst/>
          </a:prstGeom>
          <a:ln w="0">
            <a:noFill/>
          </a:ln>
        </p:spPr>
      </p:pic>
      <p:pic>
        <p:nvPicPr>
          <p:cNvPr id="175" name="Picture 5" descr="kul20070113-1435"/>
          <p:cNvPicPr/>
          <p:nvPr/>
        </p:nvPicPr>
        <p:blipFill>
          <a:blip r:embed="rId2"/>
          <a:stretch/>
        </p:blipFill>
        <p:spPr>
          <a:xfrm>
            <a:off x="3657600" y="2438280"/>
            <a:ext cx="5334120" cy="4000680"/>
          </a:xfrm>
          <a:prstGeom prst="rect">
            <a:avLst/>
          </a:prstGeom>
          <a:ln w="0">
            <a:noFill/>
          </a:ln>
        </p:spPr>
      </p:pic>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Опера «Борис Годунов»</a:t>
            </a:r>
            <a:endParaRPr b="0" lang="en-US" sz="3600" spc="-1" strike="noStrike">
              <a:solidFill>
                <a:srgbClr val="006666"/>
              </a:solidFill>
              <a:latin typeface="Arial"/>
            </a:endParaRPr>
          </a:p>
        </p:txBody>
      </p:sp>
      <p:sp>
        <p:nvSpPr>
          <p:cNvPr id="17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79" name="Picture 4" descr="268750303"/>
          <p:cNvPicPr/>
          <p:nvPr/>
        </p:nvPicPr>
        <p:blipFill>
          <a:blip r:embed="rId1"/>
          <a:stretch/>
        </p:blipFill>
        <p:spPr>
          <a:xfrm>
            <a:off x="380880" y="1523880"/>
            <a:ext cx="5359680" cy="5079960"/>
          </a:xfrm>
          <a:prstGeom prst="rect">
            <a:avLst/>
          </a:prstGeom>
          <a:ln w="0">
            <a:noFill/>
          </a:ln>
        </p:spPr>
      </p:pic>
      <p:pic>
        <p:nvPicPr>
          <p:cNvPr id="180" name="Picture 5" descr="eiz-bgod3"/>
          <p:cNvPicPr/>
          <p:nvPr/>
        </p:nvPicPr>
        <p:blipFill>
          <a:blip r:embed="rId2"/>
          <a:stretch/>
        </p:blipFill>
        <p:spPr>
          <a:xfrm>
            <a:off x="5562720" y="2057400"/>
            <a:ext cx="2590560" cy="2206800"/>
          </a:xfrm>
          <a:prstGeom prst="rect">
            <a:avLst/>
          </a:prstGeom>
          <a:ln w="0">
            <a:noFill/>
          </a:ln>
        </p:spPr>
      </p:pic>
      <p:pic>
        <p:nvPicPr>
          <p:cNvPr id="181" name="Picture 6" descr="114138023"/>
          <p:cNvPicPr/>
          <p:nvPr/>
        </p:nvPicPr>
        <p:blipFill>
          <a:blip r:embed="rId3"/>
          <a:stretch/>
        </p:blipFill>
        <p:spPr>
          <a:xfrm>
            <a:off x="4876920" y="4191120"/>
            <a:ext cx="3504960" cy="2149200"/>
          </a:xfrm>
          <a:prstGeom prst="rect">
            <a:avLst/>
          </a:prstGeom>
          <a:ln w="0">
            <a:noFill/>
          </a:ln>
        </p:spPr>
      </p:pic>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8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Над презентацией работали Имайкина Эльвина и Полянский Станислав. 10 класс.</a:t>
            </a:r>
            <a:endParaRPr b="0" lang="en-US" sz="2500" spc="-1" strike="noStrike">
              <a:solidFill>
                <a:srgbClr val="000000"/>
              </a:solidFill>
              <a:latin typeface="Verdana"/>
            </a:endParaRPr>
          </a:p>
        </p:txBody>
      </p:sp>
      <p:sp>
        <p:nvSpPr>
          <p:cNvPr id="1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История создания.</a:t>
            </a: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чая кучка»-это общепринятое наименование группы композиторов, куда входили: Милий Алексеевич Балакирев (1837-1910), Модест Петрович Мусоргский (1839-1881), Александр Порфирьевич Бородин (1833-1887), Николай Андреевич Римский-Корсаков (1844-1908) и Цезарь Антонович Кюи (1835-1918).</a:t>
            </a:r>
            <a:r>
              <a:rPr b="0" lang="ru-RU" sz="2900" spc="-1" strike="noStrike">
                <a:solidFill>
                  <a:srgbClr val="000000"/>
                </a:solidFill>
                <a:latin typeface="Verdana"/>
              </a:rPr>
              <a:t> </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07" name="Rectangle 5"/>
          <p:cNvSpPr/>
          <p:nvPr/>
        </p:nvSpPr>
        <p:spPr>
          <a:xfrm>
            <a:off x="2590920" y="3276720"/>
            <a:ext cx="18396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600" spc="-1" strike="noStrike">
              <a:solidFill>
                <a:srgbClr val="000000"/>
              </a:solidFill>
              <a:latin typeface="Verdana"/>
            </a:endParaRPr>
          </a:p>
        </p:txBody>
      </p:sp>
      <p:pic>
        <p:nvPicPr>
          <p:cNvPr id="111" name="Picture 4" descr="balakirev"/>
          <p:cNvPicPr/>
          <p:nvPr/>
        </p:nvPicPr>
        <p:blipFill>
          <a:blip r:embed="rId1"/>
          <a:stretch/>
        </p:blipFill>
        <p:spPr>
          <a:xfrm>
            <a:off x="304920" y="152280"/>
            <a:ext cx="2539800" cy="3619800"/>
          </a:xfrm>
          <a:prstGeom prst="rect">
            <a:avLst/>
          </a:prstGeom>
          <a:ln w="0">
            <a:noFill/>
          </a:ln>
        </p:spPr>
      </p:pic>
      <p:sp>
        <p:nvSpPr>
          <p:cNvPr id="112" name="Rectangle 5"/>
          <p:cNvSpPr/>
          <p:nvPr/>
        </p:nvSpPr>
        <p:spPr>
          <a:xfrm>
            <a:off x="0" y="4191120"/>
            <a:ext cx="33526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илий Алексеевич Балакирев</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13" name="Picture 6" descr="image_large"/>
          <p:cNvPicPr/>
          <p:nvPr/>
        </p:nvPicPr>
        <p:blipFill>
          <a:blip r:embed="rId2"/>
          <a:stretch/>
        </p:blipFill>
        <p:spPr>
          <a:xfrm>
            <a:off x="4952880" y="914400"/>
            <a:ext cx="3019680" cy="4762440"/>
          </a:xfrm>
          <a:prstGeom prst="rect">
            <a:avLst/>
          </a:prstGeom>
          <a:ln w="0">
            <a:noFill/>
          </a:ln>
        </p:spPr>
      </p:pic>
      <p:sp>
        <p:nvSpPr>
          <p:cNvPr id="114" name="Rectangle 7"/>
          <p:cNvSpPr/>
          <p:nvPr/>
        </p:nvSpPr>
        <p:spPr>
          <a:xfrm>
            <a:off x="4343400" y="5867280"/>
            <a:ext cx="4495680" cy="609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одест Петрович Мусоргский</a:t>
            </a:r>
            <a:endParaRPr b="0" lang="en-US" sz="1800" spc="-1" strike="noStrike">
              <a:solidFill>
                <a:srgbClr val="000000"/>
              </a:solidFill>
              <a:latin typeface="Verdana"/>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1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18" name="Picture 4" descr="2863d4e92b25"/>
          <p:cNvPicPr/>
          <p:nvPr/>
        </p:nvPicPr>
        <p:blipFill>
          <a:blip r:embed="rId1"/>
          <a:stretch/>
        </p:blipFill>
        <p:spPr>
          <a:xfrm>
            <a:off x="838080" y="1981080"/>
            <a:ext cx="2857680" cy="3810240"/>
          </a:xfrm>
          <a:prstGeom prst="rect">
            <a:avLst/>
          </a:prstGeom>
          <a:ln w="0">
            <a:noFill/>
          </a:ln>
        </p:spPr>
      </p:pic>
      <p:sp>
        <p:nvSpPr>
          <p:cNvPr id="119" name="Rectangle 5"/>
          <p:cNvSpPr/>
          <p:nvPr/>
        </p:nvSpPr>
        <p:spPr>
          <a:xfrm>
            <a:off x="685800" y="6019920"/>
            <a:ext cx="41148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лександр Порфирьевич Бородин</a:t>
            </a:r>
            <a:endParaRPr b="0" lang="en-US" sz="1800" spc="-1" strike="noStrike">
              <a:solidFill>
                <a:srgbClr val="000000"/>
              </a:solidFill>
              <a:latin typeface="Verdana"/>
            </a:endParaRPr>
          </a:p>
        </p:txBody>
      </p:sp>
      <p:pic>
        <p:nvPicPr>
          <p:cNvPr id="120" name="Picture 6" descr="N"/>
          <p:cNvPicPr/>
          <p:nvPr/>
        </p:nvPicPr>
        <p:blipFill>
          <a:blip r:embed="rId2"/>
          <a:stretch/>
        </p:blipFill>
        <p:spPr>
          <a:xfrm>
            <a:off x="5334120" y="304920"/>
            <a:ext cx="2795400" cy="3849480"/>
          </a:xfrm>
          <a:prstGeom prst="rect">
            <a:avLst/>
          </a:prstGeom>
          <a:ln w="0">
            <a:noFill/>
          </a:ln>
        </p:spPr>
      </p:pic>
      <p:sp>
        <p:nvSpPr>
          <p:cNvPr id="121" name="Rectangle 7"/>
          <p:cNvSpPr/>
          <p:nvPr/>
        </p:nvSpPr>
        <p:spPr>
          <a:xfrm>
            <a:off x="4343400" y="4419720"/>
            <a:ext cx="464832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Николай Андреевич Римский-Корсаков</a:t>
            </a:r>
            <a:endParaRPr b="0" lang="en-US" sz="1800" spc="-1" strike="noStrike">
              <a:solidFill>
                <a:srgbClr val="000000"/>
              </a:solidFill>
              <a:latin typeface="Verdana"/>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2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25" name="Picture 4" descr="2001-078"/>
          <p:cNvPicPr/>
          <p:nvPr/>
        </p:nvPicPr>
        <p:blipFill>
          <a:blip r:embed="rId1"/>
          <a:stretch/>
        </p:blipFill>
        <p:spPr>
          <a:xfrm>
            <a:off x="1981080" y="380880"/>
            <a:ext cx="4295880" cy="5238720"/>
          </a:xfrm>
          <a:prstGeom prst="rect">
            <a:avLst/>
          </a:prstGeom>
          <a:ln w="0">
            <a:noFill/>
          </a:ln>
        </p:spPr>
      </p:pic>
      <p:sp>
        <p:nvSpPr>
          <p:cNvPr id="126" name="Rectangle 5"/>
          <p:cNvSpPr/>
          <p:nvPr/>
        </p:nvSpPr>
        <p:spPr>
          <a:xfrm>
            <a:off x="1905120" y="5715000"/>
            <a:ext cx="4343400" cy="685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Цезарь Антонович Кюи</a:t>
            </a:r>
            <a:endParaRPr b="0" lang="en-US" sz="1800" spc="-1" strike="noStrike">
              <a:solidFill>
                <a:srgbClr val="000000"/>
              </a:solidFill>
              <a:latin typeface="Verdana"/>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2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Часто «Могучая кучка» именуется «Новой русской музыкальной школой», а также «Балакиревским кружком», по имени её руководителя М.А.Балакирева. За границей эту группу музыкантов называли «Пятёрка» по числу главных представителей. Композиторы «Могучей кучки» выступили на творческую арену в период огромного общественного подъёма 60-х годов 19 века.</a:t>
            </a:r>
            <a:endParaRPr b="0" lang="en-US" sz="2000" spc="-1" strike="noStrike">
              <a:solidFill>
                <a:srgbClr val="000000"/>
              </a:solidFill>
              <a:latin typeface="Verdana"/>
            </a:endParaRPr>
          </a:p>
        </p:txBody>
      </p:sp>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3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стория создания Балакиревского кружка такова: в 1855 году в Петербург из Казани приехал М.А.Балакирев. Восемнадцатилетний юноша был чрезвычайно одарён в музыкальном отношении. В начале 1856 года он с большим успехом выступает на концертной эстраде в качестве пианиста и обращает на себя внимание публики. Особенно большое значение для Балакирева приобретает его знакомство с В.В.Стасовым.</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ладимир Васильевич Стасов – интереснейшая фигура в истории русского искусства. Критик, ученый искусствовед, историк и археолог, Стасов, выступая как музыкальный критик, был близким другом всех русских композиторов. Он был связан самой тесной дружбой буквально со всеми крупными русскими художниками, выступал в печати с пропагандой их лучших картин и тоже был их лучшим советчиком и помощником.</a:t>
            </a:r>
            <a:endParaRPr b="0" lang="en-US" sz="1800" spc="-1" strike="noStrike">
              <a:solidFill>
                <a:srgbClr val="000000"/>
              </a:solidFill>
              <a:latin typeface="Verdana"/>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3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36" name="Picture 4" descr="1000291840"/>
          <p:cNvPicPr/>
          <p:nvPr/>
        </p:nvPicPr>
        <p:blipFill>
          <a:blip r:embed="rId1"/>
          <a:stretch/>
        </p:blipFill>
        <p:spPr>
          <a:xfrm>
            <a:off x="2570040" y="457200"/>
            <a:ext cx="4389480" cy="5969160"/>
          </a:xfrm>
          <a:prstGeom prst="rect">
            <a:avLst/>
          </a:prstGeom>
          <a:ln w="0">
            <a:noFill/>
          </a:ln>
        </p:spPr>
      </p:pic>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4-02T06:57:08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